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CA7D-D894-418A-BCB4-7F69B421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522-859E-46FE-A68B-46E3FAB1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AA27-8CF5-4ABD-B1A8-DC26BA14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329-3902-4E4C-AE90-5752DDD78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3DA6-FA1A-4119-AE0E-69598D37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AFCB-6542-4A8F-8491-2ADDC52E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4FFCE-F934-4656-B86D-AE8AE99A6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DD04-A970-485A-A18C-442F2AFC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28B8-F61E-448F-A8E5-F3854BC0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723F-8C5D-499A-B4B9-8D6F96C7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B443-7E53-4C73-B59B-F5B4F8F0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C50-9F7A-4B59-8C8B-66E293CA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D2A6-900E-4A9C-A3D5-D23CEEC4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56ED-6137-4A00-B947-FF176F16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323E-FB46-4359-A188-DF5AD8C8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4288-6910-4548-A24D-205C6FF5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EDBD-8B12-42A5-90E0-FEF02AC0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80745-97FC-4AAD-84E0-AEAF326AA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FFDF0-9922-496F-B279-C05461E6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3DBD7-FA74-419D-A2AC-0A15AFDC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44D64-3C4C-4E4A-9BE6-090DF553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B5F92-BAF6-4D8D-8EAC-A51FA862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FCA-F0F9-48B1-B94E-2609C967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CA473-9AAD-49B8-ABC9-40050026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E6231-62BD-4889-B49B-073C3944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89E86-EC5F-43D7-9FD0-AB134AE8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CD083-2426-4EF3-AF20-7BB6A513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F9789-90F2-41E0-AAF6-1234B8A0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0C8F0-1613-4517-8A01-F2463B16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8128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819200" y="205740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430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48128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819200" y="4166640"/>
            <a:ext cx="3178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BB671-9092-47BF-BE76-23C850EB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4AE-1000-465E-9F63-DB3A1635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815-7637-4449-A04A-E4DFAE41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609480"/>
            <a:ext cx="987588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6664-7D7D-456A-A17D-73F05F98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204B-B018-4B50-BC62-D6F4DFDD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01720" y="416664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82C-CE69-4A18-87B9-13BBF165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01720" y="2057400"/>
            <a:ext cx="4817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4166640"/>
            <a:ext cx="9872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C1F-5D57-4AA6-87DF-98813C5C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C634-10DE-456B-A732-2DC69F598AAD}" type="slidenum"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Straight Connector 7"/>
          <p:cNvSpPr/>
          <p:nvPr/>
        </p:nvSpPr>
        <p:spPr>
          <a:xfrm>
            <a:off x="1978200" y="3733920"/>
            <a:ext cx="82296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E153-358D-401C-8F3C-4CCCDF3474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231840" y="244440"/>
            <a:ext cx="11723760" cy="637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Straight Connector 6"/>
          <p:cNvSpPr/>
          <p:nvPr/>
        </p:nvSpPr>
        <p:spPr>
          <a:xfrm>
            <a:off x="1981080" y="4021200"/>
            <a:ext cx="82296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609480"/>
            <a:ext cx="987588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43000" y="2057400"/>
            <a:ext cx="9872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45720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2" marL="73008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3" marL="100476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4" marL="1279440" indent="-182520">
              <a:lnSpc>
                <a:spcPct val="90000"/>
              </a:lnSpc>
              <a:spcBef>
                <a:spcPts val="1400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5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6" marL="1279440" indent="-18252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142640" y="6224760"/>
            <a:ext cx="2328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949560" y="6224760"/>
            <a:ext cx="471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329760" y="6224760"/>
            <a:ext cx="1706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A29E-9937-4ADF-B314-0A67989803B5}" type="slidenum">
              <a:rPr b="0" lang="ru-RU" sz="12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09160" y="882360"/>
            <a:ext cx="9968040" cy="292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rbel"/>
              </a:rPr>
              <a:t>PAST SIMPLE</a:t>
            </a:r>
            <a:endParaRPr b="0" lang="en-US" sz="72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0680" y="347760"/>
            <a:ext cx="98740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6b727"/>
                </a:solidFill>
                <a:latin typeface="Corbel"/>
              </a:rPr>
              <a:t>Общая формула </a:t>
            </a:r>
            <a:r>
              <a:rPr b="1" lang="en-US" sz="5400" spc="-1" strike="noStrike">
                <a:solidFill>
                  <a:srgbClr val="000000"/>
                </a:solidFill>
                <a:latin typeface="Corbel"/>
              </a:rPr>
              <a:t>V2/Ved</a:t>
            </a: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5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1"/>
          <p:cNvSpPr/>
          <p:nvPr/>
        </p:nvSpPr>
        <p:spPr>
          <a:xfrm>
            <a:off x="490680" y="347760"/>
            <a:ext cx="987408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6b727"/>
                </a:solidFill>
                <a:latin typeface="Corbel"/>
              </a:rPr>
              <a:t>Случаи употребления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784080" y="1219320"/>
            <a:ext cx="10547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ы употребляем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st Simple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описания действия, которое произошло в прошлом и не связано с настоящим. При этом где, когда и почему произошло действие может быть указано в предложен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We travelled in Italy (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где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) in June (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когда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описания ряда последовательных действий, т.е. действия происходили одно за другим в прошло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The morning was busy, I </a:t>
            </a: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got up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washed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 my face, </a:t>
            </a: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had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my breakfast and </a:t>
            </a:r>
            <a:r>
              <a:rPr b="1" i="1" lang="en-US" sz="2800" spc="-1" strike="noStrike">
                <a:solidFill>
                  <a:srgbClr val="000000"/>
                </a:solidFill>
                <a:latin typeface="Corbel"/>
              </a:rPr>
              <a:t>left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 the house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описания действия, которое часто повторялось в прошло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When I lived in the country I swam every morning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728640" y="880920"/>
            <a:ext cx="10864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ля описания действия, которое в прошлом занимало какой-то период времени и закончилос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Маркеры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for, dur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She didn’t speak for a minute or tw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остоянные ситуации в прошлом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He lived in our house before we bought it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еоспоримые факты о прошло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Crosswords didn’t become popular until the 1930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лавные события в рассказе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1741320" y="1273320"/>
            <a:ext cx="55310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ast … (day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go (3 days ago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other d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… (in 1999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en? where? why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, dur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just now = a minute ago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936720" y="403200"/>
            <a:ext cx="987588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6b727"/>
                </a:solidFill>
                <a:latin typeface="Corbel"/>
              </a:rPr>
              <a:t>Маркеры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1"/>
          <p:cNvSpPr/>
          <p:nvPr/>
        </p:nvSpPr>
        <p:spPr>
          <a:xfrm>
            <a:off x="3417840" y="620640"/>
            <a:ext cx="887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+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V2/V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-                       didn’t V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?   Did                            V 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??                  did                  V 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Who  V2 …?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Улыбающееся лицо 26"/>
          <p:cNvSpPr/>
          <p:nvPr/>
        </p:nvSpPr>
        <p:spPr>
          <a:xfrm>
            <a:off x="4027320" y="398520"/>
            <a:ext cx="979560" cy="941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Улыбающееся лицо 27"/>
          <p:cNvSpPr/>
          <p:nvPr/>
        </p:nvSpPr>
        <p:spPr>
          <a:xfrm>
            <a:off x="4027320" y="1727280"/>
            <a:ext cx="979560" cy="939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Улыбающееся лицо 28"/>
          <p:cNvSpPr/>
          <p:nvPr/>
        </p:nvSpPr>
        <p:spPr>
          <a:xfrm>
            <a:off x="5006880" y="2925720"/>
            <a:ext cx="978120" cy="9399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Улыбающееся лицо 29"/>
          <p:cNvSpPr/>
          <p:nvPr/>
        </p:nvSpPr>
        <p:spPr>
          <a:xfrm>
            <a:off x="5834160" y="4602240"/>
            <a:ext cx="977760" cy="9396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4172040" y="4821120"/>
            <a:ext cx="907920" cy="538200"/>
          </a:xfrm>
          <a:prstGeom prst="rect">
            <a:avLst/>
          </a:prstGeom>
          <a:solidFill>
            <a:srgbClr val="d3e171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06:04:07Z</dcterms:created>
  <dc:creator>Egyptmay</dc:creator>
  <dc:description/>
  <dc:language>en-US</dc:language>
  <cp:lastModifiedBy>Egyptmay</cp:lastModifiedBy>
  <dcterms:modified xsi:type="dcterms:W3CDTF">2014-11-16T06:28:47Z</dcterms:modified>
  <cp:revision>4</cp:revision>
  <dc:subject/>
  <dc:title>Past simple</dc:title>
</cp:coreProperties>
</file>