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959-C56F-42F1-849A-D6C9717B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D19-6C2D-4D05-AC72-BF7B9BB6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847-37E8-41F8-8226-EB71A4B2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11E-5E14-4E46-AE46-0B9CAA47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5424-FD10-446B-BB33-C178D55B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710C-A9AB-4AA5-8B3C-D4D0B030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E0C9-C8C3-42E5-A624-16CDD02A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373A-E4D3-466C-A086-5334EE6B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C03E-E4A6-4F49-87F2-144238E5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D024-9E3F-4C8A-A5D5-9D16FE2F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60EE-FE14-46A6-A99B-D668CD3A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D6A-3461-48A5-B872-6EA708FC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25B0-9F4D-4CE1-A019-5B4DA6AA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31D1-2C43-462C-9353-31B696BA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AC0B-ADF7-47B0-88E8-A8FF0DE7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8D11-256B-4E3C-AF35-EC81E6DE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4CD0-7F17-482A-8BEC-038D2B19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5A4FC-1704-4926-8A56-EB141952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9E7D2-B67B-4B61-A9C9-804D2A4F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B364-93EC-4087-8B7B-2AE29402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5BD1-F494-4E08-821D-47B49230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BA76D-4B9E-45A7-A82A-8D980E7C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79B-CF0E-43C5-8B88-4D222342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00C10-A108-4F82-809F-E7E998E9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59D7D-1D4A-49E9-92EA-FDFE19B4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33C1F-7F66-443E-B5FC-D547D1B9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54A30-EFE0-44B2-82A7-E1A02728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E85B9-572C-41FE-9730-027562BD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CB310-C77B-4AC0-9E44-B893BA19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3019-3DDF-482A-AD81-DF06D4CC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2D4-BA89-40CF-BC76-7AA11648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366-0651-48C0-A73D-9FE4085C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958-652B-4DEA-8342-2CA32CF1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8A3-ADEC-4624-9BBC-D580E010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254-2E22-4E5B-8015-5DF92C7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769-94F6-4AE5-B915-B5D76B99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32BA-31A7-4338-A3BD-D8565F6ECBB8}" type="slidenum"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1978200" y="3733920"/>
            <a:ext cx="82296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2B4A-9D67-4978-9CF1-FDC016119D6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Straight Connector 6"/>
          <p:cNvSpPr/>
          <p:nvPr/>
        </p:nvSpPr>
        <p:spPr>
          <a:xfrm>
            <a:off x="1981080" y="4021200"/>
            <a:ext cx="82296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46AE-9812-4F6B-BABC-18A24D3E0F9F}" type="slidenum"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09160" y="882360"/>
            <a:ext cx="9968040" cy="29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PAST SIMPLE</a:t>
            </a:r>
            <a:endParaRPr b="0" lang="en-US" sz="7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0680" y="347760"/>
            <a:ext cx="98740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6b727"/>
                </a:solidFill>
                <a:latin typeface="Corbel"/>
              </a:rPr>
              <a:t>Общая формула </a:t>
            </a: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V2/Ved</a:t>
            </a: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5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490680" y="347760"/>
            <a:ext cx="9874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6b727"/>
                </a:solidFill>
                <a:latin typeface="Corbel"/>
              </a:rPr>
              <a:t>Случаи употребления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784080" y="1219320"/>
            <a:ext cx="10547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ы употребляем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st Simple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описания действия, которое произошло в прошлом и не связано с настоящим. При этом где, когда и почему произошло действие может быть указано в предложен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We travelled in Italy (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где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) in June (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когда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описания ряда последовательных действий, т.е. действия происходили одно за другим в прошл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The morning was busy, I </a:t>
            </a: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got up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washed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 my face, </a:t>
            </a: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ha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my breakfast and </a:t>
            </a: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left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 the hous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описания действия, которое часто повторялось в прошл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When I lived in the country I swam every morning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728640" y="880920"/>
            <a:ext cx="10864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описания действия, которое в прошлом занимало какой-то период времени и закончилос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Маркеры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for, dur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She didn’t speak for a minute or tw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тоянные ситуации в прошло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He lived in our house before we bought 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оспоримые факты о прошл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Crosswords didn’t become popular until the 1930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лавные события в рассказ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1741320" y="1273320"/>
            <a:ext cx="553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st … (day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go (3 days ago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other d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… (in 1999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? where? why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, dur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just now = a minute ag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936720" y="403200"/>
            <a:ext cx="987588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6b727"/>
                </a:solidFill>
                <a:latin typeface="Corbel"/>
              </a:rPr>
              <a:t>Маркеры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3417840" y="620640"/>
            <a:ext cx="887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+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V2/V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-                       didn’t V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?   Did                            V 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??                  did                  V 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Who  V2 …?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Улыбающееся лицо 26"/>
          <p:cNvSpPr/>
          <p:nvPr/>
        </p:nvSpPr>
        <p:spPr>
          <a:xfrm>
            <a:off x="4027320" y="398520"/>
            <a:ext cx="979560" cy="941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Улыбающееся лицо 27"/>
          <p:cNvSpPr/>
          <p:nvPr/>
        </p:nvSpPr>
        <p:spPr>
          <a:xfrm>
            <a:off x="4027320" y="1727280"/>
            <a:ext cx="979560" cy="939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Улыбающееся лицо 28"/>
          <p:cNvSpPr/>
          <p:nvPr/>
        </p:nvSpPr>
        <p:spPr>
          <a:xfrm>
            <a:off x="5006880" y="2925720"/>
            <a:ext cx="978120" cy="9399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Улыбающееся лицо 29"/>
          <p:cNvSpPr/>
          <p:nvPr/>
        </p:nvSpPr>
        <p:spPr>
          <a:xfrm>
            <a:off x="5834160" y="4602240"/>
            <a:ext cx="977760" cy="939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4172040" y="4821120"/>
            <a:ext cx="907920" cy="538200"/>
          </a:xfrm>
          <a:prstGeom prst="rect">
            <a:avLst/>
          </a:prstGeom>
          <a:solidFill>
            <a:srgbClr val="d3e17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06:04:07Z</dcterms:created>
  <dc:creator>Egyptmay</dc:creator>
  <dc:description/>
  <dc:language>en-US</dc:language>
  <cp:lastModifiedBy>Egyptmay</cp:lastModifiedBy>
  <dcterms:modified xsi:type="dcterms:W3CDTF">2014-11-16T06:28:47Z</dcterms:modified>
  <cp:revision>4</cp:revision>
  <dc:subject/>
  <dc:title>Past simple</dc:title>
</cp:coreProperties>
</file>