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067-2C30-4400-9F69-DC70C90C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913-6FC5-42D7-A522-C40AAA4A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D428-4E50-4CB9-AC9F-D010E9FF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0ABA-93C3-43DE-91D3-253CCD56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B4D2-7808-45E9-950F-9B4D441E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EA67-7755-4963-84C9-182BE36B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524B-9C18-48CB-92B0-AA929AF1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0C92-8F9B-4C24-97DD-F1997E61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A8CB-987D-47B9-9BE3-2776F3A2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2815-A830-4ABE-9CD5-B580E89C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0CB0-802E-4D31-B360-9B4A3C47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EC12-3A12-489A-BD2E-B04EE8D2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67F9-C0F1-43C9-9ED6-F3F1C28B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7D63-966F-4EA2-AF25-A6F21AF3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88B6-8C77-4863-B73A-B6563CD2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EF1D-BA0C-4B77-8DE8-792A7C84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128B-F2C5-4833-8F5F-2997C579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D423-6BDD-4AE8-BF97-F79554C6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2D427-A4F4-4BB0-996A-8DED5E71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DB543-F88E-45C5-BF19-1B7577A7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3A638-1BF0-4D40-B643-A2E850E9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38BF1-5459-4A42-B219-DE984AF0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DA24-3FE1-4728-B580-76DD363B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DB41D-626F-4A5C-95DC-9FA10553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0C6B2-010B-436D-8F0D-48E5F69A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3B62E-E305-4412-97CA-60396F72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8E140-56E6-4FB2-A589-0D1CCDBE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62078-9FA5-4690-AD85-9009EA2C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D05B4-1EC5-4AB3-946C-737B60FA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00DC3-C323-4B3B-BEF5-15D88E62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66AC-6F31-45E5-8645-0BDB1552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6CEF-7875-4581-9EA1-66E1D369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7C37-04CC-49C2-AA99-B6688112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BD30-2DC7-422B-9E8F-9A4C4C96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8BE-EC02-43DE-8BC7-08849F23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6B0E-8C92-485D-8DC4-9EABC02F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9385-3C8D-44DA-A494-B076802684D3}" type="slidenum">
              <a:rPr b="0" lang="ru-RU" sz="12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Straight Connector 7"/>
          <p:cNvSpPr/>
          <p:nvPr/>
        </p:nvSpPr>
        <p:spPr>
          <a:xfrm>
            <a:off x="1978200" y="3733920"/>
            <a:ext cx="82296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F48B-4048-4FAC-8200-961F7682BDA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Straight Connector 6"/>
          <p:cNvSpPr/>
          <p:nvPr/>
        </p:nvSpPr>
        <p:spPr>
          <a:xfrm>
            <a:off x="1981080" y="4021200"/>
            <a:ext cx="82296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6EF5-5DA2-4C8E-9FEE-55A65F942C45}" type="slidenum">
              <a:rPr b="0" lang="ru-RU" sz="12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09160" y="882360"/>
            <a:ext cx="9968040" cy="29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rbel"/>
              </a:rPr>
              <a:t>PAST SIMPLE</a:t>
            </a:r>
            <a:endParaRPr b="0" lang="en-US" sz="72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0680" y="347760"/>
            <a:ext cx="98740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6b727"/>
                </a:solidFill>
                <a:latin typeface="Corbel"/>
              </a:rPr>
              <a:t>Общая формула </a:t>
            </a: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V2/Ved</a:t>
            </a: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5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Заголовок 1"/>
          <p:cNvSpPr/>
          <p:nvPr/>
        </p:nvSpPr>
        <p:spPr>
          <a:xfrm>
            <a:off x="490680" y="347760"/>
            <a:ext cx="98740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6b727"/>
                </a:solidFill>
                <a:latin typeface="Corbel"/>
              </a:rPr>
              <a:t>Случаи употребления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784080" y="1219320"/>
            <a:ext cx="10547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ы употребляем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st Simple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ля описания действия, которое произошло в прошлом и не связано с настоящим. При этом где, когда и почему произошло действие может быть указано в предложен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We travelled in Italy (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где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) in June (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когда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ля описания ряда последовательных действий, т.е. действия происходили одно за другим в прошло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The morning was busy, I </a:t>
            </a:r>
            <a:r>
              <a:rPr b="1" i="1" lang="en-US" sz="2800" spc="-1" strike="noStrike">
                <a:solidFill>
                  <a:srgbClr val="000000"/>
                </a:solidFill>
                <a:latin typeface="Corbel"/>
              </a:rPr>
              <a:t>got up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Corbel"/>
              </a:rPr>
              <a:t>washed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 my face, </a:t>
            </a:r>
            <a:r>
              <a:rPr b="1" i="1" lang="en-US" sz="2800" spc="-1" strike="noStrike">
                <a:solidFill>
                  <a:srgbClr val="000000"/>
                </a:solidFill>
                <a:latin typeface="Corbel"/>
              </a:rPr>
              <a:t>ha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my breakfast and </a:t>
            </a:r>
            <a:r>
              <a:rPr b="1" i="1" lang="en-US" sz="2800" spc="-1" strike="noStrike">
                <a:solidFill>
                  <a:srgbClr val="000000"/>
                </a:solidFill>
                <a:latin typeface="Corbel"/>
              </a:rPr>
              <a:t>left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 the house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ля описания действия, которое часто повторялось в прошло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When I lived in the country I swam every morning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728640" y="880920"/>
            <a:ext cx="10864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ля описания действия, которое в прошлом занимало какой-то период времени и закончилос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Маркеры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for, dur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She didn’t speak for a minute or tw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стоянные ситуации в прошло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He lived in our house before we bought i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еоспоримые факты о прошло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Crosswords didn’t become popular until the 1930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лавные события в рассказ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1741320" y="1273320"/>
            <a:ext cx="553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ast … (day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go (3 days ago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other da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… (in 1999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? where? why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, dur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just now = a minute ag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936720" y="403200"/>
            <a:ext cx="987588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6b727"/>
                </a:solidFill>
                <a:latin typeface="Corbel"/>
              </a:rPr>
              <a:t>Маркеры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3417840" y="620640"/>
            <a:ext cx="887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+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V2/V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-                       didn’t V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?   Did                            V 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??                  did                  V 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Who  V2 …?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Улыбающееся лицо 26"/>
          <p:cNvSpPr/>
          <p:nvPr/>
        </p:nvSpPr>
        <p:spPr>
          <a:xfrm>
            <a:off x="4027320" y="398520"/>
            <a:ext cx="979560" cy="941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Улыбающееся лицо 27"/>
          <p:cNvSpPr/>
          <p:nvPr/>
        </p:nvSpPr>
        <p:spPr>
          <a:xfrm>
            <a:off x="4027320" y="1727280"/>
            <a:ext cx="979560" cy="939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Улыбающееся лицо 28"/>
          <p:cNvSpPr/>
          <p:nvPr/>
        </p:nvSpPr>
        <p:spPr>
          <a:xfrm>
            <a:off x="5006880" y="2925720"/>
            <a:ext cx="978120" cy="9399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Улыбающееся лицо 29"/>
          <p:cNvSpPr/>
          <p:nvPr/>
        </p:nvSpPr>
        <p:spPr>
          <a:xfrm>
            <a:off x="5834160" y="4602240"/>
            <a:ext cx="977760" cy="939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4172040" y="4821120"/>
            <a:ext cx="907920" cy="538200"/>
          </a:xfrm>
          <a:prstGeom prst="rect">
            <a:avLst/>
          </a:prstGeom>
          <a:solidFill>
            <a:srgbClr val="d3e17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WH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06:04:07Z</dcterms:created>
  <dc:creator>Egyptmay</dc:creator>
  <dc:description/>
  <dc:language>en-US</dc:language>
  <cp:lastModifiedBy>Egyptmay</cp:lastModifiedBy>
  <dcterms:modified xsi:type="dcterms:W3CDTF">2014-11-16T06:28:47Z</dcterms:modified>
  <cp:revision>4</cp:revision>
  <dc:subject/>
  <dc:title>Past simple</dc:title>
</cp:coreProperties>
</file>