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377C-76C7-4FE8-90AC-50BF22DE63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Номер слайда 3"/>
          <p:cNvSpPr/>
          <p:nvPr/>
        </p:nvSpPr>
        <p:spPr>
          <a:xfrm>
            <a:off x="38847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8959-40C4-4F93-B9F2-9C52362A42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Номер слайда 3"/>
          <p:cNvSpPr/>
          <p:nvPr/>
        </p:nvSpPr>
        <p:spPr>
          <a:xfrm>
            <a:off x="38847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513B-51FE-42A2-924C-9A3A8CC34C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Номер слайда 3"/>
          <p:cNvSpPr/>
          <p:nvPr/>
        </p:nvSpPr>
        <p:spPr>
          <a:xfrm>
            <a:off x="38847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5E68-E039-4ADE-8D66-7E4A6C29DE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Номер слайда 3"/>
          <p:cNvSpPr/>
          <p:nvPr/>
        </p:nvSpPr>
        <p:spPr>
          <a:xfrm>
            <a:off x="38847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067C-9B05-4A99-9083-C81301EDEE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Номер слайда 3"/>
          <p:cNvSpPr/>
          <p:nvPr/>
        </p:nvSpPr>
        <p:spPr>
          <a:xfrm>
            <a:off x="38847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9A66-091F-473C-B379-7F2CF3E95F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Номер слайда 3"/>
          <p:cNvSpPr/>
          <p:nvPr/>
        </p:nvSpPr>
        <p:spPr>
          <a:xfrm>
            <a:off x="38847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100C-F4EA-4670-B66E-88397234B7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F3B-3660-4DAF-BF42-D4FF1048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DED2-9C3E-41A2-8C6A-43153FB2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2100F-6C00-4A8A-A3F5-017614E7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44631-DD42-4E85-AF6C-DAC1F07C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8FEB9-E435-4504-879A-7264DE52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EA755-37FA-4A29-8884-27E3C028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85A5F-FE9D-401D-8CD8-CCE6F429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A8DC6-EAB5-491F-AA85-82FC541E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6F601-102B-4AC9-AB39-02066AA0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4C0F1-B810-4F1F-B1A7-72492AA6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93605-2E2C-4FDC-89A1-48C3F34B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057EF-8E00-446E-9FC3-67FD168D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1A2-EC49-4C2F-BEC6-2ECED4B0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2AD2F-8ABF-48C7-8337-A35879F6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22D54-2FC3-4279-AEA0-D294CF73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135C9-FBAD-454D-9D55-654E1486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AA829-4878-42C5-9036-A543E5E8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0A03C-7C8D-481E-A28F-15BD16DC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705C8-C682-4E0E-AAD5-A6246B02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DA41D-CE99-4AA3-ADE1-3FD8193F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78531-9FE6-4BBE-9CB3-1489D8E0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1808D-7B6D-4F1C-B914-41ABF609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E0306-2F3A-4610-924E-C636649E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710-D58C-4B03-930F-F4A14AB3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138AA-9A3D-491A-B646-6070F83B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478CB-CB4B-4248-A48A-A3DBA5E3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9352E-19F2-47C7-8DCE-9727BAA1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6C744-0C99-4265-85E3-BCB878A2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1D9FF-E929-40C6-888F-BD2E37FF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6713D-0CC5-4BE2-9F53-DACE4EDF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A7F9E-7AFB-4DEB-9989-B2802745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16325-9722-411C-8B43-7A92BF32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13CCE-F03C-4604-881E-6EB2DAE1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7AB43-9D52-40B1-9CC1-E97D3DC8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681D-700F-4228-8E08-ABDD5387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A6B0B-2096-41F9-ADDD-0D937486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A12A6-3C19-479F-968D-1C26310A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0FCAC-BA27-4482-A576-8A02EB2B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FCFB2-741B-4125-96C9-04094F56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D5BB2-A629-4054-B593-649C1FFE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F581F-7815-4FE9-BF0C-BE754109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A8926-604D-45CD-9DDC-8207FFD1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0F0BF-5FCE-4F2F-9F84-3ABA45FB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152D8-61F4-4D69-A1A2-E8C9D645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30D34-66FA-4C34-AF71-156CAD1F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7BFB-A1AE-4300-820D-ACD3EA85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CF42E-8D6F-4D0D-9225-9D9365ED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95308-5009-4C7D-8D96-FB621E94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794AB-0A65-4007-BFCC-25060F6C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ECD28-7EAA-4579-9FE9-C69CA9FA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269E5-A323-4660-952E-8770A8B0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E7D26-127B-4141-92E1-2C3EA95D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EBED9-3A2A-495F-B2BC-4628E60D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9D3692-890B-4801-80FD-1C02A713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1DE95-43CE-43E3-A605-D049E3EA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E393A-8F3A-4526-9DE4-A0396FCB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2BE0-C1FB-4245-B477-5F7C7CF5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68DCF-729A-4360-AF0E-A79D64AF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C9003-7726-4BF9-A039-40C5D9C1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607AD-33B3-4641-8446-7811AE3C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61BF7-359C-4163-BC1F-7E1DAE01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AA711-DB59-442E-BC3F-7D06C394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0A801-5F59-4B30-8152-CA9FE2D0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925EF-993A-4722-B0DC-E4A7D277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E72E4-097C-4C72-9826-766877DA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349D06-EDE9-4BD7-8651-22E04493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37F49-4261-45E7-8839-0F239EF4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D7D1-DEB8-43F3-A138-7B14FDA6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878E8-211A-47AC-A2DD-2F158E30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2AE96-5E85-4BB9-9809-55F3ADDB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D07B1-B1D4-445A-BDAD-ED1B4C47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5D227-83A7-495F-B8AB-3FFA7295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FA964-E7E3-4790-A623-57A67098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A89D5-C038-448E-B15D-7622E3E0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3C7CD-5FB1-414D-9B3F-EB1609F7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C9B9F-52E5-423C-9188-091B0351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9D823C-D684-4064-9DC3-7B001641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4B9DD-73F6-4DED-8A66-BCEC90E2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E596-944B-45E3-A3FE-569CB91E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27E88-A6EE-4B43-9B65-4460EF4F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848986-D2C3-49DD-9848-0930D5DA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E77030-39FD-41DD-9605-8D2BE876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CF2B6-D579-462B-911B-4918DF93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F68205-02DC-4CA6-B22D-B31D6F1A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5CCE8-53B8-4E7E-A022-715DC6E8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F26BE-E9D5-454D-854C-4E6D2CF6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30978-8A30-42D5-B440-B133C764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52357-3B68-4E50-BC80-8B2819B3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CA40B-5ED6-4089-A4D6-797B27C7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AB63-01FD-4A7B-8300-3BCD1A04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64CC7-B11B-4609-81BD-C80B60FA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6AFE24-3C2D-456C-AD11-FA866F4F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31806A-8A7A-42CE-BA5D-339EF7FE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702D54-46B2-460C-A5DB-53493F3F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24A375-CC1B-4C88-940B-A9286BB1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DAC860-A9A1-4445-A9F2-E6FA9767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53A1A-7808-4F3F-9738-C5B08DBD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159417-ADD6-46A9-9677-F2EF27E1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2F2AB-BFD0-4AAD-8530-8E3C47C3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1FD556-E395-4BC0-B1BE-1F9A54AA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5D4B-0209-4002-8E12-EFD9A6CC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9D475-5005-48FD-90A7-946AEEDE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239B51-2209-4D72-A989-D9C671E6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9428BE-9B8A-477D-AC80-0CE4EB40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6C5A63-170E-4710-8104-DAFAA960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5F782-B9AA-4171-9C71-6768956D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01F404-DC63-4BDF-83BD-438B6A81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79839D-526C-436E-A226-DEB73B4B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142470-F8EB-4F3B-9498-7AB8D7CE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F66CA4-CDA0-452B-A5B9-9EEE1B3F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0D5193-D326-454D-BCEE-37B505DE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5C7-F78C-4BC8-84D2-52C4707D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6944-12F3-4F85-BEC2-F3B3868D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48DB1F-CF6E-4C97-9442-E45FDE64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36F563-ED96-443E-A1C8-A58A24C2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5427A3-9C7B-4F5E-AAFA-3DA1E57D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808698-BAEA-44B7-BC4D-9B3C2161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56A770-0794-4A34-90C8-A4EEAACE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EB3A-68E1-4582-B1C7-A6662614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51F7-7112-4E2E-A44A-6E2177D3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D2FC-2CFD-4181-9E9D-4E57DB03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1785-1B83-49C0-871D-5D8728F4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5A3C-581F-4A13-AE3C-B981A7EC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CC90-270F-4152-9B0D-13E5CF2A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7E1D0-B3A1-4A24-985E-D24A015A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46E1-D15A-4B23-8AB7-3BDC633D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7D881-14F8-44C7-B6DF-87344FD1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92C-41E4-48FE-9103-271D5A9C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561FD-CCD6-4FAF-B353-FF1E4A03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DE9DE-F484-40BC-91E6-03CB7481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4DFD7-7751-4C37-9430-BA8952BB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5D215-06B9-4D14-9384-6E74BCD3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7CF3-4D9B-4D9C-89D7-9CE0D8B1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AF49-9623-4F85-8996-CFE81512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F3076-C7CD-4676-9CA7-6AD90E14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4F970-7EE0-40A4-BBD3-E3F29357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62B01-24B7-4D38-AB54-973FC1D5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B2C74-A673-47A0-AF44-38BAD06A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60F-07CF-4158-878F-DA4F939C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EEF7F-8CBB-4430-814A-76E57E8B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5AB38-7217-460A-B799-125CCA15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4E8E8-8796-431A-AD5A-CD5ACED2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5FA50-1FEF-4140-98F2-065F043E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2A479-4C1E-48F2-A2FD-CCD099FA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2029D-E53F-447F-BAD3-FE3FBE5F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D7795-2625-42CD-9D77-D3E6E546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C69CE-80C2-4D6C-A581-32C2A295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5B69-F08A-47C5-9F36-975FCB87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44363-9475-414F-9B19-CC99870B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332-25E5-4E40-8493-3E1C7A76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BE3B7-AFFC-41F7-8CDE-2E97B006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E508C-7D7F-4DCE-8390-E015A7F9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AE718-161F-4D85-9BDF-5E287B80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C5ECB-8843-4158-992E-B0C18511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BAF1F-AA98-4375-88C0-1EA72CF0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B45D2-4763-4A30-9BC1-2899BB3B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5D0C0-B1C1-4355-A328-AF1595A6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8DAE3-FF1E-4789-98DB-32F53F52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376E7-A422-4F63-92D9-467601A5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8B629-0982-4CAA-ABBE-2AC2D385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783-598D-47E4-B459-3D6B8F99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F3579-2D32-4E6E-A9E0-89B73783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58363-8483-48D7-8A5A-03FA55E5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1C0F4-D8E1-40EB-8488-3F975B66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E9A09-CE40-4106-BDB3-9E60FE82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3E728-9F91-4E25-81F9-03289471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94490-1810-4510-9264-D42FBD3D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2A16F-EA4B-4045-B4CF-F828BFD9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DFD88-4947-4A4E-9780-CF5E1725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377F9-0D67-41BD-9026-27EC9451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C230B-AE6F-43CC-B478-18A0F5F1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B37-F20A-437F-A973-EAF7CD38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E2FCF-3586-448C-A8F5-34C22815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1FB8B-8B4B-491B-8540-0EB6A57D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C5021-32B5-487F-A67A-2952FDF0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130FE-7471-4471-A978-7116E036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C8DCA-7267-4D1C-8AD0-968E50F0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B1C0C-EC3A-40D6-A1B8-0570C7E0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86BB3-1061-4AA0-ADAF-624E1E6F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28DFE-FA84-4249-BEAF-840C2F28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AFC90-B483-4A83-87B2-162E15B4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2F331-E403-48DA-8BC3-3ECD4FD3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2D4-4950-434F-8E75-F5B28A5F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57C09-FAF2-48CB-B7FE-2BDDBE60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FFF76-1573-46C4-A41F-7BE657F1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8C82A-DCA9-4E7B-BDDB-33F64E49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AEF82-26F3-4ADB-AF65-A6EA8238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34C35-DF81-40EC-8FCE-E4EB189E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13130-0E47-44CD-8491-695D1BE7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9AEC1-6E3E-4622-9A74-81AD5B44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DA9BB-7542-4980-911E-9168EBBF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89A7F-3F60-482A-BEE1-A13E6E32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B6639-E2EA-493C-9C28-8164CC28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6CD-9949-44BD-B1B9-3D51ADD3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4A4F7-0730-493F-AEE0-07178CD6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5D72F-7361-4581-BA61-65ED96FF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837BD-7EEF-4184-9408-43791A46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23F20-D41D-4FE4-80A3-319DAD08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1D624-EE83-4FC2-A4F6-05ED68BD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2AD17-B526-4738-AB08-F53C1C2A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9882F-4ACE-4496-A67F-F686C1D7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EE39A-BB23-4022-80C3-7777E003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4359E-5FC1-42C3-85C6-41C77781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2FD8E-A09E-4B5A-8FFD-5C42AC44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1A29-D8DF-4FD9-9E98-92C3C338A0A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001C-8ADB-42D0-8DAD-7C8A6401B77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0A82-8A4D-436C-A359-84E77796CFE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C827-8572-4BED-AC5C-E2AAB2870AD4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BA54-6BEA-4245-8BD2-965E5BBC346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E7E7-6EFD-4035-9D74-329CDD0DCA6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D311-62C2-4EC4-87E4-BE3997C08C65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CC83-D0AC-43A8-A3C3-ED2D0A7AE02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BA79-BC85-401A-987B-EC795F262D80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DE3B-AC7F-40F5-9E36-95E90E3E8B1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22BB-9989-4621-A286-A970D8629E8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FC43-6DB9-4DCF-9494-3BF217DDEBE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ABA2-65C9-4171-A786-A1403D552EB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FB92-29F1-4136-B142-93E41276B29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7203-DA88-451D-9138-8C7D68EDD7E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87F2-F754-4DD6-BC66-6F54B778D44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6CF4-5E9E-4DC6-B77E-08415DBCE64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normativ.kontur.ru/document?moduleId=1&amp;documentId=227333#l0" TargetMode="External"/><Relationship Id="rId2" Type="http://schemas.openxmlformats.org/officeDocument/2006/relationships/hyperlink" Target="https://normativ.kontur.ru/document?moduleId=1&amp;documentId=304735#l0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2785680" y="5428800"/>
            <a:ext cx="60721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Прямоугольник 2"/>
          <p:cNvSpPr/>
          <p:nvPr/>
        </p:nvSpPr>
        <p:spPr>
          <a:xfrm>
            <a:off x="1285920" y="2143080"/>
            <a:ext cx="713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бно-методический семинар «Разработка учебных планов ПОО по актуализированным ФГО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Picture 2" descr=""/>
          <p:cNvPicPr/>
          <p:nvPr/>
        </p:nvPicPr>
        <p:blipFill>
          <a:blip r:embed="rId1"/>
          <a:stretch/>
        </p:blipFill>
        <p:spPr>
          <a:xfrm>
            <a:off x="-2071800" y="2142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Picture 2" descr=""/>
          <p:cNvPicPr/>
          <p:nvPr/>
        </p:nvPicPr>
        <p:blipFill>
          <a:blip r:embed="rId1"/>
          <a:stretch/>
        </p:blipFill>
        <p:spPr>
          <a:xfrm>
            <a:off x="-2071800" y="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2" descr=""/>
          <p:cNvPicPr/>
          <p:nvPr/>
        </p:nvPicPr>
        <p:blipFill>
          <a:blip r:embed="rId1"/>
          <a:stretch/>
        </p:blipFill>
        <p:spPr>
          <a:xfrm>
            <a:off x="-2143080" y="0"/>
            <a:ext cx="1295388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Picture 2" descr=""/>
          <p:cNvPicPr/>
          <p:nvPr/>
        </p:nvPicPr>
        <p:blipFill>
          <a:blip r:embed="rId1"/>
          <a:stretch/>
        </p:blipFill>
        <p:spPr>
          <a:xfrm>
            <a:off x="-2071800" y="0"/>
            <a:ext cx="12954240" cy="7529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Picture 2" descr=""/>
          <p:cNvPicPr/>
          <p:nvPr/>
        </p:nvPicPr>
        <p:blipFill>
          <a:blip r:embed="rId1"/>
          <a:stretch/>
        </p:blipFill>
        <p:spPr>
          <a:xfrm>
            <a:off x="-1928880" y="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Picture 2" descr=""/>
          <p:cNvPicPr/>
          <p:nvPr/>
        </p:nvPicPr>
        <p:blipFill>
          <a:blip r:embed="rId1"/>
          <a:stretch/>
        </p:blipFill>
        <p:spPr>
          <a:xfrm>
            <a:off x="-1785960" y="0"/>
            <a:ext cx="1295388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Picture 2" descr=""/>
          <p:cNvPicPr/>
          <p:nvPr/>
        </p:nvPicPr>
        <p:blipFill>
          <a:blip r:embed="rId1"/>
          <a:stretch/>
        </p:blipFill>
        <p:spPr>
          <a:xfrm>
            <a:off x="-2071800" y="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2" descr=""/>
          <p:cNvPicPr/>
          <p:nvPr/>
        </p:nvPicPr>
        <p:blipFill>
          <a:blip r:embed="rId1"/>
          <a:stretch/>
        </p:blipFill>
        <p:spPr>
          <a:xfrm>
            <a:off x="-1928880" y="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Picture 2" descr=""/>
          <p:cNvPicPr/>
          <p:nvPr/>
        </p:nvPicPr>
        <p:blipFill>
          <a:blip r:embed="rId1"/>
          <a:stretch/>
        </p:blipFill>
        <p:spPr>
          <a:xfrm>
            <a:off x="-2286000" y="0"/>
            <a:ext cx="1295388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Picture 2" descr=""/>
          <p:cNvPicPr/>
          <p:nvPr/>
        </p:nvPicPr>
        <p:blipFill>
          <a:blip r:embed="rId1"/>
          <a:stretch/>
        </p:blipFill>
        <p:spPr>
          <a:xfrm>
            <a:off x="-2071800" y="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Прямоугольник 2"/>
          <p:cNvSpPr/>
          <p:nvPr/>
        </p:nvSpPr>
        <p:spPr>
          <a:xfrm>
            <a:off x="1285920" y="1643040"/>
            <a:ext cx="713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ное сопровождение формирования учебных планов по актуализированным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Picture 2" descr=""/>
          <p:cNvPicPr/>
          <p:nvPr/>
        </p:nvPicPr>
        <p:blipFill>
          <a:blip r:embed="rId1"/>
          <a:stretch/>
        </p:blipFill>
        <p:spPr>
          <a:xfrm>
            <a:off x="-2214720" y="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Picture 2" descr=""/>
          <p:cNvPicPr/>
          <p:nvPr/>
        </p:nvPicPr>
        <p:blipFill>
          <a:blip r:embed="rId1"/>
          <a:stretch/>
        </p:blipFill>
        <p:spPr>
          <a:xfrm>
            <a:off x="-2000160" y="214200"/>
            <a:ext cx="1295388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Picture 3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Picture 2" descr=""/>
          <p:cNvPicPr/>
          <p:nvPr/>
        </p:nvPicPr>
        <p:blipFill>
          <a:blip r:embed="rId1"/>
          <a:stretch/>
        </p:blipFill>
        <p:spPr>
          <a:xfrm>
            <a:off x="-1928880" y="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5" name="Объект 2"/>
          <p:cNvSpPr/>
          <p:nvPr/>
        </p:nvSpPr>
        <p:spPr>
          <a:xfrm>
            <a:off x="6559560" y="2359080"/>
            <a:ext cx="14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Скругленный прямоугольник 19"/>
          <p:cNvSpPr/>
          <p:nvPr/>
        </p:nvSpPr>
        <p:spPr>
          <a:xfrm>
            <a:off x="5294160" y="11808000"/>
            <a:ext cx="1148040" cy="493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66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bdbd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Скругленный прямоугольник 18"/>
          <p:cNvSpPr/>
          <p:nvPr/>
        </p:nvSpPr>
        <p:spPr>
          <a:xfrm>
            <a:off x="1214280" y="2928960"/>
            <a:ext cx="7286760" cy="20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d7ee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6c5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ДАЧИ ПРИ РАЗРАБОТЫКЕ УЧЕБНЫХ ПЛАН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Прямоугольник 3"/>
          <p:cNvSpPr/>
          <p:nvPr/>
        </p:nvSpPr>
        <p:spPr>
          <a:xfrm>
            <a:off x="714240" y="785880"/>
            <a:ext cx="735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ебный план образовательной программы среднего профессионального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окумент, который определяет перечень, трудоемкость, последовательность и распределение по периодам обучения учебных предметов, курсов, дисциплин (модулей), практики, иных видов учебной деятельности обучающихся и формы их промежуточной аттестации (пункт 22 статьи 2 Федерального закона от 29 декабря 2012 г. №273-ФЗ «Об образовании в Российской Федерации»; п.12 приказа Минобрнауки России от 14.06.2013 № 464 (ред. от 15.12.2014) «Об утверждении Порядка организации и осуществления образовательной деятельности по образовательным программам среднего профессионального образования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571320" y="785520"/>
            <a:ext cx="81435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ебный план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мостоятельно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абатывается и утверждается образовательной организацией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 algn="just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разработке учебного плана определяются качественные и количественные характеристики образовательной программы по специальности /профессии среднего профессионального образования, в том числе: объёмные параметры учебной нагрузки в целом, по годам обучения и по семестрам; перечень учебных дисциплин, профессиональных модулей и их составных элементов (междисциплинарных курсов, учебной и производственной практик); последовательность изучения учебных дисциплин и профессиональных модулей; виды учебных занятий; распределение различных форм промежуточной аттестации по годам обучения и по семестрам; объёмные показатели подготовки и проведения государственной (итоговой) аттестации, условия проведения демонстрационного экзамена в структуре процедур государственной итоговой аттестац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785880" y="1000080"/>
            <a:ext cx="77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0" name="Прямоугольник 2"/>
          <p:cNvSpPr/>
          <p:nvPr/>
        </p:nvSpPr>
        <p:spPr>
          <a:xfrm>
            <a:off x="1071720" y="1071720"/>
            <a:ext cx="734688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9 декабря 2012 г. №273-ФЗ «Об образовании в Российской Федерац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28 мая 2014 г. № 594 «Об утверждении Порядка разработки примерных основных образовательных программ, проведения их экспертизы и ведения реестра примерных основных образовательных программ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14 июня 2013 г. № 464 «Об утверждении Порядка организации и осуществления образовательной деятельности по образовательным программам среднего профессионального образования» (зарегистрирован Министерством юстиции Российской Федерации 30 июля 2013 г., регистрационный № 29200) (далее – Порядок организации образовательной деятель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16 августа 2013 г. № 968 «Об утверждении Порядка проведения государственной итоговой аттестации по образовательным программам среднего профессионального образования» (зарегистрирован Министерством юстиции Российской Федерации 1 ноября 2013 г., регистрационный № 30306)(в ред. Приказов Минобрнауки РФ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1"/>
              </a:rPr>
              <a:t>от 31.01.2014 N 7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2"/>
              </a:rPr>
              <a:t>от 17.11.2017 N 113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785880" y="499680"/>
            <a:ext cx="7786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2" name="Прямоугольник 2"/>
          <p:cNvSpPr/>
          <p:nvPr/>
        </p:nvSpPr>
        <p:spPr>
          <a:xfrm>
            <a:off x="571680" y="285840"/>
            <a:ext cx="835812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18 апреля 2013 г. № 291 «Об утверждении Положения о практике обучающихся, осваивающих основные профессиональные образовательные программы среднего профессионального образования» (зарегистрирован Министерством юстиции Российской Федерации 14 июня 2013 г., регистрационный № 287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обрнауки России от 01.03.2017 года №06-174 «О направлении методических рекомендаций по реализации федеральных государственных образовательных стандартов СПО по 50 новым, наиболее востребованным и перспективным профессиям и специальностям для использования в работе организаций, осуществляющих образовательную деятельность по реализации образовательных программ, разработанных в соответствии с ФГОС СПО по наиболее востребованным и перспективным профессиям и специальностям СП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ОЧНЕНИИ «Рекомендаций по организации получения среднего общего образования в пределах освоения образовательных программ среднего профессионального образования на базе основного общего образования с уч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й федеральных государственных образовательных стандартов и получаемой профессии или специальности среднего профессионального образования (Протокол № 3 от 25 мая 2017 г., ФИР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по введению учебного предмета «Астрономия» (Письмо Минобрнауки России от 20.06.2017 г. N ТС-194/08 Об организации изучения учебного предмета «Астрономия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Picture 2" descr=""/>
          <p:cNvPicPr/>
          <p:nvPr/>
        </p:nvPicPr>
        <p:blipFill>
          <a:blip r:embed="rId1"/>
          <a:stretch/>
        </p:blipFill>
        <p:spPr>
          <a:xfrm>
            <a:off x="-1143000" y="-142920"/>
            <a:ext cx="1295388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Прямоугольник 2"/>
          <p:cNvSpPr/>
          <p:nvPr/>
        </p:nvSpPr>
        <p:spPr>
          <a:xfrm>
            <a:off x="571680" y="150012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6" name="Picture 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715240" cy="5786280"/>
          </a:xfrm>
          <a:prstGeom prst="rect">
            <a:avLst/>
          </a:prstGeom>
          <a:ln w="0">
            <a:noFill/>
          </a:ln>
        </p:spPr>
      </p:pic>
      <p:sp>
        <p:nvSpPr>
          <p:cNvPr id="1197" name="Прямоугольник 10"/>
          <p:cNvSpPr/>
          <p:nvPr/>
        </p:nvSpPr>
        <p:spPr>
          <a:xfrm>
            <a:off x="1143000" y="857160"/>
            <a:ext cx="6858000" cy="1428840"/>
          </a:xfrm>
          <a:prstGeom prst="rect">
            <a:avLst/>
          </a:prstGeom>
          <a:solidFill>
            <a:srgbClr val="5b9bd5"/>
          </a:solidFill>
          <a:ln cap="rnd" w="1584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Макет ПООП СПО (август 20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Picture 2" descr=""/>
          <p:cNvPicPr/>
          <p:nvPr/>
        </p:nvPicPr>
        <p:blipFill>
          <a:blip r:embed="rId1"/>
          <a:stretch/>
        </p:blipFill>
        <p:spPr>
          <a:xfrm>
            <a:off x="-1500120" y="0"/>
            <a:ext cx="12953880" cy="7315200"/>
          </a:xfrm>
          <a:prstGeom prst="rect">
            <a:avLst/>
          </a:prstGeom>
          <a:ln w="0">
            <a:noFill/>
          </a:ln>
        </p:spPr>
      </p:pic>
      <p:sp>
        <p:nvSpPr>
          <p:cNvPr id="1199" name="Прямоугольник 4"/>
          <p:cNvSpPr/>
          <p:nvPr/>
        </p:nvSpPr>
        <p:spPr>
          <a:xfrm>
            <a:off x="428760" y="285840"/>
            <a:ext cx="7143480" cy="857160"/>
          </a:xfrm>
          <a:prstGeom prst="rect">
            <a:avLst/>
          </a:prstGeom>
          <a:solidFill>
            <a:srgbClr val="5b9bd5"/>
          </a:solidFill>
          <a:ln cap="rnd" w="1584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ические рекомендации 2018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ндрей</cp:lastModifiedBy>
  <cp:lastPrinted>2016-11-01T11:17:20Z</cp:lastPrinted>
  <dcterms:modified xsi:type="dcterms:W3CDTF">2018-08-29T03:25:11Z</dcterms:modified>
  <cp:revision>906</cp:revision>
  <dc:subject/>
  <dc:title>Diapositiva 1</dc:title>
</cp:coreProperties>
</file>