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10D5-3F68-422A-8279-334B501184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B2D2-AE58-4577-B47E-B4A75AF5D9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F675-A950-4481-984E-6CE0E0DE4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1400-455B-498F-B1C8-88BA00EB76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A08C-9A28-4FDE-86CE-9AE4F8C68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C68C-5BC1-4B33-A636-CE26D63B0A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90520" y="1243080"/>
            <a:ext cx="4476960" cy="335736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787640"/>
            <a:ext cx="54864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Номер слайда 3"/>
          <p:cNvSpPr/>
          <p:nvPr/>
        </p:nvSpPr>
        <p:spPr>
          <a:xfrm>
            <a:off x="3884760" y="9448920"/>
            <a:ext cx="297180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A596-26A3-4051-804F-B91EA120F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665-216E-476F-B374-A671B149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28C-726D-4756-949C-3710973C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33C79-7646-4C7C-9E80-52A42CC8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5D69E5-62DD-4D3B-A44D-0DFF842D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602A5-2A91-4C4A-BB02-58A91F8C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6EC68-7BB4-4DEB-ADCC-FC15732F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1869A-DA78-4113-ABC8-A5C07CC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DEDF3-1FEE-4016-B7EA-6796A951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B1E5F-C748-40AD-BD32-D6687C48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DCB24-20EA-464E-873E-881FA06A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0BBDC-ABBC-4216-9E80-39DDB157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E3943-3276-4A12-87A4-FF83AE86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0AE-50FE-41CA-926B-C4FD9E6C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660FC-FCCB-4255-83BB-359727B2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0509C-F895-4BAB-829C-CB8FF80B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12FD3-266A-4F51-B702-218AC091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E2BCD-C52B-47D6-A11D-61C46938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DEA22-9761-4A53-8017-8EED0D99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EF333-94E4-4630-B32B-75CB6A0C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52A06-D1C2-403B-B11C-91DAC778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24EEF-C3D3-4DF8-B894-2C72DE47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530CE-EA73-4D9D-A0A5-3A8F4BD5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01F91A-54ED-491B-918E-E4DEE0F6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3A9-579F-44EA-AC1F-A8D3B34D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5E792-3358-442D-8091-65B1F47B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DA881-72EF-4C10-9A28-3F40CB22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E0C34-1029-48C6-A99B-A4D0BDCC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39482-13DE-46E6-907C-5DA08452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1BC25-9CB9-4F78-B232-5B480755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B2C9C-707C-44E1-969D-7CAAD086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108DC-4C38-454C-B9F2-7AE974F7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4D767-FCA7-4D6C-9EA0-E310EF75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10AD5-9747-49B4-B3BF-377E96F6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46BD1-3782-463E-B515-88CC4FBA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D0AE-F0F5-4D5F-905C-700E9D58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2B8C8-9479-4219-B1F7-7CB634C3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01DBE-0230-4401-AF01-9C80CBDC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7B18A-1C1C-4F77-8919-CC1462B2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D88C9-FF1A-415A-99F5-9031669C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7E532D-0F3B-4195-9FB2-D379A94B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8FF45-98EB-4CD2-AD83-16264F9F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5BDF0-2466-4FB7-849C-3352BDE9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C947C-F90C-46AD-B4B2-33C616A4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DFC1D-DF5B-4164-AD72-AFA1168C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BAF52-1CD7-4812-A20B-2D7E678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0282-23E9-4451-9651-6C335329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5D8EE-DEBF-4D74-B3E4-761CBDC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CE0EE-AB70-4924-A1BB-383F007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FB4D0-8201-48AE-B5FA-4A14C367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BBFB4F-1EBC-4418-BF15-FED89CDAE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296DF-D2A5-472A-BCF2-394E9D2E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321B60-D4E3-4A81-9FF1-DCF5F9B2E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CF681-86B7-4811-B5B1-78CF5616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7DD45-2DBF-4F35-90B8-754A91DC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84F1F-D35C-499D-ACAA-77DBCF80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5D238-2B8C-4EFD-8C7C-601B9217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7CFE-2F51-4AE0-9F6C-1339E15F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5E23E-5227-4B56-AB99-64C49FF5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041E4B-4705-411B-BC8F-38A09AA6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C4C5B-93B2-4E88-B4CE-FFB459C5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56497-B10A-4D4D-9D03-931B9118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9A528A-C8A4-4D10-8826-62CE1FB1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EA814-EBFE-4E68-8FC4-8F56CD78B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C0F8F-1D70-4DAC-94C8-452FEA1D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16C13-837B-455D-A7C4-012D44D3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38711-DE4C-41D1-BBFD-9C2F1AAF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F0EB1-3767-4784-A695-7FAD3A1C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028A-F539-45FD-ACF9-06B2BBF5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998B21-FC12-41DA-8115-99B0DF8A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1E71E-0C7D-4B38-9134-6312529D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DB35D-D803-44CE-9DC3-60432F01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D33D2C-7D88-40F6-BCD0-7EB7D75B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7D368-385D-427C-A10F-B4040106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B1364F-623D-4878-BE71-A02F0AD3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04124-DECB-46E3-92F3-64415A05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BEB1F2-2381-4E7A-8D79-11E9BF29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8221A-5F00-48B7-84BF-B7FCD6564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7A750-ECCF-40E1-AD04-D7251F8B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4593-C744-42EE-9296-9B7FF7AC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AA9BD-1166-4194-A8C7-E0A36945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790DC-6E55-4F6C-B338-98854E78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16436C-4293-48A6-AA42-71868927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F2559-FE75-403F-A181-70CB8647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D0F0BE-CB36-45F5-9756-8D820F4F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8C076-DD1F-4846-9C98-627A126A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099B7-BFE5-4525-9F40-25158A57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C0C50-E27F-4D5D-9DDF-7E41735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87594C-F0EB-471F-8D71-286AD9BE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D8481-E6BD-4F8B-B4A4-6A4929A3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A1D2-C2BB-4654-9331-385365A2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1EB04-B3E8-4399-AAF6-DD298AAA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68343-979B-4BDC-B9A0-D0CC5F3D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EA594-12AA-45BE-BF30-C05F4CE2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9F96B7-0691-468A-957B-B217BEE6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5FCE2-0FDD-4791-9EA2-F906A18F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75D474-8F86-4DB2-8D84-853AD0CF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ACC238-7F0A-4408-946C-30CBF79A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581E0-1497-446A-A537-9D61080F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51DBF-1F0D-4175-BC93-1BA0B0E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772972-5399-4BB8-B252-AD6AAD86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AF67-5D15-47FA-85AF-6802CC29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280C1-C15B-437A-8251-EE8BCCB4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53CF36-38EB-40CE-9A61-966E0BDD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DD9294-BC7D-4210-B2BB-D3C0BBD7F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4AAFF-B4B4-4506-810F-FC27AB61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DF4A2-758F-4414-B958-6C7A9F61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3652C4-4C66-4A89-8D16-E54B7E6B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04BED2-0B58-4C9A-B71D-474E0444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FD9AE-A4EA-4401-930F-BD75DD4F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23543-23AF-43D2-819D-7E245BD1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CB2E2B-F1F8-49FE-B19C-8CC81313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4E6-E79D-463E-B88C-8CCE8345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79FA-7A83-489D-84CF-3DDA878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206AA8-9473-4811-BDAD-3D6471E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04FAF-F52B-4982-96C4-8CDE1748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0FB8E-6989-448D-A292-D233E6567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08DB4D-4B74-4963-ABBD-1423AB81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1168ED-9353-458A-8884-BBB7CAD94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897A-B9AC-4C83-BFEC-76C65346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2221-CFF3-42EC-B37D-314857BB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AFFE-F116-41B3-8B49-9123D3B4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DC8B-7DE9-42DC-8B09-C2332E68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4782-F888-4CF6-8BAB-30413682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21886-7DA3-4735-8419-A966EBDF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5CC6F-DAF3-4DDC-9084-25B1BBD0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4F7AA-6EF6-4E44-8B67-AD3E9437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1D61-B3D8-4FCE-AFB2-B0B4FD9F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4A6-C545-447E-9AB7-9A44F0F1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AFE9-10B4-4E2D-9E88-B7C8DF77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7A1F7-444C-4B74-A6CA-87941E90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8BF34-7D16-4078-B0A3-E65A4C67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AB35C-084E-4C51-9EF5-C3811EDD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4CEF-8839-4E48-9A63-0E1A1653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93ABA-0761-4A9A-BD6B-384BDCE9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9BD8A-9CEB-49E5-83CB-2E7F566C3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ADF8B-80E3-4E7D-B874-352915BC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CC2B-D4C2-4F38-BF4E-75129D1D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671EA-9C64-4FFB-8D06-F89CF53F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0EF7-3061-4D74-A8A0-C982F9E3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5116F-9663-4169-B746-1E90E7ED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91595-7FC9-44A0-862B-66339DB8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B234E-97F9-4352-B4AF-5EB354F8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FF049-ACE2-41D8-8B86-3ECF1953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DD31-5EA4-42F7-ABAA-0FA11F88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21D9-FDE4-4537-8C54-6EE469D6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43314-B654-4DDD-AB58-73432E49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917B-854B-4790-8E1C-D4DE4BCC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15C08-BB58-486A-87FC-4FFF358D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3D631-EDD3-41B4-A7BB-D51E2C6A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79F-97B8-4D44-8E1F-841E61AB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6858-327D-4B11-9ED2-4944E768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B7E63-102A-4B8B-8428-2D7921D9B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42806-3B83-40F4-8CDF-2E90EE7E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73F9-FCF1-47D1-A1FF-449A1FB6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E807C-A71C-4A2D-977A-C88789B4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874A-E655-46CD-A6F0-F71633C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1557F-768A-47C6-9625-4D636746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A24A8-D351-49A7-A84A-3EDFC89B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CC7D-30EB-42E7-978D-F0DDD8CE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F7B69-5484-4C85-BDCD-843463C7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C229-2A21-4B3A-9AFF-9E6F70A2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FA1F0-DBA0-4292-9A33-9FDF9332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F990B-7BB8-4430-B163-F9809E5E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C4926-2FBE-420B-944D-9391ACF8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B83B-1CA3-4B70-9189-D9F7ED34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3AE33-2CC9-44E4-A226-8EAE040D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DFB31-6CF1-4654-BC85-B5841C4B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A65BF-A658-4B12-B973-24171DCD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BD6C5-4827-455E-8CF8-68EFC22C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9C657-9B2D-4C83-9B4D-7B71FE6C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7A82-3555-43F6-BA46-98AC95F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8D6-E6A9-4FA1-8A3A-4C2A3C59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4BF51-F790-42B5-91A0-72D11E85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B4066-A6F4-426A-96D1-456DBCDD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7F5F3-3F8C-4486-9305-C6E3D1DDE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8A5D-6383-4753-BDC4-9BA2978E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AB646-F2F1-4C62-A9CE-58FF7480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D68D1-1041-4DBB-A53B-1657378C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92520-27C1-4D85-ABB0-340C9E7D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D5504-BCBB-4E55-9E41-991FC3FD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1289E-6CD3-4991-92D8-9E35B683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91E5C-7C49-4183-808A-1022E7C3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A07-1FD7-4E9B-9734-D8C72F4C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BFF99-5A59-4343-9CD2-9E6BCBCE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9D29C-309D-4A86-9DF9-F62CD5C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66B65-E9BA-452D-BE3E-A15302A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5ED25-F70E-4D30-B81B-795415E2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312CA-3900-4E2B-B578-A2C1F5AD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744B0-009F-49B9-BA83-872BC49D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837F7-E9AE-4776-9472-89765D50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9FB69-35C9-436E-A531-A5BAD164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2D025-5EFB-434A-8E03-991C9D75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6B447-EAC0-4E7C-983E-9E4AB822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78F6-B8BD-4AD5-A638-391F80F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690AF-B80E-4B5D-A6F7-8B8753BA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A3675-1D5F-4C31-A53B-66F8AB5E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63ABA-50ED-4CFB-B6AE-DD4E31D9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A5069-1551-43A7-894E-00C62D3B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BF74A-2C6A-40F0-8FB4-D16FD09D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D622E-FE8D-46FF-9FA6-B3B7D63A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84C9C-5243-4553-9ACD-AD280579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6B8C3-3715-470E-AC34-B5B342DB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7C7B7-C796-4F52-9F9A-1DB79AA0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B51D0-2518-45D9-98E4-502C5EB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68D7-8896-4BDA-9CE7-1958FA75986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9BD2-B205-45B9-A60B-11D31B9086A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D7AA-D403-45BA-A075-B9ED0246702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E609-ED64-4502-942E-A8D11B2B0F9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FCC5-56F9-443E-8787-F4D28685C26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B331-B02A-4D0C-8B7A-F3BF4000820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F79B-538A-42E4-868F-EC156D76BF4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8F65-3AB2-4233-9439-3BA3FBD0D1B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0BB7-2B9E-416E-9BC5-81F3938594A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6C6-0BA2-47E8-B834-67A8F95C727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DF25-A82F-4CB2-A2B9-E56BEFF356B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19415-9835-44F6-8DC7-C5FD09C4FB6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1DD9-53DF-4C2E-BE41-1E8487B318A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6456-C853-4A8B-B5A3-C4AA95479EC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EDAB-635E-46B0-ACDF-3C27A1D6A95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2105-C0DF-48B5-BACB-713284AB9D9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4720"/>
              <a:ext cx="69840" cy="6267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8560" y="3155760"/>
              <a:ext cx="449280" cy="23223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160" y="5446800"/>
              <a:ext cx="423720" cy="1420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840"/>
              <a:ext cx="571320" cy="33274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840" y="228600"/>
              <a:ext cx="72720" cy="29271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3640" y="2944800"/>
              <a:ext cx="55440" cy="49356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960" y="5478480"/>
              <a:ext cx="131760" cy="10252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200" y="1398600"/>
              <a:ext cx="1442880" cy="404820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1160" y="6529320"/>
              <a:ext cx="112680" cy="33804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960" y="5359320"/>
              <a:ext cx="25200" cy="22212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5280"/>
              <a:ext cx="164880" cy="622080"/>
            </a:xfrm>
            <a:prstGeom prst="pie">
              <a:avLst/>
            </a:pr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0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11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68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2520"/>
              <a:ext cx="110880" cy="2808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6880"/>
              <a:ext cx="68040" cy="512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6400"/>
              <a:ext cx="1168560" cy="27162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960"/>
              <a:ext cx="99720" cy="25236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880"/>
              <a:ext cx="114120" cy="67464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240"/>
              <a:ext cx="31680" cy="22860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3400"/>
              <a:ext cx="174600" cy="529920"/>
            </a:xfrm>
            <a:prstGeom prst="pie">
              <a:avLst/>
            </a:pr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2" marL="102852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3" marL="144000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4" marL="1851480" indent="-205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3C9D-F30B-4FD8-BC28-D9D0B4C9F7A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normativ.kontur.ru/document?moduleId=1&amp;documentId=227333#l0" TargetMode="External"/><Relationship Id="rId2" Type="http://schemas.openxmlformats.org/officeDocument/2006/relationships/hyperlink" Target="https://normativ.kontur.ru/document?moduleId=1&amp;documentId=304735#l0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 txBox="1"/>
          <p:nvPr/>
        </p:nvSpPr>
        <p:spPr>
          <a:xfrm>
            <a:off x="2785680" y="5428800"/>
            <a:ext cx="60721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Прямоугольник 2"/>
          <p:cNvSpPr/>
          <p:nvPr/>
        </p:nvSpPr>
        <p:spPr>
          <a:xfrm>
            <a:off x="1285920" y="2143080"/>
            <a:ext cx="713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ебно-методический семинар «Разработка учебных планов ПОО по актуализированным ФГО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Picture 2" descr=""/>
          <p:cNvPicPr/>
          <p:nvPr/>
        </p:nvPicPr>
        <p:blipFill>
          <a:blip r:embed="rId1"/>
          <a:stretch/>
        </p:blipFill>
        <p:spPr>
          <a:xfrm>
            <a:off x="-2071800" y="2142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1" name="Picture 2" descr=""/>
          <p:cNvPicPr/>
          <p:nvPr/>
        </p:nvPicPr>
        <p:blipFill>
          <a:blip r:embed="rId1"/>
          <a:stretch/>
        </p:blipFill>
        <p:spPr>
          <a:xfrm>
            <a:off x="-207180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2" descr=""/>
          <p:cNvPicPr/>
          <p:nvPr/>
        </p:nvPicPr>
        <p:blipFill>
          <a:blip r:embed="rId1"/>
          <a:stretch/>
        </p:blipFill>
        <p:spPr>
          <a:xfrm>
            <a:off x="-2143080" y="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Picture 2" descr=""/>
          <p:cNvPicPr/>
          <p:nvPr/>
        </p:nvPicPr>
        <p:blipFill>
          <a:blip r:embed="rId1"/>
          <a:stretch/>
        </p:blipFill>
        <p:spPr>
          <a:xfrm>
            <a:off x="-2071800" y="0"/>
            <a:ext cx="12954240" cy="7529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4" name="Picture 2" descr=""/>
          <p:cNvPicPr/>
          <p:nvPr/>
        </p:nvPicPr>
        <p:blipFill>
          <a:blip r:embed="rId1"/>
          <a:stretch/>
        </p:blipFill>
        <p:spPr>
          <a:xfrm>
            <a:off x="-192888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Picture 2" descr=""/>
          <p:cNvPicPr/>
          <p:nvPr/>
        </p:nvPicPr>
        <p:blipFill>
          <a:blip r:embed="rId1"/>
          <a:stretch/>
        </p:blipFill>
        <p:spPr>
          <a:xfrm>
            <a:off x="-1785960" y="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6" name="Picture 2" descr=""/>
          <p:cNvPicPr/>
          <p:nvPr/>
        </p:nvPicPr>
        <p:blipFill>
          <a:blip r:embed="rId1"/>
          <a:stretch/>
        </p:blipFill>
        <p:spPr>
          <a:xfrm>
            <a:off x="-207180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2" descr=""/>
          <p:cNvPicPr/>
          <p:nvPr/>
        </p:nvPicPr>
        <p:blipFill>
          <a:blip r:embed="rId1"/>
          <a:stretch/>
        </p:blipFill>
        <p:spPr>
          <a:xfrm>
            <a:off x="-192888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Picture 2" descr=""/>
          <p:cNvPicPr/>
          <p:nvPr/>
        </p:nvPicPr>
        <p:blipFill>
          <a:blip r:embed="rId1"/>
          <a:stretch/>
        </p:blipFill>
        <p:spPr>
          <a:xfrm>
            <a:off x="-2286000" y="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Picture 2" descr=""/>
          <p:cNvPicPr/>
          <p:nvPr/>
        </p:nvPicPr>
        <p:blipFill>
          <a:blip r:embed="rId1"/>
          <a:stretch/>
        </p:blipFill>
        <p:spPr>
          <a:xfrm>
            <a:off x="-207180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Прямоугольник 2"/>
          <p:cNvSpPr/>
          <p:nvPr/>
        </p:nvSpPr>
        <p:spPr>
          <a:xfrm>
            <a:off x="1285920" y="1643040"/>
            <a:ext cx="713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ное сопровождение формирования учебных планов по актуализированным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Picture 2" descr=""/>
          <p:cNvPicPr/>
          <p:nvPr/>
        </p:nvPicPr>
        <p:blipFill>
          <a:blip r:embed="rId1"/>
          <a:stretch/>
        </p:blipFill>
        <p:spPr>
          <a:xfrm>
            <a:off x="-221472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1" name="Picture 2" descr=""/>
          <p:cNvPicPr/>
          <p:nvPr/>
        </p:nvPicPr>
        <p:blipFill>
          <a:blip r:embed="rId1"/>
          <a:stretch/>
        </p:blipFill>
        <p:spPr>
          <a:xfrm>
            <a:off x="-2000160" y="21420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Picture 3" descr=""/>
          <p:cNvPicPr/>
          <p:nvPr/>
        </p:nvPicPr>
        <p:blipFill>
          <a:blip r:embed="rId1"/>
          <a:stretch/>
        </p:blipFill>
        <p:spPr>
          <a:xfrm>
            <a:off x="-1905120" y="-22860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2" descr=""/>
          <p:cNvPicPr/>
          <p:nvPr/>
        </p:nvPicPr>
        <p:blipFill>
          <a:blip r:embed="rId1"/>
          <a:stretch/>
        </p:blipFill>
        <p:spPr>
          <a:xfrm>
            <a:off x="-1928880" y="0"/>
            <a:ext cx="1295424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5" name="Объект 2"/>
          <p:cNvSpPr/>
          <p:nvPr/>
        </p:nvSpPr>
        <p:spPr>
          <a:xfrm>
            <a:off x="6559560" y="2359080"/>
            <a:ext cx="14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Скругленный прямоугольник 19"/>
          <p:cNvSpPr/>
          <p:nvPr/>
        </p:nvSpPr>
        <p:spPr>
          <a:xfrm>
            <a:off x="5294160" y="11808000"/>
            <a:ext cx="1148040" cy="493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9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bdbd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Скругленный прямоугольник 18"/>
          <p:cNvSpPr/>
          <p:nvPr/>
        </p:nvSpPr>
        <p:spPr>
          <a:xfrm>
            <a:off x="1214280" y="2928960"/>
            <a:ext cx="7286760" cy="20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d7ee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6c5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ДАЧИ ПРИ РАЗРАБОТЫКЕ УЧЕБНЫХ ПЛАН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Прямоугольник 3"/>
          <p:cNvSpPr/>
          <p:nvPr/>
        </p:nvSpPr>
        <p:spPr>
          <a:xfrm>
            <a:off x="714240" y="785880"/>
            <a:ext cx="7358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чебный план образовательной программы среднего профессиона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окумент, который определяет перечень, трудоемкость, последовательность и распределение по периодам обучения учебных предметов, курсов, дисциплин (модулей), практики, иных видов учебной деятельности обучающихся и формы их промежуточной аттестации (пункт 22 статьи 2 Федерального закона от 29 декабря 2012 г. №273-ФЗ «Об образовании в Российской Федерации»; п.12 приказа Минобрнауки России от 14.06.2013 № 464 (ред. от 15.12.2014) «Об утверждении Порядка организации и осуществления образовательной деятельности по образовательным программам среднего профессионального образования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571320" y="785520"/>
            <a:ext cx="81435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бный план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мостоятельно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рабатывается и утверждается образовательной организацией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 algn="just">
              <a:lnSpc>
                <a:spcPct val="100000"/>
              </a:lnSpc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разработке учебного плана определяются качественные и количественные характеристики образовательной программы по специальности /профессии среднего профессионального образования, в том числе: объёмные параметры учебной нагрузки в целом, по годам обучения и по семестрам; перечень учебных дисциплин, профессиональных модулей и их составных элементов (междисциплинарных курсов, учебной и производственной практик); последовательность изучения учебных дисциплин и профессиональных модулей; виды учебных занятий; распределение различных форм промежуточной аттестации по годам обучения и по семестрам; объёмные показатели подготовки и проведения государственной (итоговой) аттестации, условия проведения демонстрационного экзамена в структуре процедур государственной итоговой аттестации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 txBox="1"/>
          <p:nvPr/>
        </p:nvSpPr>
        <p:spPr>
          <a:xfrm>
            <a:off x="785880" y="1000080"/>
            <a:ext cx="7786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0" name="Прямоугольник 2"/>
          <p:cNvSpPr/>
          <p:nvPr/>
        </p:nvSpPr>
        <p:spPr>
          <a:xfrm>
            <a:off x="1071720" y="1071720"/>
            <a:ext cx="73468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 декабря 2012 г. №273-ФЗ «Об образовании в Российской Федерации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28 мая 2014 г. № 594 «Об утверждении Порядка разработки примерных основных образовательных программ, проведения их экспертизы и ведения реестра примерных основных образовательных программ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4 июня 2013 г. № 464 «Об утверждении Порядка организации и осуществления образовательной деятельности по образовательным программам среднего профессионального образования» (зарегистрирован Министерством юстиции Российской Федерации 30 июля 2013 г., регистрационный № 29200) (далее – Порядок организации образовательной дея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6 августа 2013 г. № 968 «Об утверждении Порядка проведения государственной итоговой аттестации по образовательным программам среднего профессионального образования» (зарегистрирован Министерством юстиции Российской Федерации 1 ноября 2013 г., регистрационный № 30306)(в ред. Приказов Минобрнауки РФ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1"/>
              </a:rPr>
              <a:t>от 31.01.2014 N 7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Times New Roman"/>
                <a:ea typeface="Times New Roman"/>
                <a:hlinkClick r:id="rId2"/>
              </a:rPr>
              <a:t>от 17.11.2017 N 113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785880" y="499680"/>
            <a:ext cx="7786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Прямоугольник 2"/>
          <p:cNvSpPr/>
          <p:nvPr/>
        </p:nvSpPr>
        <p:spPr>
          <a:xfrm>
            <a:off x="571680" y="285840"/>
            <a:ext cx="835812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обрнауки России от 18 апреля 2013 г. № 291 «Об утверждении Положения о практике обучающихся, осваивающих основные профессиональные образовательные программы среднего профессионального образования» (зарегистрирован Министерством юстиции Российской Федерации 14 июня 2013 г., регистрационный № 2878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 Минобрнауки России от 01.03.2017 года №06-174 «О направлении методических рекомендаций по реализации федеральных государственных образовательных стандартов СПО по 50 новым, наиболее востребованным и перспективным профессиям и специальностям для использования в работе организаций, осуществляющих образовательную деятельность по реализации образовательных программ, разработанных в соответствии с ФГОС СПО по наиболее востребованным и перспективным профессиям и специальностям СП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ОЧНЕНИИ «Рекомендаций по организации получения среднего общего образования в пределах освоения образовательных программ среднего профессионального образования на базе основного общего образования с уч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й федеральных государственных образовательных стандартов и получаемой профессии или специальности среднего профессионального образования (Протокол № 3 от 25 мая 2017 г., ФИР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введению учебного предмета «Астрономия» (Письмо Минобрнауки России от 20.06.2017 г. N ТС-194/08 Об организации изучения учебного предмета «Астрономи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4" name="Picture 2" descr=""/>
          <p:cNvPicPr/>
          <p:nvPr/>
        </p:nvPicPr>
        <p:blipFill>
          <a:blip r:embed="rId1"/>
          <a:stretch/>
        </p:blipFill>
        <p:spPr>
          <a:xfrm>
            <a:off x="-1143000" y="-142920"/>
            <a:ext cx="12953880" cy="731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Прямоугольник 2"/>
          <p:cNvSpPr/>
          <p:nvPr/>
        </p:nvSpPr>
        <p:spPr>
          <a:xfrm>
            <a:off x="571680" y="150012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715240" cy="5786280"/>
          </a:xfrm>
          <a:prstGeom prst="rect">
            <a:avLst/>
          </a:prstGeom>
          <a:ln w="0">
            <a:noFill/>
          </a:ln>
        </p:spPr>
      </p:pic>
      <p:sp>
        <p:nvSpPr>
          <p:cNvPr id="1197" name="Прямоугольник 10"/>
          <p:cNvSpPr/>
          <p:nvPr/>
        </p:nvSpPr>
        <p:spPr>
          <a:xfrm>
            <a:off x="1143000" y="857160"/>
            <a:ext cx="6858000" cy="1428840"/>
          </a:xfrm>
          <a:prstGeom prst="rect">
            <a:avLst/>
          </a:prstGeom>
          <a:solidFill>
            <a:srgbClr val="5b9bd5"/>
          </a:solidFill>
          <a:ln cap="rnd" w="1584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Макет ПООП СПО (август 2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2" descr=""/>
          <p:cNvPicPr/>
          <p:nvPr/>
        </p:nvPicPr>
        <p:blipFill>
          <a:blip r:embed="rId1"/>
          <a:stretch/>
        </p:blipFill>
        <p:spPr>
          <a:xfrm>
            <a:off x="-1500120" y="0"/>
            <a:ext cx="12953880" cy="7315200"/>
          </a:xfrm>
          <a:prstGeom prst="rect">
            <a:avLst/>
          </a:prstGeom>
          <a:ln w="0">
            <a:noFill/>
          </a:ln>
        </p:spPr>
      </p:pic>
      <p:sp>
        <p:nvSpPr>
          <p:cNvPr id="1199" name="Прямоугольник 4"/>
          <p:cNvSpPr/>
          <p:nvPr/>
        </p:nvSpPr>
        <p:spPr>
          <a:xfrm>
            <a:off x="428760" y="285840"/>
            <a:ext cx="7143480" cy="857160"/>
          </a:xfrm>
          <a:prstGeom prst="rect">
            <a:avLst/>
          </a:prstGeom>
          <a:solidFill>
            <a:srgbClr val="5b9bd5"/>
          </a:solidFill>
          <a:ln cap="rnd" w="1584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ические рекомендации 2018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ндрей</cp:lastModifiedBy>
  <cp:lastPrinted>2016-11-01T11:17:20Z</cp:lastPrinted>
  <dcterms:modified xsi:type="dcterms:W3CDTF">2018-08-29T03:25:11Z</dcterms:modified>
  <cp:revision>906</cp:revision>
  <dc:subject/>
  <dc:title>Diapositiva 1</dc:title>
</cp:coreProperties>
</file>