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8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89.png" ContentType="image/png"/>
  <Override PartName="/ppt/media/image77.png" ContentType="image/png"/>
  <Override PartName="/ppt/media/image8.wmf" ContentType="image/x-wmf"/>
  <Override PartName="/ppt/media/image40.png" ContentType="image/png"/>
  <Override PartName="/ppt/media/image88.gif" ContentType="image/gif"/>
  <Override PartName="/ppt/media/image87.gif" ContentType="image/gif"/>
  <Override PartName="/ppt/media/image79.png" ContentType="image/png"/>
  <Override PartName="/ppt/media/image85.png" ContentType="image/png"/>
  <Override PartName="/ppt/media/image73.png" ContentType="image/png"/>
  <Override PartName="/ppt/media/image78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81.png" ContentType="image/png"/>
  <Override PartName="/ppt/media/image16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дом" initials="д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10-12-06T18:10:28.703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AA95-E22D-4A16-9BA9-179B24C79E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1CE5-001B-4A4F-985F-93D13EE79A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A8F-5028-4B31-BE8E-DA60090595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3ACF-4F21-4A4E-BDD8-54DC5FE5AB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1283-CD9A-4E9F-AC56-AC520B6DC9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37B-DD6B-4400-BA6C-26B85919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FE5-D5BE-4314-A2FA-94EB139A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4EB-AF14-45D3-8948-A51681C4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E08-FB34-48CC-8F59-57E9F9C3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45C2-F770-453A-97EE-0E52000E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AAD8-8103-4EFB-BD00-A2B3B898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3E36-452A-46B1-AD57-E3CECF73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9EB2-B9D4-404F-A201-46C79D89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478D-DD18-4475-B672-789D9F1B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5D8B-ED96-4D8D-B121-43FF9D1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C3CC-8809-4990-B5D6-DF596E63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9CD-FD36-42F7-85DC-2FA2721A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DF82-49A9-46FB-B6C1-8F9A161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6714-4491-42AF-9FF5-1BBCAA4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6168-B8AD-4FF2-BCA0-ACBE0D6E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00E7-07B7-4796-9C4A-A38B35D6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1CE1-2323-4F4D-82BE-E8A85E1D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638F-ACAB-4728-81D7-C327437C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2A55-5161-4C27-BD07-2692C836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D284-E7F0-48F0-9DCD-84393943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7269-5016-4FD0-BD58-A05CB050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BFD8-9F20-472B-A951-97046F1E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914-6C13-42B6-A477-F5452632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666E-783F-455F-86C8-A963BFEB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798D-8991-4A42-88EF-0130968E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6930-386D-4D17-8F8E-BB8B084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2C3D-52AA-4F67-8616-3A5676AF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B940-53B2-4CF4-B963-0CF2C802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A96D-14D8-463F-8A5D-E150CCA3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8142-CB66-4BB5-971E-2458B09D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F78-CE57-41AD-AC49-C39AA61C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117-8B21-4CA0-8EEF-97FFB320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33F-57D9-48E5-9183-8E85F4C6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98D-BC8A-4F80-95C6-DFB8CAFD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D3C-4311-4B51-A162-78A03F27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20F-9DE5-4009-AF51-E073262E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8916-84F4-49C2-ACC8-448F251D85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EE4D-7052-4B02-B91C-873AA4797C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781C-275E-4474-BB10-BFEDDEDBE6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39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image" Target="../media/image48.png"/><Relationship Id="rId25" Type="http://schemas.openxmlformats.org/officeDocument/2006/relationships/image" Target="../media/image49.png"/><Relationship Id="rId26" Type="http://schemas.openxmlformats.org/officeDocument/2006/relationships/image" Target="../media/image50.png"/><Relationship Id="rId27" Type="http://schemas.openxmlformats.org/officeDocument/2006/relationships/image" Target="../media/image51.png"/><Relationship Id="rId28" Type="http://schemas.openxmlformats.org/officeDocument/2006/relationships/image" Target="../media/image52.png"/><Relationship Id="rId29" Type="http://schemas.openxmlformats.org/officeDocument/2006/relationships/image" Target="../media/image53.png"/><Relationship Id="rId30" Type="http://schemas.openxmlformats.org/officeDocument/2006/relationships/image" Target="../media/image54.png"/><Relationship Id="rId31" Type="http://schemas.openxmlformats.org/officeDocument/2006/relationships/image" Target="../media/image55.png"/><Relationship Id="rId32" Type="http://schemas.openxmlformats.org/officeDocument/2006/relationships/image" Target="../media/image56.png"/><Relationship Id="rId33" Type="http://schemas.openxmlformats.org/officeDocument/2006/relationships/image" Target="../media/image57.png"/><Relationship Id="rId34" Type="http://schemas.openxmlformats.org/officeDocument/2006/relationships/image" Target="../media/image51.png"/><Relationship Id="rId35" Type="http://schemas.openxmlformats.org/officeDocument/2006/relationships/image" Target="../media/image58.png"/><Relationship Id="rId36" Type="http://schemas.openxmlformats.org/officeDocument/2006/relationships/image" Target="../media/image59.png"/><Relationship Id="rId37" Type="http://schemas.openxmlformats.org/officeDocument/2006/relationships/image" Target="../media/image39.png"/><Relationship Id="rId38" Type="http://schemas.openxmlformats.org/officeDocument/2006/relationships/image" Target="../media/image60.png"/><Relationship Id="rId39" Type="http://schemas.openxmlformats.org/officeDocument/2006/relationships/image" Target="../media/image61.png"/><Relationship Id="rId40" Type="http://schemas.openxmlformats.org/officeDocument/2006/relationships/image" Target="../media/image62.png"/><Relationship Id="rId41" Type="http://schemas.openxmlformats.org/officeDocument/2006/relationships/image" Target="../media/image63.png"/><Relationship Id="rId42" Type="http://schemas.openxmlformats.org/officeDocument/2006/relationships/image" Target="../media/image64.png"/><Relationship Id="rId43" Type="http://schemas.openxmlformats.org/officeDocument/2006/relationships/image" Target="../media/image65.png"/><Relationship Id="rId44" Type="http://schemas.openxmlformats.org/officeDocument/2006/relationships/image" Target="../media/image66.png"/><Relationship Id="rId45" Type="http://schemas.openxmlformats.org/officeDocument/2006/relationships/image" Target="../media/image39.png"/><Relationship Id="rId46" Type="http://schemas.openxmlformats.org/officeDocument/2006/relationships/image" Target="../media/image67.png"/><Relationship Id="rId47" Type="http://schemas.openxmlformats.org/officeDocument/2006/relationships/image" Target="../media/image68.png"/><Relationship Id="rId48" Type="http://schemas.openxmlformats.org/officeDocument/2006/relationships/image" Target="../media/image69.png"/><Relationship Id="rId49" Type="http://schemas.openxmlformats.org/officeDocument/2006/relationships/slideLayout" Target="../slideLayouts/slideLayout13.xml"/><Relationship Id="rId5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39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78.png"/><Relationship Id="rId13" Type="http://schemas.openxmlformats.org/officeDocument/2006/relationships/image" Target="../media/image79.png"/><Relationship Id="rId14" Type="http://schemas.openxmlformats.org/officeDocument/2006/relationships/image" Target="../media/image80.png"/><Relationship Id="rId15" Type="http://schemas.openxmlformats.org/officeDocument/2006/relationships/image" Target="../media/image39.png"/><Relationship Id="rId16" Type="http://schemas.openxmlformats.org/officeDocument/2006/relationships/image" Target="../media/image81.png"/><Relationship Id="rId17" Type="http://schemas.openxmlformats.org/officeDocument/2006/relationships/image" Target="../media/image8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21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0E4C-6445-46BB-A8CF-BD50B75E2E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141" name="Picture 4" descr="0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" descr=""/>
          <p:cNvPicPr/>
          <p:nvPr/>
        </p:nvPicPr>
        <p:blipFill>
          <a:blip r:embed="rId2"/>
          <a:stretch/>
        </p:blipFill>
        <p:spPr>
          <a:xfrm>
            <a:off x="523800" y="3328920"/>
            <a:ext cx="8156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042920" y="47628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640"/>
                <a:gridCol w="973080"/>
                <a:gridCol w="971640"/>
                <a:gridCol w="97308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25"/>
              <p:cNvSpPr txBox="1"/>
              <p:nvPr/>
            </p:nvSpPr>
            <p:spPr>
              <a:xfrm>
                <a:off x="1419120" y="78588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7"/>
              <p:cNvSpPr txBox="1"/>
              <p:nvPr/>
            </p:nvSpPr>
            <p:spPr>
              <a:xfrm>
                <a:off x="2400480" y="757080"/>
                <a:ext cx="380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9"/>
              <p:cNvSpPr txBox="1"/>
              <p:nvPr/>
            </p:nvSpPr>
            <p:spPr>
              <a:xfrm>
                <a:off x="3348000" y="785880"/>
                <a:ext cx="378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1"/>
              <p:cNvSpPr txBox="1"/>
              <p:nvPr/>
            </p:nvSpPr>
            <p:spPr>
              <a:xfrm>
                <a:off x="4356000" y="757080"/>
                <a:ext cx="3589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Rectangle 32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33"/>
              <p:cNvSpPr txBox="1"/>
              <p:nvPr/>
            </p:nvSpPr>
            <p:spPr>
              <a:xfrm>
                <a:off x="6227640" y="78588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9" name="Rectangle 34" descr=""/>
          <p:cNvPicPr/>
          <p:nvPr/>
        </p:nvPicPr>
        <p:blipFill>
          <a:blip r:embed="rId1"/>
          <a:stretch/>
        </p:blipFill>
        <p:spPr>
          <a:xfrm>
            <a:off x="603360" y="2743200"/>
            <a:ext cx="8296200" cy="79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0" name="Object 35"/>
              <p:cNvSpPr txBox="1"/>
              <p:nvPr/>
            </p:nvSpPr>
            <p:spPr>
              <a:xfrm>
                <a:off x="8126280" y="78588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02" name="Rectangle 37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0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04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4825440" y="4221000"/>
            <a:ext cx="4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ulim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42560" y="1773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Тема урока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: «Деление дробе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12.12.2022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042560" y="1773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разделить дробь на дроб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выполняется деление смешанных чисе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1304"/>
                </a:solidFill>
                <a:latin typeface="Times New Roman"/>
              </a:rPr>
              <a:t>Вопросы: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23572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Чтобы разделить одну дробь на другую, надо делимое умножить на число, обратное делителю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050920" y="2523960"/>
                <a:ext cx="56880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4" name="TextBox 1" descr=""/>
          <p:cNvPicPr/>
          <p:nvPr/>
        </p:nvPicPr>
        <p:blipFill>
          <a:blip r:embed="rId1"/>
          <a:stretch/>
        </p:blipFill>
        <p:spPr>
          <a:xfrm>
            <a:off x="1468440" y="4432320"/>
            <a:ext cx="3541680" cy="888840"/>
          </a:xfrm>
          <a:prstGeom prst="rect">
            <a:avLst/>
          </a:prstGeom>
          <a:ln w="0">
            <a:noFill/>
          </a:ln>
        </p:spPr>
      </p:pic>
      <p:pic>
        <p:nvPicPr>
          <p:cNvPr id="315" name="TextBox 3" descr=""/>
          <p:cNvPicPr/>
          <p:nvPr/>
        </p:nvPicPr>
        <p:blipFill>
          <a:blip r:embed="rId2"/>
          <a:stretch/>
        </p:blipFill>
        <p:spPr>
          <a:xfrm>
            <a:off x="4853160" y="4432320"/>
            <a:ext cx="1425240" cy="888840"/>
          </a:xfrm>
          <a:prstGeom prst="rect">
            <a:avLst/>
          </a:prstGeom>
          <a:ln w="0">
            <a:noFill/>
          </a:ln>
        </p:spPr>
      </p:pic>
      <p:pic>
        <p:nvPicPr>
          <p:cNvPr id="316" name="TextBox 4" descr=""/>
          <p:cNvPicPr/>
          <p:nvPr/>
        </p:nvPicPr>
        <p:blipFill>
          <a:blip r:embed="rId3"/>
          <a:stretch/>
        </p:blipFill>
        <p:spPr>
          <a:xfrm>
            <a:off x="6291360" y="4432320"/>
            <a:ext cx="1073160" cy="888840"/>
          </a:xfrm>
          <a:prstGeom prst="rect">
            <a:avLst/>
          </a:prstGeom>
          <a:ln w="0">
            <a:noFill/>
          </a:ln>
        </p:spPr>
      </p:pic>
      <p:pic>
        <p:nvPicPr>
          <p:cNvPr id="317" name="TextBox 5" descr=""/>
          <p:cNvPicPr/>
          <p:nvPr/>
        </p:nvPicPr>
        <p:blipFill>
          <a:blip r:embed="rId4"/>
          <a:stretch/>
        </p:blipFill>
        <p:spPr>
          <a:xfrm>
            <a:off x="7351560" y="4432320"/>
            <a:ext cx="517680" cy="8888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7"/>
          <p:cNvSpPr/>
          <p:nvPr/>
        </p:nvSpPr>
        <p:spPr>
          <a:xfrm>
            <a:off x="6355800" y="436572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606360" y="487512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6231960" y="4103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21" name="TextBox 10"/>
          <p:cNvSpPr/>
          <p:nvPr/>
        </p:nvSpPr>
        <p:spPr>
          <a:xfrm>
            <a:off x="6623280" y="5199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042920" y="47628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640"/>
                <a:gridCol w="973080"/>
                <a:gridCol w="971640"/>
                <a:gridCol w="97308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5"/>
              <p:cNvSpPr txBox="1"/>
              <p:nvPr/>
            </p:nvSpPr>
            <p:spPr>
              <a:xfrm>
                <a:off x="1419120" y="78588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27"/>
              <p:cNvSpPr txBox="1"/>
              <p:nvPr/>
            </p:nvSpPr>
            <p:spPr>
              <a:xfrm>
                <a:off x="2400480" y="757080"/>
                <a:ext cx="380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9"/>
              <p:cNvSpPr txBox="1"/>
              <p:nvPr/>
            </p:nvSpPr>
            <p:spPr>
              <a:xfrm>
                <a:off x="3348000" y="785880"/>
                <a:ext cx="378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1"/>
              <p:cNvSpPr txBox="1"/>
              <p:nvPr/>
            </p:nvSpPr>
            <p:spPr>
              <a:xfrm>
                <a:off x="4356000" y="757080"/>
                <a:ext cx="3589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Rectangle 32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3"/>
              <p:cNvSpPr txBox="1"/>
              <p:nvPr/>
            </p:nvSpPr>
            <p:spPr>
              <a:xfrm>
                <a:off x="6227640" y="78588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5" name="Rectangle 34" descr=""/>
          <p:cNvPicPr/>
          <p:nvPr/>
        </p:nvPicPr>
        <p:blipFill>
          <a:blip r:embed="rId1"/>
          <a:stretch/>
        </p:blipFill>
        <p:spPr>
          <a:xfrm>
            <a:off x="603360" y="2743200"/>
            <a:ext cx="8296200" cy="79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6" name="Object 35"/>
              <p:cNvSpPr txBox="1"/>
              <p:nvPr/>
            </p:nvSpPr>
            <p:spPr>
              <a:xfrm>
                <a:off x="8126280" y="78588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3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4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0764 C 0.03368 0.01111 0.03993 0.01783 0.04826 0.0206 C 0.05677 0.03195 0.05364 0.02523 0.05694 0.03797 C 0.05798 0.04236 0.06024 0.05116 0.06024 0.05116 C 0.06302 0.08148 0.07066 0.11829 0.05694 0.14375 C 0.05573 0.14861 0.05521 0.15371 0.05382 0.15834 C 0.05191 0.16482 0.04826 0.17084 0.04618 0.17709 C 0.04357 0.18473 0.04201 0.1919 0.03854 0.19885 C 0.03663 0.20695 0.03489 0.21273 0.02986 0.21783 C 0.02743 0.22431 0.02621 0.23056 0.02326 0.23658 C 0.02187 0.24422 0.01944 0.25255 0.01458 0.25695 C 0.01128 0.26412 0.00625 0.27986 -0.00052 0.28287 C -0.00156 0.28148 -0.00226 0.27894 -0.00382 0.27871 C -0.0092 0.27755 -0.02431 0.28565 -0.03108 0.28727 C -0.03768 0.2919 -0.04549 0.29329 -0.05174 0.29885 C -0.05886 0.3051 -0.05556 0.30301 -0.06042 0.31042 C -0.07396 0.33079 -0.08229 0.35023 -0.08646 0.37709 C -0.08872 0.41459 -0.09167 0.44838 -0.09844 0.48449 C -0.10208 0.50417 -0.10434 0.51875 -0.11372 0.53519 C -0.11563 0.54306 -0.11337 0.53635 -0.11806 0.54375 C -0.12083 0.54815 -0.12257 0.55417 -0.12552 0.55834 C -0.13333 0.56898 -0.15573 0.575 -0.16684 0.57709 C -0.19149 0.58635 -0.15139 0.58287 -0.22014 0.57871 C -0.22518 0.57593 -0.2375 0.56991 -0.2408 0.56551 C -0.24184 0.56412 -0.24288 0.56227 -0.2441 0.56111 C -0.24896 0.55672 -0.25712 0.5544 -0.2625 0.55255 C -0.27118 0.54468 -0.27309 0.53403 -0.27986 0.525 C -0.28594 0.5169 -0.29097 0.5081 -0.29844 0.50185 C -0.30156 0.49514 -0.30469 0.48959 -0.31042 0.48727 C -0.31806 0.47709 -0.32552 0.46968 -0.3342 0.46111 C -0.33698 0.45834 -0.3408 0.4588 -0.3441 0.45834 C -0.35243 0.45695 -0.36077 0.45625 -0.3691 0.45533 C -0.37118 0.45625 -0.37396 0.45741 -0.37552 0.45973 C -0.37726 0.46227 -0.37761 0.46667 -0.37986 0.46852 C -0.3809 0.46945 -0.38316 0.4713 -0.38316 0.4713 E">
                                      <p:cBhvr>
                                        <p:cTn id="19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14886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ри делении смешанных чисел, нужно сначала эти числа представить в виде ___________________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 потом применить правило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_____________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3146400" y="1700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авильных</a:t>
            </a:r>
            <a:r>
              <a:rPr b="0" i="1" lang="ru-RU" sz="4000" spc="-1" strike="noStrike">
                <a:solidFill>
                  <a:srgbClr val="ff0000"/>
                </a:solidFill>
                <a:latin typeface="Gulim"/>
              </a:rPr>
              <a:t>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дробей</a:t>
            </a:r>
            <a:endParaRPr b="0" lang="en-US" sz="40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150720" y="287964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деления дробей</a:t>
            </a:r>
            <a:endParaRPr b="0" lang="en-US" sz="40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345" name="TextBox 3" descr=""/>
          <p:cNvPicPr/>
          <p:nvPr/>
        </p:nvPicPr>
        <p:blipFill>
          <a:blip r:embed="rId1"/>
          <a:stretch/>
        </p:blipFill>
        <p:spPr>
          <a:xfrm>
            <a:off x="1036800" y="4395960"/>
            <a:ext cx="3943080" cy="888840"/>
          </a:xfrm>
          <a:prstGeom prst="rect">
            <a:avLst/>
          </a:prstGeom>
          <a:ln w="0">
            <a:noFill/>
          </a:ln>
        </p:spPr>
      </p:pic>
      <p:pic>
        <p:nvPicPr>
          <p:cNvPr id="346" name="TextBox 4" descr=""/>
          <p:cNvPicPr/>
          <p:nvPr/>
        </p:nvPicPr>
        <p:blipFill>
          <a:blip r:embed="rId2"/>
          <a:stretch/>
        </p:blipFill>
        <p:spPr>
          <a:xfrm>
            <a:off x="4883040" y="4400640"/>
            <a:ext cx="1560600" cy="896760"/>
          </a:xfrm>
          <a:prstGeom prst="rect">
            <a:avLst/>
          </a:prstGeom>
          <a:ln w="0">
            <a:noFill/>
          </a:ln>
        </p:spPr>
      </p:pic>
      <p:pic>
        <p:nvPicPr>
          <p:cNvPr id="347" name="TextBox 5" descr=""/>
          <p:cNvPicPr/>
          <p:nvPr/>
        </p:nvPicPr>
        <p:blipFill>
          <a:blip r:embed="rId3"/>
          <a:stretch/>
        </p:blipFill>
        <p:spPr>
          <a:xfrm>
            <a:off x="6364440" y="4400640"/>
            <a:ext cx="1523880" cy="896760"/>
          </a:xfrm>
          <a:prstGeom prst="rect">
            <a:avLst/>
          </a:prstGeom>
          <a:ln w="0">
            <a:noFill/>
          </a:ln>
        </p:spPr>
      </p:pic>
      <p:pic>
        <p:nvPicPr>
          <p:cNvPr id="348" name="TextBox 7" descr=""/>
          <p:cNvPicPr/>
          <p:nvPr/>
        </p:nvPicPr>
        <p:blipFill>
          <a:blip r:embed="rId4"/>
          <a:stretch/>
        </p:blipFill>
        <p:spPr>
          <a:xfrm>
            <a:off x="3693960" y="553572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349" name="TextBox 8" descr=""/>
          <p:cNvPicPr/>
          <p:nvPr/>
        </p:nvPicPr>
        <p:blipFill>
          <a:blip r:embed="rId5"/>
          <a:stretch/>
        </p:blipFill>
        <p:spPr>
          <a:xfrm>
            <a:off x="5346720" y="5546880"/>
            <a:ext cx="785880" cy="89028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9" descr=""/>
          <p:cNvPicPr/>
          <p:nvPr/>
        </p:nvPicPr>
        <p:blipFill>
          <a:blip r:embed="rId6"/>
          <a:stretch/>
        </p:blipFill>
        <p:spPr>
          <a:xfrm>
            <a:off x="6053040" y="5541840"/>
            <a:ext cx="774720" cy="8892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0"/>
          <p:cNvSpPr/>
          <p:nvPr/>
        </p:nvSpPr>
        <p:spPr>
          <a:xfrm>
            <a:off x="4123800" y="595296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4509360" y="548496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4500360" y="5985000"/>
            <a:ext cx="3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6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4210920" y="548496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5" name="TextBox 14"/>
          <p:cNvSpPr/>
          <p:nvPr/>
        </p:nvSpPr>
        <p:spPr>
          <a:xfrm>
            <a:off x="4034880" y="5222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3879360" y="6162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4615920" y="5216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4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8" name="TextBox 17"/>
          <p:cNvSpPr/>
          <p:nvPr/>
        </p:nvSpPr>
        <p:spPr>
          <a:xfrm>
            <a:off x="4778640" y="6180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3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 классе: №2.409(у), №2.411, № 2.419 (а,б,в,е,ж,з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900000" y="2060640"/>
                <a:ext cx="7272360" cy="41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елит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ельзя</m:t>
                        </m:r>
                        <m:r>
                          <m:t xml:space="preserve">!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1258920" y="1557360"/>
                <a:ext cx="6624720" cy="436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учени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класса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539640" y="1700280"/>
                <a:ext cx="6985080" cy="43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множител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ножитель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астно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468360" y="3213000"/>
                <a:ext cx="7561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324000" y="2421000"/>
                <a:ext cx="8820000" cy="34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7"/>
              <p:cNvSpPr txBox="1"/>
              <p:nvPr/>
            </p:nvSpPr>
            <p:spPr>
              <a:xfrm>
                <a:off x="1042920" y="1628640"/>
                <a:ext cx="6372360" cy="461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лагаемое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лагаемое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зность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66" name="Picture 8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>
            <a:off x="755640" y="26028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ulim"/>
              </a:rPr>
              <a:t>Правильно – руки вверх,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ulim"/>
              </a:rPr>
              <a:t>Неправильно – руки вперёд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равильно – присесть,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Неправильно – хлопо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0" y="2349360"/>
                <a:ext cx="917568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14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324000" y="2565360"/>
                <a:ext cx="848664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0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0" y="2565360"/>
                <a:ext cx="874080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7"/>
              <p:cNvSpPr txBox="1"/>
              <p:nvPr/>
            </p:nvSpPr>
            <p:spPr>
              <a:xfrm>
                <a:off x="324000" y="2492280"/>
                <a:ext cx="7111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8"/>
              <p:cNvSpPr txBox="1"/>
              <p:nvPr/>
            </p:nvSpPr>
            <p:spPr>
              <a:xfrm>
                <a:off x="0" y="2349360"/>
                <a:ext cx="827100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250920" y="2349360"/>
                <a:ext cx="732780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0"/>
              <p:cNvSpPr txBox="1"/>
              <p:nvPr/>
            </p:nvSpPr>
            <p:spPr>
              <a:xfrm>
                <a:off x="0" y="2349360"/>
                <a:ext cx="900108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6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80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6560" y="456840"/>
            <a:ext cx="79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В каждом столбце таблицы записаны варианты ответа на пример в верхней строчке. Обведите кружочком правильный результат деления в каждом столбце. Если ни один ответ не подходит, впишите в последнюю строчку правильный ответ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16000" y="2060640"/>
          <a:ext cx="6851520" cy="3824280"/>
        </p:xfrm>
        <a:graphic>
          <a:graphicData uri="http://schemas.openxmlformats.org/drawingml/2006/table">
            <a:tbl>
              <a:tblPr/>
              <a:tblGrid>
                <a:gridCol w="1141560"/>
                <a:gridCol w="1144440"/>
                <a:gridCol w="1143000"/>
                <a:gridCol w="1136520"/>
                <a:gridCol w="1144800"/>
                <a:gridCol w="11412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Object 50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55"/>
              <p:cNvSpPr txBox="1"/>
              <p:nvPr/>
            </p:nvSpPr>
            <p:spPr>
              <a:xfrm>
                <a:off x="2403360" y="2133720"/>
                <a:ext cx="809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59"/>
              <p:cNvSpPr txBox="1"/>
              <p:nvPr/>
            </p:nvSpPr>
            <p:spPr>
              <a:xfrm>
                <a:off x="3492360" y="2133720"/>
                <a:ext cx="7923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60"/>
              <p:cNvSpPr txBox="1"/>
              <p:nvPr/>
            </p:nvSpPr>
            <p:spPr>
              <a:xfrm>
                <a:off x="4643280" y="2060640"/>
                <a:ext cx="7192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62"/>
              <p:cNvSpPr txBox="1"/>
              <p:nvPr/>
            </p:nvSpPr>
            <p:spPr>
              <a:xfrm>
                <a:off x="5867280" y="2133720"/>
                <a:ext cx="792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63"/>
              <p:cNvSpPr txBox="1"/>
              <p:nvPr/>
            </p:nvSpPr>
            <p:spPr>
              <a:xfrm>
                <a:off x="6948360" y="2133720"/>
                <a:ext cx="792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67"/>
              <p:cNvSpPr txBox="1"/>
              <p:nvPr/>
            </p:nvSpPr>
            <p:spPr>
              <a:xfrm>
                <a:off x="2556000" y="2852640"/>
                <a:ext cx="460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68"/>
              <p:cNvSpPr txBox="1"/>
              <p:nvPr/>
            </p:nvSpPr>
            <p:spPr>
              <a:xfrm>
                <a:off x="2556000" y="4365720"/>
                <a:ext cx="371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3"/>
              <p:cNvSpPr txBox="1"/>
              <p:nvPr/>
            </p:nvSpPr>
            <p:spPr>
              <a:xfrm>
                <a:off x="3780000" y="2852640"/>
                <a:ext cx="34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74"/>
              <p:cNvSpPr txBox="1"/>
              <p:nvPr/>
            </p:nvSpPr>
            <p:spPr>
              <a:xfrm>
                <a:off x="4788000" y="2852640"/>
                <a:ext cx="48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75"/>
              <p:cNvSpPr txBox="1"/>
              <p:nvPr/>
            </p:nvSpPr>
            <p:spPr>
              <a:xfrm>
                <a:off x="6084720" y="2924280"/>
                <a:ext cx="36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76"/>
              <p:cNvSpPr txBox="1"/>
              <p:nvPr/>
            </p:nvSpPr>
            <p:spPr>
              <a:xfrm>
                <a:off x="7093080" y="2781360"/>
                <a:ext cx="419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7"/>
              <p:cNvSpPr txBox="1"/>
              <p:nvPr/>
            </p:nvSpPr>
            <p:spPr>
              <a:xfrm>
                <a:off x="3780000" y="4437000"/>
                <a:ext cx="37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8"/>
              <p:cNvSpPr txBox="1"/>
              <p:nvPr/>
            </p:nvSpPr>
            <p:spPr>
              <a:xfrm>
                <a:off x="2627280" y="3645000"/>
                <a:ext cx="355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9"/>
              <p:cNvSpPr txBox="1"/>
              <p:nvPr/>
            </p:nvSpPr>
            <p:spPr>
              <a:xfrm>
                <a:off x="3851280" y="3716280"/>
                <a:ext cx="270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80"/>
              <p:cNvSpPr txBox="1"/>
              <p:nvPr/>
            </p:nvSpPr>
            <p:spPr>
              <a:xfrm>
                <a:off x="4859280" y="3645000"/>
                <a:ext cx="5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81"/>
              <p:cNvSpPr txBox="1"/>
              <p:nvPr/>
            </p:nvSpPr>
            <p:spPr>
              <a:xfrm>
                <a:off x="5003640" y="4365720"/>
                <a:ext cx="3747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82"/>
              <p:cNvSpPr txBox="1"/>
              <p:nvPr/>
            </p:nvSpPr>
            <p:spPr>
              <a:xfrm>
                <a:off x="6084720" y="3573360"/>
                <a:ext cx="306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83"/>
              <p:cNvSpPr txBox="1"/>
              <p:nvPr/>
            </p:nvSpPr>
            <p:spPr>
              <a:xfrm>
                <a:off x="6012000" y="4437000"/>
                <a:ext cx="323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84"/>
              <p:cNvSpPr txBox="1"/>
              <p:nvPr/>
            </p:nvSpPr>
            <p:spPr>
              <a:xfrm>
                <a:off x="7236000" y="3789360"/>
                <a:ext cx="233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85"/>
              <p:cNvSpPr txBox="1"/>
              <p:nvPr/>
            </p:nvSpPr>
            <p:spPr>
              <a:xfrm>
                <a:off x="7236000" y="4437000"/>
                <a:ext cx="433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TextBox 24"/>
          <p:cNvSpPr/>
          <p:nvPr/>
        </p:nvSpPr>
        <p:spPr>
          <a:xfrm>
            <a:off x="2700360" y="1557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1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01" name="TextBox 25"/>
          <p:cNvSpPr/>
          <p:nvPr/>
        </p:nvSpPr>
        <p:spPr>
          <a:xfrm>
            <a:off x="4932360" y="1484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3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02" name="TextBox 26"/>
          <p:cNvSpPr/>
          <p:nvPr/>
        </p:nvSpPr>
        <p:spPr>
          <a:xfrm>
            <a:off x="6156360" y="1484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4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03" name="TextBox 27"/>
          <p:cNvSpPr/>
          <p:nvPr/>
        </p:nvSpPr>
        <p:spPr>
          <a:xfrm>
            <a:off x="7308720" y="148428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5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04" name="TextBox 28"/>
          <p:cNvSpPr/>
          <p:nvPr/>
        </p:nvSpPr>
        <p:spPr>
          <a:xfrm>
            <a:off x="3780000" y="1484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2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143000" y="549360"/>
          <a:ext cx="7643880" cy="1366920"/>
        </p:xfrm>
        <a:graphic>
          <a:graphicData uri="http://schemas.openxmlformats.org/drawingml/2006/table">
            <a:tbl>
              <a:tblPr/>
              <a:tblGrid>
                <a:gridCol w="955800"/>
                <a:gridCol w="955440"/>
                <a:gridCol w="955800"/>
                <a:gridCol w="955800"/>
                <a:gridCol w="954000"/>
                <a:gridCol w="957240"/>
                <a:gridCol w="954000"/>
                <a:gridCol w="955800"/>
              </a:tblGrid>
              <a:tr h="136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5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46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2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5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4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5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7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6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59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64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63"/>
              <p:cNvSpPr txBox="1"/>
              <p:nvPr/>
            </p:nvSpPr>
            <p:spPr>
              <a:xfrm>
                <a:off x="6056280" y="5493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66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5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7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619280" y="27075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дробь, равную 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6"/>
              <p:cNvSpPr txBox="1"/>
              <p:nvPr/>
            </p:nvSpPr>
            <p:spPr>
              <a:xfrm>
                <a:off x="4356000" y="3716280"/>
                <a:ext cx="779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Rectangle 79"/>
          <p:cNvSpPr/>
          <p:nvPr/>
        </p:nvSpPr>
        <p:spPr>
          <a:xfrm>
            <a:off x="2556000" y="314064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2195640" y="40755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1803 C -0.00399 -0.00716 -0.00417 0.0044 -0.00156 0.0148 C 0.00972 0.06058 0.03872 0.08509 0.06684 0.08948 C 0.09271 0.10081 0.12431 0.09619 0.15 0.09711 C 0.16042 0.10313 0.16944 0.10405 0.18056 0.10521 C 0.1842 0.10636 0.18785 0.10844 0.19167 0.1096 C 0.19896 0.11492 0.20608 0.12047 0.21372 0.12394 C 0.21944 0.13041 0.22604 0.13596 0.23229 0.14104 C 0.23646 0.14451 0.2342 0.14035 0.23872 0.14567 C 0.24201 0.14983 0.24479 0.15584 0.24809 0.15977 C 0.2526 0.16555 0.25729 0.1711 0.26198 0.17688 C 0.26372 0.18613 0.26146 0.17781 0.26736 0.18775 C 0.27274 0.19723 0.27726 0.20925 0.28229 0.2185 C 0.28472 0.22428 0.28733 0.23029 0.28872 0.2363 C 0.28976 0.24024 0.29149 0.24856 0.29149 0.24879 C 0.29097 0.27284 0.29583 0.2985 0.28785 0.31885 C 0.28455 0.33989 0.28038 0.35469 0.27101 0.37041 C 0.26389 0.3822 0.27517 0.36856 0.26649 0.37827 C 0.26337 0.3859 0.25174 0.3933 0.24618 0.39561 C 0.2401 0.40278 0.23125 0.40394 0.22396 0.40648 C 0.21319 0.41873 0.19844 0.41619 0.18611 0.42058 C 0.18264 0.42197 0.18021 0.42636 0.17691 0.42821 C 0.17413 0.4296 0.17135 0.43029 0.1684 0.43122 C 0.1599 0.44301 0.16146 0.45758 0.16024 0.47422 C 0.15903 0.49295 0.15694 0.51029 0.15556 0.52787 C 0.15451 0.53896 0.15278 0.54659 0.15104 0.55746 C 0.14983 0.5637 0.14809 0.57619 0.14809 0.57642 C 0.14983 0.58151 0.15017 0.58821 0.15278 0.59076 C 0.15399 0.59376 0.15382 0.58683 0.15382 0.58428 C 0.15399 0.55099 0.15382 0.5207 0.15382 0.48879 E">
                                      <p:cBhvr>
                                        <p:cTn id="1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В каждом столбце таблицы записаны варианты ответа на пример в верхней строчке. Обведите кружочком правильный результат деления в каждом столбце. Если ни один ответ не подходит, впишите в последнюю строчку правильный ответ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116000" y="2060640"/>
          <a:ext cx="6851520" cy="3824280"/>
        </p:xfrm>
        <a:graphic>
          <a:graphicData uri="http://schemas.openxmlformats.org/drawingml/2006/table">
            <a:tbl>
              <a:tblPr/>
              <a:tblGrid>
                <a:gridCol w="1141560"/>
                <a:gridCol w="1144440"/>
                <a:gridCol w="1143000"/>
                <a:gridCol w="1136520"/>
                <a:gridCol w="1144800"/>
                <a:gridCol w="11412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Object 47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73"/>
              <p:cNvSpPr txBox="1"/>
              <p:nvPr/>
            </p:nvSpPr>
            <p:spPr>
              <a:xfrm>
                <a:off x="2717640" y="4572000"/>
                <a:ext cx="208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8"/>
              <p:cNvSpPr txBox="1"/>
              <p:nvPr/>
            </p:nvSpPr>
            <p:spPr>
              <a:xfrm>
                <a:off x="2403360" y="2133720"/>
                <a:ext cx="809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49"/>
              <p:cNvSpPr txBox="1"/>
              <p:nvPr/>
            </p:nvSpPr>
            <p:spPr>
              <a:xfrm>
                <a:off x="3492360" y="2133720"/>
                <a:ext cx="7923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50"/>
              <p:cNvSpPr txBox="1"/>
              <p:nvPr/>
            </p:nvSpPr>
            <p:spPr>
              <a:xfrm>
                <a:off x="4643280" y="2060640"/>
                <a:ext cx="7192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51"/>
              <p:cNvSpPr txBox="1"/>
              <p:nvPr/>
            </p:nvSpPr>
            <p:spPr>
              <a:xfrm>
                <a:off x="5867280" y="2133720"/>
                <a:ext cx="792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52"/>
              <p:cNvSpPr txBox="1"/>
              <p:nvPr/>
            </p:nvSpPr>
            <p:spPr>
              <a:xfrm>
                <a:off x="6948360" y="2133720"/>
                <a:ext cx="792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3"/>
              <p:cNvSpPr txBox="1"/>
              <p:nvPr/>
            </p:nvSpPr>
            <p:spPr>
              <a:xfrm>
                <a:off x="2556000" y="2852640"/>
                <a:ext cx="460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54"/>
              <p:cNvSpPr txBox="1"/>
              <p:nvPr/>
            </p:nvSpPr>
            <p:spPr>
              <a:xfrm>
                <a:off x="2643120" y="4357800"/>
                <a:ext cx="370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55"/>
              <p:cNvSpPr txBox="1"/>
              <p:nvPr/>
            </p:nvSpPr>
            <p:spPr>
              <a:xfrm>
                <a:off x="3780000" y="2852640"/>
                <a:ext cx="34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56"/>
              <p:cNvSpPr txBox="1"/>
              <p:nvPr/>
            </p:nvSpPr>
            <p:spPr>
              <a:xfrm>
                <a:off x="4788000" y="2852640"/>
                <a:ext cx="48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7"/>
              <p:cNvSpPr txBox="1"/>
              <p:nvPr/>
            </p:nvSpPr>
            <p:spPr>
              <a:xfrm>
                <a:off x="6084720" y="2924280"/>
                <a:ext cx="36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8"/>
              <p:cNvSpPr txBox="1"/>
              <p:nvPr/>
            </p:nvSpPr>
            <p:spPr>
              <a:xfrm>
                <a:off x="7093080" y="2781360"/>
                <a:ext cx="419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9"/>
              <p:cNvSpPr txBox="1"/>
              <p:nvPr/>
            </p:nvSpPr>
            <p:spPr>
              <a:xfrm>
                <a:off x="3780000" y="4437000"/>
                <a:ext cx="37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60"/>
              <p:cNvSpPr txBox="1"/>
              <p:nvPr/>
            </p:nvSpPr>
            <p:spPr>
              <a:xfrm>
                <a:off x="2627280" y="3645000"/>
                <a:ext cx="355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61"/>
              <p:cNvSpPr txBox="1"/>
              <p:nvPr/>
            </p:nvSpPr>
            <p:spPr>
              <a:xfrm>
                <a:off x="3851280" y="3716280"/>
                <a:ext cx="270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62"/>
              <p:cNvSpPr txBox="1"/>
              <p:nvPr/>
            </p:nvSpPr>
            <p:spPr>
              <a:xfrm>
                <a:off x="4859280" y="3645000"/>
                <a:ext cx="5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63"/>
              <p:cNvSpPr txBox="1"/>
              <p:nvPr/>
            </p:nvSpPr>
            <p:spPr>
              <a:xfrm>
                <a:off x="4929120" y="4429080"/>
                <a:ext cx="3747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64"/>
              <p:cNvSpPr txBox="1"/>
              <p:nvPr/>
            </p:nvSpPr>
            <p:spPr>
              <a:xfrm>
                <a:off x="6084720" y="3573360"/>
                <a:ext cx="306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65"/>
              <p:cNvSpPr txBox="1"/>
              <p:nvPr/>
            </p:nvSpPr>
            <p:spPr>
              <a:xfrm>
                <a:off x="6012000" y="4437000"/>
                <a:ext cx="323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6"/>
              <p:cNvSpPr txBox="1"/>
              <p:nvPr/>
            </p:nvSpPr>
            <p:spPr>
              <a:xfrm>
                <a:off x="7236000" y="3789360"/>
                <a:ext cx="233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67"/>
              <p:cNvSpPr txBox="1"/>
              <p:nvPr/>
            </p:nvSpPr>
            <p:spPr>
              <a:xfrm>
                <a:off x="7236000" y="4437000"/>
                <a:ext cx="433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74"/>
              <p:cNvSpPr txBox="1"/>
              <p:nvPr/>
            </p:nvSpPr>
            <p:spPr>
              <a:xfrm>
                <a:off x="7143840" y="5143680"/>
                <a:ext cx="57132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5" descr="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336600"/>
          </a:xfrm>
          <a:prstGeom prst="rect">
            <a:avLst/>
          </a:prstGeom>
          <a:ln w="0">
            <a:noFill/>
          </a:ln>
        </p:spPr>
      </p:pic>
      <p:pic>
        <p:nvPicPr>
          <p:cNvPr id="432" name="TextBox 7" descr=""/>
          <p:cNvPicPr/>
          <p:nvPr/>
        </p:nvPicPr>
        <p:blipFill>
          <a:blip r:embed="rId3"/>
          <a:stretch/>
        </p:blipFill>
        <p:spPr>
          <a:xfrm>
            <a:off x="360360" y="3133800"/>
            <a:ext cx="5857920" cy="4143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8"/>
          <p:cNvSpPr/>
          <p:nvPr/>
        </p:nvSpPr>
        <p:spPr>
          <a:xfrm>
            <a:off x="368280" y="372960"/>
            <a:ext cx="5213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000"/>
                </a:solidFill>
                <a:latin typeface="Times New Roman"/>
              </a:rPr>
              <a:t>Запомните!</a:t>
            </a:r>
            <a:endParaRPr b="0" lang="en-US" sz="3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34" name="TextBox 20" descr=""/>
          <p:cNvPicPr/>
          <p:nvPr/>
        </p:nvPicPr>
        <p:blipFill>
          <a:blip r:embed="rId4"/>
          <a:stretch/>
        </p:blipFill>
        <p:spPr>
          <a:xfrm>
            <a:off x="353880" y="1432080"/>
            <a:ext cx="1908360" cy="1292040"/>
          </a:xfrm>
          <a:prstGeom prst="rect">
            <a:avLst/>
          </a:prstGeom>
          <a:ln w="0">
            <a:noFill/>
          </a:ln>
        </p:spPr>
      </p:pic>
      <p:pic>
        <p:nvPicPr>
          <p:cNvPr id="435" name="TextBox 21" descr=""/>
          <p:cNvPicPr/>
          <p:nvPr/>
        </p:nvPicPr>
        <p:blipFill>
          <a:blip r:embed="rId5"/>
          <a:stretch/>
        </p:blipFill>
        <p:spPr>
          <a:xfrm>
            <a:off x="4705200" y="1432080"/>
            <a:ext cx="1908360" cy="1218960"/>
          </a:xfrm>
          <a:prstGeom prst="rect">
            <a:avLst/>
          </a:prstGeom>
          <a:ln w="0">
            <a:noFill/>
          </a:ln>
        </p:spPr>
      </p:pic>
      <p:pic>
        <p:nvPicPr>
          <p:cNvPr id="436" name="TextBox 22" descr=""/>
          <p:cNvPicPr/>
          <p:nvPr/>
        </p:nvPicPr>
        <p:blipFill>
          <a:blip r:embed="rId6"/>
          <a:stretch/>
        </p:blipFill>
        <p:spPr>
          <a:xfrm>
            <a:off x="353880" y="3962520"/>
            <a:ext cx="19083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extBox 8" descr=""/>
          <p:cNvPicPr/>
          <p:nvPr/>
        </p:nvPicPr>
        <p:blipFill>
          <a:blip r:embed="rId1"/>
          <a:stretch/>
        </p:blipFill>
        <p:spPr>
          <a:xfrm>
            <a:off x="353880" y="1066680"/>
            <a:ext cx="6407280" cy="76860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ая соединительная линия 11"/>
          <p:cNvSpPr/>
          <p:nvPr/>
        </p:nvSpPr>
        <p:spPr>
          <a:xfrm>
            <a:off x="358920" y="2000160"/>
            <a:ext cx="63943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358920" y="482760"/>
            <a:ext cx="40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Задание № </a:t>
            </a: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358920" y="2112840"/>
            <a:ext cx="257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Gulim"/>
              </a:rPr>
              <a:t>Решение:</a:t>
            </a:r>
            <a:endParaRPr b="0" lang="en-US" sz="1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41" name="TextBox 27" descr=""/>
          <p:cNvPicPr/>
          <p:nvPr/>
        </p:nvPicPr>
        <p:blipFill>
          <a:blip r:embed="rId2"/>
          <a:stretch/>
        </p:blipFill>
        <p:spPr>
          <a:xfrm>
            <a:off x="360360" y="2468520"/>
            <a:ext cx="1108080" cy="476280"/>
          </a:xfrm>
          <a:prstGeom prst="rect">
            <a:avLst/>
          </a:prstGeom>
          <a:ln w="0">
            <a:noFill/>
          </a:ln>
        </p:spPr>
      </p:pic>
      <p:pic>
        <p:nvPicPr>
          <p:cNvPr id="442" name="TextBox 34" descr=""/>
          <p:cNvPicPr/>
          <p:nvPr/>
        </p:nvPicPr>
        <p:blipFill>
          <a:blip r:embed="rId3"/>
          <a:stretch/>
        </p:blipFill>
        <p:spPr>
          <a:xfrm>
            <a:off x="2389320" y="2468520"/>
            <a:ext cx="1079280" cy="476280"/>
          </a:xfrm>
          <a:prstGeom prst="rect">
            <a:avLst/>
          </a:prstGeom>
          <a:ln w="0">
            <a:noFill/>
          </a:ln>
        </p:spPr>
      </p:pic>
      <p:pic>
        <p:nvPicPr>
          <p:cNvPr id="443" name="TextBox 37" descr=""/>
          <p:cNvPicPr/>
          <p:nvPr/>
        </p:nvPicPr>
        <p:blipFill>
          <a:blip r:embed="rId4"/>
          <a:stretch/>
        </p:blipFill>
        <p:spPr>
          <a:xfrm>
            <a:off x="4389480" y="2468520"/>
            <a:ext cx="1554120" cy="476280"/>
          </a:xfrm>
          <a:prstGeom prst="rect">
            <a:avLst/>
          </a:prstGeom>
          <a:ln w="0">
            <a:noFill/>
          </a:ln>
        </p:spPr>
      </p:pic>
      <p:pic>
        <p:nvPicPr>
          <p:cNvPr id="444" name="TextBox 44" descr=""/>
          <p:cNvPicPr/>
          <p:nvPr/>
        </p:nvPicPr>
        <p:blipFill>
          <a:blip r:embed="rId5"/>
          <a:stretch/>
        </p:blipFill>
        <p:spPr>
          <a:xfrm>
            <a:off x="6864480" y="2468520"/>
            <a:ext cx="1511280" cy="47628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6" descr=""/>
          <p:cNvPicPr/>
          <p:nvPr/>
        </p:nvPicPr>
        <p:blipFill>
          <a:blip r:embed="rId6"/>
          <a:stretch/>
        </p:blipFill>
        <p:spPr>
          <a:xfrm>
            <a:off x="360360" y="2865600"/>
            <a:ext cx="1035000" cy="596880"/>
          </a:xfrm>
          <a:prstGeom prst="rect">
            <a:avLst/>
          </a:prstGeom>
          <a:ln w="0">
            <a:noFill/>
          </a:ln>
        </p:spPr>
      </p:pic>
      <p:grpSp>
        <p:nvGrpSpPr>
          <p:cNvPr id="446" name="Группа 24"/>
          <p:cNvGrpSpPr/>
          <p:nvPr/>
        </p:nvGrpSpPr>
        <p:grpSpPr>
          <a:xfrm>
            <a:off x="7004160" y="0"/>
            <a:ext cx="1780920" cy="1436760"/>
            <a:chOff x="7004160" y="0"/>
            <a:chExt cx="1780920" cy="1436760"/>
          </a:xfrm>
        </p:grpSpPr>
        <p:sp>
          <p:nvSpPr>
            <p:cNvPr id="447" name="TextBox 25"/>
            <p:cNvSpPr/>
            <p:nvPr/>
          </p:nvSpPr>
          <p:spPr>
            <a:xfrm>
              <a:off x="7004160" y="0"/>
              <a:ext cx="1780920" cy="92952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360000" bIns="360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Gulim"/>
              </a:endParaRPr>
            </a:p>
          </p:txBody>
        </p:sp>
        <p:pic>
          <p:nvPicPr>
            <p:cNvPr id="448" name="TextBox 26" descr=""/>
            <p:cNvPicPr/>
            <p:nvPr/>
          </p:nvPicPr>
          <p:blipFill>
            <a:blip r:embed="rId7"/>
            <a:stretch/>
          </p:blipFill>
          <p:spPr>
            <a:xfrm>
              <a:off x="7156800" y="505080"/>
              <a:ext cx="1481400" cy="93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9" name="Рисунок 5" descr=""/>
          <p:cNvPicPr/>
          <p:nvPr/>
        </p:nvPicPr>
        <p:blipFill>
          <a:blip r:embed="rId8"/>
          <a:stretch/>
        </p:blipFill>
        <p:spPr>
          <a:xfrm>
            <a:off x="7991640" y="0"/>
            <a:ext cx="1152360" cy="3366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30" descr=""/>
          <p:cNvPicPr/>
          <p:nvPr/>
        </p:nvPicPr>
        <p:blipFill>
          <a:blip r:embed="rId9"/>
          <a:stretch/>
        </p:blipFill>
        <p:spPr>
          <a:xfrm>
            <a:off x="360360" y="3438360"/>
            <a:ext cx="480960" cy="46368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33" descr=""/>
          <p:cNvPicPr/>
          <p:nvPr/>
        </p:nvPicPr>
        <p:blipFill>
          <a:blip r:embed="rId10"/>
          <a:stretch/>
        </p:blipFill>
        <p:spPr>
          <a:xfrm>
            <a:off x="743040" y="3382920"/>
            <a:ext cx="506160" cy="59868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40" descr=""/>
          <p:cNvPicPr/>
          <p:nvPr/>
        </p:nvPicPr>
        <p:blipFill>
          <a:blip r:embed="rId11"/>
          <a:stretch/>
        </p:blipFill>
        <p:spPr>
          <a:xfrm>
            <a:off x="360360" y="3882960"/>
            <a:ext cx="865080" cy="60336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41" descr=""/>
          <p:cNvPicPr/>
          <p:nvPr/>
        </p:nvPicPr>
        <p:blipFill>
          <a:blip r:embed="rId12"/>
          <a:stretch/>
        </p:blipFill>
        <p:spPr>
          <a:xfrm>
            <a:off x="360360" y="4505400"/>
            <a:ext cx="755640" cy="59688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ая соединительная линия 42"/>
          <p:cNvSpPr/>
          <p:nvPr/>
        </p:nvSpPr>
        <p:spPr>
          <a:xfrm flipV="1">
            <a:off x="841320" y="4868640"/>
            <a:ext cx="163440" cy="145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55" name="Прямоугольник 43" descr=""/>
          <p:cNvPicPr/>
          <p:nvPr/>
        </p:nvPicPr>
        <p:blipFill>
          <a:blip r:embed="rId13"/>
          <a:stretch/>
        </p:blipFill>
        <p:spPr>
          <a:xfrm>
            <a:off x="835200" y="4853160"/>
            <a:ext cx="311040" cy="39528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45" descr=""/>
          <p:cNvPicPr/>
          <p:nvPr/>
        </p:nvPicPr>
        <p:blipFill>
          <a:blip r:embed="rId14"/>
          <a:stretch/>
        </p:blipFill>
        <p:spPr>
          <a:xfrm>
            <a:off x="566640" y="4352760"/>
            <a:ext cx="311400" cy="39060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ая соединительная линия 48"/>
          <p:cNvSpPr/>
          <p:nvPr/>
        </p:nvSpPr>
        <p:spPr>
          <a:xfrm flipV="1">
            <a:off x="709560" y="459576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58" name="Прямая соединительная линия 53"/>
          <p:cNvSpPr/>
          <p:nvPr/>
        </p:nvSpPr>
        <p:spPr>
          <a:xfrm flipV="1">
            <a:off x="709560" y="487368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59" name="Прямоугольник 54" descr=""/>
          <p:cNvPicPr/>
          <p:nvPr/>
        </p:nvPicPr>
        <p:blipFill>
          <a:blip r:embed="rId15"/>
          <a:stretch/>
        </p:blipFill>
        <p:spPr>
          <a:xfrm>
            <a:off x="907920" y="4359240"/>
            <a:ext cx="311400" cy="39528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55" descr=""/>
          <p:cNvPicPr/>
          <p:nvPr/>
        </p:nvPicPr>
        <p:blipFill>
          <a:blip r:embed="rId16"/>
          <a:stretch/>
        </p:blipFill>
        <p:spPr>
          <a:xfrm>
            <a:off x="530280" y="4853160"/>
            <a:ext cx="311040" cy="38880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ая соединительная линия 56"/>
          <p:cNvSpPr/>
          <p:nvPr/>
        </p:nvSpPr>
        <p:spPr>
          <a:xfrm flipV="1">
            <a:off x="831960" y="4589280"/>
            <a:ext cx="164880" cy="145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62" name="Прямоугольник 57" descr=""/>
          <p:cNvPicPr/>
          <p:nvPr/>
        </p:nvPicPr>
        <p:blipFill>
          <a:blip r:embed="rId17"/>
          <a:stretch/>
        </p:blipFill>
        <p:spPr>
          <a:xfrm>
            <a:off x="360360" y="5151600"/>
            <a:ext cx="650880" cy="463320"/>
          </a:xfrm>
          <a:prstGeom prst="rect">
            <a:avLst/>
          </a:prstGeom>
          <a:ln w="0">
            <a:noFill/>
          </a:ln>
        </p:spPr>
      </p:pic>
      <p:pic>
        <p:nvPicPr>
          <p:cNvPr id="463" name="TextBox 58" descr=""/>
          <p:cNvPicPr/>
          <p:nvPr/>
        </p:nvPicPr>
        <p:blipFill>
          <a:blip r:embed="rId18"/>
          <a:stretch/>
        </p:blipFill>
        <p:spPr>
          <a:xfrm>
            <a:off x="360360" y="5651640"/>
            <a:ext cx="1352520" cy="38880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59" descr=""/>
          <p:cNvPicPr/>
          <p:nvPr/>
        </p:nvPicPr>
        <p:blipFill>
          <a:blip r:embed="rId19"/>
          <a:stretch/>
        </p:blipFill>
        <p:spPr>
          <a:xfrm>
            <a:off x="2414520" y="2865600"/>
            <a:ext cx="1035000" cy="596880"/>
          </a:xfrm>
          <a:prstGeom prst="rect">
            <a:avLst/>
          </a:prstGeom>
          <a:ln w="0">
            <a:noFill/>
          </a:ln>
        </p:spPr>
      </p:pic>
      <p:pic>
        <p:nvPicPr>
          <p:cNvPr id="465" name="Прямоугольник 60" descr=""/>
          <p:cNvPicPr/>
          <p:nvPr/>
        </p:nvPicPr>
        <p:blipFill>
          <a:blip r:embed="rId20"/>
          <a:stretch/>
        </p:blipFill>
        <p:spPr>
          <a:xfrm>
            <a:off x="2414520" y="3371760"/>
            <a:ext cx="974880" cy="59688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61" descr=""/>
          <p:cNvPicPr/>
          <p:nvPr/>
        </p:nvPicPr>
        <p:blipFill>
          <a:blip r:embed="rId21"/>
          <a:stretch/>
        </p:blipFill>
        <p:spPr>
          <a:xfrm>
            <a:off x="2408400" y="3876840"/>
            <a:ext cx="950760" cy="60300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62" descr=""/>
          <p:cNvPicPr/>
          <p:nvPr/>
        </p:nvPicPr>
        <p:blipFill>
          <a:blip r:embed="rId22"/>
          <a:stretch/>
        </p:blipFill>
        <p:spPr>
          <a:xfrm>
            <a:off x="2408400" y="4492800"/>
            <a:ext cx="847440" cy="60300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63" descr=""/>
          <p:cNvPicPr/>
          <p:nvPr/>
        </p:nvPicPr>
        <p:blipFill>
          <a:blip r:embed="rId23"/>
          <a:stretch/>
        </p:blipFill>
        <p:spPr>
          <a:xfrm>
            <a:off x="2414520" y="5078520"/>
            <a:ext cx="712800" cy="603000"/>
          </a:xfrm>
          <a:prstGeom prst="rect">
            <a:avLst/>
          </a:prstGeom>
          <a:ln w="0">
            <a:noFill/>
          </a:ln>
        </p:spPr>
      </p:pic>
      <p:pic>
        <p:nvPicPr>
          <p:cNvPr id="469" name="TextBox 64" descr=""/>
          <p:cNvPicPr/>
          <p:nvPr/>
        </p:nvPicPr>
        <p:blipFill>
          <a:blip r:embed="rId24"/>
          <a:stretch/>
        </p:blipFill>
        <p:spPr>
          <a:xfrm>
            <a:off x="2408400" y="5578560"/>
            <a:ext cx="1352520" cy="48096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65" descr=""/>
          <p:cNvPicPr/>
          <p:nvPr/>
        </p:nvPicPr>
        <p:blipFill>
          <a:blip r:embed="rId25"/>
          <a:stretch/>
        </p:blipFill>
        <p:spPr>
          <a:xfrm>
            <a:off x="4400640" y="2865600"/>
            <a:ext cx="1493640" cy="59688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66" descr=""/>
          <p:cNvPicPr/>
          <p:nvPr/>
        </p:nvPicPr>
        <p:blipFill>
          <a:blip r:embed="rId26"/>
          <a:stretch/>
        </p:blipFill>
        <p:spPr>
          <a:xfrm>
            <a:off x="4400640" y="3371760"/>
            <a:ext cx="1280880" cy="596880"/>
          </a:xfrm>
          <a:prstGeom prst="rect">
            <a:avLst/>
          </a:prstGeom>
          <a:ln w="0">
            <a:noFill/>
          </a:ln>
        </p:spPr>
      </p:pic>
      <p:sp>
        <p:nvSpPr>
          <p:cNvPr id="472" name="Дуга 67"/>
          <p:cNvSpPr/>
          <p:nvPr/>
        </p:nvSpPr>
        <p:spPr>
          <a:xfrm flipH="1" flipV="1">
            <a:off x="4487040" y="3245760"/>
            <a:ext cx="252360" cy="336600"/>
          </a:xfrm>
          <a:custGeom>
            <a:avLst/>
            <a:gdLst>
              <a:gd name="textAreaLeft" fmla="*/ 126360 w 252360"/>
              <a:gd name="textAreaRight" fmla="*/ 252720 w 252360"/>
              <a:gd name="textAreaTop" fmla="*/ -360 h 336600"/>
              <a:gd name="textAreaBottom" fmla="*/ 168120 h 336600"/>
            </a:gdLst>
            <a:ahLst/>
            <a:rect l="textAreaLeft" t="textAreaTop" r="textAreaRight" b="textAreaBottom"/>
            <a:pathLst>
              <a:path stroke="0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  <a:lnTo>
                  <a:pt x="126206" y="168275"/>
                </a:lnTo>
                <a:close/>
              </a:path>
              <a:path fill="none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</a:path>
            </a:pathLst>
          </a:custGeom>
          <a:noFill/>
          <a:ln w="1260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73" name="Прямоугольник 68" descr=""/>
          <p:cNvPicPr/>
          <p:nvPr/>
        </p:nvPicPr>
        <p:blipFill>
          <a:blip r:embed="rId27"/>
          <a:stretch/>
        </p:blipFill>
        <p:spPr>
          <a:xfrm>
            <a:off x="4425840" y="3303720"/>
            <a:ext cx="311400" cy="390240"/>
          </a:xfrm>
          <a:prstGeom prst="rect">
            <a:avLst/>
          </a:prstGeom>
          <a:ln w="0">
            <a:noFill/>
          </a:ln>
        </p:spPr>
      </p:pic>
      <p:sp>
        <p:nvSpPr>
          <p:cNvPr id="474" name="Дуга 69"/>
          <p:cNvSpPr/>
          <p:nvPr/>
        </p:nvSpPr>
        <p:spPr>
          <a:xfrm flipH="1" flipV="1">
            <a:off x="5157000" y="3220200"/>
            <a:ext cx="252360" cy="336600"/>
          </a:xfrm>
          <a:custGeom>
            <a:avLst/>
            <a:gdLst>
              <a:gd name="textAreaLeft" fmla="*/ 126360 w 252360"/>
              <a:gd name="textAreaRight" fmla="*/ 252720 w 252360"/>
              <a:gd name="textAreaTop" fmla="*/ -360 h 336600"/>
              <a:gd name="textAreaBottom" fmla="*/ 168120 h 336600"/>
            </a:gdLst>
            <a:ahLst/>
            <a:rect l="textAreaLeft" t="textAreaTop" r="textAreaRight" b="textAreaBottom"/>
            <a:pathLst>
              <a:path stroke="0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  <a:lnTo>
                  <a:pt x="126206" y="168275"/>
                </a:lnTo>
                <a:close/>
              </a:path>
              <a:path fill="none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</a:path>
            </a:pathLst>
          </a:custGeom>
          <a:noFill/>
          <a:ln w="1260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75" name="Прямоугольник 70" descr=""/>
          <p:cNvPicPr/>
          <p:nvPr/>
        </p:nvPicPr>
        <p:blipFill>
          <a:blip r:embed="rId28"/>
          <a:stretch/>
        </p:blipFill>
        <p:spPr>
          <a:xfrm>
            <a:off x="5095800" y="3279600"/>
            <a:ext cx="311400" cy="390600"/>
          </a:xfrm>
          <a:prstGeom prst="rect">
            <a:avLst/>
          </a:prstGeom>
          <a:ln w="0">
            <a:noFill/>
          </a:ln>
        </p:spPr>
      </p:pic>
      <p:sp>
        <p:nvSpPr>
          <p:cNvPr id="476" name="Дуга 71"/>
          <p:cNvSpPr/>
          <p:nvPr/>
        </p:nvSpPr>
        <p:spPr>
          <a:xfrm flipH="1" flipV="1">
            <a:off x="5512680" y="3220200"/>
            <a:ext cx="252360" cy="336600"/>
          </a:xfrm>
          <a:custGeom>
            <a:avLst/>
            <a:gdLst>
              <a:gd name="textAreaLeft" fmla="*/ 126360 w 252360"/>
              <a:gd name="textAreaRight" fmla="*/ 252720 w 252360"/>
              <a:gd name="textAreaTop" fmla="*/ -360 h 336600"/>
              <a:gd name="textAreaBottom" fmla="*/ 168120 h 336600"/>
            </a:gdLst>
            <a:ahLst/>
            <a:rect l="textAreaLeft" t="textAreaTop" r="textAreaRight" b="textAreaBottom"/>
            <a:pathLst>
              <a:path stroke="0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  <a:lnTo>
                  <a:pt x="126206" y="168275"/>
                </a:lnTo>
                <a:close/>
              </a:path>
              <a:path fill="none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</a:path>
            </a:pathLst>
          </a:custGeom>
          <a:noFill/>
          <a:ln w="1260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77" name="Прямоугольник 72" descr=""/>
          <p:cNvPicPr/>
          <p:nvPr/>
        </p:nvPicPr>
        <p:blipFill>
          <a:blip r:embed="rId29"/>
          <a:stretch/>
        </p:blipFill>
        <p:spPr>
          <a:xfrm>
            <a:off x="5462640" y="3267000"/>
            <a:ext cx="309600" cy="390600"/>
          </a:xfrm>
          <a:prstGeom prst="rect">
            <a:avLst/>
          </a:prstGeom>
          <a:ln w="0">
            <a:noFill/>
          </a:ln>
        </p:spPr>
      </p:pic>
      <p:pic>
        <p:nvPicPr>
          <p:cNvPr id="478" name="Прямоугольник 73" descr=""/>
          <p:cNvPicPr/>
          <p:nvPr/>
        </p:nvPicPr>
        <p:blipFill>
          <a:blip r:embed="rId30"/>
          <a:stretch/>
        </p:blipFill>
        <p:spPr>
          <a:xfrm>
            <a:off x="4400640" y="3889440"/>
            <a:ext cx="1450800" cy="596880"/>
          </a:xfrm>
          <a:prstGeom prst="rect">
            <a:avLst/>
          </a:prstGeom>
          <a:ln w="0">
            <a:noFill/>
          </a:ln>
        </p:spPr>
      </p:pic>
      <p:pic>
        <p:nvPicPr>
          <p:cNvPr id="479" name="Прямоугольник 74" descr=""/>
          <p:cNvPicPr/>
          <p:nvPr/>
        </p:nvPicPr>
        <p:blipFill>
          <a:blip r:embed="rId31"/>
          <a:stretch/>
        </p:blipFill>
        <p:spPr>
          <a:xfrm>
            <a:off x="4400640" y="4486320"/>
            <a:ext cx="1036440" cy="603360"/>
          </a:xfrm>
          <a:prstGeom prst="rect">
            <a:avLst/>
          </a:prstGeom>
          <a:ln w="0">
            <a:noFill/>
          </a:ln>
        </p:spPr>
      </p:pic>
      <p:pic>
        <p:nvPicPr>
          <p:cNvPr id="480" name="Прямоугольник 75" descr=""/>
          <p:cNvPicPr/>
          <p:nvPr/>
        </p:nvPicPr>
        <p:blipFill>
          <a:blip r:embed="rId32"/>
          <a:stretch/>
        </p:blipFill>
        <p:spPr>
          <a:xfrm>
            <a:off x="4389480" y="5078520"/>
            <a:ext cx="1060560" cy="596880"/>
          </a:xfrm>
          <a:prstGeom prst="rect">
            <a:avLst/>
          </a:prstGeom>
          <a:ln w="0">
            <a:noFill/>
          </a:ln>
        </p:spPr>
      </p:pic>
      <p:pic>
        <p:nvPicPr>
          <p:cNvPr id="481" name="Прямоугольник 76" descr=""/>
          <p:cNvPicPr/>
          <p:nvPr/>
        </p:nvPicPr>
        <p:blipFill>
          <a:blip r:embed="rId33"/>
          <a:stretch/>
        </p:blipFill>
        <p:spPr>
          <a:xfrm>
            <a:off x="4370400" y="5608800"/>
            <a:ext cx="1695600" cy="59688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ая соединительная линия 78"/>
          <p:cNvSpPr/>
          <p:nvPr/>
        </p:nvSpPr>
        <p:spPr>
          <a:xfrm flipV="1">
            <a:off x="5732640" y="6011640"/>
            <a:ext cx="163440" cy="145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83" name="Прямоугольник 79" descr=""/>
          <p:cNvPicPr/>
          <p:nvPr/>
        </p:nvPicPr>
        <p:blipFill>
          <a:blip r:embed="rId34"/>
          <a:stretch/>
        </p:blipFill>
        <p:spPr>
          <a:xfrm>
            <a:off x="5784840" y="5973840"/>
            <a:ext cx="311040" cy="390600"/>
          </a:xfrm>
          <a:prstGeom prst="rect">
            <a:avLst/>
          </a:prstGeom>
          <a:ln w="0">
            <a:noFill/>
          </a:ln>
        </p:spPr>
      </p:pic>
      <p:pic>
        <p:nvPicPr>
          <p:cNvPr id="484" name="Прямоугольник 80" descr=""/>
          <p:cNvPicPr/>
          <p:nvPr/>
        </p:nvPicPr>
        <p:blipFill>
          <a:blip r:embed="rId35"/>
          <a:stretch/>
        </p:blipFill>
        <p:spPr>
          <a:xfrm>
            <a:off x="5237280" y="5486400"/>
            <a:ext cx="388800" cy="39060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ая соединительная линия 81"/>
          <p:cNvSpPr/>
          <p:nvPr/>
        </p:nvSpPr>
        <p:spPr>
          <a:xfrm flipV="1">
            <a:off x="5518080" y="569592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86" name="Прямая соединительная линия 82"/>
          <p:cNvSpPr/>
          <p:nvPr/>
        </p:nvSpPr>
        <p:spPr>
          <a:xfrm flipV="1">
            <a:off x="5557680" y="601020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87" name="Прямоугольник 83" descr=""/>
          <p:cNvPicPr/>
          <p:nvPr/>
        </p:nvPicPr>
        <p:blipFill>
          <a:blip r:embed="rId36"/>
          <a:stretch/>
        </p:blipFill>
        <p:spPr>
          <a:xfrm>
            <a:off x="5784840" y="5479920"/>
            <a:ext cx="311040" cy="397080"/>
          </a:xfrm>
          <a:prstGeom prst="rect">
            <a:avLst/>
          </a:prstGeom>
          <a:ln w="0">
            <a:noFill/>
          </a:ln>
        </p:spPr>
      </p:pic>
      <p:pic>
        <p:nvPicPr>
          <p:cNvPr id="488" name="Прямоугольник 84" descr=""/>
          <p:cNvPicPr/>
          <p:nvPr/>
        </p:nvPicPr>
        <p:blipFill>
          <a:blip r:embed="rId37"/>
          <a:stretch/>
        </p:blipFill>
        <p:spPr>
          <a:xfrm>
            <a:off x="5357880" y="5973840"/>
            <a:ext cx="311040" cy="39060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ая соединительная линия 85"/>
          <p:cNvSpPr/>
          <p:nvPr/>
        </p:nvSpPr>
        <p:spPr>
          <a:xfrm flipV="1">
            <a:off x="5730840" y="568476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90" name="Прямоугольник 86" descr=""/>
          <p:cNvPicPr/>
          <p:nvPr/>
        </p:nvPicPr>
        <p:blipFill>
          <a:blip r:embed="rId38"/>
          <a:stretch/>
        </p:blipFill>
        <p:spPr>
          <a:xfrm>
            <a:off x="4395960" y="6181560"/>
            <a:ext cx="718920" cy="603360"/>
          </a:xfrm>
          <a:prstGeom prst="rect">
            <a:avLst/>
          </a:prstGeom>
          <a:ln w="0">
            <a:noFill/>
          </a:ln>
        </p:spPr>
      </p:pic>
      <p:pic>
        <p:nvPicPr>
          <p:cNvPr id="491" name="Прямоугольник 87" descr=""/>
          <p:cNvPicPr/>
          <p:nvPr/>
        </p:nvPicPr>
        <p:blipFill>
          <a:blip r:embed="rId39"/>
          <a:stretch/>
        </p:blipFill>
        <p:spPr>
          <a:xfrm>
            <a:off x="5005440" y="6181560"/>
            <a:ext cx="596880" cy="597240"/>
          </a:xfrm>
          <a:prstGeom prst="rect">
            <a:avLst/>
          </a:prstGeom>
          <a:ln w="0">
            <a:noFill/>
          </a:ln>
        </p:spPr>
      </p:pic>
      <p:pic>
        <p:nvPicPr>
          <p:cNvPr id="492" name="Прямоугольник 88" descr=""/>
          <p:cNvPicPr/>
          <p:nvPr/>
        </p:nvPicPr>
        <p:blipFill>
          <a:blip r:embed="rId40"/>
          <a:stretch/>
        </p:blipFill>
        <p:spPr>
          <a:xfrm>
            <a:off x="6864480" y="2865600"/>
            <a:ext cx="1493640" cy="596880"/>
          </a:xfrm>
          <a:prstGeom prst="rect">
            <a:avLst/>
          </a:prstGeom>
          <a:ln w="0">
            <a:noFill/>
          </a:ln>
        </p:spPr>
      </p:pic>
      <p:pic>
        <p:nvPicPr>
          <p:cNvPr id="493" name="Прямоугольник 89" descr=""/>
          <p:cNvPicPr/>
          <p:nvPr/>
        </p:nvPicPr>
        <p:blipFill>
          <a:blip r:embed="rId41"/>
          <a:stretch/>
        </p:blipFill>
        <p:spPr>
          <a:xfrm>
            <a:off x="6864480" y="3365640"/>
            <a:ext cx="993600" cy="609480"/>
          </a:xfrm>
          <a:prstGeom prst="rect">
            <a:avLst/>
          </a:prstGeom>
          <a:ln w="0">
            <a:noFill/>
          </a:ln>
        </p:spPr>
      </p:pic>
      <p:pic>
        <p:nvPicPr>
          <p:cNvPr id="494" name="Прямоугольник 90" descr=""/>
          <p:cNvPicPr/>
          <p:nvPr/>
        </p:nvPicPr>
        <p:blipFill>
          <a:blip r:embed="rId42"/>
          <a:stretch/>
        </p:blipFill>
        <p:spPr>
          <a:xfrm>
            <a:off x="6864480" y="3889440"/>
            <a:ext cx="877680" cy="596880"/>
          </a:xfrm>
          <a:prstGeom prst="rect">
            <a:avLst/>
          </a:prstGeom>
          <a:ln w="0">
            <a:noFill/>
          </a:ln>
        </p:spPr>
      </p:pic>
      <p:pic>
        <p:nvPicPr>
          <p:cNvPr id="495" name="Прямоугольник 91" descr=""/>
          <p:cNvPicPr/>
          <p:nvPr/>
        </p:nvPicPr>
        <p:blipFill>
          <a:blip r:embed="rId43"/>
          <a:stretch/>
        </p:blipFill>
        <p:spPr>
          <a:xfrm>
            <a:off x="6864480" y="4492800"/>
            <a:ext cx="901440" cy="596880"/>
          </a:xfrm>
          <a:prstGeom prst="rect">
            <a:avLst/>
          </a:prstGeom>
          <a:ln w="0">
            <a:noFill/>
          </a:ln>
        </p:spPr>
      </p:pic>
      <p:pic>
        <p:nvPicPr>
          <p:cNvPr id="496" name="Прямоугольник 92" descr=""/>
          <p:cNvPicPr/>
          <p:nvPr/>
        </p:nvPicPr>
        <p:blipFill>
          <a:blip r:embed="rId44"/>
          <a:stretch/>
        </p:blipFill>
        <p:spPr>
          <a:xfrm>
            <a:off x="6864480" y="5078520"/>
            <a:ext cx="1328760" cy="59688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ая соединительная линия 97"/>
          <p:cNvSpPr/>
          <p:nvPr/>
        </p:nvSpPr>
        <p:spPr>
          <a:xfrm flipV="1">
            <a:off x="7910640" y="5473440"/>
            <a:ext cx="163440" cy="145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98" name="Прямоугольник 98" descr=""/>
          <p:cNvPicPr/>
          <p:nvPr/>
        </p:nvPicPr>
        <p:blipFill>
          <a:blip r:embed="rId45"/>
          <a:stretch/>
        </p:blipFill>
        <p:spPr>
          <a:xfrm>
            <a:off x="7632720" y="4956120"/>
            <a:ext cx="311040" cy="390600"/>
          </a:xfrm>
          <a:prstGeom prst="rect">
            <a:avLst/>
          </a:prstGeom>
          <a:ln w="0">
            <a:noFill/>
          </a:ln>
        </p:spPr>
      </p:pic>
      <p:pic>
        <p:nvPicPr>
          <p:cNvPr id="499" name="Прямоугольник 99" descr=""/>
          <p:cNvPicPr/>
          <p:nvPr/>
        </p:nvPicPr>
        <p:blipFill>
          <a:blip r:embed="rId46"/>
          <a:stretch/>
        </p:blipFill>
        <p:spPr>
          <a:xfrm>
            <a:off x="7918560" y="5437080"/>
            <a:ext cx="311040" cy="39708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ая соединительная линия 100"/>
          <p:cNvSpPr/>
          <p:nvPr/>
        </p:nvSpPr>
        <p:spPr>
          <a:xfrm flipV="1">
            <a:off x="7775640" y="5176800"/>
            <a:ext cx="1634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01" name="Прямоугольник 101" descr=""/>
          <p:cNvPicPr/>
          <p:nvPr/>
        </p:nvPicPr>
        <p:blipFill>
          <a:blip r:embed="rId47"/>
          <a:stretch/>
        </p:blipFill>
        <p:spPr>
          <a:xfrm>
            <a:off x="6870600" y="5572080"/>
            <a:ext cx="609840" cy="596880"/>
          </a:xfrm>
          <a:prstGeom prst="rect">
            <a:avLst/>
          </a:prstGeom>
          <a:ln w="0">
            <a:noFill/>
          </a:ln>
        </p:spPr>
      </p:pic>
      <p:pic>
        <p:nvPicPr>
          <p:cNvPr id="502" name="Прямоугольник 102" descr=""/>
          <p:cNvPicPr/>
          <p:nvPr/>
        </p:nvPicPr>
        <p:blipFill>
          <a:blip r:embed="rId48"/>
          <a:stretch/>
        </p:blipFill>
        <p:spPr>
          <a:xfrm>
            <a:off x="6864480" y="6188040"/>
            <a:ext cx="639720" cy="46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extBox 8" descr=""/>
          <p:cNvPicPr/>
          <p:nvPr/>
        </p:nvPicPr>
        <p:blipFill>
          <a:blip r:embed="rId1"/>
          <a:stretch/>
        </p:blipFill>
        <p:spPr>
          <a:xfrm>
            <a:off x="353880" y="1206360"/>
            <a:ext cx="5510520" cy="95112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ая соединительная линия 11"/>
          <p:cNvSpPr/>
          <p:nvPr/>
        </p:nvSpPr>
        <p:spPr>
          <a:xfrm>
            <a:off x="358920" y="2316240"/>
            <a:ext cx="5500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358920" y="482760"/>
            <a:ext cx="40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Задание № 2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358920" y="2557440"/>
            <a:ext cx="257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Gulim"/>
              </a:rPr>
              <a:t>Решение:</a:t>
            </a:r>
            <a:endParaRPr b="0" lang="en-US" sz="1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07" name="TextBox 28" descr=""/>
          <p:cNvPicPr/>
          <p:nvPr/>
        </p:nvPicPr>
        <p:blipFill>
          <a:blip r:embed="rId2"/>
          <a:stretch/>
        </p:blipFill>
        <p:spPr>
          <a:xfrm>
            <a:off x="360360" y="2925720"/>
            <a:ext cx="828720" cy="390600"/>
          </a:xfrm>
          <a:prstGeom prst="rect">
            <a:avLst/>
          </a:prstGeom>
          <a:ln w="0">
            <a:noFill/>
          </a:ln>
        </p:spPr>
      </p:pic>
      <p:pic>
        <p:nvPicPr>
          <p:cNvPr id="508" name="TextBox 34" descr=""/>
          <p:cNvPicPr/>
          <p:nvPr/>
        </p:nvPicPr>
        <p:blipFill>
          <a:blip r:embed="rId3"/>
          <a:stretch/>
        </p:blipFill>
        <p:spPr>
          <a:xfrm>
            <a:off x="360360" y="3333600"/>
            <a:ext cx="846000" cy="390600"/>
          </a:xfrm>
          <a:prstGeom prst="rect">
            <a:avLst/>
          </a:prstGeom>
          <a:ln w="0">
            <a:noFill/>
          </a:ln>
        </p:spPr>
      </p:pic>
      <p:pic>
        <p:nvPicPr>
          <p:cNvPr id="509" name="Прямоугольник 2" descr=""/>
          <p:cNvPicPr/>
          <p:nvPr/>
        </p:nvPicPr>
        <p:blipFill>
          <a:blip r:embed="rId4"/>
          <a:stretch/>
        </p:blipFill>
        <p:spPr>
          <a:xfrm>
            <a:off x="360360" y="4254480"/>
            <a:ext cx="1523880" cy="60948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ая соединительная линия 43"/>
          <p:cNvSpPr/>
          <p:nvPr/>
        </p:nvSpPr>
        <p:spPr>
          <a:xfrm flipV="1">
            <a:off x="1600200" y="4354560"/>
            <a:ext cx="1634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11" name="Прямоугольник 50" descr=""/>
          <p:cNvPicPr/>
          <p:nvPr/>
        </p:nvPicPr>
        <p:blipFill>
          <a:blip r:embed="rId5"/>
          <a:stretch/>
        </p:blipFill>
        <p:spPr>
          <a:xfrm>
            <a:off x="1603440" y="4638600"/>
            <a:ext cx="311040" cy="390600"/>
          </a:xfrm>
          <a:prstGeom prst="rect">
            <a:avLst/>
          </a:prstGeom>
          <a:ln w="0">
            <a:noFill/>
          </a:ln>
        </p:spPr>
      </p:pic>
      <p:pic>
        <p:nvPicPr>
          <p:cNvPr id="512" name="Прямоугольник 51" descr=""/>
          <p:cNvPicPr/>
          <p:nvPr/>
        </p:nvPicPr>
        <p:blipFill>
          <a:blip r:embed="rId6"/>
          <a:stretch/>
        </p:blipFill>
        <p:spPr>
          <a:xfrm>
            <a:off x="1243080" y="4121280"/>
            <a:ext cx="31104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ая соединительная линия 52"/>
          <p:cNvSpPr/>
          <p:nvPr/>
        </p:nvSpPr>
        <p:spPr>
          <a:xfrm flipV="1">
            <a:off x="1593720" y="464184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14" name="Прямая соединительная линия 53"/>
          <p:cNvSpPr/>
          <p:nvPr/>
        </p:nvSpPr>
        <p:spPr>
          <a:xfrm flipV="1">
            <a:off x="1420920" y="4649760"/>
            <a:ext cx="1634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15" name="Прямоугольник 54" descr=""/>
          <p:cNvPicPr/>
          <p:nvPr/>
        </p:nvPicPr>
        <p:blipFill>
          <a:blip r:embed="rId7"/>
          <a:stretch/>
        </p:blipFill>
        <p:spPr>
          <a:xfrm>
            <a:off x="1663560" y="4121280"/>
            <a:ext cx="311400" cy="390240"/>
          </a:xfrm>
          <a:prstGeom prst="rect">
            <a:avLst/>
          </a:prstGeom>
          <a:ln w="0">
            <a:noFill/>
          </a:ln>
        </p:spPr>
      </p:pic>
      <p:pic>
        <p:nvPicPr>
          <p:cNvPr id="516" name="Прямоугольник 56" descr=""/>
          <p:cNvPicPr/>
          <p:nvPr/>
        </p:nvPicPr>
        <p:blipFill>
          <a:blip r:embed="rId8"/>
          <a:stretch/>
        </p:blipFill>
        <p:spPr>
          <a:xfrm>
            <a:off x="1195560" y="4638600"/>
            <a:ext cx="309240" cy="3906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ая соединительная линия 57"/>
          <p:cNvSpPr/>
          <p:nvPr/>
        </p:nvSpPr>
        <p:spPr>
          <a:xfrm flipV="1">
            <a:off x="1420920" y="4351320"/>
            <a:ext cx="1634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18" name="TextBox 55" descr=""/>
          <p:cNvPicPr/>
          <p:nvPr/>
        </p:nvPicPr>
        <p:blipFill>
          <a:blip r:embed="rId9"/>
          <a:stretch/>
        </p:blipFill>
        <p:spPr>
          <a:xfrm>
            <a:off x="360360" y="3743280"/>
            <a:ext cx="882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519" name="Группа 59"/>
          <p:cNvGrpSpPr/>
          <p:nvPr/>
        </p:nvGrpSpPr>
        <p:grpSpPr>
          <a:xfrm>
            <a:off x="7004160" y="0"/>
            <a:ext cx="1780920" cy="1436760"/>
            <a:chOff x="7004160" y="0"/>
            <a:chExt cx="1780920" cy="1436760"/>
          </a:xfrm>
        </p:grpSpPr>
        <p:sp>
          <p:nvSpPr>
            <p:cNvPr id="520" name="TextBox 61"/>
            <p:cNvSpPr/>
            <p:nvPr/>
          </p:nvSpPr>
          <p:spPr>
            <a:xfrm>
              <a:off x="7004160" y="0"/>
              <a:ext cx="1780920" cy="92952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360000" bIns="360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Gulim"/>
              </a:endParaRPr>
            </a:p>
          </p:txBody>
        </p:sp>
        <p:pic>
          <p:nvPicPr>
            <p:cNvPr id="521" name="TextBox 62" descr=""/>
            <p:cNvPicPr/>
            <p:nvPr/>
          </p:nvPicPr>
          <p:blipFill>
            <a:blip r:embed="rId10"/>
            <a:stretch/>
          </p:blipFill>
          <p:spPr>
            <a:xfrm>
              <a:off x="7156800" y="505080"/>
              <a:ext cx="1481400" cy="93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Рисунок 5" descr=""/>
          <p:cNvPicPr/>
          <p:nvPr/>
        </p:nvPicPr>
        <p:blipFill>
          <a:blip r:embed="rId11"/>
          <a:stretch/>
        </p:blipFill>
        <p:spPr>
          <a:xfrm>
            <a:off x="7991640" y="0"/>
            <a:ext cx="1152360" cy="336600"/>
          </a:xfrm>
          <a:prstGeom prst="rect">
            <a:avLst/>
          </a:prstGeom>
          <a:ln w="0">
            <a:noFill/>
          </a:ln>
        </p:spPr>
      </p:pic>
      <p:pic>
        <p:nvPicPr>
          <p:cNvPr id="523" name="Прямоугольник 64" descr=""/>
          <p:cNvPicPr/>
          <p:nvPr/>
        </p:nvPicPr>
        <p:blipFill>
          <a:blip r:embed="rId12"/>
          <a:stretch/>
        </p:blipFill>
        <p:spPr>
          <a:xfrm>
            <a:off x="360360" y="4846680"/>
            <a:ext cx="627120" cy="60948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3"/>
          <p:cNvSpPr/>
          <p:nvPr/>
        </p:nvSpPr>
        <p:spPr>
          <a:xfrm>
            <a:off x="840960" y="49482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Gulim"/>
              </a:rPr>
              <a:t>(м)</a:t>
            </a:r>
            <a:endParaRPr b="0" lang="en-US" sz="1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25" name="TextBox 68" descr=""/>
          <p:cNvPicPr/>
          <p:nvPr/>
        </p:nvPicPr>
        <p:blipFill>
          <a:blip r:embed="rId13"/>
          <a:stretch/>
        </p:blipFill>
        <p:spPr>
          <a:xfrm>
            <a:off x="3273480" y="2925720"/>
            <a:ext cx="1219320" cy="397080"/>
          </a:xfrm>
          <a:prstGeom prst="rect">
            <a:avLst/>
          </a:prstGeom>
          <a:ln w="0">
            <a:noFill/>
          </a:ln>
        </p:spPr>
      </p:pic>
      <p:pic>
        <p:nvPicPr>
          <p:cNvPr id="526" name="TextBox 70" descr=""/>
          <p:cNvPicPr/>
          <p:nvPr/>
        </p:nvPicPr>
        <p:blipFill>
          <a:blip r:embed="rId14"/>
          <a:stretch/>
        </p:blipFill>
        <p:spPr>
          <a:xfrm>
            <a:off x="3273480" y="3328920"/>
            <a:ext cx="1219320" cy="500040"/>
          </a:xfrm>
          <a:prstGeom prst="rect">
            <a:avLst/>
          </a:prstGeom>
          <a:ln w="0">
            <a:noFill/>
          </a:ln>
        </p:spPr>
      </p:pic>
      <p:pic>
        <p:nvPicPr>
          <p:cNvPr id="527" name="Прямоугольник 85" descr=""/>
          <p:cNvPicPr/>
          <p:nvPr/>
        </p:nvPicPr>
        <p:blipFill>
          <a:blip r:embed="rId15"/>
          <a:stretch/>
        </p:blipFill>
        <p:spPr>
          <a:xfrm>
            <a:off x="3968640" y="3151080"/>
            <a:ext cx="311400" cy="39060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 87" descr=""/>
          <p:cNvPicPr/>
          <p:nvPr/>
        </p:nvPicPr>
        <p:blipFill>
          <a:blip r:embed="rId16"/>
          <a:stretch/>
        </p:blipFill>
        <p:spPr>
          <a:xfrm>
            <a:off x="3273480" y="3895560"/>
            <a:ext cx="828720" cy="39528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ая соединительная линия 88"/>
          <p:cNvSpPr/>
          <p:nvPr/>
        </p:nvSpPr>
        <p:spPr>
          <a:xfrm>
            <a:off x="366840" y="5635800"/>
            <a:ext cx="5500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30" name="TextBox 89" descr=""/>
          <p:cNvPicPr/>
          <p:nvPr/>
        </p:nvPicPr>
        <p:blipFill>
          <a:blip r:embed="rId17"/>
          <a:stretch/>
        </p:blipFill>
        <p:spPr>
          <a:xfrm>
            <a:off x="360360" y="5870520"/>
            <a:ext cx="3389400" cy="39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5" descr="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336600"/>
          </a:xfrm>
          <a:prstGeom prst="rect">
            <a:avLst/>
          </a:prstGeom>
          <a:ln w="0">
            <a:noFill/>
          </a:ln>
        </p:spPr>
      </p:pic>
      <p:sp>
        <p:nvSpPr>
          <p:cNvPr id="533" name="TextBox 6"/>
          <p:cNvSpPr/>
          <p:nvPr/>
        </p:nvSpPr>
        <p:spPr>
          <a:xfrm>
            <a:off x="358920" y="703440"/>
            <a:ext cx="842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Итоги урока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1587600" y="1444680"/>
            <a:ext cx="5991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Gulim"/>
              </a:rPr>
              <a:t>Чтобы разделить одну дробь на другую</a:t>
            </a:r>
            <a:r>
              <a:rPr b="0" lang="ru-RU" sz="1800" spc="-1" strike="noStrike">
                <a:solidFill>
                  <a:srgbClr val="fefde3"/>
                </a:solidFill>
                <a:latin typeface="Gulim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fefde3"/>
                </a:solidFill>
                <a:latin typeface="Gulim"/>
              </a:rPr>
              <a:t>надо делимое умножить на число, обратное делителю.</a:t>
            </a:r>
            <a:endParaRPr b="0" lang="en-US" sz="18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35" name="TextBox 9" descr=""/>
          <p:cNvPicPr/>
          <p:nvPr/>
        </p:nvPicPr>
        <p:blipFill>
          <a:blip r:embed="rId3"/>
          <a:stretch/>
        </p:blipFill>
        <p:spPr>
          <a:xfrm>
            <a:off x="3633840" y="2523960"/>
            <a:ext cx="1908000" cy="1292400"/>
          </a:xfrm>
          <a:prstGeom prst="rect">
            <a:avLst/>
          </a:prstGeom>
          <a:ln w="0">
            <a:noFill/>
          </a:ln>
        </p:spPr>
      </p:pic>
      <p:pic>
        <p:nvPicPr>
          <p:cNvPr id="536" name="TextBox 13" descr=""/>
          <p:cNvPicPr/>
          <p:nvPr/>
        </p:nvPicPr>
        <p:blipFill>
          <a:blip r:embed="rId4"/>
          <a:stretch/>
        </p:blipFill>
        <p:spPr>
          <a:xfrm>
            <a:off x="1573200" y="4273560"/>
            <a:ext cx="1908360" cy="1298520"/>
          </a:xfrm>
          <a:prstGeom prst="rect">
            <a:avLst/>
          </a:prstGeom>
          <a:ln w="0">
            <a:noFill/>
          </a:ln>
        </p:spPr>
      </p:pic>
      <p:pic>
        <p:nvPicPr>
          <p:cNvPr id="537" name="TextBox 15" descr=""/>
          <p:cNvPicPr/>
          <p:nvPr/>
        </p:nvPicPr>
        <p:blipFill>
          <a:blip r:embed="rId5"/>
          <a:stretch/>
        </p:blipFill>
        <p:spPr>
          <a:xfrm>
            <a:off x="5688000" y="4273560"/>
            <a:ext cx="19083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№ </a:t>
            </a:r>
            <a:r>
              <a:rPr b="1" lang="ru-RU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607 (б, ж, л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8226720" y="5734080"/>
            <a:ext cx="5007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Gulim"/>
                <a:hlinkClick r:id="rId1" action="ppaction://hlinksldjump"/>
              </a:rPr>
              <a:t>&gt;</a:t>
            </a: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 rot="5400000">
            <a:off x="2552040" y="-770760"/>
            <a:ext cx="1224000" cy="4222800"/>
          </a:xfrm>
          <a:prstGeom prst="rect">
            <a:avLst/>
          </a:prstGeom>
          <a:solidFill>
            <a:srgbClr val="21d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419"/>
                </a:solidFill>
                <a:latin typeface="Times New Roman"/>
              </a:rPr>
              <a:t>Ура! ! !  Мне всё понятно!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41" name="Rectangle 14"/>
          <p:cNvSpPr/>
          <p:nvPr/>
        </p:nvSpPr>
        <p:spPr>
          <a:xfrm rot="5400000">
            <a:off x="4136040" y="1200960"/>
            <a:ext cx="1376280" cy="4248000"/>
          </a:xfrm>
          <a:prstGeom prst="rect">
            <a:avLst/>
          </a:prstGeom>
          <a:solidFill>
            <a:srgbClr val="ecf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Есть моменты над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которыми мне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надо поработать!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42" name="Rectangle 15"/>
          <p:cNvSpPr/>
          <p:nvPr/>
        </p:nvSpPr>
        <p:spPr>
          <a:xfrm rot="5400000">
            <a:off x="5758920" y="3249720"/>
            <a:ext cx="1297080" cy="4103640"/>
          </a:xfrm>
          <a:prstGeom prst="rect">
            <a:avLst/>
          </a:prstGeom>
          <a:solidFill>
            <a:srgbClr val="e43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419"/>
                </a:solidFill>
                <a:latin typeface="Times New Roman"/>
              </a:rPr>
              <a:t>Были неудачи, но я 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419"/>
                </a:solidFill>
                <a:latin typeface="Times New Roman"/>
              </a:rPr>
              <a:t>все преодолею!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43" name="Picture 52" descr="E:\ИринаМих\АНИМАЦИЯ\arg-5-50-trans.gif"/>
          <p:cNvPicPr/>
          <p:nvPr/>
        </p:nvPicPr>
        <p:blipFill>
          <a:blip r:embed="rId1"/>
          <a:stretch/>
        </p:blipFill>
        <p:spPr>
          <a:xfrm>
            <a:off x="1052640" y="3573360"/>
            <a:ext cx="200016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2"/>
          <p:cNvSpPr/>
          <p:nvPr/>
        </p:nvSpPr>
        <p:spPr>
          <a:xfrm>
            <a:off x="971640" y="907920"/>
            <a:ext cx="78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ulim"/>
              </a:rPr>
              <a:t>Домашнее задание: </a:t>
            </a: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ulim"/>
              </a:rPr>
              <a:t>- выучить правило деления дробей;</a:t>
            </a:r>
            <a:endParaRPr b="0" lang="en-US" sz="3600" spc="-1" strike="noStrike">
              <a:solidFill>
                <a:srgbClr val="ff0000"/>
              </a:solidFill>
              <a:latin typeface="Gulim"/>
            </a:endParaRPr>
          </a:p>
          <a:p>
            <a:pPr>
              <a:spcAft>
                <a:spcPts val="1199"/>
              </a:spcAft>
              <a:buClr>
                <a:srgbClr val="7030a0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ulim"/>
              </a:rPr>
              <a:t>№ </a:t>
            </a:r>
            <a:r>
              <a:rPr b="0" lang="ru-RU" sz="3600" spc="-1" strike="noStrike">
                <a:solidFill>
                  <a:srgbClr val="7030a0"/>
                </a:solidFill>
                <a:latin typeface="Gulim"/>
              </a:rPr>
              <a:t>633</a:t>
            </a:r>
            <a:endParaRPr b="0" lang="en-US" sz="3600" spc="-1" strike="noStrike">
              <a:solidFill>
                <a:srgbClr val="ff0000"/>
              </a:solidFill>
              <a:latin typeface="Gulim"/>
            </a:endParaRPr>
          </a:p>
          <a:p>
            <a:pPr>
              <a:spcAft>
                <a:spcPts val="1199"/>
              </a:spcAft>
              <a:buClr>
                <a:srgbClr val="7030a0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ulim"/>
              </a:rPr>
              <a:t>+ №.</a:t>
            </a:r>
            <a:endParaRPr b="0" lang="en-US" sz="36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45" name="Picture 3" descr="slide0012_image044"/>
          <p:cNvPicPr/>
          <p:nvPr/>
        </p:nvPicPr>
        <p:blipFill>
          <a:blip r:embed="rId1"/>
          <a:stretch/>
        </p:blipFill>
        <p:spPr>
          <a:xfrm>
            <a:off x="5796000" y="364500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5"/>
          <p:cNvSpPr/>
          <p:nvPr/>
        </p:nvSpPr>
        <p:spPr>
          <a:xfrm>
            <a:off x="1258920" y="76500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7030a0"/>
                </a:solidFill>
                <a:latin typeface="Gulim"/>
              </a:rPr>
              <a:t>Всем спасибо за урок!</a:t>
            </a:r>
            <a:endParaRPr b="0" lang="en-US" sz="60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47" name="Рисунок 4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1871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76360" y="2565000"/>
            <a:ext cx="6624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числа взаимно обратные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571680"/>
          <a:ext cx="7572240" cy="136656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6080"/>
                <a:gridCol w="946080"/>
                <a:gridCol w="946080"/>
                <a:gridCol w="947880"/>
                <a:gridCol w="944640"/>
                <a:gridCol w="947520"/>
              </a:tblGrid>
              <a:tr h="1366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6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8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0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2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33"/>
          <p:cNvSpPr/>
          <p:nvPr/>
        </p:nvSpPr>
        <p:spPr>
          <a:xfrm>
            <a:off x="826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4"/>
              <p:cNvSpPr txBox="1"/>
              <p:nvPr/>
            </p:nvSpPr>
            <p:spPr>
              <a:xfrm>
                <a:off x="6056280" y="5493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Rectangle 35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6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80" name="Rectangle 46"/>
          <p:cNvSpPr/>
          <p:nvPr/>
        </p:nvSpPr>
        <p:spPr>
          <a:xfrm>
            <a:off x="2268360" y="618804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4 0.11019 C 0.01944 0.11551 0.01614 0.11181 0.02187 0.12292 C 0.02257 0.12454 0.0243 0.12477 0.02535 0.12593 C 0.02864 0.12917 0.03177 0.13241 0.03489 0.13565 C 0.04826 0.14931 0.0658 0.15648 0.08246 0.15926 C 0.09271 0.16736 0.08455 0.1625 0.09913 0.16574 C 0.10712 0.16759 0.11493 0.17153 0.12291 0.17361 C 0.12934 0.18009 0.13802 0.18588 0.14566 0.18958 C 0.14913 0.19121 0.15295 0.1919 0.15625 0.19421 C 0.16493 0.20023 0.16719 0.20185 0.17656 0.20371 C 0.18785 0.2088 0.20069 0.20926 0.21232 0.21019 C 0.22691 0.21528 0.24861 0.21644 0.26354 0.21644 C 0.40972 0.21736 0.55642 0.21759 0.70278 0.21806 C 0.71111 0.21968 0.71857 0.22292 0.72656 0.22593 C 0.73003 0.2331 0.73281 0.24074 0.73611 0.24815 C 0.7401 0.28009 0.74132 0.26783 0.73732 0.32593 C 0.73698 0.33171 0.72934 0.33681 0.72656 0.34028 C 0.71875 0.34954 0.71979 0.34815 0.7158 0.35625 C 0.71354 0.36783 0.70798 0.37384 0.70278 0.3831 C 0.70173 0.38704 0.69826 0.39583 0.69444 0.39583 C 0.55399 0.39746 0.41319 0.39699 0.27291 0.39746 C 0.25364 0.39838 0.24323 0.39884 0.22656 0.40371 C 0.21979 0.41273 0.21302 0.42176 0.20625 0.43079 C 0.20469 0.43982 0.20052 0.45 0.19687 0.45787 C 0.19583 0.48056 0.19444 0.49722 0.19444 0.51968 E">
                                      <p:cBhvr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0.12083 C 0.01702 0.13472 0.01511 0.13472 0.01025 0.1463 C 0.00591 0.15648 0.00035 0.17107 -0.00868 0.17477 C -0.01666 0.1831 -0.02864 0.2 -0.03975 0.20185 C -0.04757 0.20324 -0.05555 0.20301 -0.06354 0.20347 C -0.09705 0.20857 -0.13107 0.20486 -0.16475 0.2081 C -0.17257 0.21158 -0.17934 0.2169 -0.18732 0.21921 C -0.19618 0.22523 -0.21649 0.23403 -0.22309 0.24306 C -0.22673 0.24815 -0.22934 0.25347 -0.23368 0.25741 C -0.23611 0.26366 -0.23975 0.26852 -0.24201 0.27477 C -0.24253 0.27639 -0.24271 0.27801 -0.24323 0.27963 C -0.24392 0.28171 -0.24479 0.2838 -0.24566 0.28588 C -0.24705 0.29306 -0.24826 0.29908 -0.24913 0.30671 C -0.24878 0.3294 -0.24878 0.35208 -0.24809 0.37477 C -0.24791 0.38079 -0.24548 0.38658 -0.24444 0.39236 C -0.24357 0.39722 -0.2408 0.40671 -0.2408 0.40695 C -0.23975 0.42176 -0.23611 0.43634 -0.23246 0.45116 C -0.2309 0.45741 -0.22534 0.46852 -0.22534 0.46875 C -0.22309 0.4838 -0.21666 0.49722 -0.21232 0.51134 C -0.2059 0.53195 -0.2 0.55324 -0.19323 0.57338 C -0.18836 0.58796 -0.18472 0.60394 -0.17656 0.61621 C -0.17569 0.61759 -0.17396 0.61783 -0.17309 0.61921 C -0.16996 0.62361 -0.16857 0.63033 -0.16475 0.63357 C -0.16354 0.63472 -0.16215 0.63542 -0.16111 0.63681 C -0.15277 0.64769 -0.14618 0.65602 -0.13489 0.66227 C -0.12465 0.67593 -0.10937 0.68056 -0.09687 0.68912 C -0.08698 0.69583 -0.07968 0.70533 -0.06823 0.7081 C -0.05573 0.71458 -0.0434 0.72107 -0.03021 0.72408 C -0.01093 0.73519 0.0125 0.73565 0.03299 0.73681 C 0.16372 0.73333 0.11632 0.74676 0.16389 0.73033 C 0.18334 0.71412 0.19497 0.69144 0.2092 0.66852 C 0.21268 0.65232 0.20625 0.68033 0.21389 0.65579 C 0.21598 0.64884 0.2158 0.64074 0.21754 0.63357 C 0.21927 0.59537 0.21979 0.59213 0.21754 0.54005 C 0.21719 0.53287 0.21268 0.52639 0.21268 0.51921 E">
                                      <p:cBhvr>
                                        <p:cTn id="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071720" y="549360"/>
          <a:ext cx="7572240" cy="1366920"/>
        </p:xfrm>
        <a:graphic>
          <a:graphicData uri="http://schemas.openxmlformats.org/drawingml/2006/table">
            <a:tbl>
              <a:tblPr/>
              <a:tblGrid>
                <a:gridCol w="947520"/>
                <a:gridCol w="946080"/>
                <a:gridCol w="946440"/>
                <a:gridCol w="946080"/>
                <a:gridCol w="946080"/>
                <a:gridCol w="947880"/>
                <a:gridCol w="944280"/>
                <a:gridCol w="947880"/>
              </a:tblGrid>
              <a:tr h="136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121428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6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8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0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2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34"/>
              <p:cNvSpPr txBox="1"/>
              <p:nvPr/>
            </p:nvSpPr>
            <p:spPr>
              <a:xfrm>
                <a:off x="6056280" y="5493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Rectangle 35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6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2556000" y="29440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дробь, равную 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8865 C -0.00313 0.09884 -0.00729 0.1081 -0.01181 0.11736 C -0.02049 0.13541 -0.00868 0.11527 -0.01545 0.1331 C -0.01615 0.13518 -0.01806 0.13611 -0.0191 0.13796 C -0.02014 0.14004 -0.02136 0.14189 -0.0224 0.14421 C -0.02327 0.14629 -0.02379 0.14884 -0.025 0.15069 C -0.02674 0.1537 -0.02917 0.15555 -0.03073 0.15856 C -0.03472 0.16504 -0.03785 0.17245 -0.04167 0.17916 C -0.04722 0.18865 -0.05972 0.19189 -0.06788 0.19351 C -0.07986 0.19907 -0.09531 0.19861 -0.10695 0.19976 C -0.14063 0.20347 -0.17448 0.20231 -0.20816 0.203 C -0.22465 0.20625 -0.2415 0.20671 -0.25816 0.20763 C -0.32483 0.21782 -0.38629 0.21643 -0.45573 0.21736 C -0.46094 0.21805 -0.46945 0.21898 -0.47483 0.22037 C -0.48472 0.22314 -0.49288 0.23588 -0.50104 0.24259 C -0.50677 0.25486 -0.5099 0.26759 -0.51406 0.28078 C -0.51528 0.29351 -0.51719 0.30601 -0.51893 0.31875 C -0.52014 0.32777 -0.52014 0.33703 -0.5224 0.34583 C -0.52344 0.37407 -0.52865 0.41226 -0.5224 0.43958 C -0.51962 0.45185 -0.51372 0.46296 -0.50816 0.47291 C -0.50573 0.47731 -0.50504 0.48333 -0.50226 0.48703 C -0.49861 0.49189 -0.4934 0.49421 -0.49028 0.49976 C -0.48438 0.51018 -0.47379 0.51851 -0.46528 0.52523 C -0.46007 0.52939 -0.45573 0.53611 -0.44983 0.53796 C -0.44514 0.53958 -0.44132 0.54259 -0.43663 0.54421 C -0.4125 0.55231 -0.38906 0.56111 -0.36406 0.56319 C -0.32535 0.5706 -0.28525 0.57129 -0.2474 0.55856 C -0.24115 0.55277 -0.23334 0.54907 -0.22604 0.54583 C -0.22031 0.54328 -0.2132 0.53472 -0.20816 0.52986 C -0.20556 0.52754 -0.19913 0.52615 -0.19618 0.52523 C -0.18577 0.52685 -0.17535 0.53032 -0.16545 0.53472 C -0.15972 0.54236 -0.1625 0.53773 -0.15695 0.54907 C -0.15556 0.55185 -0.15452 0.55856 -0.15452 0.55856 C -0.15556 0.57453 -0.15434 0.57569 -0.16163 0.58541 C -0.16198 0.58703 -0.16285 0.59027 -0.16285 0.59027 E">
                                      <p:cBhvr>
                                        <p:cTn id="5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143000" y="549360"/>
          <a:ext cx="7643880" cy="1439640"/>
        </p:xfrm>
        <a:graphic>
          <a:graphicData uri="http://schemas.openxmlformats.org/drawingml/2006/table">
            <a:tbl>
              <a:tblPr/>
              <a:tblGrid>
                <a:gridCol w="955800"/>
                <a:gridCol w="955440"/>
                <a:gridCol w="955800"/>
                <a:gridCol w="955800"/>
                <a:gridCol w="954000"/>
                <a:gridCol w="957240"/>
                <a:gridCol w="954000"/>
                <a:gridCol w="955800"/>
              </a:tblGrid>
              <a:tr h="1439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6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28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0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2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4"/>
              <p:cNvSpPr txBox="1"/>
              <p:nvPr/>
            </p:nvSpPr>
            <p:spPr>
              <a:xfrm>
                <a:off x="6056280" y="5493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36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13" name="Rectangle 41"/>
          <p:cNvSpPr/>
          <p:nvPr/>
        </p:nvSpPr>
        <p:spPr>
          <a:xfrm>
            <a:off x="1116000" y="28692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число, обратное самому себ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50"/>
              <p:cNvSpPr txBox="1"/>
              <p:nvPr/>
            </p:nvSpPr>
            <p:spPr>
              <a:xfrm>
                <a:off x="5219640" y="620640"/>
                <a:ext cx="533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C 0.00121 0.01389 0.00034 0.02848 0.00364 0.0419 C 0.00451 0.04514 0.00903 0.0426 0.01111 0.04445 C 0.01302 0.04607 0.01302 0.05 0.01475 0.05186 C 0.021 0.05903 0.02899 0.06574 0.03698 0.06899 C 0.05382 0.08449 0.06909 0.07871 0.09253 0.08149 C 0.12326 0.09167 0.15503 0.09491 0.18507 0.10857 C 0.19739 0.12431 0.1868 0.11274 0.22396 0.11852 C 0.25955 0.12408 0.24722 0.12176 0.28142 0.13079 C 0.28576 0.13195 0.29028 0.13357 0.29444 0.13565 C 0.29705 0.13681 0.29913 0.13982 0.30173 0.14074 C 0.31389 0.14468 0.32656 0.14537 0.33889 0.14815 C 0.3408 0.14977 0.34236 0.15232 0.34444 0.15301 C 0.3493 0.15486 0.35469 0.15255 0.3592 0.15556 C 0.36163 0.15718 0.36146 0.16204 0.36284 0.16528 C 0.37361 0.19051 0.36909 0.1838 0.37778 0.19491 C 0.37934 0.20486 0.38333 0.21436 0.38333 0.22454 C 0.38333 0.30116 0.40034 0.36227 0.36284 0.41227 C 0.35521 0.42246 0.34774 0.43496 0.33698 0.43936 C 0.3026 0.48588 0.33212 0.45186 0.22031 0.44931 C 0.20208 0.44514 0.18524 0.43936 0.16666 0.43704 C 0.15382 0.43357 0.14253 0.42408 0.12951 0.41968 C 0.11823 0.40973 0.13055 0.41922 0.11475 0.41227 C 0.1033 0.40718 0.11128 0.40857 0.10173 0.40232 C 0.09201 0.39584 0.08281 0.39051 0.07222 0.3875 C 0.0592 0.37593 0.0375 0.37269 0.02222 0.37037 C -0.02309 0.37524 -0.01354 0.36783 -0.03889 0.39005 C -0.04948 0.43102 -0.0408 0.39491 -0.0408 0.50371 E">
                                      <p:cBhvr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143000" y="549360"/>
          <a:ext cx="7715160" cy="1366920"/>
        </p:xfrm>
        <a:graphic>
          <a:graphicData uri="http://schemas.openxmlformats.org/drawingml/2006/table">
            <a:tbl>
              <a:tblPr/>
              <a:tblGrid>
                <a:gridCol w="1022400"/>
                <a:gridCol w="1019160"/>
                <a:gridCol w="1020600"/>
                <a:gridCol w="1020960"/>
                <a:gridCol w="1020600"/>
                <a:gridCol w="1020960"/>
                <a:gridCol w="947520"/>
                <a:gridCol w="642960"/>
              </a:tblGrid>
              <a:tr h="136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6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8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0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2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4"/>
              <p:cNvSpPr txBox="1"/>
              <p:nvPr/>
            </p:nvSpPr>
            <p:spPr>
              <a:xfrm>
                <a:off x="6440400" y="571680"/>
                <a:ext cx="48888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Rectangle 35"/>
          <p:cNvSpPr/>
          <p:nvPr/>
        </p:nvSpPr>
        <p:spPr>
          <a:xfrm>
            <a:off x="0" y="278136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6"/>
              <p:cNvSpPr txBox="1"/>
              <p:nvPr/>
            </p:nvSpPr>
            <p:spPr>
              <a:xfrm>
                <a:off x="8358120" y="64296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31" name="Rectangle 42"/>
          <p:cNvSpPr/>
          <p:nvPr/>
        </p:nvSpPr>
        <p:spPr>
          <a:xfrm>
            <a:off x="611280" y="2780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дробь, которая  больше 1 и меньше 2. 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0.08125 C 0.00938 0.08519 0.00816 0.09051 0.00434 0.0956 C 0.00295 0.10301 0.00035 0.10926 -0.00156 0.11621 C -0.00364 0.12384 -0.00486 0.13125 -0.00764 0.13843 C -0.00902 0.14954 -0.01059 0.16065 -0.01232 0.17176 C -0.01024 0.22199 -0.01371 0.18796 -0.00989 0.20509 C -0.00937 0.20718 -0.00989 0.20996 -0.00868 0.21158 C -0.00746 0.2132 -0.00555 0.2125 -0.00399 0.21296 C 0.00018 0.21574 0.00365 0.21921 0.00799 0.22107 C 0.01962 0.23658 0.00417 0.21736 0.01511 0.22732 C 0.02084 0.23264 0.02639 0.24028 0.03177 0.2463 C 0.03768 0.25278 0.04219 0.2625 0.04723 0.27014 C 0.05052 0.27523 0.05434 0.28009 0.05677 0.28611 C 0.05868 0.29121 0.05938 0.29676 0.06146 0.30185 C 0.06111 0.31042 0.06094 0.31875 0.06025 0.32732 C 0.0599 0.33241 0.05834 0.33241 0.05677 0.33681 C 0.05295 0.34722 0.04861 0.3588 0.04132 0.36551 C 0.03594 0.37593 0.02969 0.38496 0.02466 0.3956 C 0.025 0.39884 0.02518 0.40764 0.02691 0.41158 C 0.03993 0.44213 0.0691 0.43287 0.09132 0.4338 C 0.09861 0.43588 0.11025 0.4507 0.11511 0.45903 C 0.11927 0.4757 0.11511 0.49259 0.11511 0.50996 E">
                                      <p:cBhvr>
                                        <p:cTn id="9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66920" y="54936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280"/>
                <a:gridCol w="973440"/>
                <a:gridCol w="971280"/>
                <a:gridCol w="97344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6"/>
              <p:cNvSpPr txBox="1"/>
              <p:nvPr/>
            </p:nvSpPr>
            <p:spPr>
              <a:xfrm>
                <a:off x="1714680" y="785880"/>
                <a:ext cx="361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8"/>
              <p:cNvSpPr txBox="1"/>
              <p:nvPr/>
            </p:nvSpPr>
            <p:spPr>
              <a:xfrm>
                <a:off x="2643120" y="78588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0"/>
              <p:cNvSpPr txBox="1"/>
              <p:nvPr/>
            </p:nvSpPr>
            <p:spPr>
              <a:xfrm>
                <a:off x="3571920" y="78588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2"/>
              <p:cNvSpPr txBox="1"/>
              <p:nvPr/>
            </p:nvSpPr>
            <p:spPr>
              <a:xfrm>
                <a:off x="4572000" y="785880"/>
                <a:ext cx="3589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4"/>
              <p:cNvSpPr txBox="1"/>
              <p:nvPr/>
            </p:nvSpPr>
            <p:spPr>
              <a:xfrm>
                <a:off x="6572160" y="71424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Rectangle 35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6"/>
              <p:cNvSpPr txBox="1"/>
              <p:nvPr/>
            </p:nvSpPr>
            <p:spPr>
              <a:xfrm>
                <a:off x="8429760" y="785880"/>
                <a:ext cx="4172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48" name="Rectangle 43"/>
          <p:cNvSpPr/>
          <p:nvPr/>
        </p:nvSpPr>
        <p:spPr>
          <a:xfrm>
            <a:off x="2195640" y="28900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дробь равна 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4"/>
              <p:cNvSpPr txBox="1"/>
              <p:nvPr/>
            </p:nvSpPr>
            <p:spPr>
              <a:xfrm>
                <a:off x="6516720" y="2708280"/>
                <a:ext cx="78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06358E-006 C 0.00573 0.00763 0.00833 0.01734 0.01424 0.02543 C 0.01615 0.03329 0.02014 0.03769 0.02379 0.04439 C 0.02431 0.04717 0.02413 0.0504 0.02535 0.05295 C 0.02639 0.05503 0.02917 0.0548 0.03004 0.05711 C 0.03143 0.06104 0.03073 0.06566 0.0316 0.06983 C 0.03229 0.07283 0.03646 0.08162 0.03802 0.08462 C 0.03958 0.0874 0.04097 0.0904 0.04271 0.09295 C 0.04514 0.09665 0.0507 0.10358 0.0507 0.10358 C 0.05903 0.13202 0.05938 0.16277 0.06337 0.19237 C 0.06597 0.21156 0.07014 0.22358 0.08403 0.22821 C 0.21077 0.22127 0.35278 0.23306 0.47292 0.23468 C 0.48577 0.23815 0.49583 0.243 0.50781 0.24948 C 0.51702 0.26127 0.50903 0.24948 0.5158 0.26428 C 0.51979 0.27283 0.52465 0.27815 0.53004 0.28532 C 0.53438 0.2911 0.53594 0.29988 0.53958 0.30659 C 0.55156 0.35445 0.54497 0.42659 0.51424 0.46081 C 0.50833 0.46728 0.50486 0.47676 0.49827 0.48208 C 0.48941 0.48925 0.47674 0.48925 0.46667 0.49457 C 0.40504 0.49341 0.3559 0.49156 0.29827 0.48416 C 0.27379 0.47607 0.2507 0.48185 0.22535 0.48416 C 0.22101 0.5015 0.2217 0.49248 0.22379 0.51168 C 0.22292 0.5267 0.225 0.53734 0.21736 0.54751 E">
                                      <p:cBhvr>
                                        <p:cTn id="103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366920" y="54936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280"/>
                <a:gridCol w="973440"/>
                <a:gridCol w="971280"/>
                <a:gridCol w="97344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6"/>
              <p:cNvSpPr txBox="1"/>
              <p:nvPr/>
            </p:nvSpPr>
            <p:spPr>
              <a:xfrm>
                <a:off x="1643040" y="642960"/>
                <a:ext cx="361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8"/>
              <p:cNvSpPr txBox="1"/>
              <p:nvPr/>
            </p:nvSpPr>
            <p:spPr>
              <a:xfrm>
                <a:off x="2643120" y="714240"/>
                <a:ext cx="381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30"/>
              <p:cNvSpPr txBox="1"/>
              <p:nvPr/>
            </p:nvSpPr>
            <p:spPr>
              <a:xfrm>
                <a:off x="3571920" y="714240"/>
                <a:ext cx="377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2"/>
              <p:cNvSpPr txBox="1"/>
              <p:nvPr/>
            </p:nvSpPr>
            <p:spPr>
              <a:xfrm>
                <a:off x="4500720" y="78588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4"/>
              <p:cNvSpPr txBox="1"/>
              <p:nvPr/>
            </p:nvSpPr>
            <p:spPr>
              <a:xfrm>
                <a:off x="6429240" y="8571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Rectangle 35"/>
          <p:cNvSpPr/>
          <p:nvPr/>
        </p:nvSpPr>
        <p:spPr>
          <a:xfrm>
            <a:off x="611280" y="285192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число не имеет обратного?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6"/>
              <p:cNvSpPr txBox="1"/>
              <p:nvPr/>
            </p:nvSpPr>
            <p:spPr>
              <a:xfrm>
                <a:off x="8286840" y="928800"/>
                <a:ext cx="4176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66" name="Rectangle 46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9"/>
              <p:cNvSpPr txBox="1"/>
              <p:nvPr/>
            </p:nvSpPr>
            <p:spPr>
              <a:xfrm>
                <a:off x="7429680" y="1000080"/>
                <a:ext cx="36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2948E-006 C -0.00052 0.02682 -0.00069 0.05341 -0.00156 0.08023 C -0.00156 0.08208 -0.00278 0.09734 -0.00469 0.10151 C -0.00694 0.10682 -0.01267 0.1163 -0.01267 0.1163 C -0.01562 0.13249 -0.02031 0.13388 -0.03177 0.14174 C -0.03489 0.14382 -0.03923 0.1496 -0.04288 0.15006 C -0.0566 0.15191 -0.07048 0.15145 -0.0842 0.15214 C -0.08576 0.15353 -0.08785 0.15445 -0.08889 0.15653 C -0.09062 0.16023 -0.09201 0.16902 -0.09201 0.16902 C -0.09149 0.17179 -0.09167 0.17503 -0.09045 0.17757 C -0.08698 0.18451 -0.07517 0.1859 -0.06979 0.18821 C -0.05451 0.20185 -0.0066 0.19977 0.00469 0.20093 C 0.01632 0.2044 0.02552 0.20856 0.03646 0.21341 C 0.04809 0.2289 0.05868 0.2444 0.06979 0.26012 C 0.0691 0.27492 0.07153 0.2911 0.06667 0.30451 C 0.0625 0.31584 0.05295 0.32717 0.04601 0.33411 C 0.0434 0.33688 0.03715 0.34752 0.03333 0.3489 C 0.00868 0.35815 0.01754 0.34821 -3.61111E-006 0.35723 C -0.00677 0.3607 -0.01649 0.37341 -0.02378 0.37411 C -0.05069 0.37665 -0.07778 0.37711 -0.10469 0.3785 C -0.13733 0.37734 -0.15538 0.38335 -0.1809 0.37203 C -0.18594 0.36578 -0.18993 0.36555 -0.19687 0.3637 C -0.20364 0.35422 -0.21614 0.35307 -0.22535 0.3489 C -0.23993 0.33572 -0.25851 0.34567 -0.27465 0.35098 C -0.28177 0.35723 -0.28142 0.3644 -0.2842 0.37411 C -0.28472 0.39538 -0.28437 0.41665 -0.28576 0.43769 C -0.28611 0.44208 -0.28889 0.45018 -0.28889 0.45018 E">
                                      <p:cBhvr>
                                        <p:cTn id="119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366920" y="54936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280"/>
                <a:gridCol w="973440"/>
                <a:gridCol w="971280"/>
                <a:gridCol w="97344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6"/>
              <p:cNvSpPr txBox="1"/>
              <p:nvPr/>
            </p:nvSpPr>
            <p:spPr>
              <a:xfrm>
                <a:off x="1643040" y="642960"/>
                <a:ext cx="361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8"/>
              <p:cNvSpPr txBox="1"/>
              <p:nvPr/>
            </p:nvSpPr>
            <p:spPr>
              <a:xfrm>
                <a:off x="2643120" y="714240"/>
                <a:ext cx="381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30"/>
              <p:cNvSpPr txBox="1"/>
              <p:nvPr/>
            </p:nvSpPr>
            <p:spPr>
              <a:xfrm>
                <a:off x="3571920" y="714240"/>
                <a:ext cx="377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32"/>
              <p:cNvSpPr txBox="1"/>
              <p:nvPr/>
            </p:nvSpPr>
            <p:spPr>
              <a:xfrm>
                <a:off x="4500720" y="78588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4"/>
              <p:cNvSpPr txBox="1"/>
              <p:nvPr/>
            </p:nvSpPr>
            <p:spPr>
              <a:xfrm>
                <a:off x="6429240" y="8571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81" name="Rectangle 35" descr=""/>
          <p:cNvPicPr/>
          <p:nvPr/>
        </p:nvPicPr>
        <p:blipFill>
          <a:blip r:embed="rId1"/>
          <a:stretch/>
        </p:blipFill>
        <p:spPr>
          <a:xfrm>
            <a:off x="-6480" y="2736720"/>
            <a:ext cx="9156960" cy="81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2" name="Object 36"/>
              <p:cNvSpPr txBox="1"/>
              <p:nvPr/>
            </p:nvSpPr>
            <p:spPr>
              <a:xfrm>
                <a:off x="8286840" y="928800"/>
                <a:ext cx="4176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84" name="Rectangle 46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9"/>
              <p:cNvSpPr txBox="1"/>
              <p:nvPr/>
            </p:nvSpPr>
            <p:spPr>
              <a:xfrm>
                <a:off x="7429680" y="1000080"/>
                <a:ext cx="36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C -0.00139 0.00648 -0.00677 0.01782 -0.00677 0.01782 C -0.00868 0.02824 -0.01667 0.04051 -0.02344 0.04583 C -0.02778 0.06435 -0.02257 0.04583 -0.03003 0.06227 C -0.03368 0.07037 -0.03594 0.0794 -0.0401 0.08727 C -0.04132 0.09653 -0.04514 0.10625 -0.04896 0.11412 C -0.05226 0.12917 -0.04983 0.14583 -0.04444 0.15995 C -0.04358 0.16667 -0.04271 0.17454 -0.04115 0.18079 C -0.03993 0.18565 -0.0349 0.19398 -0.03333 0.19699 C -0.03038 0.20255 -0.02917 0.20972 -0.02778 0.2162 C -0.02674 0.22106 -0.02517 0.22662 -0.02344 0.23102 C -0.02135 0.23611 -0.01667 0.24583 -0.01667 0.24583 C -0.01493 0.25579 -0.01285 0.26551 -0.01111 0.27546 C -0.01059 0.27893 -0.00799 0.28125 -0.00677 0.28449 C -0.00451 0.29074 -0.00503 0.29398 -0.00121 0.2993 C 0.00017 0.30417 0.00104 0.30926 0.00226 0.31412 C 0.00365 0.34051 0.00313 0.36667 -0.00121 0.39259 C -0.00191 0.40602 -0.00312 0.41921 -0.0033 0.43264 C -0.00347 0.45393 -0.00295 0.475 -0.00226 0.4963 C -0.00208 0.50162 0.00139 0.50856 0.0033 0.5125 C 0.01944 0.54653 0.04149 0.5375 0.07101 0.53912 C 0.07778 0.53958 0.08438 0.54028 0.09115 0.54074 C 0.13142 0.53843 0.17118 0.54028 0.20885 0.51991 C 0.21424 0.51273 0.22135 0.50903 0.22778 0.5037 C 0.23403 0.49861 0.23976 0.49097 0.2467 0.48889 C 0.25226 0.47731 0.27465 0.46921 0.28438 0.46667 C 0.28906 0.4669 0.31146 0.4625 0.31997 0.47245 C 0.32274 0.47569 0.32448 0.48055 0.32778 0.48287 C 0.33281 0.48634 0.33142 0.48403 0.33333 0.48889 E">
                                      <p:cBhvr>
                                        <p:cTn id="125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4:32Z</dcterms:created>
  <dc:creator>Администратор</dc:creator>
  <dc:description/>
  <dc:language>en-US</dc:language>
  <cp:lastModifiedBy>ПНЮ</cp:lastModifiedBy>
  <dcterms:modified xsi:type="dcterms:W3CDTF">2023-12-11T08:26:46Z</dcterms:modified>
  <cp:revision>130</cp:revision>
  <dc:subject/>
  <dc:title>Урок математики  6класс</dc:title>
</cp:coreProperties>
</file>