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80E2-B944-4A8E-88F1-BFD18453E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ADE6-C9DB-4FCF-B5AA-F11954D9F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47C-B808-4E0D-A096-1415388E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4A1-43EE-4DDF-BC1E-7442A8B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C5E6-59CF-4DFE-9575-3520358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ECB8C-027A-446E-9F5E-66787788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6BD4-8ABA-4341-826C-EB72016F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B777B-493F-4D25-8976-8205381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06C6-09FE-4D53-9C9F-961D9CD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6B35D-0925-4AF1-B3F4-290BA53F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CA52B-903E-4C58-8255-C0900BB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87386-BEBD-4C5E-AD06-1CA469A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866CD-231E-4EFA-9FAC-A31A79E5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C3EC6-73D3-4EA0-AD02-22323D69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466-FBE5-473E-9C4A-037B359C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BE73F-824A-4DB4-9AA1-B3A3141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ADA4C-9A9A-4214-A3DF-407AB440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887FF-4FC8-40A4-AB4A-79941F89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EC149-33DF-4B5B-A5E2-473DCAC7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8577B-B110-4E29-9F34-5BA35160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0134E-FC59-4100-8A57-E15E746B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01087-D94F-4FDB-B5F6-EE02A26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FE371-9656-4F01-8533-14F23308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F685B-16E5-41D0-B5D8-7C481145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97F1-24C7-40CB-8D32-36D8DAC8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A7D-EBD8-4B0C-A78A-8BE51427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FD32C-4AF9-4CB8-BCA1-D80B7B17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A531-C609-4AAA-A7A3-2FE9F633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4ADD-A849-40F7-A96A-17268DA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9B1C9-11B4-416F-A146-DA5C619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5F87-3B2E-488E-BDB0-6695A6B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5BA2D-8F3E-4EA7-A94A-4C43E24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30B88-8836-4D36-8D31-F4B2C36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5275C-E9CD-4AAE-A7B0-CB8F771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92C76-ACB0-4F63-8D3D-812E836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3304-77EB-4E8E-8F04-94EA5D8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2729-3ADF-4483-9462-B7285AE0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DC56-7531-4AEC-90D1-D323E62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EE37-E2D7-4A8E-8436-926D9B4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7BAB-A12B-4018-B149-BB94CAB7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1D42D-6821-4251-BC89-4EEE6584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266A3-0FC8-4FC0-A9A6-D2FFF91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73B9-15C3-48A2-A1ED-B4572AA3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2BEFA-A672-433E-8CA1-51BC4CF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F1819-D409-4781-B24F-FEC5F4F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C58BD-D65B-49A8-9FE4-C45E89E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B4D33-AC17-4641-AC7E-9D69357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62D-D8D0-4FD5-B4FF-C1340D3E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2A78A-576A-4FAB-9352-BEC899B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91C3E-CF66-4FD0-B66B-42BC93EB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CE99-AF7F-46EB-B6B3-5292171F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5E816-4C1D-4B58-96D0-FF53C8D5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5705B-BF2E-4AD7-A7E9-EFC71321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6AF1F-29DB-4D21-990B-2E61BF63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D6303-29E5-40BB-8B1C-B05B57E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1949E-40E7-4CAC-9490-34A9FC30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4491E-F452-459A-A916-5E9D9454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BF738-5EC6-42F4-977B-ABDEA6C7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3CA9-102E-4884-85E5-8509F98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F5935-97A1-44C5-BBDF-1ECC67F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3DA66-7BBF-449A-97F6-35A6DC0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90454-C47D-4B55-B876-9617735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E80E7-70C4-414D-9D44-745D742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1300A-0267-4B57-B93D-EBC93EBE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40F05-C9FE-4580-BCCD-A1B67B40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7A5A4-819D-4CE8-8CE0-AD1D0EFE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18E4F-213C-4D41-9EC6-6B23D60B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6796A-7CBE-4A7A-8219-7B1FBB16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B912C-86DF-4F3F-B7F1-1D92CAD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2AE6-F9EB-4060-80FC-DEBD6925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F15EF-C931-4A75-ADA4-FADAC2E7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6CACC-E5C5-49AF-8817-4BAC7A0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5370F-17E2-4096-836A-10C70AC9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6AE2D-096A-46C3-AB8B-68891AB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3D66A-D7F0-4849-A1FA-57015D2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0D395-7F5B-439F-B938-EF50482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043D3-58CA-4519-A75E-CE2FEF5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4B005-D550-4DFC-B434-AB19C5F8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D733F-8F66-48A1-88F0-CAF191F9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9C605-B327-43A5-BFDD-B5B53382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EF8-AC1E-4190-8AC9-3544A15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25510-3A1F-4B39-A6DD-84C87C0B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3010F-C9F8-4E2B-A989-0C20814F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71657-A2F7-4914-A5F4-6E5983A3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808C7-DFC9-40C9-A21E-53893AF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783D2-7C39-4C02-8F7F-8628D2F6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EC0C0-64F2-48DA-BB6E-9AAB96BA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264CD-13C5-40A8-8EF3-B3A5E8E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4F290-6755-44B6-8879-A19B0C4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A6F62-4897-45BE-86AA-190B7A4E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E2CBE-F34D-4074-B0B4-97EA5FDE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FB8-D38F-48FF-B470-5ADDB980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0D067-8834-4602-9501-96375CAF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8531E-4259-42E3-8AF8-461A1E30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8A983-892B-4A7C-8943-DD7848DC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BE30C-0146-4FD3-82AD-812C8CF0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EE298-9C33-4FDE-AE0D-6B12E7C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543AB-120B-4873-B8DC-FE9EADE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4AE03-E0C7-4843-8D75-9B21AE27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556C9-2821-40FC-B77B-358F9588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99181-FC3D-496B-B5E1-662D02F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575A1-19C0-4565-A4C5-19DF4C0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9BE4-9646-4690-A0F4-7CDAB21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2200D-647F-4C09-8A53-8F22B8F3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7ABF1-1EA2-4E1F-9845-303767C9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9DDDA-0606-4F3F-9267-F559A935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AAEEB-6B19-40E8-B084-332FDE34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E8DDE-AA8C-4C39-AF6D-75F6D885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1B705-7335-47CC-9D3E-90DFCD7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9C0D6-2C38-48F4-A972-DD820A4F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2BD3B-35F5-4CC0-931D-3F1D955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E7C4E-6F6B-4F76-95E6-4D7AB90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76526-BCFA-425A-B908-1488053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641-6814-492F-AFB6-B309D97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0A9-9BD4-4CA6-8A35-C684513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FE4A5-654C-467E-8F93-8CCE1177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3ABBC-821E-4E60-A7EC-F257265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8FD14-2DFD-49C5-A937-3545B59F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4E80E-05A5-4738-A0EF-EA4B48DD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242AC-047B-4A61-BB93-B6DC7CD0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85894-5009-4CB3-AA7E-4281C544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938A0-2BB3-48D4-B40C-FDBAEB7F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D6C8A-4FAA-447F-AF58-85EE5E1C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A7FA2-5327-4CC4-90F9-452CA254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94B1D-7B24-4616-AACF-BCB7721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E6E-CBC8-4981-A255-13291FE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2ACB9-3F14-4B3D-BF5B-9118781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19A8F-9332-484A-B6CC-C737976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4A7AA-7B24-44FC-8FD7-269223A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94E4B-B951-4487-AE92-723E9C8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4813A-95CD-485F-9E77-EA1D5C77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D4304-8C18-4E95-9EE5-9F466F68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B9B2F-71E3-4B6B-BACA-3CC0988F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5EA-C220-4FD0-9258-8188670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29A9-5094-48A9-96D6-95EA80B6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C754-A51B-4FCC-A40C-74B6ECFA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049C-B542-46C8-9B5E-E0A8137B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EB57-229F-4C39-AAA9-828ADFB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B55D-E4FF-4CA4-8A76-33DF1166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B881-798B-4E6E-87CA-C6109F4F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979C-DBE8-48F1-8D69-61C0A004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929-CC83-4CF0-A938-DA7EC74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38BE-BA28-4C78-8A5F-9F9DA280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B436-6B12-4E69-99B3-9D1FD0F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73BA-6EBA-4AAF-B075-F30F8C9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AEAB-B892-49B7-BA96-1A9DDCF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0DB0-EFA2-4D12-B531-9A84A97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1475-CA22-4230-A7D2-FEC6D6A4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96D1-31A4-4553-A25A-D50D6E0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7546-5640-4079-8282-FA903DDD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5364-76D7-4C7C-828C-94F2509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F79E-FBC4-45D5-8C79-32EAC39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8A5-A40B-4110-AFD8-2A569AA7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438E-7C23-4D11-AA89-C8E51D1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E1A6-0CF7-447C-AA21-029ACEE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15F0-2FA7-4B12-A611-DD24BA75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1C4F-FC15-4100-91DD-13C96E3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870A-703E-4A2D-8879-2886434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7D39-20C7-4473-88A9-19C4972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F36D-A5BB-4BEB-A855-1C587BD0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E313-FE25-46F5-AF5B-1E62AB9E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7943-8A31-42E0-9B62-6B6109D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747F-8699-4CD8-95B6-6792CC2D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221-565A-4F9C-A8BD-A4DACC6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997A8-A44C-4483-9D9D-FCCF6B4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B34D-0DC0-4DEA-98F1-70E9667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31B6-CA14-4DB7-8520-941376F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1E90-3FD4-4443-8641-EEE1790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82CB-6005-4557-AE31-0564225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ED210-58D5-4C81-874B-A5D2C3E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BC29-0F6D-47BC-BA2D-6F76E07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CB3B-CFF6-438C-9BDE-F4EB0F0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F890C-8388-4878-958E-89D1F3E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37BE-F277-452D-AFBB-824EC2B4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459-39FF-44FF-9F2F-C6D5748F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BEF0-2423-4BF4-8303-E4D5F385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D7B2-AC13-41BD-866D-F57127BC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D2174-9E96-46C5-B5C1-F4250F1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5E357-F237-4307-A4EA-03557FC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F319-9ECC-442E-A811-61BAFFFE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F91C-19DB-4558-B6FC-B0D133DC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356A-7961-40E9-A896-91581754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F8F6-D810-4344-BA83-FF7892C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5EA3-CAE8-42C5-B6E6-4B50B72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2C45B-C32B-4383-BF30-D5DD7D8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53B-AD09-4270-B4DB-C2F4104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A7D1-5134-4B62-AAF1-5A868C1F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70D2-DC7B-4EBF-A9E9-E16B6CFD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4C57-CE3E-43C9-8CC8-8E4BF075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27D7-5C9C-44F0-9D53-DA53AA29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C0FD-B63C-4D78-9C67-BCB71CED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3AA9-EFAD-4BC0-A49E-05BB348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1DA82-9F80-4136-9CB9-0DAB9DD6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79B9-D657-4770-99BC-4D113098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DC59-96CE-46D3-B1CE-AD891704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C3A1A-AE0D-445D-9803-E8BDCB6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041-B081-41B4-88D1-4E42D94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5406-13C0-4602-AB49-81C759E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5E79-DD11-4CF3-918F-CF0BD18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F0A2B-0CEC-4A79-BC9E-3FB084FB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FF668-8E33-4D78-9F4D-6EA4C015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2655-6122-4EDE-BF32-C221995B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5007-E12D-4BED-BADB-FB9F47B9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45225-7A8E-4A03-B279-1819CA3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3C96B-786A-4C47-B2C9-5B7D4F0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9C42-D30E-46A3-89C5-ED500BA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E92E5-6E1B-43A1-AA10-D0BEE76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0BC-35E9-440A-9470-D3B1056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A7C2-21BE-45C6-99FD-F1B2FAEB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AF9E9-1FBC-4A3F-BD32-E887076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8E040-8365-4414-919D-2A5003D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A06E-6324-44BE-84CF-768B303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BD649-7A70-432B-9F37-4E97AFB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AC66-D1D9-40A3-8A7D-FA690C88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2BEB-D097-4C8B-9CBE-B77A94B9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08561-AD9A-40E7-9259-7B41D083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A9B7-EB28-4366-B222-06FB776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3104C-C4CE-4AE0-8B16-F587FBF6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06F-06C5-45BE-ADBA-7ED3092017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9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0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F829-0878-46E7-A101-66C029235B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6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7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7E9-5FA4-4EDA-9937-1A5E744188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3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4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E97-89E3-4B98-BAAA-A26D7DBBF8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0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1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3E7-B375-4AB0-B11E-6BEB4EDF00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7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8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7AD4-7C7C-4ABC-80DD-DE2B52FD94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4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5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8592-E1B8-4C50-8575-DF5F5669AC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1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2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758-F1A3-4FC3-8BEC-6A6F0FFB48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8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9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D0AC-AC50-4AA5-B9A0-AC97173F1E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4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6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39A9-334D-44A4-AC41-D19DC341DB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6E7A-DDA8-4F71-B858-3338146673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D8B-BE71-417A-86C7-0C12CFB4FB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F84-68F4-49BA-97C7-02AD3F026F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4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6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5F10-091C-4830-A3E6-818AE84684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1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3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095-A377-49DC-9FC6-9520D5AA3C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8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9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AB64-8E17-49CC-AA0F-19E8FA401D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5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6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DCA-83DE-4D7E-B2D7-5FDBEF0230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2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3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9367-5686-447C-AFA4-21D7A75F9D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895120" y="3733920"/>
            <a:ext cx="67820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5295e"/>
                </a:solidFill>
                <a:latin typeface="Comic Sans MS"/>
              </a:rPr>
              <a:t>Законы России об охране животного мира.</a:t>
            </a:r>
            <a:br>
              <a:rPr sz="2800"/>
            </a:br>
            <a:r>
              <a:rPr b="1" lang="ru-RU" sz="2800" spc="-1" strike="noStrike">
                <a:solidFill>
                  <a:srgbClr val="d5295e"/>
                </a:solidFill>
                <a:latin typeface="Comic Sans MS"/>
              </a:rPr>
              <a:t>Система мониторинга.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Text Box 19"/>
          <p:cNvSpPr/>
          <p:nvPr/>
        </p:nvSpPr>
        <p:spPr>
          <a:xfrm>
            <a:off x="5410080" y="6172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4a18"/>
                </a:solidFill>
                <a:latin typeface="Comic Sans MS"/>
              </a:rPr>
              <a:t>Биология 7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Рисунок 3" descr="Drawn_wallpapers_Green_Planet_013437_.jpg"/>
          <p:cNvPicPr/>
          <p:nvPr/>
        </p:nvPicPr>
        <p:blipFill>
          <a:blip r:embed="rId1"/>
          <a:stretch/>
        </p:blipFill>
        <p:spPr>
          <a:xfrm>
            <a:off x="4038480" y="0"/>
            <a:ext cx="4724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5238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охранению лесов много содействовали засеки, или засечные леса, которые создавались по южной границе лесной части Русского государства. Эти засеки создавались для защиты от кочевников, делавших набеги на Русь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засечных лесах запрещалось рубить деревья для хозяйственных целей под страхом сурового наказания и даже смерти. Главные засеки — Тульские — были устроены при Иване Грозном, а исправлялись они уже при Михаиле Федоровиче. К концу XVII в. в связи с продвижением оборонительной линии Русского государства на юг засеки пришли в ветхость, однако они вплоть до начала XIX в. состояли под охраной как заповедные казенные леса. Тульские засеки сохранились и поныне, а Козельские, Орловские, Рязанские и Казанские не сохранились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5" name="Picture 8" descr="загруженное (2)"/>
          <p:cNvPicPr/>
          <p:nvPr/>
        </p:nvPicPr>
        <p:blipFill>
          <a:blip r:embed="rId1"/>
          <a:stretch/>
        </p:blipFill>
        <p:spPr>
          <a:xfrm>
            <a:off x="8734320" y="4343400"/>
            <a:ext cx="1933560" cy="237168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9" descr="images (1)"/>
          <p:cNvPicPr/>
          <p:nvPr/>
        </p:nvPicPr>
        <p:blipFill>
          <a:blip r:embed="rId2"/>
          <a:stretch/>
        </p:blipFill>
        <p:spPr>
          <a:xfrm>
            <a:off x="9191520" y="228600"/>
            <a:ext cx="14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19112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царствование Алексея Михайловича Романова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1645—1676)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было издано много указов об охоте, ее сроках, запретных зонах, а также о нарушениях установленных правил, пошлинах и наказаниях.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Указ (1649) «О сбережении заповедного леса в Рязанском уезде» касался не только охоты, но и охраны лесной территор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9" name="Picture 4" descr="загруженное (3)"/>
          <p:cNvPicPr/>
          <p:nvPr/>
        </p:nvPicPr>
        <p:blipFill>
          <a:blip r:embed="rId1"/>
          <a:stretch/>
        </p:blipFill>
        <p:spPr>
          <a:xfrm>
            <a:off x="1752480" y="152280"/>
            <a:ext cx="219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676520" y="1981080"/>
            <a:ext cx="670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в допетровское время лес сводили для получения земель под пашню, то при Петре I он стал тщательно охраняться для кораблестроения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1701 г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. Петр I объявил указ «О нечистке под пашню лесов по рекам, по коим леса гонят в Москву, а чистить их в 30 верстах выше»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Через два года были заповеданы дуб, ильм, вяз, ясень, карагач и лиственница, а также сосна 12 вершков (в диаметре). Рубить леса с этими породами строго запрещалось в полосе на 50 верст от больших рек и на 20 верст от малых. За нарушение указа взималось до 10 рублей за одно дерево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2" name="Picture 4" descr="1227266706"/>
          <p:cNvPicPr/>
          <p:nvPr/>
        </p:nvPicPr>
        <p:blipFill>
          <a:blip r:embed="rId1"/>
          <a:stretch/>
        </p:blipFill>
        <p:spPr>
          <a:xfrm>
            <a:off x="8381880" y="1828800"/>
            <a:ext cx="20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21120" y="-126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и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7143480" y="1601640"/>
            <a:ext cx="5048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 запрещению рубить леса Петр Т возвращался неоднократно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н издал ряд указов с запретом жечь леса, пасти в них коз и свиней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, делать тес (чтобы сократить отходы древесины), и так называемых «знающих людей» царь послал осмотреть дубовые леса на Волге. Он запретил рубить леса Новгородского, Старорусского, Луцкого и Торопецкого уезд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5" name="Picture 4" descr="98e6916de285d65b2550d23872c_prev"/>
          <p:cNvPicPr/>
          <p:nvPr/>
        </p:nvPicPr>
        <p:blipFill>
          <a:blip r:embed="rId1"/>
          <a:stretch/>
        </p:blipFill>
        <p:spPr>
          <a:xfrm>
            <a:off x="23760" y="762120"/>
            <a:ext cx="73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4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09480" y="2742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етербурге при Адмиралтейской коллегии была учреждена вальдмейстерская канцелярия, в обязанности которой вошло наблюдение за лесами на Волге, Суре, Каме, Оке, Днепре, Западной Двине, Дону, Ладожском озере и Ильмене. За несоблюдение правил охраны было дано право штрафовать порубщиков, а нарушителей наказывать,- вырывая ноздри и ссылая на каторг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8" name="Picture 4" descr="загруженное"/>
          <p:cNvPicPr/>
          <p:nvPr/>
        </p:nvPicPr>
        <p:blipFill>
          <a:blip r:embed="rId1"/>
          <a:stretch/>
        </p:blipFill>
        <p:spPr>
          <a:xfrm>
            <a:off x="7772400" y="0"/>
            <a:ext cx="2895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етр I думал не только об охране лесов, но и об их насаждении. Немало деревьев он посадил лично, а по его почину был посажен Шипов лес в Воронежской области. Лесной «знатель» Фокель посадил под Петербургом корабельную рощу (около с. Линдула), которая до сего времени привлекает внимание посетителей огромными деревьями лиственницы, тщательно пронумерованными и охраняемыми по сие врем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4" descr="85626476_4512493_001"/>
          <p:cNvPicPr/>
          <p:nvPr/>
        </p:nvPicPr>
        <p:blipFill>
          <a:blip r:embed="rId1"/>
          <a:stretch/>
        </p:blipFill>
        <p:spPr>
          <a:xfrm>
            <a:off x="2209680" y="152280"/>
            <a:ext cx="86360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933960" y="277920"/>
            <a:ext cx="327636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Охрана природы при </a:t>
            </a:r>
            <a:br>
              <a:rPr sz="3800"/>
            </a:b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Петре </a:t>
            </a:r>
            <a:r>
              <a:rPr b="1" lang="en-US" sz="38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1523520" y="3809880"/>
            <a:ext cx="8991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етр I интересовался не только лесами, но также и другими полезными растениями. Так, в 1702 г. был заведен в Москве Аптекарский сад (ныне Ботанический сад Московского университета), а в 1714 г.— Аптекарский огород в Петербурге. Эти аптекарские учреждения имели целью снабжать армию и население лекарственным сырьем, которое до этого завозилось из-за границ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4" name="Picture 4" descr="ogorod4"/>
          <p:cNvPicPr/>
          <p:nvPr/>
        </p:nvPicPr>
        <p:blipFill>
          <a:blip r:embed="rId1"/>
          <a:stretch/>
        </p:blipFill>
        <p:spPr>
          <a:xfrm>
            <a:off x="1523880" y="0"/>
            <a:ext cx="5410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ироко понимая необходимость беречь природу, Петр I интересовался также сохранением пушных зверей, дичи и рыбы, «дабы промыслы эти развивались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Были запрещены хищнические способы охоты и рыбной ловл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 незаконную охоту с «людей высших чинов» взыскивали по 100 рублей, а «нижним чинам» грозило жестокое, без всякой пощады, наказание и ссылка в Азов «с женами и детьми на вечное житие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ередина XVIII и начало XIX в. в России ознаменовались значительным ослаблением строгости к охране лесов и отчасти животны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ежние правила были заменены другими и преданы забвени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поведные корабельные леса подвергались расхищению, охрана Беловежской пущи была снята, а она сама стала местом царской и великокняжеской охот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371600" y="1225440"/>
            <a:ext cx="5486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Екатерина II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огромные площади земель раздала своим приближенным, о лесах не заботилась, но по своей прихоти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запретил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«ловить соловьев в окрестностях Санкт-Петербурга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мещики снова стали сводить леса под посевы зерновых культур и одновременно продавать вырубленный лес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Picture 4" descr="CATA_II_B"/>
          <p:cNvPicPr/>
          <p:nvPr/>
        </p:nvPicPr>
        <p:blipFill>
          <a:blip r:embed="rId1"/>
          <a:stretch/>
        </p:blipFill>
        <p:spPr>
          <a:xfrm>
            <a:off x="7000920" y="1295280"/>
            <a:ext cx="36669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2" descr="PDVD_037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3" descr="Рисунок2"/>
          <p:cNvPicPr/>
          <p:nvPr/>
        </p:nvPicPr>
        <p:blipFill>
          <a:blip r:embed="rId2"/>
          <a:stretch/>
        </p:blipFill>
        <p:spPr>
          <a:xfrm>
            <a:off x="1523880" y="274320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6" descr="d_509i"/>
          <p:cNvPicPr/>
          <p:nvPr/>
        </p:nvPicPr>
        <p:blipFill>
          <a:blip r:embed="rId3"/>
          <a:stretch/>
        </p:blipFill>
        <p:spPr>
          <a:xfrm>
            <a:off x="1752480" y="152280"/>
            <a:ext cx="1544760" cy="213372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8" descr="Изображение 030"/>
          <p:cNvPicPr/>
          <p:nvPr/>
        </p:nvPicPr>
        <p:blipFill>
          <a:blip r:embed="rId4"/>
          <a:stretch/>
        </p:blipFill>
        <p:spPr>
          <a:xfrm>
            <a:off x="9215280" y="15228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2" descr="kam5"/>
          <p:cNvPicPr/>
          <p:nvPr/>
        </p:nvPicPr>
        <p:blipFill>
          <a:blip r:embed="rId5"/>
          <a:stretch/>
        </p:blipFill>
        <p:spPr>
          <a:xfrm>
            <a:off x="8839080" y="5105520"/>
            <a:ext cx="1828800" cy="137304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13" descr="Рисунок7"/>
          <p:cNvPicPr/>
          <p:nvPr/>
        </p:nvPicPr>
        <p:blipFill>
          <a:blip r:embed="rId6"/>
          <a:stretch/>
        </p:blipFill>
        <p:spPr>
          <a:xfrm>
            <a:off x="8991720" y="27432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26" descr="alt3"/>
          <p:cNvPicPr/>
          <p:nvPr/>
        </p:nvPicPr>
        <p:blipFill>
          <a:blip r:embed="rId7"/>
          <a:stretch/>
        </p:blipFill>
        <p:spPr>
          <a:xfrm>
            <a:off x="1371600" y="5181480"/>
            <a:ext cx="2133720" cy="1543320"/>
          </a:xfrm>
          <a:prstGeom prst="rect">
            <a:avLst/>
          </a:prstGeom>
          <a:ln w="0">
            <a:noFill/>
          </a:ln>
        </p:spPr>
      </p:pic>
      <p:sp>
        <p:nvSpPr>
          <p:cNvPr id="1234" name="Rectangle 30"/>
          <p:cNvSpPr/>
          <p:nvPr/>
        </p:nvSpPr>
        <p:spPr>
          <a:xfrm>
            <a:off x="3429000" y="304920"/>
            <a:ext cx="548640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ую тревогу вызывают все ускоряющиеся темпы исчезновения многих видов флоры и фа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леко не полным данным, за последние четыре столетия человечество потеряло 130 видов животных, т. е. в среднем один вид за три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едениям Международного союза охраны природы и природных ресурсов, на грани исчезновения находятся 550 видов редких млекопитающих и птиц, а под угрозой истребления — до 1000 видов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ервым охраняемым участком и природным зоопарком в России стала всем известная Аскания-Нова, образованная в 1874 г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. в бывшем имении Фальцфейн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дальнейшем возник заповедник на мелких островах Балтийского моря (1910)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 в других места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3" name="Picture 4" descr="0d6e263af46f29b53ef6c76a788736ecb5d68697"/>
          <p:cNvPicPr/>
          <p:nvPr/>
        </p:nvPicPr>
        <p:blipFill>
          <a:blip r:embed="rId1"/>
          <a:stretch/>
        </p:blipFill>
        <p:spPr>
          <a:xfrm>
            <a:off x="5969160" y="3340080"/>
            <a:ext cx="4698720" cy="351792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5" descr="00017"/>
          <p:cNvPicPr/>
          <p:nvPr/>
        </p:nvPicPr>
        <p:blipFill>
          <a:blip r:embed="rId2"/>
          <a:stretch/>
        </p:blipFill>
        <p:spPr>
          <a:xfrm>
            <a:off x="1523880" y="3263760"/>
            <a:ext cx="467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. И. Ленин подписал (в мае 1919 г.) постановление о сроках охоты и праве на охотничье оружие, которым была запрещена охота на лосей и коз, а также сбор яиц диких птиц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это же время В. И. Ленин поддержал мысль о создании в дельте Волги заповедника и подчеркнул, что считает дело охраны природы важным и срочным делом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Picture 6" descr="IMGA0923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Законы об охране природы:</a:t>
            </a:r>
            <a:br>
              <a:rPr sz="3400"/>
            </a:b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28800" y="838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919–1920 </a:t>
            </a: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декреты, определившие общие условия охоты, охраны и производства промысловых зверей и птиц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921</a:t>
            </a: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 – декрет «Об охране памятников природы, садов, парков»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438280" y="277560"/>
            <a:ext cx="601992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Конституция </a:t>
            </a:r>
            <a:br>
              <a:rPr sz="3800"/>
            </a:b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Российской Федерации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Статья 9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1. Земля и другие природные ресурсы используются и охраняются в Российской Федерации как основа жизни и деятельности народов, проживающих на соответствующей территор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2. Земля и другие природные ресурсы могут находиться в частной, государственной, муниципальной и иных формах собственност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Статья 58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Каждый обязан сохранять природу и окружающую среду, бережно относиться к природным богатства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2" name="Picture 4" descr="lib_laws"/>
          <p:cNvPicPr/>
          <p:nvPr/>
        </p:nvPicPr>
        <p:blipFill>
          <a:blip r:embed="rId1"/>
          <a:stretch/>
        </p:blipFill>
        <p:spPr>
          <a:xfrm>
            <a:off x="8839080" y="228600"/>
            <a:ext cx="1038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80720" y="277920"/>
            <a:ext cx="7543800" cy="14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Федеральный закон </a:t>
            </a:r>
            <a:br>
              <a:rPr sz="3800"/>
            </a:b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 «О животном мире»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94" name="Picture 6" descr="1000714602"/>
          <p:cNvPicPr/>
          <p:nvPr/>
        </p:nvPicPr>
        <p:blipFill>
          <a:blip r:embed="rId1"/>
          <a:stretch/>
        </p:blipFill>
        <p:spPr>
          <a:xfrm>
            <a:off x="1066680" y="1752480"/>
            <a:ext cx="3070440" cy="4343400"/>
          </a:xfrm>
          <a:prstGeom prst="rect">
            <a:avLst/>
          </a:prstGeom>
          <a:ln w="0">
            <a:noFill/>
          </a:ln>
        </p:spPr>
      </p:pic>
      <p:sp>
        <p:nvSpPr>
          <p:cNvPr id="1295" name="Text Box 10"/>
          <p:cNvSpPr/>
          <p:nvPr/>
        </p:nvSpPr>
        <p:spPr>
          <a:xfrm>
            <a:off x="4876920" y="175248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тный мир является достоянием народов Российской Федерации, неотъемлемым элементом природной среды и биологического разнообразия Земли, возобновляющимся природным ресурсом, важным регулирующим и стабилизирующим компонентом биосферы, всемерно охраняемым и рационально используемым для удовлетворения духовных и материальных потребностей граждан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438280" y="277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Федеральный закон</a:t>
            </a:r>
            <a:br>
              <a:rPr sz="3400"/>
            </a:b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«Об особоохраняемых природных территориях».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97" name="Picture 4" descr="i"/>
          <p:cNvPicPr/>
          <p:nvPr/>
        </p:nvPicPr>
        <p:blipFill>
          <a:blip r:embed="rId1"/>
          <a:stretch/>
        </p:blipFill>
        <p:spPr>
          <a:xfrm>
            <a:off x="914400" y="2322360"/>
            <a:ext cx="2274840" cy="358164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5"/>
          <p:cNvSpPr/>
          <p:nvPr/>
        </p:nvSpPr>
        <p:spPr>
          <a:xfrm>
            <a:off x="3962520" y="232236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стоящий Федеральный закон регулирует отношения в области организации, охраны и использования особо охраняемых природных территорий в целях сохранения уникальных и типичных природных комплексов и объектов, достопримечательных природных образований, объектов растительного и животного мира, их генетического фонда, изучения естественных процессов в биосфере и контроля за изменением ее состояния, экологического воспитания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История возникновения охраны природы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Первоначально люди полубессознательно оберегали от своих соседей обработанные участки и отдельные растения. После они стали думать о каком-то покровительстве природе как источнике пищи, а следовательно, и жизни. Появились правила, регулирующие использование богатств природы. 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1676520" y="-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Древние египтяне, например, полагали, что человек не должен истреблять животных на их пастбищах и сгонять их с «божьих» земель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Эти действия считались «греховными» и об этом было записано в «Книге мертвых», где собраны заклинания душ умерших, представших на суд бога Осирис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8" name="Picture 4" descr="001"/>
          <p:cNvPicPr/>
          <p:nvPr/>
        </p:nvPicPr>
        <p:blipFill>
          <a:blip r:embed="rId1"/>
          <a:stretch/>
        </p:blipFill>
        <p:spPr>
          <a:xfrm>
            <a:off x="2209680" y="3108240"/>
            <a:ext cx="6858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1523880" y="-3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знаменитом Кодексе Вавилонского царя Хаммурапи, жившего 17 веков до н. э., были установлены правила охраны лесов и пользования ими, а эа незаконную порубку дерева в чужом саду с виновных полагалось взимать определенную и не малую плат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0" name="Picture 4" descr="image030"/>
          <p:cNvPicPr/>
          <p:nvPr/>
        </p:nvPicPr>
        <p:blipFill>
          <a:blip r:embed="rId1"/>
          <a:stretch/>
        </p:blipFill>
        <p:spPr>
          <a:xfrm>
            <a:off x="3695760" y="2529000"/>
            <a:ext cx="43434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629400" y="1066680"/>
            <a:ext cx="5410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3000" spc="-1" strike="noStrike">
                <a:solidFill>
                  <a:srgbClr val="404040"/>
                </a:solidFill>
                <a:latin typeface="Century Gothic"/>
              </a:rPr>
              <a:t>В средние века 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в Западной Европе владетельные феодалы, заинтересованные в сохранении дичи, </a:t>
            </a:r>
            <a:r>
              <a:rPr b="1" lang="ru-RU" sz="3000" spc="-1" strike="noStrike">
                <a:solidFill>
                  <a:srgbClr val="404040"/>
                </a:solidFill>
                <a:latin typeface="Century Gothic"/>
              </a:rPr>
              <a:t>издавали запреты на пользование охотничьими угодьями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. Нарушения карались сурово, вплоть до применения смертной казни. Для королевских и царских охот появились запретные и заповедные земли, специально охранявшиеся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3" name="Picture 4" descr="artlib_gallery-134095-b"/>
          <p:cNvPicPr/>
          <p:nvPr/>
        </p:nvPicPr>
        <p:blipFill>
          <a:blip r:embed="rId1"/>
          <a:stretch/>
        </p:blipFill>
        <p:spPr>
          <a:xfrm>
            <a:off x="533520" y="1420920"/>
            <a:ext cx="5943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209680" y="459252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 Руси регламентирование охоты, например, появилось еще при Ярославе Мудром, и оно было зафиксировано в первом письменном документе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— «Русской правде». (1016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6" name="Picture 4" descr="Mezhyhirskyi_Monastery_18431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5" descr="images"/>
          <p:cNvPicPr/>
          <p:nvPr/>
        </p:nvPicPr>
        <p:blipFill>
          <a:blip r:embed="rId2"/>
          <a:stretch/>
        </p:blipFill>
        <p:spPr>
          <a:xfrm>
            <a:off x="8458200" y="506520"/>
            <a:ext cx="273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1523880" y="4190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воеобразные формы охраны природных богатств сложились во Владимиро-Волынском княжестве (XIII в.). На определенной территории здесь целиком запрещалась охота на всех животных. Это был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ервый заповедник — Беловежская пущ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9" name="Picture 6" descr="f-2305211958"/>
          <p:cNvPicPr/>
          <p:nvPr/>
        </p:nvPicPr>
        <p:blipFill>
          <a:blip r:embed="rId1"/>
          <a:stretch/>
        </p:blipFill>
        <p:spPr>
          <a:xfrm>
            <a:off x="2971800" y="0"/>
            <a:ext cx="5864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2057400" y="2666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ериод расцвета Литовского государства были созданы специальные своды законов — Литовские статуты, которые сыграли положительную роль в охране природы. Статут брал под охрану лебедей, бобров, лис и других животных. За кражу, убийство или разорение гнезд лебедя взимался значительный штраф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1" name="Picture 4" descr="лиса"/>
          <p:cNvPicPr/>
          <p:nvPr/>
        </p:nvPicPr>
        <p:blipFill>
          <a:blip r:embed="rId1"/>
          <a:stretch/>
        </p:blipFill>
        <p:spPr>
          <a:xfrm>
            <a:off x="2362320" y="0"/>
            <a:ext cx="3876480" cy="26668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5" descr="лебедь-трубач"/>
          <p:cNvPicPr/>
          <p:nvPr/>
        </p:nvPicPr>
        <p:blipFill>
          <a:blip r:embed="rId2"/>
          <a:stretch/>
        </p:blipFill>
        <p:spPr>
          <a:xfrm>
            <a:off x="6248520" y="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ья</dc:creator>
  <dc:description/>
  <dc:language>en-US</dc:language>
  <cp:lastModifiedBy>Семья</cp:lastModifiedBy>
  <dcterms:modified xsi:type="dcterms:W3CDTF">2023-10-26T18:17:42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