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dt" idx="5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 type="ftr" idx="5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 type="sldNum" idx="5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05B9-1E09-4204-A8FE-F1077C8560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C47E-603D-4D37-BE03-944CD656D4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2E9E-E7F1-474E-A3C1-33A56438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147-C218-4A3C-93DD-506A89D0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3C439-67D0-4588-855A-276968E8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DE0EC-BD9A-49A9-9805-6A68F982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0FA39-2095-4925-9389-BB625253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5EA4E-0999-4882-9F76-7703CA16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C3A61-823E-4B87-BBD2-F4365ECD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9D0F0-7EE7-451D-B914-4DABADF6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37093-BA95-4159-9589-197E2D58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8D789-C6EB-4652-B445-FBC9B515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04128-ED07-4D39-A7D5-240938CB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8B30F-4692-445D-9191-92585B6B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A61D-6767-486C-8994-8A83394DB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5CEC00-89B0-4B47-A032-BFF2F510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8470B-BD7A-4203-AA47-9FD24E1F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70C8E-695D-4B05-AA1E-B1E8A041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A2635-1F1C-4871-9459-B7BDE406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241AD-BD76-4216-B23A-673BE163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19656-18B8-4F9B-BA03-250AFFD7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285AD-8266-4E4E-9FC9-46800372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21C69-E7C4-4CA7-9650-80834B95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13CFF8-62E6-4FF6-A964-1E9541C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C158F-9565-4B06-A5A4-E63FEE3D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2C1F-EF56-4533-A315-1542A2A2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EFE07-9A00-4F33-AE55-CF112D2A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E137A-D832-4D7F-90B9-BE9ABFB7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83DF8-C725-428C-98BE-8C471C62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5341B-7CC7-4359-879A-26F31252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2780E-BC83-432B-9A54-926C5485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E76DF-23DA-473E-9345-566E1881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E1B18-E582-4A22-903F-C05F5B4A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8A116-85B0-47FC-8D42-CE710E70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3A50A-932E-41A7-AACA-CC516E76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C05CE-B873-4BBE-8FCA-67526D9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FCF5-6BA5-484F-8B17-20F23B91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87187-DC7A-4430-ACC4-0371A86F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591B1-2AB6-46C8-8605-6E6F141F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291BA-7823-457F-A8A0-717B6774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67369-C5B8-4769-9EBD-1FD704C09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4EAEF-7C31-476B-968C-E2305C64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8FE3F-4419-47C7-896B-DF4B3D29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C9376C-4A10-4C0F-940C-2A100A23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C8464-A862-4CA6-8CD7-913FDE41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9859D-DF6D-4EDA-8A00-66ECEB9B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C6AF5-430F-4A8D-959C-5D87FBFF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DB24-FEE3-4B9C-A902-2BBB3914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ED0BB-6C5D-4CEA-A190-B7B404E3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46900-F212-457E-AB18-461608AA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ABD21-B149-45FE-A7AF-81097B7D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E790E-FF5D-4AF8-A6A1-2D76B3BF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68F6C-FD22-410E-BB70-38BB5407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4497BD-62D6-452C-8C1F-34A09F08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A032B-ABF1-4152-82F8-3E429D62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52E39-6B98-4505-A0EA-E30B68A7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CFEC6-D5C6-4343-8A73-648A544B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C507A-1ABF-46CC-A693-33380A6C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1E4-1A39-424A-A2A6-C82EDFA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93847-0EF5-48EC-A9FC-7134DD5F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52FB4-60A6-4846-A05A-FF294F36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C26F3-54EA-46EA-A91E-4AED8D63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A001A-26CC-492D-B46F-30FBADAB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8186CE-B38E-4309-9809-CADDC418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E3BDC-618E-447C-BF01-02CB50E0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2E935-AA6B-4784-8FE8-EBCDD6BA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80772-CE68-46C1-BA16-93E3B442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AF295-8460-46B6-8C55-3356A338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8D2E6-2BAF-4325-8D19-A78A6373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F2EA-C3A2-4C13-9C05-4B99B8BF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F3B0A-FC50-4A29-895B-4E75F18F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56BF8-5102-4988-92F6-4EBB5D27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E783FF-64C3-49B9-9087-75A8267B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CA659-0A08-4F1E-BFEA-6D913B12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D9CC9B-77AC-493D-AB30-6B3EF2D1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873F9-D429-45BA-ACD5-369B134F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58861-48C3-4323-947C-A1F134F9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D2321-85C6-4D18-8ECB-0CC6928A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D40E0-5203-4D9C-A16A-A0FF6A55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22C01-B1BE-443D-92D6-7C7240C4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0E8F9-3681-43ED-A24D-3CB39B01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F32D6-9317-4BBB-8594-B6B8596D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A8F69-68DC-459C-AC18-5EEAB7AD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6AAE17-64EE-4389-AF24-334EAA09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319C4-590E-4F56-9AE6-FC95013F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BAB137-0972-4C00-8C46-D9EF2E91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29317-7E1C-463B-9665-AB4FCCD8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FEDF1-9E05-4159-9037-DA15119E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82EBE-4B4C-4909-AF04-4BEB3D7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62A56-0677-4EF1-BE28-28DCA2BF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BDA39-3754-44E9-B2D7-9741570E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D485-BA83-41AA-A8A5-BD6DA85C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E4F739-4A34-437C-80EB-C89277CB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61E02-BB0A-4DDD-BE9A-F4209BAB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236F4-4ED7-4EA8-8A66-B7C0767C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28397-B551-483A-9E56-C3E110AF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AEA0C-B187-4512-A935-5FF942E7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7AEFC7-D024-48B6-82C7-9A199D15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DA626-FF0F-40F1-8EFC-277BE970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3DCE2-E78B-4489-AA29-91817BF1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EDF026-83DC-4D06-A866-312EF434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0DDCB-059B-48D4-B2A5-DFAF287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F1E7-A5DF-4E58-9EBB-A307A6AF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A5D79-8B83-48E4-9792-6EB59DCD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8F1D53-7632-48BE-BC68-7E039A4E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A9CA5-0E51-4E34-894E-E6CCA360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28E94-D4DC-40B2-B083-16E0D35B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B2D97B-765A-4415-AD9F-FCFEF2F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D11C36-7A0A-4E1C-9C3B-F0EEDD13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B663D-EBD6-479E-9866-D1929503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5CD788-812E-4E91-8056-D7AE7E5E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CB785-BBB7-4CED-AF99-CB36B5D5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D5C53-DE0F-4E37-92C9-695B2E97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347-AA9B-4B34-A6E0-91300652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4118-3099-46BA-A2D0-CBAA04FB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A3FEE1-A004-417F-8C06-6AE64C42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BA955-D561-43B0-8BA1-6BE92386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D02C2-2084-494D-B638-7143C9F5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18ED3-9BC0-46EF-A133-79E5D13D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E81A6-B300-462C-8900-3CA56A66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E55F6-4367-44F7-ACA6-4E4B54DF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54EBA9-0260-41E2-AE46-246DC335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19748-D98F-48F0-A5E1-DD38A3D0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3E41C-C81E-4465-9DD6-A19C70F0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F84AE-3461-4923-AED1-24AECF1C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6284-2259-46AB-A572-CD7E40A8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3B4B6-B6AD-40B8-9FD1-F50FF329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9133E-3E2A-4DCE-9DA7-7E4B7030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98811-8DD1-4F70-A035-551E3AF9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61772-111C-475F-84D9-C6411C7E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42B56-32F3-4966-B76E-A50CCD77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0D73D-6AB3-4A3C-9EAD-80845821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F3D85A-412C-43BF-8F48-9F1A42423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08D5-47C4-4253-A4B2-2DF1A7A8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5F70-BAB9-4765-BAB1-34839843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D6CF-FAE1-4CB2-A59E-35CF05ED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606DF-243F-485A-A0CB-D9BB73B9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956AD-D03D-4C9B-94CF-FC683A2F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93A3-D7B7-4B2E-88D6-81E8E8EA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9DC23-9AC5-4462-A7A3-5B5B0D26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8661D-74E6-4F28-85BD-DCA9FE8B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693-ADAB-45E9-A49C-DFA8D14E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B9350-E905-4568-801A-C15ABFE6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7FE8C-9FAE-41AE-BE82-47310D04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BDFD-72E8-4F93-B05C-D70BBEF8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4B855-FDCA-414F-8C18-99FCE35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85237-B26D-4A16-B7D4-3A188A76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8DA9-0DB6-47B6-BB3F-0D982EC9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604FA-5D7D-4168-8E39-0C5EBC8A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FE36-23F4-449D-B207-D6629058B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1C63-73B1-4BE9-B1F0-19444F65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80C0E-5D17-4EB0-BBBE-3E7E605F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132-1C54-4297-9722-36CC699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0475-4FD9-43F7-98AE-A8CCD995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B7A87-7D8E-4790-BF23-683D7B92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42079-F717-4511-8F68-24AB836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B9359-E1B0-4965-B647-2B24508D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F709-EDE0-4E73-B8E8-904235EF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3F7A5-A919-4180-8B77-1803A948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3FC51-7BAF-48A0-9403-8FFE21A0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83E8-670C-42B0-A966-03E97A9C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B2762-C476-4B9D-9D10-327508D3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A358-0267-4B52-9916-413EB7C6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C7E5-9CF7-44F0-94E2-7642D5F7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5EBBA-F413-48F7-B6EB-357755DC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E48C-DE87-47CA-B8CD-F266B461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E033D-AAF1-4AFB-A3D9-E2440DB0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65331-ABA1-44F7-846C-A158C893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26051-142C-4754-9B61-C806D848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C14F1-6525-4A63-89B2-18CB3825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CF3CE-A12E-4877-B4D1-6066268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953F0-6D76-4C90-B88D-9F8C11A4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2F9A-D352-4C00-8E1B-32C37F91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455F6-8E4F-4CD2-8D1F-E3AA8CD0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EE9-68C0-44F1-9C05-460320FDA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94071-F702-4A1C-8C2E-0A74D5C1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60ED0-E095-4C1B-9E2E-70F3BF22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6F918-CE63-4322-8E47-A98FFF97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D66C-9FDD-4EF8-961A-5A3B6535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86883-7949-4CB2-9931-2564710B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C3F1-6859-4923-9C2A-FBBE1C35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D0E13-53EA-494F-AD87-1BC1FEE3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46EE5-3DFF-4581-B500-6CEA869C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B61A-3D58-4D99-AD12-993A9F69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520F-7D60-410A-9786-4E2646E2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758-5816-4B1F-A72A-34DD1B5A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FC3B-A937-4FAD-9626-6C1295BE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E59DC-5952-4DC5-8167-076CA321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26312-3C36-4A24-82CA-9232B522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F4EAD-DD1A-4965-A704-44E1BD5B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BD263-DFD0-4D63-B231-0A34BE60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4EA84-FE66-4AFF-AADD-54C39F75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6824-25CA-4A9B-9E8E-C3B4FED7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49436-91AA-46EF-A5E1-B8B2AE98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BD80A-80F0-48B6-9A84-0C3ED193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A9126-380D-426D-835E-4EEF6EB3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C47-DACA-4C8C-9125-C47ED050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2E2A6-0CA4-4180-890D-FCFC9742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13E92-0126-49EE-BD30-37AD7887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02D5-AE2C-4B8F-8BD7-4318A49A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A81D3-1E56-44B5-95CE-308EE03C6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695CE-2222-4135-A3AB-A78DB98B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35373-1D7D-4CE4-8517-360115CF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F13E-A2EE-4858-B171-E11323C2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00162-D6FA-48F4-A1FE-D0A0309F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80EB6-9FD5-4B7D-A67C-63D86140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7E0C5-C3FF-420B-A5DA-40940B00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32A-EA62-4353-B70A-004E316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550EA-0672-4B50-9B1F-0D0553E1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FFDEC-610D-4295-AC8C-439B53A7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88658-027D-4A05-BFCC-BFD7DC9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F89EC-D2E6-4D29-8A9A-3E76CAF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72BB4-8318-4310-A39B-44019B7D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8C144-00C6-4CC8-90E1-E573EF98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770CC-6F5E-49F5-8B40-8BC779F7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3BDD3-7AF1-43AD-91E0-AA9C7B69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2CC7C-C2A0-4061-A35C-8C84EA5B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9F17F-DC18-4D93-BF1C-79DB8E7A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CC2A-18F9-4ABB-8B2E-5F560C07CF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9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06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85A5-3BB6-4472-B1E0-98469FB0EC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6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7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87FE-B817-4F4A-BD02-6D0F34395B5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3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4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9E80-F604-418A-A8CB-A1A1B4B6C5E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0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1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8E41-CC98-4A4D-A6D7-709E05D2350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7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8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92A3-91B0-49BE-8E21-D4E8E57BBF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4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5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09D7-045D-4414-990A-62BB876CA06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1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24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DFF3-78E4-4A02-BDCD-856078E076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8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9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5C0A-1BFA-44C8-8E6E-36AC8925BF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4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6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767F-9875-4DDD-BE64-79D097227D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5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14A9-F80B-4D01-A619-FA3D4F32AD2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3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32FF-7A88-4EBF-9241-F65BAB71F7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2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77D1-B6CA-4FA1-8813-D63B9FCE713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4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61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8373-A747-41F0-80F3-5B09ED98DA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1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30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FE2A-ADE4-49CA-BECA-5BAE7F9B2C0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8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99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81B0-F187-4EFF-8966-CEFEC480083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5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68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0127-A016-4556-AE7D-2324323177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2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37" name="Freeform 27"/>
            <p:cNvSpPr/>
            <p:nvPr/>
          </p:nvSpPr>
          <p:spPr>
            <a:xfrm>
              <a:off x="27000" y="0"/>
              <a:ext cx="49428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28"/>
            <p:cNvSpPr/>
            <p:nvPr/>
          </p:nvSpPr>
          <p:spPr>
            <a:xfrm>
              <a:off x="550080" y="4316760"/>
              <a:ext cx="423360" cy="158040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0"/>
            <p:cNvSpPr/>
            <p:nvPr/>
          </p:nvSpPr>
          <p:spPr>
            <a:xfrm>
              <a:off x="521280" y="4364640"/>
              <a:ext cx="551880" cy="223560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1"/>
            <p:cNvSpPr/>
            <p:nvPr/>
          </p:nvSpPr>
          <p:spPr>
            <a:xfrm>
              <a:off x="467640" y="1289880"/>
              <a:ext cx="174240" cy="302688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33"/>
            <p:cNvSpPr/>
            <p:nvPr/>
          </p:nvSpPr>
          <p:spPr>
            <a:xfrm>
              <a:off x="502200" y="4107960"/>
              <a:ext cx="82080" cy="51120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34"/>
            <p:cNvSpPr/>
            <p:nvPr/>
          </p:nvSpPr>
          <p:spPr>
            <a:xfrm>
              <a:off x="973800" y="3146400"/>
              <a:ext cx="1410480" cy="271656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6"/>
            <p:cNvSpPr/>
            <p:nvPr/>
          </p:nvSpPr>
          <p:spPr>
            <a:xfrm>
              <a:off x="973800" y="589752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568C-76E0-46CC-9D80-1C5441D5420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895120" y="3733920"/>
            <a:ext cx="678204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d5295e"/>
                </a:solidFill>
                <a:latin typeface="Comic Sans MS"/>
              </a:rPr>
              <a:t>Законы России об охране животного мира.</a:t>
            </a:r>
            <a:br>
              <a:rPr sz="2800"/>
            </a:br>
            <a:r>
              <a:rPr b="1" lang="ru-RU" sz="2800" spc="-1" strike="noStrike">
                <a:solidFill>
                  <a:srgbClr val="d5295e"/>
                </a:solidFill>
                <a:latin typeface="Comic Sans MS"/>
              </a:rPr>
              <a:t>Система мониторинга.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Text Box 19"/>
          <p:cNvSpPr/>
          <p:nvPr/>
        </p:nvSpPr>
        <p:spPr>
          <a:xfrm>
            <a:off x="5410080" y="617220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b4a18"/>
                </a:solidFill>
                <a:latin typeface="Comic Sans MS"/>
              </a:rPr>
              <a:t>Биология 7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6" name="Рисунок 3" descr="Drawn_wallpapers_Green_Planet_013437_.jpg"/>
          <p:cNvPicPr/>
          <p:nvPr/>
        </p:nvPicPr>
        <p:blipFill>
          <a:blip r:embed="rId1"/>
          <a:stretch/>
        </p:blipFill>
        <p:spPr>
          <a:xfrm>
            <a:off x="4038480" y="0"/>
            <a:ext cx="47246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редние века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15238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Сохранению лесов много содействовали засеки, или засечные леса, которые создавались по южной границе лесной части Русского государства. Эти засеки создавались для защиты от кочевников, делавших набеги на Русь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В засечных лесах запрещалось рубить деревья для хозяйственных целей под страхом сурового наказания и даже смерти. Главные засеки — Тульские — были устроены при Иване Грозном, а исправлялись они уже при Михаиле Федоровиче. К концу XVII в. в связи с продвижением оборонительной линии Русского государства на юг засеки пришли в ветхость, однако они вплоть до начала XIX в. состояли под охраной как заповедные казенные леса. Тульские засеки сохранились и поныне, а Козельские, Орловские, Рязанские и Казанские не сохранились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5" name="Picture 8" descr="загруженное (2)"/>
          <p:cNvPicPr/>
          <p:nvPr/>
        </p:nvPicPr>
        <p:blipFill>
          <a:blip r:embed="rId1"/>
          <a:stretch/>
        </p:blipFill>
        <p:spPr>
          <a:xfrm>
            <a:off x="8734320" y="4343400"/>
            <a:ext cx="1933560" cy="237168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9" descr="images (1)"/>
          <p:cNvPicPr/>
          <p:nvPr/>
        </p:nvPicPr>
        <p:blipFill>
          <a:blip r:embed="rId2"/>
          <a:stretch/>
        </p:blipFill>
        <p:spPr>
          <a:xfrm>
            <a:off x="9191520" y="228600"/>
            <a:ext cx="1476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1640" y="3045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редние век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4191120" y="13712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 царствование Алексея Михайловича Романова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(1645—1676)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было издано много указов об охоте, ее сроках, запретных зонах, а также о нарушениях установленных правил, пошлинах и наказаниях.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Указ (1649) «О сбережении заповедного леса в Рязанском уезде» касался не только охоты, но и охраны лесной территории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9" name="Picture 4" descr="загруженное (3)"/>
          <p:cNvPicPr/>
          <p:nvPr/>
        </p:nvPicPr>
        <p:blipFill>
          <a:blip r:embed="rId1"/>
          <a:stretch/>
        </p:blipFill>
        <p:spPr>
          <a:xfrm>
            <a:off x="1752480" y="152280"/>
            <a:ext cx="2197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при Петре 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1676520" y="1981080"/>
            <a:ext cx="6705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Если в допетровское время лес сводили для получения земель под пашню, то при Петре I он стал тщательно охраняться для кораблестроения.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1701 г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. Петр I объявил указ «О нечистке под пашню лесов по рекам, по коим леса гонят в Москву, а чистить их в 30 верстах выше».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Через два года были заповеданы дуб, ильм, вяз, ясень, карагач и лиственница, а также сосна 12 вершков (в диаметре). Рубить леса с этими породами строго запрещалось в полосе на 50 верст от больших рек и на 20 верст от малых. За нарушение указа взималось до 10 рублей за одно дерево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2" name="Picture 4" descr="1227266706"/>
          <p:cNvPicPr/>
          <p:nvPr/>
        </p:nvPicPr>
        <p:blipFill>
          <a:blip r:embed="rId1"/>
          <a:stretch/>
        </p:blipFill>
        <p:spPr>
          <a:xfrm>
            <a:off x="8381880" y="1828800"/>
            <a:ext cx="20098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521120" y="-1260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ри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Петре 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7143480" y="1601640"/>
            <a:ext cx="5048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К запрещению рубить леса Петр Т возвращался неоднократно.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н издал ряд указов с запретом жечь леса, пасти в них коз и свиней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, делать тес (чтобы сократить отходы древесины), и так называемых «знающих людей» царь послал осмотреть дубовые леса на Волге. Он запретил рубить леса Новгородского, Старорусского, Луцкого и Торопецкого уездов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5" name="Picture 4" descr="98e6916de285d65b2550d23872c_prev"/>
          <p:cNvPicPr/>
          <p:nvPr/>
        </p:nvPicPr>
        <p:blipFill>
          <a:blip r:embed="rId1"/>
          <a:stretch/>
        </p:blipFill>
        <p:spPr>
          <a:xfrm>
            <a:off x="23760" y="762120"/>
            <a:ext cx="7309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24382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262626"/>
                </a:solidFill>
                <a:latin typeface="Century Gothic"/>
              </a:rPr>
              <a:t>Охрана природы при Петре </a:t>
            </a:r>
            <a:r>
              <a:rPr b="1" lang="en-US" sz="34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609480" y="2742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 Петербурге при Адмиралтейской коллегии была учреждена вальдмейстерская канцелярия, в обязанности которой вошло наблюдение за лесами на Волге, Суре, Каме, Оке, Днепре, Западной Двине, Дону, Ладожском озере и Ильмене. За несоблюдение правил охраны было дано право штрафовать порубщиков, а нарушителей наказывать,- вырывая ноздри и ссылая на каторгу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8" name="Picture 4" descr="загруженное"/>
          <p:cNvPicPr/>
          <p:nvPr/>
        </p:nvPicPr>
        <p:blipFill>
          <a:blip r:embed="rId1"/>
          <a:stretch/>
        </p:blipFill>
        <p:spPr>
          <a:xfrm>
            <a:off x="7772400" y="0"/>
            <a:ext cx="28954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при Петре 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етр I думал не только об охране лесов, но и об их насаждении. Немало деревьев он посадил лично, а по его почину был посажен Шипов лес в Воронежской области. Лесной «знатель» Фокель посадил под Петербургом корабельную рощу (около с. Линдула), которая до сего времени привлекает внимание посетителей огромными деревьями лиственницы, тщательно пронумерованными и охраняемыми по сие врем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4" descr="85626476_4512493_001"/>
          <p:cNvPicPr/>
          <p:nvPr/>
        </p:nvPicPr>
        <p:blipFill>
          <a:blip r:embed="rId1"/>
          <a:stretch/>
        </p:blipFill>
        <p:spPr>
          <a:xfrm>
            <a:off x="2209680" y="152280"/>
            <a:ext cx="863604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933960" y="277920"/>
            <a:ext cx="3276360" cy="24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262626"/>
                </a:solidFill>
                <a:latin typeface="Century Gothic"/>
              </a:rPr>
              <a:t>Охрана природы при </a:t>
            </a:r>
            <a:br>
              <a:rPr sz="3800"/>
            </a:br>
            <a:r>
              <a:rPr b="1" lang="ru-RU" sz="3800" spc="-1" strike="noStrike">
                <a:solidFill>
                  <a:srgbClr val="262626"/>
                </a:solidFill>
                <a:latin typeface="Century Gothic"/>
              </a:rPr>
              <a:t>Петре </a:t>
            </a:r>
            <a:r>
              <a:rPr b="1" lang="en-US" sz="38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1523520" y="3809880"/>
            <a:ext cx="8991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етр I интересовался не только лесами, но также и другими полезными растениями. Так, в 1702 г. был заведен в Москве Аптекарский сад (ныне Ботанический сад Московского университета), а в 1714 г.— Аптекарский огород в Петербурге. Эти аптекарские учреждения имели целью снабжать армию и население лекарственным сырьем, которое до этого завозилось из-за границ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4" name="Picture 4" descr="ogorod4"/>
          <p:cNvPicPr/>
          <p:nvPr/>
        </p:nvPicPr>
        <p:blipFill>
          <a:blip r:embed="rId1"/>
          <a:stretch/>
        </p:blipFill>
        <p:spPr>
          <a:xfrm>
            <a:off x="1523880" y="0"/>
            <a:ext cx="541044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при Петре 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I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Широко понимая необходимость беречь природу, Петр I интересовался также сохранением пушных зверей, дичи и рыбы, «дабы промыслы эти развивались»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Были запрещены хищнические способы охоты и рыбной ловли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а незаконную охоту с «людей высших чинов» взыскивали по 100 рублей, а «нижним чинам» грозило жестокое, без всякой пощады, наказание и ссылка в Азов «с женами и детьми на вечное житие»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в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ередина XVIII и начало XIX в. в России ознаменовались значительным ослаблением строгости к охране лесов и отчасти животных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ежние правила были заменены другими и преданы забвени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аповедные корабельные леса подвергались расхищению, охрана Беловежской пущи была снята, а она сама стала местом царской и великокняжеской охоты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828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в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1371600" y="1225440"/>
            <a:ext cx="5486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Екатерина II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огромные площади земель раздала своим приближенным, о лесах не заботилась, но по своей прихоти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запретила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«ловить соловьев в окрестностях Санкт-Петербурга»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омещики снова стали сводить леса под посевы зерновых культур и одновременно продавать вырубленный лес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1" name="Picture 4" descr="CATA_II_B"/>
          <p:cNvPicPr/>
          <p:nvPr/>
        </p:nvPicPr>
        <p:blipFill>
          <a:blip r:embed="rId1"/>
          <a:stretch/>
        </p:blipFill>
        <p:spPr>
          <a:xfrm>
            <a:off x="7000920" y="1295280"/>
            <a:ext cx="366696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Picture 2" descr="PDVD_037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3" descr="Рисунок2"/>
          <p:cNvPicPr/>
          <p:nvPr/>
        </p:nvPicPr>
        <p:blipFill>
          <a:blip r:embed="rId2"/>
          <a:stretch/>
        </p:blipFill>
        <p:spPr>
          <a:xfrm>
            <a:off x="1523880" y="2743200"/>
            <a:ext cx="1905120" cy="1422360"/>
          </a:xfrm>
          <a:prstGeom prst="rect">
            <a:avLst/>
          </a:prstGeom>
          <a:ln w="0">
            <a:noFill/>
          </a:ln>
        </p:spPr>
      </p:pic>
      <p:pic>
        <p:nvPicPr>
          <p:cNvPr id="1229" name="Picture 6" descr="d_509i"/>
          <p:cNvPicPr/>
          <p:nvPr/>
        </p:nvPicPr>
        <p:blipFill>
          <a:blip r:embed="rId3"/>
          <a:stretch/>
        </p:blipFill>
        <p:spPr>
          <a:xfrm>
            <a:off x="1752480" y="152280"/>
            <a:ext cx="1544760" cy="2133720"/>
          </a:xfrm>
          <a:prstGeom prst="rect">
            <a:avLst/>
          </a:prstGeom>
          <a:ln w="0">
            <a:noFill/>
          </a:ln>
        </p:spPr>
      </p:pic>
      <p:pic>
        <p:nvPicPr>
          <p:cNvPr id="1230" name="Picture 8" descr="Изображение 030"/>
          <p:cNvPicPr/>
          <p:nvPr/>
        </p:nvPicPr>
        <p:blipFill>
          <a:blip r:embed="rId4"/>
          <a:stretch/>
        </p:blipFill>
        <p:spPr>
          <a:xfrm>
            <a:off x="9215280" y="152280"/>
            <a:ext cx="1452600" cy="1905120"/>
          </a:xfrm>
          <a:prstGeom prst="rect">
            <a:avLst/>
          </a:prstGeom>
          <a:ln w="0">
            <a:noFill/>
          </a:ln>
        </p:spPr>
      </p:pic>
      <p:pic>
        <p:nvPicPr>
          <p:cNvPr id="1231" name="Picture 12" descr="kam5"/>
          <p:cNvPicPr/>
          <p:nvPr/>
        </p:nvPicPr>
        <p:blipFill>
          <a:blip r:embed="rId5"/>
          <a:stretch/>
        </p:blipFill>
        <p:spPr>
          <a:xfrm>
            <a:off x="8839080" y="5105520"/>
            <a:ext cx="1828800" cy="137304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13" descr="Рисунок7"/>
          <p:cNvPicPr/>
          <p:nvPr/>
        </p:nvPicPr>
        <p:blipFill>
          <a:blip r:embed="rId6"/>
          <a:stretch/>
        </p:blipFill>
        <p:spPr>
          <a:xfrm>
            <a:off x="8991720" y="274320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26" descr="alt3"/>
          <p:cNvPicPr/>
          <p:nvPr/>
        </p:nvPicPr>
        <p:blipFill>
          <a:blip r:embed="rId7"/>
          <a:stretch/>
        </p:blipFill>
        <p:spPr>
          <a:xfrm>
            <a:off x="1371600" y="5181480"/>
            <a:ext cx="2133720" cy="1543320"/>
          </a:xfrm>
          <a:prstGeom prst="rect">
            <a:avLst/>
          </a:prstGeom>
          <a:ln w="0">
            <a:noFill/>
          </a:ln>
        </p:spPr>
      </p:pic>
      <p:sp>
        <p:nvSpPr>
          <p:cNvPr id="1234" name="Rectangle 30"/>
          <p:cNvSpPr/>
          <p:nvPr/>
        </p:nvSpPr>
        <p:spPr>
          <a:xfrm>
            <a:off x="3429000" y="304920"/>
            <a:ext cx="5486400" cy="60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b931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трую тревогу вызывают все ускоряющиеся темпы исчезновения многих видов флоры и фау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b931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далеко не полным данным, за последние четыре столетия человечество потеряло 130 видов животных, т. е. в среднем один вид за три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fb931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сведениям Международного союза охраны природы и природных ресурсов, на грани исчезновения находятся 550 видов редких млекопитающих и птиц, а под угрозой истребления — до 1000 видов животн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/>
          </p:nvPr>
        </p:nvSpPr>
        <p:spPr>
          <a:xfrm>
            <a:off x="1752120" y="4572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ервым охраняемым участком и природным зоопарком в России стала всем известная Аскания-Нова, образованная в 1874 г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. в бывшем имении Фальцфейна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 дальнейшем возник заповедник на мелких островах Балтийского моря (1910)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 в других местах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83" name="Picture 4" descr="0d6e263af46f29b53ef6c76a788736ecb5d68697"/>
          <p:cNvPicPr/>
          <p:nvPr/>
        </p:nvPicPr>
        <p:blipFill>
          <a:blip r:embed="rId1"/>
          <a:stretch/>
        </p:blipFill>
        <p:spPr>
          <a:xfrm>
            <a:off x="5969160" y="3340080"/>
            <a:ext cx="4698720" cy="3517920"/>
          </a:xfrm>
          <a:prstGeom prst="rect">
            <a:avLst/>
          </a:prstGeom>
          <a:ln w="0">
            <a:noFill/>
          </a:ln>
        </p:spPr>
      </p:pic>
      <p:pic>
        <p:nvPicPr>
          <p:cNvPr id="1284" name="Picture 5" descr="00017"/>
          <p:cNvPicPr/>
          <p:nvPr/>
        </p:nvPicPr>
        <p:blipFill>
          <a:blip r:embed="rId2"/>
          <a:stretch/>
        </p:blipFill>
        <p:spPr>
          <a:xfrm>
            <a:off x="1523880" y="3263760"/>
            <a:ext cx="4673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Охрана природы в Росси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. И. Ленин подписал (в мае 1919 г.) постановление о сроках охоты и праве на охотничье оружие, которым была запрещена охота на лосей и коз, а также сбор яиц диких птиц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 это же время В. И. Ленин поддержал мысль о создании в дельте Волги заповедника и подчеркнул, что считает дело охраны природы важным и срочным делом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7" name="Picture 6" descr="IMGA0923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23623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d5295e"/>
                </a:solidFill>
                <a:latin typeface="Comic Sans MS"/>
              </a:rPr>
              <a:t>Законы об охране природы:</a:t>
            </a:r>
            <a:br>
              <a:rPr sz="3400"/>
            </a:b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1828800" y="838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1919–1920 </a:t>
            </a: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декреты, определившие общие условия охоты, охраны и производства промысловых зверей и птиц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1921</a:t>
            </a:r>
            <a:r>
              <a:rPr b="1" lang="ru-RU" sz="3200" spc="-1" strike="noStrike">
                <a:solidFill>
                  <a:srgbClr val="0033cc"/>
                </a:solidFill>
                <a:latin typeface="Arial Black"/>
              </a:rPr>
              <a:t> – декрет «Об охране памятников природы, садов, парков»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438280" y="277560"/>
            <a:ext cx="6019920" cy="132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d5295e"/>
                </a:solidFill>
                <a:latin typeface="Comic Sans MS"/>
              </a:rPr>
              <a:t>Конституция </a:t>
            </a:r>
            <a:br>
              <a:rPr sz="3800"/>
            </a:br>
            <a:r>
              <a:rPr b="1" lang="ru-RU" sz="3800" spc="-1" strike="noStrike">
                <a:solidFill>
                  <a:srgbClr val="d5295e"/>
                </a:solidFill>
                <a:latin typeface="Comic Sans MS"/>
              </a:rPr>
              <a:t>Российской Федерации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Статья 9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1. Земля и другие природные ресурсы используются и охраняются в Российской Федерации как основа жизни и деятельности народов, проживающих на соответствующей территори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2. Земля и другие природные ресурсы могут находиться в частной, государственной, муниципальной и иных формах собственност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Статья 58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533520" indent="-53352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Arial Black"/>
              </a:rPr>
              <a:t>Каждый обязан сохранять природу и окружающую среду, бережно относиться к природным богатствам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92" name="Picture 4" descr="lib_laws"/>
          <p:cNvPicPr/>
          <p:nvPr/>
        </p:nvPicPr>
        <p:blipFill>
          <a:blip r:embed="rId1"/>
          <a:stretch/>
        </p:blipFill>
        <p:spPr>
          <a:xfrm>
            <a:off x="8839080" y="228600"/>
            <a:ext cx="1038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1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1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325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100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100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00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100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100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00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80720" y="277920"/>
            <a:ext cx="7543800" cy="14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d5295e"/>
                </a:solidFill>
                <a:latin typeface="Comic Sans MS"/>
              </a:rPr>
              <a:t>Федеральный закон </a:t>
            </a:r>
            <a:br>
              <a:rPr sz="3800"/>
            </a:br>
            <a:r>
              <a:rPr b="1" lang="ru-RU" sz="3800" spc="-1" strike="noStrike">
                <a:solidFill>
                  <a:srgbClr val="d5295e"/>
                </a:solidFill>
                <a:latin typeface="Comic Sans MS"/>
              </a:rPr>
              <a:t> «О животном мире»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94" name="Picture 6" descr="1000714602"/>
          <p:cNvPicPr/>
          <p:nvPr/>
        </p:nvPicPr>
        <p:blipFill>
          <a:blip r:embed="rId1"/>
          <a:stretch/>
        </p:blipFill>
        <p:spPr>
          <a:xfrm>
            <a:off x="1066680" y="1752480"/>
            <a:ext cx="3070440" cy="4343400"/>
          </a:xfrm>
          <a:prstGeom prst="rect">
            <a:avLst/>
          </a:prstGeom>
          <a:ln w="0">
            <a:noFill/>
          </a:ln>
        </p:spPr>
      </p:pic>
      <p:sp>
        <p:nvSpPr>
          <p:cNvPr id="1295" name="Text Box 10"/>
          <p:cNvSpPr/>
          <p:nvPr/>
        </p:nvSpPr>
        <p:spPr>
          <a:xfrm>
            <a:off x="4876920" y="1752480"/>
            <a:ext cx="7162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ивотный мир является достоянием народов Российской Федерации, неотъемлемым элементом природной среды и биологического разнообразия Земли, возобновляющимся природным ресурсом, важным регулирующим и стабилизирующим компонентом биосферы, всемерно охраняемым и рационально используемым для удовлетворения духовных и материальных потребностей граждан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438280" y="2779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400" spc="-1" strike="noStrike">
                <a:solidFill>
                  <a:srgbClr val="d5295e"/>
                </a:solidFill>
                <a:latin typeface="Comic Sans MS"/>
              </a:rPr>
              <a:t>Федеральный закон</a:t>
            </a:r>
            <a:br>
              <a:rPr sz="3400"/>
            </a:br>
            <a:r>
              <a:rPr b="1" lang="ru-RU" sz="3400" spc="-1" strike="noStrike">
                <a:solidFill>
                  <a:srgbClr val="d5295e"/>
                </a:solidFill>
                <a:latin typeface="Comic Sans MS"/>
              </a:rPr>
              <a:t>«Об особоохраняемых природных территориях».</a:t>
            </a:r>
            <a:endParaRPr b="0" lang="en-US" sz="34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97" name="Picture 4" descr="i"/>
          <p:cNvPicPr/>
          <p:nvPr/>
        </p:nvPicPr>
        <p:blipFill>
          <a:blip r:embed="rId1"/>
          <a:stretch/>
        </p:blipFill>
        <p:spPr>
          <a:xfrm>
            <a:off x="914400" y="2322360"/>
            <a:ext cx="2274840" cy="3581640"/>
          </a:xfrm>
          <a:prstGeom prst="rect">
            <a:avLst/>
          </a:prstGeom>
          <a:ln w="0">
            <a:noFill/>
          </a:ln>
        </p:spPr>
      </p:pic>
      <p:sp>
        <p:nvSpPr>
          <p:cNvPr id="1298" name="Text Box 5"/>
          <p:cNvSpPr/>
          <p:nvPr/>
        </p:nvSpPr>
        <p:spPr>
          <a:xfrm>
            <a:off x="3962520" y="2322360"/>
            <a:ext cx="60958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стоящий Федеральный закон регулирует отношения в области организации, охраны и использования особо охраняемых природных территорий в целях сохранения уникальных и типичных природных комплексов и объектов, достопримечательных природных образований, объектов растительного и животного мира, их генетического фонда, изучения естественных процессов в биосфере и контроля за изменением ее состояния, экологического воспитания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24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800" spc="-1" strike="noStrike">
                <a:solidFill>
                  <a:srgbClr val="262626"/>
                </a:solidFill>
                <a:latin typeface="Century Gothic"/>
              </a:rPr>
              <a:t>История возникновения охраны природы</a:t>
            </a:r>
            <a:endParaRPr b="0" lang="en-US" sz="3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3000" spc="-1" strike="noStrike">
                <a:solidFill>
                  <a:srgbClr val="404040"/>
                </a:solidFill>
                <a:latin typeface="Century Gothic"/>
              </a:rPr>
              <a:t>Первоначально люди полубессознательно оберегали от своих соседей обработанные участки и отдельные растения. После они стали думать о каком-то покровительстве природе как источнике пищи, а следовательно, и жизни. Появились правила, регулирующие использование богатств природы. </a:t>
            </a:r>
            <a:endParaRPr b="0" lang="en-US" sz="3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 txBox="1"/>
          <p:nvPr/>
        </p:nvSpPr>
        <p:spPr>
          <a:xfrm>
            <a:off x="1676520" y="-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Древние египтяне, например, полагали, что человек не должен истреблять животных на их пастбищах и сгонять их с «божьих» земель. 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Эти действия считались «греховными» и об этом было записано в «Книге мертвых», где собраны заклинания душ умерших, представших на суд бога Осирис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38" name="Picture 4" descr="001"/>
          <p:cNvPicPr/>
          <p:nvPr/>
        </p:nvPicPr>
        <p:blipFill>
          <a:blip r:embed="rId1"/>
          <a:stretch/>
        </p:blipFill>
        <p:spPr>
          <a:xfrm>
            <a:off x="2209680" y="3108240"/>
            <a:ext cx="68580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1523880" y="-3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 знаменитом Кодексе Вавилонского царя Хаммурапи, жившего 17 веков до н. э., были установлены правила охраны лесов и пользования ими, а эа незаконную порубку дерева в чужом саду с виновных полагалось взимать определенную и не малую плату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0" name="Picture 4" descr="image030"/>
          <p:cNvPicPr/>
          <p:nvPr/>
        </p:nvPicPr>
        <p:blipFill>
          <a:blip r:embed="rId1"/>
          <a:stretch/>
        </p:blipFill>
        <p:spPr>
          <a:xfrm>
            <a:off x="3695760" y="2529000"/>
            <a:ext cx="43434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Средние век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6629400" y="1066680"/>
            <a:ext cx="5410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1" lang="ru-RU" sz="3000" spc="-1" strike="noStrike">
                <a:solidFill>
                  <a:srgbClr val="404040"/>
                </a:solidFill>
                <a:latin typeface="Century Gothic"/>
              </a:rPr>
              <a:t>В средние века </a:t>
            </a:r>
            <a:r>
              <a:rPr b="0" lang="ru-RU" sz="3000" spc="-1" strike="noStrike">
                <a:solidFill>
                  <a:srgbClr val="404040"/>
                </a:solidFill>
                <a:latin typeface="Century Gothic"/>
              </a:rPr>
              <a:t>в Западной Европе владетельные феодалы, заинтересованные в сохранении дичи, </a:t>
            </a:r>
            <a:r>
              <a:rPr b="1" lang="ru-RU" sz="3000" spc="-1" strike="noStrike">
                <a:solidFill>
                  <a:srgbClr val="404040"/>
                </a:solidFill>
                <a:latin typeface="Century Gothic"/>
              </a:rPr>
              <a:t>издавали запреты на пользование охотничьими угодьями</a:t>
            </a:r>
            <a:r>
              <a:rPr b="0" lang="ru-RU" sz="3000" spc="-1" strike="noStrike">
                <a:solidFill>
                  <a:srgbClr val="404040"/>
                </a:solidFill>
                <a:latin typeface="Century Gothic"/>
              </a:rPr>
              <a:t>. Нарушения карались сурово, вплоть до применения смертной казни. Для королевских и царских охот появились запретные и заповедные земли, специально охранявшиеся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3" name="Picture 4" descr="artlib_gallery-134095-b"/>
          <p:cNvPicPr/>
          <p:nvPr/>
        </p:nvPicPr>
        <p:blipFill>
          <a:blip r:embed="rId1"/>
          <a:stretch/>
        </p:blipFill>
        <p:spPr>
          <a:xfrm>
            <a:off x="533520" y="1420920"/>
            <a:ext cx="5943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209680" y="459252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На Руси регламентирование охоты, например, появилось еще при Ярославе Мудром, и оно было зафиксировано в первом письменном документе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— «Русской правде». (1016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6" name="Picture 4" descr="Mezhyhirskyi_Monastery_18431"/>
          <p:cNvPicPr/>
          <p:nvPr/>
        </p:nvPicPr>
        <p:blipFill>
          <a:blip r:embed="rId1"/>
          <a:stretch/>
        </p:blipFill>
        <p:spPr>
          <a:xfrm>
            <a:off x="1523880" y="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5" descr="images"/>
          <p:cNvPicPr/>
          <p:nvPr/>
        </p:nvPicPr>
        <p:blipFill>
          <a:blip r:embed="rId2"/>
          <a:stretch/>
        </p:blipFill>
        <p:spPr>
          <a:xfrm>
            <a:off x="8458200" y="506520"/>
            <a:ext cx="2730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 txBox="1"/>
          <p:nvPr/>
        </p:nvSpPr>
        <p:spPr>
          <a:xfrm>
            <a:off x="1523880" y="419076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воеобразные формы охраны природных богатств сложились во Владимиро-Волынском княжестве (XIII в.). На определенной территории здесь целиком запрещалась охота на всех животных. Это был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ервый заповедник — Беловежская пуща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49" name="Picture 6" descr="f-2305211958"/>
          <p:cNvPicPr/>
          <p:nvPr/>
        </p:nvPicPr>
        <p:blipFill>
          <a:blip r:embed="rId1"/>
          <a:stretch/>
        </p:blipFill>
        <p:spPr>
          <a:xfrm>
            <a:off x="2971800" y="0"/>
            <a:ext cx="5864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 txBox="1"/>
          <p:nvPr/>
        </p:nvSpPr>
        <p:spPr>
          <a:xfrm>
            <a:off x="2057400" y="2666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      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В период расцвета Литовского государства были созданы специальные своды законов — Литовские статуты, которые сыграли положительную роль в охране природы. Статут брал под охрану лебедей, бобров, лис и других животных. За кражу, убийство или разорение гнезд лебедя взимался значительный штраф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1" name="Picture 4" descr="лиса"/>
          <p:cNvPicPr/>
          <p:nvPr/>
        </p:nvPicPr>
        <p:blipFill>
          <a:blip r:embed="rId1"/>
          <a:stretch/>
        </p:blipFill>
        <p:spPr>
          <a:xfrm>
            <a:off x="2362320" y="0"/>
            <a:ext cx="3876480" cy="2666880"/>
          </a:xfrm>
          <a:prstGeom prst="rect">
            <a:avLst/>
          </a:prstGeom>
          <a:ln w="0">
            <a:noFill/>
          </a:ln>
        </p:spPr>
      </p:pic>
      <p:pic>
        <p:nvPicPr>
          <p:cNvPr id="1252" name="Picture 5" descr="лебедь-трубач"/>
          <p:cNvPicPr/>
          <p:nvPr/>
        </p:nvPicPr>
        <p:blipFill>
          <a:blip r:embed="rId2"/>
          <a:stretch/>
        </p:blipFill>
        <p:spPr>
          <a:xfrm>
            <a:off x="6248520" y="0"/>
            <a:ext cx="411480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мья</dc:creator>
  <dc:description/>
  <dc:language>en-US</dc:language>
  <cp:lastModifiedBy>Семья</cp:lastModifiedBy>
  <dcterms:modified xsi:type="dcterms:W3CDTF">2023-10-26T18:17:42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