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D91-F3D0-4485-B20A-20984FC4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CBFE-8F4E-4834-89F8-DF9865BC4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ADC-4448-4465-9D69-2D0E75BC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0D85-4C77-489C-9838-BAE0573C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01D-F330-4ED6-8010-43310E0F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80F-B7D5-4E20-B717-8CAE9B07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2AE-7105-43FA-AE18-0F7435F5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297-75C3-43ED-93D0-41447C17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00B0-F118-404C-A0F8-65BAFDD5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0CF8-7AE8-4500-AE7C-7EEF8CD3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B27-6708-481E-9159-E78FDCD2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1D5B-0AC8-4A9F-B0C3-67265CB4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41CB-0413-4D97-AB3A-DCF84EB0F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36536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нятие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. Современная философ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ль занят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ь представление об основных понятиях философии, её роли в жизни человека и общ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Экзистенциал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 Позитивиз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Философия прагматиз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73332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4932360" y="733320"/>
            <a:ext cx="37432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1"/>
          <p:cNvSpPr/>
          <p:nvPr/>
        </p:nvSpPr>
        <p:spPr>
          <a:xfrm>
            <a:off x="324000" y="549360"/>
            <a:ext cx="43192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зистенциализ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от позднелат. exsistentia - существование), 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илософия существ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- философское направление XX века, идеи которого получили широкое распространение во многих европейских странах, а также в СШ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Экзистенциализ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— не просто философское направление, 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корее, культурное движение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ечатлевающее глубокое эмоциональное и духовное измерение современного человека, изображающее психологическую ситуацию, в которой он находится, выражение уникальных психологических трудностей, с которыми он сталкивает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Rollo May USD Alcalá 1977.jpg"/>
          <p:cNvPicPr/>
          <p:nvPr/>
        </p:nvPicPr>
        <p:blipFill>
          <a:blip r:embed="rId2"/>
          <a:stretch/>
        </p:blipFill>
        <p:spPr>
          <a:xfrm>
            <a:off x="5327640" y="907920"/>
            <a:ext cx="2952720" cy="4394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5003640" y="3244680"/>
            <a:ext cx="3600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оло Рис Мэ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(1909 – 199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5280" y="260280"/>
          <a:ext cx="8353440" cy="6556320"/>
        </p:xfrm>
        <a:graphic>
          <a:graphicData uri="http://schemas.openxmlformats.org/drawingml/2006/table">
            <a:tbl>
              <a:tblPr/>
              <a:tblGrid>
                <a:gridCol w="576360"/>
                <a:gridCol w="7777080"/>
              </a:tblGrid>
              <a:tr h="647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ие черты экзистенциализ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конкретного бытия человеческой личности, которое представляет собой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ственную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подлинную действительность,  есть исходная точка всякого зн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4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ществование (экзистенция) предшествует сущности, то есть сначала человек появляется на свет, существует, что-то делает, думает, а потом определяет сам себя, свою сущность, стремясь к своей индивидуальной ц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46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ятие «экзистенция» есть способ бытия человеческой личности, центральное ядро человеческого Я, благодаря которому оно выступает как неповторимая человеческая личность и рассматривается как процесс и «открытая возможность»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овидности существования: неподлинное существование и подлинное существование (экзистенция), что есть переход к САМОБЫТ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ятие свободы. Обретая себя как экзистенцию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овек впервые обретает и свою свободу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которая заключается в том, чтобы он не выступал как вещь, формирующаяся под влиянием естественной и социальной необходимости, а «выбирал» самого себя, формировал себя каждым своим действием и поступком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знь – единственная ценность, которая не может быть подвергнута никакому сомнению, и ее нужно постоянно насыщать смыслом. А источником смысла и является жизнь каждого человека; она самоценна, неповторима и уникальна. В этом и состоит утверждение гуманизма, который экзистенциалисты считают сутью своего 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0" name="Rectangle 3"/>
          <p:cNvSpPr/>
          <p:nvPr/>
        </p:nvSpPr>
        <p:spPr>
          <a:xfrm>
            <a:off x="1533600" y="1760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476280"/>
            <a:ext cx="432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5127480" y="4797360"/>
            <a:ext cx="35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580000" y="316404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95280" y="620640"/>
            <a:ext cx="4105440" cy="86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 Позитивиз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итивизм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лософское направление, настаивающее на том, что все положительное (позитивное) философское знание сводится к содержанию отдельных специальных наук и обобщению их достиж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Наука сама себе философия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вот центральный тезис позитивизма. Возникновение позитивизма связано с философской доктриной французского философа Огюста Конта (1798-1857), изложенной им в объемном труде «Курс позитивной философии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едназначение философи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«признании всех явлений подчиненными неизменным естественным законам, открытие и низведение числа которых до минимума и составляет цель всех наших усилий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Auguste Comte.jpg"/>
          <p:cNvPicPr/>
          <p:nvPr/>
        </p:nvPicPr>
        <p:blipFill>
          <a:blip r:embed="rId2"/>
          <a:stretch/>
        </p:blipFill>
        <p:spPr>
          <a:xfrm>
            <a:off x="5381640" y="984240"/>
            <a:ext cx="2830320" cy="41004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5292720" y="3244680"/>
            <a:ext cx="316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гюст Кон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1798-185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324000" y="-1077840"/>
            <a:ext cx="4109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788000" y="3244680"/>
            <a:ext cx="396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2"/>
          <p:cNvSpPr/>
          <p:nvPr/>
        </p:nvSpPr>
        <p:spPr>
          <a:xfrm>
            <a:off x="468360" y="765000"/>
            <a:ext cx="4103640" cy="49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 Философия прагмат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гматиз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(от др.-греч. — «дело, действие») — философское течение, базирующееся на практике как критерии истины и смысловой значим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исхождение прагматизма связывают с именем американского философа XIX века Чарльза Пирса, который первым сформулировал «максиму» прагматизм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Charles Sanders Peirce theb3558.jpg"/>
          <p:cNvPicPr/>
          <p:nvPr/>
        </p:nvPicPr>
        <p:blipFill>
          <a:blip r:embed="rId2"/>
          <a:stretch/>
        </p:blipFill>
        <p:spPr>
          <a:xfrm>
            <a:off x="5256360" y="1179360"/>
            <a:ext cx="3024000" cy="4131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4932360" y="2967120"/>
            <a:ext cx="37432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Calibri"/>
              </a:rPr>
              <a:t>Ча́рльз Са́ндерс Пирс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(183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vi-VN" sz="2000" spc="-1" strike="noStrike">
                <a:solidFill>
                  <a:srgbClr val="000000"/>
                </a:solidFill>
                <a:latin typeface="Calibri"/>
              </a:rPr>
              <a:t>1914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4"/>
          <p:cNvSpPr/>
          <p:nvPr/>
        </p:nvSpPr>
        <p:spPr>
          <a:xfrm>
            <a:off x="5148360" y="3236760"/>
            <a:ext cx="345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611280" y="866880"/>
            <a:ext cx="80643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гматик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— последователь, сторонник прагматизма, как философской систе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бытовом смысле прагмати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человек, который выстраивает свою систему поступков и взглядов на жизнь в аспекте получения практически полезных результатов. «То, во что для нас лучше верить, — истинно», — слова  основателя прагматизма Уильям  Джейм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гматизм в исторической наук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— термин, который первым ввёл Полибий, др.-гр.историк: такое изображение прошлого, которое касается государственных событий, причём последние рассматриваются в связи с их причинами, сопровождающими их обстоятельствами и их следствиями, а само изображение событий имеет целью преподать известное поуч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гматизм продолжает оказывать влия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решение многих методологических, и логических проблем, в значительной мере определяя  стиль политического мышления в США. С конца 60-х и в 70-х гг. интерес к прагматизму возрождается и усиливае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1692360" y="4046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 Философия прагмат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8T19:51:51Z</dcterms:created>
  <dc:creator>Home</dc:creator>
  <dc:description/>
  <dc:language>en-US</dc:language>
  <cp:lastModifiedBy>Grinberg</cp:lastModifiedBy>
  <dcterms:modified xsi:type="dcterms:W3CDTF">2020-12-25T23:38:38Z</dcterms:modified>
  <cp:revision>34</cp:revision>
  <dc:subject/>
  <dc:title>Урок 12. Правовые аспекты защиты информации</dc:title>
</cp:coreProperties>
</file>