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E26-C517-471E-9F1A-712B982F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5E8-4B73-4CE6-A688-D274DA5B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EFC-5F12-4D52-8D43-A6E84042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142-2E19-4C90-B7C1-5E19CDEF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055-A519-4974-96BB-0E7E3D47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FDA-FD84-48F9-ABF5-0F719C54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77A-6312-4C8A-88C5-795CF88F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F24-4354-4958-8B35-F0E29E4D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A13-4AC6-47B5-9C58-BACAA161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BE7-E643-4E6E-AC2C-F9C5D910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B93-EBAD-4FAE-861A-B51FC90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2FA-AB9F-43F3-A17E-7F5DB62C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AA97-C23A-4D0E-92D7-6E360B8E1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36536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нятие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. Современ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занят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ь представление об основных понятиях философии, её роли в жизни человека и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Экзистенциал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 Позитив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Философия прагмат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73332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932360" y="733320"/>
            <a:ext cx="3743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324000" y="549360"/>
            <a:ext cx="4319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зистенциализ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т позднелат. exsistentia - существование), 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лософия существ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- философское направление XX века, идеи которого получили широкое распространение во многих европейских странах, а также в СШ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зистенциализ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не просто философское направление, 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орее, культурное движени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ечатлевающее глубокое эмоциональное и духовное измерение современного человека, изображающее психологическую ситуацию, в которой он находится, выражение уникальных психологических трудностей, с которыми он сталкивае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Rollo May USD Alcalá 1977.jpg"/>
          <p:cNvPicPr/>
          <p:nvPr/>
        </p:nvPicPr>
        <p:blipFill>
          <a:blip r:embed="rId2"/>
          <a:stretch/>
        </p:blipFill>
        <p:spPr>
          <a:xfrm>
            <a:off x="5327640" y="907920"/>
            <a:ext cx="2952720" cy="4394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5003640" y="3244680"/>
            <a:ext cx="3600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оло Рис Мэ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1909 – 199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5280" y="260280"/>
          <a:ext cx="8353440" cy="6556320"/>
        </p:xfrm>
        <a:graphic>
          <a:graphicData uri="http://schemas.openxmlformats.org/drawingml/2006/table">
            <a:tbl>
              <a:tblPr/>
              <a:tblGrid>
                <a:gridCol w="576360"/>
                <a:gridCol w="7777080"/>
              </a:tblGrid>
              <a:tr h="647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е черты экзистенциализ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конкретного бытия человеческой личности, которое представляет собо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ственну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одлинную действительность,  есть исходная точка всякого 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ществование (экзистенция) предшествует сущности, то есть сначала человек появляется на свет, существует, что-то делает, думает, а потом определяет сам себя, свою сущность, стремясь к своей индивидуальной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ие «экзистенция» есть способ бытия человеческой личности, центральное ядро человеческого Я, благодаря которому оно выступает как неповторимая человеческая личность и рассматривается как процесс и «открытая возможность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видности существования: неподлинное существование и подлинное существование (экзистенция), что есть переход к САМОБЫТ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ие свободы. Обретая себя как экзистенцию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овек впервые обретает и свою свобод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которая заключается в том, чтобы он не выступал как вещь, формирующаяся под влиянием естественной и социальной необходимости, а «выбирал» самого себя, формировал себя каждым своим действием и поступ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знь – единственная ценность, которая не может быть подвергнута никакому сомнению, и ее нужно постоянно насыщать смыслом. А источником смысла и является жизнь каждого человека; она самоценна, неповторима и уникальна. В этом и состоит утверждение гуманизма, который экзистенциалисты считают сутью своего 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3"/>
          <p:cNvSpPr/>
          <p:nvPr/>
        </p:nvSpPr>
        <p:spPr>
          <a:xfrm>
            <a:off x="1533600" y="1760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476280"/>
            <a:ext cx="43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5127480" y="4797360"/>
            <a:ext cx="35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580000" y="316404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95280" y="620640"/>
            <a:ext cx="4105440" cy="86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Позитив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итивизм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лософское направление, настаивающее на том, что все положительное (позитивное) философское знание сводится к содержанию отдельных специальных наук и обобщению их достиж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ука сама себе философия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от центральный тезис позитивизма. Возникновение позитивизма связано с философской доктриной французского философа Огюста Конта (1798-1857), изложенной им в объемном труде «Курс позитивной философии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назначение философи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«признании всех явлений подчиненными неизменным естественным законам, открытие и низведение числа которых до минимума и составляет цель всех наших усилий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Auguste Comte.jpg"/>
          <p:cNvPicPr/>
          <p:nvPr/>
        </p:nvPicPr>
        <p:blipFill>
          <a:blip r:embed="rId2"/>
          <a:stretch/>
        </p:blipFill>
        <p:spPr>
          <a:xfrm>
            <a:off x="5381640" y="984240"/>
            <a:ext cx="2830320" cy="4100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5292720" y="324468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гюст Кон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798-185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324000" y="-1077840"/>
            <a:ext cx="410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788000" y="3244680"/>
            <a:ext cx="396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468360" y="765000"/>
            <a:ext cx="410364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 Философия прагмат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гматиз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от др.-греч. — «дело, действие») — философское течение, базирующееся на практике как критерии истины и смысловой значим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схождение прагматизма связывают с именем американского философа XIX века Чарльза Пирса, который первым сформулировал «максиму» прагматиз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Charles Sanders Peirce theb3558.jpg"/>
          <p:cNvPicPr/>
          <p:nvPr/>
        </p:nvPicPr>
        <p:blipFill>
          <a:blip r:embed="rId2"/>
          <a:stretch/>
        </p:blipFill>
        <p:spPr>
          <a:xfrm>
            <a:off x="5256360" y="1179360"/>
            <a:ext cx="3024000" cy="4131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4932360" y="2967120"/>
            <a:ext cx="37432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Ча́рльз Са́ндерс Пир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(183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191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4"/>
          <p:cNvSpPr/>
          <p:nvPr/>
        </p:nvSpPr>
        <p:spPr>
          <a:xfrm>
            <a:off x="5148360" y="3236760"/>
            <a:ext cx="345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611280" y="866880"/>
            <a:ext cx="8064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гматик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последователь, сторонник прагматизма, как философской систе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бытовом смысле прагмати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человек, который выстраивает свою систему поступков и взглядов на жизнь в аспекте получения практически полезных результатов. «То, во что для нас лучше верить, — истинно», — слова  основателя прагматизма Уильям  Джейм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гматизм в исторической нау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термин, который первым ввёл Полибий, др.-гр.историк: такое изображение прошлого, которое касается государственных событий, причём последние рассматриваются в связи с их причинами, сопровождающими их обстоятельствами и их следствиями, а само изображение событий имеет целью преподать известное поуч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гматизм продолжает оказывать влия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решение многих методологических, и логических проблем, в значительной мере определяя  стиль политического мышления в США. С конца 60-х и в 70-х гг. интерес к прагматизму возрождается и усилив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92360" y="404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 Философия прагмат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8T19:51:51Z</dcterms:created>
  <dc:creator>Home</dc:creator>
  <dc:description/>
  <dc:language>en-US</dc:language>
  <cp:lastModifiedBy>Grinberg</cp:lastModifiedBy>
  <dcterms:modified xsi:type="dcterms:W3CDTF">2020-12-25T23:38:38Z</dcterms:modified>
  <cp:revision>34</cp:revision>
  <dc:subject/>
  <dc:title>Урок 12. Правовые аспекты защиты информации</dc:title>
</cp:coreProperties>
</file>