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B27B-8DA6-4636-8149-0BC5BADE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79C1-807F-43E8-842C-C3BF4CA5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0F43-4BA9-4CB7-A003-57E0B5D5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27F8-4019-4DCF-8E9E-2E30495B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1766-E840-4BB4-A6D0-2BCBB7EE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C6D6-0F6F-4489-A704-9EACF5F1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17CD-16E0-4ABA-BABC-F22CC38A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1A53-6527-4369-948D-FD544FB1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8D8-4F7D-4DB6-A616-52B535FC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865-E4F8-404D-88E3-6F204E4D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D1E9-0706-4E9D-A050-27E55831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86D6-38CF-42EB-876D-98F9938C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DC59-2C98-4F36-8E97-9E38D31761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s://ru.wikipedia.org/wiki/&#1043;&#1088;&#1077;&#1095;&#1077;&#1089;&#1082;&#1080;&#1081;_&#1103;&#1079;&#1099;&#1082;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15520" y="4365360"/>
            <a:ext cx="7704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анятие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11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. Христианство. Основные христианские ид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и план зан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 занят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ть представление об основах христианства и предназначении челов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ан 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Христианство: понятие, ист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Библия – главная книга христи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Христианская религия о самосовершенствовании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468360" y="-2290680"/>
            <a:ext cx="4174920" cy="25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4932360" y="324468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250920" y="476280"/>
            <a:ext cx="4321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Христианство: понятие, исто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Христиа́нст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т греч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Χριστό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«Помазанник», «Мессия») — мировая религия, возникшая около 33 года в Палестине вокруг жизни и учения Иисуса Христа, описанных в Новом Завет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ристиане верят, что Иисус из Назарета есть Мессия, Сын Божий и Спаситель человечества, предсказанный библейскими пророчествами Ветхого Заве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ристиане не сомневаются в его историчности. В христианстве Иисус рассматривается как предсказанный библейскими пророчествами Ветхого Завета Месс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https://upload.wikimedia.org/wikipedia/commons/thumb/4/4a/Spas_vsederzhitel_sinay.jpg/800px-Spas_vsederzhitel_sinay.jpg"/>
          <p:cNvPicPr/>
          <p:nvPr/>
        </p:nvPicPr>
        <p:blipFill>
          <a:blip r:embed="rId3"/>
          <a:stretch/>
        </p:blipFill>
        <p:spPr>
          <a:xfrm>
            <a:off x="5724360" y="692280"/>
            <a:ext cx="2310120" cy="44654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4932360" y="3105000"/>
            <a:ext cx="36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ревнейшее из известных иконописных изображений Хри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2286000" y="2967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4932360" y="2550960"/>
            <a:ext cx="383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3685680" y="32446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395280" y="620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4788000" y="3844800"/>
            <a:ext cx="397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584280" y="476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395280" y="476280"/>
            <a:ext cx="41767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Христианство: понятие, исто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ристианство возникло в I веке в Палестине (провинция Римской империи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честве государственной религии христианство впервые было принято в Великой Армении в 301 год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313 году  принят Миланский эдикт о свободе вероисповедания в Римской империи при императоре Константи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ристианство — самая крупная авраамическая и мировая религия как по численности приверженцев, которых около 2,4 млрд, так и по географической распространён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иболее крупные течения в христианстве - православие, католицизм и протестантиз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9" descr="https://upload.wikimedia.org/wikipedia/commons/thumb/3/31/Nicaea_icon.jpg/800px-Nicaea_icon.jpg"/>
          <p:cNvPicPr/>
          <p:nvPr/>
        </p:nvPicPr>
        <p:blipFill>
          <a:blip r:embed="rId2"/>
          <a:stretch/>
        </p:blipFill>
        <p:spPr>
          <a:xfrm>
            <a:off x="5219640" y="674640"/>
            <a:ext cx="3587760" cy="48625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5076720" y="3105000"/>
            <a:ext cx="3691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цы Первого вселенского собора            с текстом Символа Ве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395280" y="54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2286000" y="2967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684360" y="-1603440"/>
            <a:ext cx="813564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2"/>
          <p:cNvSpPr/>
          <p:nvPr/>
        </p:nvSpPr>
        <p:spPr>
          <a:xfrm>
            <a:off x="539640" y="-7920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684360" y="56664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395280" y="566640"/>
            <a:ext cx="428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 Библия – главная книга христи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ная книга христиан —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ибл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книги), сборник книг Священного писания Ветхого и Нового Завет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ниг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етхого Заве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рассказывают о сотворении мира, о жизни людей в древности, повествуют о морали и законах того времени, о различных исторических событиях. Они содержат наставления людям в их жизни и предсказа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вый Зав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наче называется Евангелием, т.е. Благой Вестью о спасении людей от их грехов Сыном Божьим Иисусом Христ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Библи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первы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ярко и убедительно прозвучала идея свободы человека как права выбора поступка и ответственности за свой выбо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2" descr="Библия. Книги Священного Писания Ветхого и Нового Завета"/>
          <p:cNvPicPr/>
          <p:nvPr/>
        </p:nvPicPr>
        <p:blipFill>
          <a:blip r:embed="rId2"/>
          <a:stretch/>
        </p:blipFill>
        <p:spPr>
          <a:xfrm>
            <a:off x="5319720" y="1279440"/>
            <a:ext cx="3143160" cy="46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95280" y="54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2286000" y="2967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684360" y="-1603440"/>
            <a:ext cx="813564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1"/>
          <p:cNvSpPr/>
          <p:nvPr/>
        </p:nvSpPr>
        <p:spPr>
          <a:xfrm>
            <a:off x="684360" y="549360"/>
            <a:ext cx="3887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  Христианская религия о самосовершенствован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иблия  содержит  сформулирова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авила нравственност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которые долже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иентироваться челов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и правила представлен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Библии как Божественные указания, переданные людя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ез посланцев Бог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Ветхом Завете – это закон Моисе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овом Завете – проповедь Иисуса Хрис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7" descr="https://sun9-73.userapi.com/impf/c857724/v857724349/20d5a7/_5TzCS4WhmM.jpg?size=500x740&amp;quality=96&amp;proxy=1&amp;sign=c3c0f85ee34386cdc994538838bda82b"/>
          <p:cNvPicPr/>
          <p:nvPr/>
        </p:nvPicPr>
        <p:blipFill>
          <a:blip r:embed="rId2"/>
          <a:stretch/>
        </p:blipFill>
        <p:spPr>
          <a:xfrm>
            <a:off x="4819680" y="549360"/>
            <a:ext cx="4000320" cy="54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395280" y="54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2286000" y="2967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684360" y="-1603440"/>
            <a:ext cx="813564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1"/>
          <p:cNvSpPr/>
          <p:nvPr/>
        </p:nvSpPr>
        <p:spPr>
          <a:xfrm>
            <a:off x="395280" y="620640"/>
            <a:ext cx="3384720" cy="56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  Христианская религия о самосовершенствовании 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Нагорная проповедь Иисуса Христа — это собрание изречений, содержащих моральные принципы: Заповеди блаженства, помещённые в начале Нагорной проповед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молитва «Отче наш», заповедь «не противиться злому», «подставить другую щёку», а также Золотое правило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з Нагорной проповеди часто цитируются выражения: «соль земли», «свет мира» и «не судите, да не судимы будете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4859280" y="3105000"/>
            <a:ext cx="404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0" descr="https://upload.wikimedia.org/wikipedia/commons/thumb/9/96/Bloch-SermonOnTheMount.jpg/800px-Bloch-SermonOnTheMount.jpg"/>
          <p:cNvPicPr/>
          <p:nvPr/>
        </p:nvPicPr>
        <p:blipFill>
          <a:blip r:embed="rId1"/>
          <a:stretch/>
        </p:blipFill>
        <p:spPr>
          <a:xfrm>
            <a:off x="4067280" y="569880"/>
            <a:ext cx="4519440" cy="50738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"/>
          <p:cNvSpPr/>
          <p:nvPr/>
        </p:nvSpPr>
        <p:spPr>
          <a:xfrm>
            <a:off x="4295880" y="2976480"/>
            <a:ext cx="417492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К. Г. Блох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«Нагорная проповедь». 1877. Масло на меди. Датский музей национальной истории, Фредериксборг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1"/>
          <p:cNvSpPr/>
          <p:nvPr/>
        </p:nvSpPr>
        <p:spPr>
          <a:xfrm>
            <a:off x="395280" y="54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2286000" y="2967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684360" y="-1603440"/>
            <a:ext cx="813564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1"/>
          <p:cNvSpPr/>
          <p:nvPr/>
        </p:nvSpPr>
        <p:spPr>
          <a:xfrm>
            <a:off x="395280" y="549360"/>
            <a:ext cx="435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5076720" y="735120"/>
            <a:ext cx="37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"/>
          <p:cNvSpPr/>
          <p:nvPr/>
        </p:nvSpPr>
        <p:spPr>
          <a:xfrm>
            <a:off x="755640" y="474840"/>
            <a:ext cx="792000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во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идеи (черты) христианств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  Единобож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  Принятие Бога как абсолютно совершенную Личность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  Учение о Богочеловеке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  Учение об абсолютной ценности человеческой лич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  Учение об идеальном назначении человека, заключающемся в бесконечном, всестороннем, духовном усовершенствовании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  Смирение — основа христианского миросозерцания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  Учение о полном господстве духовного начала над материе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·  Учение о всеобщем воскресении людей и о блаженстве воскресшей плоти праведников вместе с их душами в просветлённом, вечном, материальном ми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8T19:51:51Z</dcterms:created>
  <dc:creator>Home</dc:creator>
  <dc:description/>
  <dc:language>en-US</dc:language>
  <cp:lastModifiedBy>Grinberg</cp:lastModifiedBy>
  <dcterms:modified xsi:type="dcterms:W3CDTF">2020-11-14T03:21:41Z</dcterms:modified>
  <cp:revision>49</cp:revision>
  <dc:subject/>
  <dc:title>Урок 12. Правовые аспекты защиты информации</dc:title>
</cp:coreProperties>
</file>