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C11-AAD4-4347-9267-4BBFD0E8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070-FA50-47DB-ACC3-4C1A82D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1FC-9590-478C-A5FB-613833F0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EB5-911D-4E91-83EA-64C6983F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05F-2A60-44DD-9429-1363CCC1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78C-E326-4B1D-B644-364A0EF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1F1-00DC-445B-AE6C-DFA1522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F5C-8701-4E99-A4C3-BCE29B39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D01-9170-4319-A3FD-0DF84D6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2FA-9AD1-431A-9DC7-DA56F24A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992-035F-4E71-A599-57B8693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8BF-3787-420F-9759-99DF08BE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73EB-AABB-49BE-99B6-3DBD0250A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3;&#1088;&#1077;&#1095;&#1077;&#1089;&#1082;&#1080;&#1081;_&#1103;&#1079;&#1099;&#1082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5520" y="4365360"/>
            <a:ext cx="770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анятие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11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 Христианство. Основные христианские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план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заня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представление об основах христианства и предназначении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Библия – главная книга христи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Христианская религия о самосовершенствовани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68360" y="-2290680"/>
            <a:ext cx="4174920" cy="25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4932360" y="32446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250920" y="476280"/>
            <a:ext cx="432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ристиа́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 греч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ιστό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«Помазанник», «Мессия») — мировая религия, возникшая около 33 года в Палестине вокруг жизни и учения Иисуса Христа, описанных в Новом Заве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е верят, что Иисус из Назарета есть Мессия, Сын Божий и Спаситель человечества, предсказанный библейскими пророчествами Ветхого Зав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е не сомневаются в его историчности. В христианстве Иисус рассматривается как предсказанный библейскими пророчествами Ветхого Завета Месс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s://upload.wikimedia.org/wikipedia/commons/thumb/4/4a/Spas_vsederzhitel_sinay.jpg/800px-Spas_vsederzhitel_sinay.jpg"/>
          <p:cNvPicPr/>
          <p:nvPr/>
        </p:nvPicPr>
        <p:blipFill>
          <a:blip r:embed="rId3"/>
          <a:stretch/>
        </p:blipFill>
        <p:spPr>
          <a:xfrm>
            <a:off x="5724360" y="692280"/>
            <a:ext cx="2310120" cy="4465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932360" y="310500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евнейшее из известных иконописных изображений Хри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932360" y="2550960"/>
            <a:ext cx="383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68568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395280" y="620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788000" y="384480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84280" y="47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95280" y="476280"/>
            <a:ext cx="4176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ство возникло в I веке в Палестине (провинция Римской империи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государственной религии христианство впервые было принято в Великой Армении в 301 го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313 году  принят Миланский эдикт о свободе вероисповедания в Римской империи при императоре Констант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ство — самая крупная авраамическая и мировая религия как по численности приверженцев, которых около 2,4 млрд, так и по географической распространён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крупные течения в христианстве - православие, католицизм и протестантиз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https://upload.wikimedia.org/wikipedia/commons/thumb/3/31/Nicaea_icon.jpg/800px-Nicaea_icon.jpg"/>
          <p:cNvPicPr/>
          <p:nvPr/>
        </p:nvPicPr>
        <p:blipFill>
          <a:blip r:embed="rId2"/>
          <a:stretch/>
        </p:blipFill>
        <p:spPr>
          <a:xfrm>
            <a:off x="5219640" y="674640"/>
            <a:ext cx="3587760" cy="4862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5076720" y="3105000"/>
            <a:ext cx="369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цы Первого вселенского собора            с текстом Символа Ве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684360" y="-1603440"/>
            <a:ext cx="81356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539640" y="-792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84360" y="56664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95280" y="566640"/>
            <a:ext cx="428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Библия – главная книга христи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ая книга христиан —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иб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ниги), сборник книг Священного писания Ветхого и Нового Заве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тхого Зав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сказывают о сотворении мира, о жизни людей в древности, повествуют о морали и законах того времени, о различных исторических событиях. Они содержат наставления людям в их жизни и предсказ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й Зав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наче называется Евангелием, т.е. Благой Вестью о спасении людей от их грехов Сыном Божьим Иисусом Христ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ибл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пер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рко и убедительно прозвучала идея свободы человека как права выбора поступка и ответственности за свой выбо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Библия. Книги Священного Писания Ветхого и Нового Завета"/>
          <p:cNvPicPr/>
          <p:nvPr/>
        </p:nvPicPr>
        <p:blipFill>
          <a:blip r:embed="rId2"/>
          <a:stretch/>
        </p:blipFill>
        <p:spPr>
          <a:xfrm>
            <a:off x="5319720" y="1279440"/>
            <a:ext cx="314316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684360" y="-1603440"/>
            <a:ext cx="813564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684360" y="54936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 Христианская религия о самосовершенств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блия  содержит  сформулиров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а нравственн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торые долже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оваться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правила представле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иблии как Божественные указания, переданные люд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посланцев Бо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тхом Завете – это закон Моисе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овом Завете – проповедь Иисуса Хри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https://sun9-73.userapi.com/impf/c857724/v857724349/20d5a7/_5TzCS4WhmM.jpg?size=500x740&amp;quality=96&amp;proxy=1&amp;sign=c3c0f85ee34386cdc994538838bda82b"/>
          <p:cNvPicPr/>
          <p:nvPr/>
        </p:nvPicPr>
        <p:blipFill>
          <a:blip r:embed="rId2"/>
          <a:stretch/>
        </p:blipFill>
        <p:spPr>
          <a:xfrm>
            <a:off x="4819680" y="549360"/>
            <a:ext cx="400032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4360" y="-1603440"/>
            <a:ext cx="813564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395280" y="620640"/>
            <a:ext cx="338472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 Христианская религия о самосовершенствовании 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агорная проповедь Иисуса Христа — это собрание изречений, содержащих моральные принципы: Заповеди блаженства, помещённые в начале Нагорной проповед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олитва «Отче наш», заповедь «не противиться злому», «подставить другую щёку», а также Золотое правил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Нагорной проповеди часто цитируются выражения: «соль земли», «свет мира» и «не судите, да не судимы будете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859280" y="3105000"/>
            <a:ext cx="404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0" descr="https://upload.wikimedia.org/wikipedia/commons/thumb/9/96/Bloch-SermonOnTheMount.jpg/800px-Bloch-SermonOnTheMount.jpg"/>
          <p:cNvPicPr/>
          <p:nvPr/>
        </p:nvPicPr>
        <p:blipFill>
          <a:blip r:embed="rId1"/>
          <a:stretch/>
        </p:blipFill>
        <p:spPr>
          <a:xfrm>
            <a:off x="4067280" y="569880"/>
            <a:ext cx="4519440" cy="5073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4295880" y="2976480"/>
            <a:ext cx="41749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. Г. Бло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«Нагорная проповедь». 1877. Масло на меди. Датский музей национальной истории, Фредериксбор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84360" y="-1603440"/>
            <a:ext cx="81356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395280" y="549360"/>
            <a:ext cx="43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5076720" y="735120"/>
            <a:ext cx="37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5640" y="474840"/>
            <a:ext cx="7920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идеи (черты) христиан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Единобож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Принятие Бога как абсолютно совершенную Личность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Богочеловеке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б абсолютной ценности человеческой лич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б идеальном назначении человека, заключающемся в бесконечном, всестороннем, духовном усовершенствовании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Смирение — основа христианского миросозерцани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полном господстве духовного начала над матер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всеобщем воскресении людей и о блаженстве воскресшей плоти праведников вместе с их душами в просветлённом, вечном, материальном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19:51:51Z</dcterms:created>
  <dc:creator>Home</dc:creator>
  <dc:description/>
  <dc:language>en-US</dc:language>
  <cp:lastModifiedBy>Grinberg</cp:lastModifiedBy>
  <dcterms:modified xsi:type="dcterms:W3CDTF">2020-11-14T03:21:41Z</dcterms:modified>
  <cp:revision>49</cp:revision>
  <dc:subject/>
  <dc:title>Урок 12. Правовые аспекты защиты информации</dc:title>
</cp:coreProperties>
</file>