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F4A-EDDB-4BC9-AB95-4C3FBD0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F57-C16D-4AEE-B488-94D43B41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8462-C650-439E-88B3-62E2E439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5AE-E1CE-4B2F-A808-341C6AB7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0936-AA6A-47F7-BEEF-2139DC5F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9489-AC0D-452B-BD69-DAD3F127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50C8-6D36-4E40-866A-B9BDF06D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BBE-04F7-4527-99AE-087EC905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36D5-7CB0-4A0D-A38B-51C1FC4C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135E-3794-4EC1-88E8-FA03D56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5662-16ED-46B7-B7C0-AD17098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637-E2B7-461A-B914-BFCC643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44CE-6D95-415B-8943-C85782EA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8C4-CC57-4D12-9EC4-3B88FBC7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EAF6-8F5E-49CB-A234-8069056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B84C-8920-4A45-A861-87A6E2E8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5285-4CF1-4029-ACA9-5832688F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C32B6-C003-4F36-8472-7A9C40DC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AB659-8337-4CFF-8357-0D0B0CAA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4474-43F6-42DA-9158-3E94D1B4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9DAEA-079C-49CF-B826-D1607528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91E2-CD8C-485F-8CB6-6B10F33B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E2F-8ADB-4758-B76E-406F8185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7935-88FC-416C-B4C5-6DCE5ACD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705F-FAA1-4A61-8DB6-A04F3D1D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4566-BF44-4DFB-86F6-F8F30F4F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6F302-1931-454A-964F-D34458D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5379-7234-4730-B88D-B5B68E8F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D26F-5F93-441B-945C-5508143A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6AA8-D510-49C9-8250-95D7A212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C088-DC7B-4BD8-8D36-73BB83F5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C2577-1927-4DF3-B4E6-F841F1E2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1448-8618-474F-827B-1F45D82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333-AA28-4BBD-9D63-00C5FFD6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18EEE-D852-450B-A88D-C31F0900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F5E2D-289E-46EE-B66A-E761B2F3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A214-250F-48D6-AE58-2402F3BD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6B22-1C81-4E1C-AC9D-899541FE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EC50-B093-4427-8600-1B2523B3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F59A-8ED3-4049-98C2-2F2E4C1E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3D72-86B5-4123-AAFA-E76F22AD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FEEFC-DFD2-4BE1-AD24-65C28AC5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08C0D-F00C-40AF-A57C-6513701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915-105E-4F0B-911C-D3F3DA83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E32E-1DDA-4BCC-930D-1DDE656D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4A2-BAE4-4A77-9422-1258C24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449-31A9-4387-92C1-889DE4D4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82B-12B2-4D86-AD2F-17313DE5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6C32-97B4-4644-B93F-F1B3B9B4FC2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D6CE-BF12-4CD6-81B3-2BCDAAF8B92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622A-FDD9-4A0E-B946-EDC8EDD2666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5AF7-19B3-4D54-B300-9F9336AF0758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826920" y="4508280"/>
            <a:ext cx="77774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dc9e1f"/>
                </a:solidFill>
                <a:latin typeface="Arial Narrow"/>
              </a:rPr>
              <a:t>Daulbaý Melebaýew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9e1f"/>
                </a:solidFill>
                <a:latin typeface="Arial Narrow"/>
              </a:rPr>
              <a:t>Türkmenistanyň Ylymlar akademiýasynyň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c9e1f"/>
                </a:solidFill>
                <a:latin typeface="Arial Narrow"/>
              </a:rPr>
              <a:t>Gün energiýasy instituty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250560" y="-387360"/>
            <a:ext cx="8637480" cy="36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FOTODUÝUJY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METAL-DIELEKTRIK-ÝARYMGEÇIRIJI NANOSTRUKTURALARDA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LAWINLI KÖPELME EFFEKTINIŇ EKSPERIMENTAL USULDA 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 Narrow"/>
              </a:rPr>
              <a:t>ÝÜZE ÇYKARYLYŞ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ЭКСПЕРИМЕНТАЛЬНОЕ ОБНАРУЖЕНИЕ ЛАВИННОГО УМНОЖЕНИЯ В ФОТОЧУВСТВИТЕЛЬНЫХ НАНОСТРУКТУРАХ МЕТАЛЛ-ДИЭЛЕКТРИК-ПОЛУПРОВОДНИК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k-TM" sz="2400" spc="-1" strike="noStrike">
                <a:solidFill>
                  <a:srgbClr val="ffff00"/>
                </a:solidFill>
                <a:latin typeface="Arial Narrow"/>
              </a:rPr>
              <a:t>FOTODETEKTORYŇ KONSTRUKSIÝAS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КОНСТРУКЦИЯ</a:t>
            </a:r>
            <a:r>
              <a:rPr b="1" lang="tk-TM" sz="2400" spc="-1" strike="noStrike">
                <a:solidFill>
                  <a:srgbClr val="00b0f0"/>
                </a:solidFill>
                <a:latin typeface="Arial Narrow"/>
              </a:rPr>
              <a:t> ФОТОДЕТЕКТОР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Объект 5" descr=""/>
          <p:cNvPicPr/>
          <p:nvPr/>
        </p:nvPicPr>
        <p:blipFill>
          <a:blip r:embed="rId1"/>
          <a:srcRect l="0" t="6865" r="0" b="0"/>
          <a:stretch/>
        </p:blipFill>
        <p:spPr>
          <a:xfrm>
            <a:off x="1476360" y="1773360"/>
            <a:ext cx="61200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440" y="62028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b050"/>
                </a:solidFill>
                <a:latin typeface="Arial Narrow"/>
              </a:rPr>
              <a:t>GAP FOTODETEKTORLARYŇ ESASY PARAMETRLERI (300 K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ОСНОВНЫЕ ПАРАМЕТРЫ </a:t>
            </a:r>
            <a:r>
              <a:rPr b="1" lang="en-US" sz="2400" spc="-1" strike="noStrike">
                <a:solidFill>
                  <a:srgbClr val="00b0f0"/>
                </a:solidFill>
                <a:latin typeface="Arial Narrow"/>
              </a:rPr>
              <a:t>GAP </a:t>
            </a: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ФОТОДЕТЕКТОРА (300К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700280"/>
          <a:ext cx="7921440" cy="4754520"/>
        </p:xfrm>
        <a:graphic>
          <a:graphicData uri="http://schemas.openxmlformats.org/drawingml/2006/table">
            <a:tbl>
              <a:tblPr/>
              <a:tblGrid>
                <a:gridCol w="449280"/>
                <a:gridCol w="1344600"/>
                <a:gridCol w="1046160"/>
                <a:gridCol w="1046160"/>
                <a:gridCol w="896760"/>
                <a:gridCol w="897120"/>
                <a:gridCol w="1046160"/>
                <a:gridCol w="1195200"/>
              </a:tblGrid>
              <a:tr h="2036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-laryň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gis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δ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/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/W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·H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r>
                        <a:rPr b="1" lang="hr-HR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</a:t>
                      </a:r>
                      <a:r>
                        <a:rPr b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2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2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M-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DAS [5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6·10</a:t>
                      </a:r>
                      <a:r>
                        <a:rPr b="1" lang="hr-HR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Объект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062600" cy="44575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NANOSTRUKTIRLENEN AU-OKISEL-GAP 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ŞOTTKI PÄSGELÇILIGIŇ SPEKTRAL FOTODUÝ</a:t>
            </a:r>
            <a:r>
              <a:rPr b="1" lang="tk-TM" sz="2000" spc="-1" strike="noStrike">
                <a:solidFill>
                  <a:srgbClr val="ffff00"/>
                </a:solidFill>
                <a:latin typeface="Arial Narrow"/>
              </a:rPr>
              <a:t>U</a:t>
            </a: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JYLYGY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 Narrow"/>
              </a:rPr>
              <a:t>СПЕКТРАЛЬНАЯ ФОТОЧУВСТВИТЕЛЬНОСТЬ НАНОСТРУКТУРИРОВАННЫХ БАРЬЕРОВ ШОТТКИ </a:t>
            </a:r>
            <a:r>
              <a:rPr b="1" lang="en-US" sz="2000" spc="-1" strike="noStrike">
                <a:solidFill>
                  <a:srgbClr val="00b0f0"/>
                </a:solidFill>
                <a:latin typeface="Arial Narrow"/>
              </a:rPr>
              <a:t>AU-</a:t>
            </a:r>
            <a:r>
              <a:rPr b="1" lang="ru-RU" sz="2000" spc="-1" strike="noStrike">
                <a:solidFill>
                  <a:srgbClr val="00b0f0"/>
                </a:solidFill>
                <a:latin typeface="Arial Narrow"/>
              </a:rPr>
              <a:t>ОКИСЕЛ-</a:t>
            </a:r>
            <a:r>
              <a:rPr b="1" lang="tk-TM" sz="2000" spc="-1" strike="noStrike">
                <a:solidFill>
                  <a:srgbClr val="00b0f0"/>
                </a:solidFill>
                <a:latin typeface="Arial Narrow"/>
              </a:rPr>
              <a:t>GAP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Объект 14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83076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k-TM" sz="2400" spc="-1" strike="noStrike">
                <a:solidFill>
                  <a:srgbClr val="00b050"/>
                </a:solidFill>
                <a:latin typeface="Arial Narrow"/>
              </a:rPr>
              <a:t>NANOSTRUKTIRLENEN ŞOTTKI FOTODIODYNDA LAWINLI FOTOEFFEKTIŇ ÝÜZE ÇYKYŞY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b0f0"/>
                </a:solidFill>
                <a:latin typeface="Arial Narrow"/>
              </a:rPr>
              <a:t>ОБНАРУЖЕНИЕ ЛАВИННОГО ФОТОЭФФЕКТА В НАНОСТРУКТУРИРОВАННЫХ ФОТОДИОДАХ ШОТТКИ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1908000" y="2073240"/>
            <a:ext cx="547236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sim 8" descr="https://docviewer.yandex.ru/htmlimage?id=rm9f-jqfl9r9xya08m5j3y2jia6g5y2hqdcn8ib2t739sua57v2eslbxhkdzfdiaoqronylipki1oj9ghwyd2duxice48acpnsnoabez&amp;name=result_html_3dc3f292.png"/>
          <p:cNvPicPr/>
          <p:nvPr/>
        </p:nvPicPr>
        <p:blipFill>
          <a:blip r:embed="rId1"/>
          <a:stretch/>
        </p:blipFill>
        <p:spPr>
          <a:xfrm>
            <a:off x="1187280" y="692280"/>
            <a:ext cx="7056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1" descr=""/>
          <p:cNvPicPr/>
          <p:nvPr/>
        </p:nvPicPr>
        <p:blipFill>
          <a:blip r:embed="rId1"/>
          <a:srcRect l="0" t="0" r="0" b="5634"/>
          <a:stretch/>
        </p:blipFill>
        <p:spPr>
          <a:xfrm>
            <a:off x="1403280" y="62064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Рисунок 1" descr=""/>
          <p:cNvPicPr/>
          <p:nvPr/>
        </p:nvPicPr>
        <p:blipFill>
          <a:blip r:embed="rId1"/>
          <a:srcRect l="0" t="0" r="0" b="8145"/>
          <a:stretch/>
        </p:blipFill>
        <p:spPr>
          <a:xfrm>
            <a:off x="1187280" y="1413000"/>
            <a:ext cx="6913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230560" y="1477800"/>
            <a:ext cx="4681440" cy="39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16:28:07Z</dcterms:created>
  <dc:creator>Айя</dc:creator>
  <dc:description/>
  <dc:language>en-US</dc:language>
  <cp:lastModifiedBy>Михаил</cp:lastModifiedBy>
  <dcterms:modified xsi:type="dcterms:W3CDTF">2008-01-01T02:28:37Z</dcterms:modified>
  <cp:revision>10</cp:revision>
  <dc:subject/>
  <dc:title>FOTODUÝUJY  METAL-DIELEKTRIK-ÝARYMGEÇIRIJI NANOSTRUKTURALARDA  LAWINLI KÖPELME EFFEKTINIŇ EKSPERIMENTAL USULDA  ÝÜZE ÇYKARYLYŞY  ЭКСПЕРИМЕНТАЛЬНОЕ ОБНАРУЖЕНИЕ ЛАВИННОГО УМНОЖЕНИЯ</dc:title>
</cp:coreProperties>
</file>