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33A6-D695-47F9-98B4-C2A499375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DF63-B1F8-46D3-A6EB-0EF3CB7B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612A-9709-4E4E-84DA-E5AE53BE2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BC04-2D6B-4333-A482-F335E7160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52B4-0BEC-4C3A-B2DC-AE7BD27D3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1F774-BD2D-4D40-98F5-E0B0C0A1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B4E6-170E-4ED7-B545-F70DB3EF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AE0F-EC82-4A87-A7A3-672A4904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186F-DAE5-41C0-AB03-F9C44F89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4A00-2B08-43E2-8F09-85857F9A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D312-7764-43FC-9B67-4DDEC025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889E-1192-45BB-AAF1-EEFF3702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B6893-A2C7-407C-9E96-6DA1D583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1FCC-5D76-4C9C-B6AA-345EB55E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9AD6F-A1B1-4061-BCC9-9A0BFB23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36DD-F81D-4676-A0E2-A4CABA076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BD2B-F584-4787-B402-9E1FECA68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2121E-0679-43FD-9CC3-3F7631626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F8D89-6178-4ED5-87DA-EDE572F5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8E90A-D5BD-4781-8061-79F46D55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1CD76-0B5C-4F2F-8618-E6CBFA2C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0FBF3-D504-439B-BC24-F6F30E51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5EDA-1A88-40A7-9F1C-37792B32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A5F54-64CE-4101-A64C-0E95CFA0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778EF-7C66-4788-81CC-560A7EA1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7B7DF-581B-4D9D-BD92-DEFE5A48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60EA9-C0CD-4E82-B95C-D63FAB0C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63854-28D2-4AAA-9C23-CB82731A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5AD8D-ADF7-471B-82AF-9446EE48A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07369-64ED-4735-A2EF-655D93E8D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E734D-8D1A-41FF-B255-50E331189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C7F39-3536-45B1-ABD0-69F56BCB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F60A6-6641-4D34-82BC-080EA04D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91A9-B4E1-4BE1-B897-1E3BD81A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F431F-9E40-4ED3-B03C-E7E7AE55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E8EE4-5BD1-4874-9579-3D45349C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9B35A-B378-4835-B31E-CD89EE3C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11AE2-A63B-4F35-985F-9048542B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1D575-6B5E-4F8E-9A90-51511533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3FC9D-975F-4F0F-A7CB-2E28A212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63513-EDB1-48A3-BAFD-4072D9F5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6E777-CD0D-445F-BE89-8A247AD04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4EAD7-32C1-4527-9ACD-04A4A4FAB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42E6-276C-4C2C-A456-13054BED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0AAF-5972-427B-A001-8987E71A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9EC1-86E8-485A-BE64-D7C59B93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4099-37A6-4181-AF78-9FDFB35E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5A3F-9E65-4BD6-82E9-04B32A89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F7A4-859D-4F25-9393-B940DD36A50C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864A-23FA-47B6-94B4-142D3C424B6A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C687-BE15-4FEA-9A7A-5ABAECA12173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C17D-0B23-4761-9D39-785C884830C3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826920" y="4508280"/>
            <a:ext cx="7777440" cy="21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c9e1f"/>
                </a:solidFill>
                <a:latin typeface="Arial Narrow"/>
              </a:rPr>
              <a:t>Daulbaý Melebaýew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dc9e1f"/>
                </a:solidFill>
                <a:latin typeface="Arial Narrow"/>
              </a:rPr>
              <a:t>Türkmenistanyň Ylymlar akademiýasynyň 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dc9e1f"/>
                </a:solidFill>
                <a:latin typeface="Arial Narrow"/>
              </a:rPr>
              <a:t>Gün energiýasy instituty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250560" y="-387360"/>
            <a:ext cx="8637480" cy="367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00"/>
                </a:solidFill>
                <a:latin typeface="Arial Narrow"/>
              </a:rPr>
              <a:t>FOTODUÝUJY </a:t>
            </a:r>
            <a:br>
              <a:rPr sz="2400"/>
            </a:br>
            <a:r>
              <a:rPr b="1" lang="hr-HR" sz="2400" spc="-1" strike="noStrike">
                <a:solidFill>
                  <a:srgbClr val="ffff00"/>
                </a:solidFill>
                <a:latin typeface="Arial Narrow"/>
              </a:rPr>
              <a:t>METAL-DIELEKTRIK-ÝARYMGEÇIRIJI NANOSTRUKTURALARDA </a:t>
            </a:r>
            <a:br>
              <a:rPr sz="2400"/>
            </a:br>
            <a:r>
              <a:rPr b="1" lang="hr-HR" sz="2400" spc="-1" strike="noStrike">
                <a:solidFill>
                  <a:srgbClr val="ffff00"/>
                </a:solidFill>
                <a:latin typeface="Arial Narrow"/>
              </a:rPr>
              <a:t>LAWINLI KÖPELME EFFEKTINIŇ EKSPERIMENTAL USULDA </a:t>
            </a:r>
            <a:br>
              <a:rPr sz="2400"/>
            </a:br>
            <a:r>
              <a:rPr b="1" lang="hr-HR" sz="2400" spc="-1" strike="noStrike">
                <a:solidFill>
                  <a:srgbClr val="ffff00"/>
                </a:solidFill>
                <a:latin typeface="Arial Narrow"/>
              </a:rPr>
              <a:t>ÝÜZE ÇYKARYLYŞY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b0f0"/>
                </a:solidFill>
                <a:latin typeface="Arial Narrow"/>
              </a:rPr>
              <a:t>ЭКСПЕРИМЕНТАЛЬНОЕ ОБНАРУЖЕНИЕ ЛАВИННОГО УМНОЖЕНИЯ В ФОТОЧУВСТВИТЕЛЬНЫХ НАНОСТРУКТУРАХ МЕТАЛЛ-ДИЭЛЕКТРИК-ПОЛУПРОВОДНИК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k-TM" sz="2400" spc="-1" strike="noStrike">
                <a:solidFill>
                  <a:srgbClr val="ffff00"/>
                </a:solidFill>
                <a:latin typeface="Arial Narrow"/>
              </a:rPr>
              <a:t>FOTODETEKTORYŇ KONSTRUKSIÝASY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b0f0"/>
                </a:solidFill>
                <a:latin typeface="Arial Narrow"/>
              </a:rPr>
              <a:t>КОНСТРУКЦИЯ</a:t>
            </a:r>
            <a:r>
              <a:rPr b="1" lang="tk-TM" sz="2400" spc="-1" strike="noStrike">
                <a:solidFill>
                  <a:srgbClr val="00b0f0"/>
                </a:solidFill>
                <a:latin typeface="Arial Narrow"/>
              </a:rPr>
              <a:t> ФОТОДЕТЕКТОРА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0" name="Объект 5" descr=""/>
          <p:cNvPicPr/>
          <p:nvPr/>
        </p:nvPicPr>
        <p:blipFill>
          <a:blip r:embed="rId1"/>
          <a:srcRect l="0" t="6865" r="0" b="0"/>
          <a:stretch/>
        </p:blipFill>
        <p:spPr>
          <a:xfrm>
            <a:off x="1476360" y="1773360"/>
            <a:ext cx="612000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0440" y="62028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b050"/>
                </a:solidFill>
                <a:latin typeface="Arial Narrow"/>
              </a:rPr>
              <a:t>GAP FOTODETEKTORLARYŇ ESASY PARAMETRLERI (300 K)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b0f0"/>
                </a:solidFill>
                <a:latin typeface="Arial Narrow"/>
              </a:rPr>
              <a:t>ОСНОВНЫЕ ПАРАМЕТРЫ </a:t>
            </a:r>
            <a:r>
              <a:rPr b="1" lang="en-US" sz="2400" spc="-1" strike="noStrike">
                <a:solidFill>
                  <a:srgbClr val="00b0f0"/>
                </a:solidFill>
                <a:latin typeface="Arial Narrow"/>
              </a:rPr>
              <a:t>GAP </a:t>
            </a:r>
            <a:r>
              <a:rPr b="1" lang="ru-RU" sz="2400" spc="-1" strike="noStrike">
                <a:solidFill>
                  <a:srgbClr val="00b0f0"/>
                </a:solidFill>
                <a:latin typeface="Arial Narrow"/>
              </a:rPr>
              <a:t>ФОТОДЕТЕКТОРА (300К)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11280" y="1700280"/>
          <a:ext cx="7921440" cy="4754520"/>
        </p:xfrm>
        <a:graphic>
          <a:graphicData uri="http://schemas.openxmlformats.org/drawingml/2006/table">
            <a:tbl>
              <a:tblPr/>
              <a:tblGrid>
                <a:gridCol w="449280"/>
                <a:gridCol w="1344600"/>
                <a:gridCol w="1046160"/>
                <a:gridCol w="1046160"/>
                <a:gridCol w="896760"/>
                <a:gridCol w="897120"/>
                <a:gridCol w="1046160"/>
                <a:gridCol w="1195200"/>
              </a:tblGrid>
              <a:tr h="2036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D-laryň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lgi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m</a:t>
                      </a:r>
                      <a:r>
                        <a:rPr b="1" lang="hr-HR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δ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Å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λ</a:t>
                      </a:r>
                      <a:r>
                        <a:rPr b="1" lang="hr-HR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</a:t>
                      </a:r>
                      <a:r>
                        <a:rPr b="1" lang="en-US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lang="hr-HR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/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λ</a:t>
                      </a:r>
                      <a:r>
                        <a:rPr b="1" lang="hr-HR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</a:t>
                      </a:r>
                      <a:r>
                        <a:rPr b="1" lang="en-US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lang="hr-HR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/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4 n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hr-HR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·H</a:t>
                      </a:r>
                      <a:r>
                        <a:rPr b="1" lang="hr-HR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1" lang="hr-HR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1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λ</a:t>
                      </a:r>
                      <a:r>
                        <a:rPr b="1" lang="hr-HR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</a:t>
                      </a:r>
                      <a:r>
                        <a:rPr b="1" lang="en-US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DM-2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·10</a:t>
                      </a:r>
                      <a:r>
                        <a:rPr b="1" lang="hr-HR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DM-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2·10</a:t>
                      </a:r>
                      <a:r>
                        <a:rPr b="1" lang="hr-HR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DM-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4·10</a:t>
                      </a:r>
                      <a:r>
                        <a:rPr b="1" lang="hr-HR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DAS [5]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.6·10</a:t>
                      </a:r>
                      <a:r>
                        <a:rPr b="1" lang="hr-HR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Объект 3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4062600" cy="44575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2000" spc="-1" strike="noStrike">
                <a:solidFill>
                  <a:srgbClr val="ffff00"/>
                </a:solidFill>
                <a:latin typeface="Arial Narrow"/>
              </a:rPr>
              <a:t>NANOSTRUKTIRLENEN AU-OKISEL-GAP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 Narrow"/>
              </a:rPr>
              <a:t>ŞOTTKI PÄSGELÇILIGIŇ SPEKTRAL FOTODUÝ</a:t>
            </a:r>
            <a:r>
              <a:rPr b="1" lang="tk-TM" sz="2000" spc="-1" strike="noStrike">
                <a:solidFill>
                  <a:srgbClr val="ffff00"/>
                </a:solidFill>
                <a:latin typeface="Arial Narrow"/>
              </a:rPr>
              <a:t>U</a:t>
            </a:r>
            <a:r>
              <a:rPr b="1" lang="ru-RU" sz="2000" spc="-1" strike="noStrike">
                <a:solidFill>
                  <a:srgbClr val="ffff00"/>
                </a:solidFill>
                <a:latin typeface="Arial Narrow"/>
              </a:rPr>
              <a:t>JYLYGY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b0f0"/>
                </a:solidFill>
                <a:latin typeface="Arial Narrow"/>
              </a:rPr>
              <a:t>СПЕКТРАЛЬНАЯ ФОТОЧУВСТВИТЕЛЬНОСТЬ НАНОСТРУКТУРИРОВАННЫХ БАРЬЕРОВ ШОТТКИ </a:t>
            </a:r>
            <a:r>
              <a:rPr b="1" lang="en-US" sz="2000" spc="-1" strike="noStrike">
                <a:solidFill>
                  <a:srgbClr val="00b0f0"/>
                </a:solidFill>
                <a:latin typeface="Arial Narrow"/>
              </a:rPr>
              <a:t>AU-</a:t>
            </a:r>
            <a:r>
              <a:rPr b="1" lang="ru-RU" sz="2000" spc="-1" strike="noStrike">
                <a:solidFill>
                  <a:srgbClr val="00b0f0"/>
                </a:solidFill>
                <a:latin typeface="Arial Narrow"/>
              </a:rPr>
              <a:t>ОКИСЕЛ-</a:t>
            </a:r>
            <a:r>
              <a:rPr b="1" lang="tk-TM" sz="2000" spc="-1" strike="noStrike">
                <a:solidFill>
                  <a:srgbClr val="00b0f0"/>
                </a:solidFill>
                <a:latin typeface="Arial Narrow"/>
              </a:rPr>
              <a:t>GAP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5" name="Объект 14" descr=""/>
          <p:cNvPicPr/>
          <p:nvPr/>
        </p:nvPicPr>
        <p:blipFill>
          <a:blip r:embed="rId2"/>
          <a:stretch/>
        </p:blipFill>
        <p:spPr>
          <a:xfrm>
            <a:off x="4932360" y="1916280"/>
            <a:ext cx="383076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0920" y="8362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k-TM" sz="2400" spc="-1" strike="noStrike">
                <a:solidFill>
                  <a:srgbClr val="00b050"/>
                </a:solidFill>
                <a:latin typeface="Arial Narrow"/>
              </a:rPr>
              <a:t>NANOSTRUKTIRLENEN ŞOTTKI FOTODIODYNDA LAWINLI FOTOEFFEKTIŇ ÝÜZE ÇYKYŞY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b0f0"/>
                </a:solidFill>
                <a:latin typeface="Arial Narrow"/>
              </a:rPr>
              <a:t>ОБНАРУЖЕНИЕ ЛАВИННОГО ФОТОЭФФЕКТА В НАНОСТРУКТУРИРОВАННЫХ ФОТОДИОДАХ ШОТТКИ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7" name="Объект 3" descr=""/>
          <p:cNvPicPr/>
          <p:nvPr/>
        </p:nvPicPr>
        <p:blipFill>
          <a:blip r:embed="rId1"/>
          <a:stretch/>
        </p:blipFill>
        <p:spPr>
          <a:xfrm>
            <a:off x="1908000" y="2073240"/>
            <a:ext cx="547236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Resim 8" descr="https://docviewer.yandex.ru/htmlimage?id=rm9f-jqfl9r9xya08m5j3y2jia6g5y2hqdcn8ib2t739sua57v2eslbxhkdzfdiaoqronylipki1oj9ghwyd2duxice48acpnsnoabez&amp;name=result_html_3dc3f292.png"/>
          <p:cNvPicPr/>
          <p:nvPr/>
        </p:nvPicPr>
        <p:blipFill>
          <a:blip r:embed="rId1"/>
          <a:stretch/>
        </p:blipFill>
        <p:spPr>
          <a:xfrm>
            <a:off x="1187280" y="692280"/>
            <a:ext cx="70567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Рисунок 1" descr=""/>
          <p:cNvPicPr/>
          <p:nvPr/>
        </p:nvPicPr>
        <p:blipFill>
          <a:blip r:embed="rId1"/>
          <a:srcRect l="0" t="0" r="0" b="5634"/>
          <a:stretch/>
        </p:blipFill>
        <p:spPr>
          <a:xfrm>
            <a:off x="1403280" y="620640"/>
            <a:ext cx="6840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Рисунок 1" descr=""/>
          <p:cNvPicPr/>
          <p:nvPr/>
        </p:nvPicPr>
        <p:blipFill>
          <a:blip r:embed="rId1"/>
          <a:srcRect l="0" t="0" r="0" b="8145"/>
          <a:stretch/>
        </p:blipFill>
        <p:spPr>
          <a:xfrm>
            <a:off x="1187280" y="1413000"/>
            <a:ext cx="69138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2230560" y="1477800"/>
            <a:ext cx="468144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16:28:07Z</dcterms:created>
  <dc:creator>Айя</dc:creator>
  <dc:description/>
  <dc:language>en-US</dc:language>
  <cp:lastModifiedBy>Михаил</cp:lastModifiedBy>
  <dcterms:modified xsi:type="dcterms:W3CDTF">2008-01-01T02:28:37Z</dcterms:modified>
  <cp:revision>10</cp:revision>
  <dc:subject/>
  <dc:title>FOTODUÝUJY  METAL-DIELEKTRIK-ÝARYMGEÇIRIJI NANOSTRUKTURALARDA  LAWINLI KÖPELME EFFEKTINIŇ EKSPERIMENTAL USULDA  ÝÜZE ÇYKARYLYŞY  ЭКСПЕРИМЕНТАЛЬНОЕ ОБНАРУЖЕНИЕ ЛАВИННОГО УМНОЖЕНИЯ</dc:title>
</cp:coreProperties>
</file>