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A7E-BCDA-437D-A722-F8A18B756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6708-8C7D-4976-8E01-CB38FACE8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96F-50C7-437F-AE05-33405826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7B6-346F-43B9-9C09-99BDF1C6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7EF-B5ED-4D89-8B21-CE7F609B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179-CDE2-422B-B205-1F4E16BC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DDF-0435-46F9-9256-6F83D093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4DE-F31B-438C-AFB6-F5B2B8E7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417-9547-47A7-8DCE-DFB72E9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1AC-E40C-433F-8A61-8784DA11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6EC-F4B2-4DA4-BD78-2808764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7EC-792C-44D5-BA32-4A6A881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966-C51F-4EF6-AA49-CC28DBE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C08-7A26-4CC7-AE9A-A88ADC1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48B3-F3BD-4BA0-83CD-60B4D0B6B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вижущие силы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Формы естественного отбо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абилизирующ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форма естественного отбора, направлена на поддержание постоянства средней нормы признака при неизменных условиях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вижущий отб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ствует сдвигу среднего значения признака или свойства, приводит к появлению новой форм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изруптивный отб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 действовать при наличии в популяции не одного, а двух и более благоприятных фенот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орьба за существ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сложные взаимоотношения особей внутри вида, между видами, между видами и средой обитания, которые обеспечивают увеличение плодовитости, а через это – способность обеспечить себя потомством и сохранить особи ви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ы борьбы за существов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Внутривидова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наиболее остра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Межвидов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идет между популяциями разных вид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Борьба с неблагоприятными условиями сре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выживание организмов при изменяющихся условиях среды (температура, влажность, соленость, состав воздуха, почвы, воды и др.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Эволюц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остепенное развитие живых организмов от простых к сложны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дставления о постоянстве и неизменности живых организм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етафизически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59 году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арльз Дарв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убликовал книгу «Происхождение видов путем естественного отбора, или Сохранение избранных пород в борьбе за жизнь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28954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сылки возникновения 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. Дарв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тие промышленности этого периода; необходимость создания учения о селекции животных и раст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тие на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тешествие Ч. Дарвина вокруг света на корабле «Бигл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Борьба за существовани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естественный отбо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на основе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наследственной изменчивост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являются основными движущими силами (факторами) эволюции органического ми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ущие силы эволюции пород и сортов –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наследственная изменчивос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производимый человеком отбо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следственнос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свойство организмов сохранять и передавать признаки строения и функций от предков к потомств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войство организмов приобретать новые признаки, которые ведут к различиям между особями в пределах вид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наследственная 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модификационная)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аследственная 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езультат действия внешних и внутренних причин, приводящих к появлению новых признаков и свойств, которые передаются по наслед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скусственный отб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роцесс создания новых пород животных и сортов растений путем систематического сохранения и размножения особей с определенными, имеющими значение для человека, признаками и свойствами в ряду поколен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стественный отбо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водит к выживанию наиболее приспособленных особей, которые оставляют потомство, и гибели менее приспособленны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12-14T18:37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