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648F-A6D3-4131-8DB0-5BD564B3C3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C2C8-87D9-43C9-A35E-22A3F1051D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1516-223D-4506-9D34-D63BAC79B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A3A5-A2F5-496B-91F5-63BDCD88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0C78-2074-4108-B7C3-08CAAB494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6C96-6A2B-4B15-A0BC-352B5E606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2FF7-D3C5-438C-BCF8-E08F34A9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6B6A-217B-46B1-BF21-522B6372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93B6-8E8D-4735-8AC6-93CF8906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E431-F723-404E-B845-270AE396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D840-82BB-4A3E-AA05-33507E04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EC4E-27DC-49E4-9685-CE65C851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C346-EFA7-46A6-819D-A6B77FDE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4135-3C27-4F5D-AF9C-451F8E0B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15CF-6628-49A6-A37A-14304AE921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Движущие силы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эволюции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Формы естественного отбор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стабилизирующи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форма естественного отбора, направлена на поддержание постоянства средней нормы признака при неизменных условиях сред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движущий отбо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пособствует сдвигу среднего значения признака или свойства, приводит к появлению новой формы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дизруптивный отбор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инает действовать при наличии в популяции не одного, а двух и более благоприятных фенотип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Борьба за существова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– сложные взаимоотношения особей внутри вида, между видами, между видами и средой обитания, которые обеспечивают увеличение плодовитости, а через это – способность обеспечить себя потомством и сохранить особи вид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ормы борьбы за существов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Внутривидовая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наиболее остра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Межвидова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идет между популяциями разных видов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Борьба с неблагоприятными условиями среды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выживание организмов при изменяющихся условиях среды (температура, влажность, соленость, состав воздуха, почвы, воды и др.)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Эволюция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– постепенное развитие живых организмов от простых к сложным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едставления о постоянстве и неизменности живых организмов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называется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метафизическим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859 году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Чарльз Дарви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публиковал книгу «Происхождение видов путем естественного отбора, или Сохранение избранных пород в борьбе за жизнь»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2895480"/>
            <a:ext cx="8686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посылки возникновения уч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. Дарви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развитие промышленности этого периода; необходимость создания учения о селекции животных и расте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развитие нау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утешествие Ч. Дарвина вокруг света на корабле «Бигль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Arial"/>
              </a:rPr>
              <a:t>Борьба за существование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4800" spc="-1" strike="noStrike">
                <a:solidFill>
                  <a:srgbClr val="ff3300"/>
                </a:solidFill>
                <a:latin typeface="Arial"/>
              </a:rPr>
              <a:t>естественный отбор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на основе </a:t>
            </a:r>
            <a:r>
              <a:rPr b="0" lang="ru-RU" sz="4800" spc="-1" strike="noStrike">
                <a:solidFill>
                  <a:srgbClr val="ff3300"/>
                </a:solidFill>
                <a:latin typeface="Arial"/>
              </a:rPr>
              <a:t>наследственной изменчивости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являются основными движущими силами (факторами) эволюции органического мир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вижущие силы эволюции пород и сортов – </a:t>
            </a:r>
            <a:r>
              <a:rPr b="0" lang="ru-RU" sz="4800" spc="-1" strike="noStrike">
                <a:solidFill>
                  <a:srgbClr val="ff3300"/>
                </a:solidFill>
                <a:latin typeface="Arial"/>
              </a:rPr>
              <a:t>наследственная изменчивость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4800" spc="-1" strike="noStrike">
                <a:solidFill>
                  <a:srgbClr val="ff3300"/>
                </a:solidFill>
                <a:latin typeface="Arial"/>
              </a:rPr>
              <a:t>производимый человеком отбор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7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Наследственность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– свойство организмов сохранять и передавать признаки строения и функций от предков к потомству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763120" cy="635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Изменчив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свойство организмов приобретать новые признаки, которые ведут к различиям между особями в пределах вида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1. </a:t>
            </a: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Ненаследственная изменчив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модификационная).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Наследственная изменчив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результат действия внешних и внутренних причин, приводящих к появлению новых признаков и свойств, которые передаются по наследств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Искусственный отбор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 процесс создания новых пород животных и сортов растений путем систематического сохранения и размножения особей с определенными, имеющими значение для человека, признаками и свойствами в ряду поколений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Естественный отбор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иводит к выживанию наиболее приспособленных особей, которые оставляют потомство, и гибели менее приспособленных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3-12-14T18:37:3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