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AC6-4953-4610-AB6A-CCC39D78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AE14-69A3-4D4C-B655-5F0143B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6C4-BAE0-4C5E-82B8-3C3690F7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1F8-1A27-421B-BAE0-8DD399D4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36C-CCAD-4899-81D2-38A32EDE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37D-BB9F-4DCD-A081-AFCCB9C0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CE0-C243-4E7F-9917-07BCA807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424B-6223-4107-BA80-ED57C71B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09E0-A1D1-4FDF-9BF8-7F2BF214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A3F1-76BF-4247-9F4F-11AFF443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3AA-E92D-4BBC-8A2D-3183386B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28A-AB77-438A-92C5-D328F055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06E9-3715-42D2-8E37-BCAD6D8A4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76908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Алексей Гатапо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:\Documents and Settings\Aida\Рабочий стол\ТЕКСТУРЫ и фоны, клипарты\96fcfcd110f5.gif"/>
          <p:cNvPicPr/>
          <p:nvPr/>
        </p:nvPicPr>
        <p:blipFill>
          <a:blip r:embed="rId2"/>
          <a:stretch/>
        </p:blipFill>
        <p:spPr>
          <a:xfrm rot="20583000">
            <a:off x="7768800" y="158400"/>
            <a:ext cx="124452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967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85560" y="1071720"/>
            <a:ext cx="7358040" cy="47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ь щедрым, как пальма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а если не можешь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Будь стволом кипариса, простым, прямым, благородным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8. 03. 1965 г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дился в с. Улюн Баргузинского района Бурятской АСС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9 г. - окончил исторический факультет Бурятского педагогического институ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89-90 гг. - работал учителем в средн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0-91 гг. - преподавал в Бурятском педагогическом институ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-2001 гг. – учился на Высших литературных курсах при Литинституте им. М.Горь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2 г. удостоен премии победителя на II конкурсе международной литературной премии им. Константина Нефедьева в номинации "Поэзия" (Всемирный форум Поэзии, г. Магнитогорс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99 г. – Член Союза писателей Рос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4 г. - удостоен звания лауреата литературной премии им. Исая Калашникова (г. Улан-Удэ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05-2007 гг. - работал главным редактором республиканского литературно-художественого журнала "Байкал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8472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Рождение вождя" (сборник повестей и рассказо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вод на русский язык бурят-монгольского героического эпоса "Шоно-Батор"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Первый нукер Чингисхана" (сборник рассказов, повестей и статей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"Тэмуджин" (исторический роман о детстве Чингисха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нгольский исторический словарь (энциклопедический справоч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зу определю границы своей  писательской деятельности. Я пишу художественную прозу о древних монголах,  о создателе самого великого в истории человечества государства – о Чингисхане. Убежден, что настоящий образ этого человека в мировой художественной литературе еще не создан, как не воссоздана и настоящая история великого народа – древних монгол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0:33:22Z</dcterms:created>
  <dc:creator>Цымбал</dc:creator>
  <dc:description>http://aida.ucoz.ru</dc:description>
  <dc:language>en-US</dc:language>
  <cp:lastModifiedBy>Игнатьевы</cp:lastModifiedBy>
  <dcterms:modified xsi:type="dcterms:W3CDTF">2023-12-14T16:20:08Z</dcterms:modified>
  <cp:revision>18</cp:revision>
  <dc:subject/>
  <dc:title>Слайд 1</dc:title>
</cp:coreProperties>
</file>