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gif" ContentType="image/gif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F994C-6E89-4F23-9096-2E01D915F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C5756-B6C1-4175-92A1-01C248F94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55747-7EA3-4C24-9334-A1CCE7DF1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CCFDF-A886-4544-95F3-B6191FB54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6FDD5-375C-444E-A14E-091E18121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6AB42-54D1-4921-966F-E03E97083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8C3BC-DCC2-4E22-94BC-71F6DBC63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64AD6-949D-43D3-9FFE-E5165BA13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BC585-1AF0-45F0-8D17-70A2E404E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0AB7A-D6DF-45AA-A539-02D694B6E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50D81-266D-41FD-B0AB-B37CA373B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F9353-2883-4A59-A379-7B41CAC9A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26AE2-3C70-49A6-A358-60CE41273A0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280" y="476280"/>
            <a:ext cx="676908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Алексей Гатапов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2" descr="H:\Documents and Settings\Aida\Рабочий стол\ТЕКСТУРЫ и фоны, клипарты\96fcfcd110f5.gif"/>
          <p:cNvPicPr/>
          <p:nvPr/>
        </p:nvPicPr>
        <p:blipFill>
          <a:blip r:embed="rId2"/>
          <a:stretch/>
        </p:blipFill>
        <p:spPr>
          <a:xfrm rot="20583000">
            <a:off x="7768800" y="158400"/>
            <a:ext cx="1244520" cy="10810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"/>
          <p:cNvPicPr/>
          <p:nvPr/>
        </p:nvPicPr>
        <p:blipFill>
          <a:blip r:embed="rId3"/>
          <a:stretch/>
        </p:blipFill>
        <p:spPr>
          <a:xfrm>
            <a:off x="2268360" y="2492280"/>
            <a:ext cx="496764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85560" y="1071720"/>
            <a:ext cx="7358040" cy="471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Будь щедрым, как пальма,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 а если не можешь,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Будь стволом кипариса, простым, прямым, благородным.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-250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8. 03. 1965 г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одился в с. Улюн Баргузинского района Бурятской АСС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50200" indent="-250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989 г. - окончил исторический факультет Бурятского педагогического институ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50200" indent="-250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989-90 гг. - работал учителем в средней школ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50200" indent="-250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990-91 гг. - преподавал в Бурятском педагогическом институт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50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50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50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50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00040" y="1643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999-2001 гг. – учился на Высших литературных курсах при Литинституте им. М.Горького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002 г. удостоен премии победителя на II конкурсе международной литературной премии им. Константина Нефедьева в номинации "Поэзия" (Всемирный форум Поэзии, г. Магнитогорск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999 г. – Член Союза писателей Росс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004 г. - удостоен звания лауреата литературной премии им. Исая Калашникова (г. Улан-Удэ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005-2007 гг. - работал главным редактором республиканского литературно-художественого журнала "Байкал"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-842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571320"/>
            <a:ext cx="8472600" cy="55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"Рождение вождя" (сборник повестей и рассказов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еревод на русский язык бурят-монгольского героического эпоса "Шоно-Батор"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"Первый нукер Чингисхана" (сборник рассказов, повестей и статей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"Тэмуджин" (исторический роман о детстве Чингисхана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онгольский исторический словарь (энциклопедический справочник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842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500040"/>
            <a:ext cx="822960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разу определю границы своей  писательской деятельности. Я пишу художественную прозу о древних монголах,  о создателе самого великого в истории человечества государства – о Чингисхане. Убежден, что настоящий образ этого человека в мировой художественной литературе еще не создан, как не воссоздана и настоящая история великого народа – древних монголо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9T00:33:22Z</dcterms:created>
  <dc:creator>Цымбал</dc:creator>
  <dc:description>http://aida.ucoz.ru</dc:description>
  <dc:language>en-US</dc:language>
  <cp:lastModifiedBy>Игнатьевы</cp:lastModifiedBy>
  <dcterms:modified xsi:type="dcterms:W3CDTF">2023-12-14T16:20:08Z</dcterms:modified>
  <cp:revision>18</cp:revision>
  <dc:subject/>
  <dc:title>Слайд 1</dc:title>
</cp:coreProperties>
</file>