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14D0-2BB8-4154-BE44-EBC4E15EF1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5898-EB4A-416F-80BE-DE47F7F8E1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839D-2FB4-4A26-A6E9-2476F445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2B93-4449-414A-9BF0-241AF3B3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7C55-853A-4B8B-A7E8-0CE17597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B904-11CA-4FF4-AE8E-A609BB76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F29F-F9FA-431E-AE4E-80323830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D2B1-4452-4FF7-9B50-A777F79D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9DDE-4A58-4968-BD9A-820AC7B4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9282-FE82-496B-AFE0-62EEFF55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DFB7-CA32-4073-BCA8-BEFD6BBF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5681-0751-4E2D-AA90-9F3A7B84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57F2-6C1D-4077-B5C4-8ABDDB44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F26B-5A0E-4D39-A130-34456EC1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3442-7853-4099-804C-CAE706D5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D9F0-5A73-4ADB-BC52-5F3A60E8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A754-0F19-4B5E-9242-1529EF71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8FD4-31CA-417F-9B65-6F71902F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56E3-49AE-4193-B4A1-9AF50268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B4F5-DC49-4427-88D8-7D2E02A5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1E6A-3539-4B40-879C-2F0158AF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BFEE-AEAE-409E-82F0-D892D996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95B8-3F1E-4CCA-88E9-1D2F4E3D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897E-9F60-4441-9ABE-381D55EB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B17-0811-470B-8EF5-D87E4A67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2AB-04C4-47C9-B84E-3459BB28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725A-25C8-4AC4-8654-57C323D11F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2622-D8EC-42DC-A52C-5016AE405F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144756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ормирование навыков смыслового чтения младших школь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ыполнила: 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знецова Ольга Иванов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Работа с текстом ведётся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1017720" y="2133720"/>
            <a:ext cx="72943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ках русского язы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ках математ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ках изобразительного искус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ках окружающего ми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ках техноло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5029200"/>
            <a:ext cx="82296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 класс – обучение детей выразительному чтению и его осознанного восприятия. Практическое отличие текста от набора предложений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ение абзаца, смысловых частей под руководством учителя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ние структуры текста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аглавливание текста (подбор заголовков)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ление схематического или картинного плана под руководством учител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47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 класс   - обучение детей  работать с текстом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вильное, сознательное, выразительное чтение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ладение пересказом разного вида (полный, краткий, выборочный); деление на абзацы и составление плана прочитанного текста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ление характеристики героев и их поступков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ние письменных текстов разных типов (повествование, описание, рассуждение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 – 4  класс – обучение находить информацию, интерпретировать тексты и рефлексировать их содержание, давать оценку прочитанному: самостоятельное выделение основной мысли; нахождение информации в тексте на поставленные вопросы в прямой или  косвенной  форме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явление разных жизненных позиций героев и их совпадение с собственными убеждениями; прогнозирование содержания по заглавию, иллюстрации, отрывку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мостоятельное формулирование вопросов по тексту; сравнивание текстов разных жанров, разных стилей с похожим содержани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18284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роблема 1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понимание обучающимися формулировок заданий к текстам при выполнении самостоятельной работы.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роблема 2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граничение самостоятельной работы.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роблема 3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спользование лишь традиционных технологий и методов обучения. 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роблема 4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зкий круг чтения обучающихся.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роблема 5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изкий уровень читательской культуры родителей обучающихся.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роблема 6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знание или непонимание учителем психологических составляющих смыслового чтения. </a:t>
            </a:r>
            <a:br>
              <a:rPr sz="1800"/>
            </a:br>
            <a:br>
              <a:rPr sz="15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671400" y="22860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облемы с которыми сталкивается учитель при формировании навыков смыслового чт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язательный компонент метапредметных результатов освоения основной образовательной программ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2819160"/>
            <a:ext cx="79250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владение навыками смыслового чтения текстов различных стилей и жанров в соответствии с целями и задачам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WordArt 5"/>
          <p:cNvSpPr txBox="1"/>
          <p:nvPr/>
        </p:nvSpPr>
        <p:spPr>
          <a:xfrm>
            <a:off x="609480" y="1752480"/>
            <a:ext cx="74678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 смыслового чтения –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ксимально точно и полно понять содержание текста, уловить все детали и практически осмыслить извлеченную информац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мысловое чтение -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 «осмысление цели чтения и выбор вида чтения в зависимости от цели; извлечение необходимой информации из прослушанных текстов различ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нров; определение основной и второстепенной информации; свободная ориентация и восприятие текстов художественного, научного, публицистического и официально - делового стилей; понимание и адекватная оценка языка средств массовой информации» (Из Примерной ООП НО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3200400" y="2133720"/>
            <a:ext cx="3124080" cy="838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вык чт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Line 10"/>
          <p:cNvSpPr/>
          <p:nvPr/>
        </p:nvSpPr>
        <p:spPr>
          <a:xfrm flipH="1">
            <a:off x="2362320" y="297180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5715000" y="297180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990720" y="3733920"/>
            <a:ext cx="2514600" cy="1143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хническая сторо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5791320" y="3733920"/>
            <a:ext cx="2743200" cy="1218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мысловая сторо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мысловая сторо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500"/>
            </a:br>
            <a:br>
              <a:rPr sz="25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нимание содержания и смысла читаемого.</a:t>
            </a: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ехническая сторона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br>
              <a:rPr sz="2500"/>
            </a:br>
            <a:br>
              <a:rPr sz="25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 чтени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мп чтени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ьность чтени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разитель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о качество человека, которое должно совершенствоваться на протяжении всей его жизни в разных ситуациях деятельности и общ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новные умения смыслового чтения: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001000" cy="39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мение осмысливать цели чтения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мение выбирать вид чтения в зависимости от его цели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мение извлекать необходимую информацию из прослушанных текстов различных жанров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мение определять основную и второстепенную информацию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мение свободно ориентироваться и воспринимать тексты художественного, научного, публицистического и официально - делового стилей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мение понимать и адекватно оценивать языковые средства массовой информаци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2590920" y="1905120"/>
            <a:ext cx="4190760" cy="1295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ипы чт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7"/>
          <p:cNvSpPr/>
          <p:nvPr/>
        </p:nvSpPr>
        <p:spPr>
          <a:xfrm flipH="1">
            <a:off x="1752120" y="2819520"/>
            <a:ext cx="129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4724280" y="3200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6172200" y="2971800"/>
            <a:ext cx="1523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533520" y="4038480"/>
            <a:ext cx="2438280" cy="1295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муникативно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лух и про себ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Oval 13"/>
          <p:cNvSpPr/>
          <p:nvPr/>
        </p:nvSpPr>
        <p:spPr>
          <a:xfrm>
            <a:off x="3657600" y="4267080"/>
            <a:ext cx="2362320" cy="1143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бн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Oval 14"/>
          <p:cNvSpPr/>
          <p:nvPr/>
        </p:nvSpPr>
        <p:spPr>
          <a:xfrm>
            <a:off x="6477120" y="3962520"/>
            <a:ext cx="2286000" cy="121896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мостоятельн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2666880" y="1828800"/>
            <a:ext cx="4267440" cy="1295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чт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6"/>
          <p:cNvSpPr/>
          <p:nvPr/>
        </p:nvSpPr>
        <p:spPr>
          <a:xfrm flipH="1">
            <a:off x="1980720" y="26668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3886200" y="3048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5715000" y="30481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705720" y="27432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685800" y="3276720"/>
            <a:ext cx="2438280" cy="121896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знакомительн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2971800" y="4648320"/>
            <a:ext cx="1828800" cy="1295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учающе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Oval 13"/>
          <p:cNvSpPr/>
          <p:nvPr/>
        </p:nvSpPr>
        <p:spPr>
          <a:xfrm>
            <a:off x="5029200" y="4724280"/>
            <a:ext cx="1828800" cy="121932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думчив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Oval 15"/>
          <p:cNvSpPr/>
          <p:nvPr/>
        </p:nvSpPr>
        <p:spPr>
          <a:xfrm>
            <a:off x="6477120" y="3429000"/>
            <a:ext cx="2209680" cy="1295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исково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просмотровое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1:05:02Z</dcterms:created>
  <dc:creator>User</dc:creator>
  <dc:description/>
  <dc:language>en-US</dc:language>
  <cp:lastModifiedBy>Алексей</cp:lastModifiedBy>
  <dcterms:modified xsi:type="dcterms:W3CDTF">2020-11-30T17:49:09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