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A97-7E3A-47C6-8A98-E50CD76563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35E0-EC4B-4C6E-A0E4-CF0D33B714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B18-7620-4778-A834-0F4A07B2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1F8E-A170-4DEF-B02C-6D4E46C3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7ED-DFFB-45FF-960B-3E3873DB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7C0-1C3F-479E-AA41-A0FD96A45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F84B-7162-4909-847C-1BB7AE31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7AF7-0C18-48A9-821D-E570860C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9CA8-E323-4BC2-939F-080F970A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6F25-3E79-49BE-8EAD-2273254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BFC6-2DC1-46B9-9E7C-09181A9E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67BB-7B15-461B-877E-85800B6F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8C44-BCA3-43F5-B3AD-43BA83A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22F-18B9-4DDD-AE90-AE29E622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620E-455A-47EE-8A2D-2EBE1864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398A-BD60-452F-8562-22BA02E9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0A74-DA93-4FA1-AA54-97F3B7EB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3196-AC4B-40A6-BCCB-8551797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367A9-72EE-45FA-B31E-30A998A3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372-06D6-4EC7-BDFB-BAA54ED4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B4D-5703-48D0-8FD4-366F5A6C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F3B-B37F-45C7-92DB-ECB3286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362-79A6-4A31-B82A-191F71B9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B77-C4C1-4480-A766-105CAC0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67D-D4F7-46D2-9F3A-6D5B017F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EC0-24BF-4F6C-963B-6E6F463B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D541D-188C-44D0-94F2-40ACE46B91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6086-41DE-41D3-9E4E-F3C60E6A17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14475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ормирование навыков смыслового чтения младших школь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ыполнила: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знецова Ольга Иванов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000000"/>
                </a:solidFill>
                <a:uFillTx/>
                <a:latin typeface="Verdana"/>
              </a:rPr>
              <a:t>Работа с текстом ведётся: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1017720" y="2133720"/>
            <a:ext cx="7294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русского язы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матема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изобразительного искус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окружающего ми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ах техноло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5029200"/>
            <a:ext cx="82296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 класс – обучение детей выразительному чтению и его осознанного восприятия. Практическое отличие текста от набора предложений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ение абзаца, смысловых частей под руководством учителя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ние структуры текст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аглавливание текста (подбор заголовков)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ение схематического или картинного плана под руководством учител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47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 класс   - обучение детей  работать с текстом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ильное, сознательное, выразительное чтение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ладение пересказом разного вида (полный, краткий, выборочный); деление на абзацы и составление плана прочитанного текста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ление характеристики героев и их поступков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письменных текстов разных типов (повествование, описание, рассуждение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 – 4  класс – обучение находить информацию, интерпретировать тексты и рефлексировать их содержание, давать оценку прочитанному: самостоятельное выделение основной мысли; нахождение информации в тексте на поставленные вопросы в прямой или  косвенной  форме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явление разных жизненных позиций героев и их совпадение с собственными убеждениями; прогнозирование содержания по заглавию, иллюстрации, отрывк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е формулирование вопросов по тексту; сравнивание текстов разных жанров, разных стилей с похожим содержание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8284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1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нимание обучающимися формулировок заданий к текстам при выполнении самостоятельной работы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2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самостоятельной работы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3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ользование лишь традиционных технологий и методов обучения.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4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зкий круг чтения обучающихся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5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изкий уровень читательской культуры родителей обучающихся.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Проблема 6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знание или непонимание учителем психологических составляющих смыслового чтения. </a:t>
            </a:r>
            <a:br>
              <a:rPr sz="1800"/>
            </a:br>
            <a:br>
              <a:rPr sz="15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671400" y="22860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блемы с которыми сталкивается учитель при формировании навыков смыслового чт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язательный компонент метапредметных результатов освоения основной образовательной программ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2819160"/>
            <a:ext cx="79250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владение навыками смыслового чтения текстов различных стилей и жанров в соответствии с целями и задача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609480" y="1752480"/>
            <a:ext cx="74678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смыслового чтения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ксимально точно и полно понять содержание текста, уловить все детали и практически осмыслить извлеченную информац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мысловое чтение -</a:t>
            </a: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 «осмысление цели чтения и выбор вида чтения в зависимости от цели; извлечение необходимой информации из прослушанных текстов различ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нров; определение основной и второстепенной информации; свободная ориентация и восприятие текстов художественного, научного, публицистического и официально - делового стилей; понимание и адекватная оценка языка средств массовой информации» (Из Примерной ООП НО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3200400" y="2133720"/>
            <a:ext cx="3124080" cy="838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вык чт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Line 10"/>
          <p:cNvSpPr/>
          <p:nvPr/>
        </p:nvSpPr>
        <p:spPr>
          <a:xfrm flipH="1">
            <a:off x="2362320" y="297180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5715000" y="29718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990720" y="3733920"/>
            <a:ext cx="2514600" cy="1143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хническая стор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5791320" y="3733920"/>
            <a:ext cx="2743200" cy="1218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ысловая сторо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мысловая сторо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нимание содержания и смысла читаемого.</a:t>
            </a:r>
            <a:br>
              <a:rPr sz="1900"/>
            </a:br>
            <a:br>
              <a:rPr sz="1900"/>
            </a:br>
            <a:br>
              <a:rPr sz="1900"/>
            </a:br>
            <a:br>
              <a:rPr sz="1900"/>
            </a:b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ехническая сторона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особ чт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 чт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ьность чтени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разите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54380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качество человека, которое должно совершенствоваться на протяжении всей его жизни в разных ситуациях деятельности и общени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сновные умения смыслового чтения: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осмысливать цели чтени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выбирать вид чтения в зависимости от его цел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извлекать необходимую информацию из прослушанных текстов различных жанров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определять основную и второстепенную информацию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свободно ориентироваться и воспринимать тексты художественного, научного, публицистического и официально - делового стилей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мение понимать и адекватно оценивать языковые средства массовой информаци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590920" y="1905120"/>
            <a:ext cx="419076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ипы ч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7"/>
          <p:cNvSpPr/>
          <p:nvPr/>
        </p:nvSpPr>
        <p:spPr>
          <a:xfrm flipH="1">
            <a:off x="1752120" y="2819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47242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617220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Oval 10"/>
          <p:cNvSpPr/>
          <p:nvPr/>
        </p:nvSpPr>
        <p:spPr>
          <a:xfrm>
            <a:off x="533520" y="4038480"/>
            <a:ext cx="2438280" cy="129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муникатив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слух и про себ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3657600" y="4267080"/>
            <a:ext cx="2362320" cy="1143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6477120" y="3962520"/>
            <a:ext cx="2286000" cy="12189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мостоятель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2666880" y="1828800"/>
            <a:ext cx="426744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чт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198072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3886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571500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705720" y="2743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685800" y="3276720"/>
            <a:ext cx="2438280" cy="121896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знакомительн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2971800" y="4648320"/>
            <a:ext cx="182880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учающе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 13"/>
          <p:cNvSpPr/>
          <p:nvPr/>
        </p:nvSpPr>
        <p:spPr>
          <a:xfrm>
            <a:off x="5029200" y="4724280"/>
            <a:ext cx="1828800" cy="121932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думчиво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Oval 15"/>
          <p:cNvSpPr/>
          <p:nvPr/>
        </p:nvSpPr>
        <p:spPr>
          <a:xfrm>
            <a:off x="6477120" y="3429000"/>
            <a:ext cx="2209680" cy="129528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исков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просмотровое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1:05:02Z</dcterms:created>
  <dc:creator>User</dc:creator>
  <dc:description/>
  <dc:language>en-US</dc:language>
  <cp:lastModifiedBy>Алексей</cp:lastModifiedBy>
  <dcterms:modified xsi:type="dcterms:W3CDTF">2020-11-30T17:49:09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