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5B0-DAD8-4DAC-868A-F52CDD69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13CC-186C-491C-97C9-9BF8A89B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E3AC-1445-4A10-B8D8-64211DB2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DF86-8D44-49D3-9447-88452DBA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AEBA-7503-45D2-9283-87D63498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8943-E537-4866-980F-5A11F3FB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E38B-6791-493E-9F87-C1326C48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EB64-F079-4BF4-B3ED-BE4291BC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F009-0BCF-41EB-A063-A0DED33D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1F59-84FC-41E7-A7EE-D5C07FCB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E99A-E438-4CBD-A94F-69CAD091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C31B-D134-4825-B540-0DA7AACE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76CE-AB9D-41F9-B17C-DCB5CC7E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B1D0-4C40-4D8C-A349-0D07A939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7B62-7A67-4197-A383-211EA0BC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BC65-5B8E-4A16-A1BD-F68FC62E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3785-FE7F-443C-8C2F-7A01545C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6678-CC09-4519-9E1B-28461DD2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57FB-3C9F-479D-9EDF-606DD4D8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233B-C8BB-4551-B754-DB13AFA4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CBCB-3086-4082-BE91-AF957011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1D49-5DA8-48B2-BA99-9B83557E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B712-16C8-4C54-9171-1F25BDF3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D3CC-EB29-441D-BA0E-37A1781F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3D51-FED7-4833-9506-F6C7DABBE2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C2D6-B1E8-4755-95BF-725385C0EC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Владимир Галактионович Короленко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853 - 192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3164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ерез все произведения Короленко – большие и малые… проходит вера в человека, вера в бессмертие, непобедимое и побеждающее благородство его натуры и разу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.Платон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48135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роленко в кругу своей семьи. 1903г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20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011640" y="1341000"/>
            <a:ext cx="2819160" cy="45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роленко в своем кабинете. Петербург (конец 90-х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50608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роленко в кругу писател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620120" cy="52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овест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вид эпического произведения, в котором рассказывается о людях, событиях. Повесть больше рассказа, но меньше роман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72360" y="4292640"/>
            <a:ext cx="17143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6092640"/>
            <a:ext cx="83534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алек, Маруся и Вася.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люстрация И.И.Пчелк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4053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Кукла.</a:t>
            </a:r>
            <a:br>
              <a:rPr sz="32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Иллюстрация И.И.Пчелко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995640" y="189000"/>
            <a:ext cx="43833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омашнее задание: дочитать повест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В дурном обществе» до конц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5:40:06Z</dcterms:created>
  <dc:creator>User</dc:creator>
  <dc:description/>
  <dc:language>en-US</dc:language>
  <cp:lastModifiedBy>User</cp:lastModifiedBy>
  <dcterms:modified xsi:type="dcterms:W3CDTF">2009-02-02T16:54:48Z</dcterms:modified>
  <cp:revision>2</cp:revision>
  <dc:subject/>
  <dc:title>Владимир Галактионович Короленко</dc:title>
</cp:coreProperties>
</file>