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72D9-996C-4946-93BF-2F13A5689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C2EF-BC0A-4FD0-8F9B-DDFF67A7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300-DBD7-4B25-A932-A55E5B47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FFEC-743E-44D4-B350-1DA4F13D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8262-6F3D-4CF8-8058-CD71B86A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CB74-3E04-40F1-AF8B-97DB9402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AB88-F482-4313-B2A5-462DDEC5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E6A9-03EC-4195-B898-0768E610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184E-09F5-4D20-9020-10C22B22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A9F2-58F2-4A9C-8DE6-C3E5A0ED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5836-4FDB-4110-9AC3-DF24327B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D7CA-76AA-41A2-9A2C-8970AF44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EBE3-CED7-4B9F-829E-FC21F8F9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27CE-61A6-4A9E-A344-07A89D7B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6FDD-9104-4282-B234-FA48BAA1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3E2A-2AA8-487C-B565-7D9158C4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C569-2C8F-4686-9521-AE4F3604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DDD8-B3BB-4209-9468-5649AFF7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E9B1-7E25-46F2-99DF-42E75201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6609-C0A0-4843-810E-89D1830B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CDF2-6BF6-472C-A155-F3FC7714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3387-13FF-4E42-9680-6FE0A080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9D9-B151-4764-A4B0-AA5BB614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5BF4-6647-4999-BF9F-46900A8C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B540-3128-456F-9D98-98829A7177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B024-B726-4A10-9C11-DAC1FB4DF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Владимир Галактионович Короленко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853 - 192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3164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ерез все произведения Короленко – большие и малые… проходит вера в человека, вера в бессмертие, непобедимое и побеждающее благородство его натуры и разу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.Платон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48135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роленко в кругу своей семьи. 1903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20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011640" y="1341000"/>
            <a:ext cx="281916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роленко в своем кабинете. Петербург (конец 90-х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50608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роленко в кругу писател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620120" cy="52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овест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вид эпического произведения, в котором рассказывается о людях, событиях. Повесть больше рассказа, но меньше рома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72360" y="4292640"/>
            <a:ext cx="17143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6092640"/>
            <a:ext cx="83534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алек, Маруся и Вася.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ллюстрация И.И.Пчелк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4053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Кукла.</a:t>
            </a:r>
            <a:br>
              <a:rPr sz="32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Иллюстрация И.И.Пчелко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995640" y="189000"/>
            <a:ext cx="43833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омашнее задание: дочитать повест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«В дурном обществе» до конц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5:40:06Z</dcterms:created>
  <dc:creator>User</dc:creator>
  <dc:description/>
  <dc:language>en-US</dc:language>
  <cp:lastModifiedBy>User</cp:lastModifiedBy>
  <dcterms:modified xsi:type="dcterms:W3CDTF">2009-02-02T16:54:48Z</dcterms:modified>
  <cp:revision>2</cp:revision>
  <dc:subject/>
  <dc:title>Владимир Галактионович Короленко</dc:title>
</cp:coreProperties>
</file>