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243-C649-4152-8D3F-D8A8BB2E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DF0-232C-4FCD-AE60-3B99470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ADB-2C86-4ADC-B000-13A04538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9C8-CB04-41D1-BCE1-E2B07055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210E-AA34-4DD9-BD5E-EFF01EE5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9AD-A70B-44CA-BB74-52392BB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3D0E-A129-4143-BAE3-5F3D2CD5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E49-197F-4ADB-813D-1981D372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A63-F450-4270-BD14-D2CA6F4E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11DB-8209-43FC-B4C3-2D059327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5BAF-1DF9-4E99-A00F-9E52794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1DD-8CDF-4934-AAB4-68416CC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7AFC-C676-49B1-AE37-42C5AE8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0C9-E546-43E2-BFB5-2B309D3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AA83-A200-4075-9C32-A896BDE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2FA2-C7A8-4496-B371-7979FE10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1C8D-04B4-492B-9CB9-76AE9E80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56DD-5797-40EE-B826-D0988D31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F0858-72A7-456C-A285-B602443F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E677-89A4-44B6-9173-B7CD68E3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C6C3-1C97-4F55-BE84-8BE19B9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76A6-582B-4CFC-936D-EA21C05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138-0B63-4E0E-89D6-88444A6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B963-5E94-46A6-B9E9-8E3112F3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B511-598D-49BC-B922-4BC0E14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DDFE-83D0-4B04-B827-5CD359E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DA06-F857-4326-A385-8AB1B411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86D8-9AA4-4A02-8C5D-4330A5EF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B1E9-7D68-4A26-A787-21D4EC0F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EA4B-B2E1-414E-A126-10C4629C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601F-C7A9-4066-B5DE-345A855E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E481-FD22-44EE-A995-65510C2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0B5B-4D85-43B3-B984-422C909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5E3-98E7-4E93-88FF-07C98E2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9849-B8A0-419E-8592-832AE849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3F3A-D7F4-4A76-8CEF-9CECAF71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2CFB-2CA6-49D5-9A87-31D5991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8A97B-1004-4A9F-90B3-69D12AD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3836-8AC7-458D-A8B9-056C482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FE45-EAA8-492C-9DF1-1B965221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5E94-9BD6-4ED6-ADD9-473E811E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7C3E-6277-4395-9697-C454080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16C4-3AD2-44E4-97D8-28137E67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2351B-09F0-4766-92D8-375E65A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82A-9EC7-4AC5-BD28-9D1EFC5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6DDF-E570-4A8C-A6F2-12C490F1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41A3-DFA3-4687-8B82-F6B073F3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51F8D-F905-43A3-8D7C-BCEDC10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48BC-1ED2-449A-8E30-8E46D64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29A6-A89F-4A0C-BAC3-3D327E9E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5177-3FF8-47E3-959E-484409C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CF1E-837B-4619-88B2-C1869FD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53D3F-1323-42AF-8A04-F0FF4D28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E6D6-BB7E-4402-A10C-1A66AF4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9D0F-5C64-485D-8AA4-6E1FA25A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D6A-050F-4D7E-B72C-93D71EC5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1DE6C-8525-46DD-AE73-DE15785F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499-3D3C-400A-8B39-5110E42F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E9A-4566-4C97-82AB-4FEB0B6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924-A0F4-4BBD-A498-038D352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121838-14B1-4C43-AA34-5B71388DCA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7E6C6-5D50-44ED-B2A2-CE928B18E9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067430-722B-4788-869D-291A99C017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1AD212-2B0D-4E5F-84AE-89A1FA94BE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0650D6-8584-4072-866A-26DB0A8C247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040" cy="312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Мой любимый русский писатель</a:t>
            </a:r>
            <a:br>
              <a:rPr sz="6600"/>
            </a:b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 С. Я. Маршак</a:t>
            </a:r>
            <a:endParaRPr b="0" lang="ru-RU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924000" y="3789000"/>
            <a:ext cx="4248000" cy="244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3000"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нятия провела воспитатель ВКК для второй младше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циферова И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2736000" cy="122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гра «Колечко»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51640" y="1700640"/>
            <a:ext cx="3672000" cy="34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катилось, покат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лино колеч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катилось, покат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нашего крыле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tretch/>
        </p:blipFill>
        <p:spPr>
          <a:xfrm>
            <a:off x="4284000" y="805320"/>
            <a:ext cx="3867480" cy="51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ffc000"/>
                </a:solidFill>
                <a:latin typeface="Calibri"/>
              </a:rPr>
              <a:t>Спасибо за внимание!</a:t>
            </a:r>
            <a:endParaRPr b="0" lang="ru-RU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2920" cy="674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ШАК - НАШ ЛЮБИМЫЙ ПОЭТ! 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амуил Яковлевич Маршак родился 3 ноября 1887 года в Воронеже. 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льчик с детства тянулся к знаниям, к книгам, рано стал писать стихи. Сначала учился в гимназии, потом окончил Лондонский университет, изучил английский язык, что помогло делать литературные перевод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вые стихотворные книжки писателя появились в 1923 году. Большую часть своего творчества поэт посвятил детям. До последнего дня своей жизни (4 июня 1964) Самуил Яковлевич Маршак не расставался с пером и бумагой.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4751280" y="153360"/>
            <a:ext cx="4212720" cy="593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240" cy="178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тихи Маршака любят все: и взрослые, и дети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2771640" y="2119320"/>
            <a:ext cx="3327480" cy="44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овместное чтение произведений Маршака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а о глупом мышон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т какой рассеянный с улицы Бассейно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а об умном мышон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сатый - полосаты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гаж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чтальо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ольшой карма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ороший д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тки в клет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емок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й веселый звонкий мяч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ыставка в книжном уголке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селый счет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гаж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ихая сказк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чтальо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роки вежливости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стер – ломастер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емок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а о глупом мышон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бин – Боби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8" name="Объект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15760" cy="452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ой любимый персонаж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23640" y="5661000"/>
            <a:ext cx="8496360" cy="88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Сказка о глупом мышон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2315520" y="1280160"/>
            <a:ext cx="451260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5675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Герои из книги замечательного писателя – Самуила Яковлевича Маршака у нас в гостях.</a:t>
            </a:r>
            <a:br>
              <a:rPr sz="6000"/>
            </a:b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72880"/>
            <a:ext cx="431928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т какой рассеянны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улицы Бассейной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место шапки на ход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н надел сковороду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Объект 2" descr=""/>
          <p:cNvPicPr/>
          <p:nvPr/>
        </p:nvPicPr>
        <p:blipFill>
          <a:blip r:embed="rId1"/>
          <a:stretch/>
        </p:blipFill>
        <p:spPr>
          <a:xfrm>
            <a:off x="4182120" y="272880"/>
            <a:ext cx="4389480" cy="5852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000" cy="2060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гра «Мой веселый, звонкий мяч»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3285720" cy="446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й веселый, звонкий мяч                                                                                                                                 Ты куда помчался вскачь?                                                                                           Желтый, красный, голубой,                                                                                              Не угнаться за тобой!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3780000" y="476640"/>
            <a:ext cx="2376000" cy="3168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"/>
          <p:cNvPicPr/>
          <p:nvPr/>
        </p:nvPicPr>
        <p:blipFill>
          <a:blip r:embed="rId2"/>
          <a:stretch/>
        </p:blipFill>
        <p:spPr>
          <a:xfrm>
            <a:off x="6300360" y="3069000"/>
            <a:ext cx="24919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  <Words>153</Words>
  <Paragraphs>42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11:30:45Z</dcterms:created>
  <dc:creator>пользователь</dc:creator>
  <dc:description/>
  <dc:language>en-US</dc:language>
  <cp:lastModifiedBy>Irina</cp:lastModifiedBy>
  <dcterms:modified xsi:type="dcterms:W3CDTF">2023-12-14T17:15:24Z</dcterms:modified>
  <cp:revision>56</cp:revision>
  <dc:subject/>
  <dc:title>Мой любимый русский писате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