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7506-D781-49A3-B7DA-C6CE3566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16D9-7264-4E76-AB9F-FC7E68CA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DBCE-D701-44E8-A1E5-8FBDCA82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35FB-D901-4C5E-9A0E-F8A0C0B8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B6F9-A911-427D-9563-7D6D2760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1D26-E502-4743-AAEB-27EE0352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9C3E-F4CA-4718-8E63-25BA61D2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8838-26AD-42F0-AAB4-87529C7AD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3261-D8E1-4106-9BFA-4EC0D78F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3447-36DD-49EA-A5FD-3CA20B25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3C93-3281-43A0-A0D3-052724BD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3633-46E3-4052-ABE0-D70A343B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A069-5C1E-49C4-8610-9C980A96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D194-5474-4048-92E5-679F115E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7B36-15DB-40FB-B3A0-0697DAB3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F392-A419-4838-8369-9FC11A6ED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958D-186F-41AF-A6E7-CD8208FB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728DF-3938-4E21-89D1-404DAD305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C0667-3315-4D30-B5DE-1F19871D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D12B8-C694-4E1E-A4B8-94B40FED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9AF36-FDF6-48BA-95C8-92DDE767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F8F75-935A-4116-9A96-1100E2D3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72B2-3721-4715-8D87-29D8A3FD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42616-3432-4A60-B63D-EB129700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3A4DB-536D-426D-A677-E02D7391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A0198-8A4F-41E6-9922-96CD1FFE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AD35F-26FF-4A53-B915-86654463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C46FE-3EE2-4E70-A3EC-556BFB71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864ED-1E6D-42FF-8286-1C24F081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D6CAF-E2B8-48A4-9C0D-9A65231C6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81AB2-398F-4794-8A74-4A993866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49640-C5DA-4E77-B2BC-32B5A09D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059E5-4A7E-48EA-B8B1-FB5A81BB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99A-C491-476C-868D-A9BC5229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05231-7CAE-45B4-878C-68CE26EC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45835-8EF6-4877-ADEE-AC32344B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DD3CF-41B0-4034-A0A7-0950DA10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256CC-E192-42D8-B004-9733526F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249DD-5549-40E4-AE01-0E587BA5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80D03-D9A8-4EA7-974F-FABEF0F7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CC383-A0F8-4F42-AB0C-2823D2B8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97ACD-B7C8-4B11-A664-811747C3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087C8-6FFB-44BC-8E20-F60810C0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884E-3A76-400B-A71C-8BBE8D85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74E9-B734-4E33-BBA8-C41E5E39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CC5D-21F2-4809-BCEA-760C45A7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874C-F279-4634-B912-12B94D2F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2B4-39D6-4AB6-B993-5E3B5D5E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0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0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-31081" y="9670"/>
                      <a:pt x="-31081" y="21600"/>
                    </a:cubicBezTo>
                    <a:cubicBezTo>
                      <a:pt x="-31081" y="21835"/>
                      <a:pt x="-31085" y="22070"/>
                      <a:pt x="-3109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-31081" y="9670"/>
                      <a:pt x="-31081" y="21600"/>
                    </a:cubicBezTo>
                    <a:cubicBezTo>
                      <a:pt x="-31081" y="21835"/>
                      <a:pt x="-31085" y="22070"/>
                      <a:pt x="-3109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0"/>
                      <a:pt x="15230" y="0"/>
                    </a:cubicBezTo>
                    <a:cubicBezTo>
                      <a:pt x="27159" y="0"/>
                      <a:pt x="-28706" y="9670"/>
                      <a:pt x="-28706" y="21600"/>
                    </a:cubicBezTo>
                    <a:cubicBezTo>
                      <a:pt x="-28706" y="21835"/>
                      <a:pt x="-28710" y="22070"/>
                      <a:pt x="-287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0"/>
                      <a:pt x="15230" y="0"/>
                    </a:cubicBezTo>
                    <a:cubicBezTo>
                      <a:pt x="27159" y="0"/>
                      <a:pt x="-28706" y="9670"/>
                      <a:pt x="-28706" y="21600"/>
                    </a:cubicBezTo>
                    <a:cubicBezTo>
                      <a:pt x="-28706" y="21835"/>
                      <a:pt x="-28710" y="22070"/>
                      <a:pt x="-287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0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0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C678-BBBF-435D-82B6-D0634371916F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013B-C8C9-41DE-AD55-C1178D59438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1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20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2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27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0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0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0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0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0"/>
                          <a:pt x="15230" y="0"/>
                        </a:cubicBezTo>
                        <a:cubicBezTo>
                          <a:pt x="27159" y="0"/>
                          <a:pt x="-28706" y="9670"/>
                          <a:pt x="-28706" y="21600"/>
                        </a:cubicBezTo>
                        <a:cubicBezTo>
                          <a:pt x="-28706" y="21835"/>
                          <a:pt x="-28710" y="22070"/>
                          <a:pt x="-287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0"/>
                          <a:pt x="15230" y="0"/>
                        </a:cubicBezTo>
                        <a:cubicBezTo>
                          <a:pt x="27159" y="0"/>
                          <a:pt x="-28706" y="9670"/>
                          <a:pt x="-28706" y="21600"/>
                        </a:cubicBezTo>
                        <a:cubicBezTo>
                          <a:pt x="-28706" y="21835"/>
                          <a:pt x="-28710" y="22070"/>
                          <a:pt x="-287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0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0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0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0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3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7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8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39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-31081" y="9670"/>
                      <a:pt x="-31081" y="21600"/>
                    </a:cubicBezTo>
                    <a:cubicBezTo>
                      <a:pt x="-31081" y="21835"/>
                      <a:pt x="-31085" y="22070"/>
                      <a:pt x="-3109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-31081" y="9670"/>
                      <a:pt x="-31081" y="21600"/>
                    </a:cubicBezTo>
                    <a:cubicBezTo>
                      <a:pt x="-31081" y="21835"/>
                      <a:pt x="-31085" y="22070"/>
                      <a:pt x="-3109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3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4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5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6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7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4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8683-49FA-44D6-9B89-E39EDA434A68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92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93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94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5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6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98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99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98C8-3080-472B-B1D2-BB39DA5A5D5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html:file://D:%5C&#1053;&#1072;&#1090;&#1072;&#1096;&#1082;&#1072;%5C&#1053;&#1086;&#1074;&#1072;&#1103;%20&#1087;&#1072;&#1087;&#1082;&#1072;%20(2)%5C76-&#1084;&#1084;%20&#1076;&#1080;&#1074;&#1080;&#1079;&#1080;&#1086;&#1085;&#1085;&#1072;&#1103;%20&#1087;&#1091;&#1096;&#1082;&#1072;%20&#1086;&#1073;&#1088;&#1072;&#1079;&#1094;&#1072;%201942%20&#1075;&#1086;&#1076;&#1072;%20(&#1047;&#1048;&#1057;-3)%20&#8212;%20&#1042;&#1080;&#1082;&#1080;&#1087;&#1077;&#1076;&#1080;&#1103;.mht!/wiki/&#1060;&#1072;&#1081;&#1083;:ZiS3_nn.jpg" TargetMode="External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html:file://D:%5C&#1053;&#1072;&#1090;&#1072;&#1096;&#1082;&#1072;%5C&#1053;&#1086;&#1074;&#1072;&#1103;%20&#1087;&#1072;&#1087;&#1082;&#1072;%20(2)%5C57-&#1084;&#1084;%20&#1087;&#1088;&#1086;&#1090;&#1080;&#1074;&#1086;&#1090;&#1072;&#1085;&#1082;&#1086;&#1074;&#1072;&#1103;%20&#1087;&#1091;&#1096;&#1082;&#1072;%20&#1086;&#1073;&#1088;&#1072;&#1079;&#1094;&#1072;%201941%20&#1075;&#1086;&#1076;&#1072;%20(&#1047;&#1048;&#1057;-2)%20&#8212;%20&#1042;&#1080;&#1082;&#1080;&#1087;&#1077;&#1076;&#1080;&#1103;.mht!/w/index.php?title=&#1060;&#1072;&#1081;&#1083;:ZIS_2_57_mm.jpg&amp;filetimestamp=20070518185454" TargetMode="External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916000" y="549000"/>
            <a:ext cx="38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990000"/>
                </a:solidFill>
                <a:latin typeface="Arial"/>
              </a:rPr>
              <a:t>Устный      журнал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343160" y="1981080"/>
            <a:ext cx="711504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marL="92520" indent="-9252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92520" indent="-92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e103"/>
                </a:solidFill>
                <a:latin typeface="Times New Roman"/>
              </a:rPr>
              <a:t>«</a:t>
            </a:r>
            <a:r>
              <a:rPr b="0" lang="ru-RU" sz="4800" spc="-1" strike="noStrike">
                <a:solidFill>
                  <a:srgbClr val="ffe103"/>
                </a:solidFill>
                <a:latin typeface="Times New Roman"/>
              </a:rPr>
              <a:t>Вклад ученых-физиков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92520" indent="-925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e103"/>
                </a:solidFill>
                <a:latin typeface="Times New Roman"/>
              </a:rPr>
              <a:t>в дело Великой Победы»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92520" indent="-9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103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92520" indent="-9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92520" indent="-9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e103"/>
                </a:solidFill>
                <a:latin typeface="Times New Roman"/>
              </a:rPr>
              <a:t>Подготовила: Тиганова Светлана Евгеньевн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92520" indent="-925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e103"/>
                </a:solidFill>
                <a:latin typeface="Arial Black"/>
              </a:rPr>
              <a:t> 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e103"/>
                </a:solidFill>
                <a:latin typeface="Arial Black"/>
              </a:rPr>
              <a:t>Семен Алексеевич Лавочкин-конструктор самолета Ла-5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73" name="i-main-pic" descr="Картинка 10 из 72"/>
          <p:cNvPicPr/>
          <p:nvPr/>
        </p:nvPicPr>
        <p:blipFill>
          <a:blip r:embed="rId1"/>
          <a:stretch/>
        </p:blipFill>
        <p:spPr>
          <a:xfrm>
            <a:off x="826920" y="1773360"/>
            <a:ext cx="2965680" cy="3870360"/>
          </a:xfrm>
          <a:prstGeom prst="rect">
            <a:avLst/>
          </a:prstGeom>
          <a:ln w="0">
            <a:noFill/>
          </a:ln>
        </p:spPr>
      </p:pic>
      <p:pic>
        <p:nvPicPr>
          <p:cNvPr id="474" name="i-main-pic" descr="Картинка 6 из 921"/>
          <p:cNvPicPr/>
          <p:nvPr/>
        </p:nvPicPr>
        <p:blipFill>
          <a:blip r:embed="rId2"/>
          <a:stretch/>
        </p:blipFill>
        <p:spPr>
          <a:xfrm>
            <a:off x="3929040" y="2071800"/>
            <a:ext cx="4946760" cy="287496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6"/>
          <p:cNvSpPr/>
          <p:nvPr/>
        </p:nvSpPr>
        <p:spPr>
          <a:xfrm>
            <a:off x="4714920" y="5218560"/>
            <a:ext cx="336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Скорость 551 км/ч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Боевая нагрузка: до 600 кг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Times New Roman"/>
              </a:rPr>
              <a:t>различного вооружения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3800" spc="-1" strike="noStrike">
                <a:solidFill>
                  <a:srgbClr val="ffe103"/>
                </a:solidFill>
                <a:latin typeface="Arial Black"/>
              </a:rPr>
              <a:t>Андрей Николаевич Туполев - конструктор самолета Ту-2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77" name="i-main-pic" descr="Картинка 1 из 158"/>
          <p:cNvPicPr/>
          <p:nvPr/>
        </p:nvPicPr>
        <p:blipFill>
          <a:blip r:embed="rId1"/>
          <a:stretch/>
        </p:blipFill>
        <p:spPr>
          <a:xfrm>
            <a:off x="785880" y="1785960"/>
            <a:ext cx="3000240" cy="4176720"/>
          </a:xfrm>
          <a:prstGeom prst="rect">
            <a:avLst/>
          </a:prstGeom>
          <a:ln w="0">
            <a:noFill/>
          </a:ln>
        </p:spPr>
      </p:pic>
      <p:pic>
        <p:nvPicPr>
          <p:cNvPr id="478" name="i-main-pic" descr="Картинка 1 из 44284"/>
          <p:cNvPicPr/>
          <p:nvPr/>
        </p:nvPicPr>
        <p:blipFill>
          <a:blip r:embed="rId2"/>
          <a:stretch/>
        </p:blipFill>
        <p:spPr>
          <a:xfrm>
            <a:off x="4000680" y="2000160"/>
            <a:ext cx="4824360" cy="318456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6"/>
          <p:cNvSpPr/>
          <p:nvPr/>
        </p:nvSpPr>
        <p:spPr>
          <a:xfrm>
            <a:off x="4572000" y="5279040"/>
            <a:ext cx="3862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Black"/>
              </a:rPr>
              <a:t>Поднимает 3000 кг бомб и развивает скорость до 547 км/ч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e103"/>
                </a:solidFill>
                <a:latin typeface="Arial Black"/>
              </a:rPr>
              <a:t>Сергей Владимирович  Ильюшин- конструктор самолета Ил-10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81" name="i-main-pic" descr="Картинка 5 из 90"/>
          <p:cNvPicPr/>
          <p:nvPr/>
        </p:nvPicPr>
        <p:blipFill>
          <a:blip r:embed="rId1"/>
          <a:stretch/>
        </p:blipFill>
        <p:spPr>
          <a:xfrm>
            <a:off x="801720" y="1989000"/>
            <a:ext cx="3192480" cy="3797280"/>
          </a:xfrm>
          <a:prstGeom prst="rect">
            <a:avLst/>
          </a:prstGeom>
          <a:ln w="0">
            <a:noFill/>
          </a:ln>
        </p:spPr>
      </p:pic>
      <p:pic>
        <p:nvPicPr>
          <p:cNvPr id="482" name="i-main-pic" descr="Картинка 2 из 301"/>
          <p:cNvPicPr/>
          <p:nvPr/>
        </p:nvPicPr>
        <p:blipFill>
          <a:blip r:embed="rId2"/>
          <a:stretch/>
        </p:blipFill>
        <p:spPr>
          <a:xfrm>
            <a:off x="4214880" y="1989000"/>
            <a:ext cx="4660920" cy="302436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6"/>
          <p:cNvSpPr/>
          <p:nvPr/>
        </p:nvSpPr>
        <p:spPr>
          <a:xfrm>
            <a:off x="4429080" y="5279040"/>
            <a:ext cx="428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Black"/>
              </a:rPr>
              <a:t>Ил-10 имел мощный двигатель, усилен  броней  и вооружением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85520" y="357120"/>
            <a:ext cx="76438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 Black"/>
              </a:rPr>
              <a:t>   </a:t>
            </a:r>
            <a:br>
              <a:rPr sz="3800"/>
            </a:br>
            <a:r>
              <a:rPr b="0" lang="ru-RU" sz="3800" spc="-1" strike="noStrike">
                <a:solidFill>
                  <a:srgbClr val="ffe103"/>
                </a:solidFill>
                <a:latin typeface="Arial Black"/>
              </a:rPr>
              <a:t>П.Г.Стрелков - физик, </a:t>
            </a:r>
            <a:br>
              <a:rPr sz="3800"/>
            </a:br>
            <a:r>
              <a:rPr b="0" lang="ru-RU" sz="3800" spc="-1" strike="noStrike">
                <a:solidFill>
                  <a:srgbClr val="ffe103"/>
                </a:solidFill>
                <a:latin typeface="Arial Black"/>
              </a:rPr>
              <a:t>член-корреспондент АН СССР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85" name="Picture 5" descr="FG18"/>
          <p:cNvPicPr/>
          <p:nvPr/>
        </p:nvPicPr>
        <p:blipFill>
          <a:blip r:embed="rId1"/>
          <a:stretch/>
        </p:blipFill>
        <p:spPr>
          <a:xfrm>
            <a:off x="971640" y="1989000"/>
            <a:ext cx="2971800" cy="41767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6" descr="66"/>
          <p:cNvPicPr/>
          <p:nvPr/>
        </p:nvPicPr>
        <p:blipFill>
          <a:blip r:embed="rId2"/>
          <a:stretch/>
        </p:blipFill>
        <p:spPr>
          <a:xfrm>
            <a:off x="4427640" y="2060640"/>
            <a:ext cx="4103640" cy="283212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7"/>
          <p:cNvSpPr/>
          <p:nvPr/>
        </p:nvSpPr>
        <p:spPr>
          <a:xfrm>
            <a:off x="4572000" y="5083560"/>
            <a:ext cx="4103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Стрелков разработал технологию производства бактериологических фильтров для крови на основе асбеста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ffe103"/>
                </a:solidFill>
                <a:latin typeface="Arial Black"/>
              </a:rPr>
              <a:t>А.Т. Качугин</a:t>
            </a:r>
            <a:r>
              <a:rPr b="1" lang="en-US" sz="3800" spc="-1" strike="noStrike">
                <a:solidFill>
                  <a:srgbClr val="ffe103"/>
                </a:solidFill>
                <a:latin typeface="Arial Black"/>
              </a:rPr>
              <a:t> </a:t>
            </a:r>
            <a:r>
              <a:rPr b="1" lang="ru-RU" sz="3800" spc="-1" strike="noStrike">
                <a:solidFill>
                  <a:srgbClr val="ffe103"/>
                </a:solidFill>
                <a:latin typeface="Arial Black"/>
              </a:rPr>
              <a:t>- автор  множества патентов и закрытых разработок  Минобороны.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89" name="Содержимое 3" descr="G:\качугин\post-78-1208953824.jpg"/>
          <p:cNvPicPr/>
          <p:nvPr/>
        </p:nvPicPr>
        <p:blipFill>
          <a:blip r:embed="rId1"/>
          <a:stretch/>
        </p:blipFill>
        <p:spPr>
          <a:xfrm>
            <a:off x="4284720" y="2276640"/>
            <a:ext cx="3743280" cy="28778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6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3549600" cy="401292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7"/>
          <p:cNvSpPr/>
          <p:nvPr/>
        </p:nvSpPr>
        <p:spPr>
          <a:xfrm>
            <a:off x="4284720" y="5167800"/>
            <a:ext cx="471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Разработал одну из модификаций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«зажигательных бутылок», "партизанскую мастику" – тол, зажигалки с бесцериевым кремнем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57232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ffe103"/>
                </a:solidFill>
                <a:latin typeface="Arial Black"/>
              </a:rPr>
              <a:t>И.В. Курчатов -советский физик, «отец» советской атомной бомбы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93" name="Содержимое 3" descr="G:\A_bomba_istoriya_4(1).jpg"/>
          <p:cNvPicPr/>
          <p:nvPr/>
        </p:nvPicPr>
        <p:blipFill>
          <a:blip r:embed="rId1"/>
          <a:stretch/>
        </p:blipFill>
        <p:spPr>
          <a:xfrm>
            <a:off x="4343400" y="2149560"/>
            <a:ext cx="4043520" cy="30733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5" descr="A_bomba_istoriya_15"/>
          <p:cNvPicPr/>
          <p:nvPr/>
        </p:nvPicPr>
        <p:blipFill>
          <a:blip r:embed="rId2"/>
          <a:stretch/>
        </p:blipFill>
        <p:spPr>
          <a:xfrm>
            <a:off x="900000" y="2060640"/>
            <a:ext cx="3324240" cy="41544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6"/>
          <p:cNvSpPr/>
          <p:nvPr/>
        </p:nvSpPr>
        <p:spPr>
          <a:xfrm>
            <a:off x="4429080" y="5432760"/>
            <a:ext cx="42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Black"/>
              </a:rPr>
              <a:t>Под его руководством в 1945 году в СССР был создан первый атомный    реактор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e103"/>
                </a:solidFill>
                <a:latin typeface="Arial Black"/>
              </a:rPr>
              <a:t>А.Ф. Иоффе - русский физик и организатор науки.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995640" y="4220640"/>
            <a:ext cx="489744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Разработал   термоэлектрогенератор- источник питания для радиоприемников и передатчиков</a:t>
            </a:r>
            <a:r>
              <a:rPr b="1" lang="en-US" sz="20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Термогенератор был прост по конструкторскому оформлению, удобен в эксплуатации, готовым к действию в любое время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98" name="Picture 4" descr="200px-Иоффе_Абрам_Фёдорович"/>
          <p:cNvPicPr/>
          <p:nvPr/>
        </p:nvPicPr>
        <p:blipFill>
          <a:blip r:embed="rId1"/>
          <a:stretch/>
        </p:blipFill>
        <p:spPr>
          <a:xfrm>
            <a:off x="857160" y="2060640"/>
            <a:ext cx="3272040" cy="4194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5" descr="10-3"/>
          <p:cNvPicPr/>
          <p:nvPr/>
        </p:nvPicPr>
        <p:blipFill>
          <a:blip r:embed="rId2"/>
          <a:stretch/>
        </p:blipFill>
        <p:spPr>
          <a:xfrm>
            <a:off x="4830840" y="2060640"/>
            <a:ext cx="290988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e103"/>
                </a:solidFill>
                <a:latin typeface="Arial Black"/>
              </a:rPr>
              <a:t>П.П. Кобеко – член-корреспондент   академии наук.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286160" y="4798800"/>
            <a:ext cx="5214960" cy="20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Занимался изучением 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войств льда озер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условий смерзания  льда  и металла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режимов замерзания воды Ладожского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зер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02" name="Picture 8" descr=""/>
          <p:cNvPicPr/>
          <p:nvPr/>
        </p:nvPicPr>
        <p:blipFill>
          <a:blip r:embed="rId1"/>
          <a:stretch/>
        </p:blipFill>
        <p:spPr>
          <a:xfrm>
            <a:off x="785880" y="1714680"/>
            <a:ext cx="3000240" cy="40226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9" descr=""/>
          <p:cNvPicPr/>
          <p:nvPr/>
        </p:nvPicPr>
        <p:blipFill>
          <a:blip r:embed="rId2"/>
          <a:stretch/>
        </p:blipFill>
        <p:spPr>
          <a:xfrm>
            <a:off x="3924360" y="1916280"/>
            <a:ext cx="47689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50560" y="692280"/>
            <a:ext cx="85359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e103"/>
                </a:solidFill>
                <a:latin typeface="Arial Black"/>
              </a:rPr>
              <a:t>В.Г. Грабин - конструктор артиллерийских систем, генерал-полковник технических войск 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05" name="Содержимое 3" descr="76,2-мм дивизионное орудие ЗиС-3 в Нижегородском Кремл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2492280"/>
            <a:ext cx="3587760" cy="1913040"/>
          </a:xfrm>
          <a:prstGeom prst="rect">
            <a:avLst/>
          </a:prstGeom>
          <a:ln w="0">
            <a:noFill/>
          </a:ln>
        </p:spPr>
      </p:pic>
      <p:sp>
        <p:nvSpPr>
          <p:cNvPr id="506" name="Прямоугольник 4"/>
          <p:cNvSpPr/>
          <p:nvPr/>
        </p:nvSpPr>
        <p:spPr>
          <a:xfrm>
            <a:off x="4572000" y="442908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 Black"/>
              </a:rPr>
              <a:t>76-миллиметровой пушкой ЗИС-3 –маневренное, удобное в эксплуатации, приспособленное для ведения более эффективного огня по танкам и признанное одним  из самых гениальных конструкций в истории ствольной артиллерии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07" name="Picture 7" descr=""/>
          <p:cNvPicPr/>
          <p:nvPr/>
        </p:nvPicPr>
        <p:blipFill>
          <a:blip r:embed="rId3"/>
          <a:stretch/>
        </p:blipFill>
        <p:spPr>
          <a:xfrm>
            <a:off x="755640" y="2708280"/>
            <a:ext cx="269100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Содержимое 3" descr="ЗИС-2 в Белградском военном музее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1785960"/>
            <a:ext cx="4129200" cy="2714760"/>
          </a:xfrm>
          <a:prstGeom prst="rect">
            <a:avLst/>
          </a:prstGeom>
          <a:ln w="0">
            <a:noFill/>
          </a:ln>
        </p:spPr>
      </p:pic>
      <p:sp>
        <p:nvSpPr>
          <p:cNvPr id="509" name="Прямоугольник 4"/>
          <p:cNvSpPr/>
          <p:nvPr/>
        </p:nvSpPr>
        <p:spPr>
          <a:xfrm>
            <a:off x="71280" y="0"/>
            <a:ext cx="907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e103"/>
                </a:solidFill>
                <a:latin typeface="Arial Black"/>
              </a:rPr>
              <a:t>В.Г. Грабин  - </a:t>
            </a:r>
            <a:r>
              <a:rPr b="0" lang="ru-RU" sz="3600" spc="-1" strike="noStrike">
                <a:solidFill>
                  <a:srgbClr val="e7cc02"/>
                </a:solidFill>
                <a:latin typeface="Arial Black"/>
              </a:rPr>
              <a:t>генерал-полковник технических войск, доктор технических наук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0" name="Прямоугольник 5"/>
          <p:cNvSpPr/>
          <p:nvPr/>
        </p:nvSpPr>
        <p:spPr>
          <a:xfrm>
            <a:off x="714240" y="4643280"/>
            <a:ext cx="4286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 Black"/>
              </a:rPr>
              <a:t>57-мм противотанковая пушка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 Black"/>
              </a:rPr>
              <a:t>Вследствие большой длины ствола и большого относительного веса заряда снаряд 57-мм пушки вылетал со скоростью 700 м/с  и пробивал броню до 120—150 мм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1" name="Rectangle 6"/>
          <p:cNvSpPr/>
          <p:nvPr/>
        </p:nvSpPr>
        <p:spPr>
          <a:xfrm flipV="1" rot="10800000">
            <a:off x="5071680" y="4578840"/>
            <a:ext cx="3786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100-мм пушка образца 1944 г. Бронебойно-трассирующий снаряд с начальной скоростью 895 м/с на дальности 500 м при угле встречи 90° пробивал броню толщиной 160 мм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12" name="Picture 7" descr=""/>
          <p:cNvPicPr/>
          <p:nvPr/>
        </p:nvPicPr>
        <p:blipFill>
          <a:blip r:embed="rId3"/>
          <a:stretch/>
        </p:blipFill>
        <p:spPr>
          <a:xfrm>
            <a:off x="5000760" y="1643040"/>
            <a:ext cx="378612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ff"/>
                </a:solidFill>
                <a:latin typeface="Arial Black"/>
              </a:rPr>
              <a:t>О технике, которая решала многое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</a:rPr>
              <a:t>"Участие в разгроме фашизма - самая благородная и великая задача, которая когда-либо стояла перед наукой …"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В.Л.Комаров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 Black"/>
              </a:rPr>
              <a:t>президента АН в годы войны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9900ff"/>
                </a:solidFill>
                <a:latin typeface="Arial Black"/>
              </a:rPr>
              <a:t>«Вместо эпилога»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Сейчас , по прошествии 78 лет с момента окончания войны , это событие и сама война лучше видятся с далекого расстояния , о них много написано , многое осмыслено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Думается : справедливо считать , что салют Победы , состоявшийся 9 мая 1945 года , славил подвиг всех людей страны – тех,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- кто с оружием в руках в смертельной схватке с врагом отстоял свободу и независимость нашей Отчизны,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- кто варил сталь , изготовлял снаряды , строил танки и самолеты, кто делал оружие Победы,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- кто не жалея сил , день и ночь трудился в тылу на благо фронта,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- кто создавал вооружение – ученых, конструкторов , исследователей, деятелей техники. Это благодаря их труду , знаниям , практическому опыту и полету творческой мысли рождались в небывало короткие сроки проекты новой боевой техники, призванной громить врага, и совершенствовалась техника уже имеющаяся.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1400" spc="-1" strike="noStrike">
                <a:solidFill>
                  <a:srgbClr val="ffcc00"/>
                </a:solidFill>
                <a:latin typeface="Arial Black"/>
              </a:rPr>
              <a:t>Страна салютовала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ff"/>
                </a:solidFill>
                <a:latin typeface="Arial Black"/>
              </a:rPr>
              <a:t>"Грозное лето 41-го"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cc00"/>
                </a:solidFill>
                <a:latin typeface="Arial Black"/>
              </a:rPr>
              <a:t>Работали на победу не только взрослые , но и подростки. Вот, вспоминал преподаватель МГУ, автор школьных учебников физики Б.Б.Буховцев: «В июне 1941г. сдав экзамены за 8 класс , я перешел в девятый. А через несколько дней мирная жизнь всех советских людей была прервана. Нападение фашистской Германии на нашу страну изменила и мою судьбу. О продолжении учебы нечего было и думать : стране нужны были рабочие . И я пошел на завод , почти полтора года работал токарем. В 1943г. , когда мне исполнилось 18 лет , был призван в ряды Советской Армии . Попал в гвардейские минометные части , на вооружении которых находились орудия , зашифрованные загадочными буквами РС(ракетные системы)и оказавшиеся грозными «катюшами»… Полк, с которым я выехал потом на фронт, сражался на Курской дуге…»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ff"/>
                </a:solidFill>
                <a:latin typeface="Arial Black"/>
              </a:rPr>
              <a:t>Война пришла в Белевский район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 Белёве фашисты уничтожили 1160 жилых домов, сушильный завод, винный завод, железнодорожный вокзал, депо, городскую электростанцию, водопровод, кинотеатр, Дом культуры, больницу и поликлинику. В сельской местности было разрушено и сожжено 32 школы, 12 клубов, 29 библиотек. Было уничтожено 78 селений, 3687 домов колхозников. Фашисты расстреляли и замучили 123 жителя района, а около 4,5 тысяч человек угнали в плен в Германию. Было потеряно 16980 голов крупного рогатого скота, много продовольственных продуктов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Общий ущерб, принесенный городу и району, составил 55 млн. рублей.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900" spc="-1" strike="noStrike">
                <a:solidFill>
                  <a:srgbClr val="ffe103"/>
                </a:solidFill>
                <a:latin typeface="Arial Black"/>
              </a:rPr>
              <a:t>1943 г. </a:t>
            </a:r>
            <a:endParaRPr b="0" lang="en-US" sz="69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8072280" cy="5019840"/>
          </a:xfrm>
          <a:prstGeom prst="rect">
            <a:avLst/>
          </a:prstGeom>
          <a:ln w="0">
            <a:noFill/>
          </a:ln>
        </p:spPr>
      </p:pic>
      <p:sp>
        <p:nvSpPr>
          <p:cNvPr id="447" name="Прямоугольник 4"/>
          <p:cNvSpPr/>
          <p:nvPr/>
        </p:nvSpPr>
        <p:spPr>
          <a:xfrm>
            <a:off x="1000080" y="1571760"/>
            <a:ext cx="7786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Военная промышленность Советского Союза дала фронту: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29,9 тыс. самолетов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24,1 тыс. танков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130,3 тыс. орудий всех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и превзошла Германию по производству основных видов боевой техники, оружия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.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15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ffe103"/>
                </a:solidFill>
                <a:latin typeface="Arial Black"/>
              </a:rPr>
              <a:t>Ж.Я.Котин -выдающийся конструктор бронетанковой техники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000320" y="4785840"/>
            <a:ext cx="5143320" cy="29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ИС-2 самым мощным и наиболее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яжелобронированным из советских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серийных танков периода войны: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олщина брони была 90-120 мм,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развиваемая скорость — до 52 км/ч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50" name="Рисунок 3" descr="C:\Documents and Settings\Учитель\Рабочий стол\танки Гаврилюк\ИС-2.jpg"/>
          <p:cNvPicPr/>
          <p:nvPr/>
        </p:nvPicPr>
        <p:blipFill>
          <a:blip r:embed="rId1"/>
          <a:stretch/>
        </p:blipFill>
        <p:spPr>
          <a:xfrm>
            <a:off x="3786120" y="1714680"/>
            <a:ext cx="4646520" cy="30002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6" descr=""/>
          <p:cNvPicPr/>
          <p:nvPr/>
        </p:nvPicPr>
        <p:blipFill>
          <a:blip r:embed="rId2"/>
          <a:stretch/>
        </p:blipFill>
        <p:spPr>
          <a:xfrm>
            <a:off x="785880" y="2093760"/>
            <a:ext cx="27399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e103"/>
                </a:solidFill>
                <a:latin typeface="Arial Black"/>
              </a:rPr>
              <a:t>Н.А.Астров - ведущий</a:t>
            </a:r>
            <a:r>
              <a:rPr b="0" lang="ru-RU" sz="1800" spc="-1" strike="noStrike">
                <a:solidFill>
                  <a:srgbClr val="ffe103"/>
                </a:solidFill>
                <a:latin typeface="Arial Black"/>
              </a:rPr>
              <a:t> </a:t>
            </a:r>
            <a:r>
              <a:rPr b="0" lang="ru-RU" sz="3800" spc="-1" strike="noStrike">
                <a:solidFill>
                  <a:srgbClr val="ffe103"/>
                </a:solidFill>
                <a:latin typeface="Arial Black"/>
              </a:rPr>
              <a:t>разработчик  лёгких танков военного периода.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643200" y="4929120"/>
            <a:ext cx="55008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Т-60 отличался мощным вооружением, усиленным бронированием, меньшей высотой машины. Танк развивал скорость до 42 км/ч. Небольшой вес машины позволял уверенно передвигаться по льду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54" name="Рисунок 3" descr="C:\Documents and Settings\Учитель\Рабочий стол\танки Гаврилюк\Т-60.jpg"/>
          <p:cNvPicPr/>
          <p:nvPr/>
        </p:nvPicPr>
        <p:blipFill>
          <a:blip r:embed="rId1"/>
          <a:stretch/>
        </p:blipFill>
        <p:spPr>
          <a:xfrm>
            <a:off x="4357800" y="1785960"/>
            <a:ext cx="4100400" cy="30733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6" descr=""/>
          <p:cNvPicPr/>
          <p:nvPr/>
        </p:nvPicPr>
        <p:blipFill>
          <a:blip r:embed="rId2"/>
          <a:stretch/>
        </p:blipFill>
        <p:spPr>
          <a:xfrm>
            <a:off x="857160" y="1857240"/>
            <a:ext cx="296388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285840" y="5143320"/>
            <a:ext cx="8501040" cy="20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Arial Black"/>
              </a:rPr>
              <a:t>       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Т-37А - советский малый плавающий танк. Для обеспечения плавучести танк был оснащен дополнительными поплавками, размещенными вдоль бортов корпуса. Развивал скорость на суше до 40 км/ч, а на плаву - до 6 км/ч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Прямоугольник 5"/>
          <p:cNvSpPr/>
          <p:nvPr/>
        </p:nvSpPr>
        <p:spPr>
          <a:xfrm>
            <a:off x="1000080" y="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e103"/>
                </a:solidFill>
                <a:latin typeface="Arial Black"/>
              </a:rPr>
              <a:t>Н.Н. Козырев - ведущий инженер КБ Завода № 37 г.Москвы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58" name="Picture 9" descr=""/>
          <p:cNvPicPr/>
          <p:nvPr/>
        </p:nvPicPr>
        <p:blipFill>
          <a:blip r:embed="rId1"/>
          <a:stretch/>
        </p:blipFill>
        <p:spPr>
          <a:xfrm>
            <a:off x="4624560" y="2143080"/>
            <a:ext cx="4227480" cy="24289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0" descr=""/>
          <p:cNvPicPr/>
          <p:nvPr/>
        </p:nvPicPr>
        <p:blipFill>
          <a:blip r:embed="rId2"/>
          <a:stretch/>
        </p:blipFill>
        <p:spPr>
          <a:xfrm>
            <a:off x="857160" y="1714680"/>
            <a:ext cx="385776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e103"/>
                </a:solidFill>
                <a:latin typeface="Arial Black"/>
              </a:rPr>
              <a:t>С.А.Гинзбург - советский конструктор бронетехники</a:t>
            </a:r>
            <a:endParaRPr b="0" lang="en-US" sz="3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42960" y="5084280"/>
            <a:ext cx="87868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гнеметный танк ОТ-130. Дальность огнеметания 35-50 метров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гнеметные танки ОТ-130 использовались в боях на реке Халхин-Гол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62" name="Рисунок 3" descr="C:\Documents and Settings\Учитель\Рабочий стол\танки Гаврилюк\ОТ-130.jpg"/>
          <p:cNvPicPr/>
          <p:nvPr/>
        </p:nvPicPr>
        <p:blipFill>
          <a:blip r:embed="rId1"/>
          <a:stretch/>
        </p:blipFill>
        <p:spPr>
          <a:xfrm>
            <a:off x="785880" y="2143080"/>
            <a:ext cx="3608280" cy="2714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6" descr=""/>
          <p:cNvPicPr/>
          <p:nvPr/>
        </p:nvPicPr>
        <p:blipFill>
          <a:blip r:embed="rId2"/>
          <a:stretch/>
        </p:blipFill>
        <p:spPr>
          <a:xfrm>
            <a:off x="4786200" y="2143080"/>
            <a:ext cx="40593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000320" y="4220640"/>
            <a:ext cx="51433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 Black"/>
              </a:rPr>
              <a:t>     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T-34 - самый массовый средний танк Второй мировой войны. Отличается оптимальным соотношением между основными боевыми, эксплуатационными и технологическими характеристиками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Прямоугольник 3"/>
          <p:cNvSpPr/>
          <p:nvPr/>
        </p:nvSpPr>
        <p:spPr>
          <a:xfrm>
            <a:off x="714240" y="0"/>
            <a:ext cx="842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e103"/>
                </a:solidFill>
                <a:latin typeface="Arial Black"/>
              </a:rPr>
              <a:t>А. А. Морозов – главный конструктор КБ Уральского танкового завода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66" name="Picture 6" descr=""/>
          <p:cNvPicPr/>
          <p:nvPr/>
        </p:nvPicPr>
        <p:blipFill>
          <a:blip r:embed="rId1"/>
          <a:stretch/>
        </p:blipFill>
        <p:spPr>
          <a:xfrm>
            <a:off x="857160" y="1643040"/>
            <a:ext cx="3143520" cy="42372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8" descr=""/>
          <p:cNvPicPr/>
          <p:nvPr/>
        </p:nvPicPr>
        <p:blipFill>
          <a:blip r:embed="rId2"/>
          <a:stretch/>
        </p:blipFill>
        <p:spPr>
          <a:xfrm>
            <a:off x="4643280" y="1857240"/>
            <a:ext cx="388152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e103"/>
                </a:solidFill>
                <a:latin typeface="Arial Black"/>
              </a:rPr>
              <a:t>Александр Сергеевич Яковлев- конструктор самолета Як-3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9" name="Picture 4" descr="А.С.Яковлев"/>
          <p:cNvPicPr/>
          <p:nvPr/>
        </p:nvPicPr>
        <p:blipFill>
          <a:blip r:embed="rId1"/>
          <a:stretch/>
        </p:blipFill>
        <p:spPr>
          <a:xfrm>
            <a:off x="887400" y="2335320"/>
            <a:ext cx="2514600" cy="3274920"/>
          </a:xfrm>
          <a:prstGeom prst="rect">
            <a:avLst/>
          </a:prstGeom>
          <a:ln w="0">
            <a:noFill/>
          </a:ln>
        </p:spPr>
      </p:pic>
      <p:pic>
        <p:nvPicPr>
          <p:cNvPr id="470" name="i-main-pic" descr="Картинка 4 из 768"/>
          <p:cNvPicPr/>
          <p:nvPr/>
        </p:nvPicPr>
        <p:blipFill>
          <a:blip r:embed="rId2"/>
          <a:stretch/>
        </p:blipFill>
        <p:spPr>
          <a:xfrm>
            <a:off x="4211640" y="1989000"/>
            <a:ext cx="3852720" cy="288612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7"/>
          <p:cNvSpPr/>
          <p:nvPr/>
        </p:nvSpPr>
        <p:spPr>
          <a:xfrm>
            <a:off x="4356000" y="508824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Times New Roman"/>
              </a:rPr>
              <a:t>Самый легкий (всего 2650 кг) и маневренный истребитель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1T14:50:52Z</dcterms:created>
  <dc:creator>Natali</dc:creator>
  <dc:description/>
  <dc:language>en-US</dc:language>
  <cp:lastModifiedBy>PS</cp:lastModifiedBy>
  <dcterms:modified xsi:type="dcterms:W3CDTF">2023-12-14T15:47:49Z</dcterms:modified>
  <cp:revision>49</cp:revision>
  <dc:subject/>
  <dc:title>Слайд 1</dc:title>
</cp:coreProperties>
</file>