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6E0-801D-40B2-B7B4-CF0CF77D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C0E-0804-4D16-8895-04E3332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1E2-D31E-4E25-9B98-9DA5ED62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E32-D410-4C12-BAA6-02BDD176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01A1-74FA-4437-AFE3-BFAB46E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DE2E-C8CE-45E7-AB9E-23C59659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C4F1-CB74-4143-A33F-1055E54E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D6E-3A83-45B7-9682-F24F0B8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BA2-57A5-4747-9593-A57EF12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12CD-08BE-4B1B-BEDD-E4E4EB5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BC30-2630-41BE-8E71-6F24772E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D6A-2A1D-4BAE-BBB1-444EFE3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30EF-1B95-4E4B-BB45-BE9908DE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6841-5197-4E78-9F60-6F52081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738D-1DF1-48DE-B446-E62BB698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A10-DDD6-45A5-B12C-FC3DA9BE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2E00-0E54-466E-8AA5-38EEF659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1343-CF52-4A1A-9CFB-A5384CD2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B33E2-2326-4D54-8A3C-03FFF85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90C5-8CF4-4D0A-94D7-A412329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B8C0-5C76-4BF5-B99B-7591CA88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E91C-AE35-4FCC-86C9-4663771A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479-9292-4E85-A5E4-8F54239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4C58-42C7-464E-B8F6-D04C537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8259-22BC-4936-917B-69C38766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6017-0645-42DA-9AAE-9528924E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A2C0-4D9F-4433-B49E-99A0A0E3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BF21-EAA0-44EE-B285-6EC701E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6CDD-7489-4870-9DC2-71E37929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FD11-C7B3-4D6B-9942-68A955FD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10DB-8468-4A81-9DDC-76321B31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7BEE1-3C4C-47DA-BDD4-C7D9696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50E0-6AA1-493A-9A13-873DF6D4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7F2-C28E-4622-911E-8E4DD15D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B480-71DD-477A-8041-4B44AEA6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DC6A-B94F-42E7-967A-9BF0051F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8E43-31EE-4C57-A5F3-CF0061A4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7EFD-CCDF-4194-AD22-C9D4CA3F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32CC-BD05-4137-B497-AFCDD7B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89E2-0721-4BED-AB2D-5015A076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2B06-E1AD-43B9-9497-24AE5DF9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A275-FDA9-47FA-85E9-AA226F49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2F84-BACC-4C13-A59D-8A202FEB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777-E55A-44DA-BD37-5C4BA25E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CCC-A2E5-4C2C-AABB-7A89185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9BD-93D5-4FCB-91B6-9EBA6195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9CA-54E5-41BF-AF05-E4AA80B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71A-EEA1-4258-BCC5-AA0B75B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3F3-84A5-4DC1-8A6E-03DB410F410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A42D-CB5A-435A-87DC-048C94CD82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43A-A5B6-41D0-B596-730FDAE239A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9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9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9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9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C417-47EB-4D33-AD89-23C1924EFC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html:file://D:%5C&#1053;&#1072;&#1090;&#1072;&#1096;&#1082;&#1072;%5C&#1053;&#1086;&#1074;&#1072;&#1103;%20&#1087;&#1072;&#1087;&#1082;&#1072;%20(2)%5C76-&#1084;&#1084;%20&#1076;&#1080;&#1074;&#1080;&#1079;&#1080;&#1086;&#1085;&#1085;&#1072;&#1103;%20&#1087;&#1091;&#1096;&#1082;&#1072;%20&#1086;&#1073;&#1088;&#1072;&#1079;&#1094;&#1072;%201942%20&#1075;&#1086;&#1076;&#1072;%20(&#1047;&#1048;&#1057;-3)%20&#8212;%20&#1042;&#1080;&#1082;&#1080;&#1087;&#1077;&#1076;&#1080;&#1103;.mht!/wiki/&#1060;&#1072;&#1081;&#1083;:ZiS3_nn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html:file://D:%5C&#1053;&#1072;&#1090;&#1072;&#1096;&#1082;&#1072;%5C&#1053;&#1086;&#1074;&#1072;&#1103;%20&#1087;&#1072;&#1087;&#1082;&#1072;%20(2)%5C57-&#1084;&#1084;%20&#1087;&#1088;&#1086;&#1090;&#1080;&#1074;&#1086;&#1090;&#1072;&#1085;&#1082;&#1086;&#1074;&#1072;&#1103;%20&#1087;&#1091;&#1096;&#1082;&#1072;%20&#1086;&#1073;&#1088;&#1072;&#1079;&#1094;&#1072;%201941%20&#1075;&#1086;&#1076;&#1072;%20(&#1047;&#1048;&#1057;-2)%20&#8212;%20&#1042;&#1080;&#1082;&#1080;&#1087;&#1077;&#1076;&#1080;&#1103;.mht!/w/index.php?title=&#1060;&#1072;&#1081;&#1083;:ZIS_2_57_mm.jpg&amp;filetimestamp=20070518185454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38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0000"/>
                </a:solidFill>
                <a:latin typeface="Arial"/>
              </a:rPr>
              <a:t>Устный      журнал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343160" y="1981080"/>
            <a:ext cx="71150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103"/>
                </a:solidFill>
                <a:latin typeface="Times New Roman"/>
              </a:rPr>
              <a:t>«</a:t>
            </a:r>
            <a:r>
              <a:rPr b="0" lang="ru-RU" sz="4800" spc="-1" strike="noStrike">
                <a:solidFill>
                  <a:srgbClr val="ffe103"/>
                </a:solidFill>
                <a:latin typeface="Times New Roman"/>
              </a:rPr>
              <a:t>Вклад ученых-физиков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e103"/>
                </a:solidFill>
                <a:latin typeface="Times New Roman"/>
              </a:rPr>
              <a:t>в дело Великой Победы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3"/>
                </a:solidFill>
                <a:latin typeface="Times New Roman"/>
              </a:rPr>
              <a:t>Подготовила: Тиганова Светлана Евгенье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103"/>
                </a:solidFill>
                <a:latin typeface="Arial Black"/>
              </a:rPr>
              <a:t> 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Семен Алексеевич Лавочкин-конструктор самолета Ла-5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3" name="i-main-pic" descr="Картинка 10 из 72"/>
          <p:cNvPicPr/>
          <p:nvPr/>
        </p:nvPicPr>
        <p:blipFill>
          <a:blip r:embed="rId1"/>
          <a:stretch/>
        </p:blipFill>
        <p:spPr>
          <a:xfrm>
            <a:off x="826920" y="1773360"/>
            <a:ext cx="2965680" cy="3870360"/>
          </a:xfrm>
          <a:prstGeom prst="rect">
            <a:avLst/>
          </a:prstGeom>
          <a:ln w="0">
            <a:noFill/>
          </a:ln>
        </p:spPr>
      </p:pic>
      <p:pic>
        <p:nvPicPr>
          <p:cNvPr id="474" name="i-main-pic" descr="Картинка 6 из 921"/>
          <p:cNvPicPr/>
          <p:nvPr/>
        </p:nvPicPr>
        <p:blipFill>
          <a:blip r:embed="rId2"/>
          <a:stretch/>
        </p:blipFill>
        <p:spPr>
          <a:xfrm>
            <a:off x="3929040" y="2071800"/>
            <a:ext cx="4946760" cy="28749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4714920" y="5218560"/>
            <a:ext cx="336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корость 551 км/ч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Боевая нагрузка: до 600 кг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различного вооружения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ндрей Николаевич Туполев - конструктор самолета Ту-2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7" name="i-main-pic" descr="Картинка 1 из 158"/>
          <p:cNvPicPr/>
          <p:nvPr/>
        </p:nvPicPr>
        <p:blipFill>
          <a:blip r:embed="rId1"/>
          <a:stretch/>
        </p:blipFill>
        <p:spPr>
          <a:xfrm>
            <a:off x="785880" y="1785960"/>
            <a:ext cx="3000240" cy="4176720"/>
          </a:xfrm>
          <a:prstGeom prst="rect">
            <a:avLst/>
          </a:prstGeom>
          <a:ln w="0">
            <a:noFill/>
          </a:ln>
        </p:spPr>
      </p:pic>
      <p:pic>
        <p:nvPicPr>
          <p:cNvPr id="478" name="i-main-pic" descr="Картинка 1 из 44284"/>
          <p:cNvPicPr/>
          <p:nvPr/>
        </p:nvPicPr>
        <p:blipFill>
          <a:blip r:embed="rId2"/>
          <a:stretch/>
        </p:blipFill>
        <p:spPr>
          <a:xfrm>
            <a:off x="4000680" y="2000160"/>
            <a:ext cx="4824360" cy="318456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6"/>
          <p:cNvSpPr/>
          <p:nvPr/>
        </p:nvSpPr>
        <p:spPr>
          <a:xfrm>
            <a:off x="4572000" y="5279040"/>
            <a:ext cx="38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Поднимает 3000 кг бомб и развивает скорость до 547 км/ч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Сергей Владимирович  Ильюшин- конструктор самолета Ил-10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i-main-pic" descr="Картинка 5 из 90"/>
          <p:cNvPicPr/>
          <p:nvPr/>
        </p:nvPicPr>
        <p:blipFill>
          <a:blip r:embed="rId1"/>
          <a:stretch/>
        </p:blipFill>
        <p:spPr>
          <a:xfrm>
            <a:off x="801720" y="1989000"/>
            <a:ext cx="3192480" cy="3797280"/>
          </a:xfrm>
          <a:prstGeom prst="rect">
            <a:avLst/>
          </a:prstGeom>
          <a:ln w="0">
            <a:noFill/>
          </a:ln>
        </p:spPr>
      </p:pic>
      <p:pic>
        <p:nvPicPr>
          <p:cNvPr id="482" name="i-main-pic" descr="Картинка 2 из 301"/>
          <p:cNvPicPr/>
          <p:nvPr/>
        </p:nvPicPr>
        <p:blipFill>
          <a:blip r:embed="rId2"/>
          <a:stretch/>
        </p:blipFill>
        <p:spPr>
          <a:xfrm>
            <a:off x="4214880" y="1989000"/>
            <a:ext cx="4660920" cy="30243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4429080" y="5279040"/>
            <a:ext cx="428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Ил-10 имел мощный двигатель, усилен  броней  и вооружением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85520" y="357120"/>
            <a:ext cx="7643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   </a:t>
            </a:r>
            <a:br>
              <a:rPr sz="3800"/>
            </a:b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П.Г.Стрелков - физик, </a:t>
            </a:r>
            <a:br>
              <a:rPr sz="3800"/>
            </a:b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член-корреспондент АН СССР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5" name="Picture 5" descr="FG18"/>
          <p:cNvPicPr/>
          <p:nvPr/>
        </p:nvPicPr>
        <p:blipFill>
          <a:blip r:embed="rId1"/>
          <a:stretch/>
        </p:blipFill>
        <p:spPr>
          <a:xfrm>
            <a:off x="971640" y="1989000"/>
            <a:ext cx="2971800" cy="4176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66"/>
          <p:cNvPicPr/>
          <p:nvPr/>
        </p:nvPicPr>
        <p:blipFill>
          <a:blip r:embed="rId2"/>
          <a:stretch/>
        </p:blipFill>
        <p:spPr>
          <a:xfrm>
            <a:off x="4427640" y="2060640"/>
            <a:ext cx="4103640" cy="28321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7"/>
          <p:cNvSpPr/>
          <p:nvPr/>
        </p:nvSpPr>
        <p:spPr>
          <a:xfrm>
            <a:off x="4572000" y="5083560"/>
            <a:ext cx="41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Стрелков разработал технологию производства бактериологических фильтров для крови на основе асбеста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.Т. Качугин</a:t>
            </a:r>
            <a:r>
              <a:rPr b="1" lang="en-US" sz="38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- автор  множества патентов и закрытых разработок  Минобороны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9" name="Содержимое 3" descr="G:\качугин\post-78-1208953824.jpg"/>
          <p:cNvPicPr/>
          <p:nvPr/>
        </p:nvPicPr>
        <p:blipFill>
          <a:blip r:embed="rId1"/>
          <a:stretch/>
        </p:blipFill>
        <p:spPr>
          <a:xfrm>
            <a:off x="4284720" y="2276640"/>
            <a:ext cx="3743280" cy="2877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549600" cy="4012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"/>
          <p:cNvSpPr/>
          <p:nvPr/>
        </p:nvSpPr>
        <p:spPr>
          <a:xfrm>
            <a:off x="4284720" y="5167800"/>
            <a:ext cx="471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Разработал одну из модификаций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зажигательных бутылок», "партизанскую мастику" – тол, зажигалки с бесцериевым кремнем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И.В. Курчатов -советский физик, «отец» советской атомной бомбы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3" name="Содержимое 3" descr="G:\A_bomba_istoriya_4(1).jpg"/>
          <p:cNvPicPr/>
          <p:nvPr/>
        </p:nvPicPr>
        <p:blipFill>
          <a:blip r:embed="rId1"/>
          <a:stretch/>
        </p:blipFill>
        <p:spPr>
          <a:xfrm>
            <a:off x="4343400" y="2149560"/>
            <a:ext cx="4043520" cy="3073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A_bomba_istoriya_15"/>
          <p:cNvPicPr/>
          <p:nvPr/>
        </p:nvPicPr>
        <p:blipFill>
          <a:blip r:embed="rId2"/>
          <a:stretch/>
        </p:blipFill>
        <p:spPr>
          <a:xfrm>
            <a:off x="900000" y="2060640"/>
            <a:ext cx="3324240" cy="41544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6"/>
          <p:cNvSpPr/>
          <p:nvPr/>
        </p:nvSpPr>
        <p:spPr>
          <a:xfrm>
            <a:off x="4429080" y="5432760"/>
            <a:ext cx="42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Под его руководством в 1945 году в СССР был создан первый атомный    реактор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.Ф. Иоффе - русский физик и организатор науки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995640" y="4220640"/>
            <a:ext cx="489744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Разработал   термоэлектрогенератор- источник питания для радиоприемников и передатчиков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Термогенератор был прост по конструкторскому оформлению, удобен в эксплуатации, готовым к действию в любое время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8" name="Picture 4" descr="200px-Иоффе_Абрам_Фёдорович"/>
          <p:cNvPicPr/>
          <p:nvPr/>
        </p:nvPicPr>
        <p:blipFill>
          <a:blip r:embed="rId1"/>
          <a:stretch/>
        </p:blipFill>
        <p:spPr>
          <a:xfrm>
            <a:off x="857160" y="2060640"/>
            <a:ext cx="3272040" cy="4194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10-3"/>
          <p:cNvPicPr/>
          <p:nvPr/>
        </p:nvPicPr>
        <p:blipFill>
          <a:blip r:embed="rId2"/>
          <a:stretch/>
        </p:blipFill>
        <p:spPr>
          <a:xfrm>
            <a:off x="4830840" y="2060640"/>
            <a:ext cx="29098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П.П. Кобеко – член-корреспондент   академии наук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286160" y="4798800"/>
            <a:ext cx="521496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нимался изучением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йств льда озер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условий смерзания  льда  и металл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режимов замерзания воды Ладожского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зер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3000240" cy="4022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4768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5359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В.Г. Грабин - конструктор артиллерийских систем, генерал-полковник технических войск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5" name="Содержимое 3" descr="76,2-мм дивизионное орудие ЗиС-3 в Нижегородском Крем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492280"/>
            <a:ext cx="3587760" cy="191304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4"/>
          <p:cNvSpPr/>
          <p:nvPr/>
        </p:nvSpPr>
        <p:spPr>
          <a:xfrm>
            <a:off x="4572000" y="44290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76-миллиметровой пушкой ЗИС-3 –маневренное, удобное в эксплуатации, приспособленное для ведения более эффективного огня по танкам и признанное одним  из самых гениальных конструкций в истории ствольной артиллер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7" name="Picture 7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2691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Содержимое 3" descr="ЗИС-2 в Белградском военном музе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785960"/>
            <a:ext cx="4129200" cy="271476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4"/>
          <p:cNvSpPr/>
          <p:nvPr/>
        </p:nvSpPr>
        <p:spPr>
          <a:xfrm>
            <a:off x="71280" y="0"/>
            <a:ext cx="907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e103"/>
                </a:solidFill>
                <a:latin typeface="Arial Black"/>
              </a:rPr>
              <a:t>В.Г. Грабин  - </a:t>
            </a:r>
            <a:r>
              <a:rPr b="0" lang="ru-RU" sz="3600" spc="-1" strike="noStrike">
                <a:solidFill>
                  <a:srgbClr val="e7cc02"/>
                </a:solidFill>
                <a:latin typeface="Arial Black"/>
              </a:rPr>
              <a:t>генерал-полковник технических войск, доктор технических наук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Прямоугольник 5"/>
          <p:cNvSpPr/>
          <p:nvPr/>
        </p:nvSpPr>
        <p:spPr>
          <a:xfrm>
            <a:off x="714240" y="4643280"/>
            <a:ext cx="428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57-мм противотанковая пушка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Вследствие большой длины ствола и большого относительного веса заряда снаряд 57-мм пушки вылетал со скоростью 700 м/с  и пробивал броню до 120—150 мм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 flipV="1" rot="10800000">
            <a:off x="5071680" y="457884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00-мм пушка образца 1944 г. Бронебойно-трассирующий снаряд с начальной скоростью 895 м/с на дальности 500 м при угле встречи 90° пробивал броню толщиной 160 мм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2" name="Picture 7" descr=""/>
          <p:cNvPicPr/>
          <p:nvPr/>
        </p:nvPicPr>
        <p:blipFill>
          <a:blip r:embed="rId3"/>
          <a:stretch/>
        </p:blipFill>
        <p:spPr>
          <a:xfrm>
            <a:off x="5000760" y="1643040"/>
            <a:ext cx="3786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Arial Black"/>
              </a:rPr>
              <a:t>О технике, которая решала многое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"Участие в разгроме фашизма - самая благородная и великая задача, которая когда-либо стояла перед наукой …"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В.Л.Комаров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президента АН в годы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 Black"/>
              </a:rPr>
              <a:t>«Вместо эпилога»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ейчас , по прошествии 78 лет с момента окончания войны , это событие и сама война лучше видятся с далекого расстояния , о них много написано , многое осмыслено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умается : справедливо считать , что салют Победы , состоявшийся 9 мая 1945 года , славил подвиг всех людей страны – тех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с оружием в руках в смертельной схватке с врагом отстоял свободу и независимость нашей Отчизны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варил сталь , изготовлял снаряды , строил танки и самолеты, кто делал оружие Победы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не жалея сил , день и ночь трудился в тылу на благо фронта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создавал вооружение – ученых, конструкторов , исследователей, деятелей техники. Это благодаря их труду , знаниям , практическому опыту и полету творческой мысли рождались в небывало короткие сроки проекты новой боевой техники, призванной громить врага, и совершенствовалась техника уже имеющаяс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трана салютовала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 Black"/>
              </a:rPr>
              <a:t>"Грозное лето 41-го"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Работали на победу не только взрослые , но и подростки. Вот, вспоминал преподаватель МГУ, автор школьных учебников физики Б.Б.Буховцев: «В июне 1941г. сдав экзамены за 8 класс , я перешел в девятый. А через несколько дней мирная жизнь всех советских людей была прервана. Нападение фашистской Германии на нашу страну изменила и мою судьбу. О продолжении учебы нечего было и думать : стране нужны были рабочие . И я пошел на завод , почти полтора года работал токарем. В 1943г. , когда мне исполнилось 18 лет , был призван в ряды Советской Армии . Попал в гвардейские минометные части , на вооружении которых находились орудия , зашифрованные загадочными буквами РС(ракетные системы)и оказавшиеся грозными «катюшами»… Полк, с которым я выехал потом на фронт, сражался на Курской дуге…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Arial Black"/>
              </a:rPr>
              <a:t>Война пришла в Белевский райо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Белёве фашисты уничтожили 1160 жилых домов, сушильный завод, винный завод, железнодорожный вокзал, депо, городскую электростанцию, водопровод, кинотеатр, Дом культуры, больницу и поликлинику. В сельской местности было разрушено и сожжено 32 школы, 12 клубов, 29 библиотек. Было уничтожено 78 селений, 3687 домов колхозников. Фашисты расстреляли и замучили 123 жителя района, а около 4,5 тысяч человек угнали в плен в Германию. Было потеряно 16980 голов крупного рогатого скота, много продовольственных продуктов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бщий ущерб, принесенный городу и району, составил 55 млн. рублей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e103"/>
                </a:solidFill>
                <a:latin typeface="Arial Black"/>
              </a:rPr>
              <a:t>1943 г. </a:t>
            </a:r>
            <a:endParaRPr b="0" lang="en-US" sz="69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8072280" cy="501984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1000080" y="157176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оенная промышленность Советского Союза дала фронту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29,9 тыс. самолетов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24,1 тыс. танков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130,3 тыс. орудий всех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и превзошла Германию по производству основных видов боевой техники, оружия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Ж.Я.Котин -выдающийся конструктор бронетанковой техники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00320" y="4785840"/>
            <a:ext cx="514332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-2 самым мощным и наиболе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яжелобронированным из советски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ерийных танков периода войны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лщина брони была 90-120 мм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развиваемая скорость — до 52 км/ч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0" name="Рисунок 3" descr="C:\Documents and Settings\Учитель\Рабочий стол\танки Гаврилюк\ИС-2.jpg"/>
          <p:cNvPicPr/>
          <p:nvPr/>
        </p:nvPicPr>
        <p:blipFill>
          <a:blip r:embed="rId1"/>
          <a:stretch/>
        </p:blipFill>
        <p:spPr>
          <a:xfrm>
            <a:off x="3786120" y="1714680"/>
            <a:ext cx="4646520" cy="300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785880" y="2093760"/>
            <a:ext cx="2739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Н.А.Астров - ведущий</a:t>
            </a:r>
            <a:r>
              <a:rPr b="0" lang="ru-RU" sz="18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разработчик  лёгких танков военного периода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43200" y="4929120"/>
            <a:ext cx="5500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-60 отличался мощным вооружением, усиленным бронированием, меньшей высотой машины. Танк развивал скорость до 42 км/ч. Небольшой вес машины позволял уверенно передвигаться по льд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4" name="Рисунок 3" descr="C:\Documents and Settings\Учитель\Рабочий стол\танки Гаврилюк\Т-60.jpg"/>
          <p:cNvPicPr/>
          <p:nvPr/>
        </p:nvPicPr>
        <p:blipFill>
          <a:blip r:embed="rId1"/>
          <a:stretch/>
        </p:blipFill>
        <p:spPr>
          <a:xfrm>
            <a:off x="4357800" y="1785960"/>
            <a:ext cx="4100400" cy="3073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29638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85840" y="5143320"/>
            <a:ext cx="850104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 Black"/>
              </a:rPr>
              <a:t>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Т-37А - советский малый плавающий танк. Для обеспечения плавучести танк был оснащен дополнительными поплавками, размещенными вдоль бортов корпуса. Развивал скорость на суше до 40 км/ч, а на плаву - до 6 км/ч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100008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103"/>
                </a:solidFill>
                <a:latin typeface="Arial Black"/>
              </a:rPr>
              <a:t>Н.Н. Козырев - ведущий инженер КБ Завода № 37 г.Москвы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1"/>
          <a:stretch/>
        </p:blipFill>
        <p:spPr>
          <a:xfrm>
            <a:off x="4624560" y="2143080"/>
            <a:ext cx="4227480" cy="2428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38577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С.А.Гинзбург - советский конструктор бронетехники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42960" y="5084280"/>
            <a:ext cx="8786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гнеметный танк ОТ-130. Дальность огнеметания 35-50 метров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гнеметные танки ОТ-130 использовались в боях на реке Халхин-Гол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Рисунок 3" descr="C:\Documents and Settings\Учитель\Рабочий стол\танки Гаврилюк\ОТ-130.jpg"/>
          <p:cNvPicPr/>
          <p:nvPr/>
        </p:nvPicPr>
        <p:blipFill>
          <a:blip r:embed="rId1"/>
          <a:stretch/>
        </p:blipFill>
        <p:spPr>
          <a:xfrm>
            <a:off x="785880" y="2143080"/>
            <a:ext cx="3608280" cy="2714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59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000320" y="4220640"/>
            <a:ext cx="51433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T-34 - самый массовый средний танк Второй мировой войны. Отличается оптимальным соотношением между основными боевыми, эксплуатационными и технологическими характеристиками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714240" y="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103"/>
                </a:solidFill>
                <a:latin typeface="Arial Black"/>
              </a:rPr>
              <a:t>А. А. Морозов – главный конструктор КБ Уральского танкового завода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6" name="Picture 6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3143520" cy="4237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"/>
          <p:cNvPicPr/>
          <p:nvPr/>
        </p:nvPicPr>
        <p:blipFill>
          <a:blip r:embed="rId2"/>
          <a:stretch/>
        </p:blipFill>
        <p:spPr>
          <a:xfrm>
            <a:off x="4643280" y="1857240"/>
            <a:ext cx="38815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лександр Сергеевич Яковлев- конструктор самолета Як-3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9" name="Picture 4" descr="А.С.Яковлев"/>
          <p:cNvPicPr/>
          <p:nvPr/>
        </p:nvPicPr>
        <p:blipFill>
          <a:blip r:embed="rId1"/>
          <a:stretch/>
        </p:blipFill>
        <p:spPr>
          <a:xfrm>
            <a:off x="887400" y="2335320"/>
            <a:ext cx="2514600" cy="3274920"/>
          </a:xfrm>
          <a:prstGeom prst="rect">
            <a:avLst/>
          </a:prstGeom>
          <a:ln w="0">
            <a:noFill/>
          </a:ln>
        </p:spPr>
      </p:pic>
      <p:pic>
        <p:nvPicPr>
          <p:cNvPr id="470" name="i-main-pic" descr="Картинка 4 из 768"/>
          <p:cNvPicPr/>
          <p:nvPr/>
        </p:nvPicPr>
        <p:blipFill>
          <a:blip r:embed="rId2"/>
          <a:stretch/>
        </p:blipFill>
        <p:spPr>
          <a:xfrm>
            <a:off x="4211640" y="1989000"/>
            <a:ext cx="3852720" cy="28861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7"/>
          <p:cNvSpPr/>
          <p:nvPr/>
        </p:nvSpPr>
        <p:spPr>
          <a:xfrm>
            <a:off x="4356000" y="50882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Самый легкий (всего 2650 кг) и маневренный истребитель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4:50:52Z</dcterms:created>
  <dc:creator>Natali</dc:creator>
  <dc:description/>
  <dc:language>en-US</dc:language>
  <cp:lastModifiedBy>PS</cp:lastModifiedBy>
  <dcterms:modified xsi:type="dcterms:W3CDTF">2023-12-14T15:47:49Z</dcterms:modified>
  <cp:revision>49</cp:revision>
  <dc:subject/>
  <dc:title>Слайд 1</dc:title>
</cp:coreProperties>
</file>