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48F-3F1A-40F6-8F2D-55BFB397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15E-B07D-4B79-AEDE-02DDC7D4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4A2-5A99-4C59-940C-B17333F8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FCE-6482-41C5-9970-21010213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F4D-E37F-4559-8C3C-E7C19BFA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C8E-5132-417C-8AC5-6B3E40B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6DF-F72A-4591-B32A-D67DF9C5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9A6-D509-4868-B902-83ACBD17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399-CE0E-4F33-A531-090E17BA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A35-9F35-4FC0-AEB7-D2DDFC1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6FE-23BF-4D49-BBED-1AAD81A9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6F2-0065-49A8-A3E8-26134089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17A7-77D2-483C-A326-4782ACCE8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sun9-9.userapi.com/c849120/v849120017/98869/S1GcVqbRX3g.jpg"/>
          <p:cNvPicPr/>
          <p:nvPr/>
        </p:nvPicPr>
        <p:blipFill>
          <a:blip r:embed="rId1"/>
          <a:stretch/>
        </p:blipFill>
        <p:spPr>
          <a:xfrm>
            <a:off x="1476360" y="189000"/>
            <a:ext cx="6335640" cy="63356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sun9-30.userapi.com/c847018/v847018017/1156cc/Inct-U792pU.jpg"/>
          <p:cNvPicPr/>
          <p:nvPr/>
        </p:nvPicPr>
        <p:blipFill>
          <a:blip r:embed="rId1"/>
          <a:stretch/>
        </p:blipFill>
        <p:spPr>
          <a:xfrm>
            <a:off x="1332000" y="189000"/>
            <a:ext cx="6472080" cy="647208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sun9-19.userapi.com/c847018/v847018017/1156d6/5YgfoG3pwvc.jpg"/>
          <p:cNvPicPr/>
          <p:nvPr/>
        </p:nvPicPr>
        <p:blipFill>
          <a:blip r:embed="rId1"/>
          <a:stretch/>
        </p:blipFill>
        <p:spPr>
          <a:xfrm>
            <a:off x="1179360" y="260280"/>
            <a:ext cx="6337440" cy="63374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sun9-49.userapi.com/c847018/v847018017/1156e0/iPzzy-ogKs4.jpg"/>
          <p:cNvPicPr/>
          <p:nvPr/>
        </p:nvPicPr>
        <p:blipFill>
          <a:blip r:embed="rId1"/>
          <a:stretch/>
        </p:blipFill>
        <p:spPr>
          <a:xfrm>
            <a:off x="1403280" y="260280"/>
            <a:ext cx="6257880" cy="625788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sun9-68.userapi.com/c847018/v847018017/1156ea/YP2lWsOI6N8.jpg"/>
          <p:cNvPicPr/>
          <p:nvPr/>
        </p:nvPicPr>
        <p:blipFill>
          <a:blip r:embed="rId1"/>
          <a:stretch/>
        </p:blipFill>
        <p:spPr>
          <a:xfrm>
            <a:off x="1539720" y="189000"/>
            <a:ext cx="6337440" cy="63356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sun9-43.userapi.com/c847018/v847018017/1156f4/HalBZ3yj3Yg.jpg"/>
          <p:cNvPicPr/>
          <p:nvPr/>
        </p:nvPicPr>
        <p:blipFill>
          <a:blip r:embed="rId1"/>
          <a:stretch/>
        </p:blipFill>
        <p:spPr>
          <a:xfrm>
            <a:off x="1612800" y="189000"/>
            <a:ext cx="6191280" cy="619272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sun9-66.userapi.com/c847018/v847018017/1156fe/zkVyGpNO_5E.jpg"/>
          <p:cNvPicPr/>
          <p:nvPr/>
        </p:nvPicPr>
        <p:blipFill>
          <a:blip r:embed="rId1"/>
          <a:stretch/>
        </p:blipFill>
        <p:spPr>
          <a:xfrm>
            <a:off x="1332000" y="189000"/>
            <a:ext cx="6329160" cy="632916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0T05:46:49Z</dcterms:created>
  <dc:creator>Елена</dc:creator>
  <dc:description/>
  <dc:language>en-US</dc:language>
  <cp:lastModifiedBy>Елена Берюхова</cp:lastModifiedBy>
  <dcterms:modified xsi:type="dcterms:W3CDTF">2023-12-05T14:28:58Z</dcterms:modified>
  <cp:revision>3</cp:revision>
  <dc:subject/>
  <dc:title>Слайд 1</dc:title>
</cp:coreProperties>
</file>