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3570-C9B0-4698-B49A-33A17C8E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9F6-D45C-4671-845D-D4323E30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C91-587D-494B-9545-3A9D9207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1B16-9F44-414A-8AD0-4E263977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DB7-3C69-49AC-9EEE-EC591263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043-076F-4F4C-A0F0-0FF39371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9A8B-EAA9-4E74-9BB7-CE119038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6CBF-1D59-4597-969C-2BEE55C8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B0D-4699-4A48-9A3C-A7E9F0B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439B-1181-4A39-A65A-D33584B5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BBE-3918-4A0D-B449-1C9CD942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5C1-0AD9-469E-BD62-5191B12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111D-3376-437D-B871-8BBB026514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un9-9.userapi.com/c849120/v849120017/98869/S1GcVqbRX3g.jpg"/>
          <p:cNvPicPr/>
          <p:nvPr/>
        </p:nvPicPr>
        <p:blipFill>
          <a:blip r:embed="rId1"/>
          <a:stretch/>
        </p:blipFill>
        <p:spPr>
          <a:xfrm>
            <a:off x="1476360" y="189000"/>
            <a:ext cx="6335640" cy="63356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sun9-30.userapi.com/c847018/v847018017/1156cc/Inct-U792pU.jpg"/>
          <p:cNvPicPr/>
          <p:nvPr/>
        </p:nvPicPr>
        <p:blipFill>
          <a:blip r:embed="rId1"/>
          <a:stretch/>
        </p:blipFill>
        <p:spPr>
          <a:xfrm>
            <a:off x="1332000" y="189000"/>
            <a:ext cx="6472080" cy="647208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s://sun9-19.userapi.com/c847018/v847018017/1156d6/5YgfoG3pwvc.jpg"/>
          <p:cNvPicPr/>
          <p:nvPr/>
        </p:nvPicPr>
        <p:blipFill>
          <a:blip r:embed="rId1"/>
          <a:stretch/>
        </p:blipFill>
        <p:spPr>
          <a:xfrm>
            <a:off x="1179360" y="260280"/>
            <a:ext cx="6337440" cy="63374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s://sun9-49.userapi.com/c847018/v847018017/1156e0/iPzzy-ogKs4.jpg"/>
          <p:cNvPicPr/>
          <p:nvPr/>
        </p:nvPicPr>
        <p:blipFill>
          <a:blip r:embed="rId1"/>
          <a:stretch/>
        </p:blipFill>
        <p:spPr>
          <a:xfrm>
            <a:off x="1403280" y="260280"/>
            <a:ext cx="6257880" cy="625788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sun9-68.userapi.com/c847018/v847018017/1156ea/YP2lWsOI6N8.jpg"/>
          <p:cNvPicPr/>
          <p:nvPr/>
        </p:nvPicPr>
        <p:blipFill>
          <a:blip r:embed="rId1"/>
          <a:stretch/>
        </p:blipFill>
        <p:spPr>
          <a:xfrm>
            <a:off x="1539720" y="189000"/>
            <a:ext cx="6337440" cy="633564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sun9-43.userapi.com/c847018/v847018017/1156f4/HalBZ3yj3Yg.jpg"/>
          <p:cNvPicPr/>
          <p:nvPr/>
        </p:nvPicPr>
        <p:blipFill>
          <a:blip r:embed="rId1"/>
          <a:stretch/>
        </p:blipFill>
        <p:spPr>
          <a:xfrm>
            <a:off x="1612800" y="189000"/>
            <a:ext cx="6191280" cy="619272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sun9-66.userapi.com/c847018/v847018017/1156fe/zkVyGpNO_5E.jpg"/>
          <p:cNvPicPr/>
          <p:nvPr/>
        </p:nvPicPr>
        <p:blipFill>
          <a:blip r:embed="rId1"/>
          <a:stretch/>
        </p:blipFill>
        <p:spPr>
          <a:xfrm>
            <a:off x="1332000" y="189000"/>
            <a:ext cx="6329160" cy="6329160"/>
          </a:xfrm>
          <a:prstGeom prst="rect">
            <a:avLst/>
          </a:prstGeom>
          <a:ln cap="sq" w="38160">
            <a:solidFill>
              <a:srgbClr val="0070c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10T05:46:49Z</dcterms:created>
  <dc:creator>Елена</dc:creator>
  <dc:description/>
  <dc:language>en-US</dc:language>
  <cp:lastModifiedBy>Елена Берюхова</cp:lastModifiedBy>
  <dcterms:modified xsi:type="dcterms:W3CDTF">2023-12-05T14:28:58Z</dcterms:modified>
  <cp:revision>3</cp:revision>
  <dc:subject/>
  <dc:title>Слайд 1</dc:title>
</cp:coreProperties>
</file>