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E85-D43F-49CD-8AD4-2D0EFDCA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25A-7A8F-4E5A-B61E-4EBB2AE7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E68-C8C7-46DB-B859-FF749B9F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AA8-09BD-475A-8DC6-207077FA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D8FE-0E83-4E6B-8B4E-B16F9A47F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9FA8-BEA3-4DD0-8093-4C834290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5802-3CFA-411A-8FD2-11544CBB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FD41-F97E-49BF-B718-B1FEF5E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3C4A-4C69-4CEB-9A22-0C278D20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83E1-0197-4E88-A540-5CFE04C0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C22B-1D77-490E-85EC-FFD11F29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8C48-9701-4A9B-9BE1-0ACAB06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7C3C-4314-4796-B3A2-A4553D07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DFFE-1720-4401-95A2-643F0512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9010-DBD1-4608-B995-8074D616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3099-FC8A-4211-BDAA-92D84BCA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17DA-53CD-411F-B87E-5E076280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3054D-954E-4187-A2AF-15307610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5D17F-7252-442D-A7D9-65326C78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3D0B-901B-4778-BF1C-5B21AAD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6848-DC68-41A3-8559-4F3BF241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3BF08-02EA-46AE-9D07-C251E466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D534-D352-47D8-A7E9-A46E6055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F6F26-D2EE-45CF-BA0C-3C797DCD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C43C-C7FF-41B4-9A0A-ACB82DD9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24C5-08C4-4AAC-82BF-D4D0959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18C3-C064-4F65-929B-B74A34A9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18D0-DC15-49DB-9B96-97A66540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C9FD-3D0F-470A-B6D0-6D26820F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72DB-93D1-4258-B9BF-2F596B1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4D66F-C9F5-4221-AA94-E3B3C2A2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F320A-8AB7-4537-93D2-833C3FE1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2A057-42EB-4BF2-990A-AC6E7876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487-CE0F-4AE7-AED4-D7F3C074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E84BF-76A5-4359-85AE-9FE45E80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8F5F3-3B11-40E5-9FC7-1DA3F362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45CEC-29D5-4E37-BD0E-163E6C31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B05A-9F65-445F-BA10-7F14E1A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AF500-A45B-4584-B965-5894A714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0B0D7-6E94-42B2-BBDC-7C800FD6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9063-E1F6-4B38-A4C1-7F71E105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F530-9450-4D86-B663-E1C165E7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D69CB-7807-4057-BC94-93AB6382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9764-FC3E-495D-8E56-3F1A10A4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9F81-E623-4422-94C3-42E2BF69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BFE-7AC6-48BF-95B6-AC16A963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556-A9D1-4CC1-AFF3-D1C8DA8B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DCE7-0890-4DB8-9422-B4192163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3D0B02-7873-49C9-9361-A9239830A6B9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B2B28F-01F6-4616-8782-46A8DED7971B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B16C69-EAA4-4E63-B096-1DF46EC132FC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857AE-3329-4639-8E17-0BBEC11367FA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FB0FA-24E5-4D29-A701-14597CAD5FBB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B7C267-15C5-4F13-ABDD-B475DBE97051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CB513-B851-4E37-B80A-B0FFDE6F5D55}" type="datetime">
              <a:rPr b="0" lang="ru-RU" sz="1000" spc="-1" strike="noStrike">
                <a:solidFill>
                  <a:srgbClr val="0a304a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800" spc="-1" strike="noStrike">
                <a:solidFill>
                  <a:srgbClr val="0a30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725591-9067-4B7A-8709-58EE4003AA5A}" type="slidenum">
              <a:rPr b="0" lang="ru-RU" sz="2800" spc="-1" strike="noStrike">
                <a:solidFill>
                  <a:srgbClr val="0a304a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95640" y="2130120"/>
            <a:ext cx="4462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entury Gothic"/>
              </a:rPr>
              <a:t>АННА АХМАТОВА</a:t>
            </a:r>
            <a:r>
              <a:rPr b="1" lang="ru-RU" sz="44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51a1b"/>
                </a:solidFill>
                <a:latin typeface="Century Gothic"/>
              </a:rPr>
              <a:t>Жизнь и творчество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194" name="Picture 7" descr="11"/>
          <p:cNvPicPr/>
          <p:nvPr/>
        </p:nvPicPr>
        <p:blipFill>
          <a:blip r:embed="rId1"/>
          <a:stretch/>
        </p:blipFill>
        <p:spPr>
          <a:xfrm>
            <a:off x="179280" y="260280"/>
            <a:ext cx="324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D1CCE-ACAF-4D6D-A879-BB6618842B9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5B9EB-BE1A-46E5-BD77-813464E335C3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8" name="Picture 4" descr="ahmatova_01"/>
          <p:cNvPicPr/>
          <p:nvPr/>
        </p:nvPicPr>
        <p:blipFill>
          <a:blip r:embed="rId1"/>
          <a:stretch/>
        </p:blipFill>
        <p:spPr>
          <a:xfrm>
            <a:off x="755640" y="765000"/>
            <a:ext cx="3892680" cy="56358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4"/>
          <p:cNvSpPr/>
          <p:nvPr/>
        </p:nvSpPr>
        <p:spPr>
          <a:xfrm>
            <a:off x="5219640" y="1341360"/>
            <a:ext cx="345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В 1921 году арестован Николай Гумилё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В 30-е годы арестован сын Анны Ахматовой, Лев Гумилёв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E467F-A0BC-4468-9454-A397DCE847B4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03BB9-A665-4CB3-B517-4C020563D496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Picture 5" descr="Ahmatova"/>
          <p:cNvPicPr/>
          <p:nvPr/>
        </p:nvPicPr>
        <p:blipFill>
          <a:blip r:embed="rId1"/>
          <a:stretch/>
        </p:blipFill>
        <p:spPr>
          <a:xfrm>
            <a:off x="468360" y="1413000"/>
            <a:ext cx="3743280" cy="518472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4"/>
          <p:cNvSpPr/>
          <p:nvPr/>
        </p:nvSpPr>
        <p:spPr>
          <a:xfrm>
            <a:off x="4859280" y="1268280"/>
            <a:ext cx="360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о время Великой Отечественной войны Анна Ахматова оставалась в блокадном Ленинград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Эвакуация в Ташкен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1944 году вернулась в освобождённый Ленинград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427C0-60B7-4C11-8936-DE07B394284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EB3A0-8AA7-4E9C-A012-809D9B703308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6" name="Picture 4" descr="ahmatova2"/>
          <p:cNvPicPr/>
          <p:nvPr/>
        </p:nvPicPr>
        <p:blipFill>
          <a:blip r:embed="rId1"/>
          <a:stretch/>
        </p:blipFill>
        <p:spPr>
          <a:xfrm>
            <a:off x="468360" y="1268280"/>
            <a:ext cx="3887640" cy="536112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4"/>
          <p:cNvSpPr/>
          <p:nvPr/>
        </p:nvSpPr>
        <p:spPr>
          <a:xfrm>
            <a:off x="4788000" y="2205000"/>
            <a:ext cx="388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41-1945 – ЦИКЛ СТИХОТВОРЕНИЙ «МУЖЕСТВО», ПОСВЯЩЁННЫЙ ЗАЩИТНИКАМ ЛЕНИНГРАД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78FEE9-7709-4F6A-B2FF-B493F54C3450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68274-6E66-41A5-AC15-98040CDB7A80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0" name="Picture 6" descr="110"/>
          <p:cNvPicPr/>
          <p:nvPr/>
        </p:nvPicPr>
        <p:blipFill>
          <a:blip r:embed="rId1"/>
          <a:stretch/>
        </p:blipFill>
        <p:spPr>
          <a:xfrm>
            <a:off x="250920" y="1268280"/>
            <a:ext cx="3889440" cy="51325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4"/>
          <p:cNvSpPr/>
          <p:nvPr/>
        </p:nvSpPr>
        <p:spPr>
          <a:xfrm>
            <a:off x="4859280" y="1989000"/>
            <a:ext cx="3745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46  год – НЕСПРАВЕД-  ЛИВАЯ КРИТИКА, ОТЛУЧЕНИЕ ОТ ЛИТЕРАТУРЫ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4791F-BFE9-4246-8289-5DADF770A0E9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378CD7-7F8A-43B6-8821-CF4DE01B6730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4" name="Picture 4" descr="g_4"/>
          <p:cNvPicPr/>
          <p:nvPr/>
        </p:nvPicPr>
        <p:blipFill>
          <a:blip r:embed="rId1"/>
          <a:stretch/>
        </p:blipFill>
        <p:spPr>
          <a:xfrm>
            <a:off x="468360" y="907920"/>
            <a:ext cx="4174920" cy="561672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4"/>
          <p:cNvSpPr/>
          <p:nvPr/>
        </p:nvSpPr>
        <p:spPr>
          <a:xfrm>
            <a:off x="5076720" y="83664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0  год  -  ВОЗВРАЩЕНИЕ           А. АХМАТОВОЙ В ЛИТЕРАТУРУ, ПУБЛИКАЦ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6  год – ПОЧЁТНАЯ СТЕПЕНЬ ДОКТОРА ЛИТЕРАТУРЫ ОКСФОРДСКОГО УНИВЕРСИТЕТ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64 год –  лауреат Итальянской премии « ЭТНА – ТАОРМИНА»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9EE80-49F8-4E8E-82A6-B254ED9E7410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E29DA-268D-4D0D-89BD-0CBF790B2C2A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4" descr="g_3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500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4"/>
          <p:cNvSpPr/>
          <p:nvPr/>
        </p:nvSpPr>
        <p:spPr>
          <a:xfrm>
            <a:off x="4716360" y="1052640"/>
            <a:ext cx="324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50-е – «ПОЭМА БЕЗ ГЕРОЯ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«ПУТЁМ ВСЕЯ ЗЕМЛ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ЦИКЛ «СЕВЕРНЫЕ ЭЛЕГИ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«РЕКВИЕМ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6E78C-F077-4C1B-9347-AF2BE5B08E0F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10A0B-A0BC-4978-A2F3-14B7CE400E29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2" name="Picture 4" descr="17_104"/>
          <p:cNvPicPr/>
          <p:nvPr/>
        </p:nvPicPr>
        <p:blipFill>
          <a:blip r:embed="rId1"/>
          <a:srcRect l="0" t="0" r="0" b="8399"/>
          <a:stretch/>
        </p:blipFill>
        <p:spPr>
          <a:xfrm>
            <a:off x="468360" y="1052640"/>
            <a:ext cx="3959280" cy="54244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4"/>
          <p:cNvSpPr/>
          <p:nvPr/>
        </p:nvSpPr>
        <p:spPr>
          <a:xfrm>
            <a:off x="4932360" y="1197000"/>
            <a:ext cx="3527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 80-е  годы </a:t>
            </a:r>
            <a:r>
              <a:rPr b="1" lang="en-US" sz="2400" spc="-1" strike="noStrike">
                <a:solidFill>
                  <a:srgbClr val="951a1b"/>
                </a:solidFill>
                <a:latin typeface="Arial"/>
              </a:rPr>
              <a:t>XX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века творчество А.Ахматовой стало широко известно на Родин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Массовыми тиражами издавались сборники стихотворени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ышел из забвения «Реквием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C59EE-A469-4878-BF40-CF422429039E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4708F5-A8C6-49C0-85D6-888D979B5EAA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6" name="Picture 5" descr="g_10"/>
          <p:cNvPicPr/>
          <p:nvPr/>
        </p:nvPicPr>
        <p:blipFill>
          <a:blip r:embed="rId1"/>
          <a:stretch/>
        </p:blipFill>
        <p:spPr>
          <a:xfrm>
            <a:off x="395280" y="105264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4"/>
          <p:cNvSpPr/>
          <p:nvPr/>
        </p:nvSpPr>
        <p:spPr>
          <a:xfrm>
            <a:off x="5148360" y="836640"/>
            <a:ext cx="381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В  1965 году вышел последний прижизненный сборник стихов Ахматовой « Бег времени», вызвавший восторг многочисленных почитателей – к тому времени она была уже живой легендой»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За рубежом её встречали как «Сафо из России»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D4BB18-4860-473E-AD71-68D15D35BBBE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EFDA03-E976-4041-9C65-592F436584B2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5003640" y="1125360"/>
            <a:ext cx="3456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Поэзия Ахматовой – это свет, светящий во тьме, и которого тьме не объять..»                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951a1b"/>
                </a:solidFill>
                <a:latin typeface="Arial"/>
              </a:rPr>
              <a:t>А.Шмеман</a:t>
            </a:r>
            <a:r>
              <a:rPr b="0" lang="ru-RU" sz="3200" spc="-1" strike="noStrike">
                <a:solidFill>
                  <a:srgbClr val="951a1b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1" name="Picture 4" descr="g_9"/>
          <p:cNvPicPr/>
          <p:nvPr/>
        </p:nvPicPr>
        <p:blipFill>
          <a:blip r:embed="rId1"/>
          <a:stretch/>
        </p:blipFill>
        <p:spPr>
          <a:xfrm>
            <a:off x="250920" y="692280"/>
            <a:ext cx="4392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25D43-743A-44FF-A619-963FB4AE9F58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94AA2-E8E6-4220-84E8-DACB960A4BD5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Picture 4" descr="Anna_Ahmatova's_grave"/>
          <p:cNvPicPr/>
          <p:nvPr/>
        </p:nvPicPr>
        <p:blipFill>
          <a:blip r:embed="rId1"/>
          <a:stretch/>
        </p:blipFill>
        <p:spPr>
          <a:xfrm>
            <a:off x="250920" y="1628640"/>
            <a:ext cx="5581440" cy="475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6012000" y="1557360"/>
            <a:ext cx="295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5 марта  1966 года   А. АХМАТОВА УМЕРЛА В ПОДМОСКОВНОМ САНАТОРИИ, ПОХОРОНЕНА В КОМАРОВЕ ПОД ЛЕНИНГРАДОМ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FDBC9-8EB8-4FE0-A3C9-A997E8964B1F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71CC1-EA06-49CD-B55C-5877B13C3346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Прямоугольник 3"/>
          <p:cNvSpPr/>
          <p:nvPr/>
        </p:nvSpPr>
        <p:spPr>
          <a:xfrm>
            <a:off x="3995640" y="692280"/>
            <a:ext cx="4392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Ахматова Анна Андреевна (настоящая фамилия — Горенко) родилась в семье морского инженера, капитана 2-го ранга в отставке на ст. Большой Фонтан под Одессой. Через год после рождения дочери семья переехала в Царское Село. Здесь Ахматова стала ученицей Мариинской гимназии, но каждое лето проводила под Севастополем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Picture 7" descr="4"/>
          <p:cNvPicPr/>
          <p:nvPr/>
        </p:nvPicPr>
        <p:blipFill>
          <a:blip r:embed="rId1"/>
          <a:stretch/>
        </p:blipFill>
        <p:spPr>
          <a:xfrm>
            <a:off x="250920" y="1676520"/>
            <a:ext cx="33843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709B15-225A-45DA-BB52-CDA26F2A6574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92EBC-1EB2-4BFE-839A-BCED97BE0F9A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286000" y="105264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Прямоугольник 4"/>
          <p:cNvSpPr/>
          <p:nvPr/>
        </p:nvSpPr>
        <p:spPr>
          <a:xfrm>
            <a:off x="971640" y="25509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ttp://ru.wikipedia.org/wi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1042920" y="3357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litera.ru/stixiya/authors/axmatova/all.htm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Прямоугольник 6"/>
          <p:cNvSpPr/>
          <p:nvPr/>
        </p:nvSpPr>
        <p:spPr>
          <a:xfrm>
            <a:off x="971640" y="4581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images.yandex.ru/yandsearch?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17A02-156E-40A0-9523-234F94DEFEEF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A1CFA5-7EEB-41DC-A524-05BFF80C3947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Прямоугольник 3"/>
          <p:cNvSpPr/>
          <p:nvPr/>
        </p:nvSpPr>
        <p:spPr>
          <a:xfrm>
            <a:off x="4572000" y="836640"/>
            <a:ext cx="42480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07 –АННА АХМАТОВА  НАЧИНАЕТ ПЕЧАТАТЬСЯ, ПРИМКНУВ К ГРУППЕ АКМЕИСТОВ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07г-  ПЕРВЫЕ ПУБЛИКАЦИ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10 – ВЫШЛА ЗАМУЖ ЗА ПОЭТА НИКОЛАЯ ГУМИЛЁВ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51a1b"/>
                </a:solidFill>
                <a:latin typeface="Arial"/>
              </a:rPr>
              <a:t>1910-1912 – ПУТЕШЕСТВИЕ ПО ГЕРМАНИИ, ИТАЛИИ, ФРАНЦИИ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8163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2C2B5-5C43-4816-AC63-1A583C4B01CD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EC4B6-F4D6-412B-BFB6-40EEB7D696BE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17220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1979640" y="6922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Лев Гумилёв и Анна Ахматов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7587F9-D81F-4903-9135-296213B8405D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E0AEA-AA87-4591-B055-506C220A13BF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1908000" y="549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.Гумилёв и А. Ахматова с сыном Львом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0" name="Picture 4" descr="ahmatova_126"/>
          <p:cNvPicPr/>
          <p:nvPr/>
        </p:nvPicPr>
        <p:blipFill>
          <a:blip r:embed="rId1"/>
          <a:stretch/>
        </p:blipFill>
        <p:spPr>
          <a:xfrm>
            <a:off x="1295280" y="1268280"/>
            <a:ext cx="66294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AECC4A-21AA-441E-8023-F9A5EE564484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21968-1E3D-45B1-8356-D5621A68984B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572000" y="836640"/>
            <a:ext cx="432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12г- ПЕРВЫЙ СБОРНИК СТИХОВ «ВЕЧЕР»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 С ПРЕДИСЛОВИЕМ М. КУЗМИНА. СТИХИ ЭТОЙ КНИГИ ПОСЛУЖИЛИ В ОПРЕДЕЛЁННОЙ МЕРЕ РАЗВИТИЮ ТЕОРЕТИЧЕСКИХ ПОЛОЖЕНИЙ АКМЕИЗМА, НОСИЛИ ХАРАКТЕР ДНЕВНИКОВЫХ ЗАПИСЕЙ, БЫЛИ ПРОНИКНУТЫ МОТИВАМИ ГРУСТИ И ОДИНОЧЕСТВ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74A56-B924-411D-A7C1-16D7A09DF64C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B45E2-EA5C-49ED-B555-B883836966B1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4643280" y="1413000"/>
            <a:ext cx="4249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14г- СБОРНИК «ЧЁТКИ», </a:t>
            </a: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К </a:t>
            </a:r>
            <a:r>
              <a:rPr b="1" lang="en-US" sz="2800" spc="-1" strike="noStrike">
                <a:solidFill>
                  <a:srgbClr val="951a1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А.АХМАТОВОЙ ПРИШЛА ПОДЛИННАЯ ИЗВЕСТНОСТЬ.</a:t>
            </a:r>
            <a:br>
              <a:rPr sz="2800"/>
            </a:br>
            <a:r>
              <a:rPr b="1" lang="ru-RU" sz="2800" spc="-1" strike="noStrike">
                <a:solidFill>
                  <a:srgbClr val="951a1b"/>
                </a:solidFill>
                <a:latin typeface="Arial"/>
              </a:rPr>
              <a:t>1917г- КНИГА «БЕЛАЯ СТАЯ»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9" descr="g_2"/>
          <p:cNvPicPr/>
          <p:nvPr/>
        </p:nvPicPr>
        <p:blipFill>
          <a:blip r:embed="rId1"/>
          <a:stretch/>
        </p:blipFill>
        <p:spPr>
          <a:xfrm>
            <a:off x="395280" y="1484280"/>
            <a:ext cx="3745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7E6103-F894-43EA-9818-BE49976CB8E6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F9BA5-0F65-4F63-93B4-5F2F823ABC5E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4788000" y="692280"/>
            <a:ext cx="403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18-1923г- ПОЭЗИЯ АХМАТОВОЙ ИМЕЕТ БОЛЬШОЙ УСПЕХ: СБОРНИКИ «ПОДОРОЖНИК», «</a:t>
            </a:r>
            <a:r>
              <a:rPr b="1" lang="en-US" sz="2400" spc="-1" strike="noStrike">
                <a:solidFill>
                  <a:srgbClr val="951a1b"/>
                </a:solidFill>
                <a:latin typeface="Arial"/>
              </a:rPr>
              <a:t>ANNO DOMINI</a:t>
            </a: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».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С СЕРЕДИНЫ 20-х ГОДОВ – МНОГОЛЕТНЕЕ МОЛЧАНИЕ.</a:t>
            </a:r>
            <a:br>
              <a:rPr sz="2400"/>
            </a:br>
            <a:r>
              <a:rPr b="1" lang="ru-RU" sz="2400" spc="-1" strike="noStrike">
                <a:solidFill>
                  <a:srgbClr val="951a1b"/>
                </a:solidFill>
                <a:latin typeface="Arial"/>
              </a:rPr>
              <a:t>1936 -1940 – СТИХИ В РАЗНЫХ ИЗДАНИЯХ, СБОРНИК «ИЗ ШЕСТИ КНИГ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Picture 4" descr="Ahm2"/>
          <p:cNvPicPr/>
          <p:nvPr/>
        </p:nvPicPr>
        <p:blipFill>
          <a:blip r:embed="rId1"/>
          <a:stretch/>
        </p:blipFill>
        <p:spPr>
          <a:xfrm>
            <a:off x="304920" y="1916280"/>
            <a:ext cx="41958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Дата 1"/>
          <p:cNvSpPr/>
          <p:nvPr/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9B080-4FF4-4823-B4BA-60143B84A7A7}" type="datetime"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Номер слайда 2"/>
          <p:cNvSpPr/>
          <p:nvPr/>
        </p:nvSpPr>
        <p:spPr>
          <a:xfrm>
            <a:off x="7773840" y="5578560"/>
            <a:ext cx="8575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C226DB-51FC-41E5-9DC5-F68B949CDB07}" type="slidenum">
              <a:rPr b="0" lang="ru-RU" sz="2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5" name="Picture 4" descr="2097089"/>
          <p:cNvPicPr/>
          <p:nvPr/>
        </p:nvPicPr>
        <p:blipFill>
          <a:blip r:embed="rId1"/>
          <a:stretch/>
        </p:blipFill>
        <p:spPr>
          <a:xfrm>
            <a:off x="1116000" y="620640"/>
            <a:ext cx="7342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2:34:41Z</dcterms:created>
  <dc:creator>.</dc:creator>
  <dc:description>http://aida.ucoz.ru</dc:description>
  <dc:language>en-US</dc:language>
  <cp:lastModifiedBy>Игнатьевы</cp:lastModifiedBy>
  <dcterms:modified xsi:type="dcterms:W3CDTF">2023-12-14T16:05:31Z</dcterms:modified>
  <cp:revision>17</cp:revision>
  <dc:subject/>
  <dc:title>Слайд 1</dc:title>
</cp:coreProperties>
</file>