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678-67F9-49AA-AD50-10AAFDC4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86AD-85BA-4E43-B150-91026FDB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865-7388-4AFC-B6B4-34F91855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8EA-33E2-4BA6-BD2C-A647CD11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2B65-AFD9-4D9E-B4F4-4A8BEE2E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B606-DB0F-43EF-BEAC-0BA5DB0A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6811-344F-4882-AB9F-1AC2CB22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3ECE-F58F-4B87-B411-AA8E16A5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C577-A07A-4C19-8332-545C153D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2C41-EA28-4042-A953-D3CABB48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6079-ABEB-4EF7-A3CC-DE0FA003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6E4-D2BF-40A1-AAC7-DACFBDAF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4508-D7B5-4F23-A2A1-CCACA371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8137-FA5C-4BCD-AC0A-669E40F8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5161-15B8-4A61-B749-6EBA8435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7CB3-19A2-4644-B83F-51FB3D67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0B7F-388E-4EC5-976A-88D061E8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2DC22-7E2E-4EED-9190-B36D80F7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EBADF-3E34-4E67-9342-C0284C69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2D2BA-5DB9-4902-A5AE-273A7672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A5A85-BC05-4C98-8A81-42A106FF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258E0-B9B0-42D3-B788-7190510C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85F-4485-49D8-97A9-DD010757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EA22F-4F7A-467A-A59A-6D89B5B1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CFB91-679B-46B2-989A-F5AA209C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AA1E1-DB9A-4F80-812F-FECD1591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6238C-5044-4528-AE39-F0B95495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9BC27-B06A-45C1-81A3-33920D15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10C18-0E72-40C3-B95F-EF9A3968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F11FB-8D7B-4784-A32B-5E37DFBB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51EE6-0ABF-4AB6-A8A4-F7C9AA19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A82FD-7FA0-443C-969A-BADA223F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AF63E-13CE-4720-96D2-BC511C2F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76E-2863-481C-B0BF-EAE6DFEA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A91B8-3E3C-4165-B960-9E0174CA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B9246-5ABC-46F9-95E6-BCB7A69F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190CA-FDF8-4A36-A2AE-733BD8B1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05D36-34B0-45C2-8B60-EF795B30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CC212-06B8-4B55-BE34-E0797916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6F551-4C6C-4F7A-BA56-BA97CFB0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EABCA-C70B-4210-8F81-7BB49A5C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5F1BE-5347-4C34-89AB-DD48D293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B9E93-55A2-41EF-97E1-3B146A71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E4AC-896F-40FA-986C-70CDBDCE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B462-C546-415A-B410-6CE9295E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00B-9F0D-4531-887A-699EE385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95A-2D2E-4F71-BFF2-CEFC3B47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9F0-B6B6-4062-BA2F-B193D7ED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5F876-F3A1-4C62-92E9-842787CC3A52}" type="datetime"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2AC5D-F9AA-4BDB-8CB1-F15F9DC94D7E}" type="slidenum">
              <a:rPr b="0" lang="ru-RU" sz="28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F89B9-90EE-47F2-93E0-2C2DD9419ABA}" type="datetime"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DA69B-6FD1-4181-8263-0095470184FE}" type="slidenum">
              <a:rPr b="0" lang="ru-RU" sz="28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25D22-61F5-4302-93C4-A562CADDF7BD}" type="datetime"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F98B7-4337-4A00-A454-8954EBF5DAAE}" type="slidenum">
              <a:rPr b="0" lang="ru-RU" sz="28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83F42-622F-4235-BEF7-92B3790BD4F7}" type="datetime"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C0CDB-0417-480D-B041-84C99DFFD0F9}" type="slidenum">
              <a:rPr b="0" lang="ru-RU" sz="28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95640" y="2130120"/>
            <a:ext cx="44625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entury Gothic"/>
              </a:rPr>
              <a:t>АННА АХМАТОВА</a:t>
            </a:r>
            <a:r>
              <a:rPr b="1" lang="ru-RU" sz="4400" spc="-1" strike="noStrike">
                <a:solidFill>
                  <a:srgbClr val="c00000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51a1b"/>
                </a:solidFill>
                <a:latin typeface="Century Gothic"/>
              </a:rPr>
              <a:t>Жизнь и творчество</a:t>
            </a: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194" name="Picture 7" descr="11"/>
          <p:cNvPicPr/>
          <p:nvPr/>
        </p:nvPicPr>
        <p:blipFill>
          <a:blip r:embed="rId1"/>
          <a:stretch/>
        </p:blipFill>
        <p:spPr>
          <a:xfrm>
            <a:off x="179280" y="260280"/>
            <a:ext cx="324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1122C-3ABA-4E08-A361-E16B2AE6AD82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26486-E73D-415D-9381-01DC5B669039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8" name="Picture 4" descr="ahmatova_01"/>
          <p:cNvPicPr/>
          <p:nvPr/>
        </p:nvPicPr>
        <p:blipFill>
          <a:blip r:embed="rId1"/>
          <a:stretch/>
        </p:blipFill>
        <p:spPr>
          <a:xfrm>
            <a:off x="755640" y="765000"/>
            <a:ext cx="3892680" cy="563580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4"/>
          <p:cNvSpPr/>
          <p:nvPr/>
        </p:nvSpPr>
        <p:spPr>
          <a:xfrm>
            <a:off x="5219640" y="1341360"/>
            <a:ext cx="345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51a1b"/>
                </a:solidFill>
                <a:latin typeface="Arial"/>
              </a:rPr>
              <a:t>В 1921 году арестован Николай Гумилё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51a1b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51a1b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951a1b"/>
                </a:solidFill>
                <a:latin typeface="Arial"/>
              </a:rPr>
              <a:t>В 30-е годы арестован сын Анны Ахматовой, Лев Гумилёв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09210-4E5C-4C0A-B3C0-9A77FC2C3C96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3FE38-4D17-4D82-B2E4-17F44EF5DF5C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2" name="Picture 5" descr="Ahmatova"/>
          <p:cNvPicPr/>
          <p:nvPr/>
        </p:nvPicPr>
        <p:blipFill>
          <a:blip r:embed="rId1"/>
          <a:stretch/>
        </p:blipFill>
        <p:spPr>
          <a:xfrm>
            <a:off x="468360" y="1413000"/>
            <a:ext cx="3743280" cy="5184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4859280" y="1268280"/>
            <a:ext cx="360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Во время Великой Отечественной войны Анна Ахматова оставалась в блокадном Ленинград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Эвакуация в Ташкент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В 1944 году вернулась в освобождённый Ленинград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08555-4BD9-4E81-A93B-49E28311D3E7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8D688-22D9-4C01-8B2D-9B9AD10B9389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6" name="Picture 4" descr="ahmatova2"/>
          <p:cNvPicPr/>
          <p:nvPr/>
        </p:nvPicPr>
        <p:blipFill>
          <a:blip r:embed="rId1"/>
          <a:stretch/>
        </p:blipFill>
        <p:spPr>
          <a:xfrm>
            <a:off x="468360" y="1268280"/>
            <a:ext cx="3887640" cy="536112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4"/>
          <p:cNvSpPr/>
          <p:nvPr/>
        </p:nvSpPr>
        <p:spPr>
          <a:xfrm>
            <a:off x="4788000" y="2205000"/>
            <a:ext cx="388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51a1b"/>
                </a:solidFill>
                <a:latin typeface="Arial"/>
              </a:rPr>
              <a:t>1941-1945 – ЦИКЛ СТИХОТВОРЕНИЙ «МУЖЕСТВО», ПОСВЯЩЁННЫЙ ЗАЩИТНИКАМ ЛЕНИНГРАД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F68EA-0566-48F9-B2ED-83947BAE0BCC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3326E-9237-4B98-962E-38FB42EF2FD2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0" name="Picture 6" descr="110"/>
          <p:cNvPicPr/>
          <p:nvPr/>
        </p:nvPicPr>
        <p:blipFill>
          <a:blip r:embed="rId1"/>
          <a:stretch/>
        </p:blipFill>
        <p:spPr>
          <a:xfrm>
            <a:off x="250920" y="1268280"/>
            <a:ext cx="3889440" cy="51325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4"/>
          <p:cNvSpPr/>
          <p:nvPr/>
        </p:nvSpPr>
        <p:spPr>
          <a:xfrm>
            <a:off x="4859280" y="1989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51a1b"/>
                </a:solidFill>
                <a:latin typeface="Arial"/>
              </a:rPr>
              <a:t>1946  год – НЕСПРАВЕД-  ЛИВАЯ КРИТИКА, ОТЛУЧЕНИЕ ОТ ЛИТЕРАТУРЫ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764B04-B561-445D-8123-76883A7D79FF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23DBE-2073-406D-926C-DCE092714303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4" name="Picture 4" descr="g_4"/>
          <p:cNvPicPr/>
          <p:nvPr/>
        </p:nvPicPr>
        <p:blipFill>
          <a:blip r:embed="rId1"/>
          <a:stretch/>
        </p:blipFill>
        <p:spPr>
          <a:xfrm>
            <a:off x="468360" y="907920"/>
            <a:ext cx="4174920" cy="561672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4"/>
          <p:cNvSpPr/>
          <p:nvPr/>
        </p:nvSpPr>
        <p:spPr>
          <a:xfrm>
            <a:off x="5076720" y="836640"/>
            <a:ext cx="381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1950  год  -  ВОЗВРАЩЕНИЕ           А. АХМАТОВОЙ В ЛИТЕРАТУРУ, ПУБЛИКАЦИИ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1956  год – ПОЧЁТНАЯ СТЕПЕНЬ ДОКТОРА ЛИТЕРАТУРЫ ОКСФОРДСКОГО УНИВЕРСИТЕТА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1964 год –  лауреат Итальянской премии « ЭТНА – ТАОРМИНА»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FB80AA-84B7-4E4F-90E8-3D592EF5F8C6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24AE6-52EB-41E4-900A-4287BD151B8F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8" name="Picture 4" descr="g_3"/>
          <p:cNvPicPr/>
          <p:nvPr/>
        </p:nvPicPr>
        <p:blipFill>
          <a:blip r:embed="rId1"/>
          <a:stretch/>
        </p:blipFill>
        <p:spPr>
          <a:xfrm>
            <a:off x="395280" y="1052640"/>
            <a:ext cx="4032360" cy="55004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4"/>
          <p:cNvSpPr/>
          <p:nvPr/>
        </p:nvSpPr>
        <p:spPr>
          <a:xfrm>
            <a:off x="4716360" y="1052640"/>
            <a:ext cx="324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1950-е – «ПОЭМА БЕЗ ГЕРОЯ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«ПУТЁМ ВСЕЯ ЗЕМЛИ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ЦИКЛ «СЕВЕРНЫЕ ЭЛЕГИИ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«РЕКВИЕМ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B1C4F-FD12-4A33-AB35-4800885E2596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10199-A009-467C-9347-DB754E7DFC8E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2" name="Picture 4" descr="17_104"/>
          <p:cNvPicPr/>
          <p:nvPr/>
        </p:nvPicPr>
        <p:blipFill>
          <a:blip r:embed="rId1"/>
          <a:srcRect l="0" t="0" r="0" b="8399"/>
          <a:stretch/>
        </p:blipFill>
        <p:spPr>
          <a:xfrm>
            <a:off x="468360" y="1052640"/>
            <a:ext cx="3959280" cy="542448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4"/>
          <p:cNvSpPr/>
          <p:nvPr/>
        </p:nvSpPr>
        <p:spPr>
          <a:xfrm>
            <a:off x="4932360" y="1197000"/>
            <a:ext cx="3527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В  80-е  годы </a:t>
            </a:r>
            <a:r>
              <a:rPr b="1" lang="en-US" sz="2400" spc="-1" strike="noStrike">
                <a:solidFill>
                  <a:srgbClr val="951a1b"/>
                </a:solidFill>
                <a:latin typeface="Arial"/>
              </a:rPr>
              <a:t>XX</a:t>
            </a: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 века творчество А.Ахматовой стало широко известно на Родин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Массовыми тиражами издавались сборники стихотворений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Вышел из забвения «Реквием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80930-3B47-4D0C-933B-4C3CFC7D1A86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C3029-6638-481C-A0BF-E039F273D19C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6" name="Picture 5" descr="g_10"/>
          <p:cNvPicPr/>
          <p:nvPr/>
        </p:nvPicPr>
        <p:blipFill>
          <a:blip r:embed="rId1"/>
          <a:stretch/>
        </p:blipFill>
        <p:spPr>
          <a:xfrm>
            <a:off x="395280" y="1052640"/>
            <a:ext cx="4032360" cy="547200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4"/>
          <p:cNvSpPr/>
          <p:nvPr/>
        </p:nvSpPr>
        <p:spPr>
          <a:xfrm>
            <a:off x="5148360" y="836640"/>
            <a:ext cx="381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В  1965 году вышел последний прижизненный сборник стихов Ахматовой « Бег времени», вызвавший восторг многочисленных почитателей – к тому времени она была уже живой легендой»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За рубежом её встречали как «Сафо из России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9C5BD-38E2-43A3-AF4F-CCDD69D6F26C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15F1F-84D4-4FB8-950A-24C8AEA3891A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5003640" y="1125360"/>
            <a:ext cx="345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51a1b"/>
                </a:solidFill>
                <a:latin typeface="Arial"/>
              </a:rPr>
              <a:t>Поэзия Ахматовой – это свет, светящий во тьме, и которого тьме не объять..»                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51a1b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951a1b"/>
                </a:solidFill>
                <a:latin typeface="Arial"/>
              </a:rPr>
              <a:t>А.Шмеман</a:t>
            </a:r>
            <a:r>
              <a:rPr b="0" lang="ru-RU" sz="3200" spc="-1" strike="noStrike">
                <a:solidFill>
                  <a:srgbClr val="951a1b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1" name="Picture 4" descr="g_9"/>
          <p:cNvPicPr/>
          <p:nvPr/>
        </p:nvPicPr>
        <p:blipFill>
          <a:blip r:embed="rId1"/>
          <a:stretch/>
        </p:blipFill>
        <p:spPr>
          <a:xfrm>
            <a:off x="250920" y="692280"/>
            <a:ext cx="4392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E5BFD-5954-4BE7-9DB4-3BE48A12EDCD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5BCE0-0962-41DD-9BC5-7E9173DEB866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4" name="Picture 4" descr="Anna_Ahmatova's_grave"/>
          <p:cNvPicPr/>
          <p:nvPr/>
        </p:nvPicPr>
        <p:blipFill>
          <a:blip r:embed="rId1"/>
          <a:stretch/>
        </p:blipFill>
        <p:spPr>
          <a:xfrm>
            <a:off x="250920" y="1628640"/>
            <a:ext cx="5581440" cy="475308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4"/>
          <p:cNvSpPr/>
          <p:nvPr/>
        </p:nvSpPr>
        <p:spPr>
          <a:xfrm>
            <a:off x="6012000" y="1557360"/>
            <a:ext cx="295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5 марта  1966 года   А. АХМАТОВА УМЕРЛА В ПОДМОСКОВНОМ САНАТОРИИ, ПОХОРОНЕНА В КОМАРОВЕ ПОД ЛЕНИНГРАДОМ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81DF4-60F1-4C5E-8A1B-05D08B16D5DF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F336F-1C01-4549-A036-AD0F68D8FA09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3995640" y="692280"/>
            <a:ext cx="4392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Ахматова Анна Андреевна (настоящая фамилия — Горенко) родилась в семье морского инженера, капитана 2-го ранга в отставке на ст. Большой Фонтан под Одессой. Через год после рождения дочери семья переехала в Царское Село. Здесь Ахматова стала ученицей Мариинской гимназии, но каждое лето проводила под Севастополем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8" name="Picture 7" descr="4"/>
          <p:cNvPicPr/>
          <p:nvPr/>
        </p:nvPicPr>
        <p:blipFill>
          <a:blip r:embed="rId1"/>
          <a:stretch/>
        </p:blipFill>
        <p:spPr>
          <a:xfrm>
            <a:off x="250920" y="1676520"/>
            <a:ext cx="338436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91F70-02EB-48E4-98AA-EC941CD98E23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02F12-D256-4CE9-8A5A-9476D3B9194A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2286000" y="1052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51a1b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Прямоугольник 4"/>
          <p:cNvSpPr/>
          <p:nvPr/>
        </p:nvSpPr>
        <p:spPr>
          <a:xfrm>
            <a:off x="971640" y="25509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http://ru.wikipedia.org/wik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Прямоугольник 5"/>
          <p:cNvSpPr/>
          <p:nvPr/>
        </p:nvSpPr>
        <p:spPr>
          <a:xfrm>
            <a:off x="1042920" y="335772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litera.ru/stixiya/authors/axmatova/all.htm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Прямоугольник 6"/>
          <p:cNvSpPr/>
          <p:nvPr/>
        </p:nvSpPr>
        <p:spPr>
          <a:xfrm>
            <a:off x="971640" y="45813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images.yandex.ru/yandsearch?tex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6621B-9400-4D1F-9AAB-71EFFD362030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A9460-0D63-46F9-9440-F632E00DA8EB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4572000" y="836640"/>
            <a:ext cx="424800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951a1b"/>
                </a:solidFill>
                <a:latin typeface="Arial"/>
              </a:rPr>
              <a:t>1907 –АННА АХМАТОВА  НАЧИНАЕТ ПЕЧАТАТЬСЯ, ПРИМКНУВ К ГРУППЕ АКМЕИСТОВ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951a1b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951a1b"/>
                </a:solidFill>
                <a:latin typeface="Arial"/>
              </a:rPr>
              <a:t>1907г-  ПЕРВЫЕ ПУБЛИКАЦИ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951a1b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951a1b"/>
                </a:solidFill>
                <a:latin typeface="Arial"/>
              </a:rPr>
              <a:t>1910 – ВЫШЛА ЗАМУЖ ЗА ПОЭТА НИКОЛАЯ ГУМИЛЁВ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951a1b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951a1b"/>
                </a:solidFill>
                <a:latin typeface="Arial"/>
              </a:rPr>
              <a:t>1910-1912 – ПУТЕШЕСТВИЕ ПО ГЕРМАНИИ, ИТАЛИИ, ФРАНЦИИ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8163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FA3D5-5436-44ED-912D-16E03C740530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E77C8-E02A-4F41-8FAF-39B377A7CE54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172200" cy="452592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4"/>
          <p:cNvSpPr/>
          <p:nvPr/>
        </p:nvSpPr>
        <p:spPr>
          <a:xfrm>
            <a:off x="1979640" y="6922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Лев Гумилёв и Анна Ахматов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9ED96-E864-4ED5-A783-AFB72396C0C5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AA04C-A5CB-4E81-A2A0-B2D9022F3CB5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1908000" y="549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.Гумилёв и А. Ахматова с сыном Львом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0" name="Picture 4" descr="ahmatova_126"/>
          <p:cNvPicPr/>
          <p:nvPr/>
        </p:nvPicPr>
        <p:blipFill>
          <a:blip r:embed="rId1"/>
          <a:stretch/>
        </p:blipFill>
        <p:spPr>
          <a:xfrm>
            <a:off x="1295280" y="1268280"/>
            <a:ext cx="66294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AA5B4-05F2-4DEC-ADAB-BCFB2D6DDFB5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64B4B-F3D2-45BF-AC70-4A69F0483149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4572000" y="836640"/>
            <a:ext cx="4321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1912г- ПЕРВЫЙ СБОРНИК СТИХОВ «ВЕЧЕР»</a:t>
            </a:r>
            <a:br>
              <a:rPr sz="2400"/>
            </a:b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 С ПРЕДИСЛОВИЕМ М. КУЗМИНА. СТИХИ ЭТОЙ КНИГИ ПОСЛУЖИЛИ В ОПРЕДЕЛЁННОЙ МЕРЕ РАЗВИТИЮ ТЕОРЕТИЧЕСКИХ ПОЛОЖЕНИЙ АКМЕИЗМА, НОСИЛИ ХАРАКТЕР ДНЕВНИКОВЫХ ЗАПИСЕЙ, БЫЛИ ПРОНИКНУТЫ МОТИВАМИ ГРУСТИ И ОДИНОЧЕСТВА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744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C8444-A770-432A-A93A-9A16EDD37443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2ADDF-F85F-4758-BEC7-E52926AF29CF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4643280" y="1413000"/>
            <a:ext cx="424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951a1b"/>
                </a:solidFill>
                <a:latin typeface="Arial"/>
              </a:rPr>
              <a:t>1914г- СБОРНИК «ЧЁТКИ», </a:t>
            </a:r>
            <a:r>
              <a:rPr b="1" lang="en-US" sz="2800" spc="-1" strike="noStrike">
                <a:solidFill>
                  <a:srgbClr val="951a1b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951a1b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951a1b"/>
                </a:solidFill>
                <a:latin typeface="Arial"/>
              </a:rPr>
              <a:t>К </a:t>
            </a:r>
            <a:r>
              <a:rPr b="1" lang="en-US" sz="2800" spc="-1" strike="noStrike">
                <a:solidFill>
                  <a:srgbClr val="951a1b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51a1b"/>
                </a:solidFill>
                <a:latin typeface="Arial"/>
              </a:rPr>
              <a:t>А.АХМАТОВОЙ ПРИШЛА ПОДЛИННАЯ ИЗВЕСТНОСТЬ.</a:t>
            </a:r>
            <a:br>
              <a:rPr sz="2800"/>
            </a:br>
            <a:r>
              <a:rPr b="1" lang="ru-RU" sz="2800" spc="-1" strike="noStrike">
                <a:solidFill>
                  <a:srgbClr val="951a1b"/>
                </a:solidFill>
                <a:latin typeface="Arial"/>
              </a:rPr>
              <a:t>1917г- КНИГА «БЕЛАЯ СТАЯ»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8" name="Picture 9" descr="g_2"/>
          <p:cNvPicPr/>
          <p:nvPr/>
        </p:nvPicPr>
        <p:blipFill>
          <a:blip r:embed="rId1"/>
          <a:stretch/>
        </p:blipFill>
        <p:spPr>
          <a:xfrm>
            <a:off x="395280" y="1484280"/>
            <a:ext cx="3745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0F067-D5BA-45D5-A75E-356ACEC969E7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BFC34-DB24-40E0-B76A-595840715142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4788000" y="692280"/>
            <a:ext cx="403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1918-1923г- ПОЭЗИЯ АХМАТОВОЙ ИМЕЕТ БОЛЬШОЙ УСПЕХ: СБОРНИКИ «ПОДОРОЖНИК», «</a:t>
            </a:r>
            <a:r>
              <a:rPr b="1" lang="en-US" sz="2400" spc="-1" strike="noStrike">
                <a:solidFill>
                  <a:srgbClr val="951a1b"/>
                </a:solidFill>
                <a:latin typeface="Arial"/>
              </a:rPr>
              <a:t>ANNO DOMINI</a:t>
            </a: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».</a:t>
            </a:r>
            <a:br>
              <a:rPr sz="2400"/>
            </a:b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С СЕРЕДИНЫ 20-х ГОДОВ – МНОГОЛЕТНЕЕ МОЛЧАНИЕ.</a:t>
            </a:r>
            <a:br>
              <a:rPr sz="2400"/>
            </a:b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1936 -1940 – СТИХИ В РАЗНЫХ ИЗДАНИЯХ, СБОРНИК «ИЗ ШЕСТИ КНИГ»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2" name="Picture 4" descr="Ahm2"/>
          <p:cNvPicPr/>
          <p:nvPr/>
        </p:nvPicPr>
        <p:blipFill>
          <a:blip r:embed="rId1"/>
          <a:stretch/>
        </p:blipFill>
        <p:spPr>
          <a:xfrm>
            <a:off x="304920" y="1916280"/>
            <a:ext cx="41958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23ACF-28E3-4B99-8A8E-FCA2B8619E08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D4367-9AD4-4118-BE10-147EDECA317E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5" name="Picture 4" descr="2097089"/>
          <p:cNvPicPr/>
          <p:nvPr/>
        </p:nvPicPr>
        <p:blipFill>
          <a:blip r:embed="rId1"/>
          <a:stretch/>
        </p:blipFill>
        <p:spPr>
          <a:xfrm>
            <a:off x="1116000" y="620640"/>
            <a:ext cx="73422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2:34:41Z</dcterms:created>
  <dc:creator>.</dc:creator>
  <dc:description>http://aida.ucoz.ru</dc:description>
  <dc:language>en-US</dc:language>
  <cp:lastModifiedBy>Игнатьевы</cp:lastModifiedBy>
  <dcterms:modified xsi:type="dcterms:W3CDTF">2023-12-14T16:05:31Z</dcterms:modified>
  <cp:revision>17</cp:revision>
  <dc:subject/>
  <dc:title>Слайд 1</dc:title>
</cp:coreProperties>
</file>