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444F-057A-4AB5-A5C5-B492E805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992-D0ED-4083-95B2-3FD08AB7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E1B-1D36-478E-B3CF-BB6D5D4B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05E-FFDB-46F2-8665-5D88E600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661A-F489-4140-9E2D-57729BA0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253E-E7D0-4697-BAD3-6F0152E9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C7B-AC22-468A-BBFD-811BD00C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1FC-FC9B-4B76-AB86-1F801747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1DE-767C-453A-86ED-4A642F23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484-E21D-427E-A514-EB0078D1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7BBD-422A-4EC0-9793-B490D2EE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F757-D37D-4B2D-9CB9-52E31950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A32239-EA4E-4EF4-A2F0-F24CABAC02C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Анна Горенко – Ахматова - Гумил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«Я спросила у кук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Сколько лет я проживу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28804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4788000" y="585720"/>
            <a:ext cx="4356000" cy="5867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318960" y="5032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Мне дали имя при Крещеньи – АННА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Monotype Corsiva"/>
              </a:rPr>
              <a:t>*</a:t>
            </a: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О своем я уже не заплачу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…Я никогда не улетала или не уползала из Поэзии, хотя неоднократно сильными ударами весел по одеревеневшим и уцепившимся за борт лодки руками приглашалась опуститься на дно. Сознаюсь: что временами воздух вокруг меня терял влажность и звукопроницаемость, ведро, опускаясь в колодец, рождало, вместо отрадного всплеска, сухой удар о камень, и вообще наступало удушье, которое длилось годами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717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8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"/>
          <p:cNvSpPr/>
          <p:nvPr/>
        </p:nvSpPr>
        <p:spPr>
          <a:xfrm>
            <a:off x="-1260360" y="3780000"/>
            <a:ext cx="7696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Я притворюсь беззвучною зим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И вечные навек захлопну двер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И все-таки узнают голос м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И все-таки ему опять поверя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Monotype Corsiva"/>
              </a:rPr>
              <a:t>1959, Ленингра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-17640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Monotype Corsiva"/>
              </a:rPr>
              <a:t>*А юность была как молитва воскресная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«Родилась я на даче Саракини (Большой Фонтан, 11-я станция паровичка ) около Одессы. Морской берег там крутой, и рельсы паровичка шли по самому кра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2362320"/>
            <a:ext cx="3357720" cy="4495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3809880" y="2743200"/>
            <a:ext cx="51055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1889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11 (23) июня у инженера-капитана 2-го ранга Андрея Антоновича Гуренко и его жены Инны Эразмовны (Стоговой в девичестве) родилась дочь Аннуш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492444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302000" y="0"/>
            <a:ext cx="4842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51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*Любовь покоряет обманно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1903 году Анна Горенко знакомится с Николаем Гумилевым, который был издателем в еженедельнике «Сириус», в нем она публикует свои первые сти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«15 апреля 1910 года я вышла замуж за Н.С.Гумилева, отправилась с ним в Париж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518472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013280" y="0"/>
            <a:ext cx="5130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6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8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*Стать бы снова приморской девчонкой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Годовалым ребенком я была перевезена на север – в Царское Село. Мои первые воспоминания – царскосельские: зеленое, сырое великолепие парков, выгон, куда меня водила няня, ипподром, где скакали маленькие пестрые лошадки, старый вокзал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«Царское было  зимой,  Крым – летом. Лето я проводила под Севастополем, на берегу Стрелецкой бухты, и там подружилась с морем. Самое сильное впечатление этих лет – древний Херсонес. Я получила прозвище «Дикая девочка», потому что ходила босиком, бродила без шляпы, бросалась с лодки в открытое море, купалась во время шторма и загорала до того, что сходила кожа, и всем этим шокировала провинциальных севастопольских барышен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2438280" y="0"/>
            <a:ext cx="449892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36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Monotype Corsiva"/>
              </a:rPr>
              <a:t>*Уложила сыночку кудрявого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1912 год, 18 сентября (1 октября) – рождение сына Ль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838080" y="1314360"/>
            <a:ext cx="7772400" cy="55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86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Monotype Corsiva"/>
              </a:rPr>
              <a:t>*Какая есть. Желаю Вам другую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бщение с Блоком, Маяковским, Пастернаком, Мандельштаном. «Цех поэтов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любленная Дружба с Недоброво Николаем Владимирович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762120" y="0"/>
            <a:ext cx="7315200" cy="687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8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1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8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4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0" y="4319640"/>
            <a:ext cx="907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Двадцать первое. Ночь. Понедельни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Очертанья столицы во мг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Сочинил же какой-то бездельни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Monotype Corsiva"/>
              </a:rPr>
              <a:t>Что бывает любовь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505944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4362480" y="0"/>
            <a:ext cx="47815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229600" cy="52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«Вначале я писала очень беспомощные стихи, что Николай Степанович и не думал от меня скрывать. Он советовал мне заняться каким-нибудь другим видом искусства («Ты такая гибкая»). Но потом стихи шли ровной волной, до этого ничего похожего не было. Я искала, находила, теряла. Чувствовала (довольно смутно), что начинает удаваться. А тут и хвалить начали. А вы знаете, как умели хвалить на Парнасе серебряного века!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4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гнатьевы</dc:creator>
  <dc:description/>
  <dc:language>en-US</dc:language>
  <cp:lastModifiedBy>Игнатьевы</cp:lastModifiedBy>
  <dcterms:modified xsi:type="dcterms:W3CDTF">2023-12-14T16:08:4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