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CA3-18B2-4F99-B843-8BB89624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899-DC75-46CE-8387-86CDB82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C0D-DD7F-42BB-A08A-B7E96EA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AE8-A1CB-4533-AD21-DCE3FC6F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A00-0EE7-4DD7-B9E7-E3047BD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B46-E8E2-418B-8F41-7BDDA32F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727-E9EA-42A4-B588-E8E594F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AC1-9BA9-4B0C-A883-75CFFA9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98B-9431-403C-BD39-78E5D71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7E2-56B0-4750-BC87-FFC5C5D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80B-0311-47F0-8C82-54ED5CB9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3F4-E234-44C1-8CF4-F7089526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E0607A-40EA-4EC7-AF4C-0F7B0F40E9F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Анна Горенко – Ахматова - Гумил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Я спросила у кук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колько лет я проживу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288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788000" y="585720"/>
            <a:ext cx="4356000" cy="5867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18960" y="5032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не дали имя при Крещеньи – АННА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*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О своем я уже не заплачу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…Я никогда не улетала или не уползала из Поэзии, хотя неоднократно сильными ударами весел по одеревеневшим и уцепившимся за борт лодки руками приглашалась опуститься на дно. Сознаюсь: что временами воздух вокруг меня терял влажность и звукопроницаемость, ведро, опускаясь в колодец, рождало, вместо отрадного всплеска, сухой удар о камень, и вообще наступало удушье, которое длилось г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717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-1260360" y="3780000"/>
            <a:ext cx="7696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Я притворюсь беззвучною зим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ечные навек захлопну две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се-таки узнают голос 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се-таки ему опять поверя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1959, Ленингр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1764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*А юность была как молитва воскресная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«Родилась я на даче Саракини (Большой Фонтан, 11-я станция паровичка ) около Одессы. Морской берег там крутой, и рельсы паровичка шли по сам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23623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809880" y="2743200"/>
            <a:ext cx="51055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1889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11 (23) июня у инженера-капитана 2-го ранга Андрея Антоновича Гуренко и его жены Инны Эразмовны (Стоговой в девичестве) родилась дочь Анн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*Любовь покоряет обманно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1903 году Анна Горенко знакомится с Николаем Гумилевым, который был издателем в еженедельнике «Сириус», в нем она публикует свои первые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15 апреля 1910 года я вышла замуж за Н.С.Гумилева, отправилась с ним в Пари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4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13280" y="0"/>
            <a:ext cx="513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*Стать бы снова приморской девчонкой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Годовалым ребенком я была перевезена на север – в Царское Село. Мои первые воспоминания – царскосельские: зеленое, сырое великолепие парков, выгон, куда меня водила няня, ипподром, где скакали маленькие пестрые лошадки, старый вокза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Царское было  зимой,  Крым – летом. Лето я проводила под Севастополем, на берегу Стрелецкой бухты, и там подружилась с морем. Самое сильное впечатление этих лет – древний Херсонес. Я получила прозвище «Дикая девочка», потому что ходила босиком, бродила без шляпы, бросалась с лодки в открытое море, купалась во время шторма и загорала до того, что сходила кожа, и всем этим шокировала провинциальных севастопольских барышен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4382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*Уложила сыночку кудрявого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1912 год, 18 сентября (1 октября) – рождение сына Ль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77240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*Какая есть. Желаю Вам другую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щение с Блоком, Маяковским, Пастернаком, Мандельштаном. «Цех поэ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любленная Дружба с Недоброво Николаем Владимирови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7315200" cy="687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4319640"/>
            <a:ext cx="907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Двадцать первое. Ночь. Понедель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Очертанья столицы во мг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Сочинил же какой-то безде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Что бывает любовь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05944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36248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«Вначале я писала очень беспомощные стихи, что Николай Степанович и не думал от меня скрывать. Он советовал мне заняться каким-нибудь другим видом искусства («Ты такая гибкая»). Но потом стихи шли ровной волной, до этого ничего похожего не было. Я искала, находила, теряла. Чувствовала (довольно смутно), что начинает удаваться. А тут и хвалить начали. А вы знаете, как умели хвалить на Парнасе серебряного века!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натьевы</dc:creator>
  <dc:description/>
  <dc:language>en-US</dc:language>
  <cp:lastModifiedBy>Игнатьевы</cp:lastModifiedBy>
  <dcterms:modified xsi:type="dcterms:W3CDTF">2023-12-14T16:08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