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8B7-8369-4E03-ACA8-FD856D91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9A2-C213-4DDF-9572-CA7D23FC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6CC-D337-4692-8BF7-0174111D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AE7-87CC-4D08-A5EB-0C302BB4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20CA-C91C-4E99-9A5B-5C7863CC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257-1B2C-4621-8DBE-1EF8AE78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C7C-0F66-4105-A919-16F1BA63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8EA-31D1-4637-B83C-9190F6C3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2F5-F8AA-469F-ACC6-7CB6D958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C27-689B-4EE6-82D8-02C63576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C9A-C684-4FDE-BF3A-877D721C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37E-235E-425F-963F-F1F04115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19DB-BA66-4898-8789-E8361390B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Мастер-класс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«Звуковая культура реч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43040" y="5943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-лого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мбарцумян Д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800" y="152280"/>
            <a:ext cx="28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БДОУ детский сад №4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8077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51212" r="0" b="11073"/>
          <a:stretch/>
        </p:blipFill>
        <p:spPr>
          <a:xfrm>
            <a:off x="380880" y="244440"/>
            <a:ext cx="4038840" cy="2157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2768" r="0" b="60348"/>
          <a:stretch/>
        </p:blipFill>
        <p:spPr>
          <a:xfrm>
            <a:off x="4648320" y="4419720"/>
            <a:ext cx="4190760" cy="2190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52320" r="0" b="11627"/>
          <a:stretch/>
        </p:blipFill>
        <p:spPr>
          <a:xfrm>
            <a:off x="2438280" y="2362320"/>
            <a:ext cx="42674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3059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3971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51814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то звуки, при произнесении которых воздушная струя не встречает преграды, поэтому гласные звуки «умеют петь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496872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звуки, при произнесении которых воздушная струя встречает преграду. Согласные звуки делятся на мягкие и твердые, звонкие и глухие, парные и непар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1532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914400"/>
            <a:ext cx="64771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САД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4343400"/>
            <a:ext cx="144756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343400"/>
            <a:ext cx="1447560" cy="1447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4343400"/>
            <a:ext cx="1447920" cy="1447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81080" y="304920"/>
            <a:ext cx="70106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Times New Roman"/>
              </a:rPr>
              <a:t>РИТ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2286000"/>
            <a:ext cx="99036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2286000"/>
            <a:ext cx="99072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2286000"/>
            <a:ext cx="9907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2286000"/>
            <a:ext cx="9907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19:03:25Z</dcterms:created>
  <dc:creator>Apple</dc:creator>
  <dc:description/>
  <dc:language>en-US</dc:language>
  <cp:lastModifiedBy>User</cp:lastModifiedBy>
  <dcterms:modified xsi:type="dcterms:W3CDTF">2001-12-31T17:33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