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72F-689C-45E8-8635-EF57DB5F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277-384D-4A82-A024-604EDB7D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E2A-5BBD-4CC3-A604-48D3F446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35FD-68E2-4097-B723-575F8F14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EE8B-C1AC-4655-BF86-F3259991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135-16E1-4C30-B382-F8A9B857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B288-101C-4EF7-8EA4-42DD2A59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624E-8625-4ED4-BDF4-4F82AF82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F318-23DC-4988-8621-1D156388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AB26-C178-48CC-95CF-5CAC8F09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E990-E953-46B3-B948-C07613EC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344A-5D2A-4F33-8E48-DD69135E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8069-3303-4BEC-A4AA-90CF7DDF0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Мастер-класс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«Звуковая культура реч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43040" y="594324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итель-логоп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мбарцумян Д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800" y="152280"/>
            <a:ext cx="282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БДОУ детский сад №4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8077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07696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51212" r="0" b="11073"/>
          <a:stretch/>
        </p:blipFill>
        <p:spPr>
          <a:xfrm>
            <a:off x="380880" y="244440"/>
            <a:ext cx="4038840" cy="2157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0" t="2768" r="0" b="60348"/>
          <a:stretch/>
        </p:blipFill>
        <p:spPr>
          <a:xfrm>
            <a:off x="4648320" y="4419720"/>
            <a:ext cx="4190760" cy="2190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0" t="52320" r="0" b="11627"/>
          <a:stretch/>
        </p:blipFill>
        <p:spPr>
          <a:xfrm>
            <a:off x="2438280" y="2362320"/>
            <a:ext cx="426744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3059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3971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28600" y="51814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то звуки, при произнесении которых воздушная струя не встречает преграды, поэтому гласные звуки «умеют петь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496872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звуки, при произнесении которых воздушная струя встречает преграду. Согласные звуки делятся на мягкие и твердые, звонкие и глухие, парные и непар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15328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71600" y="914400"/>
            <a:ext cx="64771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0" spc="-1" strike="noStrike">
                <a:solidFill>
                  <a:srgbClr val="000000"/>
                </a:solidFill>
                <a:latin typeface="Arial"/>
              </a:rPr>
              <a:t>САД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4343400"/>
            <a:ext cx="1447560" cy="1447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4343400"/>
            <a:ext cx="1447560" cy="1447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38680" y="4343400"/>
            <a:ext cx="1447920" cy="1447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81080" y="304920"/>
            <a:ext cx="70106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Times New Roman"/>
              </a:rPr>
              <a:t>РИТА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48320" y="2286000"/>
            <a:ext cx="990360" cy="990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2286000"/>
            <a:ext cx="99072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52680" y="2286000"/>
            <a:ext cx="9907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2286000"/>
            <a:ext cx="9907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1T19:03:25Z</dcterms:created>
  <dc:creator>Apple</dc:creator>
  <dc:description/>
  <dc:language>en-US</dc:language>
  <cp:lastModifiedBy>User</cp:lastModifiedBy>
  <dcterms:modified xsi:type="dcterms:W3CDTF">2001-12-31T17:33:5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