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jpeg" ContentType="image/jpeg"/>
  <Override PartName="/ppt/media/image5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33.png" ContentType="image/png"/>
  <Override PartName="/ppt/media/image34.gif" ContentType="image/gif"/>
  <Override PartName="/ppt/media/image37.png" ContentType="image/png"/>
  <Override PartName="/ppt/media/image35.gif" ContentType="image/gif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5CEA-C773-470A-99B5-4E67900DA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0017-3475-4663-98A5-2900CAA2D2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5903-9F58-4A78-8B61-63DA37C9E4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541-8E3C-4E08-B0F9-F2EB490D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AB7-D2C2-4BFD-9847-C30F5743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17F-F4A9-46F4-883D-648AEE91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E59-8B0C-4044-9B59-ED3DA5D9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43B-DC13-40D7-ACEB-34F22EF1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C73-51E3-4910-98AE-034043BE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E50-5406-4B7B-8842-E9043168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F991-1D09-49CC-B665-B2326737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1D9-C073-4221-97D6-926A3A18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394-EFFC-4424-B90C-7BAABFED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E67-FE82-468A-BDE3-266AE0E8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93C5-1781-4039-B151-0EFA7C0F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C812-9638-405E-8048-059A72AC8D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6.jpe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02120" y="429840"/>
            <a:ext cx="9891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3</a:t>
            </a:r>
            <a:r>
              <a:rPr b="1" lang="en-US" sz="4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October,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Mo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https://avatars.mds.yandex.net/i?id=02c2ddfc83e4446911641fb3b0c42c4776a537cf-10119783-images-thumbs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900000" y="636480"/>
            <a:ext cx="75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Calibri"/>
              </a:rPr>
              <a:t>C. Match sports equipments  with sports ga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5"/>
          <p:cNvSpPr/>
          <p:nvPr/>
        </p:nvSpPr>
        <p:spPr>
          <a:xfrm>
            <a:off x="1454040" y="1662120"/>
            <a:ext cx="3560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rug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hock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weightlif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baseb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d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2226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badmin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8"/>
          <p:cNvSpPr/>
          <p:nvPr/>
        </p:nvSpPr>
        <p:spPr>
          <a:xfrm>
            <a:off x="4586400" y="1649520"/>
            <a:ext cx="351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.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.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5" descr="https://7gy.ru/images/doshkolenku/sport-inv/20.jpg"/>
          <p:cNvPicPr/>
          <p:nvPr/>
        </p:nvPicPr>
        <p:blipFill>
          <a:blip r:embed="rId2">
            <a:lum bright="16000"/>
            <a:alphaModFix amt="47000"/>
          </a:blip>
          <a:srcRect l="8480" t="27421" r="10055" b="41509"/>
          <a:stretch/>
        </p:blipFill>
        <p:spPr>
          <a:xfrm>
            <a:off x="5240160" y="1565280"/>
            <a:ext cx="966960" cy="46044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https://7gy.ru/images/doshkolenku/sport-inv/12.jpg"/>
          <p:cNvPicPr/>
          <p:nvPr/>
        </p:nvPicPr>
        <p:blipFill>
          <a:blip r:embed="rId3">
            <a:lum bright="-10000"/>
          </a:blip>
          <a:srcRect l="16128" t="15602" r="18732" b="30814"/>
          <a:stretch/>
        </p:blipFill>
        <p:spPr>
          <a:xfrm>
            <a:off x="6622920" y="1981080"/>
            <a:ext cx="747720" cy="5954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https://7gy.ru/images/doshkolenku/sport-inv/10.jpg"/>
          <p:cNvPicPr/>
          <p:nvPr/>
        </p:nvPicPr>
        <p:blipFill>
          <a:blip r:embed="rId4">
            <a:alphaModFix amt="87000"/>
          </a:blip>
          <a:srcRect l="10799" t="15582" r="27071" b="12330"/>
          <a:stretch/>
        </p:blipFill>
        <p:spPr>
          <a:xfrm>
            <a:off x="5167440" y="2535120"/>
            <a:ext cx="765000" cy="6858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9" descr="https://7gy.ru/images/doshkolenku/sport-inv/4.jpg"/>
          <p:cNvPicPr/>
          <p:nvPr/>
        </p:nvPicPr>
        <p:blipFill>
          <a:blip r:embed="rId5">
            <a:lum contrast="10000"/>
            <a:alphaModFix amt="46000"/>
          </a:blip>
          <a:srcRect l="7424" t="19786" r="8774" b="32155"/>
          <a:stretch/>
        </p:blipFill>
        <p:spPr>
          <a:xfrm>
            <a:off x="6743880" y="3117960"/>
            <a:ext cx="80640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0" descr="Картинки с изображением спортивного инвентаря для детей"/>
          <p:cNvPicPr/>
          <p:nvPr/>
        </p:nvPicPr>
        <p:blipFill>
          <a:blip r:embed="rId6"/>
          <a:stretch/>
        </p:blipFill>
        <p:spPr>
          <a:xfrm>
            <a:off x="5111640" y="3630600"/>
            <a:ext cx="790560" cy="5824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1" descr="https://7gy.ru/images/doshkolenku/sport-inv/15.jpg"/>
          <p:cNvPicPr/>
          <p:nvPr/>
        </p:nvPicPr>
        <p:blipFill>
          <a:blip r:embed="rId7">
            <a:lum contrast="-18000"/>
          </a:blip>
          <a:srcRect l="16127" t="11709" r="15650" b="27452"/>
          <a:stretch/>
        </p:blipFill>
        <p:spPr>
          <a:xfrm>
            <a:off x="7039080" y="3948120"/>
            <a:ext cx="718920" cy="955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https://avatars.mds.yandex.net/i?id=02c2ddfc83e4446911641fb3b0c42c4776a537cf-10119783-images-thumbs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789120" y="0"/>
            <a:ext cx="7454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1357200" y="235080"/>
            <a:ext cx="73566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Calibri"/>
              </a:rPr>
              <a:t>Key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76160" y="-4949640"/>
            <a:ext cx="7702560" cy="10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</a:t>
            </a:r>
            <a:r>
              <a:rPr b="1" lang="ru-RU" sz="2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Match the synonyms  in the two colum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– d, 2 – e, 3 – a, 4 – b, 5 – c, 6 – 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Calibri"/>
              </a:rPr>
              <a:t>Match the antonyms  in the two colum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 – d, 2 – f, 3 – b, 4 – e, 5 – a, 6 –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Calibri"/>
              </a:rPr>
              <a:t>C. Match sports equipments  with sports ga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 – d, 2 – f, 3 – a, 4 – c, 5 – b, 6 –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1" descr="https://avatars.mds.yandex.net/i?id=02c2ddfc83e4446911641fb3b0c42c4776a537cf-10119783-images-thumbs&amp;n=13"/>
          <p:cNvPicPr/>
          <p:nvPr/>
        </p:nvPicPr>
        <p:blipFill>
          <a:blip r:embed="rId1"/>
          <a:stretch/>
        </p:blipFill>
        <p:spPr>
          <a:xfrm>
            <a:off x="0" y="0"/>
            <a:ext cx="95742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s://ds04.infourok.ru/uploads/ex/076f/001452be-6179bc35/img24.jpg"/>
          <p:cNvPicPr/>
          <p:nvPr/>
        </p:nvPicPr>
        <p:blipFill>
          <a:blip r:embed="rId2"/>
          <a:stretch/>
        </p:blipFill>
        <p:spPr>
          <a:xfrm>
            <a:off x="0" y="692280"/>
            <a:ext cx="9615600" cy="615132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3" descr=""/>
          <p:cNvPicPr/>
          <p:nvPr/>
        </p:nvPicPr>
        <p:blipFill>
          <a:blip r:embed="rId3"/>
          <a:stretch/>
        </p:blipFill>
        <p:spPr>
          <a:xfrm>
            <a:off x="-6480" y="-115920"/>
            <a:ext cx="8742600" cy="8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Users\1\Desktop\IMG_20231022_125519.jpg"/>
          <p:cNvPicPr/>
          <p:nvPr/>
        </p:nvPicPr>
        <p:blipFill>
          <a:blip r:embed="rId1"/>
          <a:stretch/>
        </p:blipFill>
        <p:spPr>
          <a:xfrm>
            <a:off x="-166680" y="14400"/>
            <a:ext cx="935208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018.mp3" descr=""/>
          <p:cNvPicPr/>
          <p:nvPr/>
        </p:nvPicPr>
        <p:blipFill>
          <a:blip r:embed="rId2"/>
          <a:stretch/>
        </p:blipFill>
        <p:spPr>
          <a:xfrm>
            <a:off x="7142040" y="5999040"/>
            <a:ext cx="484200" cy="48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10383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Смайлик здоровый образ жизн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" descr=""/>
          <p:cNvPicPr/>
          <p:nvPr/>
        </p:nvPicPr>
        <p:blipFill>
          <a:blip r:embed="rId2"/>
          <a:stretch/>
        </p:blipFill>
        <p:spPr>
          <a:xfrm>
            <a:off x="415800" y="1938240"/>
            <a:ext cx="2400480" cy="17305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3" descr=""/>
          <p:cNvPicPr/>
          <p:nvPr/>
        </p:nvPicPr>
        <p:blipFill>
          <a:blip r:embed="rId3"/>
          <a:stretch/>
        </p:blipFill>
        <p:spPr>
          <a:xfrm>
            <a:off x="-304920" y="1652760"/>
            <a:ext cx="1292400" cy="128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0" y="582480"/>
            <a:ext cx="9144000" cy="627552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5" descr=""/>
          <p:cNvPicPr/>
          <p:nvPr/>
        </p:nvPicPr>
        <p:blipFill>
          <a:blip r:embed="rId5"/>
          <a:stretch/>
        </p:blipFill>
        <p:spPr>
          <a:xfrm>
            <a:off x="1347840" y="-208080"/>
            <a:ext cx="6437160" cy="1195560"/>
          </a:xfrm>
          <a:prstGeom prst="rect">
            <a:avLst/>
          </a:prstGeom>
          <a:ln w="0">
            <a:noFill/>
          </a:ln>
        </p:spPr>
      </p:pic>
      <p:pic>
        <p:nvPicPr>
          <p:cNvPr id="100" name="Неизвестен — Очень красивая мелодия для души.mp3" descr=""/>
          <p:cNvPicPr/>
          <p:nvPr/>
        </p:nvPicPr>
        <p:blipFill>
          <a:blip r:embed="rId6"/>
          <a:stretch/>
        </p:blipFill>
        <p:spPr>
          <a:xfrm>
            <a:off x="582480" y="43848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31675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9cdf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https://fsd.multiurok.ru/html/2019/12/07/s_5deba59be4ff3/img8.jpg"/>
          <p:cNvPicPr/>
          <p:nvPr/>
        </p:nvPicPr>
        <p:blipFill>
          <a:blip r:embed="rId1"/>
          <a:srcRect l="49696" t="0" r="24644" b="0"/>
          <a:stretch/>
        </p:blipFill>
        <p:spPr>
          <a:xfrm>
            <a:off x="5070600" y="0"/>
            <a:ext cx="29239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https://fsd.multiurok.ru/html/2019/12/07/s_5deba59be4ff3/img8.jpg"/>
          <p:cNvPicPr/>
          <p:nvPr/>
        </p:nvPicPr>
        <p:blipFill>
          <a:blip r:embed="rId2"/>
          <a:srcRect l="0" t="0" r="74629" b="3331"/>
          <a:stretch/>
        </p:blipFill>
        <p:spPr>
          <a:xfrm>
            <a:off x="1413000" y="0"/>
            <a:ext cx="2909880" cy="65944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3782880" y="5970600"/>
            <a:ext cx="4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https://uchebnik.mos.ru/system_2/atomic_objects/files/006/279/223/original/%D0%BF%D1%80%D0%BE%D1%88_%D0%B2%D1%8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https://mulino58.ru/wp-content/uploads/4/9/a/49aaa1f0718347132e1c8694e558b92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https://avatars.mds.yandex.net/i?id=02c2ddfc83e4446911641fb3b0c42c4776a537cf-10119783-images-thumbs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2"/>
          <p:cNvSpPr/>
          <p:nvPr/>
        </p:nvSpPr>
        <p:spPr>
          <a:xfrm>
            <a:off x="789120" y="0"/>
            <a:ext cx="745488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1357200" y="235080"/>
            <a:ext cx="73566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Use Past Simple or Past Perfec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Calibri"/>
              </a:rPr>
              <a:t>to complete the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776160" y="-5604480"/>
            <a:ext cx="7702560" cy="116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the end of the Olympic Games the national team (win) 12 med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ke (play) ten games by the end of  the seas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e (like) the new game though she never (play) it bef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children (go) to the skating rink as soon as they (return) from the museum.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the second group of tourists (arrive) in London, the first group(already leave).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y (go) home after the film(finis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https://avatars.mds.yandex.net/i?id=886ef2fed66175a607198545fc646ff4ae6d225e-9197564-images-thumbs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2"/>
          <p:cNvSpPr/>
          <p:nvPr/>
        </p:nvSpPr>
        <p:spPr>
          <a:xfrm>
            <a:off x="1828800" y="51264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What have we d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925640" y="1444680"/>
            <a:ext cx="6678720" cy="31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askerville Old Face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Baskerville Old Face"/>
                <a:ea typeface="Times New Roman"/>
              </a:rPr>
              <a:t>- We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ave  done some exercises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we’ve listened to and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nformation about spo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we’ve learnt more facts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asketball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askerville Old Face"/>
              </a:rPr>
              <a:t>    </a:t>
            </a:r>
            <a:r>
              <a:rPr b="1" lang="en-US" sz="2800" spc="-1" strike="noStrike">
                <a:solidFill>
                  <a:srgbClr val="002060"/>
                </a:solidFill>
                <a:latin typeface="Baskerville Old Face"/>
              </a:rPr>
              <a:t>-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we’ve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peated a lot of words,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mple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nd 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st Per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Реклама фитнеса для женщи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Прямоугольник 1" descr=""/>
          <p:cNvPicPr/>
          <p:nvPr/>
        </p:nvPicPr>
        <p:blipFill>
          <a:blip r:embed="rId1"/>
          <a:stretch/>
        </p:blipFill>
        <p:spPr>
          <a:xfrm>
            <a:off x="1322280" y="92160"/>
            <a:ext cx="6353280" cy="1608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Documents and Settings\Бабинцевы\Мои документы\Мои рисунки\позитив\0019.gif"/>
          <p:cNvPicPr/>
          <p:nvPr/>
        </p:nvPicPr>
        <p:blipFill>
          <a:blip r:embed="rId2"/>
          <a:stretch/>
        </p:blipFill>
        <p:spPr>
          <a:xfrm>
            <a:off x="2470320" y="1538280"/>
            <a:ext cx="2520720" cy="1893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Documents and Settings\Бабинцевы\Мои документы\Мои рисунки\позитив\0044.gif"/>
          <p:cNvPicPr/>
          <p:nvPr/>
        </p:nvPicPr>
        <p:blipFill>
          <a:blip r:embed="rId3"/>
          <a:stretch/>
        </p:blipFill>
        <p:spPr>
          <a:xfrm>
            <a:off x="331920" y="3645000"/>
            <a:ext cx="2438280" cy="129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C:\Documents and Settings\Бабинцевы\Мои документы\Мои рисунки\позитив\olvas-3.jpg"/>
          <p:cNvPicPr/>
          <p:nvPr/>
        </p:nvPicPr>
        <p:blipFill>
          <a:blip r:embed="rId4"/>
          <a:stretch/>
        </p:blipFill>
        <p:spPr>
          <a:xfrm>
            <a:off x="6535800" y="4869000"/>
            <a:ext cx="1636560" cy="14396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5"/>
          <p:cNvSpPr/>
          <p:nvPr/>
        </p:nvSpPr>
        <p:spPr>
          <a:xfrm>
            <a:off x="4973760" y="184464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Baskerville Old Face"/>
              </a:rPr>
              <a:t>I did all my best! Excelle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6" descr=""/>
          <p:cNvPicPr/>
          <p:nvPr/>
        </p:nvPicPr>
        <p:blipFill>
          <a:blip r:embed="rId5"/>
          <a:stretch/>
        </p:blipFill>
        <p:spPr>
          <a:xfrm>
            <a:off x="2901960" y="3633840"/>
            <a:ext cx="4791240" cy="116352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7" descr=""/>
          <p:cNvPicPr/>
          <p:nvPr/>
        </p:nvPicPr>
        <p:blipFill>
          <a:blip r:embed="rId6"/>
          <a:stretch/>
        </p:blipFill>
        <p:spPr>
          <a:xfrm>
            <a:off x="-6480" y="5321160"/>
            <a:ext cx="696132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https://w7.pngwing.com/pngs/902/683/png-transparent-poster-physical-education-games-posters-psd-material-game-angle-sport.png"/>
          <p:cNvPicPr/>
          <p:nvPr/>
        </p:nvPicPr>
        <p:blipFill>
          <a:blip r:embed="rId1"/>
          <a:stretch/>
        </p:blipFill>
        <p:spPr>
          <a:xfrm>
            <a:off x="0" y="0"/>
            <a:ext cx="9366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2341440" y="539640"/>
            <a:ext cx="404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Baskerville Old Face"/>
                <a:ea typeface="Times New Roman"/>
              </a:rPr>
              <a:t>Homework</a:t>
            </a:r>
            <a:r>
              <a:rPr b="1" lang="ru-RU" sz="6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1427040" y="1717560"/>
            <a:ext cx="66643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- Do project work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</a:t>
            </a: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Ex</a:t>
            </a:r>
            <a:r>
              <a:rPr b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. </a:t>
            </a: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7</a:t>
            </a:r>
            <a:r>
              <a:rPr b="1" lang="ru-RU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,  р. </a:t>
            </a: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49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</a:t>
            </a: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- Repeat  the Gramm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and the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Baskerville Old Fac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" descr="https://tse3.mm.bing.net/th?id=OIP.gI56gLJlxxlegVE0rCKrswHaFj&amp;pid=Ap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3" descr=""/>
          <p:cNvPicPr/>
          <p:nvPr/>
        </p:nvPicPr>
        <p:blipFill>
          <a:blip r:embed="rId2"/>
          <a:stretch/>
        </p:blipFill>
        <p:spPr>
          <a:xfrm>
            <a:off x="1652760" y="804960"/>
            <a:ext cx="6252840" cy="62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Содержимое 4" descr="https://i.pinimg.com/736x/ce/47/90/ce4790b3d88f4aa0f277a7c3a3e4bc8e--page-borders-olimpi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66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1940040" y="2077920"/>
            <a:ext cx="5832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“</a:t>
            </a:r>
            <a:r>
              <a:rPr b="1" lang="en-US" sz="5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port and outdoor         activities”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2563920" y="3983040"/>
            <a:ext cx="49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Consolidation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ef2f8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c00000"/>
                </a:solidFill>
                <a:latin typeface="Baskerville Old Face"/>
                <a:ea typeface="Times New Roman"/>
              </a:rPr>
              <a:t>The aim:                                                                                              </a:t>
            </a:r>
            <a:r>
              <a:rPr b="1" lang="en-US" sz="200" spc="-1" strike="noStrike">
                <a:solidFill>
                  <a:srgbClr val="7ef2f8"/>
                </a:solidFill>
                <a:latin typeface="Baskerville Old Face"/>
                <a:ea typeface="Times New Roman"/>
              </a:rPr>
              <a:t>g </a:t>
            </a:r>
            <a:r>
              <a:rPr b="1" lang="en-US" sz="3200" spc="-1" strike="noStrike">
                <a:solidFill>
                  <a:srgbClr val="c00000"/>
                </a:solidFill>
                <a:latin typeface="Baskerville Old Face"/>
                <a:ea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solidation of knowle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 the topic of 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  <a:ea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c00000"/>
                </a:solidFill>
                <a:latin typeface="Baskerville Old Face"/>
                <a:ea typeface="Times New Roman"/>
              </a:rPr>
              <a:t>We shall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peak          read          write      listen to   ask &amp;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:\Users\User\Desktop\Famous people\символы\img_43.jpg"/>
          <p:cNvPicPr/>
          <p:nvPr/>
        </p:nvPicPr>
        <p:blipFill>
          <a:blip r:embed="rId1"/>
          <a:srcRect l="0" t="0" r="15700" b="4718"/>
          <a:stretch/>
        </p:blipFill>
        <p:spPr>
          <a:xfrm>
            <a:off x="345960" y="3774960"/>
            <a:ext cx="1584360" cy="1873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User\Desktop\Famous people\символы\ajknweui33v.jpg"/>
          <p:cNvPicPr/>
          <p:nvPr/>
        </p:nvPicPr>
        <p:blipFill>
          <a:blip r:embed="rId2"/>
          <a:srcRect l="16165" t="7817" r="20743" b="9955"/>
          <a:stretch/>
        </p:blipFill>
        <p:spPr>
          <a:xfrm>
            <a:off x="2082960" y="3824280"/>
            <a:ext cx="1446120" cy="175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:\Users\User\Desktop\KX9hxJtx4g4.jpg"/>
          <p:cNvPicPr/>
          <p:nvPr/>
        </p:nvPicPr>
        <p:blipFill>
          <a:blip r:embed="rId3"/>
          <a:stretch/>
        </p:blipFill>
        <p:spPr>
          <a:xfrm>
            <a:off x="3637080" y="3719520"/>
            <a:ext cx="1465200" cy="187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:\Users\User\Desktop\символы\780.jpg"/>
          <p:cNvPicPr/>
          <p:nvPr/>
        </p:nvPicPr>
        <p:blipFill>
          <a:blip r:embed="rId4"/>
          <a:stretch/>
        </p:blipFill>
        <p:spPr>
          <a:xfrm>
            <a:off x="5246640" y="3819600"/>
            <a:ext cx="1459080" cy="1749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User\Desktop\Famous people\символы\12513122799gQs79.jpg"/>
          <p:cNvPicPr/>
          <p:nvPr/>
        </p:nvPicPr>
        <p:blipFill>
          <a:blip r:embed="rId5"/>
          <a:stretch/>
        </p:blipFill>
        <p:spPr>
          <a:xfrm>
            <a:off x="7035840" y="3859200"/>
            <a:ext cx="155412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9"/>
          <p:cNvSpPr/>
          <p:nvPr/>
        </p:nvSpPr>
        <p:spPr>
          <a:xfrm>
            <a:off x="1274760" y="3983040"/>
            <a:ext cx="3683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3" descr="http://prezentacii.info/wp-content/uploads/2015/11/QcL7PtIpE7wT5Xsh/3.jpg"/>
          <p:cNvPicPr/>
          <p:nvPr/>
        </p:nvPicPr>
        <p:blipFill>
          <a:blip r:embed="rId1"/>
          <a:srcRect l="0" t="0" r="51397" b="50774"/>
          <a:stretch/>
        </p:blipFill>
        <p:spPr>
          <a:xfrm>
            <a:off x="4572000" y="3117960"/>
            <a:ext cx="4349880" cy="332424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4" descr=""/>
          <p:cNvPicPr/>
          <p:nvPr/>
        </p:nvPicPr>
        <p:blipFill>
          <a:blip r:embed="rId2"/>
          <a:stretch/>
        </p:blipFill>
        <p:spPr>
          <a:xfrm>
            <a:off x="268200" y="219240"/>
            <a:ext cx="8186760" cy="236520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5" descr=""/>
          <p:cNvPicPr/>
          <p:nvPr/>
        </p:nvPicPr>
        <p:blipFill>
          <a:blip r:embed="rId3"/>
          <a:stretch/>
        </p:blipFill>
        <p:spPr>
          <a:xfrm>
            <a:off x="-6480" y="3157560"/>
            <a:ext cx="4943520" cy="2494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https://tse3.mm.bing.net/th?id=OIP.gI56gLJlxxlegVE0rCKrswHaFj&amp;pid=Ap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2300400" y="762120"/>
            <a:ext cx="5597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2d4093"/>
                </a:solidFill>
                <a:latin typeface="Times New Roman"/>
                <a:ea typeface="Times New Roman"/>
              </a:rPr>
              <a:t>We should do sports to build our body and brain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https://s0.stockolor.com/photos/51/326/soccer-world-cup-football-world-cup-fifa-worldcup-football-world-cup-2014-human-chain-colorful-background-abstract.jpg"/>
          <p:cNvPicPr/>
          <p:nvPr/>
        </p:nvPicPr>
        <p:blipFill>
          <a:blip r:embed="rId1"/>
          <a:stretch/>
        </p:blipFill>
        <p:spPr>
          <a:xfrm>
            <a:off x="0" y="0"/>
            <a:ext cx="95742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1967040" y="179280"/>
            <a:ext cx="5500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Re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</a:t>
            </a:r>
            <a:r>
              <a:rPr b="1" lang="en-US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eat after me</a:t>
            </a:r>
            <a:r>
              <a:rPr b="1" lang="ru-RU" sz="4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: 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2286000" y="928800"/>
            <a:ext cx="6539040" cy="69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[i:]</a:t>
            </a:r>
            <a:r>
              <a:rPr b="0" lang="en-US" sz="3200" spc="-1" strike="noStrike">
                <a:solidFill>
                  <a:srgbClr val="c00000"/>
                </a:solidFill>
                <a:latin typeface="Baskerville Old Face"/>
              </a:rPr>
              <a:t> 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team, peace, ski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[i]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 – swim, silver,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[ai] 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– excited, cycle, cli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[æ]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– athletics, battle,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[ei]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 – trainer, skate, r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[e ]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– tennis, event, ch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[ɔ</a:t>
            </a:r>
            <a:r>
              <a:rPr b="1" lang="en-US" sz="2800" spc="-1" strike="noStrike">
                <a:solidFill>
                  <a:srgbClr val="c00000"/>
                </a:solidFill>
                <a:latin typeface="Baskerville Old Face"/>
              </a:rPr>
              <a:t>]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– golf, boxing, hoc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askerville Old Face"/>
              </a:rPr>
              <a:t>[</a:t>
            </a: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ә</a:t>
            </a:r>
            <a:r>
              <a:rPr b="1" lang="en-US" sz="2500" spc="-1" strike="noStrike">
                <a:solidFill>
                  <a:srgbClr val="c00000"/>
                </a:solidFill>
                <a:latin typeface="Baskerville Old Face"/>
              </a:rPr>
              <a:t>U</a:t>
            </a:r>
            <a:r>
              <a:rPr b="1" lang="en-US" sz="2800" spc="-1" strike="noStrike">
                <a:solidFill>
                  <a:srgbClr val="c00000"/>
                </a:solidFill>
                <a:latin typeface="Baskerville Old Face"/>
              </a:rPr>
              <a:t>]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– though, judo, no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askerville Old Face"/>
              </a:rPr>
              <a:t>[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З</a:t>
            </a:r>
            <a:r>
              <a:rPr b="1" lang="en-US" sz="2800" spc="-1" strike="noStrike">
                <a:solidFill>
                  <a:srgbClr val="c00000"/>
                </a:solidFill>
                <a:latin typeface="Baskerville Old Face"/>
              </a:rPr>
              <a:t>:]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– surfing, retu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askerville Old Face"/>
              </a:rPr>
              <a:t>[</a:t>
            </a:r>
            <a:r>
              <a:rPr b="1" lang="en-US" sz="3300" spc="-1" strike="noStrike">
                <a:solidFill>
                  <a:srgbClr val="c00000"/>
                </a:solidFill>
                <a:latin typeface="Baskerville Old Face"/>
              </a:rPr>
              <a:t>a</a:t>
            </a:r>
            <a:r>
              <a:rPr b="1" lang="en-US" sz="2800" spc="-1" strike="noStrike">
                <a:solidFill>
                  <a:srgbClr val="c00000"/>
                </a:solidFill>
                <a:latin typeface="Baskerville Old Face"/>
              </a:rPr>
              <a:t>:]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– advantage, basketball, k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[</a:t>
            </a:r>
            <a:r>
              <a:rPr b="1" lang="en-US" sz="3200" spc="-1" strike="noStrike">
                <a:solidFill>
                  <a:srgbClr val="c00000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c00000"/>
                </a:solidFill>
                <a:latin typeface="Baskerville Old Face"/>
              </a:rPr>
              <a:t>]  </a:t>
            </a:r>
            <a:r>
              <a:rPr b="1" lang="en-US" sz="3200" spc="-1" strike="noStrike">
                <a:solidFill>
                  <a:srgbClr val="000000"/>
                </a:solidFill>
                <a:latin typeface="Baskerville Old Face"/>
              </a:rPr>
              <a:t>- cross-country, rugby,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https://avatars.mds.yandex.net/i?id=02c2ddfc83e4446911641fb3b0c42c4776a537cf-10119783-images-thumbs&amp;n=13"/>
          <p:cNvPicPr/>
          <p:nvPr/>
        </p:nvPicPr>
        <p:blipFill>
          <a:blip r:embed="rId1"/>
          <a:stretch/>
        </p:blipFill>
        <p:spPr>
          <a:xfrm>
            <a:off x="0" y="0"/>
            <a:ext cx="94759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54040" y="636480"/>
            <a:ext cx="81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Calibri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Calibri"/>
              </a:rPr>
              <a:t>A. Match  the synonyms  in the two colum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5"/>
          <p:cNvSpPr/>
          <p:nvPr/>
        </p:nvSpPr>
        <p:spPr>
          <a:xfrm>
            <a:off x="1454040" y="1509840"/>
            <a:ext cx="35607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rainer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rran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retur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eam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joi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v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4586400" y="1550880"/>
            <a:ext cx="421164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. </a:t>
            </a: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e bac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. cre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. become a memb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. sneak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. organiz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. happe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https://avatars.mds.yandex.net/i?id=02c2ddfc83e4446911641fb3b0c42c4776a537cf-10119783-images-thumbs&amp;n=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636480" y="636480"/>
            <a:ext cx="81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Calibri"/>
              </a:rPr>
              <a:t>B. Match the antonyms  in the two colum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1454040" y="1509840"/>
            <a:ext cx="35607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a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nd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dvantag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limb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mi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ast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4586400" y="1523880"/>
            <a:ext cx="351792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. </a:t>
            </a: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. disadvant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. tasteles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. war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. get down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. begin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2T17:15:32Z</dcterms:created>
  <dc:creator>ольга</dc:creator>
  <dc:description/>
  <dc:language>en-US</dc:language>
  <cp:lastModifiedBy>1</cp:lastModifiedBy>
  <dcterms:modified xsi:type="dcterms:W3CDTF">2023-10-22T19:29:41Z</dcterms:modified>
  <cp:revision>82</cp:revision>
  <dc:subject/>
  <dc:title>Слайд 1</dc:title>
</cp:coreProperties>
</file>