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3.png" ContentType="image/png"/>
  <Override PartName="/ppt/media/image34.gif" ContentType="image/gif"/>
  <Override PartName="/ppt/media/image37.png" ContentType="image/png"/>
  <Override PartName="/ppt/media/image35.gif" ContentType="image/gif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5DCA-079D-4755-9D9B-2AE930694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682C-3336-407C-9B1C-957505029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797-890B-4A0F-BDD1-A6CCC09E8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8E8-64D1-4099-AF1B-B6851223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DB6-FEE6-4201-A18C-19E2A804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32D-0E08-4FC9-9D75-C62026E2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4A7-C8DA-4903-99EC-F6E20B40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D4B-46BE-49DB-B4C5-30E293C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0AC-B607-40AF-A4A9-0886B503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E77-D12A-4F3F-BC5D-CC7D7D16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D0F-8C45-468F-BE89-5C443CC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B0D-F2B6-423C-ADA3-0857007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BCF-6777-4533-88AB-447F2F9C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1B8-36D0-4CEA-A5E3-5AC4D27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E70-B313-4E80-9165-D6A2981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4A7-9975-4228-B02D-5E3C002CF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02120" y="429840"/>
            <a:ext cx="9891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3</a:t>
            </a:r>
            <a:r>
              <a:rPr b="1" lang="en-US" sz="4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ctober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900000" y="636480"/>
            <a:ext cx="75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Calibri"/>
              </a:rPr>
              <a:t>C. Match sports equipments  with sports g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1454040" y="1662120"/>
            <a:ext cx="356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rug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hoc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weightlif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base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d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4586400" y="1649520"/>
            <a:ext cx="351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.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https://7gy.ru/images/doshkolenku/sport-inv/20.jpg"/>
          <p:cNvPicPr/>
          <p:nvPr/>
        </p:nvPicPr>
        <p:blipFill>
          <a:blip r:embed="rId2">
            <a:lum bright="16000"/>
            <a:alphaModFix amt="47000"/>
          </a:blip>
          <a:srcRect l="8480" t="27421" r="10055" b="41509"/>
          <a:stretch/>
        </p:blipFill>
        <p:spPr>
          <a:xfrm>
            <a:off x="5240160" y="1565280"/>
            <a:ext cx="966960" cy="4604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https://7gy.ru/images/doshkolenku/sport-inv/12.jpg"/>
          <p:cNvPicPr/>
          <p:nvPr/>
        </p:nvPicPr>
        <p:blipFill>
          <a:blip r:embed="rId3">
            <a:lum bright="-10000"/>
          </a:blip>
          <a:srcRect l="16128" t="15602" r="18732" b="30814"/>
          <a:stretch/>
        </p:blipFill>
        <p:spPr>
          <a:xfrm>
            <a:off x="6622920" y="1981080"/>
            <a:ext cx="747720" cy="595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https://7gy.ru/images/doshkolenku/sport-inv/10.jpg"/>
          <p:cNvPicPr/>
          <p:nvPr/>
        </p:nvPicPr>
        <p:blipFill>
          <a:blip r:embed="rId4">
            <a:alphaModFix amt="87000"/>
          </a:blip>
          <a:srcRect l="10799" t="15582" r="27071" b="12330"/>
          <a:stretch/>
        </p:blipFill>
        <p:spPr>
          <a:xfrm>
            <a:off x="5167440" y="2535120"/>
            <a:ext cx="7650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https://7gy.ru/images/doshkolenku/sport-inv/4.jpg"/>
          <p:cNvPicPr/>
          <p:nvPr/>
        </p:nvPicPr>
        <p:blipFill>
          <a:blip r:embed="rId5">
            <a:lum contrast="10000"/>
            <a:alphaModFix amt="46000"/>
          </a:blip>
          <a:srcRect l="7424" t="19786" r="8774" b="32155"/>
          <a:stretch/>
        </p:blipFill>
        <p:spPr>
          <a:xfrm>
            <a:off x="6743880" y="3117960"/>
            <a:ext cx="80640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Картинки с изображением спортивного инвентаря для детей"/>
          <p:cNvPicPr/>
          <p:nvPr/>
        </p:nvPicPr>
        <p:blipFill>
          <a:blip r:embed="rId6"/>
          <a:stretch/>
        </p:blipFill>
        <p:spPr>
          <a:xfrm>
            <a:off x="5111640" y="3630600"/>
            <a:ext cx="790560" cy="5824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1" descr="https://7gy.ru/images/doshkolenku/sport-inv/15.jpg"/>
          <p:cNvPicPr/>
          <p:nvPr/>
        </p:nvPicPr>
        <p:blipFill>
          <a:blip r:embed="rId7">
            <a:lum contrast="-18000"/>
          </a:blip>
          <a:srcRect l="16127" t="11709" r="15650" b="27452"/>
          <a:stretch/>
        </p:blipFill>
        <p:spPr>
          <a:xfrm>
            <a:off x="7039080" y="3948120"/>
            <a:ext cx="718920" cy="95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789120" y="0"/>
            <a:ext cx="7454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1357200" y="235080"/>
            <a:ext cx="73566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Calibri"/>
              </a:rPr>
              <a:t>Key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76160" y="-4949640"/>
            <a:ext cx="7702560" cy="10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1" lang="ru-RU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Match the synonyms  in the two colum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– d, 2 – e, 3 – a, 4 – b, 5 – c, 6 – 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Calibri"/>
              </a:rPr>
              <a:t>Match the antonyms  in the two colum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 – d, 2 – f, 3 – b, 4 – e, 5 – a, 6 –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Calibri"/>
              </a:rPr>
              <a:t>C. Match sports equipments  with sports g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 – d, 2 – f, 3 – a, 4 – c, 5 – b, 6 –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5742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s://ds04.infourok.ru/uploads/ex/076f/001452be-6179bc35/img24.jpg"/>
          <p:cNvPicPr/>
          <p:nvPr/>
        </p:nvPicPr>
        <p:blipFill>
          <a:blip r:embed="rId2"/>
          <a:stretch/>
        </p:blipFill>
        <p:spPr>
          <a:xfrm>
            <a:off x="0" y="692280"/>
            <a:ext cx="9615600" cy="61513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" descr=""/>
          <p:cNvPicPr/>
          <p:nvPr/>
        </p:nvPicPr>
        <p:blipFill>
          <a:blip r:embed="rId3"/>
          <a:stretch/>
        </p:blipFill>
        <p:spPr>
          <a:xfrm>
            <a:off x="-6480" y="-115920"/>
            <a:ext cx="8742600" cy="8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1\Desktop\IMG_20231022_125519.jpg"/>
          <p:cNvPicPr/>
          <p:nvPr/>
        </p:nvPicPr>
        <p:blipFill>
          <a:blip r:embed="rId1"/>
          <a:stretch/>
        </p:blipFill>
        <p:spPr>
          <a:xfrm>
            <a:off x="-166680" y="14400"/>
            <a:ext cx="93520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018.mp3" descr=""/>
          <p:cNvPicPr/>
          <p:nvPr/>
        </p:nvPicPr>
        <p:blipFill>
          <a:blip r:embed="rId2"/>
          <a:stretch/>
        </p:blipFill>
        <p:spPr>
          <a:xfrm>
            <a:off x="7142040" y="5999040"/>
            <a:ext cx="484200" cy="4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0383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Смайлик здоровый образ жиз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415800" y="1938240"/>
            <a:ext cx="240048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3"/>
          <a:stretch/>
        </p:blipFill>
        <p:spPr>
          <a:xfrm>
            <a:off x="-304920" y="1652760"/>
            <a:ext cx="1292400" cy="128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0" y="582480"/>
            <a:ext cx="9144000" cy="62755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5"/>
          <a:stretch/>
        </p:blipFill>
        <p:spPr>
          <a:xfrm>
            <a:off x="1347840" y="-208080"/>
            <a:ext cx="6437160" cy="1195560"/>
          </a:xfrm>
          <a:prstGeom prst="rect">
            <a:avLst/>
          </a:prstGeom>
          <a:ln w="0">
            <a:noFill/>
          </a:ln>
        </p:spPr>
      </p:pic>
      <p:pic>
        <p:nvPicPr>
          <p:cNvPr id="100" name="Неизвестен — Очень красивая мелодия для души.mp3" descr=""/>
          <p:cNvPicPr/>
          <p:nvPr/>
        </p:nvPicPr>
        <p:blipFill>
          <a:blip r:embed="rId6"/>
          <a:stretch/>
        </p:blipFill>
        <p:spPr>
          <a:xfrm>
            <a:off x="582480" y="4384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3167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https://fsd.multiurok.ru/html/2019/12/07/s_5deba59be4ff3/img8.jpg"/>
          <p:cNvPicPr/>
          <p:nvPr/>
        </p:nvPicPr>
        <p:blipFill>
          <a:blip r:embed="rId1"/>
          <a:srcRect l="49696" t="0" r="24644" b="0"/>
          <a:stretch/>
        </p:blipFill>
        <p:spPr>
          <a:xfrm>
            <a:off x="5070600" y="0"/>
            <a:ext cx="292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https://fsd.multiurok.ru/html/2019/12/07/s_5deba59be4ff3/img8.jpg"/>
          <p:cNvPicPr/>
          <p:nvPr/>
        </p:nvPicPr>
        <p:blipFill>
          <a:blip r:embed="rId2"/>
          <a:srcRect l="0" t="0" r="74629" b="3331"/>
          <a:stretch/>
        </p:blipFill>
        <p:spPr>
          <a:xfrm>
            <a:off x="1413000" y="0"/>
            <a:ext cx="2909880" cy="6594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3782880" y="5970600"/>
            <a:ext cx="4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https://uchebnik.mos.ru/system_2/atomic_objects/files/006/279/223/original/%D0%BF%D1%80%D0%BE%D1%88_%D0%B2%D1%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https://mulino58.ru/wp-content/uploads/4/9/a/49aaa1f0718347132e1c8694e558b92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789120" y="0"/>
            <a:ext cx="7454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357200" y="235080"/>
            <a:ext cx="73566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Use Past Simple or Past Perfec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to complete the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76160" y="-5604480"/>
            <a:ext cx="7702560" cy="11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 end of the Olympic Games the national team (win) 12 med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ke (play) ten games by the end of  the sea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e (like) the new game though she never (play) it bef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hildren (go) to the skating rink as soon as they (return) from the museum.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second group of tourists (arrive) in London, the first group(already leave).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 (go) home after the film(finis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https://avatars.mds.yandex.net/i?id=886ef2fed66175a607198545fc646ff4ae6d225e-9197564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1828800" y="51264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hat have we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925640" y="1444680"/>
            <a:ext cx="667872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askerville Old Face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Baskerville Old Face"/>
                <a:ea typeface="Times New Roman"/>
              </a:rPr>
              <a:t>- We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ave  done some exercises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we’ve listened to and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ormation about spo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we’ve learnt more fact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asketball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askerville Old Face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Baskerville Old Face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’ve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eated a lot of words,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mple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d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Реклама фитнеса для женщи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92160"/>
            <a:ext cx="6353280" cy="160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Бабинцевы\Мои документы\Мои рисунки\позитив\0019.gif"/>
          <p:cNvPicPr/>
          <p:nvPr/>
        </p:nvPicPr>
        <p:blipFill>
          <a:blip r:embed="rId2"/>
          <a:stretch/>
        </p:blipFill>
        <p:spPr>
          <a:xfrm>
            <a:off x="2470320" y="1538280"/>
            <a:ext cx="2520720" cy="189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Бабинцевы\Мои документы\Мои рисунки\позитив\0044.gif"/>
          <p:cNvPicPr/>
          <p:nvPr/>
        </p:nvPicPr>
        <p:blipFill>
          <a:blip r:embed="rId3"/>
          <a:stretch/>
        </p:blipFill>
        <p:spPr>
          <a:xfrm>
            <a:off x="331920" y="3645000"/>
            <a:ext cx="2438280" cy="129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Бабинцевы\Мои документы\Мои рисунки\позитив\olvas-3.jpg"/>
          <p:cNvPicPr/>
          <p:nvPr/>
        </p:nvPicPr>
        <p:blipFill>
          <a:blip r:embed="rId4"/>
          <a:stretch/>
        </p:blipFill>
        <p:spPr>
          <a:xfrm>
            <a:off x="6535800" y="4869000"/>
            <a:ext cx="1636560" cy="1439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4973760" y="184464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I did all my best! Excelle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6" descr=""/>
          <p:cNvPicPr/>
          <p:nvPr/>
        </p:nvPicPr>
        <p:blipFill>
          <a:blip r:embed="rId5"/>
          <a:stretch/>
        </p:blipFill>
        <p:spPr>
          <a:xfrm>
            <a:off x="2901960" y="3633840"/>
            <a:ext cx="4791240" cy="11635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7" descr=""/>
          <p:cNvPicPr/>
          <p:nvPr/>
        </p:nvPicPr>
        <p:blipFill>
          <a:blip r:embed="rId6"/>
          <a:stretch/>
        </p:blipFill>
        <p:spPr>
          <a:xfrm>
            <a:off x="-6480" y="5321160"/>
            <a:ext cx="696132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https://w7.pngwing.com/pngs/902/683/png-transparent-poster-physical-education-games-posters-psd-material-game-angle-sport.png"/>
          <p:cNvPicPr/>
          <p:nvPr/>
        </p:nvPicPr>
        <p:blipFill>
          <a:blip r:embed="rId1"/>
          <a:stretch/>
        </p:blipFill>
        <p:spPr>
          <a:xfrm>
            <a:off x="0" y="0"/>
            <a:ext cx="9366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2341440" y="539640"/>
            <a:ext cx="404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askerville Old Face"/>
                <a:ea typeface="Times New Roman"/>
              </a:rPr>
              <a:t>Homework</a:t>
            </a: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427040" y="1717560"/>
            <a:ext cx="66643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 Do project work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Ex</a:t>
            </a: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.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7</a:t>
            </a: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,  р.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4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 Repeat  the Gramm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nd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https://tse3.mm.bing.net/th?id=OIP.gI56gLJlxxlegVE0rCKrswHaFj&amp;pid=A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3" descr=""/>
          <p:cNvPicPr/>
          <p:nvPr/>
        </p:nvPicPr>
        <p:blipFill>
          <a:blip r:embed="rId2"/>
          <a:stretch/>
        </p:blipFill>
        <p:spPr>
          <a:xfrm>
            <a:off x="1652760" y="804960"/>
            <a:ext cx="6252840" cy="62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4" descr="https://i.pinimg.com/736x/ce/47/90/ce4790b3d88f4aa0f277a7c3a3e4bc8e--page-borders-olim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940040" y="2077920"/>
            <a:ext cx="5832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en-US" sz="5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ort and outdoor         activities”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2563920" y="3983040"/>
            <a:ext cx="49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Consolidation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ef2f8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The aim:                                                                                              </a:t>
            </a:r>
            <a:r>
              <a:rPr b="1" lang="en-US" sz="200" spc="-1" strike="noStrike">
                <a:solidFill>
                  <a:srgbClr val="7ef2f8"/>
                </a:solidFill>
                <a:latin typeface="Baskerville Old Face"/>
                <a:ea typeface="Times New Roman"/>
              </a:rPr>
              <a:t>g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solidation of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the topic of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We shall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ak          read          write      listen to   ask &amp;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User\Desktop\Famous people\символы\img_43.jpg"/>
          <p:cNvPicPr/>
          <p:nvPr/>
        </p:nvPicPr>
        <p:blipFill>
          <a:blip r:embed="rId1"/>
          <a:srcRect l="0" t="0" r="15700" b="4718"/>
          <a:stretch/>
        </p:blipFill>
        <p:spPr>
          <a:xfrm>
            <a:off x="345960" y="3774960"/>
            <a:ext cx="1584360" cy="187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User\Desktop\Famous people\символы\ajknweui33v.jpg"/>
          <p:cNvPicPr/>
          <p:nvPr/>
        </p:nvPicPr>
        <p:blipFill>
          <a:blip r:embed="rId2"/>
          <a:srcRect l="16165" t="7817" r="20743" b="9955"/>
          <a:stretch/>
        </p:blipFill>
        <p:spPr>
          <a:xfrm>
            <a:off x="2082960" y="3824280"/>
            <a:ext cx="1446120" cy="175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User\Desktop\KX9hxJtx4g4.jpg"/>
          <p:cNvPicPr/>
          <p:nvPr/>
        </p:nvPicPr>
        <p:blipFill>
          <a:blip r:embed="rId3"/>
          <a:stretch/>
        </p:blipFill>
        <p:spPr>
          <a:xfrm>
            <a:off x="3637080" y="3719520"/>
            <a:ext cx="1465200" cy="18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User\Desktop\символы\780.jpg"/>
          <p:cNvPicPr/>
          <p:nvPr/>
        </p:nvPicPr>
        <p:blipFill>
          <a:blip r:embed="rId4"/>
          <a:stretch/>
        </p:blipFill>
        <p:spPr>
          <a:xfrm>
            <a:off x="5246640" y="3819600"/>
            <a:ext cx="1459080" cy="174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Desktop\Famous people\символы\12513122799gQs79.jpg"/>
          <p:cNvPicPr/>
          <p:nvPr/>
        </p:nvPicPr>
        <p:blipFill>
          <a:blip r:embed="rId5"/>
          <a:stretch/>
        </p:blipFill>
        <p:spPr>
          <a:xfrm>
            <a:off x="7035840" y="3859200"/>
            <a:ext cx="155412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1274760" y="3983040"/>
            <a:ext cx="368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http://prezentacii.info/wp-content/uploads/2015/11/QcL7PtIpE7wT5Xsh/3.jpg"/>
          <p:cNvPicPr/>
          <p:nvPr/>
        </p:nvPicPr>
        <p:blipFill>
          <a:blip r:embed="rId1"/>
          <a:srcRect l="0" t="0" r="51397" b="50774"/>
          <a:stretch/>
        </p:blipFill>
        <p:spPr>
          <a:xfrm>
            <a:off x="4572000" y="3117960"/>
            <a:ext cx="4349880" cy="33242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186760" cy="23652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3157560"/>
            <a:ext cx="494352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s://tse3.mm.bing.net/th?id=OIP.gI56gLJlxxlegVE0rCKrswHaFj&amp;pid=A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300400" y="762120"/>
            <a:ext cx="5597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d4093"/>
                </a:solidFill>
                <a:latin typeface="Times New Roman"/>
                <a:ea typeface="Times New Roman"/>
              </a:rPr>
              <a:t>We should do sports to build our body and brai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ttps://s0.stockolor.com/photos/51/326/soccer-world-cup-football-world-cup-fifa-worldcup-football-world-cup-2014-human-chain-colorful-background-abstract.jpg"/>
          <p:cNvPicPr/>
          <p:nvPr/>
        </p:nvPicPr>
        <p:blipFill>
          <a:blip r:embed="rId1"/>
          <a:stretch/>
        </p:blipFill>
        <p:spPr>
          <a:xfrm>
            <a:off x="0" y="0"/>
            <a:ext cx="9574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67040" y="179280"/>
            <a:ext cx="5500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Re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at after me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286000" y="928800"/>
            <a:ext cx="653904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i:]</a:t>
            </a:r>
            <a:r>
              <a:rPr b="0" lang="en-US" sz="3200" spc="-1" strike="noStrike">
                <a:solidFill>
                  <a:srgbClr val="c00000"/>
                </a:solidFill>
                <a:latin typeface="Baskerville Old Face"/>
              </a:rPr>
              <a:t>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eam, peace, ski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i]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 – swim, silver,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ai] 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excited, cycle, c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æ]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athletics, battle,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ei]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 – trainer, skate, r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e ]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tennis, event, ch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ɔ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golf, boxing,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ә</a:t>
            </a:r>
            <a:r>
              <a:rPr b="1" lang="en-US" sz="2500" spc="-1" strike="noStrike">
                <a:solidFill>
                  <a:srgbClr val="c00000"/>
                </a:solidFill>
                <a:latin typeface="Baskerville Old Face"/>
              </a:rPr>
              <a:t>U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though, judo, no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:]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surfing, retu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en-US" sz="3300" spc="-1" strike="noStrike">
                <a:solidFill>
                  <a:srgbClr val="c00000"/>
                </a:solidFill>
                <a:latin typeface="Baskerville Old Face"/>
              </a:rPr>
              <a:t>a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:]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advantage, basketball, k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] 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- cross-country, rugby,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475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54040" y="63648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Calibri"/>
              </a:rPr>
              <a:t>A. Match  the synonyms  in the two colum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1454040" y="1509840"/>
            <a:ext cx="35607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i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ran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ur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a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i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v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4586400" y="1550880"/>
            <a:ext cx="421164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.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e ba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. cr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. become a memb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. snea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. organ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. happe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636480" y="636480"/>
            <a:ext cx="81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Calibri"/>
              </a:rPr>
              <a:t>B. Match the antonyms  in the two colum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454040" y="1509840"/>
            <a:ext cx="35607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vantag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b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m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s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4586400" y="1523880"/>
            <a:ext cx="35179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.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. disadvant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. tasteles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. wa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. get dow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. begin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7:15:32Z</dcterms:created>
  <dc:creator>ольга</dc:creator>
  <dc:description/>
  <dc:language>en-US</dc:language>
  <cp:lastModifiedBy>1</cp:lastModifiedBy>
  <dcterms:modified xsi:type="dcterms:W3CDTF">2023-10-22T19:29:41Z</dcterms:modified>
  <cp:revision>82</cp:revision>
  <dc:subject/>
  <dc:title>Слайд 1</dc:title>
</cp:coreProperties>
</file>