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5EDE-98C5-4943-AC1A-0ECADFDAF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B489-3FE1-4728-A5F0-AC731B99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D2DF-EAE4-4649-A9DC-4480895DF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BA84-A73E-43EC-ACFB-3F0B356EE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C4915-0FDC-4601-8CDD-639C01E40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8A902-106B-45F6-B839-BCF92C06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D417F-9F72-46F2-8586-CB9589AB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ABC08-77F5-45C2-890B-187FF9D5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51C52-F102-4970-A9F9-C2CD6579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066A2-EECD-4BDC-B9CC-6369215D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B4422-9CCF-4DC8-8955-80105D5B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3638-7284-4330-BB18-B0884BB1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72331-C01C-497A-97A8-67EACA80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14942-CA5E-4953-ACC9-42F6290C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30EE0-C2BE-436D-B456-576DA62A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AEF23-97C2-4147-9D49-BF750F5B5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33289-7C59-47BA-A27F-E31897E0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C3C7-F114-4D64-8109-1A06318C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C07E-5AC8-4960-AF4B-FBEB4C39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9242-B979-4FC3-ABB0-2F6FECE8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A759-3D77-4162-8B84-34F2F3E2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AC73-5F87-4CA1-A9A6-260CD0D0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7E0A-D7C8-4051-B14C-9891F37D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672E-61B3-42DB-9069-864C0C18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A544-61D4-4429-A840-6EAE5C0536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B64C-8CE7-486B-8632-1E6A61D75E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108000" y="333360"/>
            <a:ext cx="892800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Тема. Фразеологизмы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у выполни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учающие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 –в класс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БОУ СОШ №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ибкова Анастас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ибкова Соф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ководитель Мысак Е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6" descr="1203949310_2"/>
          <p:cNvPicPr/>
          <p:nvPr/>
        </p:nvPicPr>
        <p:blipFill>
          <a:blip r:embed="rId1"/>
          <a:stretch/>
        </p:blipFill>
        <p:spPr>
          <a:xfrm>
            <a:off x="0" y="2708280"/>
            <a:ext cx="9144000" cy="4149720"/>
          </a:xfrm>
          <a:prstGeom prst="rect">
            <a:avLst/>
          </a:prstGeom>
          <a:ln w="0">
            <a:noFill/>
          </a:ln>
        </p:spPr>
      </p:pic>
      <p:sp>
        <p:nvSpPr>
          <p:cNvPr id="160" name="WordArt 7"/>
          <p:cNvSpPr txBox="1"/>
          <p:nvPr/>
        </p:nvSpPr>
        <p:spPr>
          <a:xfrm>
            <a:off x="611280" y="47520"/>
            <a:ext cx="792144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де раки зимуют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395280" y="97956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казывается, выражение тесно связано с историей нашего нар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469800" y="1870560"/>
            <a:ext cx="6951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сюда  пошло: если хотят кого-то серьёзно наказать, говоря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«Я покажу тебе, где раки зимуют»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77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770" fill="hold"/>
                                        <p:tgtEl>
                                          <p:spTgt spid="1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1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4"/>
          <p:cNvSpPr txBox="1"/>
          <p:nvPr/>
        </p:nvSpPr>
        <p:spPr>
          <a:xfrm>
            <a:off x="1476360" y="260280"/>
            <a:ext cx="604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От доски до доск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4" name="Picture 5" descr="001_1_large"/>
          <p:cNvPicPr/>
          <p:nvPr/>
        </p:nvPicPr>
        <p:blipFill>
          <a:blip r:embed="rId1"/>
          <a:stretch/>
        </p:blipFill>
        <p:spPr>
          <a:xfrm>
            <a:off x="0" y="2158920"/>
            <a:ext cx="6264360" cy="46990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399240" y="1196280"/>
            <a:ext cx="592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выражение связанно с книг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299880" y="1629000"/>
            <a:ext cx="8844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читать всю книгу от начала до конца – значи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чита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т дос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      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до доск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      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т кор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      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до корки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8" descr="element"/>
          <p:cNvPicPr/>
          <p:nvPr/>
        </p:nvPicPr>
        <p:blipFill>
          <a:blip r:embed="rId2"/>
          <a:stretch/>
        </p:blipFill>
        <p:spPr>
          <a:xfrm>
            <a:off x="6300720" y="4365720"/>
            <a:ext cx="28432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77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2" dur="770" fill="hold"/>
                                        <p:tgtEl>
                                          <p:spTgt spid="1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4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6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6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9" dur="2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2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помни русские послови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WordArt 4"/>
          <p:cNvSpPr txBox="1"/>
          <p:nvPr/>
        </p:nvSpPr>
        <p:spPr>
          <a:xfrm>
            <a:off x="757080" y="260280"/>
            <a:ext cx="7631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ексические задан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0" name="Picture 5" descr="Loshady"/>
          <p:cNvPicPr/>
          <p:nvPr/>
        </p:nvPicPr>
        <p:blipFill>
          <a:blip r:embed="rId1"/>
          <a:stretch/>
        </p:blipFill>
        <p:spPr>
          <a:xfrm>
            <a:off x="0" y="2276640"/>
            <a:ext cx="3348000" cy="2162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wb17"/>
          <p:cNvPicPr/>
          <p:nvPr/>
        </p:nvPicPr>
        <p:blipFill>
          <a:blip r:embed="rId2"/>
          <a:stretch/>
        </p:blipFill>
        <p:spPr>
          <a:xfrm>
            <a:off x="0" y="4437000"/>
            <a:ext cx="3348000" cy="2421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1"/>
          <p:cNvSpPr/>
          <p:nvPr/>
        </p:nvSpPr>
        <p:spPr>
          <a:xfrm>
            <a:off x="4176720" y="2707200"/>
            <a:ext cx="49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гони коня кнутом, а          гони овс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4715640" y="4867920"/>
            <a:ext cx="341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воём дому 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ены помогают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13"/>
          <p:cNvSpPr/>
          <p:nvPr/>
        </p:nvSpPr>
        <p:spPr>
          <a:xfrm>
            <a:off x="3348000" y="4437000"/>
            <a:ext cx="579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77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3" dur="770" fill="hold"/>
                                        <p:tgtEl>
                                          <p:spTgt spid="1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5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7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Свинья"/>
          <p:cNvPicPr/>
          <p:nvPr/>
        </p:nvPicPr>
        <p:blipFill>
          <a:blip r:embed="rId1"/>
          <a:stretch/>
        </p:blipFill>
        <p:spPr>
          <a:xfrm>
            <a:off x="0" y="0"/>
            <a:ext cx="3635280" cy="3573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9voron_b"/>
          <p:cNvPicPr/>
          <p:nvPr/>
        </p:nvPicPr>
        <p:blipFill>
          <a:blip r:embed="rId2"/>
          <a:stretch/>
        </p:blipFill>
        <p:spPr>
          <a:xfrm>
            <a:off x="0" y="3573360"/>
            <a:ext cx="3635280" cy="32846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6"/>
          <p:cNvSpPr/>
          <p:nvPr/>
        </p:nvSpPr>
        <p:spPr>
          <a:xfrm>
            <a:off x="4137840" y="1267560"/>
            <a:ext cx="4810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ади свинью за стол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а и ноги на сто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5003640" y="4507560"/>
            <a:ext cx="328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уганая воро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ста боится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3635280" y="3573360"/>
            <a:ext cx="550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4"/>
          <p:cNvSpPr txBox="1"/>
          <p:nvPr/>
        </p:nvSpPr>
        <p:spPr>
          <a:xfrm>
            <a:off x="1042920" y="333360"/>
            <a:ext cx="720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зови фразеологизм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1" name="Picture 6" descr="Loshady"/>
          <p:cNvPicPr/>
          <p:nvPr/>
        </p:nvPicPr>
        <p:blipFill>
          <a:blip r:embed="rId1"/>
          <a:stretch/>
        </p:blipFill>
        <p:spPr>
          <a:xfrm>
            <a:off x="0" y="1628640"/>
            <a:ext cx="4500720" cy="28800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8"/>
          <p:cNvSpPr/>
          <p:nvPr/>
        </p:nvSpPr>
        <p:spPr>
          <a:xfrm>
            <a:off x="0" y="4773960"/>
            <a:ext cx="4500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в коня кор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Работать как лошад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9"/>
          <p:cNvSpPr/>
          <p:nvPr/>
        </p:nvSpPr>
        <p:spPr>
          <a:xfrm>
            <a:off x="4572000" y="1557360"/>
            <a:ext cx="0" cy="5300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10" descr="Belka"/>
          <p:cNvPicPr/>
          <p:nvPr/>
        </p:nvPicPr>
        <p:blipFill>
          <a:blip r:embed="rId2"/>
          <a:stretch/>
        </p:blipFill>
        <p:spPr>
          <a:xfrm>
            <a:off x="4643280" y="1628640"/>
            <a:ext cx="4500720" cy="28800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1"/>
          <p:cNvSpPr/>
          <p:nvPr/>
        </p:nvSpPr>
        <p:spPr>
          <a:xfrm>
            <a:off x="5362920" y="5083920"/>
            <a:ext cx="302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ртеться ка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лка в колес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77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6" dur="770" fill="hold"/>
                                        <p:tgtEl>
                                          <p:spTgt spid="1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8" dur="77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0" dur="77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Свинья"/>
          <p:cNvPicPr/>
          <p:nvPr/>
        </p:nvPicPr>
        <p:blipFill>
          <a:blip r:embed="rId1"/>
          <a:stretch/>
        </p:blipFill>
        <p:spPr>
          <a:xfrm>
            <a:off x="0" y="0"/>
            <a:ext cx="4427640" cy="3716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9voron_b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7162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6"/>
          <p:cNvSpPr/>
          <p:nvPr/>
        </p:nvSpPr>
        <p:spPr>
          <a:xfrm>
            <a:off x="740880" y="4075560"/>
            <a:ext cx="308700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усь свинь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товарищ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винья всегд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грязь найдё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5220720" y="4652280"/>
            <a:ext cx="332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орон счита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450072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сканирование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4"/>
          <p:cNvSpPr txBox="1"/>
          <p:nvPr/>
        </p:nvSpPr>
        <p:spPr>
          <a:xfrm>
            <a:off x="755640" y="260280"/>
            <a:ext cx="7561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ревнование «Кто больше?»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3" name="Picture 6" descr="Eye2222"/>
          <p:cNvPicPr/>
          <p:nvPr/>
        </p:nvPicPr>
        <p:blipFill>
          <a:blip r:embed="rId1"/>
          <a:stretch/>
        </p:blipFill>
        <p:spPr>
          <a:xfrm>
            <a:off x="6300720" y="1268280"/>
            <a:ext cx="2843280" cy="2952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39771511_FG"/>
          <p:cNvPicPr/>
          <p:nvPr/>
        </p:nvPicPr>
        <p:blipFill>
          <a:blip r:embed="rId2"/>
          <a:stretch/>
        </p:blipFill>
        <p:spPr>
          <a:xfrm>
            <a:off x="0" y="3789360"/>
            <a:ext cx="3059280" cy="3068640"/>
          </a:xfrm>
          <a:prstGeom prst="rect">
            <a:avLst/>
          </a:prstGeom>
          <a:ln w="0">
            <a:noFill/>
          </a:ln>
        </p:spPr>
      </p:pic>
      <p:sp>
        <p:nvSpPr>
          <p:cNvPr id="195" name="Line 8"/>
          <p:cNvSpPr/>
          <p:nvPr/>
        </p:nvSpPr>
        <p:spPr>
          <a:xfrm>
            <a:off x="3059280" y="3789360"/>
            <a:ext cx="324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9"/>
          <p:cNvSpPr/>
          <p:nvPr/>
        </p:nvSpPr>
        <p:spPr>
          <a:xfrm flipH="1">
            <a:off x="3059280" y="4221000"/>
            <a:ext cx="324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10"/>
          <p:cNvSpPr/>
          <p:nvPr/>
        </p:nvSpPr>
        <p:spPr>
          <a:xfrm>
            <a:off x="3419640" y="3789360"/>
            <a:ext cx="431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11"/>
          <p:cNvSpPr/>
          <p:nvPr/>
        </p:nvSpPr>
        <p:spPr>
          <a:xfrm>
            <a:off x="4427640" y="3789360"/>
            <a:ext cx="431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12"/>
          <p:cNvSpPr/>
          <p:nvPr/>
        </p:nvSpPr>
        <p:spPr>
          <a:xfrm>
            <a:off x="5435640" y="3789360"/>
            <a:ext cx="431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13"/>
          <p:cNvSpPr/>
          <p:nvPr/>
        </p:nvSpPr>
        <p:spPr>
          <a:xfrm>
            <a:off x="904680" y="1338480"/>
            <a:ext cx="503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золить глаза; хлопать глаз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ворить в глаз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скать пыль в глаз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лазом не моргнуть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глазу на глаз; хоть глаз выкал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бельмо в глаз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3102840" y="4533120"/>
            <a:ext cx="604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 всех ног; встать с левой ног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биться с ног; идти в ногу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таться под ногам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г под собой не чуять; одна нога здес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ругая там; встать на ног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WordArt 4"/>
          <p:cNvSpPr txBox="1"/>
          <p:nvPr/>
        </p:nvSpPr>
        <p:spPr>
          <a:xfrm>
            <a:off x="1836720" y="333360"/>
            <a:ext cx="547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Рисунки - подсказк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3" name="Picture 6" descr="рис -подсказ"/>
          <p:cNvPicPr/>
          <p:nvPr/>
        </p:nvPicPr>
        <p:blipFill>
          <a:blip r:embed="rId1"/>
          <a:stretch/>
        </p:blipFill>
        <p:spPr>
          <a:xfrm>
            <a:off x="2268360" y="2349360"/>
            <a:ext cx="4513320" cy="352440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7"/>
          <p:cNvSpPr/>
          <p:nvPr/>
        </p:nvSpPr>
        <p:spPr>
          <a:xfrm>
            <a:off x="38160" y="2244960"/>
            <a:ext cx="208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Яблок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негде упас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344160" y="5629320"/>
            <a:ext cx="285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лышн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ак муха пролети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4220280" y="616464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ервая ласточ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1260000" y="1530720"/>
            <a:ext cx="27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озёл отпуще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4652280" y="1411920"/>
            <a:ext cx="30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 рубашке родился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2844720" y="385956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На душе кошки скребу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7165440" y="2132280"/>
            <a:ext cx="197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омар но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не подточи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14"/>
          <p:cNvSpPr/>
          <p:nvPr/>
        </p:nvSpPr>
        <p:spPr>
          <a:xfrm>
            <a:off x="7237800" y="3859200"/>
            <a:ext cx="182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Голов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ак решето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15"/>
          <p:cNvSpPr/>
          <p:nvPr/>
        </p:nvSpPr>
        <p:spPr>
          <a:xfrm>
            <a:off x="414720" y="4044960"/>
            <a:ext cx="134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оба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на се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7456680" y="5413680"/>
            <a:ext cx="129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ел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галош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820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об стенку горо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ть кол на голове теш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азано – сдела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видать как своих уш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ему своё врем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му про Ерёму, а он про Фом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с луны свалил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усским языком сказа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у в ступе толоч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WordArt 4"/>
          <p:cNvSpPr txBox="1"/>
          <p:nvPr/>
        </p:nvSpPr>
        <p:spPr>
          <a:xfrm>
            <a:off x="1332000" y="260280"/>
            <a:ext cx="6697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ашу маслом не испортишь.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77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4" dur="770" fill="hold"/>
                                        <p:tgtEl>
                                          <p:spTgt spid="2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6" dur="77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8" dur="77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6"/>
          <p:cNvSpPr txBox="1"/>
          <p:nvPr/>
        </p:nvSpPr>
        <p:spPr>
          <a:xfrm>
            <a:off x="826920" y="549360"/>
            <a:ext cx="712980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разеологизм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1"/>
          <a:stretch/>
        </p:blipFill>
        <p:spPr>
          <a:xfrm>
            <a:off x="6286680" y="2565360"/>
            <a:ext cx="2857320" cy="4210200"/>
          </a:xfrm>
          <a:prstGeom prst="rect">
            <a:avLst/>
          </a:prstGeom>
          <a:ln w="0">
            <a:noFill/>
          </a:ln>
        </p:spPr>
      </p:pic>
      <p:sp>
        <p:nvSpPr>
          <p:cNvPr id="125" name="WordArt 9"/>
          <p:cNvSpPr txBox="1"/>
          <p:nvPr/>
        </p:nvSpPr>
        <p:spPr>
          <a:xfrm>
            <a:off x="324000" y="2852640"/>
            <a:ext cx="593388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от альфы до омеги" означает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всё целиком",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от начала до конца"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2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3 0 0.06 0.03596 0.06 0.07991 C 0.06 0.13185 0.03 0.15049 0.012 0.15848 L -0.012 0.16647 C -0.03 0.17446 -0.06 0.19444 -0.06 0.25304 C -0.06 0.29033 -0.033 0.33295 0 0.33295 C 0.033 0.33295 0.06 0.29033 0.06 0.25304 C 0.06 0.19444 0.03 0.17446 0.012 0.16647 L -0.012 0.15848 C -0.03 0.15049 -0.06 0.13185 -0.06 0.07991 C -0.06 0.03596 -0.033 0 0 0 Z">
                                      <p:cBhvr>
                                        <p:cTn id="11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4560" y="1740960"/>
            <a:ext cx="9109080" cy="51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следуя раздел фразеологии мы узнали, откуда пришли к нам устойчивые сочет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знакомились с историей происхождения фразеологизмов, крылатых выраж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полнили и расширили свой словарный запас фразеологическими оборотами, пословицами и поговорк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в заключении нашего выступления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мехопауз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юмористические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фразеологизм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WordArt 4"/>
          <p:cNvSpPr txBox="1"/>
          <p:nvPr/>
        </p:nvSpPr>
        <p:spPr>
          <a:xfrm>
            <a:off x="2916360" y="333360"/>
            <a:ext cx="302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Выв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short-hands"/>
          <p:cNvPicPr/>
          <p:nvPr/>
        </p:nvPicPr>
        <p:blipFill>
          <a:blip r:embed="rId1"/>
          <a:stretch/>
        </p:blipFill>
        <p:spPr>
          <a:xfrm>
            <a:off x="-828720" y="-171360"/>
            <a:ext cx="5688000" cy="7029360"/>
          </a:xfrm>
          <a:prstGeom prst="rect">
            <a:avLst/>
          </a:prstGeom>
          <a:ln w="0">
            <a:noFill/>
          </a:ln>
        </p:spPr>
      </p:pic>
      <p:sp>
        <p:nvSpPr>
          <p:cNvPr id="219" name="WordArt 6"/>
          <p:cNvSpPr txBox="1"/>
          <p:nvPr/>
        </p:nvSpPr>
        <p:spPr>
          <a:xfrm>
            <a:off x="5148360" y="2205000"/>
            <a:ext cx="3816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уки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ротк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6" descr="footless"/>
          <p:cNvPicPr/>
          <p:nvPr/>
        </p:nvPicPr>
        <p:blipFill>
          <a:blip r:embed="rId1"/>
          <a:stretch/>
        </p:blipFill>
        <p:spPr>
          <a:xfrm>
            <a:off x="0" y="-171360"/>
            <a:ext cx="9505800" cy="7029360"/>
          </a:xfrm>
          <a:prstGeom prst="rect">
            <a:avLst/>
          </a:prstGeom>
          <a:ln w="0">
            <a:noFill/>
          </a:ln>
        </p:spPr>
      </p:pic>
      <p:sp>
        <p:nvSpPr>
          <p:cNvPr id="221" name="WordArt 7"/>
          <p:cNvSpPr txBox="1"/>
          <p:nvPr/>
        </p:nvSpPr>
        <p:spPr>
          <a:xfrm>
            <a:off x="684360" y="189000"/>
            <a:ext cx="7416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ез  задних  ног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WordArt 4"/>
          <p:cNvSpPr txBox="1"/>
          <p:nvPr/>
        </p:nvSpPr>
        <p:spPr>
          <a:xfrm>
            <a:off x="2268360" y="333360"/>
            <a:ext cx="44658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Литератур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1620720" y="1989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олина В. «Учимся играя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1118160" y="2992320"/>
            <a:ext cx="70538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Фразеологический словарь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усского языка для школьник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181080" y="4724280"/>
            <a:ext cx="88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жегов С.И. «Словарь русского языка»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облемные вопрос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такое фразеологизм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рождаются фразеологизм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ва их роль в русском язык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Задач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знать, что такое фразеолог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знакомиться с историей создания фразеологизм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иться точно употреблять их в реч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ширить свой лексикон и лексикон своих друзей устойчивыми оборот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000" y="404640"/>
            <a:ext cx="867564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рождаются слова, когда и кем создаются?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Откуда пришли к нам в язык устойчивые выражен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в которых уже не переставишь и не заменишь словечко – другое, не исказив смысл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поможет нам в этом этимология и фразеология – две волшебницы, владеющие несметными сокровищами. Они щедро одарят каждого, кто захочет посетить их блистающие чертог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Что же такое фразеология?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разеология – это наука о значении и происхождении устойчивых выражени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обное же мы видим в жизни слов. Живут-поживают слова – детали, ими пользуются по отдельности или в виде временных сочетаний, но в какой-то момент, когда возникает в этом необходимость, слова сливаются в неделимые сочетания–фразеологизм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т символ фразеологиз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символы"/>
          <p:cNvPicPr/>
          <p:nvPr/>
        </p:nvPicPr>
        <p:blipFill>
          <a:blip r:embed="rId1"/>
          <a:stretch/>
        </p:blipFill>
        <p:spPr>
          <a:xfrm>
            <a:off x="1332000" y="4365720"/>
            <a:ext cx="6192720" cy="865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539640" y="5373000"/>
            <a:ext cx="86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ода, не, разлить = водой не разлит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5"/>
          <p:cNvSpPr/>
          <p:nvPr/>
        </p:nvSpPr>
        <p:spPr>
          <a:xfrm>
            <a:off x="0" y="2595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сточники фразеологических оборо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6000" y="1265760"/>
            <a:ext cx="3435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основ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блюдений челове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д общественны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природны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влени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3563640" y="1214640"/>
            <a:ext cx="240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язаны 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ифологией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альны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чески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быти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6444000" y="1369440"/>
            <a:ext cx="258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шли из песен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казок, загадок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тератур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извед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181800" y="3859200"/>
            <a:ext cx="224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ного снега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ного хлеб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3321000" y="3859200"/>
            <a:ext cx="276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усто, слов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амай прошё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6424200" y="3859200"/>
            <a:ext cx="27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трашнее кош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зверя н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684360" y="5011200"/>
            <a:ext cx="76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разеологические обороты очень украшают реч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лают её выразительной, образно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м богаче словарный запас, тем интересне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рче выражает человек свои мыс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4"/>
          <p:cNvSpPr/>
          <p:nvPr/>
        </p:nvSpPr>
        <p:spPr>
          <a:xfrm flipH="1">
            <a:off x="1692360" y="836640"/>
            <a:ext cx="576000" cy="50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5"/>
          <p:cNvSpPr/>
          <p:nvPr/>
        </p:nvSpPr>
        <p:spPr>
          <a:xfrm>
            <a:off x="4716360" y="765000"/>
            <a:ext cx="0" cy="576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6"/>
          <p:cNvSpPr/>
          <p:nvPr/>
        </p:nvSpPr>
        <p:spPr>
          <a:xfrm>
            <a:off x="6877080" y="836640"/>
            <a:ext cx="574560" cy="576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7"/>
          <p:cNvSpPr/>
          <p:nvPr/>
        </p:nvSpPr>
        <p:spPr>
          <a:xfrm>
            <a:off x="4716360" y="3141720"/>
            <a:ext cx="0" cy="79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8"/>
          <p:cNvSpPr/>
          <p:nvPr/>
        </p:nvSpPr>
        <p:spPr>
          <a:xfrm>
            <a:off x="1476360" y="3284640"/>
            <a:ext cx="0" cy="64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9"/>
          <p:cNvSpPr/>
          <p:nvPr/>
        </p:nvSpPr>
        <p:spPr>
          <a:xfrm>
            <a:off x="7740720" y="2997360"/>
            <a:ext cx="0" cy="863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4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ловицы           Поговорки           Крылат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раж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пля по капл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ва сапога-          Вперёд чуж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мень долбит               пара              беде, не смейс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луб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WordArt 4"/>
          <p:cNvSpPr txBox="1"/>
          <p:nvPr/>
        </p:nvSpPr>
        <p:spPr>
          <a:xfrm>
            <a:off x="684360" y="333360"/>
            <a:ext cx="7488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разеолгические оборот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Line 5"/>
          <p:cNvSpPr/>
          <p:nvPr/>
        </p:nvSpPr>
        <p:spPr>
          <a:xfrm flipH="1">
            <a:off x="1403280" y="1628640"/>
            <a:ext cx="720720" cy="72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4572000" y="1628640"/>
            <a:ext cx="0" cy="72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7380360" y="1700280"/>
            <a:ext cx="360360" cy="72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8"/>
          <p:cNvSpPr/>
          <p:nvPr/>
        </p:nvSpPr>
        <p:spPr>
          <a:xfrm>
            <a:off x="1332000" y="2924280"/>
            <a:ext cx="0" cy="1873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9"/>
          <p:cNvSpPr/>
          <p:nvPr/>
        </p:nvSpPr>
        <p:spPr>
          <a:xfrm>
            <a:off x="4572000" y="2924280"/>
            <a:ext cx="0" cy="1800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0"/>
          <p:cNvSpPr/>
          <p:nvPr/>
        </p:nvSpPr>
        <p:spPr>
          <a:xfrm>
            <a:off x="7740720" y="3500280"/>
            <a:ext cx="0" cy="122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20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9" dur="200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180196"/>
          <p:cNvPicPr/>
          <p:nvPr/>
        </p:nvPicPr>
        <p:blipFill>
          <a:blip r:embed="rId1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6"/>
          <p:cNvSpPr/>
          <p:nvPr/>
        </p:nvSpPr>
        <p:spPr>
          <a:xfrm>
            <a:off x="5364000" y="1255680"/>
            <a:ext cx="360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ть Ахилла Фетид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куная мальч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воды священн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и, держала е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 пятку, и пят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казалас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защищённ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якое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слабо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уязвимо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мес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лове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ют 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ахиллесов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пятой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WordArt 7"/>
          <p:cNvSpPr txBox="1"/>
          <p:nvPr/>
        </p:nvSpPr>
        <p:spPr>
          <a:xfrm>
            <a:off x="5508720" y="404640"/>
            <a:ext cx="345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хиллесова пята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77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7" dur="770" fill="hold"/>
                                        <p:tgtEl>
                                          <p:spTgt spid="1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9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1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0" fill="hold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0" fill="hold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0" fill="hold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0" fill="hold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4006"/>
          <p:cNvPicPr/>
          <p:nvPr/>
        </p:nvPicPr>
        <p:blipFill>
          <a:blip r:embed="rId1"/>
          <a:stretch/>
        </p:blipFill>
        <p:spPr>
          <a:xfrm>
            <a:off x="0" y="2190600"/>
            <a:ext cx="9144000" cy="4667400"/>
          </a:xfrm>
          <a:prstGeom prst="rect">
            <a:avLst/>
          </a:prstGeom>
          <a:ln w="0">
            <a:noFill/>
          </a:ln>
        </p:spPr>
      </p:pic>
      <p:sp>
        <p:nvSpPr>
          <p:cNvPr id="157" name="WordArt 5"/>
          <p:cNvSpPr txBox="1"/>
          <p:nvPr/>
        </p:nvSpPr>
        <p:spPr>
          <a:xfrm>
            <a:off x="1620720" y="189000"/>
            <a:ext cx="568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авилонское столпотворение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60360" y="1076040"/>
            <a:ext cx="87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отребляется выражение в значении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уматоха, бестолковщина, беспорядок,   неорганизованность…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77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0" dur="770" fill="hold"/>
                                        <p:tgtEl>
                                          <p:spTgt spid="1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2" dur="77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4" dur="77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08:01:41Z</dcterms:created>
  <dc:creator>Мельников Иван Васильевич</dc:creator>
  <dc:description/>
  <dc:language>en-US</dc:language>
  <cp:lastModifiedBy>Home-V</cp:lastModifiedBy>
  <dcterms:modified xsi:type="dcterms:W3CDTF">2023-12-14T13:23:31Z</dcterms:modified>
  <cp:revision>11</cp:revision>
  <dc:subject/>
  <dc:title>Слайд 1</dc:title>
</cp:coreProperties>
</file>