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B797-687C-4714-B195-92FA85A95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314-FBF2-4296-8611-B983492F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87C-664B-4CB6-A5B0-5D98FB5D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2B7-9BE8-4EDF-BF45-25A6AFC2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54460-14FF-4DCA-8691-42FC05B4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9DDD3-0F02-40B9-8D94-E1719306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F9207-2D02-49C9-A46F-3DBBC53A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AF6E9-1772-4A44-B287-C919841E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928DB-FB3F-40E1-BDE0-83DDC8F1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C10D4-B207-42E1-9E45-E1B227B1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7B878-EE20-49B9-ADA7-73B94B0F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729-0C35-4DF3-B81B-9F51D38D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DED87-E981-495A-AF6F-3B970B67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665AD-F837-4F5B-8760-A12FBDFB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F5A47-A203-4701-91E1-CD06C3AB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EDFA9-5333-452F-81F1-96232811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C4D54-BB4A-45DD-83E3-6E80EAC7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1116-18CA-4B13-BB37-4488E810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68E-0941-4A2D-980C-59621C4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370-5586-4AD7-A170-D48F8068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ABC-E07B-405E-B1DA-EF57A840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81C-ABA9-43D5-B6B4-ED6EAC61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A435-F1B4-4F6D-BA86-E0987AC9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C4ED-B6B9-4127-9C84-CD80E264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948B-9B2A-4B62-95F8-5DCE4464D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642C-7176-4417-B7EB-14A2265841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08000" y="333360"/>
            <a:ext cx="8928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Тема. Фразеологизмы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у выполни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учающие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в класс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БОУ СОШ №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бкова Анастас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ибкова Соф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 Мысак Е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1203949310_2"/>
          <p:cNvPicPr/>
          <p:nvPr/>
        </p:nvPicPr>
        <p:blipFill>
          <a:blip r:embed="rId1"/>
          <a:stretch/>
        </p:blipFill>
        <p:spPr>
          <a:xfrm>
            <a:off x="0" y="270828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160" name="WordArt 7"/>
          <p:cNvSpPr txBox="1"/>
          <p:nvPr/>
        </p:nvSpPr>
        <p:spPr>
          <a:xfrm>
            <a:off x="611280" y="47520"/>
            <a:ext cx="79214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де раки зимуют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395280" y="9795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ывается, выражение тесно связано с историей нашего нар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469800" y="1870560"/>
            <a:ext cx="6951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юда  пошло: если хотят кого-то серьёзно наказать, говоря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«Я покажу тебе, где раки зимуют»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476360" y="260280"/>
            <a:ext cx="604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т доски до дос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4" name="Picture 5" descr="001_1_large"/>
          <p:cNvPicPr/>
          <p:nvPr/>
        </p:nvPicPr>
        <p:blipFill>
          <a:blip r:embed="rId1"/>
          <a:stretch/>
        </p:blipFill>
        <p:spPr>
          <a:xfrm>
            <a:off x="0" y="2158920"/>
            <a:ext cx="6264360" cy="4699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99240" y="1196280"/>
            <a:ext cx="59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выражение связанно с книг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99880" y="1629000"/>
            <a:ext cx="884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всю книгу от начала до конца – значи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чита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 дос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 дос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т кор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о корк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8" descr="element"/>
          <p:cNvPicPr/>
          <p:nvPr/>
        </p:nvPicPr>
        <p:blipFill>
          <a:blip r:embed="rId2"/>
          <a:stretch/>
        </p:blipFill>
        <p:spPr>
          <a:xfrm>
            <a:off x="6300720" y="4365720"/>
            <a:ext cx="2843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помни русские послов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WordArt 4"/>
          <p:cNvSpPr txBox="1"/>
          <p:nvPr/>
        </p:nvSpPr>
        <p:spPr>
          <a:xfrm>
            <a:off x="757080" y="260280"/>
            <a:ext cx="763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Лексические задан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Picture 5" descr="Loshady"/>
          <p:cNvPicPr/>
          <p:nvPr/>
        </p:nvPicPr>
        <p:blipFill>
          <a:blip r:embed="rId1"/>
          <a:stretch/>
        </p:blipFill>
        <p:spPr>
          <a:xfrm>
            <a:off x="0" y="2276640"/>
            <a:ext cx="3348000" cy="216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wb17"/>
          <p:cNvPicPr/>
          <p:nvPr/>
        </p:nvPicPr>
        <p:blipFill>
          <a:blip r:embed="rId2"/>
          <a:stretch/>
        </p:blipFill>
        <p:spPr>
          <a:xfrm>
            <a:off x="0" y="4437000"/>
            <a:ext cx="3348000" cy="2421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1"/>
          <p:cNvSpPr/>
          <p:nvPr/>
        </p:nvSpPr>
        <p:spPr>
          <a:xfrm>
            <a:off x="4176720" y="2707200"/>
            <a:ext cx="49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гони коня кнутом, а          гони овс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4715640" y="4867920"/>
            <a:ext cx="34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воём дому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ы помогают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348000" y="4437000"/>
            <a:ext cx="579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3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5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7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Свинья"/>
          <p:cNvPicPr/>
          <p:nvPr/>
        </p:nvPicPr>
        <p:blipFill>
          <a:blip r:embed="rId1"/>
          <a:stretch/>
        </p:blipFill>
        <p:spPr>
          <a:xfrm>
            <a:off x="0" y="0"/>
            <a:ext cx="3635280" cy="3573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9voron_b"/>
          <p:cNvPicPr/>
          <p:nvPr/>
        </p:nvPicPr>
        <p:blipFill>
          <a:blip r:embed="rId2"/>
          <a:stretch/>
        </p:blipFill>
        <p:spPr>
          <a:xfrm>
            <a:off x="0" y="357336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4137840" y="1267560"/>
            <a:ext cx="481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ади свинью за стол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а и ноги на сто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5003640" y="4507560"/>
            <a:ext cx="328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ганая воро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ста боится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3635280" y="3573360"/>
            <a:ext cx="550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4"/>
          <p:cNvSpPr txBox="1"/>
          <p:nvPr/>
        </p:nvSpPr>
        <p:spPr>
          <a:xfrm>
            <a:off x="1042920" y="333360"/>
            <a:ext cx="720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зови фразеологиз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1" name="Picture 6" descr="Loshady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2880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8"/>
          <p:cNvSpPr/>
          <p:nvPr/>
        </p:nvSpPr>
        <p:spPr>
          <a:xfrm>
            <a:off x="0" y="4773960"/>
            <a:ext cx="4500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 коня кор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Работать как лошад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4572000" y="1557360"/>
            <a:ext cx="0" cy="5300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10" descr="Belka"/>
          <p:cNvPicPr/>
          <p:nvPr/>
        </p:nvPicPr>
        <p:blipFill>
          <a:blip r:embed="rId2"/>
          <a:stretch/>
        </p:blipFill>
        <p:spPr>
          <a:xfrm>
            <a:off x="4643280" y="1628640"/>
            <a:ext cx="4500720" cy="2880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1"/>
          <p:cNvSpPr/>
          <p:nvPr/>
        </p:nvSpPr>
        <p:spPr>
          <a:xfrm>
            <a:off x="5362920" y="5083920"/>
            <a:ext cx="302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ртеться ка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ка в коле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6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Свинья"/>
          <p:cNvPicPr/>
          <p:nvPr/>
        </p:nvPicPr>
        <p:blipFill>
          <a:blip r:embed="rId1"/>
          <a:stretch/>
        </p:blipFill>
        <p:spPr>
          <a:xfrm>
            <a:off x="0" y="0"/>
            <a:ext cx="4427640" cy="371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9voron_b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7162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740880" y="4075560"/>
            <a:ext cx="3087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усь свин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оварищ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винья всег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грязь найдё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220720" y="4652280"/>
            <a:ext cx="33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рон счит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>
            <a:off x="755640" y="260280"/>
            <a:ext cx="756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ревнование «Кто больше?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6" descr="Eye2222"/>
          <p:cNvPicPr/>
          <p:nvPr/>
        </p:nvPicPr>
        <p:blipFill>
          <a:blip r:embed="rId1"/>
          <a:stretch/>
        </p:blipFill>
        <p:spPr>
          <a:xfrm>
            <a:off x="6300720" y="1268280"/>
            <a:ext cx="2843280" cy="29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39771511_FG"/>
          <p:cNvPicPr/>
          <p:nvPr/>
        </p:nvPicPr>
        <p:blipFill>
          <a:blip r:embed="rId2"/>
          <a:stretch/>
        </p:blipFill>
        <p:spPr>
          <a:xfrm>
            <a:off x="0" y="3789360"/>
            <a:ext cx="3059280" cy="3068640"/>
          </a:xfrm>
          <a:prstGeom prst="rect">
            <a:avLst/>
          </a:prstGeom>
          <a:ln w="0">
            <a:noFill/>
          </a:ln>
        </p:spPr>
      </p:pic>
      <p:sp>
        <p:nvSpPr>
          <p:cNvPr id="195" name="Line 8"/>
          <p:cNvSpPr/>
          <p:nvPr/>
        </p:nvSpPr>
        <p:spPr>
          <a:xfrm>
            <a:off x="3059280" y="3789360"/>
            <a:ext cx="324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9"/>
          <p:cNvSpPr/>
          <p:nvPr/>
        </p:nvSpPr>
        <p:spPr>
          <a:xfrm flipH="1">
            <a:off x="3059280" y="4221000"/>
            <a:ext cx="3241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3419640" y="378936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11"/>
          <p:cNvSpPr/>
          <p:nvPr/>
        </p:nvSpPr>
        <p:spPr>
          <a:xfrm>
            <a:off x="4427640" y="378936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12"/>
          <p:cNvSpPr/>
          <p:nvPr/>
        </p:nvSpPr>
        <p:spPr>
          <a:xfrm>
            <a:off x="5435640" y="3789360"/>
            <a:ext cx="431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904680" y="1338480"/>
            <a:ext cx="503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золить глаза; хлопать глаз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ворить в гл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скать пыль в глаз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лазом не моргнуть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глазу на глаз; хоть глаз выка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бельмо в глаз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3102840" y="4533120"/>
            <a:ext cx="604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 всех ног; встать с левой ног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иться с ног; идти в ног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таться под ногам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г под собой не чуять; одна нога зде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ругая там; встать на но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4"/>
          <p:cNvSpPr txBox="1"/>
          <p:nvPr/>
        </p:nvSpPr>
        <p:spPr>
          <a:xfrm>
            <a:off x="1836720" y="333360"/>
            <a:ext cx="54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исунки - подсказк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3" name="Picture 6" descr="рис -подсказ"/>
          <p:cNvPicPr/>
          <p:nvPr/>
        </p:nvPicPr>
        <p:blipFill>
          <a:blip r:embed="rId1"/>
          <a:stretch/>
        </p:blipFill>
        <p:spPr>
          <a:xfrm>
            <a:off x="2268360" y="2349360"/>
            <a:ext cx="4513320" cy="3524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38160" y="2244960"/>
            <a:ext cx="208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бло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где упаст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344160" y="5629320"/>
            <a:ext cx="285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лышно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муха пролетит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4220280" y="6164640"/>
            <a:ext cx="26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ая ласточ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1260000" y="1530720"/>
            <a:ext cx="27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зёл отпущ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4652280" y="1411920"/>
            <a:ext cx="30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рубашке родился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2844720" y="38595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На душе кошки скреб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7165440" y="2132280"/>
            <a:ext cx="197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мар но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е подточи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4"/>
          <p:cNvSpPr/>
          <p:nvPr/>
        </p:nvSpPr>
        <p:spPr>
          <a:xfrm>
            <a:off x="7237800" y="3859200"/>
            <a:ext cx="18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олов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решето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5"/>
          <p:cNvSpPr/>
          <p:nvPr/>
        </p:nvSpPr>
        <p:spPr>
          <a:xfrm>
            <a:off x="414720" y="4044960"/>
            <a:ext cx="13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оба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на се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7456680" y="5413680"/>
            <a:ext cx="129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ел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галош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820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об стенку горо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ть кол на голове те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азано – сдела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видать как своих уш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му своё врем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му про Ерёму, а он про Фо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с луны свалил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им языком сказа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у в ступе толоч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332000" y="260280"/>
            <a:ext cx="669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ашу маслом не испортишь.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4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6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8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6"/>
          <p:cNvSpPr txBox="1"/>
          <p:nvPr/>
        </p:nvSpPr>
        <p:spPr>
          <a:xfrm>
            <a:off x="826920" y="549360"/>
            <a:ext cx="712980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разеологизм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6286680" y="2565360"/>
            <a:ext cx="2857320" cy="42102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9"/>
          <p:cNvSpPr txBox="1"/>
          <p:nvPr/>
        </p:nvSpPr>
        <p:spPr>
          <a:xfrm>
            <a:off x="324000" y="2852640"/>
            <a:ext cx="593388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т альфы до омеги" означае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сё целиком",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т начала до конца"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2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6 0.06 0.07991 C 0.06 0.13185 0.03 0.15049 0.012 0.15848 L -0.012 0.16647 C -0.03 0.17446 -0.06 0.19444 -0.06 0.25304 C -0.06 0.29033 -0.033 0.33295 0 0.33295 C 0.033 0.33295 0.06 0.29033 0.06 0.25304 C 0.06 0.19444 0.03 0.17446 0.012 0.16647 L -0.012 0.15848 C -0.03 0.15049 -0.06 0.13185 -0.06 0.07991 C -0.06 0.03596 -0.033 0 0 0 Z">
                                      <p:cBhvr>
                                        <p:cTn id="11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4560" y="1740960"/>
            <a:ext cx="910908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я раздел фразеологии мы узнали, откуда пришли к нам устойчивые соче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лись с историей происхождения фразеологизмов, крылатых выра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полнили и расширили свой словарный запас фразеологическими оборотами, пословицами и поговор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в заключении нашего выступления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мехопауз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юмористическ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2916360" y="333360"/>
            <a:ext cx="30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short-hands"/>
          <p:cNvPicPr/>
          <p:nvPr/>
        </p:nvPicPr>
        <p:blipFill>
          <a:blip r:embed="rId1"/>
          <a:stretch/>
        </p:blipFill>
        <p:spPr>
          <a:xfrm>
            <a:off x="-828720" y="-171360"/>
            <a:ext cx="5688000" cy="7029360"/>
          </a:xfrm>
          <a:prstGeom prst="rect">
            <a:avLst/>
          </a:prstGeom>
          <a:ln w="0">
            <a:noFill/>
          </a:ln>
        </p:spPr>
      </p:pic>
      <p:sp>
        <p:nvSpPr>
          <p:cNvPr id="219" name="WordArt 6"/>
          <p:cNvSpPr txBox="1"/>
          <p:nvPr/>
        </p:nvSpPr>
        <p:spPr>
          <a:xfrm>
            <a:off x="5148360" y="2205000"/>
            <a:ext cx="3816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уки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отк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footless"/>
          <p:cNvPicPr/>
          <p:nvPr/>
        </p:nvPicPr>
        <p:blipFill>
          <a:blip r:embed="rId1"/>
          <a:stretch/>
        </p:blipFill>
        <p:spPr>
          <a:xfrm>
            <a:off x="0" y="-171360"/>
            <a:ext cx="9505800" cy="7029360"/>
          </a:xfrm>
          <a:prstGeom prst="rect">
            <a:avLst/>
          </a:prstGeom>
          <a:ln w="0">
            <a:noFill/>
          </a:ln>
        </p:spPr>
      </p:pic>
      <p:sp>
        <p:nvSpPr>
          <p:cNvPr id="221" name="WordArt 7"/>
          <p:cNvSpPr txBox="1"/>
          <p:nvPr/>
        </p:nvSpPr>
        <p:spPr>
          <a:xfrm>
            <a:off x="684360" y="189000"/>
            <a:ext cx="7416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ез  задних  ног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WordArt 4"/>
          <p:cNvSpPr txBox="1"/>
          <p:nvPr/>
        </p:nvSpPr>
        <p:spPr>
          <a:xfrm>
            <a:off x="2268360" y="333360"/>
            <a:ext cx="4465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итератур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1620720" y="1989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лина В. «Учимся играя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118160" y="2992320"/>
            <a:ext cx="70538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Фразеологический словар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сского языка для школьник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181080" y="472428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жегов С.И. «Словарь русского языка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облемные вопрос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такое фразеологизм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ождаются фразеологиз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ва их роль в русском язы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знать, что такое фразеолог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историей создания фразеологизм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ся точно употреблять их в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ширить свой лексикон и лексикон своих друзей устойчивыми оборо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6756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рождаются слова, когда и кем создаются?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Откуда пришли к нам в язык устойчивые выраж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в которых уже не переставишь и не заменишь словечко – другое, не исказив смыс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может нам в этом этимология и фразеология – две волшебницы, владеющие несметными сокровищами. Они щедро одарят каждого, кто захочет посетить их блистающие черт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 же такое фразеология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разеология – это наука о значении и происхождении устойчивых выраже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обное же мы видим в жизни слов. Живут-поживают слова – детали, ими пользуются по отдельности или в виде временных сочетаний, но в какой-то момент, когда возникает в этом необходимость, слова сливаются в неделимые сочетания–фразеологиз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т символ фразеолог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символы"/>
          <p:cNvPicPr/>
          <p:nvPr/>
        </p:nvPicPr>
        <p:blipFill>
          <a:blip r:embed="rId1"/>
          <a:stretch/>
        </p:blipFill>
        <p:spPr>
          <a:xfrm>
            <a:off x="1332000" y="4365720"/>
            <a:ext cx="6192720" cy="865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539640" y="537300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да, не, разлить = водой не разли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0" y="25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и фразеологических оборо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6000" y="1265760"/>
            <a:ext cx="343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основ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блюдений 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 обществен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рирод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ен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3563640" y="1214640"/>
            <a:ext cx="240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язаны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фологие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ль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ыти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44000" y="1369440"/>
            <a:ext cx="258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шли из песе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зок, загадо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тератур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ед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181800" y="385920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ного снега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ного хле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3321000" y="3859200"/>
            <a:ext cx="276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усто, слов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май прошё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6424200" y="3859200"/>
            <a:ext cx="271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трашнее ко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веря н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684360" y="5011200"/>
            <a:ext cx="76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разеологические обороты очень украшают реч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ют её выразительной, образн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 богаче словарный запас, тем интересне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рче выражает человек свои мыс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1692360" y="836640"/>
            <a:ext cx="576000" cy="50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4716360" y="76500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6877080" y="836640"/>
            <a:ext cx="574560" cy="576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4716360" y="3141720"/>
            <a:ext cx="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8"/>
          <p:cNvSpPr/>
          <p:nvPr/>
        </p:nvSpPr>
        <p:spPr>
          <a:xfrm>
            <a:off x="1476360" y="3284640"/>
            <a:ext cx="0" cy="64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9"/>
          <p:cNvSpPr/>
          <p:nvPr/>
        </p:nvSpPr>
        <p:spPr>
          <a:xfrm>
            <a:off x="7740720" y="2997360"/>
            <a:ext cx="0" cy="86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ловицы           Поговорки           Крылат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а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пля по капл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ва сапога-          Вперёд чуж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мень долбит               пара              беде, не смей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луб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WordArt 4"/>
          <p:cNvSpPr txBox="1"/>
          <p:nvPr/>
        </p:nvSpPr>
        <p:spPr>
          <a:xfrm>
            <a:off x="684360" y="333360"/>
            <a:ext cx="748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разеолгические оборот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Line 5"/>
          <p:cNvSpPr/>
          <p:nvPr/>
        </p:nvSpPr>
        <p:spPr>
          <a:xfrm flipH="1">
            <a:off x="1403280" y="1628640"/>
            <a:ext cx="72072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572000" y="1628640"/>
            <a:ext cx="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7380360" y="1700280"/>
            <a:ext cx="36036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1332000" y="2924280"/>
            <a:ext cx="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4572000" y="2924280"/>
            <a:ext cx="0" cy="1800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7740720" y="3500280"/>
            <a:ext cx="0" cy="12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3" dur="2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2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180196"/>
          <p:cNvPicPr/>
          <p:nvPr/>
        </p:nvPicPr>
        <p:blipFill>
          <a:blip r:embed="rId1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364000" y="1255680"/>
            <a:ext cx="36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ть Ахилла Фетид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уная мальч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воды священ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и, держала е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пятку, и пят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ла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защищён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якое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лабо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язвим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лове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ахиллес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пят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WordArt 7"/>
          <p:cNvSpPr txBox="1"/>
          <p:nvPr/>
        </p:nvSpPr>
        <p:spPr>
          <a:xfrm>
            <a:off x="5508720" y="404640"/>
            <a:ext cx="34574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хиллесова пята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1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4006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740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620720" y="189000"/>
            <a:ext cx="5688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авилонское столпотворение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60360" y="1076040"/>
            <a:ext cx="878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отребляется выражение в значении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уматоха, бестолковщина, беспорядок,   неорганизованность…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77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770" fill="hold"/>
                                        <p:tgtEl>
                                          <p:spTgt spid="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77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8:01:41Z</dcterms:created>
  <dc:creator>Мельников Иван Васильевич</dc:creator>
  <dc:description/>
  <dc:language>en-US</dc:language>
  <cp:lastModifiedBy>Home-V</cp:lastModifiedBy>
  <dcterms:modified xsi:type="dcterms:W3CDTF">2023-12-14T13:23:31Z</dcterms:modified>
  <cp:revision>11</cp:revision>
  <dc:subject/>
  <dc:title>Слайд 1</dc:title>
</cp:coreProperties>
</file>