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jpeg" ContentType="image/jpeg"/>
  <Override PartName="/ppt/media/image23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35C9-EC34-48AB-B47D-C627DE2342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C3B9-8672-4829-B776-20D3668FAA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0E41-B941-4271-93FF-F16F16B80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C135-699C-467F-9B20-EF9F0B2E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7A2B-249B-4C0E-9DCF-391F40343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30E8-2445-45C9-BEB7-56EEA7558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644B-F85F-4D01-AD45-3F5110BF4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EA2C-257C-4AE1-9E13-91B79AEC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114E-4D35-4EDA-9ECD-44D15CD3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EAB0-0E51-454F-AA0E-76B6C5BF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5CE3-F824-4A86-BDA1-B6EA43D9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FF2B-B9D1-41D4-967D-3DB91F86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C77F-80E4-4C6F-939A-4FADB84E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3AF6-36E2-47BF-8704-D0C1F684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2ADF-1D27-4456-8650-43B304D1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B5DF-7189-475E-86FD-28036670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7C01-E740-4F9D-9AF9-2B747EEE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8357-ED3C-4DF6-B277-2C3BA198C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BF18-1E7F-4A14-9BE9-2CE24CAC9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0A46-F623-44DD-939A-D165CED9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1054-8F3D-45AF-A876-C3A020D5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6CB1-4A6C-4F3B-B68B-376ABE19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ED8A-8F24-4E95-84F2-6E70B089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3CB7-15C3-4002-9E0B-3FDC2487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6097-2FB7-42EE-8790-BFD6F741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87E7-0060-4992-A6C3-6F799B15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F164-10FD-4F5A-BD5A-BA621596F32A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8A84-B953-4065-B9C6-76715F3B99E8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5" descr="0-ostern-DominoXL-r-k-w"/>
          <p:cNvPicPr/>
          <p:nvPr/>
        </p:nvPicPr>
        <p:blipFill>
          <a:blip r:embed="rId1"/>
          <a:srcRect l="0" t="0" r="0" b="4000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6"/>
          <p:cNvSpPr/>
          <p:nvPr/>
        </p:nvSpPr>
        <p:spPr>
          <a:xfrm>
            <a:off x="2895480" y="1447920"/>
            <a:ext cx="914400" cy="914400"/>
          </a:xfrm>
          <a:prstGeom prst="rect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Rectangle 2" descr=""/>
          <p:cNvPicPr/>
          <p:nvPr/>
        </p:nvPicPr>
        <p:blipFill>
          <a:blip r:embed="rId1"/>
          <a:stretch/>
        </p:blipFill>
        <p:spPr>
          <a:xfrm>
            <a:off x="-128520" y="-30240"/>
            <a:ext cx="9491760" cy="1792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1543355_web"/>
          <p:cNvPicPr/>
          <p:nvPr/>
        </p:nvPicPr>
        <p:blipFill>
          <a:blip r:embed="rId2"/>
          <a:stretch/>
        </p:blipFill>
        <p:spPr>
          <a:xfrm>
            <a:off x="2438280" y="2133720"/>
            <a:ext cx="4548240" cy="457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osterfeuer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2057400" y="1295280"/>
            <a:ext cx="5202360" cy="5257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osterlamm_gross"/>
          <p:cNvPicPr/>
          <p:nvPr/>
        </p:nvPicPr>
        <p:blipFill>
          <a:blip r:embed="rId2"/>
          <a:stretch/>
        </p:blipFill>
        <p:spPr>
          <a:xfrm>
            <a:off x="1905120" y="1676520"/>
            <a:ext cx="5181480" cy="4403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osterkuchen"/>
          <p:cNvPicPr/>
          <p:nvPr/>
        </p:nvPicPr>
        <p:blipFill>
          <a:blip r:embed="rId2"/>
          <a:stretch/>
        </p:blipFill>
        <p:spPr>
          <a:xfrm>
            <a:off x="1676520" y="1752480"/>
            <a:ext cx="5810040" cy="4357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9" descr="01da6fd2deeaf8804ed2885f9896f979_g"/>
          <p:cNvPicPr/>
          <p:nvPr/>
        </p:nvPicPr>
        <p:blipFill>
          <a:blip r:embed="rId2">
            <a:lum contrast="24000"/>
          </a:blip>
          <a:srcRect l="0" t="0" r="0" b="7655"/>
          <a:stretch/>
        </p:blipFill>
        <p:spPr>
          <a:xfrm>
            <a:off x="990720" y="1627200"/>
            <a:ext cx="6933960" cy="4514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102_5728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1371600" y="160020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osterbrunnen2a"/>
          <p:cNvPicPr/>
          <p:nvPr/>
        </p:nvPicPr>
        <p:blipFill>
          <a:blip r:embed="rId2"/>
          <a:stretch/>
        </p:blipFill>
        <p:spPr>
          <a:xfrm>
            <a:off x="1523880" y="16765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Rectangle 2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semanasanta"/>
          <p:cNvPicPr/>
          <p:nvPr/>
        </p:nvPicPr>
        <p:blipFill>
          <a:blip r:embed="rId2"/>
          <a:srcRect l="0" t="0" r="0" b="8264"/>
          <a:stretch/>
        </p:blipFill>
        <p:spPr>
          <a:xfrm>
            <a:off x="1143000" y="1542960"/>
            <a:ext cx="6781680" cy="4665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4" descr=""/>
          <p:cNvPicPr/>
          <p:nvPr/>
        </p:nvPicPr>
        <p:blipFill>
          <a:blip r:embed="rId1"/>
          <a:stretch/>
        </p:blipFill>
        <p:spPr>
          <a:xfrm>
            <a:off x="-79200" y="-12600"/>
            <a:ext cx="9412200" cy="1334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0" y="1267920"/>
            <a:ext cx="9144000" cy="558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100" spc="-1" strike="noStrike">
                <a:solidFill>
                  <a:srgbClr val="68686d"/>
                </a:solidFill>
                <a:latin typeface="Book Antiqua"/>
              </a:rPr>
              <a:t>	</a:t>
            </a:r>
            <a:r>
              <a:rPr b="1" lang="de-DE" sz="3100" spc="-1" strike="noStrike">
                <a:solidFill>
                  <a:srgbClr val="343437"/>
                </a:solidFill>
                <a:latin typeface="Book Antiqua"/>
              </a:rPr>
              <a:t>Im Frühling feiert die Christenwelt Ostern.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100" spc="-1" strike="noStrike">
                <a:solidFill>
                  <a:srgbClr val="343437"/>
                </a:solidFill>
                <a:latin typeface="Book Antiqua"/>
              </a:rPr>
              <a:t>	</a:t>
            </a:r>
            <a:r>
              <a:rPr b="1" lang="de-DE" sz="3100" spc="-1" strike="noStrike">
                <a:solidFill>
                  <a:srgbClr val="343437"/>
                </a:solidFill>
                <a:latin typeface="Book Antiqua"/>
              </a:rPr>
              <a:t>Es ist ein wichtiges religiöses Fest, das die Auferstehung von Jesus symbolisiert.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100" spc="-1" strike="noStrike">
                <a:solidFill>
                  <a:srgbClr val="343437"/>
                </a:solidFill>
                <a:latin typeface="Book Antiqua"/>
              </a:rPr>
              <a:t>	</a:t>
            </a:r>
            <a:r>
              <a:rPr b="1" lang="de-DE" sz="3100" spc="-1" strike="noStrike">
                <a:solidFill>
                  <a:srgbClr val="343437"/>
                </a:solidFill>
                <a:latin typeface="Book Antiqua"/>
              </a:rPr>
              <a:t>Man bemalt Ostereier, die viele Kinde</a:t>
            </a:r>
            <a:r>
              <a:rPr b="0" lang="de-DE" sz="3100" spc="-1" strike="noStrike">
                <a:solidFill>
                  <a:srgbClr val="343437"/>
                </a:solidFill>
                <a:latin typeface="Book Antiqua"/>
              </a:rPr>
              <a:t>r</a:t>
            </a:r>
            <a:r>
              <a:rPr b="1" lang="de-DE" sz="3100" spc="-1" strike="noStrike">
                <a:solidFill>
                  <a:srgbClr val="343437"/>
                </a:solidFill>
                <a:latin typeface="Book Antiqua"/>
              </a:rPr>
              <a:t> im Garten finden. Der Osterhase bringt Ostereier. Mit Eiern dekoriert man Bäume, Brunnen und Gewässer.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100" spc="-1" strike="noStrike">
                <a:solidFill>
                  <a:srgbClr val="343437"/>
                </a:solidFill>
                <a:latin typeface="Book Antiqua"/>
              </a:rPr>
              <a:t>	</a:t>
            </a:r>
            <a:r>
              <a:rPr b="1" lang="de-DE" sz="3100" spc="-1" strike="noStrike">
                <a:solidFill>
                  <a:srgbClr val="343437"/>
                </a:solidFill>
                <a:latin typeface="Book Antiqua"/>
              </a:rPr>
              <a:t>Man macht in der Nacht ein großes Osterfeuer. Viele Leute besuchen eine Ostermesse in den Kirchen.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100" spc="-1" strike="noStrike">
                <a:solidFill>
                  <a:srgbClr val="343437"/>
                </a:solidFill>
                <a:latin typeface="Book Antiqua"/>
              </a:rPr>
              <a:t>	</a:t>
            </a:r>
            <a:r>
              <a:rPr b="1" lang="de-DE" sz="3100" spc="-1" strike="noStrike">
                <a:solidFill>
                  <a:srgbClr val="343437"/>
                </a:solidFill>
                <a:latin typeface="Book Antiqua"/>
              </a:rPr>
              <a:t>Man bäckt auch Osterkuchen mit Ostersymbolen. Man feiert friedlich im Kreis der Familie und Freunde. 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Users\Татьяна\Desktop\1442762897-ostern-kartage-palmsonntag-bayern-dpa-2mNnz7SyjIe9.jpg"/>
          <p:cNvPicPr/>
          <p:nvPr/>
        </p:nvPicPr>
        <p:blipFill>
          <a:blip r:embed="rId2"/>
          <a:stretch/>
        </p:blipFill>
        <p:spPr>
          <a:xfrm>
            <a:off x="1295280" y="144792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Users\Татьяна\Desktop\Без названия.jpg"/>
          <p:cNvPicPr/>
          <p:nvPr/>
        </p:nvPicPr>
        <p:blipFill>
          <a:blip r:embed="rId1"/>
          <a:srcRect l="0" t="0" r="0" b="18747"/>
          <a:stretch/>
        </p:blipFill>
        <p:spPr>
          <a:xfrm>
            <a:off x="1219320" y="838080"/>
            <a:ext cx="67816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5" descr="frohe_oster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5" descr="ostern-24"/>
          <p:cNvPicPr/>
          <p:nvPr/>
        </p:nvPicPr>
        <p:blipFill>
          <a:blip r:embed="rId1"/>
          <a:srcRect l="5929" t="0" r="2220" b="0"/>
          <a:stretch/>
        </p:blipFill>
        <p:spPr>
          <a:xfrm>
            <a:off x="-304920" y="6480"/>
            <a:ext cx="9448920" cy="6851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Rectangl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1071647_preview"/>
          <p:cNvPicPr/>
          <p:nvPr/>
        </p:nvPicPr>
        <p:blipFill>
          <a:blip r:embed="rId2"/>
          <a:stretch/>
        </p:blipFill>
        <p:spPr>
          <a:xfrm>
            <a:off x="914400" y="1725480"/>
            <a:ext cx="7238880" cy="4705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Rectangle 2" descr=""/>
          <p:cNvPicPr/>
          <p:nvPr/>
        </p:nvPicPr>
        <p:blipFill>
          <a:blip r:embed="rId1"/>
          <a:stretch/>
        </p:blipFill>
        <p:spPr>
          <a:xfrm>
            <a:off x="-6480" y="103320"/>
            <a:ext cx="9156960" cy="1439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1-662-75"/>
          <p:cNvPicPr/>
          <p:nvPr/>
        </p:nvPicPr>
        <p:blipFill>
          <a:blip r:embed="rId2"/>
          <a:srcRect l="0" t="9592" r="0" b="0"/>
          <a:stretch/>
        </p:blipFill>
        <p:spPr>
          <a:xfrm>
            <a:off x="1981080" y="1882800"/>
            <a:ext cx="5181840" cy="4684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Rectangl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5" descr="e2506f9b035b6dce767e8875bb664c02_1_orig"/>
          <p:cNvPicPr/>
          <p:nvPr/>
        </p:nvPicPr>
        <p:blipFill>
          <a:blip r:embed="rId2"/>
          <a:srcRect l="0" t="0" r="0" b="18001"/>
          <a:stretch/>
        </p:blipFill>
        <p:spPr>
          <a:xfrm>
            <a:off x="533520" y="1600200"/>
            <a:ext cx="8153280" cy="4873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атьяна</dc:creator>
  <dc:description/>
  <dc:language>en-US</dc:language>
  <cp:lastModifiedBy>Татьяна</cp:lastModifiedBy>
  <dcterms:modified xsi:type="dcterms:W3CDTF">2023-12-12T11:56:15Z</dcterms:modified>
  <cp:revision>9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