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6106-EF1C-4224-9062-C6BDCB7E8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0CC3-83F7-4200-B18B-E12E840E42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486-12C8-4B3D-847C-B95A4BBF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BEA-04DF-4221-A3F5-EFD5C74E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91F-81F7-4C65-BC6F-51695EF8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C82-7A17-4145-9710-3EBD74E6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01E6-DBBF-42D6-B541-66DF8119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F05F-2402-4990-8340-59231D6B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0063-0714-4FDD-8717-5CB77189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EF65-8274-488F-89DA-FD100711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351C-D1C3-458C-BE29-2FE706B6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A764-29B5-4FC9-94B8-F79FBFAC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E4FF-A6FA-4259-9CEE-79BDB02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75E-B005-4A50-9423-643170F4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7B3-4A24-417D-81EA-C53644F7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946D-C72F-4DF0-B48B-795AD64C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AC44-98B7-4D0B-A451-4998A32F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2670-3EE4-465A-8964-487EAB51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7931-2535-401F-A72E-8DDB2C4E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D26-1580-42F0-AD1C-3C03D16E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2FC-2B28-48F2-9BCE-96F0E1F7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E9C-52D2-40A2-90C2-A2DBDD7F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728-E1BA-4878-9036-06CB4F1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AFB-E10F-4C22-8017-F1FA559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71C-BBFD-4932-90C4-558C1523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CB4-A83C-444D-AB3A-32D117B1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4A7F-F25C-4D92-A2A9-9A388DB19EB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864F-549F-4CD2-9CA3-E0F72034226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0-ostern-DominoXL-r-k-w"/>
          <p:cNvPicPr/>
          <p:nvPr/>
        </p:nvPicPr>
        <p:blipFill>
          <a:blip r:embed="rId1"/>
          <a:srcRect l="0" t="0" r="0" b="4000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2895480" y="1447920"/>
            <a:ext cx="914400" cy="91440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-128520" y="-30240"/>
            <a:ext cx="9491760" cy="179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543355_web"/>
          <p:cNvPicPr/>
          <p:nvPr/>
        </p:nvPicPr>
        <p:blipFill>
          <a:blip r:embed="rId2"/>
          <a:stretch/>
        </p:blipFill>
        <p:spPr>
          <a:xfrm>
            <a:off x="2438280" y="213372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osterfeuer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057400" y="1295280"/>
            <a:ext cx="520236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osterlamm_gross"/>
          <p:cNvPicPr/>
          <p:nvPr/>
        </p:nvPicPr>
        <p:blipFill>
          <a:blip r:embed="rId2"/>
          <a:stretch/>
        </p:blipFill>
        <p:spPr>
          <a:xfrm>
            <a:off x="1905120" y="1676520"/>
            <a:ext cx="5181480" cy="440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osterkuchen"/>
          <p:cNvPicPr/>
          <p:nvPr/>
        </p:nvPicPr>
        <p:blipFill>
          <a:blip r:embed="rId2"/>
          <a:stretch/>
        </p:blipFill>
        <p:spPr>
          <a:xfrm>
            <a:off x="1676520" y="1752480"/>
            <a:ext cx="5810040" cy="43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9" descr="01da6fd2deeaf8804ed2885f9896f979_g"/>
          <p:cNvPicPr/>
          <p:nvPr/>
        </p:nvPicPr>
        <p:blipFill>
          <a:blip r:embed="rId2">
            <a:lum contrast="24000"/>
          </a:blip>
          <a:srcRect l="0" t="0" r="0" b="7655"/>
          <a:stretch/>
        </p:blipFill>
        <p:spPr>
          <a:xfrm>
            <a:off x="990720" y="1627200"/>
            <a:ext cx="6933960" cy="45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02_5728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osterbrunnen2a"/>
          <p:cNvPicPr/>
          <p:nvPr/>
        </p:nvPicPr>
        <p:blipFill>
          <a:blip r:embed="rId2"/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emanasanta"/>
          <p:cNvPicPr/>
          <p:nvPr/>
        </p:nvPicPr>
        <p:blipFill>
          <a:blip r:embed="rId2"/>
          <a:srcRect l="0" t="0" r="0" b="8264"/>
          <a:stretch/>
        </p:blipFill>
        <p:spPr>
          <a:xfrm>
            <a:off x="1143000" y="1542960"/>
            <a:ext cx="6781680" cy="466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4" descr=""/>
          <p:cNvPicPr/>
          <p:nvPr/>
        </p:nvPicPr>
        <p:blipFill>
          <a:blip r:embed="rId1"/>
          <a:stretch/>
        </p:blipFill>
        <p:spPr>
          <a:xfrm>
            <a:off x="-79200" y="-12600"/>
            <a:ext cx="94122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68686d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Im Frühling feiert die Christenwelt Ostern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Es ist ein wichtiges religiöses Fest, das die Auferstehung von Jesus symbolisiert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Man bemalt Ostereier, die viele Kinde</a:t>
            </a:r>
            <a:r>
              <a:rPr b="0" lang="de-DE" sz="3100" spc="-1" strike="noStrike">
                <a:solidFill>
                  <a:srgbClr val="343437"/>
                </a:solidFill>
                <a:latin typeface="Book Antiqua"/>
              </a:rPr>
              <a:t>r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 im Garten finden. Der Osterhase bringt Ostereier. Mit Eiern dekoriert man Bäume, Brunnen und Gewässer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Man macht in der Nacht ein großes Osterfeuer. Viele Leute besuchen eine Ostermesse in den Kirchen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Man bäckt auch Osterkuchen mit Ostersymbolen. Man feiert friedlich im Kreis der Familie und Freunde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Татьяна\Desktop\1442762897-ostern-kartage-palmsonntag-bayern-dpa-2mNnz7SyjIe9.jpg"/>
          <p:cNvPicPr/>
          <p:nvPr/>
        </p:nvPicPr>
        <p:blipFill>
          <a:blip r:embed="rId2"/>
          <a:stretch/>
        </p:blipFill>
        <p:spPr>
          <a:xfrm>
            <a:off x="1295280" y="1447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Татьяна\Desktop\Без названия.jpg"/>
          <p:cNvPicPr/>
          <p:nvPr/>
        </p:nvPicPr>
        <p:blipFill>
          <a:blip r:embed="rId1"/>
          <a:srcRect l="0" t="0" r="0" b="18747"/>
          <a:stretch/>
        </p:blipFill>
        <p:spPr>
          <a:xfrm>
            <a:off x="1219320" y="838080"/>
            <a:ext cx="6781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5" descr="frohe_os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5" descr="ostern-24"/>
          <p:cNvPicPr/>
          <p:nvPr/>
        </p:nvPicPr>
        <p:blipFill>
          <a:blip r:embed="rId1"/>
          <a:srcRect l="5929" t="0" r="2220" b="0"/>
          <a:stretch/>
        </p:blipFill>
        <p:spPr>
          <a:xfrm>
            <a:off x="-304920" y="6480"/>
            <a:ext cx="9448920" cy="685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071647_preview"/>
          <p:cNvPicPr/>
          <p:nvPr/>
        </p:nvPicPr>
        <p:blipFill>
          <a:blip r:embed="rId2"/>
          <a:stretch/>
        </p:blipFill>
        <p:spPr>
          <a:xfrm>
            <a:off x="914400" y="1725480"/>
            <a:ext cx="7238880" cy="4705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-662-75"/>
          <p:cNvPicPr/>
          <p:nvPr/>
        </p:nvPicPr>
        <p:blipFill>
          <a:blip r:embed="rId2"/>
          <a:srcRect l="0" t="9592" r="0" b="0"/>
          <a:stretch/>
        </p:blipFill>
        <p:spPr>
          <a:xfrm>
            <a:off x="1981080" y="1882800"/>
            <a:ext cx="5181840" cy="468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5" descr="e2506f9b035b6dce767e8875bb664c02_1_orig"/>
          <p:cNvPicPr/>
          <p:nvPr/>
        </p:nvPicPr>
        <p:blipFill>
          <a:blip r:embed="rId2"/>
          <a:srcRect l="0" t="0" r="0" b="18001"/>
          <a:stretch/>
        </p:blipFill>
        <p:spPr>
          <a:xfrm>
            <a:off x="533520" y="1600200"/>
            <a:ext cx="8153280" cy="487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атьяна</cp:lastModifiedBy>
  <dcterms:modified xsi:type="dcterms:W3CDTF">2023-12-12T11:56:15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