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B64F-D9C3-4D23-9573-1BE7867C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DA7-87D6-49E8-B20F-07325D94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8423-A7F4-49BD-BD49-8B704089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530-7FFC-4C4E-BA2F-0AEE1F5DB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DA0-B48D-4F55-8BB0-793FF2C5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856-5A0F-4838-97E9-AD0040B4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BEF-4CAF-4035-8575-12E5BB6A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717-CF98-4813-A05D-877C188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230-419F-4FFA-9D61-256DA0C8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F40E-9BCC-469D-B775-8D89596C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28C-B64A-48F5-B7BC-168419D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9DE-3B9D-4160-9C26-3BF1A15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A777-AE36-4B3D-BCB5-58469EF466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extBox 4"/>
          <p:cNvGrpSpPr/>
          <p:nvPr/>
        </p:nvGrpSpPr>
        <p:grpSpPr>
          <a:xfrm>
            <a:off x="-244440" y="1731960"/>
            <a:ext cx="9632880" cy="2236680"/>
            <a:chOff x="-244440" y="1731960"/>
            <a:chExt cx="9632880" cy="2236680"/>
          </a:xfrm>
        </p:grpSpPr>
        <p:pic>
          <p:nvPicPr>
            <p:cNvPr id="42" name="TextBox 4" descr=""/>
            <p:cNvPicPr/>
            <p:nvPr/>
          </p:nvPicPr>
          <p:blipFill>
            <a:blip r:embed="rId1"/>
            <a:stretch/>
          </p:blipFill>
          <p:spPr>
            <a:xfrm>
              <a:off x="-244440" y="1731960"/>
              <a:ext cx="96328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97316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Правила дорожного движения для обучающихс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с ограниченными возможностями здоровь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Прямоугольник 5"/>
          <p:cNvSpPr/>
          <p:nvPr/>
        </p:nvSpPr>
        <p:spPr>
          <a:xfrm>
            <a:off x="0" y="7794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 Unicode MS"/>
              </a:rPr>
              <a:t>Государственное бюджетное профессион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 Unicode MS"/>
              </a:rPr>
              <a:t>«Георгиевский колледж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6012000" y="4389480"/>
            <a:ext cx="221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Arial"/>
                <a:ea typeface="Arial"/>
              </a:rPr>
              <a:t>Полещук А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7"/>
          <p:cNvSpPr/>
          <p:nvPr/>
        </p:nvSpPr>
        <p:spPr>
          <a:xfrm>
            <a:off x="4299120" y="52862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642960" y="857160"/>
            <a:ext cx="82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мный пешеход никогда не выбежит на дорогу, даже если это место для перехода. Он пойдет спокойно, потому что для водителя выскочивший на дорогу человек - всегда неожиданность, и неизвестно, сумеет ли водитель с этой неожиданностью справить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s://ds04.infourok.ru/uploads/ex/08b6/0019d245-4cfaa980/img10.jpg"/>
          <p:cNvPicPr/>
          <p:nvPr/>
        </p:nvPicPr>
        <p:blipFill>
          <a:blip r:embed="rId2"/>
          <a:stretch/>
        </p:blipFill>
        <p:spPr>
          <a:xfrm>
            <a:off x="1643040" y="2205000"/>
            <a:ext cx="60008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857160" y="1000080"/>
            <a:ext cx="764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асно играть рядом с дорогой: кататься на велосипеде летом или зимой на санк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най правила безопасности пешеходов, не нарушай их, научись применять в жизн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s://ds05.infourok.ru/uploads/ex/0d0e/0011993d-fc378b41/hello_html_136f03a3.jpg"/>
          <p:cNvPicPr/>
          <p:nvPr/>
        </p:nvPicPr>
        <p:blipFill>
          <a:blip r:embed="rId2"/>
          <a:stretch/>
        </p:blipFill>
        <p:spPr>
          <a:xfrm>
            <a:off x="1928880" y="2352600"/>
            <a:ext cx="54291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4357800" y="857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714240" y="4071960"/>
            <a:ext cx="364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Участник дорожного движения </a:t>
            </a:r>
            <a:r>
              <a:rPr b="1" lang="ru-RU" sz="1800" spc="-1" strike="noStrike">
                <a:solidFill>
                  <a:srgbClr val="c00000"/>
                </a:solidFill>
                <a:latin typeface="Symbol"/>
                <a:ea typeface="Symbol"/>
              </a:rPr>
              <a:t>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лицо, принимающее непосредственное участие в процессе движения в качестве водителя, пешехода, пассажира транспортного сре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Users\Татьяна\Desktop\й.jpg"/>
          <p:cNvPicPr/>
          <p:nvPr/>
        </p:nvPicPr>
        <p:blipFill>
          <a:blip r:embed="rId2"/>
          <a:stretch/>
        </p:blipFill>
        <p:spPr>
          <a:xfrm>
            <a:off x="642960" y="928800"/>
            <a:ext cx="3786120" cy="30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https://avatars.mds.yandex.net/get-zen_doc/1587012/pub_5e0202894e057700b19e0659_5e410186b21d7d119bdf3306/scale_1200"/>
          <p:cNvPicPr/>
          <p:nvPr/>
        </p:nvPicPr>
        <p:blipFill>
          <a:blip r:embed="rId3"/>
          <a:stretch/>
        </p:blipFill>
        <p:spPr>
          <a:xfrm>
            <a:off x="4429080" y="2071800"/>
            <a:ext cx="420048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1285920" y="71424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РЕЖДЕ ЧЕМ ПЕРЕЙТИ ДОРОГУ - УБЕДИСЬ В БЕЗОПАСНОСТИ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3079440" y="114300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ипичные дорожные "ловушки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357120" y="157176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Главная опасность - стоящая маши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ящая машина опасна: она может закрывать собой другой автомобиль, который движется с большой скоростью, мешает вовремя заметить опасность. Нельзя выходить на дорогу из-за стоящих машин. В крайнем случае, нужно осторожно выглянуть из-за стоящего автомобиля, убедиться, что опасность не угрожает и только тогда переходить дор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dety_07-1"/>
          <p:cNvPicPr/>
          <p:nvPr/>
        </p:nvPicPr>
        <p:blipFill>
          <a:blip r:embed="rId2"/>
          <a:stretch/>
        </p:blipFill>
        <p:spPr>
          <a:xfrm>
            <a:off x="1714680" y="3714840"/>
            <a:ext cx="59292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428760" y="85716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Arial"/>
              </a:rPr>
              <a:t>2. Не обходите стоящий автобус ни спереди, ни сзад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оящий автобус закрывает собою участок дороги, по которому в тот момент, когда вы решили ее перейти, может проезжать автомобиль. Кроме того, люди около остановки обычно спешат и забывают о безопасности. От остановки надо двигаться в сторону ближайшего пешеходного перех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dety_03-2"/>
          <p:cNvPicPr/>
          <p:nvPr/>
        </p:nvPicPr>
        <p:blipFill>
          <a:blip r:embed="rId2"/>
          <a:stretch/>
        </p:blipFill>
        <p:spPr>
          <a:xfrm>
            <a:off x="4714920" y="3357720"/>
            <a:ext cx="3895560" cy="2590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dety_03-1"/>
          <p:cNvPicPr/>
          <p:nvPr/>
        </p:nvPicPr>
        <p:blipFill>
          <a:blip r:embed="rId3"/>
          <a:stretch/>
        </p:blipFill>
        <p:spPr>
          <a:xfrm>
            <a:off x="571680" y="2786040"/>
            <a:ext cx="4039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500040" y="642960"/>
            <a:ext cx="835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3. Умейте предвидеть скрытую опасн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-за стоящего автомобиля, дома, забора, кустов и др. может неожиданно выехать машина. Для перехода дороги нужно выбрать такое место, где дорога просматривается в оба направления. В крайнем случае, можно осторожно выглянуть из-за помехи, убедиться, что опасности нет, и только тогда переходить доро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s://pickimage.ru/wp-content/uploads/images/detskie/pddtask/zadaniyapdd7.jpg"/>
          <p:cNvPicPr/>
          <p:nvPr/>
        </p:nvPicPr>
        <p:blipFill>
          <a:blip r:embed="rId2"/>
          <a:stretch/>
        </p:blipFill>
        <p:spPr>
          <a:xfrm>
            <a:off x="1928880" y="2571840"/>
            <a:ext cx="542916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642960" y="928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. Арки и выезды из дворов – места скрытой опасн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городах местом повышенной опасности являются арки, через которые  из дворов на проезжую часть выезжают маш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s://ds02.infourok.ru/uploads/ex/0011/00040b38-a1e4c550/img10.jpg"/>
          <p:cNvPicPr/>
          <p:nvPr/>
        </p:nvPicPr>
        <p:blipFill>
          <a:blip r:embed="rId2"/>
          <a:stretch/>
        </p:blipFill>
        <p:spPr>
          <a:xfrm>
            <a:off x="1643040" y="2262240"/>
            <a:ext cx="58230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642960" y="714240"/>
            <a:ext cx="814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. Машина приближается медленно, но ее надо пропустить 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дленно движущаяся машина может скрывать за собой автомобиль, идущий на большой скорости. Пешеход часто не подозревает, что за одной машиной может быть скрыта друг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dety_02-1"/>
          <p:cNvPicPr/>
          <p:nvPr/>
        </p:nvPicPr>
        <p:blipFill>
          <a:blip r:embed="rId2"/>
          <a:stretch/>
        </p:blipFill>
        <p:spPr>
          <a:xfrm>
            <a:off x="1357200" y="2357280"/>
            <a:ext cx="6572520" cy="36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2"/>
          <p:cNvSpPr/>
          <p:nvPr/>
        </p:nvSpPr>
        <p:spPr>
          <a:xfrm>
            <a:off x="714240" y="642960"/>
            <a:ext cx="8001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. И у светофора можно встретить опас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егодня на дорогах города мы постоянно сталкиваемся с тем, что водители автомобилей нарушают ПДД: мчатся на высокой скорости, игнорируя сигналы светофора и знаки перехода. Поэтому недостаточно ориентироваться на зеленый сигнал светофора, необходимо убедиться, что опасность не угрож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шеходы  часто рассуждают так: "Машины еще стоят, водители меня видят и пропустят". Они ошиб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s://surok-oren.ru/uploads/posts/2019-07/1563342458_dsc_0010.jpg"/>
          <p:cNvPicPr/>
          <p:nvPr/>
        </p:nvPicPr>
        <p:blipFill>
          <a:blip r:embed="rId2"/>
          <a:stretch/>
        </p:blipFill>
        <p:spPr>
          <a:xfrm>
            <a:off x="1928880" y="2500200"/>
            <a:ext cx="491652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2"/>
          <p:cNvSpPr/>
          <p:nvPr/>
        </p:nvSpPr>
        <p:spPr>
          <a:xfrm>
            <a:off x="500040" y="71424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. Стоя на осевой линии, помните: сзади может оказаться маши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йдя до осевой линии и остановившись, пешеходы обычно следят только за машинами, двигающимися с правой стороны, и забывают об автомобилях проезжающих у них за спиной. Испугавшись, человек может сделать шаг назад - прямо под колеса машины. Если пришлось остановиться на середине дороги, надо быть предельно внимательным, не делать ни одного движения, не убедившись в без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dety_06-1"/>
          <p:cNvPicPr/>
          <p:nvPr/>
        </p:nvPicPr>
        <p:blipFill>
          <a:blip r:embed="rId2"/>
          <a:stretch/>
        </p:blipFill>
        <p:spPr>
          <a:xfrm>
            <a:off x="1571760" y="3178080"/>
            <a:ext cx="600048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857160" y="78588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08b8"/>
                </a:solidFill>
                <a:latin typeface="Calibri"/>
                <a:ea typeface="Arial"/>
              </a:rPr>
              <a:t>Если правила движен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08b8"/>
                </a:solidFill>
                <a:latin typeface="Calibri"/>
                <a:ea typeface="Arial"/>
              </a:rPr>
              <a:t>Ты не знаешь до сих п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08b8"/>
                </a:solidFill>
                <a:latin typeface="Calibri"/>
                <a:ea typeface="Arial"/>
              </a:rPr>
              <a:t>Мы начать с тобой гот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08b8"/>
                </a:solidFill>
                <a:latin typeface="Calibri"/>
                <a:ea typeface="Arial"/>
              </a:rPr>
              <a:t>Очень нужный разгов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5429160" y="428616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Вспомним правила, друзья! Ведь без них нам жить нельз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s://avatars.mds.yandex.net/get-zen_doc/3524431/pub_5efb695b7c8a441248d0b6c4_5efb69767702641b7627d28a/scale_1200"/>
          <p:cNvPicPr/>
          <p:nvPr/>
        </p:nvPicPr>
        <p:blipFill>
          <a:blip r:embed="rId2"/>
          <a:stretch/>
        </p:blipFill>
        <p:spPr>
          <a:xfrm>
            <a:off x="714240" y="2214720"/>
            <a:ext cx="3786480" cy="3765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http://t880248.dou.obrazovanie33.ru/upload/site_files/48/s12002.jpg"/>
          <p:cNvPicPr/>
          <p:nvPr/>
        </p:nvPicPr>
        <p:blipFill>
          <a:blip r:embed="rId3"/>
          <a:stretch/>
        </p:blipFill>
        <p:spPr>
          <a:xfrm>
            <a:off x="4643280" y="714240"/>
            <a:ext cx="3762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2" descr=""/>
          <p:cNvPicPr/>
          <p:nvPr/>
        </p:nvPicPr>
        <p:blipFill>
          <a:blip r:embed="rId2"/>
          <a:stretch/>
        </p:blipFill>
        <p:spPr>
          <a:xfrm>
            <a:off x="927000" y="1859040"/>
            <a:ext cx="7558200" cy="2236680"/>
          </a:xfrm>
          <a:prstGeom prst="rect">
            <a:avLst/>
          </a:prstGeom>
          <a:ln w="0">
            <a:noFill/>
          </a:ln>
        </p:spPr>
      </p:pic>
      <p:grpSp>
        <p:nvGrpSpPr>
          <p:cNvPr id="117" name="Прямоугольник 4"/>
          <p:cNvGrpSpPr/>
          <p:nvPr/>
        </p:nvGrpSpPr>
        <p:grpSpPr>
          <a:xfrm>
            <a:off x="1620720" y="4194000"/>
            <a:ext cx="6170760" cy="1121040"/>
            <a:chOff x="1620720" y="4194000"/>
            <a:chExt cx="6170760" cy="1121040"/>
          </a:xfrm>
        </p:grpSpPr>
        <p:pic>
          <p:nvPicPr>
            <p:cNvPr id="118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20720" y="4194000"/>
              <a:ext cx="617076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860840" y="4429080"/>
              <a:ext cx="569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7030a0"/>
                  </a:solidFill>
                  <a:latin typeface="Arial"/>
                </a:rPr>
                <a:t>ДОРОЖНЫЕ СИТУАЦИ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https://ds04.infourok.ru/uploads/ex/0678/000ff87f-b3c011be/img11.jpg"/>
          <p:cNvPicPr/>
          <p:nvPr/>
        </p:nvPicPr>
        <p:blipFill>
          <a:blip r:embed="rId2"/>
          <a:stretch/>
        </p:blipFill>
        <p:spPr>
          <a:xfrm>
            <a:off x="1057320" y="928800"/>
            <a:ext cx="7101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https://gendocs.ru/docs/10/9917/conv_11/file11.jpg"/>
          <p:cNvPicPr/>
          <p:nvPr/>
        </p:nvPicPr>
        <p:blipFill>
          <a:blip r:embed="rId2"/>
          <a:stretch/>
        </p:blipFill>
        <p:spPr>
          <a:xfrm>
            <a:off x="857160" y="714240"/>
            <a:ext cx="7534440" cy="53452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428760" y="24289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8358120" y="25002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500040" y="464328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8358120" y="47149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https://ds04.infourok.ru/uploads/ex/0a3c/0000ba03-9676b646/hello_html_2e55617.jpg"/>
          <p:cNvPicPr/>
          <p:nvPr/>
        </p:nvPicPr>
        <p:blipFill>
          <a:blip r:embed="rId2"/>
          <a:stretch/>
        </p:blipFill>
        <p:spPr>
          <a:xfrm>
            <a:off x="708120" y="706320"/>
            <a:ext cx="7650000" cy="5391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428760" y="214308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8286840" y="21430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357120" y="47862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429760" y="4500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s://vip-divan.su/800/600/https/gendocs.ru/docs/10/9917/conv_10/file10.jpg"/>
          <p:cNvPicPr/>
          <p:nvPr/>
        </p:nvPicPr>
        <p:blipFill>
          <a:blip r:embed="rId2"/>
          <a:stretch/>
        </p:blipFill>
        <p:spPr>
          <a:xfrm>
            <a:off x="714240" y="714240"/>
            <a:ext cx="7732800" cy="54547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285840" y="221472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8358120" y="22147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357120" y="457200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8361720" y="43578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2"/>
          <p:cNvSpPr/>
          <p:nvPr/>
        </p:nvSpPr>
        <p:spPr>
          <a:xfrm>
            <a:off x="1143000" y="71424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йди опасности, подстерегающие пеш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c2601"/>
          <p:cNvPicPr/>
          <p:nvPr/>
        </p:nvPicPr>
        <p:blipFill>
          <a:blip r:embed="rId2"/>
          <a:stretch/>
        </p:blipFill>
        <p:spPr>
          <a:xfrm>
            <a:off x="500040" y="1928880"/>
            <a:ext cx="39844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2601"/>
          <p:cNvPicPr/>
          <p:nvPr/>
        </p:nvPicPr>
        <p:blipFill>
          <a:blip r:embed="rId3"/>
          <a:stretch/>
        </p:blipFill>
        <p:spPr>
          <a:xfrm>
            <a:off x="4714920" y="1928880"/>
            <a:ext cx="3867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https://sch571.mskobr.ru/files/%D0%B1%D0%B5%D0%B7%D0%BE%D0%BF%D0%B0%D1%81%D0%BD%D0%BE%D1%81%D1%82%D1%8C/%D0%BA%D0%B0%D1%80%D1%82%D0%B8%D0%BD%D0%BA%D0%B8/f%20(1).jpg"/>
          <p:cNvPicPr/>
          <p:nvPr/>
        </p:nvPicPr>
        <p:blipFill>
          <a:blip r:embed="rId2"/>
          <a:stretch/>
        </p:blipFill>
        <p:spPr>
          <a:xfrm>
            <a:off x="1643040" y="1285920"/>
            <a:ext cx="5786640" cy="4842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1928880" y="785880"/>
            <a:ext cx="49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йди ошибки пеш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https://fs.znanio.ru/d5af0e/ab/da/747518f17a27716a8ea3d20e6f5d53ced7.jpg"/>
          <p:cNvPicPr/>
          <p:nvPr/>
        </p:nvPicPr>
        <p:blipFill>
          <a:blip r:embed="rId2"/>
          <a:stretch/>
        </p:blipFill>
        <p:spPr>
          <a:xfrm>
            <a:off x="714240" y="2071800"/>
            <a:ext cx="7786800" cy="29858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2214720" y="857160"/>
            <a:ext cx="52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 каком рисунке показано нарушение пд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1714680" y="5214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4357800" y="5214960"/>
            <a:ext cx="142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7147080" y="5214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http://xn--35-6kchkqbz9a9f0e.xn--p1ai/wp-content/uploads/2018/08/3-1.jpg"/>
          <p:cNvPicPr/>
          <p:nvPr/>
        </p:nvPicPr>
        <p:blipFill>
          <a:blip r:embed="rId2"/>
          <a:stretch/>
        </p:blipFill>
        <p:spPr>
          <a:xfrm>
            <a:off x="2428920" y="1474920"/>
            <a:ext cx="3929040" cy="47178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4"/>
          <p:cNvSpPr/>
          <p:nvPr/>
        </p:nvSpPr>
        <p:spPr>
          <a:xfrm>
            <a:off x="1500120" y="78588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айди пешеходов, которые опасно ведут себя на у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images.myshared.ru/6/743968/slide_20.jpg"/>
          <p:cNvPicPr/>
          <p:nvPr/>
        </p:nvPicPr>
        <p:blipFill>
          <a:blip r:embed="rId2"/>
          <a:stretch/>
        </p:blipFill>
        <p:spPr>
          <a:xfrm>
            <a:off x="820800" y="1428840"/>
            <a:ext cx="7672320" cy="47149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571760" y="78588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то из пешеходов правильно переходит улиц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"/>
          <p:cNvSpPr/>
          <p:nvPr/>
        </p:nvSpPr>
        <p:spPr>
          <a:xfrm>
            <a:off x="428760" y="10044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Пешеход –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Человек, производящий работы на дорог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Лицо, идущее по троту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236448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акие из перечисленных ситуаций могут стать причинами дорожно -    транспортных происшеств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Переход дороги в неустановленном мес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Игры на проезжей ча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3. Хождение по проезжей части до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28760" y="4363920"/>
            <a:ext cx="828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Что означает мигание зеленого сигнала светофо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Светофор не работ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Время зеленого сигнала истека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3. Движение запре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https://1.bp.blogspot.com/-VGLrZLCqpmE/Xp5_BQ8DcpI/AAAAAAAAAT4/6Kz4f9v31xAoKxxNTDtI9J95fl_0voQ1wCNcBGAsYHQ/s1600/i%2B%25284%2529.jpg"/>
          <p:cNvPicPr/>
          <p:nvPr/>
        </p:nvPicPr>
        <p:blipFill>
          <a:blip r:embed="rId2"/>
          <a:stretch/>
        </p:blipFill>
        <p:spPr>
          <a:xfrm>
            <a:off x="928800" y="1357200"/>
            <a:ext cx="7327800" cy="48085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2571840" y="7858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акую ошибку допустил пешеход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http://detsad8skazka.com.ru/wp-content/uploads/2020/08/%D0%9F%D0%BB%D0%B0%D0%BA%D0%B0%D1%82-%D0%BE%D1%81%D0%B5%D0%BD%D1%8C.jpg"/>
          <p:cNvPicPr/>
          <p:nvPr/>
        </p:nvPicPr>
        <p:blipFill>
          <a:blip r:embed="rId2"/>
          <a:stretch/>
        </p:blipFill>
        <p:spPr>
          <a:xfrm>
            <a:off x="928800" y="1428840"/>
            <a:ext cx="7402320" cy="46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https://img1.liveinternet.ru/images/attach/c/6/92/140/92140197_64525634_0_2dd40_14a5c9de_XL.jpg"/>
          <p:cNvPicPr/>
          <p:nvPr/>
        </p:nvPicPr>
        <p:blipFill>
          <a:blip r:embed="rId3"/>
          <a:stretch/>
        </p:blipFill>
        <p:spPr>
          <a:xfrm>
            <a:off x="928800" y="1495440"/>
            <a:ext cx="1000080" cy="114768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6"/>
          <p:cNvSpPr/>
          <p:nvPr/>
        </p:nvSpPr>
        <p:spPr>
          <a:xfrm>
            <a:off x="785880" y="85716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вное правило безопасного поведения - 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предвидеть опас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https://ds05.infourok.ru/uploads/ex/05d4/000d11ab-d36bc360/img10.jpg"/>
          <p:cNvPicPr/>
          <p:nvPr/>
        </p:nvPicPr>
        <p:blipFill>
          <a:blip r:embed="rId2"/>
          <a:stretch/>
        </p:blipFill>
        <p:spPr>
          <a:xfrm>
            <a:off x="928800" y="642960"/>
            <a:ext cx="742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428760" y="9331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Как должна двигаться пешая колонна по проезжей ча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По левому краю дороги навстречу движущемуся транспор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По правому краю дороги по направлению движения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428760" y="243504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Что такое троту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Дорога для велосипедис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Дорога для пеше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3. Дорога для транспо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28760" y="4006800"/>
            <a:ext cx="835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Опасно ли ходить по краю тротуа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1. Не опасно, так как тротуар предназначен для пешех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2. Не опасно, так как транспорт не должен ехать близко к тротуа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Calibri"/>
                <a:ea typeface="Times New Roman"/>
              </a:rPr>
              <a:t>3. Опасно, так как можно быть задетым близко идущим тран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4929120" y="4572000"/>
            <a:ext cx="364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ли тротуара нет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ди навстречу движ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 обочин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или краю дороги. Тогда не только водитель видит тебя издали, но и ты видишь приближающуюся ма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s://im0-tub-ru.yandex.net/i?id=66a118e98d6ce5c5dfd591993f046c1e-l&amp;n=13"/>
          <p:cNvPicPr/>
          <p:nvPr/>
        </p:nvPicPr>
        <p:blipFill>
          <a:blip r:embed="rId2"/>
          <a:stretch/>
        </p:blipFill>
        <p:spPr>
          <a:xfrm>
            <a:off x="5072040" y="1214280"/>
            <a:ext cx="3614760" cy="3071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928960" y="7142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Мы пеше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71680" y="1214280"/>
            <a:ext cx="435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гда ты идешь по улице, то являешь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шеход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Ходить по улице тебе разреша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олько по тротуара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, придерживаясь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аво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стороны, чтобы не мешать движению встречных пешех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https://valeriasl.ru/img/po-kakoy-storone-dolzhen-idti-peshehod-navstrechu-mashine-ili-kak.jpg"/>
          <p:cNvPicPr/>
          <p:nvPr/>
        </p:nvPicPr>
        <p:blipFill>
          <a:blip r:embed="rId3"/>
          <a:stretch/>
        </p:blipFill>
        <p:spPr>
          <a:xfrm>
            <a:off x="714240" y="2928960"/>
            <a:ext cx="40006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2"/>
          <p:cNvSpPr/>
          <p:nvPr/>
        </p:nvSpPr>
        <p:spPr>
          <a:xfrm>
            <a:off x="714240" y="571680"/>
            <a:ext cx="4714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Чтобы перейти на другую сторону улицы, имеются определенные места и называются они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пешеходными переходами</a:t>
            </a:r>
            <a:r>
              <a:rPr b="0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ни обозначены дорожными знаками </a:t>
            </a:r>
            <a:r>
              <a:rPr b="0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"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Пешеходный переход</a:t>
            </a:r>
            <a:r>
              <a:rPr b="0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"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белыми линиями </a:t>
            </a:r>
            <a:r>
              <a:rPr b="1" lang="ru-RU" sz="1600" spc="-1" strike="noStrike">
                <a:solidFill>
                  <a:srgbClr val="7030a0"/>
                </a:solidFill>
                <a:latin typeface="Calibri"/>
                <a:ea typeface="Arial"/>
              </a:rPr>
              <a:t>разметки "зебра"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сли нет обозначенного пешеходного перехода, ты можешь переходить улицу на перекрестках по линиям тротуаров или обо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dety_pesh_1"/>
          <p:cNvPicPr/>
          <p:nvPr/>
        </p:nvPicPr>
        <p:blipFill>
          <a:blip r:embed="rId2"/>
          <a:stretch/>
        </p:blipFill>
        <p:spPr>
          <a:xfrm>
            <a:off x="5500800" y="714240"/>
            <a:ext cx="2931840" cy="199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k1006"/>
          <p:cNvPicPr/>
          <p:nvPr/>
        </p:nvPicPr>
        <p:blipFill>
          <a:blip r:embed="rId3"/>
          <a:stretch/>
        </p:blipFill>
        <p:spPr>
          <a:xfrm>
            <a:off x="527040" y="2610000"/>
            <a:ext cx="4330800" cy="3563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4929120" y="2928960"/>
            <a:ext cx="385776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ежде чем перейти дорогу, убедитесь в полной безопасности. Остановись у края проезжей части, прислушайся, посмотри налево и, если нет машин, дойди до середины проезжей части. Еще раз посмотри направо, и при отсутствии транспорта закончи переход. Дорогу нужно переходить под прямым углом и в местах, где дорога хорошо просматривается в обе стороны.</a:t>
            </a: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s://stavsad31.ru/wp-content/uploads/sites/72/2021/08/3-%D1%82%D0%B8%D1%82%D0%B8%D1%82.jpg"/>
          <p:cNvPicPr/>
          <p:nvPr/>
        </p:nvPicPr>
        <p:blipFill>
          <a:blip r:embed="rId2"/>
          <a:stretch/>
        </p:blipFill>
        <p:spPr>
          <a:xfrm>
            <a:off x="1322280" y="2254320"/>
            <a:ext cx="6535800" cy="38178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4"/>
          <p:cNvSpPr/>
          <p:nvPr/>
        </p:nvSpPr>
        <p:spPr>
          <a:xfrm>
            <a:off x="857160" y="78588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сли на пешеходном переходе или перекрестке есть светофор, он покажет тебе, когда идти, а когда стоять и ждать. Красный свет для пешеходов - стой, желтый - жди, зеленый - иди. Никогда не переходи улицу на красный свет, даже если машин поблизости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https://konspekta.net/studopedianet/baza15/14288265009983.files/image027.png"/>
          <p:cNvPicPr/>
          <p:nvPr/>
        </p:nvPicPr>
        <p:blipFill>
          <a:blip r:embed="rId2"/>
          <a:stretch/>
        </p:blipFill>
        <p:spPr>
          <a:xfrm>
            <a:off x="2071800" y="2643120"/>
            <a:ext cx="5072040" cy="33958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3"/>
          <p:cNvSpPr/>
          <p:nvPr/>
        </p:nvSpPr>
        <p:spPr>
          <a:xfrm>
            <a:off x="857160" y="857160"/>
            <a:ext cx="7143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 только загорелся зеленый свет, не "бросайся" с тротуара на дорогу. Бывает, что у машины неисправны тормоза, и она может неожиданно выехать на пешеходный переход. Поэтому переходить дорогу надо спокойно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и, а не перебегай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s://ds04.infourok.ru/uploads/ex/1377/00030d2e-145282a6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2"/>
          <p:cNvSpPr/>
          <p:nvPr/>
        </p:nvSpPr>
        <p:spPr>
          <a:xfrm>
            <a:off x="714240" y="714240"/>
            <a:ext cx="807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 улице, где машины появляются редко, дети выбегают на дорогу предварительно ее не осмотрев, и попадают под маш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работайте у себя привычку всегда перед выходом на дорогу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Arial"/>
              </a:rPr>
              <a:t>остановиться, оглядеться, прислушаться –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только тогда переходить улиц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ety_pesh_4"/>
          <p:cNvPicPr/>
          <p:nvPr/>
        </p:nvPicPr>
        <p:blipFill>
          <a:blip r:embed="rId2"/>
          <a:stretch/>
        </p:blipFill>
        <p:spPr>
          <a:xfrm>
            <a:off x="2214720" y="2357280"/>
            <a:ext cx="479736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4T14:40:13Z</dcterms:created>
  <dc:creator>Татьяна</dc:creator>
  <dc:description/>
  <dc:language>en-US</dc:language>
  <cp:lastModifiedBy>ПК</cp:lastModifiedBy>
  <dcterms:modified xsi:type="dcterms:W3CDTF">2023-12-14T10:53:51Z</dcterms:modified>
  <cp:revision>52</cp:revision>
  <dc:subject/>
  <dc:title>Слайд 1</dc:title>
</cp:coreProperties>
</file>