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F82-D2E4-44D3-AEB1-6A4C4133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0F9-344B-4896-9997-59D6EE75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A2B1-A9D7-48AA-9C2F-68D895FC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6B5-9375-4CFD-8C38-1582F769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4CCB-0445-409F-82FD-4ED6155A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76D4-D989-4D20-B222-7A0D8AF3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3920-FF40-40C2-9792-417111A9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85EE-D605-4568-9ABB-0A7158A9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3DBD-C8AE-478B-B438-B8FAFBD0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21EB-683E-46F8-8E02-68AEE5CD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F9F3-BE61-480F-9E98-BE636284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A2B-12B6-493A-A1DC-D40821F7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7EAC-5EF2-4303-AC3F-13384A00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FF0C-EA01-4189-8608-3531371E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88B3-53FA-4B5B-85F8-09434BCA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D468-CCD7-45BC-AF90-A9298260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B29D-D4F6-49F6-A11A-A0F9E399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DF4F9-CE17-42A3-9E06-042D82CB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AD54C-0F2C-4136-B9E5-C45BBA33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13BF4-3248-4EE2-9872-F83B2C13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C032D-0F6D-4F3D-BF96-3A288C68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677C0-A6EC-40FF-BE78-3736DB97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3D5-6DF1-48D2-91EA-E6ED9D18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81DFD-5E36-41E0-9613-6A36600A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47EB8-3136-4D2A-ADAD-2B148418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5298C-9878-425E-97ED-856B7C1B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471CA-BB6C-4344-9291-4BEBB03D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FADAE-329C-4FA1-A11B-3B4BBEBB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DDBD9-F438-48BE-B3CF-3493CE49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978CA-7BF4-40C2-9B99-4423085C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6EE-5647-4848-AC50-DA1D1A63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4C8-FB69-4C94-BB05-F617F4A0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C932-8C83-4704-989B-33A5DA45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99A0-331F-4324-AD64-F8A78090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BF1-9726-4419-BE9A-66F44DBD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81E-8944-402C-AB17-ABE24195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4f81b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000" spc="-1" strike="noStrike">
                <a:solidFill>
                  <a:srgbClr val="4f81b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3B5306-F3FD-4716-A03D-5EBF733FA5D7}" type="slidenum">
              <a:rPr b="0" lang="es-ES" sz="1000" spc="-1" strike="noStrike">
                <a:solidFill>
                  <a:srgbClr val="4f81b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4f81b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D4C96-EE43-4C0B-8595-3EB66A5A437A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4f81b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000" spc="-1" strike="noStrike">
                <a:solidFill>
                  <a:srgbClr val="4f81b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8B99E-5606-48C1-8F21-7E814690BF71}" type="slidenum">
              <a:rPr b="0" lang="es-ES" sz="1000" spc="-1" strike="noStrike">
                <a:solidFill>
                  <a:srgbClr val="4f81b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2320" y="-819360"/>
            <a:ext cx="8785080" cy="29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ЖНАЦИОНАЛЬНЫЕ ОТНОШЕНИЯ</a:t>
            </a:r>
            <a:endParaRPr b="0" lang="en-US" sz="54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268360" y="5470560"/>
            <a:ext cx="6575760" cy="13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ла: Медведева А. В., </a:t>
            </a:r>
            <a:endParaRPr b="0" lang="en-US" sz="2400" spc="-1" strike="noStrike">
              <a:solidFill>
                <a:srgbClr val="4f81bd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истории, обществознания.</a:t>
            </a:r>
            <a:endParaRPr b="0" lang="en-US" sz="2400" spc="-1" strike="noStrike">
              <a:solidFill>
                <a:srgbClr val="4f81b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0480" y="0"/>
            <a:ext cx="897084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межнациональных конфликтов</a:t>
            </a:r>
            <a:endParaRPr b="0" lang="en-US" sz="36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1332000" y="3068640"/>
            <a:ext cx="6480000" cy="72072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нодемографическ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1332000" y="4292640"/>
            <a:ext cx="6480000" cy="72072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1332000" y="5516640"/>
            <a:ext cx="6480000" cy="72072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1332000" y="1844640"/>
            <a:ext cx="6480000" cy="72072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ноконфессиональны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179280" y="189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и решения межнациональных конфликтов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246240" y="1844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нсолидация ( разъединение) сил, участвующих в конфликте, наиболее радикальные элементы или группы и поддержать силы, склонные к компромиссам, переговора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192240" y="5013360"/>
            <a:ext cx="897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рыв конфликта - способ, который позволяет расширить действие прагматических подходов к его регулированию, и в результате которого меняется эмоциональный фон конфликта, снижается накал страсте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255960" y="3036960"/>
            <a:ext cx="310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говорный процесс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239760" y="3716280"/>
            <a:ext cx="86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переговорах посредников или медиаторов. В особо сложных ситуациях подтверждение законности договоренностям придает участие представителей международных организаци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Межнациональные отношения</a:t>
            </a: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324000" y="1341360"/>
            <a:ext cx="90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тношения между этносами (народами), охватывающие все сферы общественной жизн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2" name="Рисунок 3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40072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79640" y="-21276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Формы отношений</a:t>
            </a: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250920" y="1844640"/>
            <a:ext cx="3960720" cy="20160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ное сотрудничество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Прямоугольник 8"/>
          <p:cNvSpPr/>
          <p:nvPr/>
        </p:nvSpPr>
        <p:spPr>
          <a:xfrm>
            <a:off x="4788000" y="1844640"/>
            <a:ext cx="4032000" cy="208908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нический конфликт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6" name="Рисунок 9" descr="g5LE3Osuocs.jpg"/>
          <p:cNvPicPr/>
          <p:nvPr/>
        </p:nvPicPr>
        <p:blipFill>
          <a:blip r:embed="rId1"/>
          <a:stretch/>
        </p:blipFill>
        <p:spPr>
          <a:xfrm>
            <a:off x="2987640" y="4024440"/>
            <a:ext cx="28386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Способы мирного сотрудничества</a:t>
            </a: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pic>
        <p:nvPicPr>
          <p:cNvPr id="138" name="Содержимое 5" descr=""/>
          <p:cNvPicPr/>
          <p:nvPr/>
        </p:nvPicPr>
        <p:blipFill>
          <a:blip r:embed="rId1"/>
          <a:stretch/>
        </p:blipFill>
        <p:spPr>
          <a:xfrm>
            <a:off x="133200" y="1401840"/>
            <a:ext cx="4915080" cy="4840200"/>
          </a:xfrm>
          <a:prstGeom prst="rect">
            <a:avLst/>
          </a:prstGeom>
          <a:ln w="0">
            <a:noFill/>
          </a:ln>
        </p:spPr>
      </p:pic>
      <p:pic>
        <p:nvPicPr>
          <p:cNvPr id="139" name="Содержимое 4" descr="Svjetski-dan-tolerancije_image_galleria.jpg"/>
          <p:cNvPicPr/>
          <p:nvPr/>
        </p:nvPicPr>
        <p:blipFill>
          <a:blip r:embed="rId2"/>
          <a:stretch/>
        </p:blipFill>
        <p:spPr>
          <a:xfrm>
            <a:off x="5219640" y="2384280"/>
            <a:ext cx="35164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тенденции развития наций</a:t>
            </a:r>
            <a:endParaRPr b="0" lang="en-US" sz="3600" spc="-1" strike="noStrike">
              <a:solidFill>
                <a:srgbClr val="4f81bd"/>
              </a:solidFill>
              <a:latin typeface="Corbel"/>
            </a:endParaRPr>
          </a:p>
        </p:txBody>
      </p:sp>
      <p:pic>
        <p:nvPicPr>
          <p:cNvPr id="141" name="Содержимое 6" descr=""/>
          <p:cNvPicPr/>
          <p:nvPr/>
        </p:nvPicPr>
        <p:blipFill>
          <a:blip r:embed="rId1"/>
          <a:stretch/>
        </p:blipFill>
        <p:spPr>
          <a:xfrm>
            <a:off x="195120" y="3992400"/>
            <a:ext cx="8467920" cy="226224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6" descr=""/>
          <p:cNvPicPr/>
          <p:nvPr/>
        </p:nvPicPr>
        <p:blipFill>
          <a:blip r:embed="rId2"/>
          <a:stretch/>
        </p:blipFill>
        <p:spPr>
          <a:xfrm>
            <a:off x="237960" y="1255680"/>
            <a:ext cx="8393400" cy="24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-100440"/>
            <a:ext cx="740556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интеграции</a:t>
            </a: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8920" y="14130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е и политические союзы</a:t>
            </a:r>
            <a:endParaRPr b="0" lang="en-US" sz="3200" spc="-1" strike="noStrike">
              <a:solidFill>
                <a:srgbClr val="4f81bd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национальные корпорации;</a:t>
            </a:r>
            <a:endParaRPr b="0" lang="en-US" sz="3200" spc="-1" strike="noStrike">
              <a:solidFill>
                <a:srgbClr val="4f81bd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культурные центры;</a:t>
            </a:r>
            <a:endParaRPr b="0" lang="en-US" sz="3200" spc="-1" strike="noStrike">
              <a:solidFill>
                <a:srgbClr val="4f81bd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проникновение религий, культур.</a:t>
            </a:r>
            <a:endParaRPr b="0" lang="en-US" sz="3200" spc="-1" strike="noStrike">
              <a:solidFill>
                <a:srgbClr val="4f81bd"/>
              </a:solidFill>
              <a:latin typeface="Corbel"/>
            </a:endParaRPr>
          </a:p>
        </p:txBody>
      </p:sp>
      <p:pic>
        <p:nvPicPr>
          <p:cNvPr id="145" name="Рисунок 9" descr="Svjetski-dan-tolerancije_image_galleria.jpg"/>
          <p:cNvPicPr/>
          <p:nvPr/>
        </p:nvPicPr>
        <p:blipFill>
          <a:blip r:embed="rId1"/>
          <a:stretch/>
        </p:blipFill>
        <p:spPr>
          <a:xfrm>
            <a:off x="3233880" y="3645000"/>
            <a:ext cx="29685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дифференциации</a:t>
            </a: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412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озный фанатизм;</a:t>
            </a:r>
            <a:endParaRPr b="0" lang="en-US" sz="3600" spc="-1" strike="noStrike">
              <a:solidFill>
                <a:srgbClr val="4f81bd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изм;</a:t>
            </a:r>
            <a:endParaRPr b="0" lang="en-US" sz="3600" spc="-1" strike="noStrike">
              <a:solidFill>
                <a:srgbClr val="4f81bd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кционизм в экономике;</a:t>
            </a:r>
            <a:endParaRPr b="0" lang="en-US" sz="3600" spc="-1" strike="noStrike">
              <a:solidFill>
                <a:srgbClr val="4f81bd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изоляция в целом.</a:t>
            </a:r>
            <a:endParaRPr b="0" lang="en-US" sz="3600" spc="-1" strike="noStrike">
              <a:solidFill>
                <a:srgbClr val="4f81bd"/>
              </a:solidFill>
              <a:latin typeface="Corbel"/>
            </a:endParaRPr>
          </a:p>
        </p:txBody>
      </p:sp>
      <p:pic>
        <p:nvPicPr>
          <p:cNvPr id="148" name="Рисунок 2" descr=""/>
          <p:cNvPicPr/>
          <p:nvPr/>
        </p:nvPicPr>
        <p:blipFill>
          <a:blip r:embed="rId1"/>
          <a:stretch/>
        </p:blipFill>
        <p:spPr>
          <a:xfrm>
            <a:off x="4633920" y="3789360"/>
            <a:ext cx="38466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920" y="-14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национальный конфликт</a:t>
            </a: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pic>
        <p:nvPicPr>
          <p:cNvPr id="150" name="Содержимое 5" descr="1360662656_7.jpg"/>
          <p:cNvPicPr/>
          <p:nvPr/>
        </p:nvPicPr>
        <p:blipFill>
          <a:blip r:embed="rId1"/>
          <a:stretch/>
        </p:blipFill>
        <p:spPr>
          <a:xfrm>
            <a:off x="2340000" y="3933720"/>
            <a:ext cx="3887640" cy="259092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3"/>
          <p:cNvSpPr/>
          <p:nvPr/>
        </p:nvSpPr>
        <p:spPr>
          <a:xfrm>
            <a:off x="250920" y="1197000"/>
            <a:ext cx="8642160" cy="266364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любая конкуренция между этническими группами, от противоборства за обладание ограниченными ресурсами до социальной конкуренц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236520"/>
            <a:ext cx="794052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межнациональных конфликтов</a:t>
            </a: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1187280" y="1844640"/>
            <a:ext cx="6480360" cy="72072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оциально-экономическ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Прямоугольник 4"/>
          <p:cNvSpPr/>
          <p:nvPr/>
        </p:nvSpPr>
        <p:spPr>
          <a:xfrm>
            <a:off x="1187280" y="3068640"/>
            <a:ext cx="6480360" cy="72072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этнополитическ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Прямоугольник 5"/>
          <p:cNvSpPr/>
          <p:nvPr/>
        </p:nvSpPr>
        <p:spPr>
          <a:xfrm>
            <a:off x="1187280" y="4292640"/>
            <a:ext cx="6480360" cy="72072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этнотерриториальны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Прямоугольник 7"/>
          <p:cNvSpPr/>
          <p:nvPr/>
        </p:nvSpPr>
        <p:spPr>
          <a:xfrm>
            <a:off x="1187280" y="5445000"/>
            <a:ext cx="6480360" cy="72072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этнокультурны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Анна Смирнова</cp:lastModifiedBy>
  <dcterms:modified xsi:type="dcterms:W3CDTF">2023-12-14T08:06:39Z</dcterms:modified>
  <cp:revision>756</cp:revision>
  <dc:subject/>
  <dc:title>Diapositiva 1</dc:title>
</cp:coreProperties>
</file>