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2B6F-CF13-4F39-AC51-F474121CA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A242-DC8F-4775-8433-001052998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B1D0-059F-4DE6-83F6-38443731A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1E92-6628-4052-9317-D5502F0F5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50A6B-4CAC-4E2C-BE2F-2C7ADF269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8118C-1CF2-4D2F-A1B9-54D4ACC56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CE611-A2A3-4B68-89E8-D581F4A6E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B7767-1832-4F6B-AA88-41210E03B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97CCE-A425-4FC2-953A-E80CC09DF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0E04C-4548-4E3C-9D1D-FD29F6184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757D9-EAF4-4D87-90A1-8ACFDFB3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3D21-866B-4201-9FAF-7F037E1E3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254E7-B763-4251-979E-BEF8D0D9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FDD23-52ED-440A-A5DA-7EA6C951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C5CB8-EE8D-4B2C-AE10-2871FF965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BD377-3B8D-46AD-AA96-ADE620A8E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3D7A1-A49E-4C91-A65A-370C8B47B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20FA4-55E2-4D1C-8C60-1DDD5F5BC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EA6E4-81C7-43CE-B204-E5D15E5AC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077EB-85E7-4BCC-91E5-AA9B3686C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A8932-9AF2-4EC9-A735-8F1355172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DD996-E60E-40D2-B6B0-DA356554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01F7-A64F-4904-A491-E05F898D6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67EE6-E46C-4071-AB29-F7F4F92DA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DEDDF-1971-4026-A124-C067FAB0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EC4C1-0A19-4148-B23A-0CDC59C9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C2204-31DD-45C9-BD4C-37DD6554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DA627-FBAB-48DD-8BB4-3DE873FAE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2A321-5010-453E-B4CD-E9D17E1CD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89968-7709-44AF-A7E9-B02810AB2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5245-873A-4040-9F27-C5DB5D063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9D98-29C7-4C54-ACD2-F370AA180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4D98-7620-4ED8-9800-92C09B8DC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B092-3E0E-4F01-84D9-32CB412E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1D11-8CC6-44E6-A82E-D1776BB7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E9FD-8CDC-4DB4-B6B5-AEBFE45F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4f81bd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4f81bd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4f81bd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4f81bd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4f81bd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4f81bd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4f81bd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4f81bd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4f81bd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4f81bd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4f81bd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4f81bd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4f81bd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000" spc="-1" strike="noStrike">
                <a:solidFill>
                  <a:srgbClr val="4f81b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E1CC0A-665F-4C18-A17B-E6F95DB1EEB8}" type="slidenum">
              <a:rPr b="0" lang="es-ES" sz="1000" spc="-1" strike="noStrike">
                <a:solidFill>
                  <a:srgbClr val="4f81b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4f81b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1484280" y="3733920"/>
            <a:ext cx="6172200" cy="0"/>
          </a:xfrm>
          <a:prstGeom prst="line">
            <a:avLst/>
          </a:prstGeom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4f81bd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4f81bd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4f81bd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4f81bd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4f81bd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4f81bd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4f81bd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4f81bd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4f81bd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4f81bd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4f81bd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4f81bd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4f81bd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674F2D-F58F-4265-A784-CD31EEA5051F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Straight Connector 6"/>
          <p:cNvSpPr/>
          <p:nvPr/>
        </p:nvSpPr>
        <p:spPr>
          <a:xfrm>
            <a:off x="1486080" y="4021200"/>
            <a:ext cx="6172200" cy="0"/>
          </a:xfrm>
          <a:prstGeom prst="line">
            <a:avLst/>
          </a:prstGeom>
          <a:ln w="10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4f81bd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4f81bd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4f81bd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4f81bd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4f81bd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4f81bd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4f81bd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4f81bd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4f81bd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4f81bd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4f81bd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4f81bd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4f81bd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000" spc="-1" strike="noStrike">
                <a:solidFill>
                  <a:srgbClr val="4f81b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56C1B3-8F99-479F-9691-8CF32C9880C4}" type="slidenum">
              <a:rPr b="0" lang="es-ES" sz="1000" spc="-1" strike="noStrike">
                <a:solidFill>
                  <a:srgbClr val="4f81b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2320" y="-819360"/>
            <a:ext cx="8785080" cy="292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ЖНАЦИОНАЛЬНЫЕ ОТНОШЕНИЯ</a:t>
            </a:r>
            <a:endParaRPr b="0" lang="en-US" sz="54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268360" y="5470560"/>
            <a:ext cx="6575760" cy="13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ставила: Медведева А. В., </a:t>
            </a:r>
            <a:endParaRPr b="0" lang="en-US" sz="2400" spc="-1" strike="noStrike">
              <a:solidFill>
                <a:srgbClr val="4f81bd"/>
              </a:solidFill>
              <a:latin typeface="Corbel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истории, обществознания.</a:t>
            </a:r>
            <a:endParaRPr b="0" lang="en-US" sz="2400" spc="-1" strike="noStrike">
              <a:solidFill>
                <a:srgbClr val="4f81bd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0480" y="0"/>
            <a:ext cx="8970840" cy="13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межнациональных конфликтов</a:t>
            </a:r>
            <a:endParaRPr b="0" lang="en-US" sz="36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158" name="Прямоугольник 3"/>
          <p:cNvSpPr/>
          <p:nvPr/>
        </p:nvSpPr>
        <p:spPr>
          <a:xfrm>
            <a:off x="1332000" y="3068640"/>
            <a:ext cx="6480000" cy="720720"/>
          </a:xfrm>
          <a:prstGeom prst="rect">
            <a:avLst/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нодемографические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Прямоугольник 4"/>
          <p:cNvSpPr/>
          <p:nvPr/>
        </p:nvSpPr>
        <p:spPr>
          <a:xfrm>
            <a:off x="1332000" y="4292640"/>
            <a:ext cx="6480000" cy="720720"/>
          </a:xfrm>
          <a:prstGeom prst="rect">
            <a:avLst/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логические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Прямоугольник 5"/>
          <p:cNvSpPr/>
          <p:nvPr/>
        </p:nvSpPr>
        <p:spPr>
          <a:xfrm>
            <a:off x="1332000" y="5516640"/>
            <a:ext cx="6480000" cy="720720"/>
          </a:xfrm>
          <a:prstGeom prst="rect">
            <a:avLst/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ческие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Прямоугольник 9"/>
          <p:cNvSpPr/>
          <p:nvPr/>
        </p:nvSpPr>
        <p:spPr>
          <a:xfrm>
            <a:off x="1332000" y="1844640"/>
            <a:ext cx="6480000" cy="720720"/>
          </a:xfrm>
          <a:prstGeom prst="rect">
            <a:avLst/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ноконфессиональные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1"/>
          <p:cNvSpPr/>
          <p:nvPr/>
        </p:nvSpPr>
        <p:spPr>
          <a:xfrm>
            <a:off x="179280" y="18900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и решения межнациональных конфликтов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Прямоугольник 2"/>
          <p:cNvSpPr/>
          <p:nvPr/>
        </p:nvSpPr>
        <p:spPr>
          <a:xfrm>
            <a:off x="246240" y="184464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онсолидация ( разъединение) сил, участвующих в конфликте, наиболее радикальные элементы или группы и поддержать силы, склонные к компромиссам, переговорам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Прямоугольник 3"/>
          <p:cNvSpPr/>
          <p:nvPr/>
        </p:nvSpPr>
        <p:spPr>
          <a:xfrm>
            <a:off x="192240" y="5013360"/>
            <a:ext cx="8978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рыв конфликта - способ, который позволяет расширить действие прагматических подходов к его регулированию, и в результате которого меняется эмоциональный фон конфликта, снижается накал страстей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Прямоугольник 4"/>
          <p:cNvSpPr/>
          <p:nvPr/>
        </p:nvSpPr>
        <p:spPr>
          <a:xfrm>
            <a:off x="255960" y="3036960"/>
            <a:ext cx="310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говорный процесс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Прямоугольник 5"/>
          <p:cNvSpPr/>
          <p:nvPr/>
        </p:nvSpPr>
        <p:spPr>
          <a:xfrm>
            <a:off x="239760" y="3716280"/>
            <a:ext cx="867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в переговорах посредников или медиаторов. В особо сложных ситуациях подтверждение законности договоренностям придает участие представителей международных организаций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Межнациональные отношения</a:t>
            </a:r>
            <a:endParaRPr b="0" lang="en-US" sz="4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131" name="Прямоугольник 4"/>
          <p:cNvSpPr/>
          <p:nvPr/>
        </p:nvSpPr>
        <p:spPr>
          <a:xfrm>
            <a:off x="324000" y="1341360"/>
            <a:ext cx="90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отношения между этносами (народами), охватывающие все сферы общественной жизн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32" name="Рисунок 3" descr=""/>
          <p:cNvPicPr/>
          <p:nvPr/>
        </p:nvPicPr>
        <p:blipFill>
          <a:blip r:embed="rId1"/>
          <a:stretch/>
        </p:blipFill>
        <p:spPr>
          <a:xfrm>
            <a:off x="1979640" y="2205000"/>
            <a:ext cx="5400720" cy="44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79640" y="-21276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Формы отношений</a:t>
            </a:r>
            <a:endParaRPr b="0" lang="en-US" sz="4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134" name="Прямоугольник 6"/>
          <p:cNvSpPr/>
          <p:nvPr/>
        </p:nvSpPr>
        <p:spPr>
          <a:xfrm>
            <a:off x="250920" y="1844640"/>
            <a:ext cx="3960720" cy="2016000"/>
          </a:xfrm>
          <a:prstGeom prst="rect">
            <a:avLst/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ное сотрудничество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Прямоугольник 8"/>
          <p:cNvSpPr/>
          <p:nvPr/>
        </p:nvSpPr>
        <p:spPr>
          <a:xfrm>
            <a:off x="4788000" y="1844640"/>
            <a:ext cx="4032000" cy="2089080"/>
          </a:xfrm>
          <a:prstGeom prst="rect">
            <a:avLst/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нический конфликт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36" name="Рисунок 9" descr="g5LE3Osuocs.jpg"/>
          <p:cNvPicPr/>
          <p:nvPr/>
        </p:nvPicPr>
        <p:blipFill>
          <a:blip r:embed="rId1"/>
          <a:stretch/>
        </p:blipFill>
        <p:spPr>
          <a:xfrm>
            <a:off x="2987640" y="4024440"/>
            <a:ext cx="2838600" cy="26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Способы мирного сотрудничества</a:t>
            </a:r>
            <a:endParaRPr b="0" lang="en-US" sz="4000" spc="-1" strike="noStrike">
              <a:solidFill>
                <a:srgbClr val="4f81bd"/>
              </a:solidFill>
              <a:latin typeface="Corbel"/>
            </a:endParaRPr>
          </a:p>
        </p:txBody>
      </p:sp>
      <p:pic>
        <p:nvPicPr>
          <p:cNvPr id="138" name="Содержимое 5" descr=""/>
          <p:cNvPicPr/>
          <p:nvPr/>
        </p:nvPicPr>
        <p:blipFill>
          <a:blip r:embed="rId1"/>
          <a:stretch/>
        </p:blipFill>
        <p:spPr>
          <a:xfrm>
            <a:off x="133200" y="1401840"/>
            <a:ext cx="4915080" cy="4840200"/>
          </a:xfrm>
          <a:prstGeom prst="rect">
            <a:avLst/>
          </a:prstGeom>
          <a:ln w="0">
            <a:noFill/>
          </a:ln>
        </p:spPr>
      </p:pic>
      <p:pic>
        <p:nvPicPr>
          <p:cNvPr id="139" name="Содержимое 4" descr="Svjetski-dan-tolerancije_image_galleria.jpg"/>
          <p:cNvPicPr/>
          <p:nvPr/>
        </p:nvPicPr>
        <p:blipFill>
          <a:blip r:embed="rId2"/>
          <a:stretch/>
        </p:blipFill>
        <p:spPr>
          <a:xfrm>
            <a:off x="5219640" y="2384280"/>
            <a:ext cx="35164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тенденции развития наций</a:t>
            </a:r>
            <a:endParaRPr b="0" lang="en-US" sz="3600" spc="-1" strike="noStrike">
              <a:solidFill>
                <a:srgbClr val="4f81bd"/>
              </a:solidFill>
              <a:latin typeface="Corbel"/>
            </a:endParaRPr>
          </a:p>
        </p:txBody>
      </p:sp>
      <p:pic>
        <p:nvPicPr>
          <p:cNvPr id="141" name="Содержимое 6" descr=""/>
          <p:cNvPicPr/>
          <p:nvPr/>
        </p:nvPicPr>
        <p:blipFill>
          <a:blip r:embed="rId1"/>
          <a:stretch/>
        </p:blipFill>
        <p:spPr>
          <a:xfrm>
            <a:off x="195120" y="3992400"/>
            <a:ext cx="8467920" cy="2262240"/>
          </a:xfrm>
          <a:prstGeom prst="rect">
            <a:avLst/>
          </a:prstGeom>
          <a:ln w="0">
            <a:noFill/>
          </a:ln>
        </p:spPr>
      </p:pic>
      <p:pic>
        <p:nvPicPr>
          <p:cNvPr id="142" name="Содержимое 6" descr=""/>
          <p:cNvPicPr/>
          <p:nvPr/>
        </p:nvPicPr>
        <p:blipFill>
          <a:blip r:embed="rId2"/>
          <a:stretch/>
        </p:blipFill>
        <p:spPr>
          <a:xfrm>
            <a:off x="237960" y="1255680"/>
            <a:ext cx="8393400" cy="240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3640" y="-100440"/>
            <a:ext cx="740556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интеграции</a:t>
            </a:r>
            <a:endParaRPr b="0" lang="en-US" sz="4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78920" y="14130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4f81bd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номические и политические союзы</a:t>
            </a:r>
            <a:endParaRPr b="0" lang="en-US" sz="3200" spc="-1" strike="noStrike">
              <a:solidFill>
                <a:srgbClr val="4f81bd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4f81bd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национальные корпорации;</a:t>
            </a:r>
            <a:endParaRPr b="0" lang="en-US" sz="3200" spc="-1" strike="noStrike">
              <a:solidFill>
                <a:srgbClr val="4f81bd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4f81bd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народные культурные центры;</a:t>
            </a:r>
            <a:endParaRPr b="0" lang="en-US" sz="3200" spc="-1" strike="noStrike">
              <a:solidFill>
                <a:srgbClr val="4f81bd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4f81bd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проникновение религий, культур.</a:t>
            </a:r>
            <a:endParaRPr b="0" lang="en-US" sz="3200" spc="-1" strike="noStrike">
              <a:solidFill>
                <a:srgbClr val="4f81bd"/>
              </a:solidFill>
              <a:latin typeface="Corbel"/>
            </a:endParaRPr>
          </a:p>
        </p:txBody>
      </p:sp>
      <p:pic>
        <p:nvPicPr>
          <p:cNvPr id="145" name="Рисунок 9" descr="Svjetski-dan-tolerancije_image_galleria.jpg"/>
          <p:cNvPicPr/>
          <p:nvPr/>
        </p:nvPicPr>
        <p:blipFill>
          <a:blip r:embed="rId1"/>
          <a:stretch/>
        </p:blipFill>
        <p:spPr>
          <a:xfrm>
            <a:off x="3233880" y="3645000"/>
            <a:ext cx="29685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дифференциации</a:t>
            </a:r>
            <a:endParaRPr b="0" lang="en-US" sz="4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50920" y="141264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4f81bd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лигиозный фанатизм;</a:t>
            </a:r>
            <a:endParaRPr b="0" lang="en-US" sz="3600" spc="-1" strike="noStrike">
              <a:solidFill>
                <a:srgbClr val="4f81bd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4f81bd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ионализм;</a:t>
            </a:r>
            <a:endParaRPr b="0" lang="en-US" sz="3600" spc="-1" strike="noStrike">
              <a:solidFill>
                <a:srgbClr val="4f81bd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4f81bd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екционизм в экономике;</a:t>
            </a:r>
            <a:endParaRPr b="0" lang="en-US" sz="3600" spc="-1" strike="noStrike">
              <a:solidFill>
                <a:srgbClr val="4f81bd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4f81bd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изоляция в целом.</a:t>
            </a:r>
            <a:endParaRPr b="0" lang="en-US" sz="3600" spc="-1" strike="noStrike">
              <a:solidFill>
                <a:srgbClr val="4f81bd"/>
              </a:solidFill>
              <a:latin typeface="Corbel"/>
            </a:endParaRPr>
          </a:p>
        </p:txBody>
      </p:sp>
      <p:pic>
        <p:nvPicPr>
          <p:cNvPr id="148" name="Рисунок 2" descr=""/>
          <p:cNvPicPr/>
          <p:nvPr/>
        </p:nvPicPr>
        <p:blipFill>
          <a:blip r:embed="rId1"/>
          <a:stretch/>
        </p:blipFill>
        <p:spPr>
          <a:xfrm>
            <a:off x="4633920" y="3789360"/>
            <a:ext cx="384660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42920" y="-140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национальный конфликт</a:t>
            </a:r>
            <a:endParaRPr b="0" lang="en-US" sz="4000" spc="-1" strike="noStrike">
              <a:solidFill>
                <a:srgbClr val="4f81bd"/>
              </a:solidFill>
              <a:latin typeface="Corbel"/>
            </a:endParaRPr>
          </a:p>
        </p:txBody>
      </p:sp>
      <p:pic>
        <p:nvPicPr>
          <p:cNvPr id="150" name="Содержимое 5" descr="1360662656_7.jpg"/>
          <p:cNvPicPr/>
          <p:nvPr/>
        </p:nvPicPr>
        <p:blipFill>
          <a:blip r:embed="rId1"/>
          <a:stretch/>
        </p:blipFill>
        <p:spPr>
          <a:xfrm>
            <a:off x="2340000" y="3933720"/>
            <a:ext cx="3887640" cy="2590920"/>
          </a:xfrm>
          <a:prstGeom prst="rect">
            <a:avLst/>
          </a:prstGeom>
          <a:ln w="0">
            <a:noFill/>
          </a:ln>
        </p:spPr>
      </p:pic>
      <p:sp>
        <p:nvSpPr>
          <p:cNvPr id="151" name="Прямоугольник 3"/>
          <p:cNvSpPr/>
          <p:nvPr/>
        </p:nvSpPr>
        <p:spPr>
          <a:xfrm>
            <a:off x="250920" y="1197000"/>
            <a:ext cx="8642160" cy="2663640"/>
          </a:xfrm>
          <a:prstGeom prst="rect">
            <a:avLst/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4960" indent="-264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любая конкуренция между этническими группами, от противоборства за обладание ограниченными ресурсами до социальной конкуренци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0560" y="236520"/>
            <a:ext cx="7940520" cy="13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межнациональных конфликтов</a:t>
            </a:r>
            <a:endParaRPr b="0" lang="en-US" sz="4000" spc="-1" strike="noStrike">
              <a:solidFill>
                <a:srgbClr val="4f81bd"/>
              </a:solidFill>
              <a:latin typeface="Corbel"/>
            </a:endParaRPr>
          </a:p>
        </p:txBody>
      </p:sp>
      <p:sp>
        <p:nvSpPr>
          <p:cNvPr id="153" name="Прямоугольник 3"/>
          <p:cNvSpPr/>
          <p:nvPr/>
        </p:nvSpPr>
        <p:spPr>
          <a:xfrm>
            <a:off x="1187280" y="1844640"/>
            <a:ext cx="6480360" cy="720720"/>
          </a:xfrm>
          <a:prstGeom prst="rect">
            <a:avLst/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социально-экономические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Прямоугольник 4"/>
          <p:cNvSpPr/>
          <p:nvPr/>
        </p:nvSpPr>
        <p:spPr>
          <a:xfrm>
            <a:off x="1187280" y="3068640"/>
            <a:ext cx="6480360" cy="720720"/>
          </a:xfrm>
          <a:prstGeom prst="rect">
            <a:avLst/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этнополитические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" name="Прямоугольник 5"/>
          <p:cNvSpPr/>
          <p:nvPr/>
        </p:nvSpPr>
        <p:spPr>
          <a:xfrm>
            <a:off x="1187280" y="4292640"/>
            <a:ext cx="6480360" cy="720720"/>
          </a:xfrm>
          <a:prstGeom prst="rect">
            <a:avLst/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этнотерриториальные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Прямоугольник 7"/>
          <p:cNvSpPr/>
          <p:nvPr/>
        </p:nvSpPr>
        <p:spPr>
          <a:xfrm>
            <a:off x="1187280" y="5445000"/>
            <a:ext cx="6480360" cy="720720"/>
          </a:xfrm>
          <a:prstGeom prst="rect">
            <a:avLst/>
          </a:prstGeom>
          <a:solidFill>
            <a:srgbClr val="4f81bd"/>
          </a:solidFill>
          <a:ln w="19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этнокультурные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Анна Смирнова</cp:lastModifiedBy>
  <dcterms:modified xsi:type="dcterms:W3CDTF">2023-12-14T08:06:39Z</dcterms:modified>
  <cp:revision>756</cp:revision>
  <dc:subject/>
  <dc:title>Diapositiva 1</dc:title>
</cp:coreProperties>
</file>