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72F-D144-4A5D-958A-040748F11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8;&#1072;&#1089;&#1085;&#1072;&#1103;_&#1050;&#1085;&#1080;&#1075;&#1072;_&#1056;&#1086;&#1089;&#1089;&#1080;&#1080;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животных находится на грани исчезновения, поэтому требует защи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2DBB-FA7B-4792-8378-6958973176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это малочисленная, местами исчезающая птица. Наибольшая её численность наблюдается в Астраханском заповед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3C54-B167-4CFB-9A7B-48A9B580E7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тел сетчатый относится к исчезающим видам и занесен в Красную Книгу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под угрозой исчез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54F5-5CE9-4D7F-A26A-1B77870BB3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тарейших заповедников России – Воронежский – расположен в сорока километров от Воронежа. а эмблеме заповедника – фигуры бобра и оленя в обрамлении ветвей. Изображение ревущего оленя выглядит внушительнее, но своим созданием и существованием заповедник обязан прежде всего бобру. Деятельность заповедника сводится к охране бобра, лося и леса. 55 видов зверей и 200 видов птиц. От крошечных землероек до лосей, от королька до орла-могиль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E322-11B9-43E1-A4C2-58FECE2BC4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ен на пологом южном склоне долины Оки, в основном занимает надпойменные террасы с небольшими участками поймы. Фауна заповедника Фауна (более 50 видов млекопитающих) типична для центра Русской равнины: лось, кабан, лисица, барсук, реже - лесная куница, ласка, горностай; заходят волк, рысь, выдра, бобр, завезена косуля, акклиматизированы пятнистый олень и енотовидная собака. Центральный зубровый питомник, расположенный на территории заповедника, - один из центров восстановления и разведения зубров. Отмечено около 100 видов птиц. Зубр - единственный дикий вид крупных коров подсемейства бычьих, уцелевших на европейском континенте до наших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4064-0ABC-4A84-A698-44C0FE1DAC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ведник расположен в низовьях дельты Волги, на территории Астраханской области. Наиболее многочисленны представители водоплавающих и околоводных птиц: лебеди, гуси, речные и нырковые утки, бакланы, разные виды цапель, чаек и крачек. По берегам живут енотовидные собаки, камышовые коты. Сказочное чудо-лотос. Ученые не могут точно сказать, как лотос попал на Волгу. Одни считают, что он завезен из Египта, другие утверждают, что он здесь с древнейших вре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4EF0-A895-4A84-BD11-76AF21F262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менский минералогический заповедник был образован 14 мая 1920 года и является, таким образом, третьим государственным заповедником России. Заповедник расположен в восточных предгорьях Южного Урала на Ильменском хребте, в Челябинской области к северо-востоку от г. Миасс. Причиной создания заповедника явилась угроза расхищения минералогических богатств Урала, имевшая место в период Гражданской войны. Заповедник изначально был создан как минералогический, но в 1935 г. преобразован в комплексный. На Южном Урале, в Ильменских горах издавна добывали редкие минералы и самоцветные камни. Богат и животный мир Ильмен: 50 видов млекопитающих, пернатых, 14 видов рыб. Многочисленны и местные колонии бобров и ондатры. В заповеднике обитают все представители уральской фауны: медведь, волк, рысь, косуля, лось, кабан и завезенный с Дальнего Востока пятнистый ол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C89-2FA8-4BB5-9949-C63250B09A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арк Таганай" - уникальные по красоте горные пейзажи Большого Таганая, Юрмы, Ицыла; - непроходимая тайга и горные тундры, каменные реки и кристальные ключи; - редчайший климат, когда за один день может смениться четыре времени года; - разнообразный животный и растительный мир - около 700 видов высших сосудистых растений, из которых 45 - реликтовые; почти 200 видов животных - от крохотной ящерицы до лося-великана; - старинные рудники и минеральные копи, в которых обнаружено более 80 разновидностей минералов и горных пород. Это поистине одно из живописнейших мест Южного Урала - царство скалистых вершин, тундры и тайги, каменных рек и горных ручьев. В переводе с башкирского Таганай означает "Подставка луны". И действительно, ясной ночью можно хорошо видеть луну, "сидящую" на одной из вершин Таганая, как на подставк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E8AF-FD4D-489A-AE0B-EA86A7CF1B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убка леса ведет к катострофическим последствиям. Животным негде жить и размнож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5DE0-CF5D-42EB-9E10-0AC6050B61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арк “Зюраткуль” образован в 3 ноября 1993 г. на территории Челябинской области с целью сохранения уникальных природных комплексов, памятников природы, истории, культуры, археологии и других объектов культурного наследия. Национальный парк «Зюраткуль» получил свое название от высокогорного озера Зюраткуль. Озеро Зюраткуль – жемчужина края, уникальный природный объект. На территории национального парка встречаются редкие виды - беркут, внесенный в Красную книгу страны, выдра, 7 видов насекомых (реликтовые бабочки, жужелицы-эндемики), 70 видов редчайших растений. Постоянными жителями лесов и горных плато являются мыши- полевки, зайцы, белки, норки; в небольших количествах наблюдаются ласки, горностаи, кабаны, рыси и даже енотовидные собаки. Самые крупные зюраткульцы - лось и медведь, встречи с которыми на сегодня не так уж редки. Надо только знать, где искать! Ведь красота, естественность, она вокруг нас, стоит только наклониться - и вот гнездо кряквы, приподнять листик - спелая, сочная, вся в росе земляничка, подняться на вершину - и вот перед тобой весь край Синегорья, дикий и свободный, манящий своей малоизученностью. Приди и узнай!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D2EC-5D8C-4F85-BAD1-E0DEB35186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 и страшны пожары в лесу. Гибнут растения, звери, п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A422-C1F8-41E3-B976-99856999C6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шка земель ведет к уничтожению растени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28B8-8FC3-4BB8-910D-26F5023E15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лянув в болото, можно увидеть, как сочетаются две стихии - вода и земля. Здесь растут редкие растения, обитают птицы. Биологическая роль болот очень важна в природе, люди слишком поздно поняли это, осушив немало таких водоемов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3599-3C6A-4B78-99D3-DBFA9CF863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грязнение воды стало причиной исчезновения многих видов животных . Это произошло из-за того, что промышленные отходы, сбрасываемые в реки и другие водные объекты, приводят к серьезному загрязнению и смерти водных животных и раст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E002-3AB2-4B3C-BF3E-101526B47E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наиболее сложных проблем в мире является использование пластиковых бутылок и полиэтиленовых пакетов. Они становятся причиной гибели многих животных, поскольку животные принимают их за е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E83C-F17C-49EE-9D3F-6DBDB34646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27C-46E7-4D92-81E7-DEE71D65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FA2-79FB-42AC-AC2A-57AD19D6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A00-3329-4A40-A66A-2EB3CA92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787A-9452-4F13-8688-58203C0F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65D0-1D83-4EEE-9CDF-94ED1E42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F0D2-AAAB-4786-8292-D9491FBA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1954-387E-4427-844D-C7541D70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41D5-3E19-4019-A58C-A69A446C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5249-99CD-41F0-976C-9FF1D9DF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92A9-E8DC-4CB7-9F52-22F51A8A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D9E8-7083-43CF-B52F-6DE3D82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D5E-A80F-4130-BCCF-F3C28BB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5800-CE26-4136-B2A2-7BFABF44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5AF-C737-4D82-8472-1B572DC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2A4C-0D7B-487A-93F2-AEE14C67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D97F-535C-4EEE-A061-F65D42F7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BC6C-90AA-4C25-984C-06F76916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E52-1614-4DCC-AF90-D6F5282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7A0-812D-45CD-A26B-D97E47F9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616-ECFE-4E3A-9E1E-0B3CB983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F51-59FC-41F4-BB85-C1F73854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0AE-007F-4A31-80ED-E39D9C21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276-5934-41AB-8761-ED338389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E4C-35DD-4688-95B6-EFF51E7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0BB1-B894-4971-97AA-C22A9F9B6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8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B9A8-F6A8-4E67-AD0D-A0B5C19E4B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Охрана животных </a:t>
            </a: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кружающий мир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3 класс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14840" y="3857760"/>
            <a:ext cx="5130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выполнил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вдокимова Л.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МБОУ СОШ №  г. Челябинска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0000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05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 Black"/>
              </a:rPr>
              <a:t>Воронежский заповедник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09"/>
          <p:cNvPicPr/>
          <p:nvPr/>
        </p:nvPicPr>
        <p:blipFill>
          <a:blip r:embed="rId1"/>
          <a:stretch/>
        </p:blipFill>
        <p:spPr>
          <a:xfrm>
            <a:off x="0" y="620640"/>
            <a:ext cx="45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10jpg"/>
          <p:cNvPicPr/>
          <p:nvPr/>
        </p:nvPicPr>
        <p:blipFill>
          <a:blip r:embed="rId2"/>
          <a:stretch/>
        </p:blipFill>
        <p:spPr>
          <a:xfrm>
            <a:off x="4572000" y="620640"/>
            <a:ext cx="45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11"/>
          <p:cNvPicPr/>
          <p:nvPr/>
        </p:nvPicPr>
        <p:blipFill>
          <a:blip r:embed="rId3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12"/>
          <p:cNvPicPr/>
          <p:nvPr/>
        </p:nvPicPr>
        <p:blipFill>
          <a:blip r:embed="rId4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 Black"/>
              </a:rPr>
              <a:t>Приокско-Террасный заповедник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4" descr="13"/>
          <p:cNvPicPr/>
          <p:nvPr/>
        </p:nvPicPr>
        <p:blipFill>
          <a:blip r:embed="rId1"/>
          <a:stretch/>
        </p:blipFill>
        <p:spPr>
          <a:xfrm>
            <a:off x="0" y="836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14"/>
          <p:cNvPicPr/>
          <p:nvPr/>
        </p:nvPicPr>
        <p:blipFill>
          <a:blip r:embed="rId2"/>
          <a:stretch/>
        </p:blipFill>
        <p:spPr>
          <a:xfrm>
            <a:off x="4572000" y="3068640"/>
            <a:ext cx="4572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Астраханский заповедник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4" descr="15"/>
          <p:cNvPicPr/>
          <p:nvPr/>
        </p:nvPicPr>
        <p:blipFill>
          <a:blip r:embed="rId1"/>
          <a:stretch/>
        </p:blipFill>
        <p:spPr>
          <a:xfrm>
            <a:off x="0" y="836640"/>
            <a:ext cx="4859280" cy="345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6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Ильменский заповедник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4" descr="17"/>
          <p:cNvPicPr/>
          <p:nvPr/>
        </p:nvPicPr>
        <p:blipFill>
          <a:blip r:embed="rId1"/>
          <a:stretch/>
        </p:blipFill>
        <p:spPr>
          <a:xfrm>
            <a:off x="0" y="836640"/>
            <a:ext cx="4643280" cy="368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9jpg"/>
          <p:cNvPicPr/>
          <p:nvPr/>
        </p:nvPicPr>
        <p:blipFill>
          <a:blip r:embed="rId2"/>
          <a:stretch/>
        </p:blipFill>
        <p:spPr>
          <a:xfrm>
            <a:off x="4643280" y="2997360"/>
            <a:ext cx="4500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487760" y="4568760"/>
            <a:ext cx="465624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01"/>
          <p:cNvPicPr/>
          <p:nvPr/>
        </p:nvPicPr>
        <p:blipFill>
          <a:blip r:embed="rId1"/>
          <a:stretch/>
        </p:blipFill>
        <p:spPr>
          <a:xfrm>
            <a:off x="0" y="3195720"/>
            <a:ext cx="4643280" cy="3662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000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2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001"/>
          <p:cNvPicPr/>
          <p:nvPr/>
        </p:nvPicPr>
        <p:blipFill>
          <a:blip r:embed="rId3"/>
          <a:stretch/>
        </p:blipFill>
        <p:spPr>
          <a:xfrm>
            <a:off x="0" y="0"/>
            <a:ext cx="4572000" cy="32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00001"/>
          <p:cNvPicPr/>
          <p:nvPr/>
        </p:nvPicPr>
        <p:blipFill>
          <a:blip r:embed="rId4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14200" y="285480"/>
            <a:ext cx="863136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циональный парк Таганай" - уникальные по красоте горные пейзажи Большого Таганая, Юрмы, Ицыла; - непроходимая тайга и горные тундры, каменные реки и кристальные ключи; - редчайший климат, когда за один день может смениться четыре времени года; - разнообразный животный и растительный мир - около 700 видов высших сосудистых растений, из которых 45 - реликтовые; почти 200 видов животных - от крохотной ящерицы до лося-великана; - старинные рудники и минеральные копи, в которых обнаружено более 80 разновидностей минералов и горных пород. Это поистине одно из живописнейших мест Южного Урала - царство скалистых вершин, тундры и тайги, каменных рек и горных ручьев. В переводе с башкирского Таганай означает "Подставка луны". И действительно, ясной ночью можно хорошо видеть луну, "сидящую" на одной из вершин Таганая, как на подставке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21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езопасное поведение в природ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разоряй птичьи гнё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одходи близко к гнёздам птиц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у тебя есть собака, не пускай её гулять в лесу или парке весной или в начале л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лови и не уноси домой здоровых птенцов и детёнышей звер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ем подкармливать птиц зимой, а весной с помощью старших будем делать для них д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обрывай в лесу паутину и не убивай пау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лови бабочек, шмелей, стрекоз и других насеко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разоряй гнёзда шмелей. Не разоряй муравей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реги лягушек, жаб и их головастик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хозяева нашей природы, и она для нас кладовая солнца с великими сокровищами жизни. Мало того, чтобы сокровища эти охранять, их надо открывать и показывать. Для рыбы нужна чистая вода – будем охранять наши водоемы. В лесах, горах разные ценные животные – будем охранять леса и горы.  Рыбе – вода, птице – воздух, зверю – лес, горы. А человеку нужна Родина. И охранять природу – значит охранять Род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.М. Приш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3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0002"/>
          <p:cNvPicPr/>
          <p:nvPr/>
        </p:nvPicPr>
        <p:blipFill>
          <a:blip r:embed="rId1"/>
          <a:stretch/>
        </p:blipFill>
        <p:spPr>
          <a:xfrm>
            <a:off x="0" y="0"/>
            <a:ext cx="4284720" cy="336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002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335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002"/>
          <p:cNvPicPr/>
          <p:nvPr/>
        </p:nvPicPr>
        <p:blipFill>
          <a:blip r:embed="rId3"/>
          <a:stretch/>
        </p:blipFill>
        <p:spPr>
          <a:xfrm>
            <a:off x="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00002"/>
          <p:cNvPicPr/>
          <p:nvPr/>
        </p:nvPicPr>
        <p:blipFill>
          <a:blip r:embed="rId4"/>
          <a:stretch/>
        </p:blipFill>
        <p:spPr>
          <a:xfrm>
            <a:off x="4211640" y="3357720"/>
            <a:ext cx="4932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003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003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00003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004"/>
          <p:cNvPicPr/>
          <p:nvPr/>
        </p:nvPicPr>
        <p:blipFill>
          <a:blip r:embed="rId1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0000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04jpg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00000004"/>
          <p:cNvPicPr/>
          <p:nvPr/>
        </p:nvPicPr>
        <p:blipFill>
          <a:blip r:embed="rId4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000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00005_ori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005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0000005"/>
          <p:cNvPicPr/>
          <p:nvPr/>
        </p:nvPicPr>
        <p:blipFill>
          <a:blip r:embed="rId3"/>
          <a:stretch/>
        </p:blipFill>
        <p:spPr>
          <a:xfrm>
            <a:off x="0" y="335772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05"/>
          <p:cNvPicPr/>
          <p:nvPr/>
        </p:nvPicPr>
        <p:blipFill>
          <a:blip r:embed="rId4"/>
          <a:stretch/>
        </p:blipFill>
        <p:spPr>
          <a:xfrm>
            <a:off x="4356000" y="3429000"/>
            <a:ext cx="478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0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08:01:59Z</dcterms:created>
  <dc:creator>Дом</dc:creator>
  <dc:description/>
  <dc:language>en-US</dc:language>
  <cp:lastModifiedBy>HP</cp:lastModifiedBy>
  <dcterms:modified xsi:type="dcterms:W3CDTF">2018-09-22T15:01:02Z</dcterms:modified>
  <cp:revision>78</cp:revision>
  <dc:subject/>
  <dc:title>Слайд 1</dc:title>
</cp:coreProperties>
</file>