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771E-5A57-4BA7-AD6A-1890C6F498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0;&#1088;&#1072;&#1089;&#1085;&#1072;&#1103;_&#1050;&#1085;&#1080;&#1075;&#1072;_&#1056;&#1086;&#1089;&#1089;&#1080;&#1080;" TargetMode="External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вид животных находится на грани исчезновения, поэтому требует защит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1059-A1A5-43D6-8AF3-09533D4009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это малочисленная, местами исчезающая птица. Наибольшая её численность наблюдается в Астраханском заповедн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F2A4-13BE-44A5-BE0A-14A3CDFFF86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отел сетчатый относится к исчезающим видам и занесен в Красную Книгу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Росс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,под угрозой исчезнов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48A0-5BED-4D20-A9ED-3B60C79B22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старейших заповедников России – Воронежский – расположен в сорока километров от Воронежа. а эмблеме заповедника – фигуры бобра и оленя в обрамлении ветвей. Изображение ревущего оленя выглядит внушительнее, но своим созданием и существованием заповедник обязан прежде всего бобру. Деятельность заповедника сводится к охране бобра, лося и леса. 55 видов зверей и 200 видов птиц. От крошечных землероек до лосей, от королька до орла-могильщ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069B-60C7-45AF-BC33-00AC92710D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ожен на пологом южном склоне долины Оки, в основном занимает надпойменные террасы с небольшими участками поймы. Фауна заповедника Фауна (более 50 видов млекопитающих) типична для центра Русской равнины: лось, кабан, лисица, барсук, реже - лесная куница, ласка, горностай; заходят волк, рысь, выдра, бобр, завезена косуля, акклиматизированы пятнистый олень и енотовидная собака. Центральный зубровый питомник, расположенный на территории заповедника, - один из центров восстановления и разведения зубров. Отмечено около 100 видов птиц. Зубр - единственный дикий вид крупных коров подсемейства бычьих, уцелевших на европейском континенте до наших д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1671-1187-4F1E-A296-FC033357C5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ведник расположен в низовьях дельты Волги, на территории Астраханской области. Наиболее многочисленны представители водоплавающих и околоводных птиц: лебеди, гуси, речные и нырковые утки, бакланы, разные виды цапель, чаек и крачек. По берегам живут енотовидные собаки, камышовые коты. Сказочное чудо-лотос. Ученые не могут точно сказать, как лотос попал на Волгу. Одни считают, что он завезен из Египта, другие утверждают, что он здесь с древнейших врем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7DAE-5874-4534-BFA5-AEACA7F024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ьменский минералогический заповедник был образован 14 мая 1920 года и является, таким образом, третьим государственным заповедником России. Заповедник расположен в восточных предгорьях Южного Урала на Ильменском хребте, в Челябинской области к северо-востоку от г. Миасс. Причиной создания заповедника явилась угроза расхищения минералогических богатств Урала, имевшая место в период Гражданской войны. Заповедник изначально был создан как минералогический, но в 1935 г. преобразован в комплексный. На Южном Урале, в Ильменских горах издавна добывали редкие минералы и самоцветные камни. Богат и животный мир Ильмен: 50 видов млекопитающих, пернатых, 14 видов рыб. Многочисленны и местные колонии бобров и ондатры. В заповеднике обитают все представители уральской фауны: медведь, волк, рысь, косуля, лось, кабан и завезенный с Дальнего Востока пятнистый оле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217D-ED49-4CC1-BCD2-95CE9034AE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парк Таганай" - уникальные по красоте горные пейзажи Большого Таганая, Юрмы, Ицыла; - непроходимая тайга и горные тундры, каменные реки и кристальные ключи; - редчайший климат, когда за один день может смениться четыре времени года; - разнообразный животный и растительный мир - около 700 видов высших сосудистых растений, из которых 45 - реликтовые; почти 200 видов животных - от крохотной ящерицы до лося-великана; - старинные рудники и минеральные копи, в которых обнаружено более 80 разновидностей минералов и горных пород. Это поистине одно из живописнейших мест Южного Урала - царство скалистых вершин, тундры и тайги, каменных рек и горных ручьев. В переводе с башкирского Таганай означает "Подставка луны". И действительно, ясной ночью можно хорошо видеть луну, "сидящую" на одной из вершин Таганая, как на подставке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E43B-9520-4435-AF67-F2F4E62472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убка леса ведет к катострофическим последствиям. Животным негде жить и размножа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980E-5006-4AB2-BED9-A775273B5C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парк “Зюраткуль” образован в 3 ноября 1993 г. на территории Челябинской области с целью сохранения уникальных природных комплексов, памятников природы, истории, культуры, археологии и других объектов культурного наследия. Национальный парк «Зюраткуль» получил свое название от высокогорного озера Зюраткуль. Озеро Зюраткуль – жемчужина края, уникальный природный объект. На территории национального парка встречаются редкие виды - беркут, внесенный в Красную книгу страны, выдра, 7 видов насекомых (реликтовые бабочки, жужелицы-эндемики), 70 видов редчайших растений. Постоянными жителями лесов и горных плато являются мыши- полевки, зайцы, белки, норки; в небольших количествах наблюдаются ласки, горностаи, кабаны, рыси и даже енотовидные собаки. Самые крупные зюраткульцы - лось и медведь, встречи с которыми на сегодня не так уж редки. Надо только знать, где искать! Ведь красота, естественность, она вокруг нас, стоит только наклониться - и вот гнездо кряквы, приподнять листик - спелая, сочная, вся в росе земляничка, подняться на вершину - и вот перед тобой весь край Синегорья, дикий и свободный, манящий своей малоизученностью. Приди и узнай!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4B14-A09C-4C6D-B20A-37937F1A029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 и страшны пожары в лесу. Гибнут растения, звери, п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617D-3CBF-413F-BFD0-7A2523218C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шка земель ведет к уничтожению растений и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04AF-2BBE-4288-8E2F-269F09CE78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лянув в болото, можно увидеть, как сочетаются две стихии - вода и земля. Здесь растут редкие растения, обитают птицы. Биологическая роль болот очень важна в природе, люди слишком поздно поняли это, осушив немало таких водоемов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57E3-2186-4131-AA68-48C49183E4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грязнение воды стало причиной исчезновения многих видов животных . Это произошло из-за того, что промышленные отходы, сбрасываемые в реки и другие водные объекты, приводят к серьезному загрязнению и смерти водных животных и раст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2483-77B9-4DF4-B38D-7EB0B335029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й из наиболее сложных проблем в мире является использование пластиковых бутылок и полиэтиленовых пакетов. Они становятся причиной гибели многих животных, поскольку животные принимают их за е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24DC-3C09-4D1D-B621-8DD288D201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E6B2-D627-4A16-8014-F63D7BD73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A51B-C4D4-4692-9133-BF5A1ECF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E9B4-5647-46D5-831D-C824BD3C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EFFD-1A04-4460-B299-BFA19EBB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ECDA-FE1A-4AD2-B46B-C7BA8853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DC24-43FE-4964-A5E2-E142EE30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E47A-4255-4151-BAB7-5091B4A1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F573-B270-4566-855D-D9F351E1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898F-9CF3-41E4-9AE9-D28BAA76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9F46-8A7D-4FEF-A4D6-B3F0357F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44FD-3F07-4958-A1F6-6893E0A7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646-99A0-4F9B-B15E-6ED88CB1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9E21B-E29D-4ADE-8630-CC3956E7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E7BF-0685-487C-A0F2-43B706D4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4B6B-610A-4731-8567-D196E465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B3FB-73A8-4127-808A-1642C297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8B99-8C29-4AB8-823D-2F524D9E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207-441B-4FC1-8484-40F3DECB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403-A6F3-49D3-8A3A-D416C297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DB72-5118-4046-88E6-DC9311EF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0223-E716-45E5-A326-F63E8E7E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D1E-2B8A-46D3-B595-4A3DF6F4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3B19-47AC-42A6-9D5D-3168B175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EC6-D62F-4D41-BCE9-30382EC3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9305-249B-40B0-9BD3-AB496BC556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8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80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6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8f1f"/>
                </a:gs>
                <a:gs pos="100000">
                  <a:srgbClr val="0080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576F-F2C9-4F7B-86FB-A7F439E78EA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23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Охрана животных </a:t>
            </a:r>
            <a:br>
              <a:rPr sz="3600"/>
            </a:b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Окружающий мир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3 класс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14840" y="3857760"/>
            <a:ext cx="5130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ю выполнил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вдокимова Л.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начальных классов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МБОУ СОШ №  г. Челябинска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00000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05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Arial Black"/>
              </a:rPr>
              <a:t>Воронежский заповедник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Picture 5" descr="09"/>
          <p:cNvPicPr/>
          <p:nvPr/>
        </p:nvPicPr>
        <p:blipFill>
          <a:blip r:embed="rId1"/>
          <a:stretch/>
        </p:blipFill>
        <p:spPr>
          <a:xfrm>
            <a:off x="0" y="620640"/>
            <a:ext cx="4572000" cy="2808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10jpg"/>
          <p:cNvPicPr/>
          <p:nvPr/>
        </p:nvPicPr>
        <p:blipFill>
          <a:blip r:embed="rId2"/>
          <a:stretch/>
        </p:blipFill>
        <p:spPr>
          <a:xfrm>
            <a:off x="4572000" y="620640"/>
            <a:ext cx="4572000" cy="2808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11"/>
          <p:cNvPicPr/>
          <p:nvPr/>
        </p:nvPicPr>
        <p:blipFill>
          <a:blip r:embed="rId3"/>
          <a:stretch/>
        </p:blipFill>
        <p:spPr>
          <a:xfrm>
            <a:off x="0" y="3429000"/>
            <a:ext cx="4500720" cy="3429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12"/>
          <p:cNvPicPr/>
          <p:nvPr/>
        </p:nvPicPr>
        <p:blipFill>
          <a:blip r:embed="rId4"/>
          <a:stretch/>
        </p:blipFill>
        <p:spPr>
          <a:xfrm>
            <a:off x="4500720" y="3429000"/>
            <a:ext cx="4643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 Black"/>
              </a:rPr>
              <a:t>Приокско-Террасный заповедник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Picture 4" descr="13"/>
          <p:cNvPicPr/>
          <p:nvPr/>
        </p:nvPicPr>
        <p:blipFill>
          <a:blip r:embed="rId1"/>
          <a:stretch/>
        </p:blipFill>
        <p:spPr>
          <a:xfrm>
            <a:off x="0" y="836640"/>
            <a:ext cx="4572000" cy="3600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14"/>
          <p:cNvPicPr/>
          <p:nvPr/>
        </p:nvPicPr>
        <p:blipFill>
          <a:blip r:embed="rId2"/>
          <a:stretch/>
        </p:blipFill>
        <p:spPr>
          <a:xfrm>
            <a:off x="4572000" y="3068640"/>
            <a:ext cx="45720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 Black"/>
              </a:rPr>
              <a:t>Астраханский заповедник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Picture 4" descr="15"/>
          <p:cNvPicPr/>
          <p:nvPr/>
        </p:nvPicPr>
        <p:blipFill>
          <a:blip r:embed="rId1"/>
          <a:stretch/>
        </p:blipFill>
        <p:spPr>
          <a:xfrm>
            <a:off x="0" y="836640"/>
            <a:ext cx="4859280" cy="3456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16"/>
          <p:cNvPicPr/>
          <p:nvPr/>
        </p:nvPicPr>
        <p:blipFill>
          <a:blip r:embed="rId2"/>
          <a:stretch/>
        </p:blipFill>
        <p:spPr>
          <a:xfrm>
            <a:off x="4716360" y="2997360"/>
            <a:ext cx="442764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Arial Black"/>
              </a:rPr>
              <a:t>Ильменский заповедник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8" name="Picture 4" descr="17"/>
          <p:cNvPicPr/>
          <p:nvPr/>
        </p:nvPicPr>
        <p:blipFill>
          <a:blip r:embed="rId1"/>
          <a:stretch/>
        </p:blipFill>
        <p:spPr>
          <a:xfrm>
            <a:off x="0" y="836640"/>
            <a:ext cx="4643280" cy="3687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19jpg"/>
          <p:cNvPicPr/>
          <p:nvPr/>
        </p:nvPicPr>
        <p:blipFill>
          <a:blip r:embed="rId2"/>
          <a:stretch/>
        </p:blipFill>
        <p:spPr>
          <a:xfrm>
            <a:off x="4643280" y="2997360"/>
            <a:ext cx="45007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487760" y="4568760"/>
            <a:ext cx="4656240" cy="21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01"/>
          <p:cNvPicPr/>
          <p:nvPr/>
        </p:nvPicPr>
        <p:blipFill>
          <a:blip r:embed="rId1"/>
          <a:stretch/>
        </p:blipFill>
        <p:spPr>
          <a:xfrm>
            <a:off x="0" y="3195720"/>
            <a:ext cx="4643280" cy="3662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0001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20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001"/>
          <p:cNvPicPr/>
          <p:nvPr/>
        </p:nvPicPr>
        <p:blipFill>
          <a:blip r:embed="rId3"/>
          <a:stretch/>
        </p:blipFill>
        <p:spPr>
          <a:xfrm>
            <a:off x="0" y="0"/>
            <a:ext cx="4572000" cy="3213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00001"/>
          <p:cNvPicPr/>
          <p:nvPr/>
        </p:nvPicPr>
        <p:blipFill>
          <a:blip r:embed="rId4"/>
          <a:stretch/>
        </p:blipFill>
        <p:spPr>
          <a:xfrm>
            <a:off x="4572000" y="3213000"/>
            <a:ext cx="4572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14200" y="285480"/>
            <a:ext cx="863136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циональный парк Таганай" - уникальные по красоте горные пейзажи Большого Таганая, Юрмы, Ицыла; - непроходимая тайга и горные тундры, каменные реки и кристальные ключи; - редчайший климат, когда за один день может смениться четыре времени года; - разнообразный животный и растительный мир - около 700 видов высших сосудистых растений, из которых 45 - реликтовые; почти 200 видов животных - от крохотной ящерицы до лося-великана; - старинные рудники и минеральные копи, в которых обнаружено более 80 разновидностей минералов и горных пород. Это поистине одно из живописнейших мест Южного Урала - царство скалистых вершин, тундры и тайги, каменных рек и горных ручьев. В переводе с башкирского Таганай означает "Подставка луны". И действительно, ясной ночью можно хорошо видеть луну, "сидящую" на одной из вершин Таганая, как на подставке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21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езопасное поведение в природе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разоряй птичьи гнёз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подходи близко к гнёздам птиц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ли у тебя есть собака, не пускай её гулять в лесу или парке весной или в начале ле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лови и не уноси домой здоровых птенцов и детёнышей звер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удем подкармливать птиц зимой, а весной с помощью старших будем делать для них дом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обрывай в лесу паутину и не убивай пау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лови бабочек, шмелей, стрекоз и других насеком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разоряй гнёзда шмелей. Не разоряй муравейн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ереги лягушек, жаб и их головастиков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79280" y="1886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 хозяева нашей природы, и она для нас кладовая солнца с великими сокровищами жизни. Мало того, чтобы сокровища эти охранять, их надо открывать и показывать. Для рыбы нужна чистая вода – будем охранять наши водоемы. В лесах, горах разные ценные животные – будем охранять леса и горы.  Рыбе – вода, птице – воздух, зверю – лес, горы. А человеку нужна Родина. И охранять природу – значит охранять Родин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.М. Пришв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23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0002"/>
          <p:cNvPicPr/>
          <p:nvPr/>
        </p:nvPicPr>
        <p:blipFill>
          <a:blip r:embed="rId1"/>
          <a:stretch/>
        </p:blipFill>
        <p:spPr>
          <a:xfrm>
            <a:off x="0" y="0"/>
            <a:ext cx="4284720" cy="3365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002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3357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002"/>
          <p:cNvPicPr/>
          <p:nvPr/>
        </p:nvPicPr>
        <p:blipFill>
          <a:blip r:embed="rId3"/>
          <a:stretch/>
        </p:blipFill>
        <p:spPr>
          <a:xfrm>
            <a:off x="0" y="3357720"/>
            <a:ext cx="4284720" cy="3500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00002"/>
          <p:cNvPicPr/>
          <p:nvPr/>
        </p:nvPicPr>
        <p:blipFill>
          <a:blip r:embed="rId4"/>
          <a:stretch/>
        </p:blipFill>
        <p:spPr>
          <a:xfrm>
            <a:off x="4211640" y="3357720"/>
            <a:ext cx="4932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03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0003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003"/>
          <p:cNvPicPr/>
          <p:nvPr/>
        </p:nvPicPr>
        <p:blipFill>
          <a:blip r:embed="rId3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00003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004"/>
          <p:cNvPicPr/>
          <p:nvPr/>
        </p:nvPicPr>
        <p:blipFill>
          <a:blip r:embed="rId1"/>
          <a:stretch/>
        </p:blipFill>
        <p:spPr>
          <a:xfrm>
            <a:off x="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00004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04jpg"/>
          <p:cNvPicPr/>
          <p:nvPr/>
        </p:nvPicPr>
        <p:blipFill>
          <a:blip r:embed="rId3"/>
          <a:stretch/>
        </p:blipFill>
        <p:spPr>
          <a:xfrm>
            <a:off x="0" y="3500280"/>
            <a:ext cx="4572000" cy="3357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00000004"/>
          <p:cNvPicPr/>
          <p:nvPr/>
        </p:nvPicPr>
        <p:blipFill>
          <a:blip r:embed="rId4"/>
          <a:stretch/>
        </p:blipFill>
        <p:spPr>
          <a:xfrm>
            <a:off x="4572000" y="3500280"/>
            <a:ext cx="4572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0000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00005_orig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005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429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0000005"/>
          <p:cNvPicPr/>
          <p:nvPr/>
        </p:nvPicPr>
        <p:blipFill>
          <a:blip r:embed="rId3"/>
          <a:stretch/>
        </p:blipFill>
        <p:spPr>
          <a:xfrm>
            <a:off x="0" y="3357720"/>
            <a:ext cx="4356000" cy="3500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05"/>
          <p:cNvPicPr/>
          <p:nvPr/>
        </p:nvPicPr>
        <p:blipFill>
          <a:blip r:embed="rId4"/>
          <a:stretch/>
        </p:blipFill>
        <p:spPr>
          <a:xfrm>
            <a:off x="4356000" y="3429000"/>
            <a:ext cx="478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000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3T08:01:59Z</dcterms:created>
  <dc:creator>Дом</dc:creator>
  <dc:description/>
  <dc:language>en-US</dc:language>
  <cp:lastModifiedBy>HP</cp:lastModifiedBy>
  <dcterms:modified xsi:type="dcterms:W3CDTF">2018-09-22T15:01:02Z</dcterms:modified>
  <cp:revision>78</cp:revision>
  <dc:subject/>
  <dc:title>Слайд 1</dc:title>
</cp:coreProperties>
</file>