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9.jpeg" ContentType="image/jpeg"/>
  <Override PartName="/ppt/media/image25.png" ContentType="image/png"/>
  <Override PartName="/ppt/media/image22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AA3-03FD-439E-AE30-F4DCA1EF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E66-9DD5-4C3D-831C-94458AAF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DF8-3E8D-4514-A503-469B98AA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D7A-2B41-4E79-9835-E3F6F2E5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F2EB5-8569-4ACA-B88D-C67E5DBA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E1A4F-CEF8-4EDE-B774-4BC71BE2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B78FC-159D-48F8-8149-40E2E901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24775-E3FD-4298-864E-2D7304EE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638A0-0379-4086-B482-1E89A73B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0FF35-B2AA-48FB-8DF7-C5B7145B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E4BEC-7142-4456-828C-5DD42C35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027A-EA33-4C49-B3AE-504ED2D8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6F17E-C9E0-482C-99DB-4AD11348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8B0A9-135C-48C0-A4CF-C055E317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6BEC8-4403-4AF3-9F48-987BF3E4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8C62C-A865-4B73-BAFC-F854DFB3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D3D7A-21C3-4AA3-933C-14C7080E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4E0-C08B-4800-9115-FB271A85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5E1-78D3-4E8F-A9E4-30929A94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1E4-1BB0-44E0-8651-E39DCF6D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95F-E236-4827-B3ED-02E4715E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2598-7B93-497B-9CC8-8AB9DCC6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52C-7878-4C85-8468-3D572FDF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FAE-3706-40B2-B485-EE9AF77C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508B-28EF-4914-8544-59B0E8C5F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1507-ADF2-4CA3-8254-E10A0A004B4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8000" y="53575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езентацию подготовил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дагог МБУДО «Дом детского творчеств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пина Ирина Никола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Декабрь 2023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1371911824_1"/>
          <p:cNvPicPr/>
          <p:nvPr/>
        </p:nvPicPr>
        <p:blipFill>
          <a:blip r:embed="rId1"/>
          <a:stretch/>
        </p:blipFill>
        <p:spPr>
          <a:xfrm>
            <a:off x="1714680" y="1341360"/>
            <a:ext cx="6500520" cy="3944880"/>
          </a:xfrm>
          <a:prstGeom prst="rect">
            <a:avLst/>
          </a:prstGeom>
          <a:ln w="0">
            <a:noFill/>
          </a:ln>
        </p:spPr>
      </p:pic>
      <p:sp>
        <p:nvSpPr>
          <p:cNvPr id="85" name="WordArt 7"/>
          <p:cNvSpPr txBox="1"/>
          <p:nvPr/>
        </p:nvSpPr>
        <p:spPr>
          <a:xfrm>
            <a:off x="1357200" y="214200"/>
            <a:ext cx="678672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да и её свойств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бята, сегодня я хочу пригласить вас в лабораторию. А вы знаете, что такое лаборатория? 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Это  место, где учёные проводят опыты и ставят эксперименты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2" descr="http://ds7ishim.ru/sites/default/files/news/img_to_text/laboratoriya.jpg"/>
          <p:cNvPicPr/>
          <p:nvPr/>
        </p:nvPicPr>
        <p:blipFill>
          <a:blip r:embed="rId1"/>
          <a:stretch/>
        </p:blipFill>
        <p:spPr>
          <a:xfrm>
            <a:off x="1357200" y="2214720"/>
            <a:ext cx="62992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ила поведения в лаборат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" descr="https://mbdou20.edummr.ru/wp-content/uploads/2018/10/img5.jpg"/>
          <p:cNvPicPr/>
          <p:nvPr/>
        </p:nvPicPr>
        <p:blipFill>
          <a:blip r:embed="rId1"/>
          <a:stretch/>
        </p:blipFill>
        <p:spPr>
          <a:xfrm>
            <a:off x="571680" y="1285920"/>
            <a:ext cx="77151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Рисунок1"/>
          <p:cNvPicPr/>
          <p:nvPr/>
        </p:nvPicPr>
        <p:blipFill>
          <a:blip r:embed="rId1"/>
          <a:stretch/>
        </p:blipFill>
        <p:spPr>
          <a:xfrm>
            <a:off x="250920" y="1700280"/>
            <a:ext cx="3124080" cy="43592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/>
          <p:cNvSpPr/>
          <p:nvPr/>
        </p:nvSpPr>
        <p:spPr>
          <a:xfrm>
            <a:off x="4500720" y="333360"/>
            <a:ext cx="4143240" cy="3309840"/>
          </a:xfrm>
          <a:prstGeom prst="cloudCallout">
            <a:avLst>
              <a:gd name="adj1" fmla="val -97800"/>
              <a:gd name="adj2" fmla="val 8681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ff"/>
                </a:solidFill>
                <a:latin typeface="Arial"/>
              </a:rPr>
              <a:t>Какими свойствами обладает во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 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ыт 1. Какой формы вода?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да не имеет формы и принимает форму того сосуда, в котором находится. Вода – жидкость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2" descr="https://cf3.ppt-online.org/files3/slide/s/SgR6pt7OQMqU3ifbjwyTZz14lL2AEDHkNBrFo8/slide-3.jpg"/>
          <p:cNvPicPr/>
          <p:nvPr/>
        </p:nvPicPr>
        <p:blipFill>
          <a:blip r:embed="rId1"/>
          <a:stretch/>
        </p:blipFill>
        <p:spPr>
          <a:xfrm>
            <a:off x="1428840" y="1714680"/>
            <a:ext cx="64292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ыт 2. Какого цвета вода?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рез воду рисунок виден, а через молоко – не виден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начит вода прозрачная жидкость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9" descr="C:\Users\user\Pictures\123140a5c587700e1b98e482c761a8e8-800x.jpg"/>
          <p:cNvPicPr/>
          <p:nvPr/>
        </p:nvPicPr>
        <p:blipFill>
          <a:blip r:embed="rId1"/>
          <a:stretch/>
        </p:blipFill>
        <p:spPr>
          <a:xfrm>
            <a:off x="1714680" y="187488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      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     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пыт 3. Вода – растворитель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ывод: своего вкуса у воды нет. А что случилось с веществами, которые мы положили в воду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7643520" cy="4292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2" descr="https://a2b2.ru/storage/images/person/1958/events/14763/49985_010.jpg"/>
          <p:cNvPicPr/>
          <p:nvPr/>
        </p:nvPicPr>
        <p:blipFill>
          <a:blip r:embed="rId1"/>
          <a:stretch/>
        </p:blipFill>
        <p:spPr>
          <a:xfrm>
            <a:off x="428760" y="355680"/>
            <a:ext cx="846108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  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пыт 4. Вода не имеет собственного запах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2" descr="https://fs.znanio.ru/methodology/images/f3/b7/f3b7f261e062cc818ef80ce48015d80f52ab41fe.jpg"/>
          <p:cNvPicPr/>
          <p:nvPr/>
        </p:nvPicPr>
        <p:blipFill>
          <a:blip r:embed="rId1"/>
          <a:stretch/>
        </p:blipFill>
        <p:spPr>
          <a:xfrm>
            <a:off x="428760" y="1571760"/>
            <a:ext cx="4071960" cy="4822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https://goluyzadik.ru/800/600/https/ds05.infourok.ru/uploads/ex/0b8f/0011228e-b9eed96b/img7.jpg"/>
          <p:cNvPicPr/>
          <p:nvPr/>
        </p:nvPicPr>
        <p:blipFill>
          <a:blip r:embed="rId2"/>
          <a:stretch/>
        </p:blipFill>
        <p:spPr>
          <a:xfrm>
            <a:off x="4786200" y="1571760"/>
            <a:ext cx="392904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ыт 5.   Воду можно нагреть. Как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2" descr="https://myslide.ru/documents_7/9951c7931c3cc9e40dff4ab1e069df6f/img12.jpg"/>
          <p:cNvPicPr/>
          <p:nvPr/>
        </p:nvPicPr>
        <p:blipFill>
          <a:blip r:embed="rId1"/>
          <a:stretch/>
        </p:blipFill>
        <p:spPr>
          <a:xfrm>
            <a:off x="4857840" y="314316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357120" y="3143160"/>
            <a:ext cx="4335480" cy="3141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ыт 6. Лёд – это вода?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бедитесь, что лед это вода, подержите его в руке, он растает и превратится снова в воду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2" descr="https://cf2.ppt-online.org/files2/slide/7/7yE4vIHu1gK8N0UfbJR3eplVPTiOdXaFStzxMc/slide-16.jpg"/>
          <p:cNvPicPr/>
          <p:nvPr/>
        </p:nvPicPr>
        <p:blipFill>
          <a:blip r:embed="rId1"/>
          <a:stretch/>
        </p:blipFill>
        <p:spPr>
          <a:xfrm>
            <a:off x="1428840" y="2000160"/>
            <a:ext cx="61434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Вод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ня пьют, меня лью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ем нужна 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я такая?. (вод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Picture 5" descr="2344"/>
          <p:cNvPicPr/>
          <p:nvPr/>
        </p:nvPicPr>
        <p:blipFill>
          <a:blip r:embed="rId1"/>
          <a:stretch/>
        </p:blipFill>
        <p:spPr>
          <a:xfrm>
            <a:off x="4500720" y="2571840"/>
            <a:ext cx="4319280" cy="388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5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15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5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15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ключительная часть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 каком веществе мы сегодня с вами говорили?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Какие свойства есть у воды?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2" descr="https://pichold.ru/wp-content/uploads/2021/09/25-2.jpg"/>
          <p:cNvPicPr/>
          <p:nvPr/>
        </p:nvPicPr>
        <p:blipFill>
          <a:blip r:embed="rId1"/>
          <a:stretch/>
        </p:blipFill>
        <p:spPr>
          <a:xfrm>
            <a:off x="1714680" y="2500200"/>
            <a:ext cx="52387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ttps://cdn1.coreapp.ai/uploads/image/15896403343045972855ebffc8e2ccc8-img12.jpg"/>
          <p:cNvPicPr/>
          <p:nvPr/>
        </p:nvPicPr>
        <p:blipFill>
          <a:blip r:embed="rId1"/>
          <a:stretch/>
        </p:blipFill>
        <p:spPr>
          <a:xfrm>
            <a:off x="500040" y="428760"/>
            <a:ext cx="8174160" cy="61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ое значение имеет вода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ду пьют поля и леса. Без неё не могут жить ни звери, ни птицы, ни лю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shutterstock_57263527"/>
          <p:cNvPicPr/>
          <p:nvPr/>
        </p:nvPicPr>
        <p:blipFill>
          <a:blip r:embed="rId1"/>
          <a:stretch/>
        </p:blipFill>
        <p:spPr>
          <a:xfrm>
            <a:off x="5076720" y="4508640"/>
            <a:ext cx="3168720" cy="210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i"/>
          <p:cNvPicPr/>
          <p:nvPr/>
        </p:nvPicPr>
        <p:blipFill>
          <a:blip r:embed="rId2"/>
          <a:stretch/>
        </p:blipFill>
        <p:spPr>
          <a:xfrm>
            <a:off x="5076720" y="2276640"/>
            <a:ext cx="320040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743cfb1fb755"/>
          <p:cNvPicPr/>
          <p:nvPr/>
        </p:nvPicPr>
        <p:blipFill>
          <a:blip r:embed="rId3"/>
          <a:stretch/>
        </p:blipFill>
        <p:spPr>
          <a:xfrm>
            <a:off x="1116000" y="4437000"/>
            <a:ext cx="3382920" cy="2109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Рисунок2"/>
          <p:cNvPicPr/>
          <p:nvPr/>
        </p:nvPicPr>
        <p:blipFill>
          <a:blip r:embed="rId4"/>
          <a:stretch/>
        </p:blipFill>
        <p:spPr>
          <a:xfrm>
            <a:off x="1116000" y="2133720"/>
            <a:ext cx="338472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да – это самая большая и удобная дорога. По ней днём и ночью плывут суда, везут разные грузы, пассажир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18_26_53prodaja-rechnyh-sudov"/>
          <p:cNvPicPr/>
          <p:nvPr/>
        </p:nvPicPr>
        <p:blipFill>
          <a:blip r:embed="rId1"/>
          <a:stretch/>
        </p:blipFill>
        <p:spPr>
          <a:xfrm>
            <a:off x="5651640" y="191628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60634"/>
          <p:cNvPicPr/>
          <p:nvPr/>
        </p:nvPicPr>
        <p:blipFill>
          <a:blip r:embed="rId2"/>
          <a:stretch/>
        </p:blipFill>
        <p:spPr>
          <a:xfrm>
            <a:off x="179280" y="191628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117664851"/>
          <p:cNvPicPr/>
          <p:nvPr/>
        </p:nvPicPr>
        <p:blipFill>
          <a:blip r:embed="rId3"/>
          <a:stretch/>
        </p:blipFill>
        <p:spPr>
          <a:xfrm>
            <a:off x="2843280" y="4149720"/>
            <a:ext cx="38876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о вода не только «поит», но ещё и кормит – по морям и океанам днём и ночью плывут тысячи рыболовных судов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SmallFishing_640"/>
          <p:cNvPicPr/>
          <p:nvPr/>
        </p:nvPicPr>
        <p:blipFill>
          <a:blip r:embed="rId1"/>
          <a:stretch/>
        </p:blipFill>
        <p:spPr>
          <a:xfrm>
            <a:off x="2627280" y="4221000"/>
            <a:ext cx="3889440" cy="2473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76610071-600x450"/>
          <p:cNvPicPr/>
          <p:nvPr/>
        </p:nvPicPr>
        <p:blipFill>
          <a:blip r:embed="rId2"/>
          <a:stretch/>
        </p:blipFill>
        <p:spPr>
          <a:xfrm>
            <a:off x="468360" y="1773360"/>
            <a:ext cx="360036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591"/>
          <p:cNvPicPr/>
          <p:nvPr/>
        </p:nvPicPr>
        <p:blipFill>
          <a:blip r:embed="rId3"/>
          <a:stretch/>
        </p:blipFill>
        <p:spPr>
          <a:xfrm>
            <a:off x="5148360" y="1773360"/>
            <a:ext cx="35272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ода «добывает» электрический ток, работая на электростанциях. Вода моет всех людей, города, машины, дорог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aW1nMC5saXZlaW50ZXJuZXQucnUvaW1hZ2VzL2F0dGFjaC9jLzEvNDkvNTQ5LzQ5NTQ5NTgxX3Rzb3kwNDA0MTZfd2F0dHMuanBnP19faWQ9NTIyOQ=="/>
          <p:cNvPicPr/>
          <p:nvPr/>
        </p:nvPicPr>
        <p:blipFill>
          <a:blip r:embed="rId1"/>
          <a:stretch/>
        </p:blipFill>
        <p:spPr>
          <a:xfrm>
            <a:off x="250920" y="1628640"/>
            <a:ext cx="3457440" cy="2256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get_img"/>
          <p:cNvPicPr/>
          <p:nvPr/>
        </p:nvPicPr>
        <p:blipFill>
          <a:blip r:embed="rId2"/>
          <a:srcRect l="0" t="0" r="0" b="19529"/>
          <a:stretch/>
        </p:blipFill>
        <p:spPr>
          <a:xfrm>
            <a:off x="5292720" y="1628640"/>
            <a:ext cx="3621240" cy="218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5wcpHfjpOkg"/>
          <p:cNvPicPr/>
          <p:nvPr/>
        </p:nvPicPr>
        <p:blipFill>
          <a:blip r:embed="rId3"/>
          <a:stretch/>
        </p:blipFill>
        <p:spPr>
          <a:xfrm>
            <a:off x="179280" y="4292640"/>
            <a:ext cx="3600720" cy="2338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huge_1347973082"/>
          <p:cNvPicPr/>
          <p:nvPr/>
        </p:nvPicPr>
        <p:blipFill>
          <a:blip r:embed="rId4"/>
          <a:stretch/>
        </p:blipFill>
        <p:spPr>
          <a:xfrm>
            <a:off x="5292720" y="4292640"/>
            <a:ext cx="36320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леная вода     и пресная вод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http://vsegda-pomnim.com/uploads/posts/2022-03/1648678381_131-vsegda-pomnim-com-p-reki-rossii-foto-138.jpg"/>
          <p:cNvPicPr/>
          <p:nvPr/>
        </p:nvPicPr>
        <p:blipFill>
          <a:blip r:embed="rId1"/>
          <a:stretch/>
        </p:blipFill>
        <p:spPr>
          <a:xfrm>
            <a:off x="4929120" y="2643120"/>
            <a:ext cx="3786120" cy="325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https://avatars.mds.yandex.net/i?id=8d861711207c4a9e7ecd6d976cf6c508ae0a5dd7-10555228-images-thumbs&amp;n=13"/>
          <p:cNvPicPr/>
          <p:nvPr/>
        </p:nvPicPr>
        <p:blipFill>
          <a:blip r:embed="rId2"/>
          <a:stretch/>
        </p:blipFill>
        <p:spPr>
          <a:xfrm>
            <a:off x="357120" y="2643120"/>
            <a:ext cx="4214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Какой же воды на планете больше: пресной или соленой?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соленой, конечно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https://rigaportal.lv/_bd/2/78472562.gif"/>
          <p:cNvPicPr/>
          <p:nvPr/>
        </p:nvPicPr>
        <p:blipFill>
          <a:blip r:embed="rId1"/>
          <a:stretch/>
        </p:blipFill>
        <p:spPr>
          <a:xfrm>
            <a:off x="1857240" y="164304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 включать сильно кран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закрывать ее при умывании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не оставлять воду без присмотра, когда поливаем цвет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не загрязнять реки и озе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2" descr="https://pichold.ru/wp-content/uploads/2021/09/32-1.jpg"/>
          <p:cNvPicPr/>
          <p:nvPr/>
        </p:nvPicPr>
        <p:blipFill>
          <a:blip r:embed="rId1"/>
          <a:stretch/>
        </p:blipFill>
        <p:spPr>
          <a:xfrm>
            <a:off x="4429080" y="2500200"/>
            <a:ext cx="3702240" cy="3786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ttps://gas-kvas.com/uploads/posts/2023-02/1676715607_gas-kvas-com-p-detskie-risunki-svyazannie-s-vodoi-49.jpg"/>
          <p:cNvPicPr/>
          <p:nvPr/>
        </p:nvPicPr>
        <p:blipFill>
          <a:blip r:embed="rId2"/>
          <a:stretch/>
        </p:blipFill>
        <p:spPr>
          <a:xfrm>
            <a:off x="714240" y="2500200"/>
            <a:ext cx="30513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9T12:19:43Z</dcterms:created>
  <dc:creator>Nikolay62</dc:creator>
  <dc:description/>
  <dc:language>en-US</dc:language>
  <cp:lastModifiedBy>user</cp:lastModifiedBy>
  <dcterms:modified xsi:type="dcterms:W3CDTF">2023-12-02T09:45:13Z</dcterms:modified>
  <cp:revision>19</cp:revision>
  <dc:subject/>
  <dc:title>Вода и её свойства</dc:title>
</cp:coreProperties>
</file>