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CF3-D3AD-41A6-98FF-16725C79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710-103D-46ED-936D-D4518BF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E8F-E771-4AD4-9003-5143D13C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066-A5DA-41C7-A559-BA1BED8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ED885-E7B9-40F8-B98C-E06B1E2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D382-E3F2-4846-A459-704AF52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6FA6D-B751-463B-A97B-41F8BCE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1EB0F-2FE2-478A-A336-D53D076C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A7B0-65AA-47AB-B718-EC36C9E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5A5D-7B0E-4590-A4F2-834349A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6063E-05B0-4C4F-A5CD-5961D3C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44D-14E4-4FAD-951C-AF010C84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6A06-59B9-479B-AE30-93CC64B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BF5B2-A2A2-400B-9EB8-395D3EB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9B46E-EED8-4A03-9E1D-8892CC2E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26A1F-6549-4D97-AC0E-C2276E30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B3C4-FF8B-4433-9EF9-43BCF6B3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627-3512-4B4A-A22A-7AFBB2A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990-DA50-46A5-9685-033AA3B7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610-7BF5-4CFB-BC9C-0659412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3E3-FA89-40CD-B90E-C0C87166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4D0-A71B-45AD-918A-95E6A3D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11F-D5B8-471C-A054-6371489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AFD-54CF-45AC-9532-08B9327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DB1-D5E4-4AF7-8EB8-9B1C9FC14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7528-EE36-49B2-B97E-4FBA6099E7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8000" y="5357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зентацию подготов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дагог МБУДО «Дом детского творчеств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пина Ири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екабрь 2023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1371911824_1"/>
          <p:cNvPicPr/>
          <p:nvPr/>
        </p:nvPicPr>
        <p:blipFill>
          <a:blip r:embed="rId1"/>
          <a:stretch/>
        </p:blipFill>
        <p:spPr>
          <a:xfrm>
            <a:off x="1714680" y="1341360"/>
            <a:ext cx="6500520" cy="394488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1357200" y="214200"/>
            <a:ext cx="678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да и её свойств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сегодня я хочу пригласить вас в лабораторию. А вы знаете, что такое лаборатория?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Это  место, где учёные проводят опыты и ставят эксперименты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2" descr="http://ds7ishim.ru/sites/default/files/news/img_to_text/laboratoriya.jpg"/>
          <p:cNvPicPr/>
          <p:nvPr/>
        </p:nvPicPr>
        <p:blipFill>
          <a:blip r:embed="rId1"/>
          <a:stretch/>
        </p:blipFill>
        <p:spPr>
          <a:xfrm>
            <a:off x="1357200" y="2214720"/>
            <a:ext cx="62992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а поведения в лабора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https://mbdou20.edummr.ru/wp-content/uploads/2018/10/img5.jpg"/>
          <p:cNvPicPr/>
          <p:nvPr/>
        </p:nvPicPr>
        <p:blipFill>
          <a:blip r:embed="rId1"/>
          <a:stretch/>
        </p:blipFill>
        <p:spPr>
          <a:xfrm>
            <a:off x="571680" y="1285920"/>
            <a:ext cx="7715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Рисунок1"/>
          <p:cNvPicPr/>
          <p:nvPr/>
        </p:nvPicPr>
        <p:blipFill>
          <a:blip r:embed="rId1"/>
          <a:stretch/>
        </p:blipFill>
        <p:spPr>
          <a:xfrm>
            <a:off x="250920" y="1700280"/>
            <a:ext cx="3124080" cy="43592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>
            <a:off x="4500720" y="333360"/>
            <a:ext cx="4143240" cy="3309840"/>
          </a:xfrm>
          <a:prstGeom prst="cloudCallout">
            <a:avLst>
              <a:gd name="adj1" fmla="val -97800"/>
              <a:gd name="adj2" fmla="val 868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ff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 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ыт 1. Какой формы вода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не имеет формы и принимает форму того сосуда, в котором находится. Вода – жидкость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https://cf3.ppt-online.org/files3/slide/s/SgR6pt7OQMqU3ifbjwyTZz14lL2AEDHkNBrFo8/slide-3.jpg"/>
          <p:cNvPicPr/>
          <p:nvPr/>
        </p:nvPicPr>
        <p:blipFill>
          <a:blip r:embed="rId1"/>
          <a:stretch/>
        </p:blipFill>
        <p:spPr>
          <a:xfrm>
            <a:off x="1428840" y="1714680"/>
            <a:ext cx="64292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ыт 2. Какого цвета вода?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воду рисунок виден, а через молоко – не виде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начит вода прозрачная жидкост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9" descr="C:\Users\user\Pictures\123140a5c587700e1b98e482c761a8e8-800x.jpg"/>
          <p:cNvPicPr/>
          <p:nvPr/>
        </p:nvPicPr>
        <p:blipFill>
          <a:blip r:embed="rId1"/>
          <a:stretch/>
        </p:blipFill>
        <p:spPr>
          <a:xfrm>
            <a:off x="1714680" y="187488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     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 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3. Вода – растворитель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вод: своего вкуса у воды нет. А что случилось с веществами, которые мы положили в воду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7643520" cy="429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https://a2b2.ru/storage/images/person/1958/events/14763/49985_010.jpg"/>
          <p:cNvPicPr/>
          <p:nvPr/>
        </p:nvPicPr>
        <p:blipFill>
          <a:blip r:embed="rId1"/>
          <a:stretch/>
        </p:blipFill>
        <p:spPr>
          <a:xfrm>
            <a:off x="428760" y="355680"/>
            <a:ext cx="84610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ыт 4. Вода не имеет собственного запах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" descr="https://fs.znanio.ru/methodology/images/f3/b7/f3b7f261e062cc818ef80ce48015d80f52ab41fe.jpg"/>
          <p:cNvPicPr/>
          <p:nvPr/>
        </p:nvPicPr>
        <p:blipFill>
          <a:blip r:embed="rId1"/>
          <a:stretch/>
        </p:blipFill>
        <p:spPr>
          <a:xfrm>
            <a:off x="428760" y="1571760"/>
            <a:ext cx="4071960" cy="482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s://goluyzadik.ru/800/600/https/ds05.infourok.ru/uploads/ex/0b8f/0011228e-b9eed96b/img7.jpg"/>
          <p:cNvPicPr/>
          <p:nvPr/>
        </p:nvPicPr>
        <p:blipFill>
          <a:blip r:embed="rId2"/>
          <a:stretch/>
        </p:blipFill>
        <p:spPr>
          <a:xfrm>
            <a:off x="4786200" y="1571760"/>
            <a:ext cx="39290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 5.   Воду можно нагреть. Ка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" descr="https://myslide.ru/documents_7/9951c7931c3cc9e40dff4ab1e069df6f/img12.jpg"/>
          <p:cNvPicPr/>
          <p:nvPr/>
        </p:nvPicPr>
        <p:blipFill>
          <a:blip r:embed="rId1"/>
          <a:stretch/>
        </p:blipFill>
        <p:spPr>
          <a:xfrm>
            <a:off x="4857840" y="314316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57120" y="3143160"/>
            <a:ext cx="4335480" cy="3141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ыт 6. Лёд – это вода?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сь, что лед это вода, подержите его в руке, он растает и превратится снова в вод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https://cf2.ppt-online.org/files2/slide/7/7yE4vIHu1gK8N0UfbJR3eplVPTiOdXaFStzxMc/slide-16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43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ня пьют, меня ль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м нужна 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я такая?. (в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2344"/>
          <p:cNvPicPr/>
          <p:nvPr/>
        </p:nvPicPr>
        <p:blipFill>
          <a:blip r:embed="rId1"/>
          <a:stretch/>
        </p:blipFill>
        <p:spPr>
          <a:xfrm>
            <a:off x="4500720" y="2571840"/>
            <a:ext cx="431928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15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лючительная часть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 каком веществе мы сегодня с вами говорили?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ие свойства есть у воды?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https://pichold.ru/wp-content/uploads/2021/09/25-2.jpg"/>
          <p:cNvPicPr/>
          <p:nvPr/>
        </p:nvPicPr>
        <p:blipFill>
          <a:blip r:embed="rId1"/>
          <a:stretch/>
        </p:blipFill>
        <p:spPr>
          <a:xfrm>
            <a:off x="1714680" y="2500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s://cdn1.coreapp.ai/uploads/image/15896403343045972855ebffc8e2ccc8-img12.jpg"/>
          <p:cNvPicPr/>
          <p:nvPr/>
        </p:nvPicPr>
        <p:blipFill>
          <a:blip r:embed="rId1"/>
          <a:stretch/>
        </p:blipFill>
        <p:spPr>
          <a:xfrm>
            <a:off x="500040" y="428760"/>
            <a:ext cx="8174160" cy="61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е значение имеет вод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у пьют поля и леса. Без неё не могут жить ни звери, ни птицы, ни лю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shutterstock_57263527"/>
          <p:cNvPicPr/>
          <p:nvPr/>
        </p:nvPicPr>
        <p:blipFill>
          <a:blip r:embed="rId1"/>
          <a:stretch/>
        </p:blipFill>
        <p:spPr>
          <a:xfrm>
            <a:off x="5076720" y="4508640"/>
            <a:ext cx="3168720" cy="210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i"/>
          <p:cNvPicPr/>
          <p:nvPr/>
        </p:nvPicPr>
        <p:blipFill>
          <a:blip r:embed="rId2"/>
          <a:stretch/>
        </p:blipFill>
        <p:spPr>
          <a:xfrm>
            <a:off x="5076720" y="2276640"/>
            <a:ext cx="32004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743cfb1fb755"/>
          <p:cNvPicPr/>
          <p:nvPr/>
        </p:nvPicPr>
        <p:blipFill>
          <a:blip r:embed="rId3"/>
          <a:stretch/>
        </p:blipFill>
        <p:spPr>
          <a:xfrm>
            <a:off x="1116000" y="4437000"/>
            <a:ext cx="338292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Рисунок2"/>
          <p:cNvPicPr/>
          <p:nvPr/>
        </p:nvPicPr>
        <p:blipFill>
          <a:blip r:embed="rId4"/>
          <a:stretch/>
        </p:blipFill>
        <p:spPr>
          <a:xfrm>
            <a:off x="1116000" y="2133720"/>
            <a:ext cx="3384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а – это самая большая и удобная дорога. По ней днём и ночью плывут суда, везут разные грузы, пассажир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18_26_53prodaja-rechnyh-sudov"/>
          <p:cNvPicPr/>
          <p:nvPr/>
        </p:nvPicPr>
        <p:blipFill>
          <a:blip r:embed="rId1"/>
          <a:stretch/>
        </p:blipFill>
        <p:spPr>
          <a:xfrm>
            <a:off x="5651640" y="191628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60634"/>
          <p:cNvPicPr/>
          <p:nvPr/>
        </p:nvPicPr>
        <p:blipFill>
          <a:blip r:embed="rId2"/>
          <a:stretch/>
        </p:blipFill>
        <p:spPr>
          <a:xfrm>
            <a:off x="179280" y="191628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17664851"/>
          <p:cNvPicPr/>
          <p:nvPr/>
        </p:nvPicPr>
        <p:blipFill>
          <a:blip r:embed="rId3"/>
          <a:stretch/>
        </p:blipFill>
        <p:spPr>
          <a:xfrm>
            <a:off x="2843280" y="4149720"/>
            <a:ext cx="388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вода не только «поит», но ещё и кормит – по морям и океанам днём и ночью плывут тысячи рыболовных суд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SmallFishing_640"/>
          <p:cNvPicPr/>
          <p:nvPr/>
        </p:nvPicPr>
        <p:blipFill>
          <a:blip r:embed="rId1"/>
          <a:stretch/>
        </p:blipFill>
        <p:spPr>
          <a:xfrm>
            <a:off x="2627280" y="4221000"/>
            <a:ext cx="3889440" cy="247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76610071-600x450"/>
          <p:cNvPicPr/>
          <p:nvPr/>
        </p:nvPicPr>
        <p:blipFill>
          <a:blip r:embed="rId2"/>
          <a:stretch/>
        </p:blipFill>
        <p:spPr>
          <a:xfrm>
            <a:off x="468360" y="1773360"/>
            <a:ext cx="36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591"/>
          <p:cNvPicPr/>
          <p:nvPr/>
        </p:nvPicPr>
        <p:blipFill>
          <a:blip r:embed="rId3"/>
          <a:stretch/>
        </p:blipFill>
        <p:spPr>
          <a:xfrm>
            <a:off x="5148360" y="1773360"/>
            <a:ext cx="3527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а «добывает» электрический ток, работая на электростанциях. Вода моет всех людей, города, машины, дорог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aW1nMC5saXZlaW50ZXJuZXQucnUvaW1hZ2VzL2F0dGFjaC9jLzEvNDkvNTQ5LzQ5NTQ5NTgxX3Rzb3kwNDA0MTZfd2F0dHMuanBnP19faWQ9NTIyOQ=="/>
          <p:cNvPicPr/>
          <p:nvPr/>
        </p:nvPicPr>
        <p:blipFill>
          <a:blip r:embed="rId1"/>
          <a:stretch/>
        </p:blipFill>
        <p:spPr>
          <a:xfrm>
            <a:off x="250920" y="1628640"/>
            <a:ext cx="3457440" cy="225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get_img"/>
          <p:cNvPicPr/>
          <p:nvPr/>
        </p:nvPicPr>
        <p:blipFill>
          <a:blip r:embed="rId2"/>
          <a:srcRect l="0" t="0" r="0" b="19529"/>
          <a:stretch/>
        </p:blipFill>
        <p:spPr>
          <a:xfrm>
            <a:off x="5292720" y="1628640"/>
            <a:ext cx="362124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5wcpHfjpOkg"/>
          <p:cNvPicPr/>
          <p:nvPr/>
        </p:nvPicPr>
        <p:blipFill>
          <a:blip r:embed="rId3"/>
          <a:stretch/>
        </p:blipFill>
        <p:spPr>
          <a:xfrm>
            <a:off x="179280" y="4292640"/>
            <a:ext cx="360072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uge_1347973082"/>
          <p:cNvPicPr/>
          <p:nvPr/>
        </p:nvPicPr>
        <p:blipFill>
          <a:blip r:embed="rId4"/>
          <a:stretch/>
        </p:blipFill>
        <p:spPr>
          <a:xfrm>
            <a:off x="5292720" y="4292640"/>
            <a:ext cx="3632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еная вода     и пресная вод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http://vsegda-pomnim.com/uploads/posts/2022-03/1648678381_131-vsegda-pomnim-com-p-reki-rossii-foto-138.jpg"/>
          <p:cNvPicPr/>
          <p:nvPr/>
        </p:nvPicPr>
        <p:blipFill>
          <a:blip r:embed="rId1"/>
          <a:stretch/>
        </p:blipFill>
        <p:spPr>
          <a:xfrm>
            <a:off x="4929120" y="2643120"/>
            <a:ext cx="3786120" cy="325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avatars.mds.yandex.net/i?id=8d861711207c4a9e7ecd6d976cf6c508ae0a5dd7-10555228-images-thumbs&amp;n=13"/>
          <p:cNvPicPr/>
          <p:nvPr/>
        </p:nvPicPr>
        <p:blipFill>
          <a:blip r:embed="rId2"/>
          <a:stretch/>
        </p:blipFill>
        <p:spPr>
          <a:xfrm>
            <a:off x="357120" y="264312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ой же воды на планете больше: пресной или соленой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оленой, конеч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https://rigaportal.lv/_bd/2/78472562.gif"/>
          <p:cNvPicPr/>
          <p:nvPr/>
        </p:nvPicPr>
        <p:blipFill>
          <a:blip r:embed="rId1"/>
          <a:stretch/>
        </p:blipFill>
        <p:spPr>
          <a:xfrm>
            <a:off x="1857240" y="164304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 включать сильно кран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закрывать ее при умывани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не оставлять воду без присмотра, когда поливаем цвет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 загрязнять реки и озе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https://pichold.ru/wp-content/uploads/2021/09/32-1.jpg"/>
          <p:cNvPicPr/>
          <p:nvPr/>
        </p:nvPicPr>
        <p:blipFill>
          <a:blip r:embed="rId1"/>
          <a:stretch/>
        </p:blipFill>
        <p:spPr>
          <a:xfrm>
            <a:off x="4429080" y="2500200"/>
            <a:ext cx="3702240" cy="378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s://gas-kvas.com/uploads/posts/2023-02/1676715607_gas-kvas-com-p-detskie-risunki-svyazannie-s-vodoi-49.jpg"/>
          <p:cNvPicPr/>
          <p:nvPr/>
        </p:nvPicPr>
        <p:blipFill>
          <a:blip r:embed="rId2"/>
          <a:stretch/>
        </p:blipFill>
        <p:spPr>
          <a:xfrm>
            <a:off x="714240" y="2500200"/>
            <a:ext cx="30513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19:43Z</dcterms:created>
  <dc:creator>Nikolay62</dc:creator>
  <dc:description/>
  <dc:language>en-US</dc:language>
  <cp:lastModifiedBy>user</cp:lastModifiedBy>
  <dcterms:modified xsi:type="dcterms:W3CDTF">2023-12-02T09:45:13Z</dcterms:modified>
  <cp:revision>19</cp:revision>
  <dc:subject/>
  <dc:title>Вода и её свойства</dc:title>
</cp:coreProperties>
</file>