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32B3-AB0B-4DB6-AA6F-CC67F25D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681-3FBE-45FC-ADBA-40936091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084C3-40B6-47AA-9254-29355652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D3098-3DD5-44B0-A763-64C65845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3CA8E-BF50-4A50-BBC8-183784E7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3F80D-1E60-43C2-93BC-84D9F399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517A2-6052-4716-AFC9-35A70985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27F86-C324-4417-B07E-2899C17B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2B4FC-1924-4356-AADA-033ADCE1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1E449-43E7-41BE-888A-27849922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BCA166-69E5-46BF-AF72-5B837993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CAE-A548-4407-9D07-CE1FE5C3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F3B-867E-4C65-AB43-60A69CD8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E436-9958-409C-9B16-894CE0D66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8F5C-1733-45C8-950A-15173F38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34E6-0E26-4E16-B5C9-F691F6D5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B82B-B754-4995-A356-E1E9BEA9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D452-9C96-432A-BE0D-AA69B9DC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EB6A-ACE3-4E24-B941-06D61C0B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68CF-46AC-4962-B4C5-2C8C2B8C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1D0-819D-4823-BF6C-2A0D6766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39A2-7A55-4E48-A3C0-B6DF851B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E20D-50BD-480A-A342-900B50C5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D03D-C82E-4650-AC6E-88E54236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27E6-CF23-4A46-B7A8-82D35B15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F500-D9C7-4052-A842-01E6073C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A05A-C805-406A-A9BD-BD776A20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C999B-FD99-4B14-9A30-AFF9BDB8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41A3F-76BB-4C1D-8E8B-F9356753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C7F8C-1A9C-4C3A-86F5-AA9A4CE6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F5B5-7630-44B6-8E74-FEB663A8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5E24-EBD4-450E-A5BC-2E3F0EAD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43C86-00E3-4414-98DE-9EB9D6E8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7A54F-61E6-4846-ADD2-1AB49530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00B0-54EA-4555-8943-0E68679B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EBD49-C6D3-4903-B878-60DB84C6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41E3-6409-4305-842B-CF0DBF4D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8B642-5277-4C49-BD7F-52495194B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418DB-7B94-42EB-9C8E-A46A4B79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DDB6A-4723-4280-AE45-F3BBCF30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B0776-37B7-4640-ADB1-A9ABDA19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FD107-1C1B-40BA-8A96-E323754E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78DF-0520-4FF2-9F17-1044A287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F4A57-446D-4BC3-A769-EB33E6F6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9793C-53AD-459F-BBD7-679906E6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D22BE-ED04-4E14-8D80-9AC6109A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B1528-4E07-44C2-A3FD-F9383644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33F4E-E8B2-42E3-AEDF-8697742A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474E2-F322-49DD-A17E-41391744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B8CCC-E193-473D-9221-43E3F5BF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C3A35-9AA3-4F33-A843-65DA862C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618FE-3E57-4A4F-8DA9-0DAE66E7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5BF4B-556F-4050-A5B4-D993F3DB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B17-3CB7-477D-B911-A07C31C8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731AD-9939-41E3-8A0B-2704507A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779D1-29D9-41FE-8673-53A50B30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97C6A-690B-495F-8C3C-BBFCB87A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4D37B-6AB4-44CD-89B6-417C42C0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CC2F8-D775-48DA-A377-51D00054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3C6FB-A055-4031-ABA4-BBD7AE96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11FD7-C935-425E-A545-6E26D82E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39DAB-153A-46B5-9312-C492B68B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A3D03-272D-4D8C-9EAA-DF013554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0A594-808C-47DC-A678-3D4DF412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CA5-F38B-45A7-B719-01C2154E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23372-714C-4105-B95B-12C8D061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E0C25-A148-4682-9AB5-1F480551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B96C1-316E-4A83-96F8-0BD4746D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75EE0-3CFF-4355-A5FC-DBAC9AB2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5C9AB-D086-4C15-A686-A3EF551D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89659-8C8B-4833-B9F0-653B29B3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5FDA6-3906-4284-BBE3-84529DD5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0590F-A7CC-4015-A20F-9794D128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1C9F0-E08F-4484-8A8B-E2387C1D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3016F-3DF9-4E2D-9EF9-2A12AD35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562-DFFC-4BE7-9D47-C1138ECA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A2330-654E-4948-8F30-9E372D0D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996FF-B657-4995-85E6-19273CAA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7F028-75CE-4400-ABED-DCD6D6A9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115AF-DAB1-46A2-A4A9-77D9D1D07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FC872-1A67-471A-B3DC-1762F49F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A667A-DE3E-4678-BC77-1773B93D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46BA8-7289-45FB-A227-827A09D9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6BD8B-5F2D-4ECE-A4DD-28F15CB8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FCBEE-1DE8-4476-B8F5-BF1D0BD5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BAFE0-1547-448E-9786-037E039A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585-822F-422C-8D5E-9F544B30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EDBA8-2CE8-4166-9873-782C0413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D2B1D-158D-436A-BD6E-53816B48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DDDEC-53F5-41A6-83E3-081A9782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D9BB9-0CD8-4724-9382-0CCC08D6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3B7EF-E9E1-4421-BEFD-4415712A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D344C-6FF0-4781-A202-0FD6229C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A0A0B-0EEA-4BC7-9839-7DFC6395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3E147-BD6B-4803-8D13-B10983C6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077AF-8ADE-4D4B-B346-16707572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574B8-9F25-49D1-B204-7D4DE136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53BB-8CE7-444B-8FEF-15479886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D69CB-9A38-4C00-B393-B3441697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917F2-81B0-4EB9-9679-701AC593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B0D7C-C9BD-4B0A-BA37-A4EAE4CA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1E536-B972-4346-AB3B-DD8B08F2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D6FC9-014E-4328-84D9-E9BC080A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9C4ED-A070-40CF-AAB6-8C1E34DB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B9810-1F0C-4219-9A9F-DF37F543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3EB7B-C1D8-4DB4-969D-E3D5B475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619F4-62EF-4768-90B4-30E169E5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76CBE-1C23-433E-A623-261238E5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939A-1200-4C13-953E-1EFA3B9620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15F4-959E-4A91-A2BE-8237918570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7681-8A62-4682-8D35-FE06BE7A26D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ADFB-34D5-42F2-8C86-F5C89160F2B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53B1-A6E6-46C9-A624-DC573C2340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B50F-E8D7-4EFB-BBF1-58DBC3AB5C7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5E91-53FB-4873-978C-59FA4E88BFC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A7E0-5A89-4C6F-92AE-0275D938795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C972-E3D3-41DD-95E7-9BD3FC8D4AC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-6480" y="1596960"/>
            <a:ext cx="8852040" cy="13842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C:\Users\uchitel\Pictures\труд отношен.jpg"/>
          <p:cNvPicPr/>
          <p:nvPr/>
        </p:nvPicPr>
        <p:blipFill>
          <a:blip r:embed="rId2"/>
          <a:stretch/>
        </p:blipFill>
        <p:spPr>
          <a:xfrm>
            <a:off x="1905120" y="2971800"/>
            <a:ext cx="50752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-360" y="533160"/>
            <a:ext cx="88390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ражданский кодекс РФ </a:t>
            </a: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танавливает юридические факты, которые обусловливают возникновение гражданских прав и обязанностей. Одним из таких юридических фактов выступают сделки.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Сделка</a:t>
            </a: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действие граждан и юридических лиц, направленное на установление, изменение или прекращение гражданских прав и обязанностей.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-6480" y="30240"/>
            <a:ext cx="8852040" cy="17017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дносторонние</a:t>
            </a: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для их совершения необходимо и достаточно выражения воли одной стороны). Н-р: составление завещания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вухсторонние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Многосторонние</a:t>
            </a: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 (Н-р: договор трех коммерческих фирм о строительстве одного объекта)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змездные</a:t>
            </a: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сделки, по которым одна из сторон должна получить плату). Н-р: договоры купли-продажи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езвозмездные.</a:t>
            </a: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Н-р: договор дарения, беспроцентный кредит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Реальные </a:t>
            </a: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(считаются заключенными с момента передачи вещи (денег) из рук в руки</a:t>
            </a:r>
            <a:r>
              <a:rPr b="0" i="1" lang="en-US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</a:t>
            </a:r>
            <a:r>
              <a:rPr b="0" i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-360" y="14475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нсенсуальные</a:t>
            </a: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считаются заключенными с момента достижения каких-либо соглашений)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зуальные</a:t>
            </a: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сделки, имеющие под собой конкретные основания, причины)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ловные</a:t>
            </a: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</a:t>
            </a:r>
            <a:r>
              <a:rPr b="1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езусловные</a:t>
            </a: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рочные</a:t>
            </a: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(</a:t>
            </a:r>
            <a:r>
              <a:rPr b="1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бессрочные</a:t>
            </a:r>
            <a:r>
              <a:rPr b="0" i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152280" y="380880"/>
            <a:ext cx="8839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гражданско-правовых сде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соответствии с ГК РФ сделки могут совершаться в устной или письменной форме. В свою очередь письменные сделки могут быть простыми письменными и нотариально удостоверенными.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1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Форма сделки</a:t>
            </a:r>
            <a:r>
              <a:rPr b="0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то способ выражения воли субъектов сделки.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Формы сделок: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стные сделки.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делки, совершаемые в простой письменной форме.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отариально удостоверенные сделки.</a:t>
            </a:r>
            <a:endParaRPr b="0" lang="en-US" sz="29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152280" y="380880"/>
            <a:ext cx="8839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сде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говор</a:t>
            </a:r>
            <a:r>
              <a:rPr b="0" lang="ru-RU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i="1" lang="ru-RU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– это соглашение двух или более сторон об установлении, изменении или прекращении гражданских прав и обязанностей (ГК РФ)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-6480" y="73080"/>
            <a:ext cx="8852040" cy="11523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1"/>
          <p:cNvSpPr/>
          <p:nvPr/>
        </p:nvSpPr>
        <p:spPr>
          <a:xfrm>
            <a:off x="152280" y="10666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, по которому сторона должна получить плату, является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зд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ознаграждение не предусматривается – это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ый догов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, по которому права и обязанности сторон возникают с момента его заключения, является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енсуаль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рава и обязанности сторон возникают с момента передачи имущества, он называется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ь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например, договор перевозки является реальным, так как он заключается с момента сдачи груза перевозчик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, по которому обе стороны выступают и кредитором, и должником, называют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сторонни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например, договор купли-продаж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, где одна сторона только должник, а другая только кредитор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торонни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например, договор займ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-6480" y="73080"/>
            <a:ext cx="8852040" cy="115236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2"/>
          <p:cNvSpPr/>
          <p:nvPr/>
        </p:nvSpPr>
        <p:spPr>
          <a:xfrm>
            <a:off x="152280" y="1143000"/>
            <a:ext cx="8839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чны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читается договор, который коммерческая организация по характеру своей деятельности должна заключать с каждым, кто к ней обратится (розничная торговля, услуги связи, медицинское, гостиничное обслуживание и т. 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ом присоедин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ется договор, условия которого определены одной из сторон в формулярах и могли быть приняты другой стороной путем присоединения. Например, договор страхования, заключаемый посредством подписания формуля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арительному договору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роны обязуются заключить в будущем договор на условиях, предусмотренных предварительным договором. В предварительном договоре указывается срок, в который стороны обязуются заключить в будущем основной дого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-6480" y="152280"/>
            <a:ext cx="893124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ля заключения договора необходимо выражение воли двух сторон (двусторонняя сделка) либо трех или более сторон (многосторонняя сделка)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3000" spc="-1" strike="noStrike">
                <a:solidFill>
                  <a:srgbClr val="c87d0e"/>
                </a:solidFill>
                <a:latin typeface="Times New Roman"/>
                <a:ea typeface="Times New Roman"/>
              </a:rPr>
              <a:t>Каждый договор это сделка, но не каждая сделка – это договор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делка, где больше одной стороны – уже договор. Таким образом, понятие «сделка» шире понятия «договора». Пример: договор купли-продажи: в нем две стороны по крайней мере. А вот доверенность или завещание – там одна сторона. Это сделк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 ЧТПиГХ</dc:creator>
  <dc:description/>
  <dc:language>en-US</dc:language>
  <cp:lastModifiedBy>Пользователь Windows</cp:lastModifiedBy>
  <dcterms:modified xsi:type="dcterms:W3CDTF">2023-12-14T09:37:42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