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852-A9ED-4E69-B23C-33F9BD21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F09-40D2-44D1-940A-462F021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27ED8-6A93-468C-B869-39FEB4EC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E8BA1-D2D8-4F0B-A0A9-C70D837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6A6AF-676F-4EFE-AB21-E354E197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CAD47-24AE-409E-B98D-507ACED5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4CBD9-17F0-4687-9A4D-204EB7C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13E64-BDF5-4BBF-841C-C5ED9066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AC2F5-4711-45FC-B620-F2EDFE17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F7538-6F51-454E-B727-45437B42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4B064-EE92-4017-8FB1-27040860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FF7-7879-4F91-9740-D9C1F40F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7CE-451C-45FC-8BC8-BF1DBD19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3B7F-CCA0-4523-9F5A-54C0E37E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1D03-81AE-4E96-8FF5-86E2845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5A9B-3365-41D5-AFF1-A641BFAB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3252-371A-42DB-A16B-80BA6410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E945-2BFA-44F6-B720-DF3094E7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D5A0-410F-4829-9CA7-B495A428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FE2C-A6AA-461C-AE8A-113E1018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81E-FDEB-41CD-A225-E4EF158B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080E-4F36-400B-9C4C-ABF90D84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F062-509D-4045-8AFE-4E6C578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F55E-2B8C-42C1-B1E1-5C132419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F130-5EF2-431E-9CF0-C906F56F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8C2B-94D4-4D15-B2DA-75C74289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065E9-E14D-4FB0-B0EF-59ABFCE2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C97B-3688-4637-BB54-33D77C0B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B598F-C645-4317-8799-BB8C1E29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5E85-3A7E-4FBD-92BF-D10D2EFE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3860-7829-41E4-8EFF-EBB738D4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86D-B705-4AAB-AD42-D2770DF5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E8E5-B26E-415E-A5F8-6808747B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B739-687E-41D7-9618-32FA2619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8CC7-06FF-4B0A-B1CA-C74204F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E234-95BB-4F9C-B7AD-E3F427A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449C-E5BF-4C38-BE5F-3671A152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E6CD-184C-4453-8E18-DEC13394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93E9-78E8-411A-A41D-53E2874E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DF6E-FF54-4DD4-B0D7-15485BBF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15AE-1057-4BC2-8904-02B3A899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64796-A58C-438B-BC0D-19C18A47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29B-FFB3-4120-B9FA-1DCB598E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4CE8-24B8-42BA-BFE8-FA1E5AF6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DA01-3CEC-48B4-83D5-3C71F48F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46B4-199D-475C-9F86-A8064D13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4F990-CE6F-4686-AF5B-7028C68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5CF21-B522-41CF-A910-B4CDCD2C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7A7F6-CC6F-47A6-B49C-05D2194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5E393-9D41-4071-AF0C-8B03391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44863-7536-43A5-AF0C-22788849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21A0-DE9D-42BC-8331-C60E815B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76173-0954-4A84-8F51-48AD8D11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E65-E79B-4529-815E-E8CC047A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128D8-AD82-4D2D-A120-24A4C145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CC039-EBA6-4488-B7E4-F0C5A324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036CA-392E-461B-98EC-3C360916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DAEE-E079-4DE5-92CE-1ED86FB6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40885-AAE8-4B80-9B45-03E7C53A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9F0C-E86C-43A3-9230-D7B68640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4AEE9-A95F-4218-B335-0A8F795E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512F-644F-4920-A1FB-3C5D2E8E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C0840-95A0-47AF-AE38-8D206E4A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1A64C-CBAD-464B-A380-B3AA18EE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234-A7EF-4E8C-9B23-4BDD4A22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A6543-E991-4BCC-9221-4BE9B799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EC474-9DF4-48C1-81DE-B2557D8D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2C32A-25E9-44C7-9934-7A5CDA24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0B4DD-B604-4880-992D-D6A3EDFA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BBDB-0A9C-4B72-84F7-A79BD797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ADEDA-CF42-47C1-BFA4-1460C52E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78B85-ABF9-4CF4-B558-D026A172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9D88-C19A-42F1-A16F-D1D1C504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7FA7B-929C-4F51-85D3-6E2D78B3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E42AF-4457-43EE-AA60-A0BDCA7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EDE-4CC3-4BF2-BAA0-84AF037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5988-22DB-4D5F-904B-933C6173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67439-EE99-44AB-BBE4-7252AA9A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04EB4-9F04-4963-84E5-8BEC588E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B9D34-3A2C-4364-86E3-2BC81514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E428A-94C7-4FE0-8748-ACD33CB5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9821D-DA38-4F58-A618-234A97F9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FE6B3-2F31-411D-B1DC-6EFFF3C8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0273-EB2E-4553-A7C0-B93557E1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3166F-930F-44EF-83AE-10D147F9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E6F6A-010A-408F-A335-7FDA65B4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491-41E8-46C5-8059-81EE0FA4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92FED-99F5-4886-BD74-9770E650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69743-1B2F-44D5-B615-8C41BE62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D2661-DB70-4013-A0FE-6B31C405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47B6F-6E2C-4CF9-9394-075280B5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A2AD8-2DC2-45C9-9546-8C224DF6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E4176-E566-4D58-9E04-4DB1B117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401E-0978-419D-95D4-C596ACD7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FD941-1453-42DE-A96B-8D6891FD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1CC3-D950-482C-9CE1-D6DB3953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D8141-D6E4-45DE-B4BD-6189F320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834-B615-4738-9890-AC7E9B89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45F5D-A7B4-498E-AC46-CEC842FD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29685-7A95-48E1-9FD3-BB83D0B9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07B81-AFF1-485F-BC8B-2557BFF9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6C31C-D284-4AA7-B39E-AF15265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3523C-12CF-445D-9765-52DE9B56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3C012-DBEE-478E-AA7C-A7E67F9C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2CC0F-054A-41F5-844B-263F0EE1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E5984-4B7E-4672-B1FB-F50E9BE0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8A2CE-8CC1-401A-BC84-D60995CA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766D2-61AE-4118-A765-8A6A5A3C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986C-00CD-4628-AA70-BA2E7AE416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7AB4-B390-4E71-A2F0-19A086727D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8F6B-41B0-4883-8076-A23675324A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E9F9-9B94-48C5-8D9C-A6FA9C4EE4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B96C-171A-4B89-B8FC-8A993AC480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C3FA-41C5-4E2F-BFF3-C97DFE0863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F7AE-4956-408E-A9DD-432D2D6291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877D-95FF-4BB4-A9D7-76370ECCC8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0A7F-6896-460D-B6B8-5FC072CE75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-6480" y="1596960"/>
            <a:ext cx="8852040" cy="1384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Users\uchitel\Pictures\труд отношен.jpg"/>
          <p:cNvPicPr/>
          <p:nvPr/>
        </p:nvPicPr>
        <p:blipFill>
          <a:blip r:embed="rId2"/>
          <a:stretch/>
        </p:blipFill>
        <p:spPr>
          <a:xfrm>
            <a:off x="1905120" y="2971800"/>
            <a:ext cx="5075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ажданский кодекс РФ 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анавливает юридические факты, которые обусловливают возникновение гражданских прав и обязанностей. Одним из таких юридических фактов выступают сделки.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Сделка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действие граждан и юридических лиц, направленное на установление, изменение или прекращение гражданских прав и обязанностей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-6480" y="30240"/>
            <a:ext cx="8852040" cy="17017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дносторонние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для их совершения необходимо и достаточно выражения воли одной стороны). Н-р: составление завещани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вухсторонни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ногосторонние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(Н-р: договор трех коммерческих фирм о строительстве одного объекта)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мездные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сделки, по которым одна из сторон должна получить плату). Н-р: договоры купли-продажи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езвозмездные.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Н-р: договор дарения, беспроцентный кредит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ьные 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считаются заключенными с момента передачи вещи (денег) из рук в руки</a:t>
            </a:r>
            <a:r>
              <a:rPr b="0" i="1" lang="en-US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нсенсуаль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считаются заключенными с момента достижения каких-либо соглашений)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зуаль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сделки, имеющие под собой конкретные основания, причины)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лов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езуслов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роч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ессроч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152280" y="380880"/>
            <a:ext cx="8839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гражданско-правовых сде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соответствии с ГК РФ сделки могут совершаться в устной или письменной форме. В свою очередь письменные сделки могут быть простыми письменными и нотариально удостоверенными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а сделки</a:t>
            </a: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о способ выражения воли субъектов сделки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Формы сделок: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ные сделки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делки, совершаемые в простой письменной форме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тариально удостоверенные сделки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2280" y="380880"/>
            <a:ext cx="8839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сде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это соглашение двух или более сторон об установлении, изменении или прекращении гражданских прав и обязанностей (ГК РФ)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-6480" y="73080"/>
            <a:ext cx="8852040" cy="11523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"/>
          <p:cNvSpPr/>
          <p:nvPr/>
        </p:nvSpPr>
        <p:spPr>
          <a:xfrm>
            <a:off x="152280" y="10666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, по которому сторона должна получить плату, являе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знаграждение не предусматривается – это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й догов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, по которому права и обязанности сторон возникают с момента его заключения, являе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нсуаль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ава и обязанности сторон возникают с момента передачи имущества, он называе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пример, договор перевозки является реальным, так как он заключается с момента сдачи груза перевозчик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, по которому обе стороны выступают и кредитором, и должником, называют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сторонн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пример, договор купли-продаж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, где одна сторона только должник, а другая только кредитор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торонн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пример, договор зай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-6480" y="73080"/>
            <a:ext cx="885204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152280" y="1143000"/>
            <a:ext cx="883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ется договор, который коммерческая организация по характеру своей деятельности должна заключать с каждым, кто к ней обратится (розничная торговля, услуги связи, медицинское, гостиничное обслуживание и т. 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ом присоедин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ется договор, условия которого определены одной из сторон в формулярах и могли быть приняты другой стороной путем присоединения. Например, договор страхования, заключаемый посредством подписания формуля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му договор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обязуются заключить в будущем договор на условиях, предусмотренных предварительным договором. В предварительном договоре указывается срок, в который стороны обязуются заключить в будущем основной дого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893124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заключения договора необходимо выражение воли двух сторон (двусторонняя сделка) либо трех или более сторон (многосторонняя сделка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0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Каждый договор это сделка, но не каждая сделка – это договор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делка, где больше одной стороны – уже договор. Таким образом, понятие «сделка» шире понятия «договора». Пример: договор купли-продажи: в нем две стороны по крайней мере. А вот доверенность или завещание – там одна сторона. Это сдел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 ЧТПиГХ</dc:creator>
  <dc:description/>
  <dc:language>en-US</dc:language>
  <cp:lastModifiedBy>Пользователь Windows</cp:lastModifiedBy>
  <dcterms:modified xsi:type="dcterms:W3CDTF">2023-12-14T09:37:42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