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380-7EEB-4D6D-839B-5F932B1A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E3F-34AB-42D8-9974-A04DB5F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006-FBE1-47CD-B86A-75D2F064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DD2-8AEF-4B62-8204-C56EE509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592B-5353-4516-9EDF-DF2A34CF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7D88-FE7A-4102-B669-DBA6B82D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BC78-C64D-432B-8A5A-8ADCF87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5E7C-D1BD-4E25-9CC9-03825B09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A42-2843-4693-A5F8-F04F2DA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665-2F17-4F93-8641-40707B1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CAF7-7BB3-42B6-A532-A9A1D39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0D9-CDD4-4D57-AA52-B55A7706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880-76A1-425D-8DD1-128A7B1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05B-ABBF-412D-A171-94C3C02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97C-481D-4F4E-BEFD-CE7F5B4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1CE-AEDB-4145-AE6A-B939B417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BB7-5A44-4E61-9BFE-37CC0B16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6780-B60A-4ABD-9045-C0002928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A38C-EAAA-494D-BE02-31C46FC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4325-C055-46D4-998F-956E16D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084B-A8C3-455E-AD57-B9CED42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FFEB-53E3-4CDB-8209-940C71D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D47-C975-4BE5-BA35-D5F040F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F4C5-8178-4423-8BA2-ABDAE0A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8631-29FE-46CF-A696-B9C2A1C1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1551-4FBE-4811-8974-C4AE3E0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B1D9-52DF-4398-BD9B-C4BAA4F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DAA5-C3A9-4D77-96D6-6997BF5F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8B8D-0B00-436F-9CF4-9F426CD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949F-7C6B-4FB0-BFBA-735E1759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CC41-D0B1-4A83-8313-EA3703E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A3B0-5358-4B88-94C3-54360AB3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97F2-D469-492E-86FC-79BC71A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3A5-244A-466C-8E56-B6246AF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F0AB-8600-4673-81E3-9B213948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133D-4DBE-4F2D-AEA2-F87447C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8D40-3423-4905-862E-5AD59D73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B8B0-A06C-4FE2-86A0-43547B4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33E4-429D-4D7A-9997-98E4440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99A1-5A30-465F-9E03-E75FF88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7C80-92A8-4AB7-BE30-92523B7D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5228-8468-418A-A6D7-29B551FC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CFB4-065E-4C3E-A4FB-A50CB8AA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362B-704F-42F3-991A-A298BF20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389-CDB8-4907-8D9A-5C96A22D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747AB-EE5B-4856-8BE9-C9DD593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23F9B-6002-4373-A84F-E8D2D3F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9E13-ED77-4567-B3D8-E053D41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0516-8B7B-4D8F-B9A1-E165B117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CAB5F-B7C8-454F-A4BA-5F6365B3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7539-E9AD-4461-A44F-125BF43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259C-513B-499C-9010-80E03A4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EE2C-8212-488D-B4CE-6B2E976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6750-FE16-4752-A653-FF53C8E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3061-65C3-4A49-840B-C3B29A3A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D15-258D-4DD4-9D4E-EA85A80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A24D-8E12-4709-AC26-92AD5433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9C2-F0DD-44E1-9D83-0AE2EBE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581-E1D2-4622-867A-E3C6833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CD-2BA6-4D63-AC18-182F1FC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BF9-55EA-4123-A8AB-BFB955B2A8C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9869-D43D-44CC-A29A-842D57106EC4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45C-CD95-47C4-AB49-8A6BBF506267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5ED3-0BEB-4F50-8965-2A2C8694E161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7E6-7DCB-4978-A62B-71DE0EF5844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ЗАТО Г. СЕВЕРОМОРСК «ДЕТСКИЙ САД № 5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280" y="928440"/>
            <a:ext cx="7488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 класс для педагог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элементов фитбол-гимнастики в играх и игровых упражнениях с детьми старшего дошкольного возраста на физкультурных занятиях, в кружках и секциях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 по физкультур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ЗАТО г. Североморск «Детский сад № 5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жалиева  Ралина Сайфулловн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 Североморск-3, 2023 г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600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79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Э. Власенко. Фитбол- гимнастика в физическом воспитании детей дошкольного возраста. СПб, ООО Издательство «Детство – Пресс», 2020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.М. Соломенникова, Т.Н. Машина. Организация двигательной деятельности детей (образовательная область «Физическое развитие»): Фитбол- гимнастика, художественная гимнастика. Волгоград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.Я. Степаненкова. Сборник подвижных игр. Москва, 2018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360" y="11556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 - упругий резиновый мяч диаметром 40-95 см, для оздоровительной, лечебной физкультуры и спортивных тренировок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именен в Швейцарии в 60-х гг. XX в. в программах лечения для детей с ДЦП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вошел в процесс физической терапии для лечения параличей и парезов, потом - фитнес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- гимнастика относится к одному из видов детского фитнеса. Направлена не только на оздоровление, но и на гармоничное физическое и психическое развитие  детей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17492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67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79280" y="260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разнообразие игр и игровых упражнений  с фитбол -мячами  позволят использовать их  в различных формах физического воспитания детей дошкольного возраста: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филактики и коррекции различных заболеваний (опорно-двигательного аппарата (осанка, плоскостопие), внутренних органов и др.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двигательных способностей (силы, гибкости, координации движений, выносливости, быстроты, равновесия, вестибулярного аппарата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-ритмических и творческих способностей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Овал 1"/>
          <p:cNvSpPr/>
          <p:nvPr/>
        </p:nvSpPr>
        <p:spPr>
          <a:xfrm>
            <a:off x="3510000" y="1220760"/>
            <a:ext cx="2124000" cy="13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2e70"/>
                </a:solidFill>
                <a:latin typeface="Times New Roman"/>
                <a:ea typeface="Times New Roman"/>
              </a:rPr>
              <a:t>Формы физическ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0"/>
          <p:cNvSpPr/>
          <p:nvPr/>
        </p:nvSpPr>
        <p:spPr>
          <a:xfrm>
            <a:off x="6804000" y="2359080"/>
            <a:ext cx="2093760" cy="56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гровы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1"/>
          <p:cNvSpPr/>
          <p:nvPr/>
        </p:nvSpPr>
        <p:spPr>
          <a:xfrm>
            <a:off x="6948360" y="3357720"/>
            <a:ext cx="1914480" cy="71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тренняя гимна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2"/>
          <p:cNvSpPr/>
          <p:nvPr/>
        </p:nvSpPr>
        <p:spPr>
          <a:xfrm>
            <a:off x="179280" y="3357720"/>
            <a:ext cx="1770120" cy="71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д.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179280" y="2359080"/>
            <a:ext cx="248472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изкультур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5"/>
          <p:cNvSpPr/>
          <p:nvPr/>
        </p:nvSpPr>
        <p:spPr>
          <a:xfrm>
            <a:off x="1782720" y="4076640"/>
            <a:ext cx="204012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виж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6"/>
          <p:cNvSpPr/>
          <p:nvPr/>
        </p:nvSpPr>
        <p:spPr>
          <a:xfrm>
            <a:off x="4613400" y="4076640"/>
            <a:ext cx="223812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уги 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4"/>
          <p:cNvCxnSpPr>
            <a:stCxn id="221" idx="2"/>
            <a:endCxn id="225" idx="7"/>
          </p:cNvCxnSpPr>
          <p:nvPr/>
        </p:nvCxnSpPr>
        <p:spPr>
          <a:xfrm flipH="1">
            <a:off x="2300040" y="1887120"/>
            <a:ext cx="1210320" cy="5688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29" name="Прямая со стрелкой 7"/>
          <p:cNvCxnSpPr>
            <a:endCxn id="226" idx="7"/>
          </p:cNvCxnSpPr>
          <p:nvPr/>
        </p:nvCxnSpPr>
        <p:spPr>
          <a:xfrm flipH="1">
            <a:off x="3522240" y="2553840"/>
            <a:ext cx="618480" cy="16074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0" name="Прямая со стрелкой 14"/>
          <p:cNvCxnSpPr>
            <a:stCxn id="221" idx="3"/>
          </p:cNvCxnSpPr>
          <p:nvPr/>
        </p:nvCxnSpPr>
        <p:spPr>
          <a:xfrm flipH="1">
            <a:off x="1948680" y="2359080"/>
            <a:ext cx="1872360" cy="114192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1" name="Прямая со стрелкой 20"/>
          <p:cNvCxnSpPr/>
          <p:nvPr/>
        </p:nvCxnSpPr>
        <p:spPr>
          <a:xfrm>
            <a:off x="4932000" y="2553840"/>
            <a:ext cx="577080" cy="152316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2" name="Прямая со стрелкой 22"/>
          <p:cNvCxnSpPr>
            <a:stCxn id="221" idx="5"/>
          </p:cNvCxnSpPr>
          <p:nvPr/>
        </p:nvCxnSpPr>
        <p:spPr>
          <a:xfrm>
            <a:off x="5322600" y="2359080"/>
            <a:ext cx="1770840" cy="114192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3" name="Прямая со стрелкой 24"/>
          <p:cNvCxnSpPr>
            <a:stCxn id="221" idx="6"/>
          </p:cNvCxnSpPr>
          <p:nvPr/>
        </p:nvCxnSpPr>
        <p:spPr>
          <a:xfrm>
            <a:off x="5634000" y="1887120"/>
            <a:ext cx="1494720" cy="6786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229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ИГРОВЫЕ УПРАЖНЕНИЯ НА ФИТБОЛАХ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052640"/>
            <a:ext cx="91440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зных исходных положений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на мяче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около мяч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полу с опорой руками, ногами о мяч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спиной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на животе, руки в упоре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на животе с опорой о пол ногам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 на коленях с опорой руками/рукой о мяч (лицом, боком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 с опорой руками о мяч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в движени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4103640" cy="2195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" descr=""/>
          <p:cNvPicPr/>
          <p:nvPr/>
        </p:nvPicPr>
        <p:blipFill>
          <a:blip r:embed="rId2"/>
          <a:stretch/>
        </p:blipFill>
        <p:spPr>
          <a:xfrm>
            <a:off x="468360" y="4656240"/>
            <a:ext cx="3887640" cy="2189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3"/>
          <a:stretch/>
        </p:blipFill>
        <p:spPr>
          <a:xfrm>
            <a:off x="6767640" y="836640"/>
            <a:ext cx="1768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АНАТОМИЧЕСКОМУ ПРИЗНАК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1052640"/>
            <a:ext cx="7920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укрепления спины, рук и плечевого пояса.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вода стопы, ног и тазовой области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туловища, брюшного пояса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дыхание и расслабление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функции равновесия и вестибулярного аппарата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анки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97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376000" y="1197000"/>
            <a:ext cx="435636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яч подобран по росту ребенка: в положении сидя на мяче угол между бедром и голенью - 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санка в положении сидя на мяче : спина прямая, подбородок приподнят, живот втянут, плечи развёрнуты, согнутые ноги врозь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нятия проводятся на ковровом покрытии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Рисунок 1" descr=""/>
          <p:cNvPicPr/>
          <p:nvPr/>
        </p:nvPicPr>
        <p:blipFill>
          <a:blip r:embed="rId1"/>
          <a:srcRect l="-7974" t="0" r="7991" b="0"/>
          <a:stretch/>
        </p:blipFill>
        <p:spPr>
          <a:xfrm>
            <a:off x="6732720" y="1627200"/>
            <a:ext cx="2146320" cy="31719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5" descr=""/>
          <p:cNvPicPr/>
          <p:nvPr/>
        </p:nvPicPr>
        <p:blipFill>
          <a:blip r:embed="rId2"/>
          <a:stretch/>
        </p:blipFill>
        <p:spPr>
          <a:xfrm>
            <a:off x="0" y="1792440"/>
            <a:ext cx="23652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 УПРАЖНЕНИЯ С ФИТБОЛ МЯЧАМ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1100160"/>
            <a:ext cx="87854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охранения правильной осанк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едай мяч!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436680" y="2205000"/>
            <a:ext cx="3558960" cy="17654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5292720" y="2173320"/>
            <a:ext cx="3610080" cy="17971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3"/>
          <a:stretch/>
        </p:blipFill>
        <p:spPr>
          <a:xfrm>
            <a:off x="2987640" y="4437000"/>
            <a:ext cx="3164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Объект 1" descr=""/>
          <p:cNvPicPr/>
          <p:nvPr/>
        </p:nvPicPr>
        <p:blipFill>
          <a:blip r:embed="rId1"/>
          <a:stretch/>
        </p:blipFill>
        <p:spPr>
          <a:xfrm>
            <a:off x="757080" y="3068640"/>
            <a:ext cx="3678480" cy="2376360"/>
          </a:xfrm>
          <a:prstGeom prst="rect">
            <a:avLst/>
          </a:prstGeom>
          <a:ln w="0">
            <a:noFill/>
          </a:ln>
        </p:spPr>
      </p:pic>
      <p:pic>
        <p:nvPicPr>
          <p:cNvPr id="252" name="Объект 1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3905280" cy="2384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691920"/>
            <a:ext cx="7521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 УПРАЖНЕНИ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ФИТБОЛ МЯЧАМИ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ЯЧИЙ МЯЧ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77960" y="1844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.п. сидя, ноги вытянуть вперед, опираясь на руки. Мяч передавать ступн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5364000" y="1773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.п. лежа на животе, руки вытянуть вперед. Мяч передавать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65040"/>
            <a:ext cx="7804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ГРЫ С ФИТБОЛ- МЯЧО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ячий мяч»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акон кусает хвост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останься без мяча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ятнашки сидя»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ь и ночь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отники и утки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йцы и волк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свой мяч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пей передать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п, хлоп, раз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rcRect l="0" t="-2212" r="27535" b="2230"/>
          <a:stretch/>
        </p:blipFill>
        <p:spPr>
          <a:xfrm>
            <a:off x="5264280" y="1268280"/>
            <a:ext cx="2946240" cy="19386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"/>
          <p:cNvPicPr/>
          <p:nvPr/>
        </p:nvPicPr>
        <p:blipFill>
          <a:blip r:embed="rId2"/>
          <a:stretch/>
        </p:blipFill>
        <p:spPr>
          <a:xfrm>
            <a:off x="5435640" y="3736800"/>
            <a:ext cx="27748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USER</cp:lastModifiedBy>
  <dcterms:modified xsi:type="dcterms:W3CDTF">2023-11-21T08:13:09Z</dcterms:modified>
  <cp:revision>800</cp:revision>
  <dc:subject/>
  <dc:title>Презентация PowerPoint</dc:title>
</cp:coreProperties>
</file>