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8AA-C488-48A7-B43A-9FD84626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ABF-165F-4A7F-BAF1-63547017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10B-5999-4EE4-BE90-ADAB64D5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7596-48CA-4D5C-9B02-84A3B9CA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E9AD-63F2-4061-9A63-2125A90B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6BA-7CB7-460C-9782-9C126E1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488B-A9C2-48DD-8B70-F9455503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839C-DF9B-4E7E-B661-D836ABEB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C976-55D3-406A-AAEA-E54B2288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90A6-03AD-4C16-9CBC-10EE3DE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D660-DA13-4AC9-8E5D-0473A5ED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F2F-BFB8-43D1-8D7C-517D5FCD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64A5-6CF2-4CD1-A98F-51CD1AD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E110-FC48-4049-B0EB-68EF5BC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1BE-3F2B-44BA-B8AD-A29925A5E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6F4A-08A4-4328-B549-53900D74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AFA7-13F2-4410-8613-923DCA2F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B8F1F-2B3C-4A75-A490-8A8362EA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54B66-319A-4F07-9B40-98E6CBB4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B7EFD-54EB-4728-AD82-767B8704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97B17-B156-45F1-A0BB-7218B1E7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45CFE-6249-43F7-8137-D0E1479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DD5-BACB-4B02-BCCD-C6554F38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83C2B-7AFE-4E33-801F-BF2F4FBC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F68B8-C2D1-4E05-98FC-67B2CE77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CD7A-3F34-4B24-906A-59CD851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7B92-2E6B-4EEC-A8EB-BE7D7028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7522-834D-45BA-82A1-C06B00C6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A71D-87B0-467E-B0B6-261E7718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4902-DE38-4968-92CF-AD9E5D11E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B92E3-17C8-4A32-AB5A-B786CFE5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B4B6-72A1-4AED-9503-57879A31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ECFE8-69B7-456B-B42E-E776761E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F3F-953C-4A9E-AC85-D1D881B7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5ECC-3D4F-4CDA-85D0-73AEDDBB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D0C55-C2FB-4579-A582-73CEFF03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AB4D3-63CB-419B-9EBF-BA4339B3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D71F9-E050-4855-B56A-3B2392E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57219-00B8-4AA6-9593-5315F0B3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58326-4816-4EE4-8F50-0CE4DBF9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1B3A-2844-448E-AF9C-8EEEC47C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2B756-8EED-49AE-BC0B-DD6E11CB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8ED31-E850-45BB-B07B-B886F58D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6A9A2-4A73-4F9F-B2D8-96F0B31D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3F0-5876-4159-9783-481A86ED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52D42-D895-4FBB-A872-40797AEF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5C52D-54C7-4B6D-8B5E-3CDE926A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DA4F9-92F1-43FA-9115-31FD758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EF6F7-9FFA-45BD-BFAF-A4270ABA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F8510-D9D0-461E-B4DD-54590AA5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5495C-454A-4DDA-B285-05BEDB4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61480-998A-4FF1-A79D-61984149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2C91F-9ED9-4322-85B4-305A7B80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C28FB-A148-46E7-88FB-1DC7D2B9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74388-7BE7-413C-BB49-493DDB58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6DF-513A-42E2-8E98-08182D96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CCF3-9763-477F-848F-ADE1D968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ED0-E32F-4D9E-952C-4F19EC01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A8A-D909-48FF-9054-FEC08F0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6A8-F938-494B-9276-368F197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EE52-B1CB-4332-9490-7600CF7106CC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0515-B0C6-4C8C-AB78-107420559590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E68D-126B-4474-9C2F-19126F4A5B7A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6551-6699-407D-9DD5-6137C4EFE59C}" type="slidenum">
              <a:rPr b="0" lang="ru-RU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9A5F-D9FE-4F41-A93C-DA4CCF3ABF38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ЗАТО Г. СЕВЕРОМОРСК «ДЕТСКИЙ САД № 5»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280" y="928440"/>
            <a:ext cx="748836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 класс для педагог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ользование элементов фитбол-гимнастики в играх и игровых упражнениях с детьми старшего дошкольного возраста на физкультурных занятиях, в кружках и секциях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тор по физкультур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ДОУ ЗАТО г. Североморск «Детский сад № 5»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нжалиева  Ралина Сайфулловна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40120" indent="-2401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п. Североморск-3, 2023 г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60096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1" name="Рисунок 1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796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: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Э. Власенко. Фитбол- гимнастика в физическом воспитании детей дошкольного возраста. СПб, ООО Издательство «Детство – Пресс», 2020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.М. Соломенникова, Т.Н. Машина. Организация двигательной деятельности детей (образовательная область «Физическое развитие»): Фитбол- гимнастика, художественная гимнастика. Волгоград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Э.Я. Степаненкова. Сборник подвижных игр. Москва, 2018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68360" y="11556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 - упругий резиновый мяч диаметром 40-95 см, для оздоровительной, лечебной физкультуры и спортивных тренировок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применен в Швейцарии в 60-х гг. XX в. в программах лечения для детей с ДЦП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ее вошел в процесс физической терапии для лечения параличей и парезов, потом - фитнес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тбол- гимнастика относится к одному из видов детского фитнеса. Направлена не только на оздоровление, но и на гармоничное физическое и психическое развитие  детей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8" name="Рисунок 1" descr=""/>
          <p:cNvPicPr/>
          <p:nvPr/>
        </p:nvPicPr>
        <p:blipFill>
          <a:blip r:embed="rId1"/>
          <a:stretch/>
        </p:blipFill>
        <p:spPr>
          <a:xfrm>
            <a:off x="468360" y="3716280"/>
            <a:ext cx="4174920" cy="25923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5292720" y="3716280"/>
            <a:ext cx="3673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79280" y="26028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разнообразие игр и игровых упражнений  с фитбол -мячами  позволят использовать их  в различных формах физического воспитания детей дошкольного возраста: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филактики и коррекции различных заболеваний (опорно-двигательного аппарата (осанка, плоскостопие), внутренних органов и др.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двигательных способностей (силы, гибкости, координации движений, выносливости, быстроты, равновесия, вестибулярного аппарата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узыкально-ритмических и творческих способностей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93600" indent="-93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Овал 1"/>
          <p:cNvSpPr/>
          <p:nvPr/>
        </p:nvSpPr>
        <p:spPr>
          <a:xfrm>
            <a:off x="3510000" y="1220760"/>
            <a:ext cx="2124000" cy="13334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a2e70"/>
                </a:solidFill>
                <a:latin typeface="Times New Roman"/>
                <a:ea typeface="Times New Roman"/>
              </a:rPr>
              <a:t>Формы физического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0"/>
          <p:cNvSpPr/>
          <p:nvPr/>
        </p:nvSpPr>
        <p:spPr>
          <a:xfrm>
            <a:off x="6804000" y="2359080"/>
            <a:ext cx="2093760" cy="56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гровы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1"/>
          <p:cNvSpPr/>
          <p:nvPr/>
        </p:nvSpPr>
        <p:spPr>
          <a:xfrm>
            <a:off x="6948360" y="3357720"/>
            <a:ext cx="1914480" cy="71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Утренняя гимна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2"/>
          <p:cNvSpPr/>
          <p:nvPr/>
        </p:nvSpPr>
        <p:spPr>
          <a:xfrm>
            <a:off x="179280" y="3357720"/>
            <a:ext cx="1770120" cy="718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Инд.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3"/>
          <p:cNvSpPr/>
          <p:nvPr/>
        </p:nvSpPr>
        <p:spPr>
          <a:xfrm>
            <a:off x="179280" y="2359080"/>
            <a:ext cx="2484720" cy="663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Физкультур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Овал 15"/>
          <p:cNvSpPr/>
          <p:nvPr/>
        </p:nvSpPr>
        <p:spPr>
          <a:xfrm>
            <a:off x="1782720" y="4076640"/>
            <a:ext cx="204012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Подвижные 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16"/>
          <p:cNvSpPr/>
          <p:nvPr/>
        </p:nvSpPr>
        <p:spPr>
          <a:xfrm>
            <a:off x="4613400" y="4076640"/>
            <a:ext cx="2238120" cy="576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6e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осуги Празд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4"/>
          <p:cNvCxnSpPr>
            <a:stCxn id="221" idx="2"/>
            <a:endCxn id="225" idx="7"/>
          </p:cNvCxnSpPr>
          <p:nvPr/>
        </p:nvCxnSpPr>
        <p:spPr>
          <a:xfrm flipH="1">
            <a:off x="2300040" y="1887120"/>
            <a:ext cx="1210320" cy="5688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29" name="Прямая со стрелкой 7"/>
          <p:cNvCxnSpPr>
            <a:endCxn id="226" idx="7"/>
          </p:cNvCxnSpPr>
          <p:nvPr/>
        </p:nvCxnSpPr>
        <p:spPr>
          <a:xfrm flipH="1">
            <a:off x="3522240" y="2553840"/>
            <a:ext cx="618480" cy="16074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0" name="Прямая со стрелкой 14"/>
          <p:cNvCxnSpPr>
            <a:stCxn id="221" idx="3"/>
          </p:cNvCxnSpPr>
          <p:nvPr/>
        </p:nvCxnSpPr>
        <p:spPr>
          <a:xfrm flipH="1">
            <a:off x="1948680" y="2359080"/>
            <a:ext cx="1872360" cy="114192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1" name="Прямая со стрелкой 20"/>
          <p:cNvCxnSpPr/>
          <p:nvPr/>
        </p:nvCxnSpPr>
        <p:spPr>
          <a:xfrm>
            <a:off x="4932000" y="2553840"/>
            <a:ext cx="577080" cy="152316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2" name="Прямая со стрелкой 22"/>
          <p:cNvCxnSpPr>
            <a:stCxn id="221" idx="5"/>
          </p:cNvCxnSpPr>
          <p:nvPr/>
        </p:nvCxnSpPr>
        <p:spPr>
          <a:xfrm>
            <a:off x="5322600" y="2359080"/>
            <a:ext cx="1770840" cy="114192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233" name="Прямая со стрелкой 24"/>
          <p:cNvCxnSpPr>
            <a:stCxn id="221" idx="6"/>
          </p:cNvCxnSpPr>
          <p:nvPr/>
        </p:nvCxnSpPr>
        <p:spPr>
          <a:xfrm>
            <a:off x="5634000" y="1887120"/>
            <a:ext cx="1494720" cy="67860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259920"/>
            <a:ext cx="8229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Franklin Gothic Medium"/>
              </a:rPr>
              <a:t>ИГРОВЫЕ УПРАЖНЕНИЯ НА ФИТБОЛАХ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052640"/>
            <a:ext cx="9144000" cy="55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разных исходных положений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на мяче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 около мяча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полу с опорой руками, ногами о мяч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спиной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на животе, руки в упоре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 на мяче на животе с опорой о пол ногам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 на коленях с опорой руками/рукой о мяч (лицом, боком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 с опорой руками о мяч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в движении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6" name="Рисунок 1" descr=""/>
          <p:cNvPicPr/>
          <p:nvPr/>
        </p:nvPicPr>
        <p:blipFill>
          <a:blip r:embed="rId1"/>
          <a:stretch/>
        </p:blipFill>
        <p:spPr>
          <a:xfrm>
            <a:off x="4716360" y="4653000"/>
            <a:ext cx="4103640" cy="219564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1" descr=""/>
          <p:cNvPicPr/>
          <p:nvPr/>
        </p:nvPicPr>
        <p:blipFill>
          <a:blip r:embed="rId2"/>
          <a:stretch/>
        </p:blipFill>
        <p:spPr>
          <a:xfrm>
            <a:off x="468360" y="4656240"/>
            <a:ext cx="3887640" cy="21891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" descr=""/>
          <p:cNvPicPr/>
          <p:nvPr/>
        </p:nvPicPr>
        <p:blipFill>
          <a:blip r:embed="rId3"/>
          <a:stretch/>
        </p:blipFill>
        <p:spPr>
          <a:xfrm>
            <a:off x="6767640" y="836640"/>
            <a:ext cx="1768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АНАТОМИЧЕСКОМУ ПРИЗНАК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9640" y="1052640"/>
            <a:ext cx="7920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укрепления спины, рук и плечевого пояса. 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вода стопы, ног и тазовой области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туловища, брюшного пояса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на дыхание и расслабление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функции равновесия и вестибулярного аппарата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осанки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1" name="Рисунок 1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697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376000" y="1197000"/>
            <a:ext cx="435636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Мяч подобран по росту ребенка: в положении сидя на мяче угол между бедром и голенью - 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санка в положении сидя на мяче : спина прямая, подбородок приподнят, живот втянут, плечи развёрнуты, согнутые ноги врозь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нятия проводятся на ковровом покрытии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4" name="Рисунок 1" descr=""/>
          <p:cNvPicPr/>
          <p:nvPr/>
        </p:nvPicPr>
        <p:blipFill>
          <a:blip r:embed="rId1"/>
          <a:srcRect l="-7974" t="0" r="7991" b="0"/>
          <a:stretch/>
        </p:blipFill>
        <p:spPr>
          <a:xfrm>
            <a:off x="6732720" y="1627200"/>
            <a:ext cx="2146320" cy="317196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5" descr=""/>
          <p:cNvPicPr/>
          <p:nvPr/>
        </p:nvPicPr>
        <p:blipFill>
          <a:blip r:embed="rId2"/>
          <a:stretch/>
        </p:blipFill>
        <p:spPr>
          <a:xfrm>
            <a:off x="0" y="1792440"/>
            <a:ext cx="23652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 УПРАЖНЕНИЯ С ФИТБОЛ МЯЧАМ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1100160"/>
            <a:ext cx="87854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я для сохранения правильной осанк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редай мяч!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Рисунок 2" descr=""/>
          <p:cNvPicPr/>
          <p:nvPr/>
        </p:nvPicPr>
        <p:blipFill>
          <a:blip r:embed="rId1"/>
          <a:stretch/>
        </p:blipFill>
        <p:spPr>
          <a:xfrm>
            <a:off x="436680" y="2205000"/>
            <a:ext cx="3558960" cy="176544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5292720" y="2173320"/>
            <a:ext cx="3610080" cy="17971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3"/>
          <a:stretch/>
        </p:blipFill>
        <p:spPr>
          <a:xfrm>
            <a:off x="2987640" y="4437000"/>
            <a:ext cx="316404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Объект 1" descr=""/>
          <p:cNvPicPr/>
          <p:nvPr/>
        </p:nvPicPr>
        <p:blipFill>
          <a:blip r:embed="rId1"/>
          <a:stretch/>
        </p:blipFill>
        <p:spPr>
          <a:xfrm>
            <a:off x="757080" y="3068640"/>
            <a:ext cx="3678480" cy="2376360"/>
          </a:xfrm>
          <a:prstGeom prst="rect">
            <a:avLst/>
          </a:prstGeom>
          <a:ln w="0">
            <a:noFill/>
          </a:ln>
        </p:spPr>
      </p:pic>
      <p:pic>
        <p:nvPicPr>
          <p:cNvPr id="252" name="Объект 1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3905280" cy="2384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691920"/>
            <a:ext cx="75218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ОВЫЕ  УПРАЖНЕНИЯ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С ФИТБОЛ МЯЧАМИ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ЯЧИЙ МЯЧ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77960" y="184464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.п. сидя, ноги вытянуть вперед, опираясь на руки. Мяч передавать ступн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4"/>
          <p:cNvSpPr/>
          <p:nvPr/>
        </p:nvSpPr>
        <p:spPr>
          <a:xfrm>
            <a:off x="5364000" y="177336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.п. лежа на животе, руки вытянуть вперед. Мяч передавать ру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65040"/>
            <a:ext cx="7804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ВИЖНЫЕ ИГРЫ С ФИТБОЛ- МЯЧО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орячий мяч»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ракон кусает хвост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останься без мяча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ятнашки сидя»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ь и ночь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хотники и утки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йцы и волк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свой мяч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спей передать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топ, хлоп, раз»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rcRect l="0" t="-2212" r="27535" b="2230"/>
          <a:stretch/>
        </p:blipFill>
        <p:spPr>
          <a:xfrm>
            <a:off x="5264280" y="1268280"/>
            <a:ext cx="2946240" cy="19386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"/>
          <p:cNvPicPr/>
          <p:nvPr/>
        </p:nvPicPr>
        <p:blipFill>
          <a:blip r:embed="rId2"/>
          <a:stretch/>
        </p:blipFill>
        <p:spPr>
          <a:xfrm>
            <a:off x="5435640" y="3736800"/>
            <a:ext cx="277488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3T10:23:08Z</dcterms:created>
  <dc:creator>Черноиванова Наталья</dc:creator>
  <dc:description/>
  <dc:language>en-US</dc:language>
  <cp:lastModifiedBy>USER</cp:lastModifiedBy>
  <dcterms:modified xsi:type="dcterms:W3CDTF">2023-11-21T08:13:09Z</dcterms:modified>
  <cp:revision>800</cp:revision>
  <dc:subject/>
  <dc:title>Презентация PowerPoint</dc:title>
</cp:coreProperties>
</file>