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E93-81B9-48FC-B00A-15831027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4A0-3202-4A5B-BD27-B12CB971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1E2-1E8D-4195-8E04-20C257FF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FC7E-1153-4BC3-8A1D-EF74C1DF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1829-FFBE-402C-9633-EABA8C3A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8E60-4038-4AA3-A2D7-F5F4CF1D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4939-AF01-4937-AAB5-F7C31E83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A838-59F3-42A1-A69B-9F914069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FB48-2397-488B-A33D-23151553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3DDE-9AB7-4486-B55F-D17F0D132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F4EE-3ABB-4C9C-905A-FA065907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A1D-C5F2-41E6-ACB2-975471F0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DFA0-A8B3-4D45-B239-671915EB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5BAA-9B80-4240-92AD-5492B495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0E16-1605-4E62-9C86-45D0E809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DEF5-E034-466E-A4A9-1EF4A9BE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8E65-8686-45B3-AAEE-6510D1C1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2DB-70B2-4612-961E-667654FA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CCC-333B-4F4A-9BB6-1E54EC3B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946-E390-42E4-9928-42DC7265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F43C-AD88-43DE-A2F6-4BD15213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7763-ECBD-4455-994B-BD30EF2C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C14-AB3E-4DFE-9AE2-7D9D6409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2EC1-29B4-4398-B4F7-648C34E1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6D9E-E595-4173-9D67-4E89D50449A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07C4-523C-4995-816D-DBFE7878762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Adjectives and Preposi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794880" y="1857240"/>
            <a:ext cx="16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on w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796320" y="24289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ple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794520" y="3071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prou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794160" y="371484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03000"/>
                </a:solidFill>
                <a:latin typeface="Arial"/>
              </a:rPr>
              <a:t>to be k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793800" y="43578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95960" y="50720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interes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95240" y="58453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simi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414520" y="306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90720" y="185724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777400" y="2421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484360" y="37162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62728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919240" y="50846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630520" y="5805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Adjectives and Preposi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95960" y="185724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are secre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795960" y="242892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worri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796680" y="307188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frighten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94880" y="3714840"/>
            <a:ext cx="16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famous </a:t>
            </a:r>
            <a:r>
              <a:rPr b="0" lang="en-US" sz="1800" spc="-1" strike="noStrike">
                <a:solidFill>
                  <a:srgbClr val="303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793800" y="4357800"/>
            <a:ext cx="145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ng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25480" y="507204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differ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12600" y="573264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ve good (bad) relationship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990880" y="3068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790720" y="185724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777400" y="24210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71640" y="37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627280" y="4365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916360" y="50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4356000" y="5732640"/>
            <a:ext cx="16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Adjectives and Preposi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796680" y="185724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frightene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792360" y="24289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rgue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795240" y="307188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exc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993400" y="3068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134520" y="1844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775960" y="24210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Fill  in  prepo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801720" y="1857240"/>
            <a:ext cx="40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similar  ________  my br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813240" y="2428920"/>
            <a:ext cx="47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dad is interested  __________ footba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813960" y="3071880"/>
            <a:ext cx="51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re goo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the same school su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811080" y="3714840"/>
            <a:ext cx="419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keen  _______ reading boo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07120" y="435780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get on well  _____ my sibl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880200" y="5072040"/>
            <a:ext cx="53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brother’s  hobby is different  ________ m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820440" y="5845320"/>
            <a:ext cx="70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enagers are not worried__________ their brothers and si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627280" y="306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486520" y="184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780000" y="2421000"/>
            <a:ext cx="3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771640" y="37162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556000" y="436572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427640" y="508464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073400" y="5805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Fill  in  prepo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18280" y="1857240"/>
            <a:ext cx="56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country is proud ________ Russian sports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879840" y="242892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friend is frightened  _____  his English exam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882360" y="3071880"/>
            <a:ext cx="56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good relationships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 my classm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862560" y="3714840"/>
            <a:ext cx="46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dad is pleased _______ his new c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877680" y="4357800"/>
            <a:ext cx="49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hi is famous  _____ its beautiful pl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875880" y="5072040"/>
            <a:ext cx="45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share secrets ________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881640" y="5845320"/>
            <a:ext cx="54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eenagers are excited __________ mus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851280" y="306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564000" y="1844640"/>
            <a:ext cx="5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780000" y="24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059280" y="37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916360" y="436572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419640" y="501336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073400" y="5805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5744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Comic Sans MS"/>
              </a:rPr>
              <a:t>Fill  in  preposi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15040" y="1857240"/>
            <a:ext cx="54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cher gets angry________ my ho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4" descr="2Dsumka"/>
          <p:cNvPicPr/>
          <p:nvPr/>
        </p:nvPicPr>
        <p:blipFill>
          <a:blip r:embed="rId1"/>
          <a:stretch/>
        </p:blipFill>
        <p:spPr>
          <a:xfrm>
            <a:off x="642960" y="142920"/>
            <a:ext cx="1469880" cy="12999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805320" y="2428920"/>
            <a:ext cx="34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ver argue   _____ad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62728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564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4:56:17Z</dcterms:created>
  <dc:creator>Loner-XP</dc:creator>
  <dc:description/>
  <dc:language>en-US</dc:language>
  <cp:lastModifiedBy>user</cp:lastModifiedBy>
  <dcterms:modified xsi:type="dcterms:W3CDTF">2023-11-29T10:54:57Z</dcterms:modified>
  <cp:revision>63</cp:revision>
  <dc:subject/>
  <dc:title>Present Simple</dc:title>
</cp:coreProperties>
</file>