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F26-01F1-47C8-B8B4-C91BC68F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FA4-37C2-422D-8CBC-D27FA76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EA2-F01A-43E7-BA1A-1A80EEB2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797-0166-4479-B5A2-611B30DC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71E-929F-4E96-8D9C-87786721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01BD-49D3-48F0-94FA-37E547A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D525-CFC2-48E7-B9C5-AAA6585B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7BE-018C-4156-8486-DA538DDE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89AE-BD4F-46C7-8391-71B37114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82E4-537D-4486-A2F1-73D34299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DB5F-9531-4471-8EAC-FBEBA331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295-A0DC-4133-9C9B-1618F46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553E-A375-4143-AC30-AB3A04AB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29DD-F462-468D-B04A-120A290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A55-105C-4046-ABE2-683C4220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6C41-A44F-4A0B-A70C-578D9332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0A69-AE72-43E5-B37A-B53DE4AC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28C-E701-4F66-ABE9-5F04CDA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322-1A92-4A5E-9032-190DB7E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AF3-5078-4646-96BE-2CF7D5C1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FFA-32A8-49AE-A3F1-57A554E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152-4834-497E-8FB9-F1A9D03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DD9-9B47-4561-A024-FE50401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D4F-0283-404F-8614-2767324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C52D-137B-41B0-992B-24F9CA0313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D68E-8D0E-44B5-865E-E6EA5CE7FC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Adjectives and Preposi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94880" y="185724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on w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796320" y="2428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le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94520" y="3071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ro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94160" y="371484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03000"/>
                </a:solidFill>
                <a:latin typeface="Arial"/>
              </a:rPr>
              <a:t>to be k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93800" y="43578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95960" y="50720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interes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95240" y="58453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414520" y="306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90720" y="18572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777400" y="242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84360" y="3716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62728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919240" y="50846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305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Adjectives and Preposi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95960" y="18572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are secre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795960" y="24289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worr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96680" y="30718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frighten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94880" y="3714840"/>
            <a:ext cx="16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famous </a:t>
            </a:r>
            <a:r>
              <a:rPr b="0" lang="en-US" sz="1800" spc="-1" strike="noStrike">
                <a:solidFill>
                  <a:srgbClr val="303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93800" y="4357800"/>
            <a:ext cx="14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ng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25480" y="507204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differ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12600" y="573264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good (bad) relationshi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90880" y="306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790720" y="18572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777400" y="242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71640" y="37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2728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1636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356000" y="573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Adjectives and Preposi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796680" y="18572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frighten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92360" y="24289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rgue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95240" y="30718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exc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93400" y="306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134520" y="184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775960" y="2421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 in  pre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01720" y="185724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similar  ________  my br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813240" y="242892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ad is interested  __________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13960" y="30718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o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the same school su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11080" y="371484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keen  _______ reading 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07120" y="435780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et on well  _____ my sibl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80200" y="507204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brother’s  hobby is different  ________ 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20440" y="5845320"/>
            <a:ext cx="70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agers are not worried__________ their brothers and si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2728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486520" y="184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780000" y="242100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771640" y="3716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556000" y="43657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27640" y="50846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073400" y="5805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 in  pre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18280" y="185724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country is proud ________ Russian sports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879840" y="242892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friend is frightened  _____  his English exa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82360" y="3071880"/>
            <a:ext cx="56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good relationships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my class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62560" y="3714840"/>
            <a:ext cx="46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ad is pleased _______ his new 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77680" y="4357800"/>
            <a:ext cx="49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hi is famous  _____ its beautiful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75880" y="5072040"/>
            <a:ext cx="45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share secrets ________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81640" y="584532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enagers are excited __________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85128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564000" y="1844640"/>
            <a:ext cx="5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78000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059280" y="37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16360" y="43657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419640" y="50133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073400" y="5805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 in  pre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15040" y="185724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gets angry________ my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805320" y="2428920"/>
            <a:ext cx="34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ver argue   _____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62728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564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4:56:17Z</dcterms:created>
  <dc:creator>Loner-XP</dc:creator>
  <dc:description/>
  <dc:language>en-US</dc:language>
  <cp:lastModifiedBy>user</cp:lastModifiedBy>
  <dcterms:modified xsi:type="dcterms:W3CDTF">2023-11-29T10:54:57Z</dcterms:modified>
  <cp:revision>63</cp:revision>
  <dc:subject/>
  <dc:title>Present Simple</dc:title>
</cp:coreProperties>
</file>