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179-F027-437B-8E6E-D17AE0B2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5BE-CF05-448D-AD7E-60FD46F7D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BAB5-208D-44A3-B0E6-53AC7D6D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875-FD70-42C7-8615-AAC13ADC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F500-BDBE-4EC0-AE1C-D779439C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424E-815C-4F08-BEEF-BD31602D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0DC-BCF7-403C-AE4A-C91B8949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F05-E18A-4C4D-966A-CE77CEC7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A788-FCE9-4827-AF6E-AB6E8E66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DC42-26D8-45CB-902C-23EF5229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E81-80C4-41BE-8B40-B348E120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7F6-9B3F-453E-908B-254E60E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8829-D15A-47E1-8AF2-CAB2A68B3595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Излучение и поглощение света атомом. Виды спектров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63640" y="4616280"/>
            <a:ext cx="601164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Спектры поглощения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12680" y="4076640"/>
            <a:ext cx="5432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12680" y="4292640"/>
            <a:ext cx="5432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12680" y="4508640"/>
            <a:ext cx="543240" cy="0"/>
          </a:xfrm>
          <a:prstGeom prst="line">
            <a:avLst/>
          </a:prstGeom>
          <a:ln w="284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3568680"/>
            <a:ext cx="1157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baseline="-25000">
                <a:solidFill>
                  <a:srgbClr val="0000cc"/>
                </a:solidFill>
                <a:latin typeface="Arial"/>
              </a:rPr>
              <a:t>Белый свет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55640" y="3033720"/>
            <a:ext cx="6337080" cy="2341440"/>
            <a:chOff x="1655640" y="3033720"/>
            <a:chExt cx="6337080" cy="2341440"/>
          </a:xfrm>
        </p:grpSpPr>
        <p:sp>
          <p:nvSpPr>
            <p:cNvPr id="175" name=""/>
            <p:cNvSpPr/>
            <p:nvPr/>
          </p:nvSpPr>
          <p:spPr>
            <a:xfrm>
              <a:off x="1655640" y="3395880"/>
              <a:ext cx="2061720" cy="18907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Исследуемое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вещество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70720" y="4384800"/>
              <a:ext cx="609480" cy="32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56880" y="3665520"/>
              <a:ext cx="2139840" cy="135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Спектральный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800" spc="-1" strike="noStrike" baseline="-25000">
                  <a:solidFill>
                    <a:srgbClr val="0000cc"/>
                  </a:solidFill>
                  <a:latin typeface="Arial"/>
                </a:rPr>
                <a:t>аппарат</a:t>
              </a:r>
              <a:endParaRPr b="0" lang="en-US" sz="2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70880" y="4384800"/>
              <a:ext cx="609480" cy="32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7040" y="3033720"/>
              <a:ext cx="1440" cy="23414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88880" y="3033720"/>
              <a:ext cx="303840" cy="234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81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поглощения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Линейчатый спектр поглощения Солнца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697800" cy="100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76360" y="4508640"/>
            <a:ext cx="6335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924360" y="4581360"/>
            <a:ext cx="1539720" cy="1440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2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19280" y="1736640"/>
            <a:ext cx="662436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Постулаты Бора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одель излучения и поглощения свет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Излучение и поглощение свет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иды спектров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Сплошной спектр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Линейчатый спектр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лосатый (молекулярный) спектр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Спектры поглощения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Линейчатый спектр поглощения Солнца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endshow"/>
          </p:cNvPr>
          <p:cNvSpPr/>
          <p:nvPr/>
        </p:nvSpPr>
        <p:spPr>
          <a:xfrm>
            <a:off x="7524720" y="616572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Постулаты Бора (1913 г.)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521000"/>
            <a:ext cx="3564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тулат стационарных состояний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Атомная система может находиться в особых стационарных состояниях, каждому из которых соответствует определенная энергия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 W</a:t>
            </a:r>
            <a:r>
              <a:rPr b="0" i="1" lang="en-US" sz="1800" spc="-1" strike="noStrike" baseline="-25000">
                <a:solidFill>
                  <a:srgbClr val="0000cc"/>
                </a:solidFill>
                <a:latin typeface="Arial"/>
              </a:rPr>
              <a:t>n. 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В стационарном состоянии атом не излучает.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24360" y="1592280"/>
            <a:ext cx="35654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авило частот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Излучение и поглощение энергии атомом происходит при переходе атома из одного стационарного состояния в другое. Излучение – при переходе атома из стационарного состояния  с большей энергией в стационарное состояние с меньшей энергией. Поглощение – наоборот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327640" y="5229360"/>
                <a:ext cx="1739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3024360" y="2673360"/>
            <a:ext cx="3024000" cy="2879640"/>
            <a:chOff x="3024360" y="2673360"/>
            <a:chExt cx="3024000" cy="2879640"/>
          </a:xfrm>
        </p:grpSpPr>
        <p:grpSp>
          <p:nvGrpSpPr>
            <p:cNvPr id="56" name=""/>
            <p:cNvGrpSpPr/>
            <p:nvPr/>
          </p:nvGrpSpPr>
          <p:grpSpPr>
            <a:xfrm>
              <a:off x="3024360" y="2673360"/>
              <a:ext cx="3024000" cy="2879640"/>
              <a:chOff x="3024360" y="2673360"/>
              <a:chExt cx="3024000" cy="2879640"/>
            </a:xfrm>
          </p:grpSpPr>
          <p:sp>
            <p:nvSpPr>
              <p:cNvPr id="57" name=""/>
              <p:cNvSpPr/>
              <p:nvPr/>
            </p:nvSpPr>
            <p:spPr>
              <a:xfrm>
                <a:off x="3024360" y="2673360"/>
                <a:ext cx="3024000" cy="2879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0720" y="3537000"/>
                <a:ext cx="1223640" cy="1223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248000" y="3825720"/>
                <a:ext cx="647280" cy="646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37080" y="4113000"/>
                <a:ext cx="70920" cy="71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4443480" y="4044960"/>
              <a:ext cx="252360" cy="25236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241800" y="57834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897360" y="321156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Модель излучения </a:t>
            </a: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и поглощения света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5373720"/>
            <a:ext cx="30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76720" y="4127400"/>
            <a:ext cx="144360" cy="14472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325960" y="2003400"/>
            <a:ext cx="748440" cy="892800"/>
            <a:chOff x="2325960" y="2003400"/>
            <a:chExt cx="748440" cy="89280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2593800" y="2003400"/>
                  <a:ext cx="45252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69" name=""/>
            <p:cNvGrpSpPr/>
            <p:nvPr/>
          </p:nvGrpSpPr>
          <p:grpSpPr>
            <a:xfrm>
              <a:off x="2325960" y="2116800"/>
              <a:ext cx="748440" cy="779400"/>
              <a:chOff x="2325960" y="2116800"/>
              <a:chExt cx="748440" cy="779400"/>
            </a:xfrm>
          </p:grpSpPr>
          <p:cxnSp>
            <p:nvCxnSpPr>
              <p:cNvPr id="70" name=""/>
              <p:cNvCxnSpPr/>
              <p:nvPr/>
            </p:nvCxnSpPr>
            <p:spPr>
              <a:xfrm>
                <a:off x="2825280" y="2637000"/>
                <a:ext cx="249480" cy="259560"/>
              </a:xfrm>
              <a:prstGeom prst="curvedConnector4">
                <a:avLst>
                  <a:gd name="adj1" fmla="val 28468"/>
                  <a:gd name="adj2" fmla="val 49583"/>
                </a:avLst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</p:cxnSp>
          <p:cxnSp>
            <p:nvCxnSpPr>
              <p:cNvPr id="71" name=""/>
              <p:cNvCxnSpPr/>
              <p:nvPr/>
            </p:nvCxnSpPr>
            <p:spPr>
              <a:xfrm>
                <a:off x="2575440" y="2377800"/>
                <a:ext cx="250200" cy="259560"/>
              </a:xfrm>
              <a:prstGeom prst="curvedConnector4">
                <a:avLst>
                  <a:gd name="adj1" fmla="val 28386"/>
                  <a:gd name="adj2" fmla="val 49722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  <p:cxnSp>
            <p:nvCxnSpPr>
              <p:cNvPr id="72" name=""/>
              <p:cNvCxnSpPr/>
              <p:nvPr/>
            </p:nvCxnSpPr>
            <p:spPr>
              <a:xfrm>
                <a:off x="2325960" y="2116800"/>
                <a:ext cx="250200" cy="261000"/>
              </a:xfrm>
              <a:prstGeom prst="curvedConnector4">
                <a:avLst>
                  <a:gd name="adj1" fmla="val 28386"/>
                  <a:gd name="adj2" fmla="val 50000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  <p:sp>
        <p:nvSpPr>
          <p:cNvPr id="73" name=""/>
          <p:cNvSpPr/>
          <p:nvPr/>
        </p:nvSpPr>
        <p:spPr>
          <a:xfrm>
            <a:off x="3276720" y="4869000"/>
            <a:ext cx="144360" cy="144360"/>
          </a:xfrm>
          <a:prstGeom prst="ellipse">
            <a:avLst/>
          </a:prstGeom>
          <a:solidFill>
            <a:srgbClr val="9900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269240" y="4149720"/>
            <a:ext cx="748440" cy="892800"/>
            <a:chOff x="4269240" y="4149720"/>
            <a:chExt cx="748440" cy="892800"/>
          </a:xfrm>
        </p:grpSpPr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4537080" y="4149720"/>
                  <a:ext cx="452520" cy="34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80" name=""/>
            <p:cNvGrpSpPr/>
            <p:nvPr/>
          </p:nvGrpSpPr>
          <p:grpSpPr>
            <a:xfrm>
              <a:off x="4269240" y="4263120"/>
              <a:ext cx="748440" cy="779400"/>
              <a:chOff x="4269240" y="4263120"/>
              <a:chExt cx="748440" cy="779400"/>
            </a:xfrm>
          </p:grpSpPr>
          <p:cxnSp>
            <p:nvCxnSpPr>
              <p:cNvPr id="81" name=""/>
              <p:cNvCxnSpPr/>
              <p:nvPr/>
            </p:nvCxnSpPr>
            <p:spPr>
              <a:xfrm>
                <a:off x="4768560" y="4783320"/>
                <a:ext cx="249480" cy="259560"/>
              </a:xfrm>
              <a:prstGeom prst="curvedConnector4">
                <a:avLst>
                  <a:gd name="adj1" fmla="val 28468"/>
                  <a:gd name="adj2" fmla="val 49583"/>
                </a:avLst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</p:cxnSp>
          <p:cxnSp>
            <p:nvCxnSpPr>
              <p:cNvPr id="82" name=""/>
              <p:cNvCxnSpPr/>
              <p:nvPr/>
            </p:nvCxnSpPr>
            <p:spPr>
              <a:xfrm>
                <a:off x="4518720" y="4524120"/>
                <a:ext cx="250200" cy="259560"/>
              </a:xfrm>
              <a:prstGeom prst="curvedConnector4">
                <a:avLst>
                  <a:gd name="adj1" fmla="val 28386"/>
                  <a:gd name="adj2" fmla="val 49722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  <p:cxnSp>
            <p:nvCxnSpPr>
              <p:cNvPr id="83" name=""/>
              <p:cNvCxnSpPr/>
              <p:nvPr/>
            </p:nvCxnSpPr>
            <p:spPr>
              <a:xfrm>
                <a:off x="4269240" y="4263120"/>
                <a:ext cx="250200" cy="261000"/>
              </a:xfrm>
              <a:prstGeom prst="curvedConnector4">
                <a:avLst>
                  <a:gd name="adj1" fmla="val 28386"/>
                  <a:gd name="adj2" fmla="val 50000"/>
                </a:avLst>
              </a:prstGeom>
              <a:ln w="28440">
                <a:solidFill>
                  <a:srgbClr val="cc0000"/>
                </a:solidFill>
                <a:miter/>
              </a:ln>
            </p:spPr>
          </p:cxnSp>
        </p:grp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21239E-006 L 0.13385 0.1939 E">
                                      <p:cBhvr>
                                        <p:cTn id="18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4.99191E-006 L 0.09843 -0.09429 E">
                                      <p:cBhvr>
                                        <p:cTn id="3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18 0.07349 L 0.26666 0.39843 E">
                                      <p:cBhvr>
                                        <p:cTn id="4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826920" y="2421000"/>
            <a:ext cx="3024000" cy="2879640"/>
            <a:chOff x="826920" y="2421000"/>
            <a:chExt cx="3024000" cy="2879640"/>
          </a:xfrm>
        </p:grpSpPr>
        <p:grpSp>
          <p:nvGrpSpPr>
            <p:cNvPr id="85" name=""/>
            <p:cNvGrpSpPr/>
            <p:nvPr/>
          </p:nvGrpSpPr>
          <p:grpSpPr>
            <a:xfrm>
              <a:off x="826920" y="2421000"/>
              <a:ext cx="3024000" cy="2879640"/>
              <a:chOff x="826920" y="2421000"/>
              <a:chExt cx="3024000" cy="2879640"/>
            </a:xfrm>
          </p:grpSpPr>
          <p:sp>
            <p:nvSpPr>
              <p:cNvPr id="86" name=""/>
              <p:cNvSpPr/>
              <p:nvPr/>
            </p:nvSpPr>
            <p:spPr>
              <a:xfrm>
                <a:off x="826920" y="2421000"/>
                <a:ext cx="3024000" cy="2879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63280" y="3284640"/>
                <a:ext cx="1223640" cy="1223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050560" y="3573360"/>
                <a:ext cx="647280" cy="6462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39640" y="3860640"/>
                <a:ext cx="70920" cy="716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246040" y="3792600"/>
              <a:ext cx="252360" cy="252360"/>
            </a:xfrm>
            <a:prstGeom prst="ellipse">
              <a:avLst/>
            </a:prstGeom>
            <a:solidFill>
              <a:srgbClr val="00330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16000" y="56610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771560" y="30891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H="1">
            <a:off x="1079640" y="4041720"/>
            <a:ext cx="1008000" cy="64764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Излучение и поглощение света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824360" y="1484280"/>
            <a:ext cx="3529080" cy="3833640"/>
            <a:chOff x="4824360" y="1484280"/>
            <a:chExt cx="3529080" cy="383364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4824360" y="2924280"/>
                  <a:ext cx="57780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5400720" y="1700280"/>
              <a:ext cx="29527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00720" y="2276280"/>
              <a:ext cx="295272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2000" y="3139920"/>
              <a:ext cx="2881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084640"/>
              <a:ext cx="2881440" cy="0"/>
            </a:xfrm>
            <a:prstGeom prst="line">
              <a:avLst/>
            </a:prstGeom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7080" y="2276280"/>
              <a:ext cx="0" cy="8636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7416720" y="2275920"/>
              <a:ext cx="0" cy="28083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4824360" y="1987560"/>
                  <a:ext cx="57636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4895640" y="4795920"/>
                  <a:ext cx="574920" cy="52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824360" y="1484280"/>
                  <a:ext cx="5763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" name=""/>
          <p:cNvSpPr/>
          <p:nvPr/>
        </p:nvSpPr>
        <p:spPr>
          <a:xfrm>
            <a:off x="5364000" y="5373720"/>
            <a:ext cx="30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724360" y="5408640"/>
                <a:ext cx="2519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 flipH="1">
            <a:off x="2629080" y="2638440"/>
            <a:ext cx="358560" cy="790560"/>
          </a:xfrm>
          <a:prstGeom prst="line">
            <a:avLst/>
          </a:prstGeom>
          <a:ln w="38160">
            <a:solidFill>
              <a:srgbClr val="0000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806200" y="3039840"/>
            <a:ext cx="651960" cy="889920"/>
            <a:chOff x="2806200" y="3039840"/>
            <a:chExt cx="651960" cy="889920"/>
          </a:xfrm>
        </p:grpSpPr>
        <p:cxnSp>
          <p:nvCxnSpPr>
            <p:cNvPr id="110" name=""/>
            <p:cNvCxnSpPr/>
            <p:nvPr/>
          </p:nvCxnSpPr>
          <p:spPr>
            <a:xfrm>
              <a:off x="3241080" y="3633120"/>
              <a:ext cx="217440" cy="297000"/>
            </a:xfrm>
            <a:prstGeom prst="curvedConnector4">
              <a:avLst>
                <a:gd name="adj1" fmla="val 56550"/>
                <a:gd name="adj2" fmla="val 49878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/>
            <p:nvPr/>
          </p:nvCxnSpPr>
          <p:spPr>
            <a:xfrm>
              <a:off x="3024720" y="3336840"/>
              <a:ext cx="217080" cy="297360"/>
            </a:xfrm>
            <a:prstGeom prst="curvedConnector4">
              <a:avLst>
                <a:gd name="adj1" fmla="val 56644"/>
                <a:gd name="adj2" fmla="val 49939"/>
              </a:avLst>
            </a:prstGeom>
            <a:ln w="28440">
              <a:solidFill>
                <a:srgbClr val="cc0000"/>
              </a:solidFill>
              <a:miter/>
            </a:ln>
          </p:spPr>
        </p:cxnSp>
        <p:cxnSp>
          <p:nvCxnSpPr>
            <p:cNvPr id="112" name=""/>
            <p:cNvCxnSpPr/>
            <p:nvPr/>
          </p:nvCxnSpPr>
          <p:spPr>
            <a:xfrm>
              <a:off x="2806200" y="3039840"/>
              <a:ext cx="218520" cy="297720"/>
            </a:xfrm>
            <a:prstGeom prst="curvedConnector4">
              <a:avLst>
                <a:gd name="adj1" fmla="val 56765"/>
                <a:gd name="adj2" fmla="val 50000"/>
              </a:avLst>
            </a:prstGeom>
            <a:ln w="28440">
              <a:solidFill>
                <a:srgbClr val="cc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3081240"/>
                <a:ext cx="45252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51280" y="2816280"/>
                <a:ext cx="4316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1389600" y="3291840"/>
            <a:ext cx="748440" cy="779400"/>
            <a:chOff x="1389600" y="3291840"/>
            <a:chExt cx="748440" cy="779400"/>
          </a:xfrm>
        </p:grpSpPr>
        <p:cxnSp>
          <p:nvCxnSpPr>
            <p:cNvPr id="116" name=""/>
            <p:cNvCxnSpPr/>
            <p:nvPr/>
          </p:nvCxnSpPr>
          <p:spPr>
            <a:xfrm>
              <a:off x="1888920" y="3812040"/>
              <a:ext cx="249480" cy="259560"/>
            </a:xfrm>
            <a:prstGeom prst="curvedConnector4">
              <a:avLst>
                <a:gd name="adj1" fmla="val 28468"/>
                <a:gd name="adj2" fmla="val 49583"/>
              </a:avLst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/>
            <p:nvPr/>
          </p:nvCxnSpPr>
          <p:spPr>
            <a:xfrm>
              <a:off x="1639080" y="3552840"/>
              <a:ext cx="250200" cy="259560"/>
            </a:xfrm>
            <a:prstGeom prst="curvedConnector4">
              <a:avLst>
                <a:gd name="adj1" fmla="val 28386"/>
                <a:gd name="adj2" fmla="val 49722"/>
              </a:avLst>
            </a:prstGeom>
            <a:ln w="28440">
              <a:solidFill>
                <a:srgbClr val="cc0000"/>
              </a:solidFill>
              <a:miter/>
            </a:ln>
          </p:spPr>
        </p:cxnSp>
        <p:cxnSp>
          <p:nvCxnSpPr>
            <p:cNvPr id="118" name=""/>
            <p:cNvCxnSpPr/>
            <p:nvPr/>
          </p:nvCxnSpPr>
          <p:spPr>
            <a:xfrm>
              <a:off x="1389600" y="3291840"/>
              <a:ext cx="250200" cy="261000"/>
            </a:xfrm>
            <a:prstGeom prst="curvedConnector4">
              <a:avLst>
                <a:gd name="adj1" fmla="val 28386"/>
                <a:gd name="adj2" fmla="val 50000"/>
              </a:avLst>
            </a:prstGeom>
            <a:ln w="28440">
              <a:solidFill>
                <a:srgbClr val="cc0000"/>
              </a:solidFill>
              <a:miter/>
            </a:ln>
          </p:spPr>
        </p:cxnSp>
      </p:grp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1628280"/>
            <a:ext cx="6697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Спектры испускания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32000" y="2960640"/>
            <a:ext cx="6553080" cy="2341440"/>
            <a:chOff x="1332000" y="2960640"/>
            <a:chExt cx="6553080" cy="2341440"/>
          </a:xfrm>
        </p:grpSpPr>
        <p:sp>
          <p:nvSpPr>
            <p:cNvPr id="126" name=""/>
            <p:cNvSpPr/>
            <p:nvPr/>
          </p:nvSpPr>
          <p:spPr>
            <a:xfrm>
              <a:off x="1332000" y="3322800"/>
              <a:ext cx="2131920" cy="18907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Исследуемое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вещество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2680" y="4311720"/>
              <a:ext cx="630360" cy="32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32240" y="3592440"/>
              <a:ext cx="2212920" cy="1351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Спектральный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аппарат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1480" y="4311720"/>
              <a:ext cx="630360" cy="32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040" y="2960640"/>
              <a:ext cx="1800" cy="234144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70800" y="2960640"/>
              <a:ext cx="314280" cy="234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П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К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Т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00cc"/>
                  </a:solidFill>
                  <a:latin typeface="Arial"/>
                </a:rPr>
                <a:t>Р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излучения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3192480"/>
            <a:ext cx="8642160" cy="957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87280" y="1413000"/>
            <a:ext cx="626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27280" y="1773360"/>
            <a:ext cx="40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Сплошной спектр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5013360"/>
            <a:ext cx="835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Сплошной спектр дают при высоких температурах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твердые тела, жидкости, плазма, газы большой плотности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излучения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Линейчатый спект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7640" y="2133720"/>
            <a:ext cx="7848360" cy="2807640"/>
            <a:chOff x="647640" y="2133720"/>
            <a:chExt cx="7848360" cy="2807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647640" y="4113720"/>
              <a:ext cx="784836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647640" y="2133720"/>
              <a:ext cx="7848360" cy="82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"/>
            <a:stretch/>
          </p:blipFill>
          <p:spPr>
            <a:xfrm>
              <a:off x="647640" y="3067920"/>
              <a:ext cx="7848360" cy="82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"/>
          <p:cNvSpPr/>
          <p:nvPr/>
        </p:nvSpPr>
        <p:spPr>
          <a:xfrm flipV="1" rot="10800000">
            <a:off x="1004400" y="5229360"/>
            <a:ext cx="713268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Линейчатый спектр дают газы в атомарном состоянии при 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высоких температурах и низких плотностях и давлениях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Виды спектров излучения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0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Полосатый (молекулярный) спектр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19280" y="4581360"/>
            <a:ext cx="6048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6200" y="5121360"/>
            <a:ext cx="8389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Полосатый спектр дают газы в молекулярном состоянии </a:t>
            </a:r>
            <a:br>
              <a:rPr sz="2800"/>
            </a:br>
            <a:r>
              <a:rPr b="0" lang="en-US" sz="2800" spc="-1" strike="noStrike" baseline="-25000">
                <a:solidFill>
                  <a:srgbClr val="0000cc"/>
                </a:solidFill>
                <a:latin typeface="Arial"/>
              </a:rPr>
              <a:t>при высоких температурах и малых давлениях и плотностях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9080" y="2495520"/>
            <a:ext cx="6626160" cy="7653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00000" y="3838680"/>
            <a:ext cx="6664320" cy="777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775640" y="382428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04000" y="2492280"/>
            <a:ext cx="684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NC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38836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3794"/>
                </a:moveTo>
                <a:lnTo>
                  <a:pt x="23174" y="10800"/>
                </a:lnTo>
                <a:lnTo>
                  <a:pt x="9161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7308720" y="6345360"/>
            <a:ext cx="540000" cy="360360"/>
          </a:xfrm>
          <a:custGeom>
            <a:avLst/>
            <a:gdLst>
              <a:gd name="textAreaLeft" fmla="*/ 23040 w 540000"/>
              <a:gd name="textAreaRight" fmla="*/ 516960 w 5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57" h="21600">
                <a:moveTo>
                  <a:pt x="0" y="0"/>
                </a:moveTo>
                <a:lnTo>
                  <a:pt x="32357" y="0"/>
                </a:lnTo>
                <a:lnTo>
                  <a:pt x="32357" y="21600"/>
                </a:lnTo>
                <a:lnTo>
                  <a:pt x="0" y="21600"/>
                </a:lnTo>
                <a:close/>
              </a:path>
              <a:path fill="lightenLess" w="32357" h="21600">
                <a:moveTo>
                  <a:pt x="0" y="0"/>
                </a:moveTo>
                <a:lnTo>
                  <a:pt x="32357" y="0"/>
                </a:lnTo>
                <a:lnTo>
                  <a:pt x="30957" y="1400"/>
                </a:lnTo>
                <a:lnTo>
                  <a:pt x="1400" y="1400"/>
                </a:lnTo>
                <a:close/>
              </a:path>
              <a:path fill="darken" w="32357" h="21600">
                <a:moveTo>
                  <a:pt x="32357" y="0"/>
                </a:moveTo>
                <a:lnTo>
                  <a:pt x="32357" y="21600"/>
                </a:lnTo>
                <a:lnTo>
                  <a:pt x="30957" y="20200"/>
                </a:lnTo>
                <a:lnTo>
                  <a:pt x="30957" y="1400"/>
                </a:lnTo>
                <a:close/>
              </a:path>
              <a:path fill="darkenLess" w="32357" h="21600">
                <a:moveTo>
                  <a:pt x="323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7" y="20200"/>
                </a:lnTo>
                <a:close/>
              </a:path>
              <a:path fill="lighten" w="323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7" h="21600">
                <a:moveTo>
                  <a:pt x="9172" y="10800"/>
                </a:moveTo>
                <a:lnTo>
                  <a:pt x="23185" y="3794"/>
                </a:lnTo>
                <a:lnTo>
                  <a:pt x="23185" y="17806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129360"/>
            <a:ext cx="539640" cy="57636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76360"/>
              <a:gd name="textAreaBottom" fmla="*/ 541440 h 576360"/>
            </a:gdLst>
            <a:ahLst/>
            <a:rect l="textAreaLeft" t="textAreaTop" r="textAreaRight" b="textAreaBottom"/>
            <a:pathLst>
              <a:path w="21600" h="23069">
                <a:moveTo>
                  <a:pt x="0" y="0"/>
                </a:moveTo>
                <a:lnTo>
                  <a:pt x="21600" y="0"/>
                </a:lnTo>
                <a:lnTo>
                  <a:pt x="21600" y="23069"/>
                </a:lnTo>
                <a:lnTo>
                  <a:pt x="0" y="23069"/>
                </a:lnTo>
                <a:close/>
              </a:path>
              <a:path fill="lightenLess" w="21600" h="230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69">
                <a:moveTo>
                  <a:pt x="21600" y="0"/>
                </a:moveTo>
                <a:lnTo>
                  <a:pt x="21600" y="23069"/>
                </a:lnTo>
                <a:lnTo>
                  <a:pt x="20200" y="21669"/>
                </a:lnTo>
                <a:lnTo>
                  <a:pt x="20200" y="1400"/>
                </a:lnTo>
                <a:close/>
              </a:path>
              <a:path fill="darkenLess" w="21600" h="23069">
                <a:moveTo>
                  <a:pt x="21600" y="23069"/>
                </a:moveTo>
                <a:lnTo>
                  <a:pt x="0" y="23069"/>
                </a:lnTo>
                <a:lnTo>
                  <a:pt x="1400" y="21669"/>
                </a:lnTo>
                <a:lnTo>
                  <a:pt x="20200" y="21669"/>
                </a:lnTo>
                <a:close/>
              </a:path>
              <a:path fill="lighten" w="21600" h="23069">
                <a:moveTo>
                  <a:pt x="0" y="230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69"/>
                </a:lnTo>
                <a:close/>
              </a:path>
              <a:path fill="darken" w="21600" h="23069">
                <a:moveTo>
                  <a:pt x="10800" y="4571"/>
                </a:moveTo>
                <a:lnTo>
                  <a:pt x="13376" y="7183"/>
                </a:ln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lnTo>
                  <a:pt x="17763" y="11534"/>
                </a:lnTo>
                <a:lnTo>
                  <a:pt x="16109" y="11534"/>
                </a:lnTo>
                <a:lnTo>
                  <a:pt x="16109" y="18724"/>
                </a:lnTo>
                <a:lnTo>
                  <a:pt x="5491" y="18724"/>
                </a:lnTo>
                <a:lnTo>
                  <a:pt x="5491" y="11534"/>
                </a:lnTo>
                <a:lnTo>
                  <a:pt x="3837" y="11534"/>
                </a:lnTo>
                <a:close/>
              </a:path>
              <a:path fill="darkenLess" w="21600" h="23069">
                <a:moveTo>
                  <a:pt x="13376" y="7183"/>
                </a:moveTo>
                <a:lnTo>
                  <a:pt x="13376" y="5442"/>
                </a:lnTo>
                <a:lnTo>
                  <a:pt x="15152" y="5442"/>
                </a:lnTo>
                <a:lnTo>
                  <a:pt x="15152" y="8958"/>
                </a:lnTo>
                <a:close/>
              </a:path>
              <a:path fill="darkenLess" w="21600" h="23069">
                <a:moveTo>
                  <a:pt x="9877" y="15033"/>
                </a:moveTo>
                <a:lnTo>
                  <a:pt x="11723" y="15033"/>
                </a:lnTo>
                <a:lnTo>
                  <a:pt x="11723" y="18724"/>
                </a:lnTo>
                <a:lnTo>
                  <a:pt x="16109" y="18724"/>
                </a:lnTo>
                <a:lnTo>
                  <a:pt x="16109" y="11534"/>
                </a:lnTo>
                <a:lnTo>
                  <a:pt x="5491" y="11534"/>
                </a:lnTo>
                <a:lnTo>
                  <a:pt x="5491" y="18724"/>
                </a:lnTo>
                <a:lnTo>
                  <a:pt x="9877" y="18724"/>
                </a:ln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endshow"/>
          </p:cNvPr>
          <p:cNvSpPr/>
          <p:nvPr/>
        </p:nvSpPr>
        <p:spPr>
          <a:xfrm>
            <a:off x="6767640" y="6345360"/>
            <a:ext cx="539640" cy="360360"/>
          </a:xfrm>
          <a:custGeom>
            <a:avLst/>
            <a:gdLst>
              <a:gd name="textAreaLeft" fmla="*/ 23040 w 539640"/>
              <a:gd name="textAreaRight" fmla="*/ 516600 w 539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2335" h="21600">
                <a:moveTo>
                  <a:pt x="0" y="0"/>
                </a:moveTo>
                <a:lnTo>
                  <a:pt x="32335" y="0"/>
                </a:lnTo>
                <a:lnTo>
                  <a:pt x="32335" y="21600"/>
                </a:lnTo>
                <a:lnTo>
                  <a:pt x="0" y="21600"/>
                </a:lnTo>
                <a:close/>
              </a:path>
              <a:path fill="lightenLess" w="32335" h="21600">
                <a:moveTo>
                  <a:pt x="0" y="0"/>
                </a:moveTo>
                <a:lnTo>
                  <a:pt x="32335" y="0"/>
                </a:lnTo>
                <a:lnTo>
                  <a:pt x="30935" y="1400"/>
                </a:lnTo>
                <a:lnTo>
                  <a:pt x="1400" y="1400"/>
                </a:lnTo>
                <a:close/>
              </a:path>
              <a:path fill="darken" w="32335" h="21600">
                <a:moveTo>
                  <a:pt x="32335" y="0"/>
                </a:moveTo>
                <a:lnTo>
                  <a:pt x="32335" y="21600"/>
                </a:lnTo>
                <a:lnTo>
                  <a:pt x="30935" y="20200"/>
                </a:lnTo>
                <a:lnTo>
                  <a:pt x="30935" y="1400"/>
                </a:lnTo>
                <a:close/>
              </a:path>
              <a:path fill="darkenLess" w="32335" h="21600">
                <a:moveTo>
                  <a:pt x="323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5" y="20200"/>
                </a:lnTo>
                <a:close/>
              </a:path>
              <a:path fill="lighten" w="323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5" h="21600">
                <a:moveTo>
                  <a:pt x="9161" y="7493"/>
                </a:moveTo>
                <a:lnTo>
                  <a:pt x="12669" y="7493"/>
                </a:lnTo>
                <a:lnTo>
                  <a:pt x="12669" y="12828"/>
                </a:lnTo>
                <a:cubicBezTo>
                  <a:pt x="12669" y="13751"/>
                  <a:pt x="13470" y="14482"/>
                  <a:pt x="14505" y="14482"/>
                </a:cubicBezTo>
                <a:lnTo>
                  <a:pt x="16168" y="14482"/>
                </a:lnTo>
                <a:cubicBezTo>
                  <a:pt x="17203" y="14482"/>
                  <a:pt x="18004" y="13751"/>
                  <a:pt x="18004" y="12828"/>
                </a:cubicBezTo>
                <a:lnTo>
                  <a:pt x="18004" y="7493"/>
                </a:lnTo>
                <a:lnTo>
                  <a:pt x="16168" y="7493"/>
                </a:lnTo>
                <a:lnTo>
                  <a:pt x="19675" y="3985"/>
                </a:lnTo>
                <a:lnTo>
                  <a:pt x="23348" y="7493"/>
                </a:lnTo>
                <a:lnTo>
                  <a:pt x="21512" y="7493"/>
                </a:lnTo>
                <a:lnTo>
                  <a:pt x="21512" y="12828"/>
                </a:lnTo>
                <a:cubicBezTo>
                  <a:pt x="21512" y="15596"/>
                  <a:pt x="18935" y="18155"/>
                  <a:pt x="16168" y="18155"/>
                </a:cubicBezTo>
                <a:lnTo>
                  <a:pt x="14505" y="18155"/>
                </a:lnTo>
                <a:cubicBezTo>
                  <a:pt x="11737" y="18155"/>
                  <a:pt x="9161" y="15596"/>
                  <a:pt x="9161" y="12828"/>
                </a:cubicBezTo>
                <a:close/>
              </a:path>
            </a:pathLst>
          </a:cu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1:35:48Z</dcterms:created>
  <dc:creator>lap</dc:creator>
  <dc:description/>
  <dc:language>en-US</dc:language>
  <cp:lastModifiedBy>1</cp:lastModifiedBy>
  <dcterms:modified xsi:type="dcterms:W3CDTF">2017-04-25T07:51:26Z</dcterms:modified>
  <cp:revision>24</cp:revision>
  <dc:subject/>
  <dc:title>Излучение и поглощение света атомом. Виды спектров</dc:title>
</cp:coreProperties>
</file>