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9C7-DDF0-4698-9302-FBC4688A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125-E68F-4431-8769-37075E7E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4FD-9991-4051-AF22-7327E442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00E-A6BB-4843-8F24-763191E5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192-1951-4FA3-A408-B7618020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E47-EDAC-4250-9CC9-B7CAF10E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A26-0DE6-4DAE-A630-78F1AA76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90E-2E81-4ABB-8DA6-87D0B339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406-2EF0-4B9E-BA5C-3FF71810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EFD-D42B-4709-9D2A-1A85DF2A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67D-45BA-4C99-9359-38FC4180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0FE-12B0-4CFB-B0BF-798373A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05D-A847-4A9F-815C-2E4080CA9E8A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Излучение и поглощение света атомом. Виды спектров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3640" y="4616280"/>
            <a:ext cx="601164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пектры поглоще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12680" y="4076640"/>
            <a:ext cx="5432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12680" y="4292640"/>
            <a:ext cx="5432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12680" y="4508640"/>
            <a:ext cx="5432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3568680"/>
            <a:ext cx="1157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0000cc"/>
                </a:solidFill>
                <a:latin typeface="Arial"/>
              </a:rPr>
              <a:t>Белый све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55640" y="3033720"/>
            <a:ext cx="6337080" cy="2341440"/>
            <a:chOff x="1655640" y="3033720"/>
            <a:chExt cx="6337080" cy="2341440"/>
          </a:xfrm>
        </p:grpSpPr>
        <p:sp>
          <p:nvSpPr>
            <p:cNvPr id="175" name=""/>
            <p:cNvSpPr/>
            <p:nvPr/>
          </p:nvSpPr>
          <p:spPr>
            <a:xfrm>
              <a:off x="1655640" y="3395880"/>
              <a:ext cx="2061720" cy="18907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Исследуемое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вещество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70720" y="4384800"/>
              <a:ext cx="609480" cy="32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56880" y="3665520"/>
              <a:ext cx="2139840" cy="135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Спектральный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аппарат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70880" y="4384800"/>
              <a:ext cx="609480" cy="32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7040" y="3033720"/>
              <a:ext cx="1440" cy="23414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88880" y="3033720"/>
              <a:ext cx="303840" cy="234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поглощения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Линейчатый спектр поглощения Солнца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697800" cy="100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76360" y="4508640"/>
            <a:ext cx="6335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24360" y="4581360"/>
            <a:ext cx="1539720" cy="1440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1736640"/>
            <a:ext cx="6624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стулаты Бора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одель излучения и поглощения свет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Излучение и поглощение свет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спектров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Сплошной спектр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Линейчатый спектр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лосатый (молекулярный) спектр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Спектры поглощения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Линейчатый спектр поглощения Солнц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7524720" y="616572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Постулаты Бора (1913 г.)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521000"/>
            <a:ext cx="356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тулат стационарных состояний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Атомная система может находиться в особых стационарных состояниях, каждому из которых соответствует определенная энергия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W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Arial"/>
              </a:rPr>
              <a:t>n.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 стационарном состоянии атом не излучает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24360" y="1592280"/>
            <a:ext cx="35654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авило часто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Излучение и поглощение энергии атомом происходит при переходе атома из одного стационарного состояния в другое. Излучение – при переходе атома из стационарного состояния  с большей энергией в стационарное состояние с меньшей энергией. Поглощение – наоборот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327640" y="5229360"/>
                <a:ext cx="1739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024360" y="2673360"/>
            <a:ext cx="3024000" cy="2879640"/>
            <a:chOff x="3024360" y="2673360"/>
            <a:chExt cx="3024000" cy="2879640"/>
          </a:xfrm>
        </p:grpSpPr>
        <p:grpSp>
          <p:nvGrpSpPr>
            <p:cNvPr id="56" name=""/>
            <p:cNvGrpSpPr/>
            <p:nvPr/>
          </p:nvGrpSpPr>
          <p:grpSpPr>
            <a:xfrm>
              <a:off x="3024360" y="2673360"/>
              <a:ext cx="3024000" cy="2879640"/>
              <a:chOff x="3024360" y="2673360"/>
              <a:chExt cx="3024000" cy="2879640"/>
            </a:xfrm>
          </p:grpSpPr>
          <p:sp>
            <p:nvSpPr>
              <p:cNvPr id="57" name=""/>
              <p:cNvSpPr/>
              <p:nvPr/>
            </p:nvSpPr>
            <p:spPr>
              <a:xfrm>
                <a:off x="3024360" y="2673360"/>
                <a:ext cx="3024000" cy="2879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0720" y="3537000"/>
                <a:ext cx="1223640" cy="1223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248000" y="3825720"/>
                <a:ext cx="647280" cy="646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37080" y="4113000"/>
                <a:ext cx="70920" cy="71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4443480" y="4044960"/>
              <a:ext cx="252360" cy="25236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241800" y="578340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897360" y="32115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Модель излучения </a:t>
            </a: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и поглощения света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5373720"/>
            <a:ext cx="30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76720" y="4127400"/>
            <a:ext cx="144360" cy="1447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325960" y="2003400"/>
            <a:ext cx="748440" cy="892800"/>
            <a:chOff x="2325960" y="2003400"/>
            <a:chExt cx="748440" cy="89280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2593800" y="2003400"/>
                  <a:ext cx="45252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69" name=""/>
            <p:cNvGrpSpPr/>
            <p:nvPr/>
          </p:nvGrpSpPr>
          <p:grpSpPr>
            <a:xfrm>
              <a:off x="2325960" y="2116800"/>
              <a:ext cx="748440" cy="779400"/>
              <a:chOff x="2325960" y="2116800"/>
              <a:chExt cx="748440" cy="779400"/>
            </a:xfrm>
          </p:grpSpPr>
          <p:cxnSp>
            <p:nvCxnSpPr>
              <p:cNvPr id="70" name=""/>
              <p:cNvCxnSpPr/>
              <p:nvPr/>
            </p:nvCxnSpPr>
            <p:spPr>
              <a:xfrm>
                <a:off x="2825280" y="2637000"/>
                <a:ext cx="249480" cy="259560"/>
              </a:xfrm>
              <a:prstGeom prst="curvedConnector4">
                <a:avLst>
                  <a:gd name="adj1" fmla="val 28468"/>
                  <a:gd name="adj2" fmla="val 49583"/>
                </a:avLst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2575440" y="2377800"/>
                <a:ext cx="250200" cy="259560"/>
              </a:xfrm>
              <a:prstGeom prst="curvedConnector4">
                <a:avLst>
                  <a:gd name="adj1" fmla="val 28386"/>
                  <a:gd name="adj2" fmla="val 49722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  <p:cxnSp>
            <p:nvCxnSpPr>
              <p:cNvPr id="72" name=""/>
              <p:cNvCxnSpPr/>
              <p:nvPr/>
            </p:nvCxnSpPr>
            <p:spPr>
              <a:xfrm>
                <a:off x="2325960" y="2116800"/>
                <a:ext cx="250200" cy="261000"/>
              </a:xfrm>
              <a:prstGeom prst="curvedConnector4">
                <a:avLst>
                  <a:gd name="adj1" fmla="val 28386"/>
                  <a:gd name="adj2" fmla="val 50000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sp>
        <p:nvSpPr>
          <p:cNvPr id="73" name=""/>
          <p:cNvSpPr/>
          <p:nvPr/>
        </p:nvSpPr>
        <p:spPr>
          <a:xfrm>
            <a:off x="3276720" y="4869000"/>
            <a:ext cx="144360" cy="14436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269240" y="4149720"/>
            <a:ext cx="748440" cy="892800"/>
            <a:chOff x="4269240" y="4149720"/>
            <a:chExt cx="748440" cy="892800"/>
          </a:xfrm>
        </p:grpSpPr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4537080" y="4149720"/>
                  <a:ext cx="45252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0" name=""/>
            <p:cNvGrpSpPr/>
            <p:nvPr/>
          </p:nvGrpSpPr>
          <p:grpSpPr>
            <a:xfrm>
              <a:off x="4269240" y="4263120"/>
              <a:ext cx="748440" cy="779400"/>
              <a:chOff x="4269240" y="4263120"/>
              <a:chExt cx="748440" cy="779400"/>
            </a:xfrm>
          </p:grpSpPr>
          <p:cxnSp>
            <p:nvCxnSpPr>
              <p:cNvPr id="81" name=""/>
              <p:cNvCxnSpPr/>
              <p:nvPr/>
            </p:nvCxnSpPr>
            <p:spPr>
              <a:xfrm>
                <a:off x="4768560" y="4783320"/>
                <a:ext cx="249480" cy="259560"/>
              </a:xfrm>
              <a:prstGeom prst="curvedConnector4">
                <a:avLst>
                  <a:gd name="adj1" fmla="val 28468"/>
                  <a:gd name="adj2" fmla="val 49583"/>
                </a:avLst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</p:cxnSp>
          <p:cxnSp>
            <p:nvCxnSpPr>
              <p:cNvPr id="82" name=""/>
              <p:cNvCxnSpPr/>
              <p:nvPr/>
            </p:nvCxnSpPr>
            <p:spPr>
              <a:xfrm>
                <a:off x="4518720" y="4524120"/>
                <a:ext cx="250200" cy="259560"/>
              </a:xfrm>
              <a:prstGeom prst="curvedConnector4">
                <a:avLst>
                  <a:gd name="adj1" fmla="val 28386"/>
                  <a:gd name="adj2" fmla="val 49722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  <p:cxnSp>
            <p:nvCxnSpPr>
              <p:cNvPr id="83" name=""/>
              <p:cNvCxnSpPr/>
              <p:nvPr/>
            </p:nvCxnSpPr>
            <p:spPr>
              <a:xfrm>
                <a:off x="4269240" y="4263120"/>
                <a:ext cx="250200" cy="261000"/>
              </a:xfrm>
              <a:prstGeom prst="curvedConnector4">
                <a:avLst>
                  <a:gd name="adj1" fmla="val 28386"/>
                  <a:gd name="adj2" fmla="val 50000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21239E-006 L 0.13385 0.1939 E">
                                      <p:cBhvr>
                                        <p:cTn id="1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4.99191E-006 L 0.09843 -0.09429 E">
                                      <p:cBhvr>
                                        <p:cTn id="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18 0.07349 L 0.26666 0.39843 E">
                                      <p:cBhvr>
                                        <p:cTn id="4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826920" y="2421000"/>
            <a:ext cx="3024000" cy="2879640"/>
            <a:chOff x="826920" y="2421000"/>
            <a:chExt cx="3024000" cy="2879640"/>
          </a:xfrm>
        </p:grpSpPr>
        <p:grpSp>
          <p:nvGrpSpPr>
            <p:cNvPr id="85" name=""/>
            <p:cNvGrpSpPr/>
            <p:nvPr/>
          </p:nvGrpSpPr>
          <p:grpSpPr>
            <a:xfrm>
              <a:off x="826920" y="2421000"/>
              <a:ext cx="3024000" cy="2879640"/>
              <a:chOff x="826920" y="2421000"/>
              <a:chExt cx="3024000" cy="2879640"/>
            </a:xfrm>
          </p:grpSpPr>
          <p:sp>
            <p:nvSpPr>
              <p:cNvPr id="86" name=""/>
              <p:cNvSpPr/>
              <p:nvPr/>
            </p:nvSpPr>
            <p:spPr>
              <a:xfrm>
                <a:off x="826920" y="2421000"/>
                <a:ext cx="3024000" cy="2879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3280" y="3284640"/>
                <a:ext cx="1223640" cy="1223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50560" y="3573360"/>
                <a:ext cx="647280" cy="646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39640" y="3860640"/>
                <a:ext cx="70920" cy="71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246040" y="3792600"/>
              <a:ext cx="252360" cy="25236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16000" y="566100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771560" y="30891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H="1">
            <a:off x="1079640" y="4041720"/>
            <a:ext cx="1008000" cy="64764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Излучение и поглощение света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824360" y="1484280"/>
            <a:ext cx="3529080" cy="3833640"/>
            <a:chOff x="4824360" y="1484280"/>
            <a:chExt cx="3529080" cy="383364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4824360" y="2924280"/>
                  <a:ext cx="57780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5400720" y="1700280"/>
              <a:ext cx="29527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00720" y="2276280"/>
              <a:ext cx="29527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2000" y="3139920"/>
              <a:ext cx="2881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084640"/>
              <a:ext cx="2881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7080" y="2276280"/>
              <a:ext cx="0" cy="863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416720" y="2275920"/>
              <a:ext cx="0" cy="28083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4824360" y="1987560"/>
                  <a:ext cx="57636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895640" y="4795920"/>
                  <a:ext cx="574920" cy="52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4824360" y="1484280"/>
                  <a:ext cx="5763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"/>
          <p:cNvSpPr/>
          <p:nvPr/>
        </p:nvSpPr>
        <p:spPr>
          <a:xfrm>
            <a:off x="5364000" y="5373720"/>
            <a:ext cx="30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724360" y="5408640"/>
                <a:ext cx="2519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H="1">
            <a:off x="2629080" y="2638440"/>
            <a:ext cx="358560" cy="79056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806200" y="3039840"/>
            <a:ext cx="651960" cy="889920"/>
            <a:chOff x="2806200" y="3039840"/>
            <a:chExt cx="651960" cy="889920"/>
          </a:xfrm>
        </p:grpSpPr>
        <p:cxnSp>
          <p:nvCxnSpPr>
            <p:cNvPr id="110" name=""/>
            <p:cNvCxnSpPr/>
            <p:nvPr/>
          </p:nvCxnSpPr>
          <p:spPr>
            <a:xfrm>
              <a:off x="3241080" y="3633120"/>
              <a:ext cx="217440" cy="297000"/>
            </a:xfrm>
            <a:prstGeom prst="curvedConnector4">
              <a:avLst>
                <a:gd name="adj1" fmla="val 56550"/>
                <a:gd name="adj2" fmla="val 4987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/>
            <p:nvPr/>
          </p:nvCxnSpPr>
          <p:spPr>
            <a:xfrm>
              <a:off x="3024720" y="3336840"/>
              <a:ext cx="217080" cy="297360"/>
            </a:xfrm>
            <a:prstGeom prst="curvedConnector4">
              <a:avLst>
                <a:gd name="adj1" fmla="val 56644"/>
                <a:gd name="adj2" fmla="val 49939"/>
              </a:avLst>
            </a:prstGeom>
            <a:ln w="28440">
              <a:solidFill>
                <a:srgbClr val="cc0000"/>
              </a:solidFill>
              <a:miter/>
            </a:ln>
          </p:spPr>
        </p:cxnSp>
        <p:cxnSp>
          <p:nvCxnSpPr>
            <p:cNvPr id="112" name=""/>
            <p:cNvCxnSpPr/>
            <p:nvPr/>
          </p:nvCxnSpPr>
          <p:spPr>
            <a:xfrm>
              <a:off x="2806200" y="3039840"/>
              <a:ext cx="218520" cy="297720"/>
            </a:xfrm>
            <a:prstGeom prst="curvedConnector4">
              <a:avLst>
                <a:gd name="adj1" fmla="val 56765"/>
                <a:gd name="adj2" fmla="val 50000"/>
              </a:avLst>
            </a:prstGeom>
            <a:ln w="28440">
              <a:solidFill>
                <a:srgbClr val="cc000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3081240"/>
                <a:ext cx="4525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51280" y="2816280"/>
                <a:ext cx="4316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1389600" y="3291840"/>
            <a:ext cx="748440" cy="779400"/>
            <a:chOff x="1389600" y="3291840"/>
            <a:chExt cx="748440" cy="779400"/>
          </a:xfrm>
        </p:grpSpPr>
        <p:cxnSp>
          <p:nvCxnSpPr>
            <p:cNvPr id="116" name=""/>
            <p:cNvCxnSpPr/>
            <p:nvPr/>
          </p:nvCxnSpPr>
          <p:spPr>
            <a:xfrm>
              <a:off x="1888920" y="3812040"/>
              <a:ext cx="249480" cy="259560"/>
            </a:xfrm>
            <a:prstGeom prst="curvedConnector4">
              <a:avLst>
                <a:gd name="adj1" fmla="val 28468"/>
                <a:gd name="adj2" fmla="val 49583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/>
            <p:nvPr/>
          </p:nvCxnSpPr>
          <p:spPr>
            <a:xfrm>
              <a:off x="1639080" y="3552840"/>
              <a:ext cx="250200" cy="259560"/>
            </a:xfrm>
            <a:prstGeom prst="curvedConnector4">
              <a:avLst>
                <a:gd name="adj1" fmla="val 28386"/>
                <a:gd name="adj2" fmla="val 49722"/>
              </a:avLst>
            </a:prstGeom>
            <a:ln w="28440">
              <a:solidFill>
                <a:srgbClr val="cc0000"/>
              </a:solidFill>
              <a:miter/>
            </a:ln>
          </p:spPr>
        </p:cxnSp>
        <p:cxnSp>
          <p:nvCxnSpPr>
            <p:cNvPr id="118" name=""/>
            <p:cNvCxnSpPr/>
            <p:nvPr/>
          </p:nvCxnSpPr>
          <p:spPr>
            <a:xfrm>
              <a:off x="1389600" y="3291840"/>
              <a:ext cx="250200" cy="261000"/>
            </a:xfrm>
            <a:prstGeom prst="curvedConnector4">
              <a:avLst>
                <a:gd name="adj1" fmla="val 28386"/>
                <a:gd name="adj2" fmla="val 50000"/>
              </a:avLst>
            </a:prstGeom>
            <a:ln w="28440">
              <a:solidFill>
                <a:srgbClr val="cc0000"/>
              </a:solidFill>
              <a:miter/>
            </a:ln>
          </p:spPr>
        </p:cxnSp>
      </p:grp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6697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Спектры испускания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32000" y="2960640"/>
            <a:ext cx="6553080" cy="2341440"/>
            <a:chOff x="1332000" y="2960640"/>
            <a:chExt cx="6553080" cy="2341440"/>
          </a:xfrm>
        </p:grpSpPr>
        <p:sp>
          <p:nvSpPr>
            <p:cNvPr id="126" name=""/>
            <p:cNvSpPr/>
            <p:nvPr/>
          </p:nvSpPr>
          <p:spPr>
            <a:xfrm>
              <a:off x="1332000" y="3322800"/>
              <a:ext cx="2131920" cy="18907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Исследуемое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вещество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2680" y="4311720"/>
              <a:ext cx="630360" cy="32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32240" y="3592440"/>
              <a:ext cx="2212920" cy="135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Спектральный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аппарат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21480" y="4311720"/>
              <a:ext cx="630360" cy="32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31040" y="2960640"/>
              <a:ext cx="1800" cy="23414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70800" y="2960640"/>
              <a:ext cx="314280" cy="234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излучения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3192480"/>
            <a:ext cx="8642160" cy="957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87280" y="1413000"/>
            <a:ext cx="626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1773360"/>
            <a:ext cx="40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плошной спектр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5013360"/>
            <a:ext cx="835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плошной спектр дают при высоких температурах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твердые тела, жидкости, плазма, газы большой плотност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излучения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Линейчатый спект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7640" y="2133720"/>
            <a:ext cx="7848360" cy="2807640"/>
            <a:chOff x="647640" y="2133720"/>
            <a:chExt cx="7848360" cy="2807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47640" y="4113720"/>
              <a:ext cx="784836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647640" y="2133720"/>
              <a:ext cx="784836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647640" y="3067920"/>
              <a:ext cx="7848360" cy="82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 flipV="1" rot="10800000">
            <a:off x="1004400" y="5229360"/>
            <a:ext cx="71326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Линейчатый спектр дают газы в атомарном состоянии при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высоких температурах и низких плотностях и давлениях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излучения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0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олосатый (молекулярный) спект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4581360"/>
            <a:ext cx="6048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200" y="5121360"/>
            <a:ext cx="8389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Полосатый спектр дают газы в молекулярном состоянии 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при высоких температурах и малых давлениях и плотностях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9080" y="2495520"/>
            <a:ext cx="6626160" cy="765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00000" y="3838680"/>
            <a:ext cx="6664320" cy="777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775640" y="38242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04000" y="2492280"/>
            <a:ext cx="684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NC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1:35:48Z</dcterms:created>
  <dc:creator>lap</dc:creator>
  <dc:description/>
  <dc:language>en-US</dc:language>
  <cp:lastModifiedBy>1</cp:lastModifiedBy>
  <dcterms:modified xsi:type="dcterms:W3CDTF">2017-04-25T07:51:26Z</dcterms:modified>
  <cp:revision>24</cp:revision>
  <dc:subject/>
  <dc:title>Излучение и поглощение света атомом. Виды спектров</dc:title>
</cp:coreProperties>
</file>