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2.jpeg" ContentType="image/jpeg"/>
  <Override PartName="/ppt/media/image6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2698-BF65-4D7F-837E-5E8CCC039E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E1B1-CF20-4DBE-ADC9-B5BEF61266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C8C5-C34E-4C99-95D4-5DE4D13E4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EF14-6654-40C9-A038-43D37153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9346-3876-4BAA-B2A3-4913D3247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C80B-9786-42B4-A5BB-797FB0C83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1FED-50C2-4A53-888B-7BA6A7ECC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F1F6-46B7-4D44-AD17-58B5FC58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8FAF-6D3B-4FF3-836C-FFA6AA50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9CE0-4F69-48C2-9884-42F82644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FD61-A666-4AD6-86A3-481043B6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8843-37C7-4334-AB53-494807D9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42A4-CEE0-4111-BA2F-CD756BA8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0888-F272-4ED0-8D00-0D29B1B5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19DE-239D-49CF-9C07-9F2ACAC0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DBE6-6EAC-43D4-B4E7-0257896B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DF65-B9EA-453F-9268-2A479DB5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D542-3D1C-4E17-AAEF-E6A375913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957B-FE99-4E4D-A289-DC4025CD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2EA239-6DF9-400C-BD16-48F1D1299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65B6DB-161C-48A7-A99A-A41CB2E8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19C51D-83A8-4A57-B53D-E5786E02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EEA1BF-AB70-4F07-BEE3-FCA1E80C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A50F24-9111-43E4-BFFE-8090CBE3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2A14-E267-4B27-9C46-DDE1173D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2002B2-13B8-40D0-B5B8-582AE348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05F914-7690-40BB-A0A5-0A2A0FF2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5B9952-49B8-4C7C-9E96-FF663D4A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B57B8B-1E88-4969-B8A8-88229F2A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5AA526-AF8F-4CD8-84B6-FAB111A5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6A96A1-1134-4ED3-9112-F9847DB42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5F7ECC-D5A7-4A37-B00E-BFF87B402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D4591-35D8-4B71-974C-7E649A6FB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B9B62-24D8-4C75-97EB-DD984367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B8609-5B7A-4583-A3AF-1874F0DF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AB95-4570-4AEC-B25D-D04B1E82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E6846-1F25-4452-B8DD-F6E2DDD1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C2F4E-31BF-4C6D-B844-2F83C830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2F487-C29D-4A8C-BDCC-F50FA4F9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15343-002A-40B8-9EE0-0B9A10A2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C0B3B-8DE2-4221-9BE4-322C36B2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FE555-762A-4C68-999B-07E8A53D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EBFB5-1370-4EDD-80F8-8C99994A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1C441-300E-452F-A6DD-2C647C97C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6D2DF-5DD2-4B89-936A-332AC43E3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B7A7-F108-475A-8BB8-FD863017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D047-FB73-4C7C-B2DF-49ADEEC9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B937-69BA-4A69-A137-C8CC3187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A858-2012-4812-AAE4-05C7DEDF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1755-9968-4F6C-995F-CEFF4F30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B296-90F0-456F-B99D-0EDDE62F769F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804D-E9C4-43A2-8087-E52BBA4A8E92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6DF6-2C0A-4BC9-9655-5BB5C351DB8B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95FD-2B72-4A18-9CF9-2427E0E065E5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Сравните?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2" name="Объект 4" descr=""/>
          <p:cNvPicPr/>
          <p:nvPr/>
        </p:nvPicPr>
        <p:blipFill>
          <a:blip r:embed="rId1"/>
          <a:stretch/>
        </p:blipFill>
        <p:spPr>
          <a:xfrm>
            <a:off x="5292720" y="2629080"/>
            <a:ext cx="3024360" cy="3993840"/>
          </a:xfrm>
          <a:prstGeom prst="rect">
            <a:avLst/>
          </a:prstGeom>
          <a:ln w="0">
            <a:noFill/>
          </a:ln>
        </p:spPr>
      </p:pic>
      <p:pic>
        <p:nvPicPr>
          <p:cNvPr id="223" name="Объект 7" descr=""/>
          <p:cNvPicPr/>
          <p:nvPr/>
        </p:nvPicPr>
        <p:blipFill>
          <a:blip r:embed="rId2"/>
          <a:srcRect l="54484" t="45029" r="-343" b="6593"/>
          <a:stretch/>
        </p:blipFill>
        <p:spPr>
          <a:xfrm>
            <a:off x="5435640" y="476280"/>
            <a:ext cx="2556000" cy="202248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10" descr=""/>
          <p:cNvPicPr/>
          <p:nvPr/>
        </p:nvPicPr>
        <p:blipFill>
          <a:blip r:embed="rId3"/>
          <a:stretch/>
        </p:blipFill>
        <p:spPr>
          <a:xfrm>
            <a:off x="826920" y="1989000"/>
            <a:ext cx="3673800" cy="4613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Чаще всего изображали </a:t>
            </a:r>
            <a:r>
              <a:rPr b="0" lang="ru-RU" sz="2800" spc="-1" strike="noStrike">
                <a:solidFill>
                  <a:srgbClr val="424456"/>
                </a:solidFill>
                <a:latin typeface="Georgia"/>
              </a:rPr>
              <a:t>явства: </a:t>
            </a: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хлеб, фрукты, нарезанная ветчина, дичь, вино в бокалах- главные наслаждения в жизни.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6" name="Picture 2" descr="D:\Мои документы\Мои рисунки\natur4.jpg"/>
          <p:cNvPicPr/>
          <p:nvPr/>
        </p:nvPicPr>
        <p:blipFill>
          <a:blip r:embed="rId1"/>
          <a:stretch/>
        </p:blipFill>
        <p:spPr>
          <a:xfrm>
            <a:off x="500040" y="1714680"/>
            <a:ext cx="3714840" cy="47145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D:\Мои документы\Мои рисунки\1193516215_b4f027f458a6ebc450.jpg"/>
          <p:cNvPicPr/>
          <p:nvPr/>
        </p:nvPicPr>
        <p:blipFill>
          <a:blip r:embed="rId2"/>
          <a:stretch/>
        </p:blipFill>
        <p:spPr>
          <a:xfrm>
            <a:off x="4572000" y="1714680"/>
            <a:ext cx="3898800" cy="4572000"/>
          </a:xfrm>
          <a:prstGeom prst="rect">
            <a:avLst/>
          </a:prstGeom>
          <a:ln w="0">
            <a:noFill/>
          </a:ln>
        </p:spPr>
      </p:pic>
      <p:sp>
        <p:nvSpPr>
          <p:cNvPr id="258" name="Управляющая кнопка: документ 5"/>
          <p:cNvSpPr/>
          <p:nvPr/>
        </p:nvSpPr>
        <p:spPr>
          <a:xfrm>
            <a:off x="8604360" y="6381720"/>
            <a:ext cx="288720" cy="287280"/>
          </a:xfrm>
          <a:custGeom>
            <a:avLst/>
            <a:gdLst>
              <a:gd name="textAreaLeft" fmla="*/ 18360 w 288720"/>
              <a:gd name="textAreaRight" fmla="*/ 270360 w 28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708" h="21600">
                <a:moveTo>
                  <a:pt x="5327" y="3985"/>
                </a:moveTo>
                <a:lnTo>
                  <a:pt x="12325" y="3985"/>
                </a:lnTo>
                <a:lnTo>
                  <a:pt x="16381" y="7484"/>
                </a:lnTo>
                <a:lnTo>
                  <a:pt x="16381" y="17615"/>
                </a:lnTo>
                <a:lnTo>
                  <a:pt x="5327" y="17615"/>
                </a:lnTo>
                <a:close/>
              </a:path>
              <a:path fill="darken" w="21708" h="21600">
                <a:moveTo>
                  <a:pt x="12325" y="3985"/>
                </a:moveTo>
                <a:lnTo>
                  <a:pt x="16381" y="7484"/>
                </a:lnTo>
                <a:lnTo>
                  <a:pt x="12325" y="7484"/>
                </a:lnTo>
                <a:close/>
              </a:path>
            </a:pathLst>
          </a:cu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7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70" fill="hold"/>
                                        <p:tgtEl>
                                          <p:spTgt spid="2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43280" y="456840"/>
            <a:ext cx="4119840" cy="16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Georgia"/>
              </a:rPr>
              <a:t>Но есть и другие натюрморты, например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акварель Врубеля «Роза».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00400" y="2357280"/>
            <a:ext cx="376524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динокий прекрасный цветок стоит в прозрачном стакане. Художник любуется единственно ею. Цветок олицетворяет мечту художника о красоте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1" name="Picture 2" descr="D:\Мои документы\Мои рисунки\45ac020089ab.jpg"/>
          <p:cNvPicPr/>
          <p:nvPr/>
        </p:nvPicPr>
        <p:blipFill>
          <a:blip r:embed="rId1"/>
          <a:srcRect l="-849" t="0" r="0" b="0"/>
          <a:stretch/>
        </p:blipFill>
        <p:spPr>
          <a:xfrm>
            <a:off x="539640" y="714240"/>
            <a:ext cx="3746520" cy="5214960"/>
          </a:xfrm>
          <a:prstGeom prst="rect">
            <a:avLst/>
          </a:prstGeom>
          <a:ln w="0">
            <a:noFill/>
          </a:ln>
        </p:spPr>
      </p:pic>
      <p:sp>
        <p:nvSpPr>
          <p:cNvPr id="262" name="Управляющая кнопка: документ 4"/>
          <p:cNvSpPr/>
          <p:nvPr/>
        </p:nvSpPr>
        <p:spPr>
          <a:xfrm>
            <a:off x="8604360" y="6381720"/>
            <a:ext cx="288720" cy="287280"/>
          </a:xfrm>
          <a:custGeom>
            <a:avLst/>
            <a:gdLst>
              <a:gd name="textAreaLeft" fmla="*/ 18360 w 288720"/>
              <a:gd name="textAreaRight" fmla="*/ 270360 w 28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708" h="21600">
                <a:moveTo>
                  <a:pt x="5327" y="3985"/>
                </a:moveTo>
                <a:lnTo>
                  <a:pt x="12325" y="3985"/>
                </a:lnTo>
                <a:lnTo>
                  <a:pt x="16381" y="7484"/>
                </a:lnTo>
                <a:lnTo>
                  <a:pt x="16381" y="17615"/>
                </a:lnTo>
                <a:lnTo>
                  <a:pt x="5327" y="17615"/>
                </a:lnTo>
                <a:close/>
              </a:path>
              <a:path fill="darken" w="21708" h="21600">
                <a:moveTo>
                  <a:pt x="12325" y="3985"/>
                </a:moveTo>
                <a:lnTo>
                  <a:pt x="16381" y="7484"/>
                </a:lnTo>
                <a:lnTo>
                  <a:pt x="12325" y="7484"/>
                </a:lnTo>
                <a:close/>
              </a:path>
            </a:pathLst>
          </a:cu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3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38188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24456"/>
                </a:solidFill>
                <a:latin typeface="Georgia"/>
              </a:rPr>
              <a:t>Певцом радости называли ученика Саврасова и Поленова - </a:t>
            </a:r>
            <a:r>
              <a:rPr b="1" lang="ru-RU" sz="2500" spc="-1" strike="noStrike">
                <a:solidFill>
                  <a:srgbClr val="ff0000"/>
                </a:solidFill>
                <a:latin typeface="Georgia"/>
              </a:rPr>
              <a:t>Константина Коровина.</a:t>
            </a:r>
            <a:endParaRPr b="0" lang="en-US" sz="25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4041720" cy="4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anchor="ctr">
            <a:normAutofit/>
          </a:bodyPr>
          <a:p>
            <a:pPr marL="44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f3f3f"/>
                </a:solidFill>
                <a:latin typeface="Georgia"/>
              </a:rPr>
              <a:t>«Рыбы, вино, фрукты». К.Коровин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16000" y="1557360"/>
            <a:ext cx="4040280" cy="13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anchor="ctr">
            <a:normAutofit/>
          </a:bodyPr>
          <a:p>
            <a:pPr marL="44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f3f3f"/>
                </a:solidFill>
                <a:latin typeface="Georgia"/>
              </a:rPr>
              <a:t>В натюрморте  мазки красок «вылепливают» связку рыбы, разбросанные розово-желто-красные яблоки, бутылку с напитком. От полотна исходит ощущение радости жизни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44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6" name="Picture 2" descr="D:\Мои документы\Мои рисунки\korovin_big.jpg"/>
          <p:cNvPicPr/>
          <p:nvPr/>
        </p:nvPicPr>
        <p:blipFill>
          <a:blip r:embed="rId1"/>
          <a:stretch/>
        </p:blipFill>
        <p:spPr>
          <a:xfrm>
            <a:off x="642960" y="2201760"/>
            <a:ext cx="3357720" cy="41562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D:\Мои документы\Мои рисунки\Korovin__Constantin_Alexejevich_Fish__Wine_and_Fruit_fine_art_print_b.jpg"/>
          <p:cNvPicPr/>
          <p:nvPr/>
        </p:nvPicPr>
        <p:blipFill>
          <a:blip r:embed="rId2"/>
          <a:stretch/>
        </p:blipFill>
        <p:spPr>
          <a:xfrm>
            <a:off x="4214880" y="2786040"/>
            <a:ext cx="4473360" cy="3500640"/>
          </a:xfrm>
          <a:prstGeom prst="rect">
            <a:avLst/>
          </a:prstGeom>
          <a:ln w="0">
            <a:noFill/>
          </a:ln>
        </p:spPr>
      </p:pic>
      <p:sp>
        <p:nvSpPr>
          <p:cNvPr id="268" name="Управляющая кнопка: документ 6"/>
          <p:cNvSpPr/>
          <p:nvPr/>
        </p:nvSpPr>
        <p:spPr>
          <a:xfrm>
            <a:off x="8604360" y="6381720"/>
            <a:ext cx="288720" cy="287280"/>
          </a:xfrm>
          <a:custGeom>
            <a:avLst/>
            <a:gdLst>
              <a:gd name="textAreaLeft" fmla="*/ 18360 w 288720"/>
              <a:gd name="textAreaRight" fmla="*/ 270360 w 28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708" h="21600">
                <a:moveTo>
                  <a:pt x="5327" y="3985"/>
                </a:moveTo>
                <a:lnTo>
                  <a:pt x="12325" y="3985"/>
                </a:lnTo>
                <a:lnTo>
                  <a:pt x="16381" y="7484"/>
                </a:lnTo>
                <a:lnTo>
                  <a:pt x="16381" y="17615"/>
                </a:lnTo>
                <a:lnTo>
                  <a:pt x="5327" y="17615"/>
                </a:lnTo>
                <a:close/>
              </a:path>
              <a:path fill="darken" w="21708" h="21600">
                <a:moveTo>
                  <a:pt x="12325" y="3985"/>
                </a:moveTo>
                <a:lnTo>
                  <a:pt x="16381" y="7484"/>
                </a:lnTo>
                <a:lnTo>
                  <a:pt x="12325" y="7484"/>
                </a:lnTo>
                <a:close/>
              </a:path>
            </a:pathLst>
          </a:cu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5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385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385" fill="hold"/>
                                        <p:tgtEl>
                                          <p:spTgt spid="2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385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385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385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" dur="385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6" dur="385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8" dur="385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77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0" dur="770" fill="hold"/>
                                        <p:tgtEl>
                                          <p:spTgt spid="2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2" dur="77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4" dur="77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77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77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1" dur="77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3" dur="77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Художник  К.С. Петров –Водкин  </a:t>
            </a:r>
            <a:r>
              <a:rPr b="1" lang="ru-RU" sz="2400" spc="-1" strike="noStrike">
                <a:solidFill>
                  <a:srgbClr val="424456"/>
                </a:solidFill>
                <a:latin typeface="Georgia"/>
              </a:rPr>
              <a:t>внимательно анализирует  форму  предмета</a:t>
            </a:r>
            <a:r>
              <a:rPr b="1" lang="ru-RU" sz="2000" spc="-1" strike="noStrike">
                <a:solidFill>
                  <a:srgbClr val="424456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3672000" cy="146232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anchor="ctr">
            <a:normAutofit fontScale="99000"/>
          </a:bodyPr>
          <a:p>
            <a:pPr marL="435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f3f3f"/>
                </a:solidFill>
                <a:latin typeface="Georgia"/>
              </a:rPr>
              <a:t>В «Утреннем натюрморте» он выбирает высокую точку зрения, что позволяет  видеть предметы и с боку, и сверху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924360" y="1268280"/>
            <a:ext cx="4829040" cy="180504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anchor="ctr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f3f3f"/>
                </a:solidFill>
                <a:latin typeface="Georgia"/>
              </a:rPr>
              <a:t>Их форма и материал четки. Два тона- теплый золотистый и холодный зеленоватый перекликаются в разных предметах.  Цветовая гамма наполняет картину утренней свежестью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2" name="Picture 2" descr="D:\Мои документы\Мои рисунки\kustod_587.jpg"/>
          <p:cNvPicPr/>
          <p:nvPr/>
        </p:nvPicPr>
        <p:blipFill>
          <a:blip r:embed="rId1"/>
          <a:stretch/>
        </p:blipFill>
        <p:spPr>
          <a:xfrm>
            <a:off x="324000" y="2852640"/>
            <a:ext cx="2415960" cy="37879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D:\Мои документы\Мои рисунки\271.jpg"/>
          <p:cNvPicPr/>
          <p:nvPr/>
        </p:nvPicPr>
        <p:blipFill>
          <a:blip r:embed="rId2"/>
          <a:stretch/>
        </p:blipFill>
        <p:spPr>
          <a:xfrm>
            <a:off x="3714840" y="3143160"/>
            <a:ext cx="4500360" cy="3000600"/>
          </a:xfrm>
          <a:prstGeom prst="rect">
            <a:avLst/>
          </a:prstGeom>
          <a:ln w="0">
            <a:noFill/>
          </a:ln>
        </p:spPr>
      </p:pic>
      <p:sp>
        <p:nvSpPr>
          <p:cNvPr id="274" name="Управляющая кнопка: документ 6"/>
          <p:cNvSpPr/>
          <p:nvPr/>
        </p:nvSpPr>
        <p:spPr>
          <a:xfrm>
            <a:off x="8604360" y="6381720"/>
            <a:ext cx="288720" cy="287280"/>
          </a:xfrm>
          <a:custGeom>
            <a:avLst/>
            <a:gdLst>
              <a:gd name="textAreaLeft" fmla="*/ 18360 w 288720"/>
              <a:gd name="textAreaRight" fmla="*/ 270360 w 28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708" h="21600">
                <a:moveTo>
                  <a:pt x="5327" y="3985"/>
                </a:moveTo>
                <a:lnTo>
                  <a:pt x="12325" y="3985"/>
                </a:lnTo>
                <a:lnTo>
                  <a:pt x="16381" y="7484"/>
                </a:lnTo>
                <a:lnTo>
                  <a:pt x="16381" y="17615"/>
                </a:lnTo>
                <a:lnTo>
                  <a:pt x="5327" y="17615"/>
                </a:lnTo>
                <a:close/>
              </a:path>
              <a:path fill="darken" w="21708" h="21600">
                <a:moveTo>
                  <a:pt x="12325" y="3985"/>
                </a:moveTo>
                <a:lnTo>
                  <a:pt x="16381" y="7484"/>
                </a:lnTo>
                <a:lnTo>
                  <a:pt x="12325" y="7484"/>
                </a:lnTo>
                <a:close/>
              </a:path>
            </a:pathLst>
          </a:cu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77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770" fill="hold"/>
                                        <p:tgtEl>
                                          <p:spTgt spid="2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7" dur="77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77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77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6" dur="77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77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770" fill="hold"/>
                                        <p:tgtEl>
                                          <p:spTgt spid="2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77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770" fill="hold"/>
                                        <p:tgtEl>
                                          <p:spTgt spid="2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6" dur="77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8" dur="77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77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77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7" dur="77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77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2" dur="770" fill="hold"/>
                                        <p:tgtEl>
                                          <p:spTgt spid="2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4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6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Georgia"/>
              </a:rPr>
              <a:t>Правила изображения натюрморта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24000" y="1341360"/>
            <a:ext cx="3240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Натюрморт не может быть составлен из случайно выбранных предметов.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В состав натюрморта должны входить предметы разнообразные по форме, величине, фактуре и цвету.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Предметы должны гармонично сочетаться друг с другом, соприкасаться, составляя единое целое, но, не загораживая друг  друга; 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В композиции должен быть композиционный центр.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Величина изображения всей группы предметов должна находиться в соответствии с фоном.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7" name="Picture 2" descr="http://www.artlib.ru/objects/gallery_29/artlib_gallery-14685-b.jpg"/>
          <p:cNvPicPr/>
          <p:nvPr/>
        </p:nvPicPr>
        <p:blipFill>
          <a:blip r:embed="rId1"/>
          <a:stretch/>
        </p:blipFill>
        <p:spPr>
          <a:xfrm>
            <a:off x="3635280" y="1125360"/>
            <a:ext cx="2449440" cy="220824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5" descr="40858-ksyu.jpg"/>
          <p:cNvPicPr/>
          <p:nvPr/>
        </p:nvPicPr>
        <p:blipFill>
          <a:blip r:embed="rId2"/>
          <a:stretch/>
        </p:blipFill>
        <p:spPr>
          <a:xfrm>
            <a:off x="5364000" y="1557360"/>
            <a:ext cx="2880000" cy="215892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10" descr="http://smim.ru/foto/albums/userpics/10001/%CC%E0%F8%EA%EE%E2%20-%20%D2%FB%EA%E2%E0.jpg"/>
          <p:cNvPicPr/>
          <p:nvPr/>
        </p:nvPicPr>
        <p:blipFill>
          <a:blip r:embed="rId3"/>
          <a:stretch/>
        </p:blipFill>
        <p:spPr>
          <a:xfrm>
            <a:off x="3780000" y="2924280"/>
            <a:ext cx="2920680" cy="2482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http://designcollege.narod.ru/Painting/Pepper.jpg"/>
          <p:cNvPicPr/>
          <p:nvPr/>
        </p:nvPicPr>
        <p:blipFill>
          <a:blip r:embed="rId4"/>
          <a:stretch/>
        </p:blipFill>
        <p:spPr>
          <a:xfrm>
            <a:off x="5796000" y="3213000"/>
            <a:ext cx="2421000" cy="3227400"/>
          </a:xfrm>
          <a:prstGeom prst="rect">
            <a:avLst/>
          </a:prstGeom>
          <a:ln w="0">
            <a:noFill/>
          </a:ln>
        </p:spPr>
      </p:pic>
      <p:sp>
        <p:nvSpPr>
          <p:cNvPr id="281" name="Управляющая кнопка: документ 11"/>
          <p:cNvSpPr/>
          <p:nvPr/>
        </p:nvSpPr>
        <p:spPr>
          <a:xfrm>
            <a:off x="8604360" y="6381720"/>
            <a:ext cx="288720" cy="287280"/>
          </a:xfrm>
          <a:custGeom>
            <a:avLst/>
            <a:gdLst>
              <a:gd name="textAreaLeft" fmla="*/ 18360 w 288720"/>
              <a:gd name="textAreaRight" fmla="*/ 270360 w 28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708" h="21600">
                <a:moveTo>
                  <a:pt x="5327" y="3985"/>
                </a:moveTo>
                <a:lnTo>
                  <a:pt x="12325" y="3985"/>
                </a:lnTo>
                <a:lnTo>
                  <a:pt x="16381" y="7484"/>
                </a:lnTo>
                <a:lnTo>
                  <a:pt x="16381" y="17615"/>
                </a:lnTo>
                <a:lnTo>
                  <a:pt x="5327" y="17615"/>
                </a:lnTo>
                <a:close/>
              </a:path>
              <a:path fill="darken" w="21708" h="21600">
                <a:moveTo>
                  <a:pt x="12325" y="3985"/>
                </a:moveTo>
                <a:lnTo>
                  <a:pt x="16381" y="7484"/>
                </a:lnTo>
                <a:lnTo>
                  <a:pt x="12325" y="7484"/>
                </a:lnTo>
                <a:close/>
              </a:path>
            </a:pathLst>
          </a:cu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2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4550"/>
                            </p:stCondLst>
                            <p:childTnLst>
                              <p:par>
                                <p:cTn id="3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3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3" name="Объект 7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207280" cy="6156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ГРАФИК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5" name="Рисунок 6" descr=""/>
          <p:cNvPicPr/>
          <p:nvPr/>
        </p:nvPicPr>
        <p:blipFill>
          <a:blip r:embed="rId1"/>
          <a:srcRect l="-167" t="9591" r="4106" b="1796"/>
          <a:stretch/>
        </p:blipFill>
        <p:spPr>
          <a:xfrm>
            <a:off x="2365200" y="1301760"/>
            <a:ext cx="6778800" cy="52959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7" name="Объект 5" descr=""/>
          <p:cNvPicPr/>
          <p:nvPr/>
        </p:nvPicPr>
        <p:blipFill>
          <a:blip r:embed="rId2"/>
          <a:srcRect l="3465" t="40105" r="46969" b="9118"/>
          <a:stretch/>
        </p:blipFill>
        <p:spPr>
          <a:xfrm>
            <a:off x="250920" y="2781360"/>
            <a:ext cx="2636640" cy="2023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9" name="Объект 5" descr=""/>
          <p:cNvPicPr/>
          <p:nvPr/>
        </p:nvPicPr>
        <p:blipFill>
          <a:blip r:embed="rId1"/>
          <a:stretch/>
        </p:blipFill>
        <p:spPr>
          <a:xfrm>
            <a:off x="311040" y="1052640"/>
            <a:ext cx="8832960" cy="4968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91" name="Объект 5" descr=""/>
          <p:cNvPicPr/>
          <p:nvPr/>
        </p:nvPicPr>
        <p:blipFill>
          <a:blip r:embed="rId1"/>
          <a:srcRect l="201" t="-1386" r="-197" b="-829"/>
          <a:stretch/>
        </p:blipFill>
        <p:spPr>
          <a:xfrm>
            <a:off x="395280" y="189000"/>
            <a:ext cx="8636040" cy="6419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Georgia"/>
              </a:rPr>
              <a:t>Конструктивное построение натюрморта: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93" name="Содержимое 8" descr="http://www.naturmord.ru/img/19.jpg"/>
          <p:cNvPicPr/>
          <p:nvPr/>
        </p:nvPicPr>
        <p:blipFill>
          <a:blip r:embed="rId1"/>
          <a:stretch/>
        </p:blipFill>
        <p:spPr>
          <a:xfrm>
            <a:off x="755640" y="1341360"/>
            <a:ext cx="2228760" cy="2257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4" name="Рисунок 9" descr="http://www.naturmord.ru/img/20.jpg"/>
          <p:cNvPicPr/>
          <p:nvPr/>
        </p:nvPicPr>
        <p:blipFill>
          <a:blip r:embed="rId2"/>
          <a:stretch/>
        </p:blipFill>
        <p:spPr>
          <a:xfrm>
            <a:off x="3419640" y="1341360"/>
            <a:ext cx="2259000" cy="226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5" name="Рисунок 10" descr="http://www.naturmord.ru/img/21.jpg"/>
          <p:cNvPicPr/>
          <p:nvPr/>
        </p:nvPicPr>
        <p:blipFill>
          <a:blip r:embed="rId3"/>
          <a:stretch/>
        </p:blipFill>
        <p:spPr>
          <a:xfrm>
            <a:off x="6372360" y="1413000"/>
            <a:ext cx="2233440" cy="215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96" name="Рисунок 11" descr="http://www.naturmord.ru/img/22.jpg"/>
          <p:cNvPicPr/>
          <p:nvPr/>
        </p:nvPicPr>
        <p:blipFill>
          <a:blip r:embed="rId4"/>
          <a:stretch/>
        </p:blipFill>
        <p:spPr>
          <a:xfrm>
            <a:off x="826920" y="3933720"/>
            <a:ext cx="2265480" cy="21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7" name="Прямоугольник 12"/>
          <p:cNvSpPr/>
          <p:nvPr/>
        </p:nvSpPr>
        <p:spPr>
          <a:xfrm>
            <a:off x="4067280" y="45813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а, б - наметка общего расположения предметов натюрморт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в - перспективное построение изображений на плоск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г - детальная прорис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Управляющая кнопка: документ 13"/>
          <p:cNvSpPr/>
          <p:nvPr/>
        </p:nvSpPr>
        <p:spPr>
          <a:xfrm>
            <a:off x="8604360" y="6381720"/>
            <a:ext cx="288720" cy="287280"/>
          </a:xfrm>
          <a:custGeom>
            <a:avLst/>
            <a:gdLst>
              <a:gd name="textAreaLeft" fmla="*/ 18360 w 288720"/>
              <a:gd name="textAreaRight" fmla="*/ 270360 w 28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708" h="21600">
                <a:moveTo>
                  <a:pt x="5327" y="3985"/>
                </a:moveTo>
                <a:lnTo>
                  <a:pt x="12325" y="3985"/>
                </a:lnTo>
                <a:lnTo>
                  <a:pt x="16381" y="7484"/>
                </a:lnTo>
                <a:lnTo>
                  <a:pt x="16381" y="17615"/>
                </a:lnTo>
                <a:lnTo>
                  <a:pt x="5327" y="17615"/>
                </a:lnTo>
                <a:close/>
              </a:path>
              <a:path fill="darken" w="21708" h="21600">
                <a:moveTo>
                  <a:pt x="12325" y="3985"/>
                </a:moveTo>
                <a:lnTo>
                  <a:pt x="16381" y="7484"/>
                </a:lnTo>
                <a:lnTo>
                  <a:pt x="12325" y="7484"/>
                </a:lnTo>
                <a:close/>
              </a:path>
            </a:pathLst>
          </a:cu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Как мы можем назвать тему нашего урока? (ребус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6" name="Объект 3" descr=""/>
          <p:cNvPicPr/>
          <p:nvPr/>
        </p:nvPicPr>
        <p:blipFill>
          <a:blip r:embed="rId1"/>
          <a:stretch/>
        </p:blipFill>
        <p:spPr>
          <a:xfrm>
            <a:off x="3483000" y="2470320"/>
            <a:ext cx="2222640" cy="3098520"/>
          </a:xfrm>
          <a:prstGeom prst="rect">
            <a:avLst/>
          </a:prstGeom>
          <a:ln w="0">
            <a:noFill/>
          </a:ln>
        </p:spPr>
      </p:pic>
      <p:pic>
        <p:nvPicPr>
          <p:cNvPr id="227" name="Объект 3" descr=""/>
          <p:cNvPicPr/>
          <p:nvPr/>
        </p:nvPicPr>
        <p:blipFill>
          <a:blip r:embed="rId2"/>
          <a:stretch/>
        </p:blipFill>
        <p:spPr>
          <a:xfrm>
            <a:off x="179280" y="2568600"/>
            <a:ext cx="2354400" cy="290196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1" descr=""/>
          <p:cNvPicPr/>
          <p:nvPr/>
        </p:nvPicPr>
        <p:blipFill>
          <a:blip r:embed="rId3"/>
          <a:stretch/>
        </p:blipFill>
        <p:spPr>
          <a:xfrm>
            <a:off x="2438280" y="3144960"/>
            <a:ext cx="1347840" cy="156024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2" descr=""/>
          <p:cNvPicPr/>
          <p:nvPr/>
        </p:nvPicPr>
        <p:blipFill>
          <a:blip r:embed="rId4"/>
          <a:stretch/>
        </p:blipFill>
        <p:spPr>
          <a:xfrm>
            <a:off x="5389560" y="2773440"/>
            <a:ext cx="4187880" cy="3206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Georgia"/>
              </a:rPr>
              <a:t>Неправильная компоновка рисунка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00" name="Содержимое 3" descr="http://www.naturmord.ru/img/23.jpg"/>
          <p:cNvPicPr/>
          <p:nvPr/>
        </p:nvPicPr>
        <p:blipFill>
          <a:blip r:embed="rId1"/>
          <a:srcRect l="0" t="0" r="-13067" b="-14729"/>
          <a:stretch/>
        </p:blipFill>
        <p:spPr>
          <a:xfrm>
            <a:off x="1187280" y="2349360"/>
            <a:ext cx="2521080" cy="244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1" name="Рисунок 4" descr="Рис. 8. Конструктивное построение натюрморта"/>
          <p:cNvPicPr/>
          <p:nvPr/>
        </p:nvPicPr>
        <p:blipFill>
          <a:blip r:embed="rId2"/>
          <a:srcRect l="-9593" t="-6433" r="753" b="161"/>
          <a:stretch/>
        </p:blipFill>
        <p:spPr>
          <a:xfrm>
            <a:off x="5867280" y="3068640"/>
            <a:ext cx="2449800" cy="237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02" name="Управляющая кнопка: документ 5"/>
          <p:cNvSpPr/>
          <p:nvPr/>
        </p:nvSpPr>
        <p:spPr>
          <a:xfrm>
            <a:off x="8604360" y="6381720"/>
            <a:ext cx="288720" cy="287280"/>
          </a:xfrm>
          <a:custGeom>
            <a:avLst/>
            <a:gdLst>
              <a:gd name="textAreaLeft" fmla="*/ 18360 w 288720"/>
              <a:gd name="textAreaRight" fmla="*/ 270360 w 28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708" h="21600">
                <a:moveTo>
                  <a:pt x="5327" y="3985"/>
                </a:moveTo>
                <a:lnTo>
                  <a:pt x="12325" y="3985"/>
                </a:lnTo>
                <a:lnTo>
                  <a:pt x="16381" y="7484"/>
                </a:lnTo>
                <a:lnTo>
                  <a:pt x="16381" y="17615"/>
                </a:lnTo>
                <a:lnTo>
                  <a:pt x="5327" y="17615"/>
                </a:lnTo>
                <a:close/>
              </a:path>
              <a:path fill="darken" w="21708" h="21600">
                <a:moveTo>
                  <a:pt x="12325" y="3985"/>
                </a:moveTo>
                <a:lnTo>
                  <a:pt x="16381" y="7484"/>
                </a:lnTo>
                <a:lnTo>
                  <a:pt x="12325" y="7484"/>
                </a:lnTo>
                <a:close/>
              </a:path>
            </a:pathLst>
          </a:cu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280" y="177300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ЗАДАНИЕ  формат А4( альбомный лист), материал простой-карандаш    ( ТМ,М),ластик 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539280" y="3789360"/>
            <a:ext cx="4953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2056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Эскиз ( 2 разных натюрморта) на формате А5 ( ½ альбомного листа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2056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Перенос лучшего натюрморта на формат А4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20560" indent="-4572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Разбор предметов на плоскости (Проработка свето-тени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205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205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Предметы быта в твоем Натюрморте</a:t>
            </a:r>
            <a:endParaRPr b="0" lang="en-US" sz="6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роки ИЗОБРАЗИТЕЛЬНОГО ИСКУССТВА в 5 класс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Прямоугольник 3"/>
          <p:cNvSpPr/>
          <p:nvPr/>
        </p:nvSpPr>
        <p:spPr>
          <a:xfrm>
            <a:off x="684360" y="189000"/>
            <a:ext cx="7343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одержание: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НАТЮРМОРТ – один из жанров изобразительного искусств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Французское «натуре морте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НАТЮРМОРТзародился в Голландии и в соседней Фландрии в XVII веке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Чаще всего изображали явств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Но есть и другие натюрморты, например акварель Врубеля «Роза»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евцом радости называли ученика Саврасова и Поленова - Константина Коровина.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Художник  К.С. Петров –Водкин  внимательно анализирует  форму  предмет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авила изображения натюрмортаКонструктивное построение натюрморт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Неправильная компоновка рисунк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rebuchet MS"/>
              </a:rPr>
              <a:t>Вид изобразительного искусства -НАТЮРМОРТ.</a:t>
            </a:r>
            <a:br>
              <a:rPr sz="4000"/>
            </a:b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* Натюрморт в живописи </a:t>
            </a:r>
            <a:br>
              <a:rPr sz="4000"/>
            </a:b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*Натюрморт в графике</a:t>
            </a:r>
            <a:br>
              <a:rPr sz="4000"/>
            </a:b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*Декоративный натюрморт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6" name="Объект 5" descr=""/>
          <p:cNvPicPr/>
          <p:nvPr/>
        </p:nvPicPr>
        <p:blipFill>
          <a:blip r:embed="rId1"/>
          <a:srcRect l="3465" t="40105" r="46969" b="9118"/>
          <a:stretch/>
        </p:blipFill>
        <p:spPr>
          <a:xfrm>
            <a:off x="3305160" y="4287960"/>
            <a:ext cx="3076560" cy="2363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D:\Мои документы\Мои рисунки\271.jpg"/>
          <p:cNvPicPr/>
          <p:nvPr/>
        </p:nvPicPr>
        <p:blipFill>
          <a:blip r:embed="rId2"/>
          <a:stretch/>
        </p:blipFill>
        <p:spPr>
          <a:xfrm>
            <a:off x="184320" y="4292640"/>
            <a:ext cx="2884320" cy="1922400"/>
          </a:xfrm>
          <a:prstGeom prst="rect">
            <a:avLst/>
          </a:prstGeom>
          <a:ln w="0">
            <a:noFill/>
          </a:ln>
        </p:spPr>
      </p:pic>
      <p:pic>
        <p:nvPicPr>
          <p:cNvPr id="238" name="Объект 7" descr=""/>
          <p:cNvPicPr/>
          <p:nvPr/>
        </p:nvPicPr>
        <p:blipFill>
          <a:blip r:embed="rId3"/>
          <a:srcRect l="0" t="21864" r="49953" b="28982"/>
          <a:stretch/>
        </p:blipFill>
        <p:spPr>
          <a:xfrm>
            <a:off x="6516720" y="4292640"/>
            <a:ext cx="2522520" cy="1859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2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0" name="Объект 3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09080" cy="6156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Рисунок 4" descr="9379dd4ed697.jpg"/>
          <p:cNvPicPr/>
          <p:nvPr/>
        </p:nvPicPr>
        <p:blipFill>
          <a:blip r:embed="rId1"/>
          <a:stretch/>
        </p:blipFill>
        <p:spPr>
          <a:xfrm>
            <a:off x="971640" y="3141720"/>
            <a:ext cx="2711520" cy="32414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Лайкова Т. Н. Возрождение"/>
          <p:cNvPicPr/>
          <p:nvPr/>
        </p:nvPicPr>
        <p:blipFill>
          <a:blip r:embed="rId2"/>
          <a:stretch/>
        </p:blipFill>
        <p:spPr>
          <a:xfrm>
            <a:off x="5003640" y="3429000"/>
            <a:ext cx="3681720" cy="27367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НАТЮРМОРТ – один из жанров изобразительного искусства,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826920" y="1341360"/>
            <a:ext cx="7777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главным образом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– живописи. В натюрморте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изображаются только обиходные, т.е. 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повседневные, обыденные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вещи</a:t>
            </a: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, неодушевленные предметы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Управляющая кнопка: документ 5"/>
          <p:cNvSpPr/>
          <p:nvPr/>
        </p:nvSpPr>
        <p:spPr>
          <a:xfrm>
            <a:off x="8604360" y="6381720"/>
            <a:ext cx="288720" cy="287280"/>
          </a:xfrm>
          <a:custGeom>
            <a:avLst/>
            <a:gdLst>
              <a:gd name="textAreaLeft" fmla="*/ 18360 w 288720"/>
              <a:gd name="textAreaRight" fmla="*/ 270360 w 28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708" h="21600">
                <a:moveTo>
                  <a:pt x="5327" y="3985"/>
                </a:moveTo>
                <a:lnTo>
                  <a:pt x="12325" y="3985"/>
                </a:lnTo>
                <a:lnTo>
                  <a:pt x="16381" y="7484"/>
                </a:lnTo>
                <a:lnTo>
                  <a:pt x="16381" y="17615"/>
                </a:lnTo>
                <a:lnTo>
                  <a:pt x="5327" y="17615"/>
                </a:lnTo>
                <a:close/>
              </a:path>
              <a:path fill="darken" w="21708" h="21600">
                <a:moveTo>
                  <a:pt x="12325" y="3985"/>
                </a:moveTo>
                <a:lnTo>
                  <a:pt x="16381" y="7484"/>
                </a:lnTo>
                <a:lnTo>
                  <a:pt x="12325" y="7484"/>
                </a:lnTo>
                <a:close/>
              </a:path>
            </a:pathLst>
          </a:cu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2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7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7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Georgia"/>
              </a:rPr>
              <a:t> </a:t>
            </a:r>
            <a:r>
              <a:rPr b="0" lang="ru-RU" sz="3100" spc="-1" strike="noStrike">
                <a:solidFill>
                  <a:srgbClr val="424456"/>
                </a:solidFill>
                <a:latin typeface="Georgia"/>
              </a:rPr>
              <a:t>Французское «натуре морте» – </a:t>
            </a:r>
            <a:endParaRPr b="0" lang="en-US" sz="31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7" name="Рисунок 3" descr="47875933_Konstantin_Korovin_ak.jpg"/>
          <p:cNvPicPr/>
          <p:nvPr/>
        </p:nvPicPr>
        <p:blipFill>
          <a:blip r:embed="rId1"/>
          <a:stretch/>
        </p:blipFill>
        <p:spPr>
          <a:xfrm>
            <a:off x="4643280" y="3284640"/>
            <a:ext cx="4081680" cy="328608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5" descr="0_1f166_a760bb33_L.jpg"/>
          <p:cNvPicPr/>
          <p:nvPr/>
        </p:nvPicPr>
        <p:blipFill>
          <a:blip r:embed="rId2"/>
          <a:stretch/>
        </p:blipFill>
        <p:spPr>
          <a:xfrm>
            <a:off x="330120" y="1413000"/>
            <a:ext cx="3737160" cy="50115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2050560" y="1125360"/>
            <a:ext cx="6481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lang="ru-RU" sz="1900" spc="-1" strike="noStrike">
                <a:solidFill>
                  <a:srgbClr val="ff0000"/>
                </a:solidFill>
                <a:latin typeface="Georgia"/>
              </a:rPr>
              <a:t>буквально означает «мертвая натура». 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Все живое, естественное, природное становится в натюрморте неодушевленным, мертвым  и приравнивается к вещам. Так, чтобы стать предметом натюрморта плоды и фрукты должны быть сорваны, звери и птицы – убиты, рыбы, морские животные – выловлены, цветы – срезаны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Управляющая кнопка: документ 6"/>
          <p:cNvSpPr/>
          <p:nvPr/>
        </p:nvSpPr>
        <p:spPr>
          <a:xfrm>
            <a:off x="8604360" y="6381720"/>
            <a:ext cx="288720" cy="287280"/>
          </a:xfrm>
          <a:custGeom>
            <a:avLst/>
            <a:gdLst>
              <a:gd name="textAreaLeft" fmla="*/ 18360 w 288720"/>
              <a:gd name="textAreaRight" fmla="*/ 270360 w 28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708" h="21600">
                <a:moveTo>
                  <a:pt x="5327" y="3985"/>
                </a:moveTo>
                <a:lnTo>
                  <a:pt x="12325" y="3985"/>
                </a:lnTo>
                <a:lnTo>
                  <a:pt x="16381" y="7484"/>
                </a:lnTo>
                <a:lnTo>
                  <a:pt x="16381" y="17615"/>
                </a:lnTo>
                <a:lnTo>
                  <a:pt x="5327" y="17615"/>
                </a:lnTo>
                <a:close/>
              </a:path>
              <a:path fill="darken" w="21708" h="21600">
                <a:moveTo>
                  <a:pt x="12325" y="3985"/>
                </a:moveTo>
                <a:lnTo>
                  <a:pt x="16381" y="7484"/>
                </a:lnTo>
                <a:lnTo>
                  <a:pt x="12325" y="7484"/>
                </a:lnTo>
                <a:close/>
              </a:path>
            </a:pathLst>
          </a:cu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D:\Мои документы\Мои рисунки\zamok-beersel-vo-flandrii_-xiv-vek.jpg"/>
          <p:cNvPicPr/>
          <p:nvPr/>
        </p:nvPicPr>
        <p:blipFill>
          <a:blip r:embed="rId1"/>
          <a:stretch/>
        </p:blipFill>
        <p:spPr>
          <a:xfrm>
            <a:off x="324000" y="2492280"/>
            <a:ext cx="4302000" cy="3303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D:\Мои документы\Мои рисунки\still-life_with_fruit.jpg"/>
          <p:cNvPicPr/>
          <p:nvPr/>
        </p:nvPicPr>
        <p:blipFill>
          <a:blip r:embed="rId2"/>
          <a:stretch/>
        </p:blipFill>
        <p:spPr>
          <a:xfrm>
            <a:off x="4716360" y="2421000"/>
            <a:ext cx="4281480" cy="32860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Georgia"/>
              </a:rPr>
              <a:t>НАТЮРМОРТ 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зародился в Голландии и в соседней Фландрии в 17 веке. 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Управляющая кнопка: документ 4"/>
          <p:cNvSpPr/>
          <p:nvPr/>
        </p:nvSpPr>
        <p:spPr>
          <a:xfrm>
            <a:off x="8604360" y="6381720"/>
            <a:ext cx="288720" cy="287280"/>
          </a:xfrm>
          <a:custGeom>
            <a:avLst/>
            <a:gdLst>
              <a:gd name="textAreaLeft" fmla="*/ 18360 w 288720"/>
              <a:gd name="textAreaRight" fmla="*/ 270360 w 28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708" h="21600">
                <a:moveTo>
                  <a:pt x="5327" y="3985"/>
                </a:moveTo>
                <a:lnTo>
                  <a:pt x="12325" y="3985"/>
                </a:lnTo>
                <a:lnTo>
                  <a:pt x="16381" y="7484"/>
                </a:lnTo>
                <a:lnTo>
                  <a:pt x="16381" y="17615"/>
                </a:lnTo>
                <a:lnTo>
                  <a:pt x="5327" y="17615"/>
                </a:lnTo>
                <a:close/>
              </a:path>
              <a:path fill="darken" w="21708" h="21600">
                <a:moveTo>
                  <a:pt x="12325" y="3985"/>
                </a:moveTo>
                <a:lnTo>
                  <a:pt x="16381" y="7484"/>
                </a:lnTo>
                <a:lnTo>
                  <a:pt x="12325" y="7484"/>
                </a:lnTo>
                <a:close/>
              </a:path>
            </a:pathLst>
          </a:cu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3150"/>
                            </p:stCondLst>
                            <p:childTnLst>
                              <p:par>
                                <p:cTn id="8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650"/>
                            </p:stCondLst>
                            <p:childTnLst>
                              <p:par>
                                <p:cTn id="9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1T18:24:57Z</dcterms:created>
  <dc:creator>Zver</dc:creator>
  <dc:description/>
  <dc:language>en-US</dc:language>
  <cp:lastModifiedBy>Учитель</cp:lastModifiedBy>
  <dcterms:modified xsi:type="dcterms:W3CDTF">2020-08-19T04:47:44Z</dcterms:modified>
  <cp:revision>25</cp:revision>
  <dc:subject/>
  <dc:title>Слайд 1</dc:title>
</cp:coreProperties>
</file>