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2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01C5-EEA1-41B0-B098-277613B9C1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2A96-F4C7-42C2-867B-E732F2200B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D49-2EC0-4694-997A-F96EFF0D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06C-1B66-4C5D-8CB4-30B025B5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391-D467-42F4-84B4-D71C4618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B5D-5FCB-490E-931F-372BF3AE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E1CF-9976-4812-9C6D-E7BBFDD2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4DAD-D555-42C0-8AF6-09C89587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AD0C-DC82-4176-970D-DDE524AA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F5CB-EE8C-4488-8A20-91E79CFE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8295-8AFF-431E-849B-5479CA0E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CE61-487C-40FD-9CAA-DC147F27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FA78-1ACE-43A7-BD6A-5F461C2E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67E-A955-4CB1-8048-8BA4F419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FA91-8A0F-4BF3-81DF-ACD47135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AE07-7D6C-4515-8FAF-26623DAC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D0F7-925D-48E2-89A9-D8293736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18AA-6EDD-4537-B5E4-887873E1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7572-2CA7-4B7C-BD77-1E563E08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198BD-8587-48AE-966F-B3019301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A5329-240F-481B-90F8-1133347C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57E76-CCC4-4623-B9A3-B655547C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4EC47-165C-4E5B-8C8E-7100A443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F1577-B3BF-42C5-896D-F0429021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E37-13BA-41B9-A8B0-F5C665A9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5C330-09AB-4A4D-A3FF-D16687C7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ACFC1-8863-4BA3-9A92-3B6441B4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C1953-EB14-4658-B57D-762B66F8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2786E-CD8B-4CA5-88B4-5F8F75CA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2EFD6-587D-44C4-8D29-DEC813A6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F4824-34A2-43A4-86FA-EBDAD1A2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1286B-5452-4994-898B-77635783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0F993-0164-46B5-B35A-B50C94BB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BBB9A-9452-4C2C-9C5C-95F21D00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D0CF5-D6D1-4B81-92E3-EE97EB6E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B00-6F6F-4A46-89AC-E417580E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0D57-9884-4919-AB41-7A51810B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A262D-291A-4F37-AAD4-4E95EBE0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3BE4F-D908-44C6-A473-52AF7F6B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68A11-9237-447D-9C3A-73BE09E3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C2AF-5205-46E9-BB78-A956DFB2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10512-416B-48EA-83C4-25D91718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11406-91F3-4D12-8B58-3C517035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46E2-41B5-4DC3-9EC4-E7B7644A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28E9E-3773-4BA2-AD0F-8BF1FA2D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563-FB09-4944-A148-F2E1445C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49F-4DDA-405B-875A-939025B9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7DB-3017-4FDC-AD31-01FE18CA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20A-8196-4404-B810-5EA64DD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9A5-AB92-4CB9-ADF9-06B5EF6E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262F-0AE0-4818-A0CE-93362753568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F3CD-80FD-441E-9C1A-30542676F3A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E0E4-C7DB-430B-B3D6-179B9331686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168A-D7D7-4182-A350-31D87A61AF1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равните?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Объект 4" descr=""/>
          <p:cNvPicPr/>
          <p:nvPr/>
        </p:nvPicPr>
        <p:blipFill>
          <a:blip r:embed="rId1"/>
          <a:stretch/>
        </p:blipFill>
        <p:spPr>
          <a:xfrm>
            <a:off x="5292720" y="2629080"/>
            <a:ext cx="3024360" cy="3993840"/>
          </a:xfrm>
          <a:prstGeom prst="rect">
            <a:avLst/>
          </a:prstGeom>
          <a:ln w="0">
            <a:noFill/>
          </a:ln>
        </p:spPr>
      </p:pic>
      <p:pic>
        <p:nvPicPr>
          <p:cNvPr id="223" name="Объект 7" descr=""/>
          <p:cNvPicPr/>
          <p:nvPr/>
        </p:nvPicPr>
        <p:blipFill>
          <a:blip r:embed="rId2"/>
          <a:srcRect l="54484" t="45029" r="-343" b="6593"/>
          <a:stretch/>
        </p:blipFill>
        <p:spPr>
          <a:xfrm>
            <a:off x="5435640" y="476280"/>
            <a:ext cx="2556000" cy="2022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0" descr=""/>
          <p:cNvPicPr/>
          <p:nvPr/>
        </p:nvPicPr>
        <p:blipFill>
          <a:blip r:embed="rId3"/>
          <a:stretch/>
        </p:blipFill>
        <p:spPr>
          <a:xfrm>
            <a:off x="826920" y="1989000"/>
            <a:ext cx="3673800" cy="461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Чаще всего изображали 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явства: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хлеб, фрукты, нарезанная ветчина, дичь, вино в бокалах- главные наслаждения в жизни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Picture 2" descr="D:\Мои документы\Мои рисунки\natur4.jpg"/>
          <p:cNvPicPr/>
          <p:nvPr/>
        </p:nvPicPr>
        <p:blipFill>
          <a:blip r:embed="rId1"/>
          <a:stretch/>
        </p:blipFill>
        <p:spPr>
          <a:xfrm>
            <a:off x="500040" y="1714680"/>
            <a:ext cx="3714840" cy="471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D:\Мои документы\Мои рисунки\1193516215_b4f027f458a6ebc450.jpg"/>
          <p:cNvPicPr/>
          <p:nvPr/>
        </p:nvPicPr>
        <p:blipFill>
          <a:blip r:embed="rId2"/>
          <a:stretch/>
        </p:blipFill>
        <p:spPr>
          <a:xfrm>
            <a:off x="4572000" y="1714680"/>
            <a:ext cx="3898800" cy="4572000"/>
          </a:xfrm>
          <a:prstGeom prst="rect">
            <a:avLst/>
          </a:prstGeom>
          <a:ln w="0">
            <a:noFill/>
          </a:ln>
        </p:spPr>
      </p:pic>
      <p:sp>
        <p:nvSpPr>
          <p:cNvPr id="258" name="Управляющая кнопка: документ 5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43280" y="456840"/>
            <a:ext cx="4119840" cy="16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Но есть и другие натюрморты, например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акварель Врубеля «Роза»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00400" y="2357280"/>
            <a:ext cx="376524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динокий прекрасный цветок стоит в прозрачном стакане. Художник любуется единственно ею. Цветок олицетворяет мечту художника о красоте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2" descr="D:\Мои документы\Мои рисунки\45ac020089ab.jpg"/>
          <p:cNvPicPr/>
          <p:nvPr/>
        </p:nvPicPr>
        <p:blipFill>
          <a:blip r:embed="rId1"/>
          <a:srcRect l="-849" t="0" r="0" b="0"/>
          <a:stretch/>
        </p:blipFill>
        <p:spPr>
          <a:xfrm>
            <a:off x="539640" y="714240"/>
            <a:ext cx="374652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Управляющая кнопка: документ 4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24456"/>
                </a:solidFill>
                <a:latin typeface="Georgia"/>
              </a:rPr>
              <a:t>Певцом радости называли ученика Саврасова и Поленова -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Константина Коровина.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f3f3f"/>
                </a:solidFill>
                <a:latin typeface="Georgia"/>
              </a:rPr>
              <a:t>«Рыбы, вино, фрукты». К.Коровин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6000" y="1557360"/>
            <a:ext cx="4040280" cy="13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f3f3f"/>
                </a:solidFill>
                <a:latin typeface="Georgia"/>
              </a:rPr>
              <a:t>В натюрморте  мазки красок «вылепливают» связку рыбы, разбросанные розово-желто-красные яблоки, бутылку с напитком. От полотна исходит ощущение радости жизн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2" descr="D:\Мои документы\Мои рисунки\korovin_big.jpg"/>
          <p:cNvPicPr/>
          <p:nvPr/>
        </p:nvPicPr>
        <p:blipFill>
          <a:blip r:embed="rId1"/>
          <a:stretch/>
        </p:blipFill>
        <p:spPr>
          <a:xfrm>
            <a:off x="642960" y="2201760"/>
            <a:ext cx="3357720" cy="4156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D:\Мои документы\Мои рисунки\Korovin__Constantin_Alexejevich_Fish__Wine_and_Fruit_fine_art_print_b.jpg"/>
          <p:cNvPicPr/>
          <p:nvPr/>
        </p:nvPicPr>
        <p:blipFill>
          <a:blip r:embed="rId2"/>
          <a:stretch/>
        </p:blipFill>
        <p:spPr>
          <a:xfrm>
            <a:off x="4214880" y="2786040"/>
            <a:ext cx="4473360" cy="3500640"/>
          </a:xfrm>
          <a:prstGeom prst="rect">
            <a:avLst/>
          </a:prstGeom>
          <a:ln w="0">
            <a:noFill/>
          </a:ln>
        </p:spPr>
      </p:pic>
      <p:sp>
        <p:nvSpPr>
          <p:cNvPr id="268" name="Управляющая кнопка: документ 6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8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385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38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38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85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385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385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385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Художник  К.С. Петров –Водкин  </a:t>
            </a: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внимательно анализирует  форму  предмета</a:t>
            </a:r>
            <a:r>
              <a:rPr b="1" lang="ru-RU" sz="2000" spc="-1" strike="noStrike">
                <a:solidFill>
                  <a:srgbClr val="424456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3672000" cy="146232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 fontScale="99000"/>
          </a:bodyPr>
          <a:p>
            <a:pPr marL="43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3f3f"/>
                </a:solidFill>
                <a:latin typeface="Georgia"/>
              </a:rPr>
              <a:t>В «Утреннем натюрморте» он выбирает высокую точку зрения, что позволяет  видеть предметы и с боку, и сверх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24360" y="1268280"/>
            <a:ext cx="4829040" cy="180504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3f3f"/>
                </a:solidFill>
                <a:latin typeface="Georgia"/>
              </a:rPr>
              <a:t>Их форма и материал четки. Два тона- теплый золотистый и холодный зеленоватый перекликаются в разных предметах.  Цветовая гамма наполняет картину утренней свежесть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2" descr="D:\Мои документы\Мои рисунки\kustod_587.jpg"/>
          <p:cNvPicPr/>
          <p:nvPr/>
        </p:nvPicPr>
        <p:blipFill>
          <a:blip r:embed="rId1"/>
          <a:stretch/>
        </p:blipFill>
        <p:spPr>
          <a:xfrm>
            <a:off x="324000" y="2852640"/>
            <a:ext cx="2415960" cy="3787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D:\Мои документы\Мои рисунки\271.jpg"/>
          <p:cNvPicPr/>
          <p:nvPr/>
        </p:nvPicPr>
        <p:blipFill>
          <a:blip r:embed="rId2"/>
          <a:stretch/>
        </p:blipFill>
        <p:spPr>
          <a:xfrm>
            <a:off x="3714840" y="3143160"/>
            <a:ext cx="4500360" cy="3000600"/>
          </a:xfrm>
          <a:prstGeom prst="rect">
            <a:avLst/>
          </a:prstGeom>
          <a:ln w="0">
            <a:noFill/>
          </a:ln>
        </p:spPr>
      </p:pic>
      <p:sp>
        <p:nvSpPr>
          <p:cNvPr id="274" name="Управляющая кнопка: документ 6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Правила изображения натюрморта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24000" y="1341360"/>
            <a:ext cx="324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Натюрморт не может быть составлен из случайно выбранных предметов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В состав натюрморта должны входить предметы разнообразные по форме, величине, фактуре и цвету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Предметы должны гармонично сочетаться друг с другом, соприкасаться, составляя единое целое, но, не загораживая друг  друга;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В композиции должен быть композиционный центр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Величина изображения всей группы предметов должна находиться в соответствии с фоном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7" name="Picture 2" descr="http://www.artlib.ru/objects/gallery_29/artlib_gallery-14685-b.jpg"/>
          <p:cNvPicPr/>
          <p:nvPr/>
        </p:nvPicPr>
        <p:blipFill>
          <a:blip r:embed="rId1"/>
          <a:stretch/>
        </p:blipFill>
        <p:spPr>
          <a:xfrm>
            <a:off x="3635280" y="1125360"/>
            <a:ext cx="2449440" cy="22082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5" descr="40858-ksyu.jpg"/>
          <p:cNvPicPr/>
          <p:nvPr/>
        </p:nvPicPr>
        <p:blipFill>
          <a:blip r:embed="rId2"/>
          <a:stretch/>
        </p:blipFill>
        <p:spPr>
          <a:xfrm>
            <a:off x="5364000" y="1557360"/>
            <a:ext cx="2880000" cy="21589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0" descr="http://smim.ru/foto/albums/userpics/10001/%CC%E0%F8%EA%EE%E2%20-%20%D2%FB%EA%E2%E0.jpg"/>
          <p:cNvPicPr/>
          <p:nvPr/>
        </p:nvPicPr>
        <p:blipFill>
          <a:blip r:embed="rId3"/>
          <a:stretch/>
        </p:blipFill>
        <p:spPr>
          <a:xfrm>
            <a:off x="3780000" y="2924280"/>
            <a:ext cx="2920680" cy="2482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designcollege.narod.ru/Painting/Pepper.jpg"/>
          <p:cNvPicPr/>
          <p:nvPr/>
        </p:nvPicPr>
        <p:blipFill>
          <a:blip r:embed="rId4"/>
          <a:stretch/>
        </p:blipFill>
        <p:spPr>
          <a:xfrm>
            <a:off x="5796000" y="3213000"/>
            <a:ext cx="2421000" cy="3227400"/>
          </a:xfrm>
          <a:prstGeom prst="rect">
            <a:avLst/>
          </a:prstGeom>
          <a:ln w="0">
            <a:noFill/>
          </a:ln>
        </p:spPr>
      </p:pic>
      <p:sp>
        <p:nvSpPr>
          <p:cNvPr id="281" name="Управляющая кнопка: документ 11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3" name="Объект 7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РАФ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5" name="Рисунок 6" descr=""/>
          <p:cNvPicPr/>
          <p:nvPr/>
        </p:nvPicPr>
        <p:blipFill>
          <a:blip r:embed="rId1"/>
          <a:srcRect l="-167" t="9591" r="4106" b="1796"/>
          <a:stretch/>
        </p:blipFill>
        <p:spPr>
          <a:xfrm>
            <a:off x="2365200" y="1301760"/>
            <a:ext cx="6778800" cy="52959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Объект 5" descr=""/>
          <p:cNvPicPr/>
          <p:nvPr/>
        </p:nvPicPr>
        <p:blipFill>
          <a:blip r:embed="rId2"/>
          <a:srcRect l="3465" t="40105" r="46969" b="9118"/>
          <a:stretch/>
        </p:blipFill>
        <p:spPr>
          <a:xfrm>
            <a:off x="250920" y="2781360"/>
            <a:ext cx="2636640" cy="202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9" name="Объект 5" descr=""/>
          <p:cNvPicPr/>
          <p:nvPr/>
        </p:nvPicPr>
        <p:blipFill>
          <a:blip r:embed="rId1"/>
          <a:stretch/>
        </p:blipFill>
        <p:spPr>
          <a:xfrm>
            <a:off x="311040" y="1052640"/>
            <a:ext cx="8832960" cy="49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1" name="Объект 5" descr=""/>
          <p:cNvPicPr/>
          <p:nvPr/>
        </p:nvPicPr>
        <p:blipFill>
          <a:blip r:embed="rId1"/>
          <a:srcRect l="201" t="-1386" r="-197" b="-829"/>
          <a:stretch/>
        </p:blipFill>
        <p:spPr>
          <a:xfrm>
            <a:off x="395280" y="189000"/>
            <a:ext cx="8636040" cy="641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Конструктивное построение натюрморт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3" name="Содержимое 8" descr="http://www.naturmord.ru/img/19.jpg"/>
          <p:cNvPicPr/>
          <p:nvPr/>
        </p:nvPicPr>
        <p:blipFill>
          <a:blip r:embed="rId1"/>
          <a:stretch/>
        </p:blipFill>
        <p:spPr>
          <a:xfrm>
            <a:off x="755640" y="1341360"/>
            <a:ext cx="2228760" cy="22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4" name="Рисунок 9" descr="http://www.naturmord.ru/img/20.jpg"/>
          <p:cNvPicPr/>
          <p:nvPr/>
        </p:nvPicPr>
        <p:blipFill>
          <a:blip r:embed="rId2"/>
          <a:stretch/>
        </p:blipFill>
        <p:spPr>
          <a:xfrm>
            <a:off x="3419640" y="1341360"/>
            <a:ext cx="2259000" cy="226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5" name="Рисунок 10" descr="http://www.naturmord.ru/img/21.jpg"/>
          <p:cNvPicPr/>
          <p:nvPr/>
        </p:nvPicPr>
        <p:blipFill>
          <a:blip r:embed="rId3"/>
          <a:stretch/>
        </p:blipFill>
        <p:spPr>
          <a:xfrm>
            <a:off x="6372360" y="1413000"/>
            <a:ext cx="2233440" cy="21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6" name="Рисунок 11" descr="http://www.naturmord.ru/img/22.jpg"/>
          <p:cNvPicPr/>
          <p:nvPr/>
        </p:nvPicPr>
        <p:blipFill>
          <a:blip r:embed="rId4"/>
          <a:stretch/>
        </p:blipFill>
        <p:spPr>
          <a:xfrm>
            <a:off x="826920" y="3933720"/>
            <a:ext cx="2265480" cy="21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7" name="Прямоугольник 12"/>
          <p:cNvSpPr/>
          <p:nvPr/>
        </p:nvSpPr>
        <p:spPr>
          <a:xfrm>
            <a:off x="4067280" y="4581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, б - наметка общего расположения предметов натюрмор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 - перспективное построение изображений на плоск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 - детальная прорис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Управляющая кнопка: документ 13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ак мы можем назвать тему нашего урока? (ребус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3483000" y="2470320"/>
            <a:ext cx="2222640" cy="3098520"/>
          </a:xfrm>
          <a:prstGeom prst="rect">
            <a:avLst/>
          </a:prstGeom>
          <a:ln w="0">
            <a:noFill/>
          </a:ln>
        </p:spPr>
      </p:pic>
      <p:pic>
        <p:nvPicPr>
          <p:cNvPr id="227" name="Объект 3" descr=""/>
          <p:cNvPicPr/>
          <p:nvPr/>
        </p:nvPicPr>
        <p:blipFill>
          <a:blip r:embed="rId2"/>
          <a:stretch/>
        </p:blipFill>
        <p:spPr>
          <a:xfrm>
            <a:off x="179280" y="2568600"/>
            <a:ext cx="2354400" cy="29019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" descr=""/>
          <p:cNvPicPr/>
          <p:nvPr/>
        </p:nvPicPr>
        <p:blipFill>
          <a:blip r:embed="rId3"/>
          <a:stretch/>
        </p:blipFill>
        <p:spPr>
          <a:xfrm>
            <a:off x="2438280" y="3144960"/>
            <a:ext cx="1347840" cy="15602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4"/>
          <a:stretch/>
        </p:blipFill>
        <p:spPr>
          <a:xfrm>
            <a:off x="5389560" y="2773440"/>
            <a:ext cx="4187880" cy="320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Georgia"/>
              </a:rPr>
              <a:t>Неправильная компоновка рисунка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0" name="Содержимое 3" descr="http://www.naturmord.ru/img/23.jpg"/>
          <p:cNvPicPr/>
          <p:nvPr/>
        </p:nvPicPr>
        <p:blipFill>
          <a:blip r:embed="rId1"/>
          <a:srcRect l="0" t="0" r="-13067" b="-14729"/>
          <a:stretch/>
        </p:blipFill>
        <p:spPr>
          <a:xfrm>
            <a:off x="1187280" y="2349360"/>
            <a:ext cx="252108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1" name="Рисунок 4" descr="Рис. 8. Конструктивное построение натюрморта"/>
          <p:cNvPicPr/>
          <p:nvPr/>
        </p:nvPicPr>
        <p:blipFill>
          <a:blip r:embed="rId2"/>
          <a:srcRect l="-9593" t="-6433" r="753" b="161"/>
          <a:stretch/>
        </p:blipFill>
        <p:spPr>
          <a:xfrm>
            <a:off x="5867280" y="3068640"/>
            <a:ext cx="244980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2" name="Управляющая кнопка: документ 5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ЗАДАНИЕ  формат А4( альбомный лист), материал простой-карандаш    ( ТМ,М),ластик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39280" y="378936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2056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Эскиз ( 2 разных натюрморта) на формате А5 ( ½ альбомного листа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056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еренос лучшего натюрморта на формат А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056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Разбор предметов на плоскости (Проработка свето-тени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05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05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Предметы быта в твоем Натюрморте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роки ИЗОБРАЗИТЕЛЬНОГО ИСКУССТВА в 5 класс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684360" y="189000"/>
            <a:ext cx="7343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одержание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АТЮРМОРТ – один из жанров изобразительного искусств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Французское «натуре морте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АТЮРМОРТзародился в Голландии и в соседней Фландрии в XVII веке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Чаще всего изображали явств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о есть и другие натюрморты, например акварель Врубеля «Роза»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евцом радости называли ученика Саврасова и Поленова - Константина Коровина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Художник  К.С. Петров –Водкин  внимательно анализирует  форму  предмет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авила изображения натюрмортаКонструктивное построение натюрморт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еправильная компоновка рисунк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Вид изобразительного искусства -НАТЮРМОРТ.</a:t>
            </a: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* Натюрморт в живописи </a:t>
            </a: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*Натюрморт в графике</a:t>
            </a: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*Декоративный натюрморт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6" name="Объект 5" descr=""/>
          <p:cNvPicPr/>
          <p:nvPr/>
        </p:nvPicPr>
        <p:blipFill>
          <a:blip r:embed="rId1"/>
          <a:srcRect l="3465" t="40105" r="46969" b="9118"/>
          <a:stretch/>
        </p:blipFill>
        <p:spPr>
          <a:xfrm>
            <a:off x="3305160" y="4287960"/>
            <a:ext cx="3076560" cy="2363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D:\Мои документы\Мои рисунки\271.jpg"/>
          <p:cNvPicPr/>
          <p:nvPr/>
        </p:nvPicPr>
        <p:blipFill>
          <a:blip r:embed="rId2"/>
          <a:stretch/>
        </p:blipFill>
        <p:spPr>
          <a:xfrm>
            <a:off x="184320" y="4292640"/>
            <a:ext cx="2884320" cy="1922400"/>
          </a:xfrm>
          <a:prstGeom prst="rect">
            <a:avLst/>
          </a:prstGeom>
          <a:ln w="0">
            <a:noFill/>
          </a:ln>
        </p:spPr>
      </p:pic>
      <p:pic>
        <p:nvPicPr>
          <p:cNvPr id="238" name="Объект 7" descr=""/>
          <p:cNvPicPr/>
          <p:nvPr/>
        </p:nvPicPr>
        <p:blipFill>
          <a:blip r:embed="rId3"/>
          <a:srcRect l="0" t="21864" r="49953" b="28982"/>
          <a:stretch/>
        </p:blipFill>
        <p:spPr>
          <a:xfrm>
            <a:off x="6516720" y="4292640"/>
            <a:ext cx="2522520" cy="185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Объект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4" descr="9379dd4ed697.jpg"/>
          <p:cNvPicPr/>
          <p:nvPr/>
        </p:nvPicPr>
        <p:blipFill>
          <a:blip r:embed="rId1"/>
          <a:stretch/>
        </p:blipFill>
        <p:spPr>
          <a:xfrm>
            <a:off x="971640" y="3141720"/>
            <a:ext cx="2711520" cy="3241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Лайкова Т. Н. Возрождение"/>
          <p:cNvPicPr/>
          <p:nvPr/>
        </p:nvPicPr>
        <p:blipFill>
          <a:blip r:embed="rId2"/>
          <a:stretch/>
        </p:blipFill>
        <p:spPr>
          <a:xfrm>
            <a:off x="5003640" y="3429000"/>
            <a:ext cx="3681720" cy="27367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АТЮРМОРТ – один из жанров изобразительного искусства,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826920" y="1341360"/>
            <a:ext cx="7777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главным образом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– живописи. В натюрморт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зображаются только обиходные, т.е.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овседневные, обыденные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ещи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, неодушевленные предметы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Управляющая кнопка: документ 5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3100" spc="-1" strike="noStrike">
                <a:solidFill>
                  <a:srgbClr val="424456"/>
                </a:solidFill>
                <a:latin typeface="Georgia"/>
              </a:rPr>
              <a:t>Французское «натуре морте» – </a:t>
            </a:r>
            <a:endParaRPr b="0" lang="en-US" sz="31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7" name="Рисунок 3" descr="47875933_Konstantin_Korovin_ak.jpg"/>
          <p:cNvPicPr/>
          <p:nvPr/>
        </p:nvPicPr>
        <p:blipFill>
          <a:blip r:embed="rId1"/>
          <a:stretch/>
        </p:blipFill>
        <p:spPr>
          <a:xfrm>
            <a:off x="4643280" y="3284640"/>
            <a:ext cx="4081680" cy="32860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0_1f166_a760bb33_L.jpg"/>
          <p:cNvPicPr/>
          <p:nvPr/>
        </p:nvPicPr>
        <p:blipFill>
          <a:blip r:embed="rId2"/>
          <a:stretch/>
        </p:blipFill>
        <p:spPr>
          <a:xfrm>
            <a:off x="330120" y="1413000"/>
            <a:ext cx="3737160" cy="5011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2050560" y="1125360"/>
            <a:ext cx="6481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1900" spc="-1" strike="noStrike">
                <a:solidFill>
                  <a:srgbClr val="ff0000"/>
                </a:solidFill>
                <a:latin typeface="Georgia"/>
              </a:rPr>
              <a:t>буквально означает «мертвая натура».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Все живое, естественное, природное становится в натюрморте неодушевленным, мертвым  и приравнивается к вещам. Так, чтобы стать предметом натюрморта плоды и фрукты должны быть сорваны, звери и птицы – убиты, рыбы, морские животные – выловлены, цветы – срезаны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Управляющая кнопка: документ 6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D:\Мои документы\Мои рисунки\zamok-beersel-vo-flandrii_-xiv-vek.jpg"/>
          <p:cNvPicPr/>
          <p:nvPr/>
        </p:nvPicPr>
        <p:blipFill>
          <a:blip r:embed="rId1"/>
          <a:stretch/>
        </p:blipFill>
        <p:spPr>
          <a:xfrm>
            <a:off x="324000" y="2492280"/>
            <a:ext cx="4302000" cy="3303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D:\Мои документы\Мои рисунки\still-life_with_fruit.jpg"/>
          <p:cNvPicPr/>
          <p:nvPr/>
        </p:nvPicPr>
        <p:blipFill>
          <a:blip r:embed="rId2"/>
          <a:stretch/>
        </p:blipFill>
        <p:spPr>
          <a:xfrm>
            <a:off x="4716360" y="2421000"/>
            <a:ext cx="4281480" cy="32860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Georgia"/>
              </a:rPr>
              <a:t>НАТЮРМОРТ 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зародился в Голландии и в соседней Фландрии в 17 веке.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Управляющая кнопка: документ 4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8:24:57Z</dcterms:created>
  <dc:creator>Zver</dc:creator>
  <dc:description/>
  <dc:language>en-US</dc:language>
  <cp:lastModifiedBy>Учитель</cp:lastModifiedBy>
  <dcterms:modified xsi:type="dcterms:W3CDTF">2020-08-19T04:47:44Z</dcterms:modified>
  <cp:revision>25</cp:revision>
  <dc:subject/>
  <dc:title>Слайд 1</dc:title>
</cp:coreProperties>
</file>