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1.png" ContentType="image/png"/>
  <Override PartName="/ppt/media/image8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9.png" ContentType="image/png"/>
  <Override PartName="/ppt/media/image42.wmf" ContentType="image/x-wmf"/>
  <Override PartName="/ppt/media/image39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76A-44D7-41F5-B3B6-96BFDE7B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00F-28BB-43F1-8EAA-2898FB9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32C-1054-4019-8835-7467AB41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926-DDC6-4498-939D-2CD06F2F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23E0-11AB-4342-AF3D-B4AF7500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14F-DDD3-4CA9-BDA4-BE0DC55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8661-E138-4D15-919F-DE41C0A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ACF4-0C2D-4986-9199-F020920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45FE-ADDC-4E51-A8B2-8A2CDA9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EFC-C852-403A-B05B-119BFB1B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71E-3194-4EF3-A455-C0DF00A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95B-AB5C-406E-8C0E-25A8607C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2E8E-CCF2-43DF-AB68-5DFB736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721-24A1-478F-AECD-DBCE63A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EA8-B1A9-4A81-A801-017514F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31A2-BAA0-4A9A-9715-34532302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272-4814-4233-AC4B-05C5DE6C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8A4-F2B1-4798-AE5E-2ECAB17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147-ABEB-4157-8BD5-8F0FE6BD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527-563B-4C82-B72C-1DB6178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696-B22D-4908-AEA8-42762B1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D8A-E4F4-421C-8CF2-B5C707F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D78-EBE9-418B-A43C-347F3E5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EE6-0994-41A1-A075-5F952CA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EDA-7162-41E8-8D64-395E94C2D1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6A7C-763D-4383-9536-53AE63A77B2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%20&#1079;&#1074;&#1091;&#1082;&amp;img_url=csru.ru%2Fuploads%2Fposts%2F2011-09%2Fcsru.ru_images.jpg&amp;pos=21&amp;rpt=simag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yandex.ru/yandsearch?text=&#1079;&#1074;&#1091;&#1082;%20&#1074;%20&#1075;&#1072;&#1079;&#1077;&amp;img_url=900igr.net%2Fdatai%2Ffizika%2FZvukovye-volny-urok%2F0016-010-Zvuk-v-gazakh.jpg&amp;pos=0&amp;rpt=simage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2;&#1086;&#1088;&#1086;&#1089;&#1090;&#1100;%20&#1079;&#1074;&#1091;&#1082;&#1072;%20&#1090;&#1072;&#1073;&#1083;&#1080;&#1094;&#1072;&amp;img_url=www.trizway.com%2Fcontent%2Fimg%2FS_s2.jpg&amp;pos=1&amp;rpt=simage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ВУКОВЫЕ ВОЛН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Голоса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7" descr="Рисунок5"/>
          <p:cNvPicPr/>
          <p:nvPr/>
        </p:nvPicPr>
        <p:blipFill>
          <a:blip r:embed="rId1"/>
          <a:stretch/>
        </p:blipFill>
        <p:spPr>
          <a:xfrm>
            <a:off x="528480" y="2363760"/>
            <a:ext cx="3895920" cy="300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пти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7" descr="Рисунок6"/>
          <p:cNvPicPr/>
          <p:nvPr/>
        </p:nvPicPr>
        <p:blipFill>
          <a:blip r:embed="rId1"/>
          <a:stretch/>
        </p:blipFill>
        <p:spPr>
          <a:xfrm>
            <a:off x="814320" y="2203560"/>
            <a:ext cx="3322800" cy="332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Рисунок7"/>
          <p:cNvPicPr/>
          <p:nvPr/>
        </p:nvPicPr>
        <p:blipFill>
          <a:blip r:embed="rId1"/>
          <a:stretch/>
        </p:blipFill>
        <p:spPr>
          <a:xfrm>
            <a:off x="2627280" y="1557360"/>
            <a:ext cx="2357640" cy="15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Рисунок8"/>
          <p:cNvPicPr/>
          <p:nvPr/>
        </p:nvPicPr>
        <p:blipFill>
          <a:blip r:embed="rId2"/>
          <a:stretch/>
        </p:blipFill>
        <p:spPr>
          <a:xfrm>
            <a:off x="1333440" y="432108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ы наблюдаем эх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10" descr="Рисунок1"/>
          <p:cNvPicPr/>
          <p:nvPr/>
        </p:nvPicPr>
        <p:blipFill>
          <a:blip r:embed="rId1"/>
          <a:stretch/>
        </p:blipFill>
        <p:spPr>
          <a:xfrm>
            <a:off x="1908000" y="2492280"/>
            <a:ext cx="5040360" cy="357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 – это упругие волны, распространяющиеся в газах, жидкостях, твердых телах и воспринимаемые ухом человека и животных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7" descr="Рисунок9"/>
          <p:cNvPicPr/>
          <p:nvPr/>
        </p:nvPicPr>
        <p:blipFill>
          <a:blip r:embed="rId1"/>
          <a:stretch/>
        </p:blipFill>
        <p:spPr>
          <a:xfrm>
            <a:off x="1706400" y="3948120"/>
            <a:ext cx="5729400" cy="217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 – продольная вол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перечная вол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дольная вол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8" descr="Рисунок20"/>
          <p:cNvPicPr/>
          <p:nvPr/>
        </p:nvPicPr>
        <p:blipFill>
          <a:blip r:embed="rId1"/>
          <a:stretch/>
        </p:blipFill>
        <p:spPr>
          <a:xfrm>
            <a:off x="4648320" y="1727280"/>
            <a:ext cx="4038480" cy="193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Рисунок21"/>
          <p:cNvPicPr/>
          <p:nvPr/>
        </p:nvPicPr>
        <p:blipFill>
          <a:blip r:embed="rId2"/>
          <a:stretch/>
        </p:blipFill>
        <p:spPr>
          <a:xfrm>
            <a:off x="2771640" y="4221000"/>
            <a:ext cx="3240360" cy="19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овая волн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еханические волны, которые вызывают ощущение звука, называют звуковыми волнами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волнаg"/>
          <p:cNvPicPr/>
          <p:nvPr/>
        </p:nvPicPr>
        <p:blipFill>
          <a:blip r:embed="rId1"/>
          <a:stretch/>
        </p:blipFill>
        <p:spPr>
          <a:xfrm>
            <a:off x="2916360" y="3573360"/>
            <a:ext cx="367164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де изучается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здел физики, в котором рассматриваются свойства звуковых волн, закономерности их возбуждения, распространения и действия на препятствия, называется акус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7" descr="sound_waves"/>
          <p:cNvPicPr/>
          <p:nvPr/>
        </p:nvPicPr>
        <p:blipFill>
          <a:blip r:embed="rId1"/>
          <a:stretch/>
        </p:blipFill>
        <p:spPr>
          <a:xfrm>
            <a:off x="2340000" y="4437000"/>
            <a:ext cx="460836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Человеческое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ухо способ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воспринимать упругие волны 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частотой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примерно от 1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6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Гц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о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2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кГц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8" descr="Рисунок10"/>
          <p:cNvPicPr/>
          <p:nvPr/>
        </p:nvPicPr>
        <p:blipFill>
          <a:blip r:embed="rId1"/>
          <a:stretch/>
        </p:blipFill>
        <p:spPr>
          <a:xfrm>
            <a:off x="5651640" y="134136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Рисунок11"/>
          <p:cNvPicPr/>
          <p:nvPr/>
        </p:nvPicPr>
        <p:blipFill>
          <a:blip r:embed="rId2"/>
          <a:stretch/>
        </p:blipFill>
        <p:spPr>
          <a:xfrm>
            <a:off x="1042920" y="4869000"/>
            <a:ext cx="6840720" cy="97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ультра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медици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енная промышленность (подводный флот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геология и геофизи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бытовое использование (стиральные машины, радары, дальномеры и др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эхолот для определения глубины мор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робление те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лучение смес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ефектоскоп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косметолог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удаление ржавчи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стерилизац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мышь"/>
          <p:cNvPicPr/>
          <p:nvPr/>
        </p:nvPicPr>
        <p:blipFill>
          <a:blip r:embed="rId1"/>
          <a:stretch/>
        </p:blipFill>
        <p:spPr>
          <a:xfrm>
            <a:off x="6227640" y="4581360"/>
            <a:ext cx="255456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знакомить обучающихся со звуковыми волнами как одним из видов механических волн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оспитывать бережное отноше- ние к своему здоровью и здоровью окружающи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инфра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редсказание штормов на мор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редсказание землетрясен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енное дел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рыболовецкий промысе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криминалисти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изучение поведения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7" descr="дельфин"/>
          <p:cNvPicPr/>
          <p:nvPr/>
        </p:nvPicPr>
        <p:blipFill>
          <a:blip r:embed="rId1"/>
          <a:stretch/>
        </p:blipFill>
        <p:spPr>
          <a:xfrm>
            <a:off x="6156360" y="4653000"/>
            <a:ext cx="2790720" cy="1860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Животные в качестве звука воспринимают волны других част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6" descr="Рисунок12"/>
          <p:cNvPicPr/>
          <p:nvPr/>
        </p:nvPicPr>
        <p:blipFill>
          <a:blip r:embed="rId1"/>
          <a:stretch/>
        </p:blipFill>
        <p:spPr>
          <a:xfrm>
            <a:off x="1216080" y="1628640"/>
            <a:ext cx="6734160" cy="4530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корость звука впервые измерена в 1826 г. Ж. Колладоном и Я. Штурм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Рисунок2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2789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2286000" y="28908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 = 8</a:t>
            </a:r>
            <a:r>
              <a:rPr b="1" lang="ru-RU" sz="3200" spc="-1" strike="noStrike" baseline="30000">
                <a:solidFill>
                  <a:srgbClr val="eaeaea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v = 1440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м/с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то надо зн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Объект 9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4127400" cy="4541760"/>
          </a:xfrm>
          <a:prstGeom prst="rect">
            <a:avLst/>
          </a:prstGeom>
          <a:ln w="0">
            <a:noFill/>
          </a:ln>
        </p:spPr>
      </p:pic>
      <p:pic>
        <p:nvPicPr>
          <p:cNvPr id="178" name="Текст 10" descr=""/>
          <p:cNvPicPr/>
          <p:nvPr/>
        </p:nvPicPr>
        <p:blipFill>
          <a:blip r:embed="rId2"/>
          <a:stretch/>
        </p:blipFill>
        <p:spPr>
          <a:xfrm>
            <a:off x="4572000" y="1596960"/>
            <a:ext cx="4121280" cy="454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и 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5" descr="источник излучения"/>
          <p:cNvPicPr/>
          <p:nvPr/>
        </p:nvPicPr>
        <p:blipFill>
          <a:blip r:embed="rId1"/>
          <a:stretch/>
        </p:blipFill>
        <p:spPr>
          <a:xfrm>
            <a:off x="1187280" y="1546200"/>
            <a:ext cx="6769440" cy="484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точник звука – это любое тело,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овершающее колебания с частотой о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6 до 20000 Гц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точники звука бывают естественные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кусственны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11" descr="звуковая плата"/>
          <p:cNvPicPr/>
          <p:nvPr/>
        </p:nvPicPr>
        <p:blipFill>
          <a:blip r:embed="rId1"/>
          <a:stretch/>
        </p:blipFill>
        <p:spPr>
          <a:xfrm>
            <a:off x="1258920" y="765000"/>
            <a:ext cx="2376360" cy="146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вентилятор"/>
          <p:cNvPicPr/>
          <p:nvPr/>
        </p:nvPicPr>
        <p:blipFill>
          <a:blip r:embed="rId2"/>
          <a:stretch/>
        </p:blipFill>
        <p:spPr>
          <a:xfrm>
            <a:off x="6227640" y="76500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Рисунок4"/>
          <p:cNvPicPr/>
          <p:nvPr/>
        </p:nvPicPr>
        <p:blipFill>
          <a:blip r:embed="rId1"/>
          <a:stretch/>
        </p:blipFill>
        <p:spPr>
          <a:xfrm>
            <a:off x="395280" y="692280"/>
            <a:ext cx="8136000" cy="568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Рисунок4"/>
          <p:cNvPicPr/>
          <p:nvPr/>
        </p:nvPicPr>
        <p:blipFill>
          <a:blip r:embed="rId2"/>
          <a:stretch/>
        </p:blipFill>
        <p:spPr>
          <a:xfrm>
            <a:off x="395280" y="692280"/>
            <a:ext cx="8136000" cy="568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ощущает звук, если существует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источник звука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упругая среда между ним и ухом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определенный диапазон частот колебаний источника звука –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между 16 Гц и 20 кГц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достаточная для восприятия ухом мощность звуковых волн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Во всех ли средах распространяется звук</a:t>
            </a:r>
            <a:r>
              <a:rPr b="0" lang="en-US" sz="4800" spc="-1" strike="noStrike">
                <a:solidFill>
                  <a:srgbClr val="eaeaea"/>
                </a:solidFill>
                <a:latin typeface="Book Antiqua"/>
              </a:rPr>
              <a:t>?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5" descr="643170"/>
          <p:cNvPicPr/>
          <p:nvPr/>
        </p:nvPicPr>
        <p:blipFill>
          <a:blip r:embed="rId1"/>
          <a:stretch/>
        </p:blipFill>
        <p:spPr>
          <a:xfrm>
            <a:off x="3132000" y="3213000"/>
            <a:ext cx="3009960" cy="22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1128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5" descr="i?id=19830500-3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933720"/>
            <a:ext cx="2625480" cy="197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разовательная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привести в систему знания учащихся о звуковой волне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сформировать представление о взаимосвязи физики и других наук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удет ли звучать будильник, если откачать воздух из-под колокол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7" descr="Рисунок24"/>
          <p:cNvPicPr/>
          <p:nvPr/>
        </p:nvPicPr>
        <p:blipFill>
          <a:blip r:embed="rId1"/>
          <a:stretch/>
        </p:blipFill>
        <p:spPr>
          <a:xfrm>
            <a:off x="3022560" y="3573360"/>
            <a:ext cx="3098880" cy="255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?id=310484653-4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1679400"/>
            <a:ext cx="5040360" cy="432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орость звука в различных вещества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Picture 5" descr="i?id=44157050-1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276640"/>
            <a:ext cx="5256360" cy="364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спространение звука происходит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е мгновенн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, а с конечной скоростью.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Для распространения звука обязательн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ужна среда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— воздух, жидкость или твердое те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вук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в вакууме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спространяться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е може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, т.к. здесь нет упругой среды,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 поэтому не могут возникнуть упругие механические колебания.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 каждой среде звук распространяется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с разной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корость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а) колебания возникающие в упругой среде с частотой от 20Гц до 20к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) колебания возникающие в упругой среде с частотой меньше 20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) колебания возникающие в упругой среде с частотой больше 20к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г) любые колебания возникающие в упругой сре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рто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ля настройки музыкальных инструментов был изобретён камертон. Он способен издавать звук одной часто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7" descr="Рисунок26"/>
          <p:cNvPicPr/>
          <p:nvPr/>
        </p:nvPicPr>
        <p:blipFill>
          <a:blip r:embed="rId1"/>
          <a:stretch/>
        </p:blipFill>
        <p:spPr>
          <a:xfrm>
            <a:off x="5919840" y="1989000"/>
            <a:ext cx="2187360" cy="28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умай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ри полёте большинств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секомых издают звук. Чем эт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зываетс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) голосовыми связка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б) ветром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в) взмахами крыльев;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г) строением те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 rot="21217200">
            <a:off x="7019640" y="3068280"/>
            <a:ext cx="1359000" cy="123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 rot="1413600">
            <a:off x="7380000" y="522936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 rot="893400">
            <a:off x="5148360" y="5229000"/>
            <a:ext cx="1125360" cy="113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умай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Какое насекомое – бабочка ил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уха – делает больше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количество взмахов крыльям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) они не взмахивают крылья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б) муха и бабочка делаю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одинаковое количество взмах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в) мух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г) бабоч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5" descr="i?id=462661515-22-72&amp;n=21"/>
          <p:cNvPicPr/>
          <p:nvPr/>
        </p:nvPicPr>
        <p:blipFill>
          <a:blip r:embed="rId1"/>
          <a:stretch/>
        </p:blipFill>
        <p:spPr>
          <a:xfrm>
            <a:off x="4284720" y="4869000"/>
            <a:ext cx="1019160" cy="95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i?id=140811251-58-72&amp;n=21"/>
          <p:cNvPicPr/>
          <p:nvPr/>
        </p:nvPicPr>
        <p:blipFill>
          <a:blip r:embed="rId2"/>
          <a:stretch/>
        </p:blipFill>
        <p:spPr>
          <a:xfrm>
            <a:off x="6948360" y="494172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тес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2920" y="428760"/>
          <a:ext cx="8786880" cy="617364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3254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кто его не видывал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 слышать – всякий слыхивал,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ез тела, а живёт оно.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ез языка – кричит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 каком явлении идёт речь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длинялись причудливо тени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казалось, внимая словам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отступно гудели ступени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пустой резонировал храм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пустое помещение резонирует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вы знаете об ультразвуковой локации в мире живой природы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ведите примеры использования инфразвука в мире живой природы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в остановился и, опустившись на колени, припал ухом к земле. Рёв повторился.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лев припал ухом к земле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 тихий безветренный день на одно единственное слово эхо отвечало целых пятнадцать минут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безветренный день наиболее удобен для наблюдения эх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вук – это волна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бежит она везде…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 какой среде бежит звуковая волн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огут ли космонавты разговаривать в открытом космосе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в пустыне нет эх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не издаёт звук колеблющаяся линейк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авляет ли комфорт человеку абсолютная тишин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ой прибор был изобретён для настройки музыкальных инструментов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 полёте большинство насекомых издают звук. Чем это вызывается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ru-RU" sz="4700" spc="-1" strike="noStrike">
                <a:solidFill>
                  <a:srgbClr val="ffffcc"/>
                </a:solidFill>
                <a:latin typeface="Arial"/>
              </a:rPr>
              <a:t>Звуковые редакторы</a:t>
            </a:r>
            <a:br>
              <a:rPr sz="4700"/>
            </a:b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402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зволяют не тольк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писывать 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спроизводить звук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но и редактирова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его наглядно 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мощью  мыши, 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также микширова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и применя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различны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кустическ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эффек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48320" y="2165400"/>
            <a:ext cx="4038480" cy="34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вающа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развивать умение связывать имеющиеся знания со знаниями в других областях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создать условия для расширения кругозора учащихся и интереса к предмет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ru-RU" sz="4700" spc="-1" strike="noStrike">
                <a:solidFill>
                  <a:srgbClr val="ffffcc"/>
                </a:solidFill>
                <a:latin typeface="Arial"/>
              </a:rPr>
              <a:t>Звуковые редакторы</a:t>
            </a:r>
            <a:br>
              <a:rPr sz="4700"/>
            </a:b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озволяют изменять качество оцифрованного звука и объём звукового файла путём изменения частоты дискретизации и глубины кодиров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1430280" cy="143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еловеческое ухо очен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увств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рибор. С возрастом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з-за потер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эластич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арабанной перепонк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лух людей ухудшаетс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50532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лепота отделяет нас от вещей. Глухота – от людей. Э.Кант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6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ы являемся частью звукового мира, а видимый мир тольк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наблюдаем. Слепой человек продолжает общаться с людьми, а глухой лишен звукового об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Picture 7" descr="потеря слуха"/>
          <p:cNvPicPr/>
          <p:nvPr/>
        </p:nvPicPr>
        <p:blipFill>
          <a:blip r:embed="rId1"/>
          <a:stretch/>
        </p:blipFill>
        <p:spPr>
          <a:xfrm>
            <a:off x="6226200" y="2781360"/>
            <a:ext cx="2917800" cy="21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ухудшения слух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астое посещение дискотек и чрезмерное увлечение ауди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леер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7" descr="i?id=64725045-64-72&amp;n=21"/>
          <p:cNvPicPr/>
          <p:nvPr/>
        </p:nvPicPr>
        <p:blipFill>
          <a:blip r:embed="rId1"/>
          <a:stretch/>
        </p:blipFill>
        <p:spPr>
          <a:xfrm>
            <a:off x="755640" y="3227400"/>
            <a:ext cx="3024360" cy="294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i?id=216686435-56-72&amp;n=21"/>
          <p:cNvPicPr/>
          <p:nvPr/>
        </p:nvPicPr>
        <p:blipFill>
          <a:blip r:embed="rId2"/>
          <a:stretch/>
        </p:blipFill>
        <p:spPr>
          <a:xfrm>
            <a:off x="5076720" y="328464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вред"/>
          <p:cNvPicPr/>
          <p:nvPr/>
        </p:nvPicPr>
        <p:blipFill>
          <a:blip r:embed="rId1"/>
          <a:stretch/>
        </p:blipFill>
        <p:spPr>
          <a:xfrm>
            <a:off x="3564000" y="404640"/>
            <a:ext cx="230184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эволюция"/>
          <p:cNvPicPr/>
          <p:nvPr/>
        </p:nvPicPr>
        <p:blipFill>
          <a:blip r:embed="rId2"/>
          <a:stretch/>
        </p:blipFill>
        <p:spPr>
          <a:xfrm>
            <a:off x="1979640" y="3719520"/>
            <a:ext cx="5580000" cy="313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Шумовое загрязнение окружающей среды одна из актуальных проблем 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сегодняшний де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8" descr="Рисунок2"/>
          <p:cNvPicPr/>
          <p:nvPr/>
        </p:nvPicPr>
        <p:blipFill>
          <a:blip r:embed="rId1"/>
          <a:stretch/>
        </p:blipFill>
        <p:spPr>
          <a:xfrm>
            <a:off x="2627280" y="314172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308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§46-47, выучить основные понятия о звуковых волнах и форму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Решить задачу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Какой путь пройдет ультразвуковая волна длиной 3см за 0,001с, если генератор ,испускающий такие волны, работает на частоте 1МГц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7" descr="Рисунок1"/>
          <p:cNvPicPr/>
          <p:nvPr/>
        </p:nvPicPr>
        <p:blipFill>
          <a:blip r:embed="rId1"/>
          <a:stretch/>
        </p:blipFill>
        <p:spPr>
          <a:xfrm>
            <a:off x="6659640" y="3981600"/>
            <a:ext cx="24843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-22320"/>
          <a:ext cx="9144000" cy="6804000"/>
        </p:xfrm>
        <a:graphic>
          <a:graphicData uri="http://schemas.openxmlformats.org/drawingml/2006/table">
            <a:tbl>
              <a:tblPr/>
              <a:tblGrid>
                <a:gridCol w="650880"/>
                <a:gridCol w="2201760"/>
                <a:gridCol w="1641600"/>
                <a:gridCol w="1571760"/>
                <a:gridCol w="1484280"/>
                <a:gridCol w="1593720"/>
              </a:tblGrid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ие диапазоны волн соответствуют звуковой волне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Гц 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Гц 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Гц, но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 и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Гц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воспринимает человеческое ухо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λ,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ν,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υ, м/с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чем у камертона две ножк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сохранения равновес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придания эстетической формы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удобства крепления на подставке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усиления звучан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изменяется в звуковой волне при переходе из воздуха в воду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λ,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ν,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υ, м/с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происходит с высотой звука при увеличении частоты звука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величива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меньша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 изменя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ожет и увеличиваться и уменьшать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ая характеристика звука изменяется при увеличении амплитуды колебан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та(тон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чего не меня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ова длина звуковой волны в воздухе если ее частота 90 Гц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3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8 с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дар грома был услышан через 8 с после того, как сверкнула молния. На каком расстоянии произошел грозовой разряд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 к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0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2714760" y="142920"/>
          <a:ext cx="3714480" cy="657216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  <a:gridCol w="742680"/>
              </a:tblGrid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се запечатлено в звуках. Прошлое человека, его настоящее и будущее. Тому, кто не умеет слушать, невнятны советы, которые жизнь дает нам ежеминутно. Лишь тот, кто слышит шум бытия, может принять верное решение.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. Коэль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11" descr="untitled"/>
          <p:cNvPicPr/>
          <p:nvPr/>
        </p:nvPicPr>
        <p:blipFill>
          <a:blip r:embed="rId1"/>
          <a:stretch/>
        </p:blipFill>
        <p:spPr>
          <a:xfrm>
            <a:off x="1979640" y="4149720"/>
            <a:ext cx="516564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питательна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учить использовать полученные знания для защиты от вредных воздействий звук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ормировать трудолюбие, дисциплинированность и добросовест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  <a:ea typeface="Arial"/>
              </a:rPr>
              <a:t>Спасибо за внимание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7" descr="Рисунок1"/>
          <p:cNvPicPr/>
          <p:nvPr/>
        </p:nvPicPr>
        <p:blipFill>
          <a:blip r:embed="rId1"/>
          <a:stretch/>
        </p:blipFill>
        <p:spPr>
          <a:xfrm>
            <a:off x="2987640" y="2852640"/>
            <a:ext cx="3265560" cy="3265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тература и источни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ка. 11 класс. Мякишев.Г.Я. Буховцев Б.Б. Москва “Просвещение” 202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урнал “Физика в школе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. Угринович. Информатика и информационные технологии. 10-11 классы. Москва. Бином. Лаборатория знаний 201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иртуальная школа Кирилла и Мефодия. Уроки физики Кирилла и Мефод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class-fizika.narod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chool-collection.edu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viki.rdf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спомним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то такое механические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их двух видов бывают механические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то тако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амплитуд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период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астот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длина волн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скорость вол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ая связь существует между периодом и частотой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ая связь существует между длиной волны и скоростью ее распространени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66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ир звуков так многообразен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огат, красив, разнообразен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о всех нас мучает вопрос:       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куда звуки возника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слух наш всюду услажда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ра задуматься всерьез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7" descr="Рисунок1"/>
          <p:cNvPicPr/>
          <p:nvPr/>
        </p:nvPicPr>
        <p:blipFill>
          <a:blip r:embed="rId1"/>
          <a:stretch/>
        </p:blipFill>
        <p:spPr>
          <a:xfrm>
            <a:off x="7093080" y="378936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Verdana"/>
              </a:rPr>
              <a:t>Музыкальные инструменты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Рисунок2"/>
          <p:cNvPicPr/>
          <p:nvPr/>
        </p:nvPicPr>
        <p:blipFill>
          <a:blip r:embed="rId1"/>
          <a:stretch/>
        </p:blipFill>
        <p:spPr>
          <a:xfrm>
            <a:off x="1692360" y="2276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Рисунок3"/>
          <p:cNvPicPr/>
          <p:nvPr/>
        </p:nvPicPr>
        <p:blipFill>
          <a:blip r:embed="rId2"/>
          <a:stretch/>
        </p:blipFill>
        <p:spPr>
          <a:xfrm>
            <a:off x="468360" y="4292640"/>
            <a:ext cx="1828800" cy="21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Шум транспор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15" descr="Рисунок4"/>
          <p:cNvPicPr/>
          <p:nvPr/>
        </p:nvPicPr>
        <p:blipFill>
          <a:blip r:embed="rId1"/>
          <a:stretch/>
        </p:blipFill>
        <p:spPr>
          <a:xfrm>
            <a:off x="600120" y="2340000"/>
            <a:ext cx="3752640" cy="30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8:17:46Z</dcterms:created>
  <dc:creator>Serjio W7</dc:creator>
  <dc:description/>
  <dc:language>en-US</dc:language>
  <cp:lastModifiedBy>Пользователь Windows</cp:lastModifiedBy>
  <dcterms:modified xsi:type="dcterms:W3CDTF">2023-12-14T09:52:44Z</dcterms:modified>
  <cp:revision>165</cp:revision>
  <dc:subject/>
  <dc:title>Слайд 1</dc:title>
</cp:coreProperties>
</file>