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6.png" ContentType="image/png"/>
  <Override PartName="/ppt/media/image4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51.png" ContentType="image/png"/>
  <Override PartName="/ppt/media/image8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9.png" ContentType="image/png"/>
  <Override PartName="/ppt/media/image42.wmf" ContentType="image/x-wmf"/>
  <Override PartName="/ppt/media/image39.png" ContentType="image/png"/>
  <Override PartName="/ppt/media/image13.jpeg" ContentType="image/jpeg"/>
  <Override PartName="/ppt/media/image11.png" ContentType="image/png"/>
  <Override PartName="/ppt/media/image1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B16B-390B-4458-8C46-ED019968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0AD-D418-433F-B259-80F50F0FA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909-6D32-4657-B94D-B58D2255F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F7B-931D-45F2-85C3-05C78297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A8CB-48D8-4846-8807-4CC8161C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EF1D-2121-4A1A-A674-D7760A77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D08A-CA7B-4352-ABCE-66EC839B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CD1C-FA73-4A6D-ACDA-624F61AF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EA1-7DB3-4A07-82A3-854AFB71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71F9-1A75-46F8-AE6A-302AE1A6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A28F-1DCE-4A79-8A29-DDE1DE8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22D-4723-454E-8F81-05F90022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D46-0D60-4DA8-B7C8-A3FF1D4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2296-E3EB-4BA0-8D39-763A61F6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BAB0-2214-447D-A2A3-F1230E24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70EE-3EEB-4EA4-9862-FF9A6F494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91D-5070-449F-98E2-5AF61AA7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E70-70E1-4710-8673-79B6C243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9F4-17D8-4DD2-8DCB-7F409961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1CA-212D-44FF-AA88-FDDD2824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F3A-D6AE-48AE-81F1-173556C7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4FD7-8A0B-4008-9A67-E81E7D0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59C-2754-4CCA-92FF-794084A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1195-D420-4877-8D9E-AF83549C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BBC8-882A-42C3-A604-3E65EBE1977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7785-B767-440B-81D5-D3C23FC7C6C1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%20&#1079;&#1074;&#1091;&#1082;&amp;img_url=csru.ru%2Fuploads%2Fposts%2F2011-09%2Fcsru.ru_images.jpg&amp;pos=21&amp;rpt=simage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yandex.ru/yandsearch?text=&#1079;&#1074;&#1091;&#1082;%20&#1074;%20&#1075;&#1072;&#1079;&#1077;&amp;img_url=900igr.net%2Fdatai%2Ffizika%2FZvukovye-volny-urok%2F0016-010-Zvuk-v-gazakh.jpg&amp;pos=0&amp;rpt=simage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9;&#1082;&#1086;&#1088;&#1086;&#1089;&#1090;&#1100;%20&#1079;&#1074;&#1091;&#1082;&#1072;%20&#1090;&#1072;&#1073;&#1083;&#1080;&#1094;&#1072;&amp;img_url=www.trizway.com%2Fcontent%2Fimg%2FS_s2.jpg&amp;pos=1&amp;rpt=simage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ЗВУКОВЫЕ ВОЛНЫ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21264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Голоса люд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Picture 7" descr="Рисунок5"/>
          <p:cNvPicPr/>
          <p:nvPr/>
        </p:nvPicPr>
        <p:blipFill>
          <a:blip r:embed="rId1"/>
          <a:stretch/>
        </p:blipFill>
        <p:spPr>
          <a:xfrm>
            <a:off x="528480" y="2363760"/>
            <a:ext cx="3895920" cy="3002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и птиц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Picture 7" descr="Рисунок6"/>
          <p:cNvPicPr/>
          <p:nvPr/>
        </p:nvPicPr>
        <p:blipFill>
          <a:blip r:embed="rId1"/>
          <a:stretch/>
        </p:blipFill>
        <p:spPr>
          <a:xfrm>
            <a:off x="814320" y="2203560"/>
            <a:ext cx="3322800" cy="3322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и животн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8" descr="Рисунок7"/>
          <p:cNvPicPr/>
          <p:nvPr/>
        </p:nvPicPr>
        <p:blipFill>
          <a:blip r:embed="rId1"/>
          <a:stretch/>
        </p:blipFill>
        <p:spPr>
          <a:xfrm>
            <a:off x="2627280" y="1557360"/>
            <a:ext cx="2357640" cy="15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Рисунок8"/>
          <p:cNvPicPr/>
          <p:nvPr/>
        </p:nvPicPr>
        <p:blipFill>
          <a:blip r:embed="rId2"/>
          <a:stretch/>
        </p:blipFill>
        <p:spPr>
          <a:xfrm>
            <a:off x="1333440" y="432108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ы наблюдаем эх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8" name="Picture 10" descr="Рисунок1"/>
          <p:cNvPicPr/>
          <p:nvPr/>
        </p:nvPicPr>
        <p:blipFill>
          <a:blip r:embed="rId1"/>
          <a:stretch/>
        </p:blipFill>
        <p:spPr>
          <a:xfrm>
            <a:off x="1908000" y="2492280"/>
            <a:ext cx="5040360" cy="3571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зву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 – это упругие волны, распространяющиеся в газах, жидкостях, твердых телах и воспринимаемые ухом человека и животных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7" descr="Рисунок9"/>
          <p:cNvPicPr/>
          <p:nvPr/>
        </p:nvPicPr>
        <p:blipFill>
          <a:blip r:embed="rId1"/>
          <a:stretch/>
        </p:blipFill>
        <p:spPr>
          <a:xfrm>
            <a:off x="1706400" y="3948120"/>
            <a:ext cx="5729400" cy="2174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 – продольная вол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перечная вол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родольная вол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4" name="Picture 8" descr="Рисунок20"/>
          <p:cNvPicPr/>
          <p:nvPr/>
        </p:nvPicPr>
        <p:blipFill>
          <a:blip r:embed="rId1"/>
          <a:stretch/>
        </p:blipFill>
        <p:spPr>
          <a:xfrm>
            <a:off x="4648320" y="1727280"/>
            <a:ext cx="4038480" cy="1935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Рисунок21"/>
          <p:cNvPicPr/>
          <p:nvPr/>
        </p:nvPicPr>
        <p:blipFill>
          <a:blip r:embed="rId2"/>
          <a:stretch/>
        </p:blipFill>
        <p:spPr>
          <a:xfrm>
            <a:off x="2771640" y="4221000"/>
            <a:ext cx="3240360" cy="1954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звуковая волн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Механические волны, которые вызывают ощущение звука, называют звуковыми волнами.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7" descr="волнаg"/>
          <p:cNvPicPr/>
          <p:nvPr/>
        </p:nvPicPr>
        <p:blipFill>
          <a:blip r:embed="rId1"/>
          <a:stretch/>
        </p:blipFill>
        <p:spPr>
          <a:xfrm>
            <a:off x="2916360" y="3573360"/>
            <a:ext cx="367164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де изучается зву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Раздел физики, в котором рассматриваются свойства звуковых волн, закономерности их возбуждения, распространения и действия на препятствия, называется акустикой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7" descr="sound_waves"/>
          <p:cNvPicPr/>
          <p:nvPr/>
        </p:nvPicPr>
        <p:blipFill>
          <a:blip r:embed="rId1"/>
          <a:stretch/>
        </p:blipFill>
        <p:spPr>
          <a:xfrm>
            <a:off x="2340000" y="4437000"/>
            <a:ext cx="4608360" cy="2189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Человеческое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ухо способн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воспринимать упругие волны 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частотой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примерно от 1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6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Гц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о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2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0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кГц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3" name="Picture 8" descr="Рисунок10"/>
          <p:cNvPicPr/>
          <p:nvPr/>
        </p:nvPicPr>
        <p:blipFill>
          <a:blip r:embed="rId1"/>
          <a:stretch/>
        </p:blipFill>
        <p:spPr>
          <a:xfrm>
            <a:off x="5651640" y="134136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Рисунок11"/>
          <p:cNvPicPr/>
          <p:nvPr/>
        </p:nvPicPr>
        <p:blipFill>
          <a:blip r:embed="rId2"/>
          <a:stretch/>
        </p:blipFill>
        <p:spPr>
          <a:xfrm>
            <a:off x="1042920" y="4869000"/>
            <a:ext cx="6840720" cy="977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ультразву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медицин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оенная промышленность (подводный флот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геология и геофизи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бытовое использование (стиральные машины, радары, дальномеры и др.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эхолот для определения глубины мор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дробление те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олучение смесе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дефектоскоп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косметолог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удаление ржавчины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стерилизац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мышь"/>
          <p:cNvPicPr/>
          <p:nvPr/>
        </p:nvPicPr>
        <p:blipFill>
          <a:blip r:embed="rId1"/>
          <a:stretch/>
        </p:blipFill>
        <p:spPr>
          <a:xfrm>
            <a:off x="6227640" y="4581360"/>
            <a:ext cx="255456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ознакомить обучающихся со звуковыми волнами как одним из видов механических волн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оспитывать бережное отноше- ние к своему здоровью и здоровью окружающих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менение инфразву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редсказание штормов на мор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редсказание землетрясени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оенное дело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рыболовецкий промысе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криминалисти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изучение поведения животных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7" descr="дельфин"/>
          <p:cNvPicPr/>
          <p:nvPr/>
        </p:nvPicPr>
        <p:blipFill>
          <a:blip r:embed="rId1"/>
          <a:stretch/>
        </p:blipFill>
        <p:spPr>
          <a:xfrm>
            <a:off x="6156360" y="4653000"/>
            <a:ext cx="2790720" cy="1860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Животные в качестве звука воспринимают волны других частот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Picture 6" descr="Рисунок12"/>
          <p:cNvPicPr/>
          <p:nvPr/>
        </p:nvPicPr>
        <p:blipFill>
          <a:blip r:embed="rId1"/>
          <a:stretch/>
        </p:blipFill>
        <p:spPr>
          <a:xfrm>
            <a:off x="1216080" y="1628640"/>
            <a:ext cx="6734160" cy="4530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корость звука впервые измерена в 1826 г. Ж. Колладоном и Я. Штурмом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Picture 4" descr="Рисунок2"/>
          <p:cNvPicPr/>
          <p:nvPr/>
        </p:nvPicPr>
        <p:blipFill>
          <a:blip r:embed="rId1"/>
          <a:stretch/>
        </p:blipFill>
        <p:spPr>
          <a:xfrm>
            <a:off x="1619280" y="2205000"/>
            <a:ext cx="5689440" cy="2789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2286000" y="2890800"/>
            <a:ext cx="457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t = 8</a:t>
            </a:r>
            <a:r>
              <a:rPr b="1" lang="ru-RU" sz="3200" spc="-1" strike="noStrike" baseline="30000">
                <a:solidFill>
                  <a:srgbClr val="eaeaea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"/>
              </a:rPr>
              <a:t>v = 1440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м/с</a:t>
            </a: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Это надо зн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7" name="Объект 9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4127400" cy="4541760"/>
          </a:xfrm>
          <a:prstGeom prst="rect">
            <a:avLst/>
          </a:prstGeom>
          <a:ln w="0">
            <a:noFill/>
          </a:ln>
        </p:spPr>
      </p:pic>
      <p:pic>
        <p:nvPicPr>
          <p:cNvPr id="178" name="Текст 10" descr=""/>
          <p:cNvPicPr/>
          <p:nvPr/>
        </p:nvPicPr>
        <p:blipFill>
          <a:blip r:embed="rId2"/>
          <a:stretch/>
        </p:blipFill>
        <p:spPr>
          <a:xfrm>
            <a:off x="4572000" y="1596960"/>
            <a:ext cx="4121280" cy="454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точники зву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0" name="Picture 5" descr="источник излучения"/>
          <p:cNvPicPr/>
          <p:nvPr/>
        </p:nvPicPr>
        <p:blipFill>
          <a:blip r:embed="rId1"/>
          <a:stretch/>
        </p:blipFill>
        <p:spPr>
          <a:xfrm>
            <a:off x="1187280" y="1546200"/>
            <a:ext cx="6769440" cy="4845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сточник звука – это любое тело,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совершающее колебания с частотой о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16 до 20000 Гц</a:t>
            </a:r>
            <a:r>
              <a:rPr b="0" i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сточники звука бывают естественные 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скусственные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2" name="Picture 11" descr="звуковая плата"/>
          <p:cNvPicPr/>
          <p:nvPr/>
        </p:nvPicPr>
        <p:blipFill>
          <a:blip r:embed="rId1"/>
          <a:stretch/>
        </p:blipFill>
        <p:spPr>
          <a:xfrm>
            <a:off x="1258920" y="765000"/>
            <a:ext cx="2376360" cy="1465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вентилятор"/>
          <p:cNvPicPr/>
          <p:nvPr/>
        </p:nvPicPr>
        <p:blipFill>
          <a:blip r:embed="rId2"/>
          <a:stretch/>
        </p:blipFill>
        <p:spPr>
          <a:xfrm>
            <a:off x="6227640" y="76500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4" descr="Рисунок4"/>
          <p:cNvPicPr/>
          <p:nvPr/>
        </p:nvPicPr>
        <p:blipFill>
          <a:blip r:embed="rId1"/>
          <a:stretch/>
        </p:blipFill>
        <p:spPr>
          <a:xfrm>
            <a:off x="395280" y="692280"/>
            <a:ext cx="8136000" cy="56829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Рисунок4"/>
          <p:cNvPicPr/>
          <p:nvPr/>
        </p:nvPicPr>
        <p:blipFill>
          <a:blip r:embed="rId2"/>
          <a:stretch/>
        </p:blipFill>
        <p:spPr>
          <a:xfrm>
            <a:off x="395280" y="692280"/>
            <a:ext cx="8136000" cy="5682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ловек ощущает звук, если существует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источник звука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упругая среда между ним и ухом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определенный диапазон частот колебаний источника звука – 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между 16 Гц и 20 кГц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достаточная для восприятия ухом мощность звуковых волн.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ru-RU" sz="4800" spc="-1" strike="noStrike">
                <a:solidFill>
                  <a:srgbClr val="eaeaea"/>
                </a:solidFill>
                <a:latin typeface="Verdana"/>
              </a:rPr>
              <a:t>Во всех ли средах распространяется звук</a:t>
            </a:r>
            <a:r>
              <a:rPr b="0" lang="en-US" sz="4800" spc="-1" strike="noStrike">
                <a:solidFill>
                  <a:srgbClr val="eaeaea"/>
                </a:solidFill>
                <a:latin typeface="Book Antiqua"/>
              </a:rPr>
              <a:t>?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5" descr="643170"/>
          <p:cNvPicPr/>
          <p:nvPr/>
        </p:nvPicPr>
        <p:blipFill>
          <a:blip r:embed="rId1"/>
          <a:stretch/>
        </p:blipFill>
        <p:spPr>
          <a:xfrm>
            <a:off x="3132000" y="3213000"/>
            <a:ext cx="3009960" cy="2200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1128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c85e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Звук распространяется в любой упругой среде – твердой, жидкой и газообразной, но не может распространяться в пространстве, где нет веществ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2" name="Picture 5" descr="i?id=19830500-3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3933720"/>
            <a:ext cx="2625480" cy="197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разовательная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привести в систему знания учащихся о звуковой волне;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- сформировать представление о взаимосвязи физики и других наук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Будет ли звучать будильник, если откачать воздух из-под колокола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7" descr="Рисунок24"/>
          <p:cNvPicPr/>
          <p:nvPr/>
        </p:nvPicPr>
        <p:blipFill>
          <a:blip r:embed="rId1"/>
          <a:stretch/>
        </p:blipFill>
        <p:spPr>
          <a:xfrm>
            <a:off x="3022560" y="3573360"/>
            <a:ext cx="3098880" cy="255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i?id=310484653-46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1679400"/>
            <a:ext cx="5040360" cy="4321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корость звука в различных веществах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Picture 5" descr="i?id=44157050-12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2276640"/>
            <a:ext cx="5256360" cy="3649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Распространение звука происходит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не мгновенно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, а с конечной скоростью.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Для распространения звука обязательно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нужна среда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— воздух, жидкость или твердое тел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Звук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в вакууме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распространяться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не может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, т.к. здесь нет упругой среды,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 поэтому не могут возникнуть упругие механические колебания.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В каждой среде звук распространяется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Arial"/>
              </a:rPr>
              <a:t>с разной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скоростью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звук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а) колебания возникающие в упругой среде с частотой от 20Гц до 20кГ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б) колебания возникающие в упругой среде с частотой меньше 20Г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в) колебания возникающие в упругой среде с частотой больше 20кГ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г) любые колебания возникающие в упругой сре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амерто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Для настройки музыкальных инструментов был изобретён камертон. Он способен издавать звук одной часто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5" name="Picture 7" descr="Рисунок26"/>
          <p:cNvPicPr/>
          <p:nvPr/>
        </p:nvPicPr>
        <p:blipFill>
          <a:blip r:embed="rId1"/>
          <a:stretch/>
        </p:blipFill>
        <p:spPr>
          <a:xfrm>
            <a:off x="5919840" y="1989000"/>
            <a:ext cx="2187360" cy="2847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умай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При полёте большинств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насекомых издают звук. Чем эт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вызывается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) голосовыми связкам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б) ветром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в) взмахами крыльев;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г) строением те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69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 rot="21217200">
            <a:off x="7019640" y="3068280"/>
            <a:ext cx="1359000" cy="1235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 rot="1413600">
            <a:off x="7380000" y="522936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"/>
          <p:cNvPicPr/>
          <p:nvPr/>
        </p:nvPicPr>
        <p:blipFill>
          <a:blip r:embed="rId3"/>
          <a:stretch/>
        </p:blipFill>
        <p:spPr>
          <a:xfrm rot="893400">
            <a:off x="5148360" y="5229000"/>
            <a:ext cx="1125360" cy="1133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думай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Какое насекомое – бабочка ил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муха – делает больше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Verdana"/>
              </a:rPr>
              <a:t>количество взмахов крыльями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а) они не взмахивают крыльями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б) муха и бабочка делают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одинаковое количество взмахов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в) мух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Verdana"/>
              </a:rPr>
              <a:t>г) бабочк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3" name="Picture 5" descr="i?id=462661515-22-72&amp;n=21"/>
          <p:cNvPicPr/>
          <p:nvPr/>
        </p:nvPicPr>
        <p:blipFill>
          <a:blip r:embed="rId1"/>
          <a:stretch/>
        </p:blipFill>
        <p:spPr>
          <a:xfrm>
            <a:off x="4284720" y="4869000"/>
            <a:ext cx="1019160" cy="955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i?id=140811251-58-72&amp;n=21"/>
          <p:cNvPicPr/>
          <p:nvPr/>
        </p:nvPicPr>
        <p:blipFill>
          <a:blip r:embed="rId2"/>
          <a:stretch/>
        </p:blipFill>
        <p:spPr>
          <a:xfrm>
            <a:off x="6948360" y="4941720"/>
            <a:ext cx="1371600" cy="1428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тест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42920" y="428760"/>
          <a:ext cx="8786880" cy="6173640"/>
        </p:xfrm>
        <a:graphic>
          <a:graphicData uri="http://schemas.openxmlformats.org/drawingml/2006/table">
            <a:tbl>
              <a:tblPr/>
              <a:tblGrid>
                <a:gridCol w="4392720"/>
                <a:gridCol w="4394160"/>
              </a:tblGrid>
              <a:tr h="32544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кто его не видывал,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А слышать – всякий слыхивал,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ез тела, а живёт оно.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ез языка – кричит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О каком явлении идёт речь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длинялись причудливо тени,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 казалось, внимая словам,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отступно гудели ступени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 пустой резонировал храм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пустое помещение резонирует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вы знаете об ультразвуковой локации в мире живой природы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иведите примеры использования инфразвука в мире живой природы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996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Лев остановился и, опустившись на колени, припал ухом к земле. Рёв повторился. 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лев припал ухом к земле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 тихий безветренный день на одно единственное слово эхо отвечало целых пятнадцать минут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безветренный день наиболее удобен для наблюдения эх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вук – это волна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ая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 бежит она везде…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 какой среде бежит звуковая волн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огут ли космонавты разговаривать в открытом космосе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в пустыне нет эх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очему не издаёт звук колеблющаяся линейк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оставляет ли комфорт человеку абсолютная тишина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ой прибор был изобретён для настройки музыкальных инструментов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и полёте большинство насекомых издают звук. Чем это вызывается?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ru-RU" sz="4700" spc="-1" strike="noStrike">
                <a:solidFill>
                  <a:srgbClr val="ffffcc"/>
                </a:solidFill>
                <a:latin typeface="Arial"/>
              </a:rPr>
              <a:t>Звуковые редакторы</a:t>
            </a:r>
            <a:br>
              <a:rPr sz="4700"/>
            </a:b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4402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озволяют не только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писывать 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оспроизводить звук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но и редактирова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его наглядно с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помощью  мыши, 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также микширова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вуки и применять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различны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кустическ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эффект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4648320" y="2165400"/>
            <a:ext cx="4038480" cy="340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вивающа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развивать умение связывать имеющиеся знания со знаниями в других областях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- создать условия для расширения кругозора учащихся и интереса к предмету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700"/>
            </a:br>
            <a:r>
              <a:rPr b="1" lang="ru-RU" sz="4700" spc="-1" strike="noStrike">
                <a:solidFill>
                  <a:srgbClr val="ffffcc"/>
                </a:solidFill>
                <a:latin typeface="Arial"/>
              </a:rPr>
              <a:t>Звуковые редакторы</a:t>
            </a:r>
            <a:br>
              <a:rPr sz="4700"/>
            </a:b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озволяют изменять качество оцифрованного звука и объём звукового файла путём изменения частоты дискретизации и глубины кодирова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2"/>
          <a:stretch/>
        </p:blipFill>
        <p:spPr>
          <a:xfrm>
            <a:off x="1763640" y="4437000"/>
            <a:ext cx="1430280" cy="1430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Человеческое ухо очень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чувствительный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рибор. С возрастом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из-за потер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эластич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барабанной перепонк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слух людей ухудшаетс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505320" cy="3886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лепота отделяет нас от вещей. Глухота – от людей. Э.Кант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659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Мы являемся частью звукового мира, а видимый мир тольк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наблюдаем. Слепой человек продолжает общаться с людьми, а глухой лишен звукового общения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9" name="Picture 7" descr="потеря слуха"/>
          <p:cNvPicPr/>
          <p:nvPr/>
        </p:nvPicPr>
        <p:blipFill>
          <a:blip r:embed="rId1"/>
          <a:stretch/>
        </p:blipFill>
        <p:spPr>
          <a:xfrm>
            <a:off x="6226200" y="2781360"/>
            <a:ext cx="2917800" cy="2103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ухудшения слуха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частое посещение дискотек и чрезмерное увлечение аудио</a:t>
            </a:r>
            <a:r>
              <a:rPr b="1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леер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2" name="Picture 7" descr="i?id=64725045-64-72&amp;n=21"/>
          <p:cNvPicPr/>
          <p:nvPr/>
        </p:nvPicPr>
        <p:blipFill>
          <a:blip r:embed="rId1"/>
          <a:stretch/>
        </p:blipFill>
        <p:spPr>
          <a:xfrm>
            <a:off x="755640" y="3227400"/>
            <a:ext cx="3024360" cy="2946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1" descr="i?id=216686435-56-72&amp;n=21"/>
          <p:cNvPicPr/>
          <p:nvPr/>
        </p:nvPicPr>
        <p:blipFill>
          <a:blip r:embed="rId2"/>
          <a:stretch/>
        </p:blipFill>
        <p:spPr>
          <a:xfrm>
            <a:off x="5076720" y="3284640"/>
            <a:ext cx="3456000" cy="2851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7" descr="вред"/>
          <p:cNvPicPr/>
          <p:nvPr/>
        </p:nvPicPr>
        <p:blipFill>
          <a:blip r:embed="rId1"/>
          <a:stretch/>
        </p:blipFill>
        <p:spPr>
          <a:xfrm>
            <a:off x="3564000" y="404640"/>
            <a:ext cx="2301840" cy="2808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эволюция"/>
          <p:cNvPicPr/>
          <p:nvPr/>
        </p:nvPicPr>
        <p:blipFill>
          <a:blip r:embed="rId2"/>
          <a:stretch/>
        </p:blipFill>
        <p:spPr>
          <a:xfrm>
            <a:off x="1979640" y="3719520"/>
            <a:ext cx="5580000" cy="3138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Шумовое загрязнение окружающей среды одна из актуальных проблем на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сегодняшний день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8" descr="Рисунок2"/>
          <p:cNvPicPr/>
          <p:nvPr/>
        </p:nvPicPr>
        <p:blipFill>
          <a:blip r:embed="rId1"/>
          <a:stretch/>
        </p:blipFill>
        <p:spPr>
          <a:xfrm>
            <a:off x="2627280" y="3141720"/>
            <a:ext cx="4032360" cy="30099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помните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7308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§46-47, выучить основные понятия о звуковых волнах и формулы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aeaea"/>
                </a:solidFill>
                <a:uFillTx/>
                <a:latin typeface="Verdana"/>
              </a:rPr>
              <a:t>Решить задачу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. Какой путь пройдет ультразвуковая волна длиной 3см за 0,001с, если генератор ,испускающий такие волны, работает на частоте 1МГц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7" descr="Рисунок1"/>
          <p:cNvPicPr/>
          <p:nvPr/>
        </p:nvPicPr>
        <p:blipFill>
          <a:blip r:embed="rId1"/>
          <a:stretch/>
        </p:blipFill>
        <p:spPr>
          <a:xfrm>
            <a:off x="6659640" y="3981600"/>
            <a:ext cx="2484360" cy="287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0" y="-22320"/>
          <a:ext cx="9144000" cy="6804000"/>
        </p:xfrm>
        <a:graphic>
          <a:graphicData uri="http://schemas.openxmlformats.org/drawingml/2006/table">
            <a:tbl>
              <a:tblPr/>
              <a:tblGrid>
                <a:gridCol w="650880"/>
                <a:gridCol w="2201760"/>
                <a:gridCol w="1641600"/>
                <a:gridCol w="1571760"/>
                <a:gridCol w="1484280"/>
                <a:gridCol w="1593720"/>
              </a:tblGrid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ие диапазоны волн соответствуют звуковой волне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gt;20 Гц и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gt;20 000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Гц и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000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gt;20 Гц, но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000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000 Гц и 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&lt;20 Гц 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воспринимает человеческое ухо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λ,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ν,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υ, м/с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омкость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Зачем у камертона две ножки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сохранения равновеси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придания эстетической формы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удобства крепления на подставке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ля усиления звучани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изменяется в звуковой волне при переходе из воздуха в воду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λ,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ν, Гц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υ, м/с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омкость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Что происходит с высотой звука при увеличении частоты звука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величива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меньша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е изменя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ожет и увеличиваться и уменьшать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ая характеристика звука изменяется при увеличении амплитуды колебани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корость 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громкость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ота(тон)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ичего не меняется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акова длина звуковой волны в воздухе если ее частота 90 Гц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8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8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0,38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,8 с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Удар грома был услышан через 8 с после того, как сверкнула молния. На каком расстоянии произошел грозовой разряд?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 к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00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3 м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2714760" y="142920"/>
          <a:ext cx="3714480" cy="657216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  <a:gridCol w="742680"/>
              </a:tblGrid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1" lang="en-US" sz="25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480" rIns="514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Все запечатлено в звуках. Прошлое человека, его настоящее и будущее. Тому, кто не умеет слушать, невнятны советы, которые жизнь дает нам ежеминутно. Лишь тот, кто слышит шум бытия, может принять верное решение. </a:t>
            </a:r>
            <a:br>
              <a:rPr sz="3200"/>
            </a:b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П. Коэльо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Picture 11" descr="untitled"/>
          <p:cNvPicPr/>
          <p:nvPr/>
        </p:nvPicPr>
        <p:blipFill>
          <a:blip r:embed="rId1"/>
          <a:stretch/>
        </p:blipFill>
        <p:spPr>
          <a:xfrm>
            <a:off x="1979640" y="4149720"/>
            <a:ext cx="5165640" cy="1916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дачи уро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Воспитательная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аучить использовать полученные знания для защиты от вредных воздействий звука;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формировать трудолюбие, дисциплинированность и добросовестнос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aeaea"/>
                </a:solidFill>
                <a:latin typeface="Arial"/>
                <a:ea typeface="Arial"/>
              </a:rPr>
              <a:t>Спасибо за внимание!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8" name="Picture 7" descr="Рисунок1"/>
          <p:cNvPicPr/>
          <p:nvPr/>
        </p:nvPicPr>
        <p:blipFill>
          <a:blip r:embed="rId1"/>
          <a:stretch/>
        </p:blipFill>
        <p:spPr>
          <a:xfrm>
            <a:off x="2987640" y="2852640"/>
            <a:ext cx="3265560" cy="3265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Литература и источники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Физика. 11 класс. Мякишев.Г.Я. Буховцев Б.Б. Москва “Просвещение” 2020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урнал “Физика в школе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. Угринович. Информатика и информационные технологии. 10-11 классы. Москва. Бином. Лаборатория знаний 2019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иртуальная школа Кирилла и Мефодия. Уроки физики Кирилла и Мефоди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class-fizika.narod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school-collection.edu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viki.rdf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спомним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Что такое механические вол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Каких двух видов бывают механические вол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Что такое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амплитуд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период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частот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длина волны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скорость волн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Какая связь существует между периодом и частотой волны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  <a:ea typeface="Arial"/>
              </a:rPr>
              <a:t>Какая связь существует между длиной волны и скоростью ее распространения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ву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662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Мир звуков так многообразен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Богат, красив, разнообразен,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о всех нас мучает вопрос:                 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ткуда звуки возника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то слух наш всюду услаждают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Пора задуматься всерьез!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7" descr="Рисунок1"/>
          <p:cNvPicPr/>
          <p:nvPr/>
        </p:nvPicPr>
        <p:blipFill>
          <a:blip r:embed="rId1"/>
          <a:stretch/>
        </p:blipFill>
        <p:spPr>
          <a:xfrm>
            <a:off x="7093080" y="378936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76720" y="1599840"/>
            <a:ext cx="3610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Verdana"/>
              </a:rPr>
              <a:t>Музыкальные инструменты</a:t>
            </a: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8" descr="Рисунок2"/>
          <p:cNvPicPr/>
          <p:nvPr/>
        </p:nvPicPr>
        <p:blipFill>
          <a:blip r:embed="rId1"/>
          <a:stretch/>
        </p:blipFill>
        <p:spPr>
          <a:xfrm>
            <a:off x="1692360" y="2276640"/>
            <a:ext cx="2917800" cy="2189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Рисунок3"/>
          <p:cNvPicPr/>
          <p:nvPr/>
        </p:nvPicPr>
        <p:blipFill>
          <a:blip r:embed="rId2"/>
          <a:stretch/>
        </p:blipFill>
        <p:spPr>
          <a:xfrm>
            <a:off x="468360" y="4292640"/>
            <a:ext cx="1828800" cy="2103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с окружает мир звуко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Шум транспор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15" descr="Рисунок4"/>
          <p:cNvPicPr/>
          <p:nvPr/>
        </p:nvPicPr>
        <p:blipFill>
          <a:blip r:embed="rId1"/>
          <a:stretch/>
        </p:blipFill>
        <p:spPr>
          <a:xfrm>
            <a:off x="600120" y="2340000"/>
            <a:ext cx="3752640" cy="3051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7T18:17:46Z</dcterms:created>
  <dc:creator>Serjio W7</dc:creator>
  <dc:description/>
  <dc:language>en-US</dc:language>
  <cp:lastModifiedBy>Пользователь Windows</cp:lastModifiedBy>
  <dcterms:modified xsi:type="dcterms:W3CDTF">2023-12-14T09:52:44Z</dcterms:modified>
  <cp:revision>165</cp:revision>
  <dc:subject/>
  <dc:title>Слайд 1</dc:title>
</cp:coreProperties>
</file>