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C65-7E3E-44E4-99AD-AEA0E66D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0BE-8988-4D7B-8717-BCCB4486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EF7-43B3-4F96-8668-3D1CF349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FB7-F96A-48E0-96C8-CF3138EF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A119-8C01-417B-A62F-DD5F0DE4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4154-8FD2-4A74-8A07-92270074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CD1-EDEC-4A50-9ED5-EB6D9FBA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22F6-4F92-41F0-9C50-49891CFC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EEBC-A15F-41EF-8997-A9633F5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793C-1D4F-4D62-BCE5-C9489F1D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E69F-9B16-4198-9FCB-848033A1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F69-D0EB-47F4-8FBF-E9D5F6A1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01BA-1FD3-48DF-90BE-4BE70A87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4DCA-0113-46A0-B591-9B9C45E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E071-4F4D-4604-80E7-0EB6F8D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A384-8A0B-4D0A-BF54-BC6627CA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3DE0-7A99-4DA6-8010-5686AB34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FFB-DB97-4B2F-9F84-9F19A1EA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8A6-C2B7-4020-B91E-322EF0DC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73F-CAE6-4C18-9C37-EDE7ABAE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7D4-6BE7-40DE-89B6-9AB4CF2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101-4810-4EF8-851D-F82BF43D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2E3-5460-44DC-B2C6-1A1020BF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CE1-5C6D-488E-8E12-9FDAE59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F267-2869-4040-96A3-22278633C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5C47-8A97-4640-BC71-50B521E262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Экология микроорганизмов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икрофлора продуктов 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ичное обсеменение, вторичное обсеме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76360" y="1628640"/>
            <a:ext cx="381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льмон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иг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шечная пал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филокок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уц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будитель туберкул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1" descr="мясо сырое"/>
          <p:cNvPicPr/>
          <p:nvPr/>
        </p:nvPicPr>
        <p:blipFill>
          <a:blip r:embed="rId1"/>
          <a:stretch/>
        </p:blipFill>
        <p:spPr>
          <a:xfrm>
            <a:off x="250920" y="1700280"/>
            <a:ext cx="44654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65516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икрофлора продуктов 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уц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будитель туберкул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иг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льмон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филокок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9" descr="13"/>
          <p:cNvPicPr/>
          <p:nvPr/>
        </p:nvPicPr>
        <p:blipFill>
          <a:blip r:embed="rId6"/>
          <a:stretch/>
        </p:blipFill>
        <p:spPr>
          <a:xfrm>
            <a:off x="5435640" y="765000"/>
            <a:ext cx="3456000" cy="30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Flickr_-_cyclonebill_-_Vagtel-spejlæg"/>
          <p:cNvPicPr/>
          <p:nvPr/>
        </p:nvPicPr>
        <p:blipFill>
          <a:blip r:embed="rId7"/>
          <a:stretch/>
        </p:blipFill>
        <p:spPr>
          <a:xfrm>
            <a:off x="4932360" y="3981600"/>
            <a:ext cx="4087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сушив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39640" y="1125360"/>
            <a:ext cx="3745080" cy="115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ингокок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нокок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едная трепон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39640" y="2924280"/>
            <a:ext cx="374508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лерный вибр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г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39640" y="4292640"/>
            <a:ext cx="374508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зная па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39640" y="5445000"/>
            <a:ext cx="374508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ры сибирской яз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148360" y="1341360"/>
            <a:ext cx="367344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сколько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5076720" y="2924280"/>
            <a:ext cx="367344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сколько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5076720" y="4221000"/>
            <a:ext cx="367344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еся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1"/>
          <p:cNvSpPr/>
          <p:nvPr/>
        </p:nvSpPr>
        <p:spPr>
          <a:xfrm>
            <a:off x="5076720" y="5373720"/>
            <a:ext cx="367344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0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4356000" y="1700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4356000" y="3284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4356000" y="458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4356000" y="57340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8000" y="76500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ушивание в условиях вакуума после предварительного заморажи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vaccini1"/>
          <p:cNvPicPr/>
          <p:nvPr/>
        </p:nvPicPr>
        <p:blipFill>
          <a:blip r:embed="rId1"/>
          <a:stretch/>
        </p:blipFill>
        <p:spPr>
          <a:xfrm>
            <a:off x="1258920" y="2023920"/>
            <a:ext cx="6265800" cy="4699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офильная сушка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Ионизирующая радиац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нтгеновские лу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ьфа-, бетта-, гамма-лу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льтрафиолетовые лу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Ультразву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Высокое да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емперату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360" y="2133720"/>
            <a:ext cx="425448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пературный миниму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пературный оптиму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пературный максиму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рис"/>
          <p:cNvPicPr/>
          <p:nvPr/>
        </p:nvPicPr>
        <p:blipFill>
          <a:blip r:embed="rId1"/>
          <a:stretch/>
        </p:blipFill>
        <p:spPr>
          <a:xfrm>
            <a:off x="250920" y="1844640"/>
            <a:ext cx="4241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руппы микроорганизм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5280" y="1700280"/>
            <a:ext cx="3529080" cy="865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сихрофил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sychros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холод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95280" y="4797360"/>
            <a:ext cx="3529080" cy="865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езофил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os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средн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95280" y="3213000"/>
            <a:ext cx="3529080" cy="865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рмофил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rmos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тепло, ж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4932360" y="1773360"/>
            <a:ext cx="3887640" cy="792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синии, клебсиелл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мон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4932360" y="4869000"/>
            <a:ext cx="3887640" cy="792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пат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кроорганиз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4932360" y="3213000"/>
            <a:ext cx="3959280" cy="792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размножаю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рганизм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4067280" y="2133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3995640" y="3645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3995640" y="5300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651280" y="476280"/>
            <a:ext cx="3384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зкая температу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био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окая температу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атурация бел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колонии в пробирках"/>
          <p:cNvPicPr/>
          <p:nvPr/>
        </p:nvPicPr>
        <p:blipFill>
          <a:blip r:embed="rId3"/>
          <a:stretch/>
        </p:blipFill>
        <p:spPr>
          <a:xfrm>
            <a:off x="250920" y="549360"/>
            <a:ext cx="5541840" cy="5930640"/>
          </a:xfrm>
          <a:prstGeom prst="rect">
            <a:avLst/>
          </a:prstGeom>
          <a:ln w="0">
            <a:noFill/>
          </a:ln>
        </p:spPr>
      </p:pic>
      <p:sp>
        <p:nvSpPr>
          <p:cNvPr id="233" name="Line 4"/>
          <p:cNvSpPr/>
          <p:nvPr/>
        </p:nvSpPr>
        <p:spPr>
          <a:xfrm>
            <a:off x="7524720" y="1484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7596360" y="45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имические факто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источники энерг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источники пластических 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материал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тимуляция рос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одавление рос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гибель микробных клето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пасибо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флора поч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флора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флора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флора продуктов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ияние физических факт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ияние химических факт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Экология микробов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iko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– дом, место обитания) изучает взаимоотношения микробов друг с другом и с окружающей сред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Микробиоценоз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ообщество микробов, обитающих на определенных участках окружающей сре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поч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5589720"/>
            <a:ext cx="8640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 г почвы – 10 млрд микроорганизм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ерхний слой почвы – до 10 с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garden6_1"/>
          <p:cNvPicPr/>
          <p:nvPr/>
        </p:nvPicPr>
        <p:blipFill>
          <a:blip r:embed="rId3"/>
          <a:stretch/>
        </p:blipFill>
        <p:spPr>
          <a:xfrm>
            <a:off x="900000" y="1197000"/>
            <a:ext cx="72723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поч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755640" y="1700280"/>
            <a:ext cx="302436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збудит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бирской яз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лбня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ту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азовой гангр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4653000"/>
            <a:ext cx="3240000" cy="1368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шеч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076720" y="2060640"/>
            <a:ext cx="381636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ите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хран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ч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5076720" y="4724280"/>
            <a:ext cx="3743280" cy="136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стро погиб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ч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3924360" y="2708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924360" y="5373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воды</a:t>
            </a:r>
            <a:br>
              <a:rPr sz="4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ражает микробный пейзаж поч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51280" y="1700280"/>
            <a:ext cx="338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шечная пал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будитель брюшного тиф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игел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лерный вибр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птоспи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нтеровиру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21754"/>
          <p:cNvPicPr/>
          <p:nvPr/>
        </p:nvPicPr>
        <p:blipFill>
          <a:blip r:embed="rId7"/>
          <a:stretch/>
        </p:blipFill>
        <p:spPr>
          <a:xfrm>
            <a:off x="179280" y="2205000"/>
            <a:ext cx="54007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холерный вибрион"/>
          <p:cNvPicPr/>
          <p:nvPr/>
        </p:nvPicPr>
        <p:blipFill>
          <a:blip r:embed="rId1"/>
          <a:stretch/>
        </p:blipFill>
        <p:spPr>
          <a:xfrm>
            <a:off x="324000" y="1989000"/>
            <a:ext cx="4182840" cy="2859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5148360" y="1700280"/>
            <a:ext cx="3311280" cy="158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лерный вибр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птоспи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ионе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нтеровир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716360" y="4292640"/>
            <a:ext cx="4319640" cy="1873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ительно сохран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воздух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897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язана с микрофлорой почвы и воды, микрофлорой дыхательных пу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64000" y="1773360"/>
            <a:ext cx="332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будитель туберкул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будитель диф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олотистый стафилокок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птокок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ру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Безымянный"/>
          <p:cNvPicPr/>
          <p:nvPr/>
        </p:nvPicPr>
        <p:blipFill>
          <a:blip r:embed="rId1"/>
          <a:stretch/>
        </p:blipFill>
        <p:spPr>
          <a:xfrm>
            <a:off x="324000" y="4221000"/>
            <a:ext cx="46796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воздух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84720" y="1557000"/>
            <a:ext cx="30592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душно-капельный путь пере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19b213e2ec764bdc98ead48b84d0263c_full"/>
          <p:cNvPicPr/>
          <p:nvPr/>
        </p:nvPicPr>
        <p:blipFill>
          <a:blip r:embed="rId1"/>
          <a:stretch/>
        </p:blipFill>
        <p:spPr>
          <a:xfrm>
            <a:off x="179280" y="1773360"/>
            <a:ext cx="6193080" cy="4295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787640" y="4365360"/>
            <a:ext cx="38876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ш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42:05Z</dcterms:created>
  <dc:creator>Светлана</dc:creator>
  <dc:description/>
  <dc:language>en-US</dc:language>
  <cp:lastModifiedBy>Эльмира ПК</cp:lastModifiedBy>
  <dcterms:modified xsi:type="dcterms:W3CDTF">2023-12-14T10:13:04Z</dcterms:modified>
  <cp:revision>31</cp:revision>
  <dc:subject/>
  <dc:title>Лекция №6</dc:title>
</cp:coreProperties>
</file>