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045C-7985-4DE1-9C3C-547DA7F62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6334-F2EE-4B59-90E5-7D91EBC93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F5A2-C1E8-4557-8AA4-1F4DA63C4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DC9E-521A-4AB9-BF93-F4EB57720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03AB8-9D10-452A-85EB-BD767E00D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1CD95-C119-41E1-AA6C-F6AB5D9B5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D8B9D-59C7-434F-AB7E-B60810C7D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F93A9-EC70-4BDE-8D4F-B298BBC3E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00EEB-E307-428A-98CB-8D764BE6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D845A-9E24-4801-BBDC-7F991B2D8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B1BE3-5972-416E-A45D-E4824F97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D82C-0643-4986-91B1-867C0BB43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563C2-B04F-4954-AA34-154EB6E3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D822A-E7F3-434C-8E16-57377985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63E73-FE06-4190-B7B3-1538C305A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0F84C-0E86-41D0-8670-0401D9F44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17FBA-6752-4C46-BA15-4BF1C05B4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95C9-26C5-483D-B632-75BB68D4E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69E7-DD10-4EDE-8FE3-6AD479480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2CB8-A186-4DF4-81CF-94192AE01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496A-9BED-4B44-AB77-566A25EB5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F944-AC4F-4525-91AE-DBF90C3C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9A2A-18A1-47E7-B45B-28855C9E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D8D1-5ED6-4EF9-8ECF-5DD798E4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1ED8E-98DD-4AF0-8573-5E54331CE6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E778C-2910-43EB-A7CC-711D2BA0C0D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Лекц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ТЕМА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«Экология микроорганизмов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Микрофлора продуктов пита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рвичное обсеменение, вторичное обсемен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076360" y="1628640"/>
            <a:ext cx="3816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альмонелл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шигелл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ишечная палоч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т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афилокок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руцелл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озбудитель туберкулез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21" descr="мясо сырое"/>
          <p:cNvPicPr/>
          <p:nvPr/>
        </p:nvPicPr>
        <p:blipFill>
          <a:blip r:embed="rId1"/>
          <a:stretch/>
        </p:blipFill>
        <p:spPr>
          <a:xfrm>
            <a:off x="250920" y="1700280"/>
            <a:ext cx="4465440" cy="29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7640" y="-360"/>
            <a:ext cx="655164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Микрофлора продуктов пита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4248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руцелл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озбудитель туберкулез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Шигелл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альмонелл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афилокок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9" descr="13"/>
          <p:cNvPicPr/>
          <p:nvPr/>
        </p:nvPicPr>
        <p:blipFill>
          <a:blip r:embed="rId6"/>
          <a:stretch/>
        </p:blipFill>
        <p:spPr>
          <a:xfrm>
            <a:off x="5435640" y="765000"/>
            <a:ext cx="3456000" cy="30718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" descr="Flickr_-_cyclonebill_-_Vagtel-spejlæg"/>
          <p:cNvPicPr/>
          <p:nvPr/>
        </p:nvPicPr>
        <p:blipFill>
          <a:blip r:embed="rId7"/>
          <a:stretch/>
        </p:blipFill>
        <p:spPr>
          <a:xfrm>
            <a:off x="4932360" y="3981600"/>
            <a:ext cx="408780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Высушив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539640" y="1125360"/>
            <a:ext cx="3745080" cy="1151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нингокок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онокок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ледная трепоне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539640" y="2924280"/>
            <a:ext cx="3745080" cy="86364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олерный вибри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шигел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539640" y="4292640"/>
            <a:ext cx="3745080" cy="576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уберкулезная палоч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539640" y="5445000"/>
            <a:ext cx="3745080" cy="72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поры сибирской язв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Oval 8"/>
          <p:cNvSpPr/>
          <p:nvPr/>
        </p:nvSpPr>
        <p:spPr>
          <a:xfrm>
            <a:off x="5148360" y="1341360"/>
            <a:ext cx="3673440" cy="720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сколько мину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Oval 9"/>
          <p:cNvSpPr/>
          <p:nvPr/>
        </p:nvSpPr>
        <p:spPr>
          <a:xfrm>
            <a:off x="5076720" y="2924280"/>
            <a:ext cx="3673440" cy="720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сколько сут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Oval 10"/>
          <p:cNvSpPr/>
          <p:nvPr/>
        </p:nvSpPr>
        <p:spPr>
          <a:xfrm>
            <a:off x="5076720" y="4221000"/>
            <a:ext cx="3673440" cy="720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и меся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Oval 11"/>
          <p:cNvSpPr/>
          <p:nvPr/>
        </p:nvSpPr>
        <p:spPr>
          <a:xfrm>
            <a:off x="5076720" y="5373720"/>
            <a:ext cx="3673440" cy="720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00 л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2"/>
          <p:cNvSpPr/>
          <p:nvPr/>
        </p:nvSpPr>
        <p:spPr>
          <a:xfrm>
            <a:off x="4356000" y="170028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13"/>
          <p:cNvSpPr/>
          <p:nvPr/>
        </p:nvSpPr>
        <p:spPr>
          <a:xfrm>
            <a:off x="4356000" y="328464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14"/>
          <p:cNvSpPr/>
          <p:nvPr/>
        </p:nvSpPr>
        <p:spPr>
          <a:xfrm>
            <a:off x="4356000" y="458136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15"/>
          <p:cNvSpPr/>
          <p:nvPr/>
        </p:nvSpPr>
        <p:spPr>
          <a:xfrm>
            <a:off x="4356000" y="573408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08000" y="765000"/>
            <a:ext cx="903600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сушивание в условиях вакуума после предварительного заморажив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3" descr="vaccini1"/>
          <p:cNvPicPr/>
          <p:nvPr/>
        </p:nvPicPr>
        <p:blipFill>
          <a:blip r:embed="rId1"/>
          <a:stretch/>
        </p:blipFill>
        <p:spPr>
          <a:xfrm>
            <a:off x="1258920" y="2023920"/>
            <a:ext cx="6265800" cy="46990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Лиофильная сушка –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Ионизирующая радиация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ентгеновские луч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льфа-, бетта-, гамма-луч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ультрафиолетовые луч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Ультразву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Высокое давл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Температур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716360" y="2133720"/>
            <a:ext cx="4254480" cy="42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емпературный миниму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емпературный оптиму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емпературный максиму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6" descr="рис"/>
          <p:cNvPicPr/>
          <p:nvPr/>
        </p:nvPicPr>
        <p:blipFill>
          <a:blip r:embed="rId1"/>
          <a:stretch/>
        </p:blipFill>
        <p:spPr>
          <a:xfrm>
            <a:off x="250920" y="1844640"/>
            <a:ext cx="424188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Группы микроорганизмо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395280" y="1700280"/>
            <a:ext cx="3529080" cy="865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сихрофил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sychros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»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- холодный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395280" y="4797360"/>
            <a:ext cx="3529080" cy="865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мезофил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sos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»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- средний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395280" y="3213000"/>
            <a:ext cx="3529080" cy="86544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термофил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rmos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»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- тепло, жар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Oval 7"/>
          <p:cNvSpPr/>
          <p:nvPr/>
        </p:nvSpPr>
        <p:spPr>
          <a:xfrm>
            <a:off x="4932360" y="1773360"/>
            <a:ext cx="3887640" cy="7920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ерсинии, клебсиеллы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севдомона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Oval 8"/>
          <p:cNvSpPr/>
          <p:nvPr/>
        </p:nvSpPr>
        <p:spPr>
          <a:xfrm>
            <a:off x="4932360" y="4869000"/>
            <a:ext cx="3887640" cy="7920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е патоге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кроорганиз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Oval 9"/>
          <p:cNvSpPr/>
          <p:nvPr/>
        </p:nvSpPr>
        <p:spPr>
          <a:xfrm>
            <a:off x="4932360" y="3213000"/>
            <a:ext cx="3959280" cy="792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размножают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организме челове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4067280" y="213372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Line 11"/>
          <p:cNvSpPr/>
          <p:nvPr/>
        </p:nvSpPr>
        <p:spPr>
          <a:xfrm>
            <a:off x="3995640" y="364500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12"/>
          <p:cNvSpPr/>
          <p:nvPr/>
        </p:nvSpPr>
        <p:spPr>
          <a:xfrm>
            <a:off x="3995640" y="530064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5651280" y="476280"/>
            <a:ext cx="338436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изкая температур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абио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сокая температур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енатурация бел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3" descr="колонии в пробирках"/>
          <p:cNvPicPr/>
          <p:nvPr/>
        </p:nvPicPr>
        <p:blipFill>
          <a:blip r:embed="rId3"/>
          <a:stretch/>
        </p:blipFill>
        <p:spPr>
          <a:xfrm>
            <a:off x="250920" y="549360"/>
            <a:ext cx="5541840" cy="5930640"/>
          </a:xfrm>
          <a:prstGeom prst="rect">
            <a:avLst/>
          </a:prstGeom>
          <a:ln w="0">
            <a:noFill/>
          </a:ln>
        </p:spPr>
      </p:pic>
      <p:sp>
        <p:nvSpPr>
          <p:cNvPr id="233" name="Line 4"/>
          <p:cNvSpPr/>
          <p:nvPr/>
        </p:nvSpPr>
        <p:spPr>
          <a:xfrm>
            <a:off x="7524720" y="148428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Line 5"/>
          <p:cNvSpPr/>
          <p:nvPr/>
        </p:nvSpPr>
        <p:spPr>
          <a:xfrm>
            <a:off x="7596360" y="458136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Химические фактор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50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источники энергии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источники пластических </a:t>
            </a: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материалов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стимуляция роста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подавление роста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гибель микробных клеток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30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Arial"/>
              </a:rPr>
              <a:t>Спасибо </a:t>
            </a:r>
            <a:br>
              <a:rPr sz="4800"/>
            </a:br>
            <a:r>
              <a:rPr b="1" i="1" lang="ru-RU" sz="4800" spc="-1" strike="noStrike">
                <a:solidFill>
                  <a:srgbClr val="ffffff"/>
                </a:solidFill>
                <a:latin typeface="Arial"/>
              </a:rPr>
              <a:t>за вниман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95280" y="69192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ЛАН ЛЕКЦИ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икрофлора почв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икрофлора вод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икрофлора воздух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икрофлора продуктов пит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лияние физических фактор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лияние химических фактор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79280" y="549360"/>
            <a:ext cx="86407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Экология микробов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(«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ikos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»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– дом, место обитания) изучает взаимоотношения микробов друг с другом и с окружающей средо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Микробиоценоз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– сообщество микробов, обитающих на определенных участках окружающей сред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Микрофлора почв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95280" y="5589720"/>
            <a:ext cx="864072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1 г почвы – 10 млрд микроорганизмо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верхний слой почвы – до 10 см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7" descr="garden6_1"/>
          <p:cNvPicPr/>
          <p:nvPr/>
        </p:nvPicPr>
        <p:blipFill>
          <a:blip r:embed="rId3"/>
          <a:stretch/>
        </p:blipFill>
        <p:spPr>
          <a:xfrm>
            <a:off x="900000" y="1197000"/>
            <a:ext cx="7272360" cy="41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Микрофлора почв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755640" y="1700280"/>
            <a:ext cx="3024360" cy="2016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возбудител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ибирской язв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толбня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отулиз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азовой гангре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611280" y="4653000"/>
            <a:ext cx="3240000" cy="1368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ишечны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актер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076720" y="2060640"/>
            <a:ext cx="3816360" cy="1368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лительн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храняют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почв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Oval 7"/>
          <p:cNvSpPr/>
          <p:nvPr/>
        </p:nvSpPr>
        <p:spPr>
          <a:xfrm>
            <a:off x="5076720" y="4724280"/>
            <a:ext cx="3743280" cy="1368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ыстро погибаю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почв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8"/>
          <p:cNvSpPr/>
          <p:nvPr/>
        </p:nvSpPr>
        <p:spPr>
          <a:xfrm>
            <a:off x="3924360" y="270828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9"/>
          <p:cNvSpPr/>
          <p:nvPr/>
        </p:nvSpPr>
        <p:spPr>
          <a:xfrm>
            <a:off x="3924360" y="537372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Микрофлора воды</a:t>
            </a:r>
            <a:br>
              <a:rPr sz="44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ражает микробный пейзаж почв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651280" y="1700280"/>
            <a:ext cx="338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ишечная палоч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збудитель брюшного тиф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Шигелл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Холерный вибри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ептоспи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нтеровирус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6" descr="21754"/>
          <p:cNvPicPr/>
          <p:nvPr/>
        </p:nvPicPr>
        <p:blipFill>
          <a:blip r:embed="rId7"/>
          <a:stretch/>
        </p:blipFill>
        <p:spPr>
          <a:xfrm>
            <a:off x="179280" y="2205000"/>
            <a:ext cx="540072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Микрофлора вод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7" descr="холерный вибрион"/>
          <p:cNvPicPr/>
          <p:nvPr/>
        </p:nvPicPr>
        <p:blipFill>
          <a:blip r:embed="rId1"/>
          <a:stretch/>
        </p:blipFill>
        <p:spPr>
          <a:xfrm>
            <a:off x="324000" y="1989000"/>
            <a:ext cx="4182840" cy="285912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0"/>
          <p:cNvSpPr/>
          <p:nvPr/>
        </p:nvSpPr>
        <p:spPr>
          <a:xfrm>
            <a:off x="5148360" y="1700280"/>
            <a:ext cx="3311280" cy="1584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олерный вибри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ептоспи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егионелл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нтеровиру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Oval 11"/>
          <p:cNvSpPr/>
          <p:nvPr/>
        </p:nvSpPr>
        <p:spPr>
          <a:xfrm>
            <a:off x="4716360" y="4292640"/>
            <a:ext cx="4319640" cy="18730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лительно сохраняют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вод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Line 12"/>
          <p:cNvSpPr/>
          <p:nvPr/>
        </p:nvSpPr>
        <p:spPr>
          <a:xfrm>
            <a:off x="6804000" y="342900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Микрофлора воздух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489744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вязана с микрофлорой почвы и воды, микрофлорой дыхательных пут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364000" y="1773360"/>
            <a:ext cx="3322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озбудитель туберкулез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озбудитель дифтер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олотистый стафилокок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рептокок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ирус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6" descr="Безымянный"/>
          <p:cNvPicPr/>
          <p:nvPr/>
        </p:nvPicPr>
        <p:blipFill>
          <a:blip r:embed="rId1"/>
          <a:stretch/>
        </p:blipFill>
        <p:spPr>
          <a:xfrm>
            <a:off x="324000" y="4221000"/>
            <a:ext cx="467964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Микрофлора воздух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84720" y="1557000"/>
            <a:ext cx="30592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оздушно-капельный путь передач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89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8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7" descr="19b213e2ec764bdc98ead48b84d0263c_full"/>
          <p:cNvPicPr/>
          <p:nvPr/>
        </p:nvPicPr>
        <p:blipFill>
          <a:blip r:embed="rId1"/>
          <a:stretch/>
        </p:blipFill>
        <p:spPr>
          <a:xfrm>
            <a:off x="179280" y="1773360"/>
            <a:ext cx="6193080" cy="42955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 txBox="1"/>
          <p:nvPr/>
        </p:nvSpPr>
        <p:spPr>
          <a:xfrm>
            <a:off x="4787640" y="4365360"/>
            <a:ext cx="388764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ше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их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гов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0T12:42:05Z</dcterms:created>
  <dc:creator>Светлана</dc:creator>
  <dc:description/>
  <dc:language>en-US</dc:language>
  <cp:lastModifiedBy>Эльмира ПК</cp:lastModifiedBy>
  <dcterms:modified xsi:type="dcterms:W3CDTF">2023-12-14T10:13:04Z</dcterms:modified>
  <cp:revision>31</cp:revision>
  <dc:subject/>
  <dc:title>Лекция №6</dc:title>
</cp:coreProperties>
</file>