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4F7-6DB6-441E-BB04-3CD5978B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8BF-8081-4069-AD5A-7E15915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85A-0693-4F04-8E57-1E509409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22F-007B-456D-8B56-6E7F2B8D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054-D4A0-4452-823C-07A243AB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27A-5C43-48CF-BCA8-B9AF9C89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583-5BB6-49B9-BC45-30759D26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3C5-C989-469C-B730-4DCEFDD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337-457E-4909-AE33-FB1D09AB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914-EA19-4E80-8716-76976E89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144-5CF7-468D-B88F-C5E5C422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C31-C229-43DC-A803-B5ADA5E8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8517-9EAC-49F6-977D-7EB836558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8581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Родительское собр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85840" y="1285920"/>
            <a:ext cx="885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5011d"/>
                </a:solidFill>
                <a:latin typeface="Arial Black"/>
              </a:rPr>
              <a:t>ПРАВОВАЯ ОТВЕТСТВЕННОСТЬ РОДИТЕЛЕЙ ЗА ВОСПИТАНИЕ РЕБЁНКА – ЗАЛОГ ЕГО УСПЕШНОСТИ В УЧЁБЕ И В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68360" y="620640"/>
            <a:ext cx="803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норирование решений Попечительского совета школы , Родительского комитета класса, Педагогического совета и друг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ов самоуправления, связанные с решением вопросов обучения , оздоровления и воспитания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6а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 flipV="1" rot="10800000">
            <a:off x="5572080" y="60602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539640" y="476280"/>
            <a:ext cx="803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дминистрация школы может обратиться в правоохранительные органы с целью привлечения родителей (законных представителей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овершеннолетнего, согласно кодексу РФ об административных правонарушениях, если они не исполняют, либо исполняют не должным образом обязанности по содержанию, воспитанию, обучению ребенка (не обеспечивают ему должного ухода, не следят з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успеваемостью, регулярно не посещают родительские собрания, не реагируют на замечания учителей школ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Документы, регламентирующие         права и обяза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"/>
          <p:cNvPicPr/>
          <p:nvPr/>
        </p:nvPicPr>
        <p:blipFill>
          <a:blip r:embed="rId2"/>
          <a:stretch/>
        </p:blipFill>
        <p:spPr>
          <a:xfrm>
            <a:off x="3564000" y="1700280"/>
            <a:ext cx="2138400" cy="30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"/>
          <p:cNvPicPr/>
          <p:nvPr/>
        </p:nvPicPr>
        <p:blipFill>
          <a:blip r:embed="rId3"/>
          <a:stretch/>
        </p:blipFill>
        <p:spPr>
          <a:xfrm>
            <a:off x="755640" y="1773360"/>
            <a:ext cx="1905120" cy="2838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2"/>
          <p:cNvPicPr/>
          <p:nvPr/>
        </p:nvPicPr>
        <p:blipFill>
          <a:blip r:embed="rId4"/>
          <a:stretch/>
        </p:blipFill>
        <p:spPr>
          <a:xfrm>
            <a:off x="6516720" y="1773360"/>
            <a:ext cx="1905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Arial"/>
              </a:rPr>
              <a:t>Возраст: от 14 лет до 18 л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403280"/>
            <a:ext cx="858996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50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подросток</a:t>
            </a:r>
            <a:r>
              <a:rPr b="0" lang="ru-RU" sz="2800" spc="-1" strike="noStrike">
                <a:solidFill>
                  <a:srgbClr val="85011d"/>
                </a:solidFill>
                <a:latin typeface="Arial"/>
              </a:rPr>
              <a:t> или </a:t>
            </a: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несовершеннолетний</a:t>
            </a:r>
            <a:r>
              <a:rPr b="0" lang="ru-RU" sz="2800" spc="-1" strike="noStrike">
                <a:solidFill>
                  <a:srgbClr val="85011d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011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5011d"/>
                </a:solidFill>
                <a:latin typeface="Arial"/>
              </a:rPr>
              <a:t>может осознавать и </a:t>
            </a: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отвечать за свои п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 14 лет подлежит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головной ответственности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за некоторые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еступления,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а с 16 лет подлежит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административной ответственности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; несет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уголовную ответственность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за любые пре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бязан иметь паспорт гражданина РФ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(в 14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меет право требовать отмены усыновления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(с 14 л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меет право управлять велосипедом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и движении по дорогам (с 14 л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паспорт"/>
          <p:cNvPicPr/>
          <p:nvPr/>
        </p:nvPicPr>
        <p:blipFill>
          <a:blip r:embed="rId2">
            <a:lum bright="6000"/>
          </a:blip>
          <a:stretch/>
        </p:blipFill>
        <p:spPr>
          <a:xfrm rot="20814000">
            <a:off x="8172000" y="3573000"/>
            <a:ext cx="6429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меет право обратиться в суд, если родители грубо нарушают его права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(с 14 лет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меет право заключать трудовой договор для выполнения легкого труда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(с 15 л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имеет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аво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н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правление мотоциклом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мотороллером и другими мототранспортными средствами ( с 16 л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16 лет может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ступать в брак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но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и наличии уважительных причин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(беременность, рождение ребенка) и с разрешение органов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В 18 лет - совершеннолетний, полностью дееспособ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6а"/>
          <p:cNvPicPr/>
          <p:nvPr/>
        </p:nvPicPr>
        <p:blipFill>
          <a:blip r:embed="rId1"/>
          <a:stretch/>
        </p:blipFill>
        <p:spPr>
          <a:xfrm>
            <a:off x="0" y="-76320"/>
            <a:ext cx="914544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КАК ЗАЩИТИТЬ СВОИ ПРА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ажные пр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равило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 1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 Чтобы права человека были защищены, мало их написать на бумаге, надо чтобы сам человек хотел и умел их защитить. Права человека реализуются только через его в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равило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2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 Наши права кончаются там, где начинается нарушение прав другого человека. Если сегодня мы нарушаем права более слабого, завтра найдется тот, кто нарушит наши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равило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 3.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Каждый имеет столько прав, сколько он может и хочет им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равило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 4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 Человек и государство общаются друг с другом только письменно. Если Вы пришли к чиновнику, Вы должны оставить ему заявление, на копии которого он должен расписаться. Если Вы этого не сделали, можете считать, что Вы у чиновника не б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324000" y="814680"/>
            <a:ext cx="8462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ребенок живет в атмосфере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КРИ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  <a:ea typeface="Times New Roman"/>
              </a:rPr>
              <a:t>ОСУЖДАТЬ.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 живет в атмосфере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ВРАЖДЕБ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  <a:ea typeface="Times New Roman"/>
              </a:rPr>
              <a:t>ДРАТЬ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ребенок живет в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СТРАХ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  <a:ea typeface="Times New Roman"/>
              </a:rPr>
              <a:t>БОЯ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 окружен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ЖАЛОСТЬЮ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о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  <a:ea typeface="Times New Roman"/>
              </a:rPr>
              <a:t>ЖАЛОСТИ К СЕБ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ребенка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ОСМЕИВАЮТ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  <a:ea typeface="Times New Roman"/>
              </a:rPr>
              <a:t>РОБ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 flipV="1" rot="10800000">
            <a:off x="4714560" y="57142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24000" y="476280"/>
            <a:ext cx="8391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живет в атмосфере Т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ЕРПИМ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 учится быть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ТЕРПЕЛИВ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чувствует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ПОДДЕРЖКУ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учится быть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УВЕРЕННЫМ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знает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ПОХВАЛУ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ЦЕ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чувствует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ОДОБ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УВАЖАТЬ СЕБ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познает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ПРИЗНАНИ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ЦЕЛЕУСТРЕМ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 ребенку относятся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СПРАВЕДЛИ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СПРАВЕД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живет в атмосфере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ЛЮБВ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ЛЮБ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 flipV="1" rot="10800000">
            <a:off x="4714560" y="57142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714240" y="207180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Посейте поступок- пожнете привычку, посейте привычку- пожнете характер, посейте характер- пожнете суд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.Текке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011d"/>
                </a:solidFill>
                <a:latin typeface="Arial"/>
              </a:rPr>
              <a:t>ОБЩИЕ РЕКОМЕНД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428760" y="1071720"/>
            <a:ext cx="8429400" cy="60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Если вас что-то беспокоит в поведении ребенка, постарайтесь как можно скорее встретиться и обсудить это с классным руководителем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Если в семье произошли какие-то события, повлиявшие на психологическое состояние ребенка сообщите об этом классному руководителю. Именно изменениями в семейной жизни часто объясняются внезапные перемены в поведении детей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840" y="114300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c8c93"/>
                </a:solidFill>
                <a:latin typeface="Arial"/>
              </a:rPr>
              <a:t>Все начинается в.... </a:t>
            </a:r>
            <a:r>
              <a:rPr b="1" lang="ru-RU" sz="4400" spc="-1" strike="noStrike">
                <a:solidFill>
                  <a:srgbClr val="85011d"/>
                </a:solidFill>
                <a:latin typeface="Arial"/>
              </a:rPr>
              <a:t>Семье…..</a:t>
            </a: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2286000" y="1285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Documents and Settings\lv\Рабочий стол\Агрессия\48860616_933113ea114fe44e2df8bdb08893a474.jpg"/>
          <p:cNvPicPr/>
          <p:nvPr/>
        </p:nvPicPr>
        <p:blipFill>
          <a:blip r:embed="rId2"/>
          <a:stretch/>
        </p:blipFill>
        <p:spPr>
          <a:xfrm>
            <a:off x="1857240" y="1214280"/>
            <a:ext cx="53578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404280"/>
            <a:ext cx="8286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осоветуйте ребенку в затруднительных ситуациях обращаться за помощью к классному руководителю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84297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осоветуйте ребенку в затруднительных ситуациях обращаться за помощью к классному руководителю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011d"/>
                </a:solidFill>
                <a:latin typeface="Arial"/>
              </a:rPr>
              <a:t>Если вы хотите, чтобы Ваш ребёнок ходил в школу с удовольствием, 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571680" y="1609560"/>
            <a:ext cx="80722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 говорите о школе плохо, не критикуйте учителей в присутствии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 спешите обвинять учителей в отсутствии индивидуального подхода, задумайтесь над линией собственного поведени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спомните сколько раз вы сидели с ребёнком и наблюдали за его работой над уроками, были ли случаи когда вы заметили у ребёнка неправильные приёмы работы и показали ему правильные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99680" y="404640"/>
            <a:ext cx="82868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 случае конфликтной ситуации в школе постарайтесь устранить её, не обсуждая все подробности с ребён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ледите, чтобы ваш ребёнок вовремя ложился спать. Не выспавшийся ребёнок на уроке грустное зрели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усть ребёнок видит, что вы интересуетесь его заданиями, книгами, которые он приносит из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914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Читайте сами, пусть ребёнок видит, что свободное время вы проводите за книгами, а не только у телевиз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чите ребёнка выражать свои мысли письменно: обменивайтесь с ним записками, пишите вместе пис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28760" y="404280"/>
            <a:ext cx="8215200" cy="58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ринимайте участие в жизни класса и школы. Ребёнку приятно, если его школа станет частью ваше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6а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900000" y="476280"/>
            <a:ext cx="6958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ебенок учится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то видит у себя в до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и пример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оль видят всё и слышат де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ы за дела свои в от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 за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егко толк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етей на нехорош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ержи в приличии сво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тобы не каяться по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010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язанности родител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85840" y="-954000"/>
            <a:ext cx="8172360" cy="85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одители обязан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ивать и защищать права и интересы своих детей, не причиняя вред их физическому и психологическому здоровью, нравственному развитию, воспитывать детей, исключ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небрежительное, грубое, жестокое, унижающее человеческое достоинство обращение, оскорбление, эксплуа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Обеспечить детям до 15 лет получение основного   общего образования в общеобразовательной школе или другом приравненном к ней по статусу образовательном учреж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324000" y="549360"/>
            <a:ext cx="84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ыполнять Устав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Принимать участие в управлении школой (Совет школ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В случае академической задолженности у обучающегося ответственность за ликвидацию ее в течение следующего учебного года возлагается на родителей (законных представи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е допускать неоправданного вмешательства в работу преподавателей по вопросам, которые по своему характеру входят в круг их профессиональн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Обеспечить в меру своих способностей и финансовых возможностей условия жизни, необходимые для нормального развит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08000" y="412200"/>
            <a:ext cx="8464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Обеспечить ребенка всем необходимым для посещения школы (канцелярские принадлежности, спортивная форма, дополнительные учебные пособ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Регулярно посещать родительские собрания, посещать школу по вызову классного руководителя или админи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 Отпускать ребенка на внеклассные школьные мероприятия, если ребенок здоров и сам того же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1. По возможности выделять материальные средства на посещение театров и музеев, если этого требует программа класса или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. Контролировать посещаемость уроков, выполнение домашних заданий, и результаты учеб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3. Родители обязаны следить за внешним видом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ветственность родителей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428760" y="107172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(законные представители) обучающихся, воспитанников несут ответственность за их воспитание, получение ими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т.52 Закон «Об образовани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учащегося, переведенного в следующий класс условно , несут ответственность за ликвидацию обучающимся академической задолженности в течение следующего учебного год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т.17 Закон «Об образовани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395280" y="620640"/>
            <a:ext cx="8391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содержанию, воспитанию, обучению, защите прав и интересов несовершеннолетних - влечет привлечение 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тивной ответ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т.5-35- Кодекса Российск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ции об административных правонарушениях от 30 декабря 2001г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5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6а"/>
          <p:cNvPicPr/>
          <p:nvPr/>
        </p:nvPicPr>
        <p:blipFill>
          <a:blip r:embed="rId1"/>
          <a:stretch/>
        </p:blipFill>
        <p:spPr>
          <a:xfrm>
            <a:off x="4680" y="90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250920" y="49860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Перед Педагогическим советом школы и другими общественны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зданными в школе, Комиссией по делам несовершеннолетних, а в отдельных случаях перед правоохранительными органами родители несут ответственность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31920" algn="just">
              <a:buClr>
                <a:srgbClr val="000000"/>
              </a:buClr>
              <a:buFont typeface="Arial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гнорирование возложенных на них законом обязательств по воспитанию детей в семье, созданию им надлежащих условий для обучения, отдыха, дос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31920" algn="just">
              <a:buClr>
                <a:srgbClr val="000000"/>
              </a:buClr>
              <a:buFont typeface="Arial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типедагогические действия по отношению к ребен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желание создавать ребенку надлежащие условия для становления гармонически развитой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корбительное и неэтичное отношение к личности учителя или педагогическому коллективу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3:10:27Z</dcterms:created>
  <dc:creator>директор</dc:creator>
  <dc:description/>
  <dc:language>en-US</dc:language>
  <cp:lastModifiedBy>User</cp:lastModifiedBy>
  <dcterms:modified xsi:type="dcterms:W3CDTF">2023-12-14T10:28:55Z</dcterms:modified>
  <cp:revision>45</cp:revision>
  <dc:subject/>
  <dc:title>Родители и дети Права и обязанности</dc:title>
</cp:coreProperties>
</file>