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2224-3127-4A82-9685-958014CC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0D11-0250-45D9-957B-B5E9077E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351C-4D4A-4048-B25D-A0F70739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8ED8-6D10-4D47-BBF5-633334A0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B1A9-0817-4055-AF9A-251D4AC7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65E-9E9A-4103-B4B2-68C006B0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54B5-F609-44DD-ACEB-E609D1DF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619-D4BF-438F-B1A8-888CBD9D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C2D-3A3E-4FFA-BD37-54B9B145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7E4-2D2E-489D-86D8-1B7298E9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D2F-4A75-4FBE-BBED-BE36A9F1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483C-C9A5-43C8-B932-0D5B1D7A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5A9C-5F02-4101-96FC-6B44D75791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28760"/>
            <a:ext cx="885816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Родительское собрани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85840" y="1285920"/>
            <a:ext cx="8858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5011d"/>
                </a:solidFill>
                <a:latin typeface="Arial Black"/>
              </a:rPr>
              <a:t>ПРАВОВАЯ ОТВЕТСТВЕННОСТЬ РОДИТЕЛЕЙ ЗА ВОСПИТАНИЕ РЕБЁНКА – ЗАЛОГ ЕГО УСПЕШНОСТИ В УЧЁБЕ И В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468360" y="620640"/>
            <a:ext cx="803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норирование решений Попечительского совета школы , Родительского комитета класса, Педагогического совета и други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ов самоуправления, связанные с решением вопросов обучения , оздоровления и воспитания ребе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16а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 flipV="1" rot="10800000">
            <a:off x="5572080" y="60602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539640" y="476280"/>
            <a:ext cx="8033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Администрация школы может обратиться в правоохранительные органы с целью привлечения родителей (законных представителей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совершеннолетнего, согласно кодексу РФ об административных правонарушениях, если они не исполняют, либо исполняют не должным образом обязанности по содержанию, воспитанию, обучению ребенка (не обеспечивают ему должного ухода, не следят з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успеваемостью, регулярно не посещают родительские собрания, не реагируют на замечания учителей школ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Документы, регламентирующие         права и обяза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"/>
          <p:cNvPicPr/>
          <p:nvPr/>
        </p:nvPicPr>
        <p:blipFill>
          <a:blip r:embed="rId2"/>
          <a:stretch/>
        </p:blipFill>
        <p:spPr>
          <a:xfrm>
            <a:off x="3564000" y="1700280"/>
            <a:ext cx="2138400" cy="302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2"/>
          <p:cNvPicPr/>
          <p:nvPr/>
        </p:nvPicPr>
        <p:blipFill>
          <a:blip r:embed="rId3"/>
          <a:stretch/>
        </p:blipFill>
        <p:spPr>
          <a:xfrm>
            <a:off x="755640" y="1773360"/>
            <a:ext cx="1905120" cy="2838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2"/>
          <p:cNvPicPr/>
          <p:nvPr/>
        </p:nvPicPr>
        <p:blipFill>
          <a:blip r:embed="rId4"/>
          <a:stretch/>
        </p:blipFill>
        <p:spPr>
          <a:xfrm>
            <a:off x="6516720" y="1773360"/>
            <a:ext cx="19051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22268"/>
                </a:solidFill>
                <a:latin typeface="Arial"/>
              </a:rPr>
              <a:t>Возраст: от 14 лет до 18 л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1403280"/>
            <a:ext cx="858996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8501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011d"/>
                </a:solidFill>
                <a:latin typeface="Arial"/>
              </a:rPr>
              <a:t>подросток</a:t>
            </a:r>
            <a:r>
              <a:rPr b="0" lang="ru-RU" sz="2800" spc="-1" strike="noStrike">
                <a:solidFill>
                  <a:srgbClr val="85011d"/>
                </a:solidFill>
                <a:latin typeface="Arial"/>
              </a:rPr>
              <a:t> или </a:t>
            </a:r>
            <a:r>
              <a:rPr b="1" lang="ru-RU" sz="2800" spc="-1" strike="noStrike">
                <a:solidFill>
                  <a:srgbClr val="85011d"/>
                </a:solidFill>
                <a:latin typeface="Arial"/>
              </a:rPr>
              <a:t>несовершеннолетний</a:t>
            </a:r>
            <a:r>
              <a:rPr b="0" lang="ru-RU" sz="2800" spc="-1" strike="noStrike">
                <a:solidFill>
                  <a:srgbClr val="85011d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5011d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5011d"/>
                </a:solidFill>
                <a:latin typeface="Arial"/>
              </a:rPr>
              <a:t>может осознавать и </a:t>
            </a:r>
            <a:r>
              <a:rPr b="1" lang="ru-RU" sz="2800" spc="-1" strike="noStrike">
                <a:solidFill>
                  <a:srgbClr val="85011d"/>
                </a:solidFill>
                <a:latin typeface="Arial"/>
              </a:rPr>
              <a:t>отвечать за свои посту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 14 лет подлежит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головной ответственности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за некоторые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еступления,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а с 16 лет подлежит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административной ответственности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; несет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уголовную ответственность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за любые преступ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бязан иметь паспорт гражданина РФ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(в 14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меет право требовать отмены усыновления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(с 14 ле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меет право управлять велосипедом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ри движении по дорогам (с 14 ле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паспорт"/>
          <p:cNvPicPr/>
          <p:nvPr/>
        </p:nvPicPr>
        <p:blipFill>
          <a:blip r:embed="rId2">
            <a:lum bright="6000"/>
          </a:blip>
          <a:stretch/>
        </p:blipFill>
        <p:spPr>
          <a:xfrm rot="20814000">
            <a:off x="8172000" y="3573000"/>
            <a:ext cx="64296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9325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меет право обратиться в суд, если родители грубо нарушают его права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(с 14 лет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имеет право заключать трудовой договор для выполнения легкого труда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(с 15 ле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имеет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аво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на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управление мотоциклом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, мотороллером и другими мототранспортными средствами ( с 16 ле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16 лет может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ступать в брак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, но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ри наличии уважительных причин 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(беременность, рождение ребенка) и с разрешение органов местного само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011d"/>
                </a:solidFill>
                <a:latin typeface="Arial"/>
              </a:rPr>
              <a:t>В 18 лет - совершеннолетний, полностью дееспособ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6а"/>
          <p:cNvPicPr/>
          <p:nvPr/>
        </p:nvPicPr>
        <p:blipFill>
          <a:blip r:embed="rId1"/>
          <a:stretch/>
        </p:blipFill>
        <p:spPr>
          <a:xfrm>
            <a:off x="0" y="-76320"/>
            <a:ext cx="9145440" cy="6934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КАК ЗАЩИТИТЬ СВОИ ПРАВ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ажные пра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Правило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 1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. Чтобы права человека были защищены, мало их написать на бумаге, надо чтобы сам человек хотел и умел их защитить. Права человека реализуются только через его во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Правило 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2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. Наши права кончаются там, где начинается нарушение прав другого человека. Если сегодня мы нарушаем права более слабого, завтра найдется тот, кто нарушит наши пр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Правило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 3.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Каждый имеет столько прав, сколько он может и хочет им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Правило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 4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. Человек и государство общаются друг с другом только письменно. Если Вы пришли к чиновнику, Вы должны оставить ему заявление, на копии которого он должен расписаться. Если Вы этого не сделали, можете считать, что Вы у чиновника не бы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324000" y="814680"/>
            <a:ext cx="8462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ребенок живет в атмосфере 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  <a:ea typeface="Times New Roman"/>
              </a:rPr>
              <a:t>КРИТИ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то учится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  <a:ea typeface="Times New Roman"/>
              </a:rPr>
              <a:t>ОСУЖДАТЬ.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н живет в атмосфере 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  <a:ea typeface="Times New Roman"/>
              </a:rPr>
              <a:t>ВРАЖДЕБ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то учится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  <a:ea typeface="Times New Roman"/>
              </a:rPr>
              <a:t>ДРАТЬ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ребенок живет в 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  <a:ea typeface="Times New Roman"/>
              </a:rPr>
              <a:t>СТРАХ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то учится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  <a:ea typeface="Times New Roman"/>
              </a:rPr>
              <a:t>БОЯ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он окружен 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  <a:ea typeface="Times New Roman"/>
              </a:rPr>
              <a:t>ЖАЛОСТЬЮ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то учится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  <a:ea typeface="Times New Roman"/>
              </a:rPr>
              <a:t>ЖАЛОСТИ К СЕБ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ребенка 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  <a:ea typeface="Times New Roman"/>
              </a:rPr>
              <a:t>ОСМЕИВАЮТ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н учится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  <a:ea typeface="Times New Roman"/>
              </a:rPr>
              <a:t>РОБ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 flipV="1" rot="10800000">
            <a:off x="4714560" y="571428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324000" y="476280"/>
            <a:ext cx="8391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ебенок живет в атмосфере Т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</a:rPr>
              <a:t>ЕРПИМ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н учится быть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</a:rPr>
              <a:t>ТЕРПЕЛИВ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ебенок чувствует 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</a:rPr>
              <a:t>ПОДДЕРЖКУ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н учится быть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</a:rPr>
              <a:t>УВЕРЕННЫМ В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ебенок знает 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</a:rPr>
              <a:t>ПОХВАЛУ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н учится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</a:rPr>
              <a:t>ЦЕН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ебенок чувствует 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</a:rPr>
              <a:t>ОДОБР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н учится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</a:rPr>
              <a:t>УВАЖАТЬ СЕБ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ебенок познает 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</a:rPr>
              <a:t>ПРИЗНАНИЕ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н учится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</a:rPr>
              <a:t>ЦЕЛЕУСТРЕМ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к ребенку относятся 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</a:rPr>
              <a:t>СПРАВЕДЛИ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н учится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</a:rPr>
              <a:t>СПРАВЕДЛИВ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ебенок живет в атмосфере </a:t>
            </a:r>
            <a:r>
              <a:rPr b="1" lang="ru-RU" sz="2400" spc="-1" strike="noStrike">
                <a:solidFill>
                  <a:srgbClr val="85011d"/>
                </a:solidFill>
                <a:latin typeface="Arial"/>
              </a:rPr>
              <a:t>ЛЮБВ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н учится </a:t>
            </a:r>
            <a:r>
              <a:rPr b="1" lang="ru-RU" sz="2400" spc="-1" strike="noStrike" u="sng">
                <a:solidFill>
                  <a:srgbClr val="85011d"/>
                </a:solidFill>
                <a:uFillTx/>
                <a:latin typeface="Arial"/>
              </a:rPr>
              <a:t>ЛЮБ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 flipV="1" rot="10800000">
            <a:off x="4714560" y="571428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714240" y="2071800"/>
            <a:ext cx="7643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011d"/>
                </a:solidFill>
                <a:latin typeface="Arial"/>
              </a:rPr>
              <a:t>Посейте поступок- пожнете привычку, посейте привычку- пожнете характер, посейте характер- пожнете судьб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011d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.Теккер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6а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5011d"/>
                </a:solidFill>
                <a:latin typeface="Arial"/>
              </a:rPr>
              <a:t>ОБЩИЕ РЕКОМЕНД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428760" y="1071720"/>
            <a:ext cx="8429400" cy="60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Если вас что-то беспокоит в поведении ребенка, постарайтесь как можно скорее встретиться и обсудить это с классным руководителем</a:t>
            </a:r>
            <a:br>
              <a:rPr sz="3200"/>
            </a:b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Если в семье произошли какие-то события, повлиявшие на психологическое состояние ребенка сообщите об этом классному руководителю. Именно изменениями в семейной жизни часто объясняются внезапные перемены в поведении детей</a:t>
            </a:r>
            <a:br>
              <a:rPr sz="3200"/>
            </a:b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5840" y="1143000"/>
            <a:ext cx="850104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c8c93"/>
                </a:solidFill>
                <a:latin typeface="Arial"/>
              </a:rPr>
              <a:t>Все начинается в.... </a:t>
            </a:r>
            <a:r>
              <a:rPr b="1" lang="ru-RU" sz="4400" spc="-1" strike="noStrike">
                <a:solidFill>
                  <a:srgbClr val="85011d"/>
                </a:solidFill>
                <a:latin typeface="Arial"/>
              </a:rPr>
              <a:t>Семье…..</a:t>
            </a:r>
            <a:br>
              <a:rPr sz="5400"/>
            </a:b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2286000" y="1285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C:\Documents and Settings\lv\Рабочий стол\Агрессия\48860616_933113ea114fe44e2df8bdb08893a474.jpg"/>
          <p:cNvPicPr/>
          <p:nvPr/>
        </p:nvPicPr>
        <p:blipFill>
          <a:blip r:embed="rId2"/>
          <a:stretch/>
        </p:blipFill>
        <p:spPr>
          <a:xfrm>
            <a:off x="1857240" y="1214280"/>
            <a:ext cx="53578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16а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28760" y="404280"/>
            <a:ext cx="8286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Проявляйте интерес к школьным делам, обсуждайте сложные ситуации, вместе ищите выход из конфликтов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Посоветуйте ребенку в затруднительных ситуациях обращаться за помощью к классному руководителю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16а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57120" y="571320"/>
            <a:ext cx="842976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Проявляйте интерес к школьным делам, обсуждайте сложные ситуации, вместе ищите выход из конфликтов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Посоветуйте ребенку в затруднительных ситуациях обращаться за помощью к классному руководителю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16а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914400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5011d"/>
                </a:solidFill>
                <a:latin typeface="Arial"/>
              </a:rPr>
              <a:t>Если вы хотите, чтобы Ваш ребёнок ходил в школу с удовольствием, 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571680" y="1609560"/>
            <a:ext cx="807228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е говорите о школе плохо, не критикуйте учителей в присутствии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е спешите обвинять учителей в отсутствии индивидуального подхода, задумайтесь над линией собственного поведения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спомните сколько раз вы сидели с ребёнком и наблюдали за его работой над уроками, были ли случаи когда вы заметили у ребёнка неправильные приёмы работы и показали ему правильные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16а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99680" y="404640"/>
            <a:ext cx="828684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 случае конфликтной ситуации в школе постарайтесь устранить её, не обсуждая все подробности с ребён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ледите, чтобы ваш ребёнок вовремя ложился спать. Не выспавшийся ребёнок на уроке грустное зрелищ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усть ребёнок видит, что вы интересуетесь его заданиями, книгами, которые он приносит из 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16а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928440"/>
            <a:ext cx="914400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Читайте сами, пусть ребёнок видит, что свободное время вы проводите за книгами, а не только у телевиз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Учите ребёнка выражать свои мысли письменно: обменивайтесь с ним записками, пишите вместе пись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16а"/>
          <p:cNvPicPr/>
          <p:nvPr/>
        </p:nvPicPr>
        <p:blipFill>
          <a:blip r:embed="rId1"/>
          <a:stretch/>
        </p:blipFill>
        <p:spPr>
          <a:xfrm>
            <a:off x="0" y="-4752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28760" y="404280"/>
            <a:ext cx="8215200" cy="588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Принимайте участие в жизни класса и школы. Ребёнку приятно, если его школа станет частью вашей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6а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900000" y="476280"/>
            <a:ext cx="6958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ебенок учится то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Что видит у себя в до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дители пример 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оль видят всё и слышат де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ы за дела свои в отв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И за сло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Легко толкну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етей на нехороший пу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ержи в приличии свой д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Чтобы не каяться по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0104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язанности родител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285840" y="-954000"/>
            <a:ext cx="8172360" cy="85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одители обязан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AutoNum type="arabicPeriod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еспечивать и защищать права и интересы своих детей, не причиняя вред их физическому и психологическому здоровью, нравственному развитию, воспитывать детей, исключ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небрежительное, грубое, жестокое, унижающее человеческое достоинство обращение, оскорбление, эксплуат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 Обеспечить детям до 15 лет получение основного   общего образования в общеобразовательной школе или другом приравненном к ней по статусу образовательном учрежд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AutoNum type="arabicPeriod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AutoNum type="arabicPeriod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AutoNum type="arabicPeriod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5040" algn="just">
              <a:buClr>
                <a:srgbClr val="000000"/>
              </a:buClr>
              <a:buFont typeface="Arial"/>
              <a:buAutoNum type="arabicPeriod"/>
              <a:tabLst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73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324000" y="549360"/>
            <a:ext cx="84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Выполнять Устав образовательного учре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 Принимать участие в управлении школой (Совет школ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 В случае академической задолженности у обучающегося ответственность за ликвидацию ее в течение следующего учебного года возлагается на родителей (законных представителе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Не допускать неоправданного вмешательства в работу преподавателей по вопросам, которые по своему характеру входят в круг их профессиональных обязан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Обеспечить в меру своих способностей и финансовых возможностей условия жизни, необходимые для нормального развити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108000" y="412200"/>
            <a:ext cx="84646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 Обеспечить ребенка всем необходимым для посещения школы (канцелярские принадлежности, спортивная форма, дополнительные учебные пособ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. Регулярно посещать родительские собрания, посещать школу по вызову классного руководителя или админист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.  Отпускать ребенка на внеклассные школьные мероприятия, если ребенок здоров и сам того жел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1. По возможности выделять материальные средства на посещение театров и музеев, если этого требует программа класса или гимназ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2. Контролировать посещаемость уроков, выполнение домашних заданий, и результаты учеб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3. Родители обязаны следить за внешним видом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5010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Ответственность родителей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428760" y="1071720"/>
            <a:ext cx="8358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(законные представители) обучающихся, воспитанников несут ответственность за их воспитание, получение ими основного общ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т.52 Закон «Об образовани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учащегося, переведенного в следующий класс условно , несут ответственность за ликвидацию обучающимся академической задолженности в течение следующего учебного год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т.17 Закон «Об образовани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16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395280" y="620640"/>
            <a:ext cx="83916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исполнение или ненадлежащее исполнение родителями или иными законными представителями несовершеннолетних обязанностей по содержанию, воспитанию, обучению, защите прав и интересов несовершеннолетних - влечет привлечение 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министративной ответств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т.5-35- Кодекса Российск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едерации об административных правонарушениях от 30 декабря 2001г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5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6а"/>
          <p:cNvPicPr/>
          <p:nvPr/>
        </p:nvPicPr>
        <p:blipFill>
          <a:blip r:embed="rId1"/>
          <a:stretch/>
        </p:blipFill>
        <p:spPr>
          <a:xfrm>
            <a:off x="4680" y="90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250920" y="49860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Перед Педагогическим советом школы и другими общественным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созданными в школе, Комиссией по делам несовершеннолетних, а в отдельных случаях перед правоохранительными органами родители несут ответственность 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31920" algn="just">
              <a:buClr>
                <a:srgbClr val="000000"/>
              </a:buClr>
              <a:buFont typeface="Arial"/>
              <a:buChar char="•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гнорирование возложенных на них законом обязательств по воспитанию детей в семье, созданию им надлежащих условий для обучения, отдыха, досу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31920" algn="just">
              <a:buClr>
                <a:srgbClr val="000000"/>
              </a:buClr>
              <a:buFont typeface="Arial"/>
              <a:buChar char="•"/>
              <a:tabLst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нтипедагогические действия по отношению к ребен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ежелание создавать ребенку надлежащие условия для становления гармонически развитой ли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корбительное и неэтичное отношение к личности учителя или педагогическому коллективу шко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3:10:27Z</dcterms:created>
  <dc:creator>директор</dc:creator>
  <dc:description/>
  <dc:language>en-US</dc:language>
  <cp:lastModifiedBy>User</cp:lastModifiedBy>
  <dcterms:modified xsi:type="dcterms:W3CDTF">2023-12-14T10:28:55Z</dcterms:modified>
  <cp:revision>45</cp:revision>
  <dc:subject/>
  <dc:title>Родители и дети Права и обязанности</dc:title>
</cp:coreProperties>
</file>