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jpeg" ContentType="image/jpeg"/>
  <Override PartName="/ppt/media/image13.wmf" ContentType="image/x-wmf"/>
  <Override PartName="/ppt/media/image8.wmf" ContentType="image/x-wmf"/>
  <Override PartName="/ppt/media/image18.jpeg" ContentType="image/jpeg"/>
  <Override PartName="/ppt/media/image6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5.wmf" ContentType="image/x-wmf"/>
  <Override PartName="/ppt/media/image7.jpeg" ContentType="image/jpeg"/>
  <Override PartName="/ppt/media/image11.wmf" ContentType="image/x-wmf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234-FFA7-4314-8B60-C5E48972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910-70FD-44DE-B482-B16039C3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E4E-B102-4F26-A55E-0CDDE6F4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B26-EB27-4BC6-8D65-CFBF2709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713A-BCC7-4C86-978D-11CEC6AF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DB6B-25A5-4588-9F15-5FC9E367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8D66-9E70-4F60-A212-1C236A08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ACCD-0F50-4C33-829D-EF200B0F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A961-A4D3-4EDB-BE41-8D8C3D36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FE87-E010-4C5F-9EA7-842322A0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A3D5-E597-4290-8FD9-2B6CB62E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FA8-182E-40D2-A53D-EE700E6A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4AC3-95C4-479D-9DB7-E902B3ED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A58B-BB18-456E-A64E-EE7ECAA1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4E9A-F66A-4265-8B67-AA5C12D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A62C-01CB-4B02-914D-C170E99E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EEB5-BFAA-4A68-8528-AEBDD244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D4BB-C203-42AD-A9E7-2FD373CB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4B7E-D9C0-46CA-81B6-86D6E644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AC86-F8A5-4E59-92C1-17DAC49E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C157F-662E-431C-8E33-43B495DA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F922-B373-4DC9-BF0B-33B13E15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81B-3721-4F9D-8B7E-798C3A4A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29BED-0B95-4014-BDB0-70ACB41B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3D4D-C7CB-4BD0-9A42-1320FF41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E6D0-559D-4BF1-B70D-1BEE92F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CCB7F-E011-4569-B2C4-45BA048B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509C-1F5F-42C9-84BB-D0DD77CE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9D35-602A-4BAB-9499-F861549D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DEA5-3D99-4E4C-947B-EF1B0C09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A48E5-9379-46CB-8794-D1E1A59F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BEA0-AFB2-48B4-9E5B-46F0E01B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15D70-BF46-473B-A7B6-92B8D42A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43A-DA5C-43AB-B745-EEED4D53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81A1-ED40-4BF1-AB9D-AD220B15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5CEE-3094-410B-A59C-7A89C386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2140-10ED-4179-863B-6F682CB2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9913-29AC-4398-AE34-7CDF576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4B24-EA1D-47FD-87AC-E7BF76F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93C1-0FD8-4A77-BD74-A17B9683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1E29-B977-4865-A0C8-E19B565A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A829-B5DF-4187-9C18-7A953229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60352-AB94-4737-B6E7-F18DA82D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6146-F875-4B41-887C-FB07D99A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052-366D-46F4-B890-F239CEFC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AC90-529A-4840-975C-108A4344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6E53E-2660-4B3B-B379-147AE3CE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5D3DA-E35E-47F4-AF34-7F7F3E8C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05FFA-E8F4-4FCF-9E42-4A169D82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92D2-62A9-4C88-A90B-913F0BB0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FEA4-F425-4154-82CA-B52C2FE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4FA0C-C20D-4A20-AABC-F2F6EF05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89713-FF05-4CE9-B863-F6249E01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37EB4-7B47-4901-B875-3F07889A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F5C05-505A-4F5F-A255-442735BE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6A1-A25B-4E39-8EA8-D5072A68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D8321-D324-4E74-B349-F8856C4A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57E-8BB6-4B5F-801E-D89FF0BD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EC9-635E-4D73-A44C-1AC22CA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528-85B4-44FF-941C-20A578C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B95B-5616-41A5-A0FC-4FC0A3A5F5E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DCEC-8F88-45B9-B075-D2B6B73A8E9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50D3-83B5-47D1-BC2A-B93969F1D3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9B84-E99E-4E07-8058-CE0590837C7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2B40-9693-4B29-9530-7AA16230CEC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Фольклор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427280" y="4869000"/>
            <a:ext cx="4824360" cy="129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9766f"/>
                </a:solidFill>
                <a:latin typeface="Verdana"/>
              </a:rPr>
              <a:t>презентацию подготовила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9766f"/>
                </a:solidFill>
                <a:latin typeface="Verdana"/>
              </a:rPr>
              <a:t>учитель музык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9766f"/>
                </a:solidFill>
                <a:latin typeface="Verdana"/>
              </a:rPr>
              <a:t>МОБУ СОШ пгт Ерофей Павлови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79766f"/>
                </a:solidFill>
                <a:latin typeface="Verdana"/>
              </a:rPr>
              <a:t>Блинникова Алёна Валентинов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Содержимое 3" descr="Без названия.jpg"/>
          <p:cNvPicPr/>
          <p:nvPr/>
        </p:nvPicPr>
        <p:blipFill>
          <a:blip r:embed="rId1"/>
          <a:stretch/>
        </p:blipFill>
        <p:spPr>
          <a:xfrm>
            <a:off x="0" y="1844640"/>
            <a:ext cx="4761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333000"/>
            <a:ext cx="8362800" cy="57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TagirCTT"/>
              </a:rPr>
              <a:t>Рожок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пастушечий инструмент наибольшие распространение имеет в северных област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TagirCTT"/>
              </a:rPr>
              <a:t>Барабан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был употребляем у скоморохов и поводырей медвед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TagirCTT"/>
              </a:rPr>
              <a:t>Лир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струнный инструмент с деревянным корпусом, напоминающий гитару. При вращении рукоятки выступающее наружу колесо соприкасается со струнами и заставляет их звуч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urlpreview"/>
          <p:cNvPicPr/>
          <p:nvPr/>
        </p:nvPicPr>
        <p:blipFill>
          <a:blip r:embed="rId1"/>
          <a:stretch/>
        </p:blipFill>
        <p:spPr>
          <a:xfrm>
            <a:off x="5435640" y="3500280"/>
            <a:ext cx="2219400" cy="2946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rogok1"/>
          <p:cNvPicPr/>
          <p:nvPr/>
        </p:nvPicPr>
        <p:blipFill>
          <a:blip r:embed="rId2"/>
          <a:stretch/>
        </p:blipFill>
        <p:spPr>
          <a:xfrm>
            <a:off x="1116000" y="3860640"/>
            <a:ext cx="3009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Праздники на Руси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7f09"/>
                </a:solidFill>
                <a:latin typeface="Arbat"/>
              </a:rPr>
              <a:t> </a:t>
            </a:r>
            <a:r>
              <a:rPr b="1" lang="ru-RU" sz="4000" spc="-1" strike="noStrike" u="sng">
                <a:solidFill>
                  <a:srgbClr val="6b9f25"/>
                </a:solidFill>
                <a:uFillTx/>
                <a:latin typeface="Arbat"/>
              </a:rPr>
              <a:t>Зимние праздник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Зимние святки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с 25 декабря по 6 января(все даты  даны по  старому стилю).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Рождество 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– 25 декабря.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Святые вечера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с 25 декабря по 1 января.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Васильев день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1 января.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</a:t>
            </a: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Страшные вечера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с 1 января по 6 января.       </a:t>
            </a: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Крещение 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– 6 января.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Масленица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восьмая неделя перед  Пасхой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4" descr="MCj04234650000[1]"/>
          <p:cNvPicPr/>
          <p:nvPr/>
        </p:nvPicPr>
        <p:blipFill>
          <a:blip r:embed="rId1"/>
          <a:stretch/>
        </p:blipFill>
        <p:spPr>
          <a:xfrm>
            <a:off x="7927920" y="5029200"/>
            <a:ext cx="121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189000"/>
            <a:ext cx="8686800" cy="5906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6000"/>
          </a:bodyPr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26b02"/>
                </a:solidFill>
                <a:latin typeface="Venski sad One"/>
              </a:rPr>
              <a:t> </a:t>
            </a:r>
            <a:r>
              <a:rPr b="1" lang="ru-RU" sz="5400" spc="-1" strike="noStrike">
                <a:solidFill>
                  <a:srgbClr val="b26b02"/>
                </a:solidFill>
                <a:latin typeface="Venski sad One"/>
              </a:rPr>
              <a:t>Весенне-летние праздник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Сороки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9 марта; день весеннего равноденствия.       </a:t>
            </a: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Пасх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первое воскресенье после первого весеннего  новолуния(между22 марта и 25 апреля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Егорьев день – 23 апреля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  </a:t>
            </a: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Летние святки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русальская или  семицкая  неделя,  седьмая   неделя после Пасхи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Семик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четверг на русальской неделе, седьмой после Пасхи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Троиц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воскресенье на русальской неделе, седьмое после Пасхи.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 </a:t>
            </a: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Аграфена Купальниц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23 июня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Иван Купал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24 июня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Петров день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29 ию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j0304933"/>
          <p:cNvPicPr/>
          <p:nvPr/>
        </p:nvPicPr>
        <p:blipFill>
          <a:blip r:embed="rId1"/>
          <a:stretch/>
        </p:blipFill>
        <p:spPr>
          <a:xfrm>
            <a:off x="0" y="5189400"/>
            <a:ext cx="1819440" cy="1668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MCj04357990000[1]"/>
          <p:cNvPicPr/>
          <p:nvPr/>
        </p:nvPicPr>
        <p:blipFill>
          <a:blip r:embed="rId2"/>
          <a:stretch/>
        </p:blipFill>
        <p:spPr>
          <a:xfrm>
            <a:off x="7093080" y="4941720"/>
            <a:ext cx="15778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6b02"/>
                </a:solidFill>
                <a:latin typeface="Venski sad One"/>
              </a:rPr>
              <a:t>Цикл календарных песе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79280" y="1052640"/>
            <a:ext cx="8964720" cy="62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Календарные песни жанрово многообразны, но существуют они в неразрывном единстве представляющем собой своеобразный цикл. Он представляет собой соотношение языческого календаря с церковно-христианским. Путём наложения праздников образовалось двоеверие – слияние язычества и христианст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Обряды и соответствующие им песни призваны были обеспечить хороший урожай, приплод скота, рождение детей, благополучие. Для более яркого претворения обрядовых действий человек пользовался магией п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b26b02"/>
                </a:solidFill>
                <a:uFillTx/>
                <a:latin typeface="TagirCTT"/>
              </a:rPr>
              <a:t>В календаре 4 цикл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- летнего солнцеворота (24 июн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- зимнего солнцеворо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- весеннего (21 мар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- осеннего  (конец жатв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4" descr="MCj02900730000[1]"/>
          <p:cNvPicPr/>
          <p:nvPr/>
        </p:nvPicPr>
        <p:blipFill>
          <a:blip r:embed="rId1"/>
          <a:stretch/>
        </p:blipFill>
        <p:spPr>
          <a:xfrm>
            <a:off x="6443640" y="4869000"/>
            <a:ext cx="1916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9280" y="0"/>
            <a:ext cx="8964720" cy="7174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b26b02"/>
                </a:solidFill>
                <a:latin typeface="Venski sad One"/>
              </a:rPr>
              <a:t>Песни зимнего календар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коля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подблюд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Масленич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6b02"/>
                </a:solidFill>
                <a:latin typeface="TagirCTT"/>
              </a:rPr>
              <a:t>Коляды –</a:t>
            </a: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 магические песни. Славяне называли их «колядка», «таусень», «саусень», «щедровки», «виноградье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Изображают светлую желанную сторону жизни. Исполняются коляды ансамблями  или детей, или молодёжи, или пожилых людей. Пели очень громко, считалось, что это воздействует на силы природы. Надевали маски и танцева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b26b02"/>
                </a:solidFill>
                <a:uFillTx/>
                <a:latin typeface="TagirCTT"/>
              </a:rPr>
              <a:t>Подблюдные 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Подблюдные песни (гадальные). Название происходит от формы исполнения. Девушки наливали блюдо с водой, бросали туда предметы и гадали. Исполнялось на святки с 7 по 19 января. Святки – «светлые вечера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b26b02"/>
                </a:solidFill>
                <a:uFillTx/>
                <a:latin typeface="TagirCTT"/>
              </a:rPr>
              <a:t>Масленичные 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girCTT"/>
              </a:rPr>
              <a:t>Масленица- </a:t>
            </a: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праздник проводов зимы. В древности этот праздник был самым великим по масштабам. Смысл праздника – заклинание солнца, которому следовало помочь совершить круг, чтобы приблизить весн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girCTT"/>
              </a:rPr>
              <a:t>Блины –</a:t>
            </a: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 символ солнц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Кульминация праздника – «похороны» чучела, которое сжигали под смех и песни в последний день масленичной неде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MCj02376790000[1]"/>
          <p:cNvPicPr/>
          <p:nvPr/>
        </p:nvPicPr>
        <p:blipFill>
          <a:blip r:embed="rId1"/>
          <a:stretch/>
        </p:blipFill>
        <p:spPr>
          <a:xfrm>
            <a:off x="6877080" y="0"/>
            <a:ext cx="165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26b02"/>
                </a:solidFill>
                <a:latin typeface="Venski sad One"/>
              </a:rPr>
              <a:t>Песни весеннего календар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- заклик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- верб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- волочеб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agirC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Вьюниш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girCTT"/>
              </a:rPr>
              <a:t>   </a:t>
            </a:r>
            <a:r>
              <a:rPr b="1" lang="ru-RU" sz="2100" spc="-1" strike="noStrike">
                <a:solidFill>
                  <a:srgbClr val="b26b02"/>
                </a:solidFill>
                <a:latin typeface="TagirCTT"/>
              </a:rPr>
              <a:t>Весну встречали</a:t>
            </a:r>
            <a:r>
              <a:rPr b="0" lang="ru-RU" sz="2100" spc="-1" strike="noStrike">
                <a:solidFill>
                  <a:srgbClr val="000000"/>
                </a:solidFill>
                <a:latin typeface="TagirCTT"/>
              </a:rPr>
              <a:t> в разных местах в разное  время.  Крестьяне  считали, что приход весны можно ускорить, выполнив определенные  обрядовые  действия. Выпекали  из  теста  фигурки  птиц  (обычно  жаворонков).  Девушки  и   дети взбирались на  крыши  домов,  сараев,  поленницы,  на  деревья  и  с  высоты закликали весну. В веснянках-закличках просили весенних птиц принести  из-за синего моря ключи с замками, «закрыть зиму  холодную»  и  открыть  «отпереть лето теплое». После исполнения веснянок  головки  «жаворонков»  натыкали  на солому, покрывавшую крышу, а остальное печенье съедали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MCj01233130000[1]"/>
          <p:cNvPicPr/>
          <p:nvPr/>
        </p:nvPicPr>
        <p:blipFill>
          <a:blip r:embed="rId1"/>
          <a:stretch/>
        </p:blipFill>
        <p:spPr>
          <a:xfrm>
            <a:off x="6588000" y="0"/>
            <a:ext cx="1656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6b02"/>
                </a:solidFill>
                <a:latin typeface="TagirCTT"/>
              </a:rPr>
              <a:t>   </a:t>
            </a:r>
            <a:r>
              <a:rPr b="1" lang="ru-RU" sz="2800" spc="-1" strike="noStrike">
                <a:solidFill>
                  <a:srgbClr val="b26b02"/>
                </a:solidFill>
                <a:latin typeface="TagirCTT"/>
              </a:rPr>
              <a:t>В  Егорьев  день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 впервые  после  зимы  выгоняли  скот  на  пастбища, подхлестывая животных ветками вербы. Этот  праздник  был  преимущественно мужским. Мужчины обходили поля, закликая Егория   уберечь  скот  от  падежа, болезней, от зверей и сглаза. Подростки ходили от  двора  ко  двору  и  пели перед каждым домом песни-пожел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В этом весеннем  празднике  особенная  роль  отводилась  пастуху.  Он должен был ритуальной игрой на пастушеском рожке и  специальными  заговорами сохранить скот целым и невредимым на все время, пока скот пасется в по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4" descr="MCj02874560000[1]"/>
          <p:cNvPicPr/>
          <p:nvPr/>
        </p:nvPicPr>
        <p:blipFill>
          <a:blip r:embed="rId1"/>
          <a:stretch/>
        </p:blipFill>
        <p:spPr>
          <a:xfrm>
            <a:off x="7259760" y="5137200"/>
            <a:ext cx="18842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Конец весны – начало лета (май –  июнь) –  время  новых  празд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Самый многообрядовый среди  них  </a:t>
            </a:r>
            <a:r>
              <a:rPr b="0" lang="ru-RU" sz="2800" spc="-1" strike="noStrike">
                <a:solidFill>
                  <a:srgbClr val="b26b02"/>
                </a:solidFill>
                <a:latin typeface="TagirCTT"/>
              </a:rPr>
              <a:t>–  </a:t>
            </a:r>
            <a:r>
              <a:rPr b="1" lang="ru-RU" sz="2800" spc="-1" strike="noStrike">
                <a:solidFill>
                  <a:srgbClr val="b26b02"/>
                </a:solidFill>
                <a:latin typeface="TagirCTT"/>
              </a:rPr>
              <a:t>летние  святки  или  русальская  неделя</a:t>
            </a:r>
            <a:r>
              <a:rPr b="0" lang="ru-RU" sz="2800" spc="-1" strike="noStrike">
                <a:solidFill>
                  <a:srgbClr val="b26b02"/>
                </a:solidFill>
                <a:latin typeface="TagirCT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Главные действующие лица во время летних святок  –  девушки;  главный  герой исполнявшихся  песен  –  березка,  воплощавшая  для   крестьян   животворную и растительную сил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4" descr="MPj04069000000[1]"/>
          <p:cNvPicPr/>
          <p:nvPr/>
        </p:nvPicPr>
        <p:blipFill>
          <a:blip r:embed="rId1"/>
          <a:stretch/>
        </p:blipFill>
        <p:spPr>
          <a:xfrm>
            <a:off x="2987640" y="4782960"/>
            <a:ext cx="25923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155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b26b02"/>
                </a:solidFill>
                <a:latin typeface="Venski sad One"/>
              </a:rPr>
              <a:t> </a:t>
            </a:r>
            <a:r>
              <a:rPr b="1" lang="ru-RU" sz="6800" spc="-1" strike="noStrike">
                <a:solidFill>
                  <a:srgbClr val="b26b02"/>
                </a:solidFill>
                <a:latin typeface="Venski sad One"/>
              </a:rPr>
              <a:t>Жанры</a:t>
            </a:r>
            <a:endParaRPr b="1" lang="en-US" sz="6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1268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Календарный цикл. Закон жизни человека (годового земледельческого круг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Семейно-бытовые песни (колыбельные, плач, пени детского календаря, песни позднего времен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Трудовые пес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Народная свадьба (плачи, величание жениха, невест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Танцевальные песни (хороводные плясовы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Эпические произведения (былины, рассказ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Городская народная песня (городской романс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Песни демократических движ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Частуш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Воинские (военно-бытовы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Инструментальная музы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MCj04115660000[1]"/>
          <p:cNvPicPr/>
          <p:nvPr/>
        </p:nvPicPr>
        <p:blipFill>
          <a:blip r:embed="rId1"/>
          <a:stretch/>
        </p:blipFill>
        <p:spPr>
          <a:xfrm>
            <a:off x="6877080" y="4724280"/>
            <a:ext cx="178128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b26b02"/>
                </a:solidFill>
                <a:latin typeface="Venski sad One"/>
              </a:rPr>
              <a:t>Признаки фольклора</a:t>
            </a:r>
            <a:endParaRPr b="1" lang="en-US" sz="6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Устная природа быт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Народность идейного содерж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Многовариантность фольклорных произведе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Коллективность творческого процесс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0" descr="MCj03357620000[1]"/>
          <p:cNvPicPr/>
          <p:nvPr/>
        </p:nvPicPr>
        <p:blipFill>
          <a:blip r:embed="rId1"/>
          <a:stretch/>
        </p:blipFill>
        <p:spPr>
          <a:xfrm rot="4309800">
            <a:off x="5612400" y="3756600"/>
            <a:ext cx="1924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4500" spc="-1" strike="noStrike">
                <a:solidFill>
                  <a:srgbClr val="b26b02"/>
                </a:solidFill>
                <a:latin typeface="Nadejda"/>
              </a:rPr>
              <a:t>Фольклор</a:t>
            </a:r>
            <a:r>
              <a:rPr b="0" lang="ru-RU" sz="6000" spc="-1" strike="noStrike">
                <a:solidFill>
                  <a:srgbClr val="e3ded1"/>
                </a:solidFill>
                <a:latin typeface="Nadejd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Nadejda"/>
              </a:rPr>
              <a:t>– устное народное творче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Nadejd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Nadejda"/>
              </a:rPr>
              <a:t>Художественная коллективная творческая деятельность народа, отражающая его жизнь, воззрения, идеалы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Nadejd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Nadejda"/>
              </a:rPr>
              <a:t>Народное творчество, зародившееся в глубокой древности, — историческая основа всей мировой художественной культуры, источник национальных художественных традиций, выразитель народного самосозн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0_252b0_f2c20cc2_XL"/>
          <p:cNvPicPr/>
          <p:nvPr/>
        </p:nvPicPr>
        <p:blipFill>
          <a:blip r:embed="rId1"/>
          <a:stretch/>
        </p:blipFill>
        <p:spPr>
          <a:xfrm>
            <a:off x="5435640" y="4724280"/>
            <a:ext cx="2736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26b02"/>
                </a:solidFill>
                <a:latin typeface="Venski sad One"/>
              </a:rPr>
              <a:t>Народное творчество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4000" spc="-1" strike="noStrike">
                <a:solidFill>
                  <a:srgbClr val="b26b02"/>
                </a:solidFill>
                <a:latin typeface="Arbat"/>
              </a:rPr>
              <a:t>Трудовые припевки и песн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В устном песенном творчестве русского народа до наших дней сохранились песенные жанры, непосредственно связанные с трудовой деятельностью, с ритмом трудовых процессов. Это трудовые припевки и возгласы – сигналы, сопровождающие некоторые виды наиболее тяжёлых артельных работ. Традиционные возгласы – сигналы: «Взяли, двинули, ух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b26b02"/>
                </a:solidFill>
                <a:latin typeface="Venski sad One"/>
              </a:rPr>
              <a:t>Календарные земледельческие песни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В календарный земледельческий цикл входили разнообразные жанры песен: трудовые, величальные, обрядовые, заклички стихийных сил и явлений природы, хороводные, лирические. Среди древнейших земледельческих праздников важное место занимает праздник «Зимнего солнцеворота». Большая часть зимних календарных песен исполнялись на протяжении зимних святок (праздничное время в старину с 25 декабря по 6 января). Почти повсеместно святочными вечерами устраивались общественные сборища, сопровождаемые пением лирических, шуточных, а также игровых песен.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MCj03190060000[1]"/>
          <p:cNvPicPr/>
          <p:nvPr/>
        </p:nvPicPr>
        <p:blipFill>
          <a:blip r:embed="rId1"/>
          <a:stretch/>
        </p:blipFill>
        <p:spPr>
          <a:xfrm>
            <a:off x="7164360" y="5386320"/>
            <a:ext cx="18097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7000"/>
          </a:bodyPr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Исторические песн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Термин «исторической песни» был введён в фольклористику исследователями для обозначения народных песен и сказов о судьбах Русской земли, об исторических событиях и героях. Большинство песен 16-17 веков складывались свидетелями исторических событий.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Лирические песн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girCTT"/>
              </a:rPr>
              <a:t>Содержание протяжных лирических песен составляет в первую очередь область духовного  мира, выражения разнообразных душевных переживаний, чувств и настроений простых русских людей. Лирические песни разнообразны, в них поётся о любви к родному городу – краю, родне, семье, о горькой тяжёлой дол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6000"/>
          </a:bodyPr>
          <a:p>
            <a:pPr marL="254160" indent="-2541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Городская народная песн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girCTT"/>
              </a:rPr>
              <a:t>Новые городские народные песни складывались и исполнялись городскими ремеслиниками, рабочими, солдатами и матросами. Одним из ведущих жанров городского фольклора следует считать солдатскую строевую песню.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Частуш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girCTT"/>
              </a:rPr>
              <a:t>Лирические, шуточные, сатирические песни. В них более ярко отражены различные стороны народного быта, многообразные переживания и чувств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girCTT"/>
              </a:rPr>
              <a:t>Название «частушки» не единственное, наряду с ним в народе встречаются и другие обозначения: «припевки», «коротушки», «прибаски», «прибаутки», «частоговорки», «стишки», «скоморошные». Любовно-лирические частушки более развитого мелодического склада почти повсеместно известны как «страдания»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b26b02"/>
                </a:solidFill>
                <a:latin typeface="Venski sad One"/>
              </a:rPr>
              <a:t> </a:t>
            </a:r>
            <a:r>
              <a:rPr b="1" lang="ru-RU" sz="4100" spc="-1" strike="noStrike">
                <a:solidFill>
                  <a:srgbClr val="b26b02"/>
                </a:solidFill>
                <a:latin typeface="Venski sad One"/>
              </a:rPr>
              <a:t>Русские народные музыкальные инструменты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836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b26b02"/>
                </a:solidFill>
                <a:latin typeface="TagirCTT"/>
              </a:rPr>
              <a:t>Инструменты:</a:t>
            </a:r>
            <a:r>
              <a:rPr b="0" lang="ru-RU" sz="2300" spc="-1" strike="noStrike">
                <a:solidFill>
                  <a:srgbClr val="000000"/>
                </a:solidFill>
                <a:latin typeface="TagirCTT"/>
              </a:rPr>
              <a:t> духовые, струнные (щипковые и смычковые). В числе них различные дудки, жалейки, волынки, постушечьи трубы, рожки, гусли, балалайки, скрипки, гудки, лиры, бубны, барабаны, трещотки. В 19 веке появляются семиструнная гитара, гармоника, баяны. К числу инструментов древнейшего происхождения относятся кугиклы. Этот инструмент имеется в наши дни в Курской, Брянской и Калужской областях. Из языковых инструментов наибольшим распространением пользуется жалейк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b26b02"/>
                </a:solidFill>
                <a:latin typeface="TagirCTT"/>
              </a:rPr>
              <a:t>Гудок –</a:t>
            </a:r>
            <a:r>
              <a:rPr b="0" lang="ru-RU" sz="2300" spc="-1" strike="noStrike">
                <a:solidFill>
                  <a:srgbClr val="000000"/>
                </a:solidFill>
                <a:latin typeface="TagirCTT"/>
              </a:rPr>
              <a:t> струнный инструмент овальной формы. Имеет 3 струны, смычок лукообразной формы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33:08Z</dcterms:created>
  <dc:creator>Евгений</dc:creator>
  <dc:description/>
  <dc:language>en-US</dc:language>
  <cp:lastModifiedBy>Пользователь Windows</cp:lastModifiedBy>
  <dcterms:modified xsi:type="dcterms:W3CDTF">2023-12-14T08:46:43Z</dcterms:modified>
  <cp:revision>8</cp:revision>
  <dc:subject/>
  <dc:title>Слайд 1</dc:title>
</cp:coreProperties>
</file>