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0.jpeg" ContentType="image/jpeg"/>
  <Override PartName="/ppt/media/image13.wmf" ContentType="image/x-wmf"/>
  <Override PartName="/ppt/media/image8.wmf" ContentType="image/x-wmf"/>
  <Override PartName="/ppt/media/image18.jpeg" ContentType="image/jpeg"/>
  <Override PartName="/ppt/media/image6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5.wmf" ContentType="image/x-wmf"/>
  <Override PartName="/ppt/media/image7.jpeg" ContentType="image/jpeg"/>
  <Override PartName="/ppt/media/image11.wmf" ContentType="image/x-wmf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A62F-DDFD-4B20-824C-E67DD523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30F1-B6DB-4FC2-A376-B7B8C66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B10-B6A9-4731-9C32-0011040B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E03C-2D99-4C4A-82E5-FB0EC81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75B6-CD1D-435E-BF83-B96AA01D7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EC65-420D-486A-9277-1110092A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68FA-4CFF-4FE4-87DB-885ED2D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7A6E-6423-4131-820D-F8E5F348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DB65-78DC-4789-9308-990FC8E2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E3E6-A772-4BA2-A7E8-8243D848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8F32-2305-46BE-849D-019593F5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2E28-BE0E-495D-8A3D-5F23E664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64B7-E673-4A03-B6D1-D47EF886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B17B-63BC-49C4-AEEA-8AA59EE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A7EC-14F9-4130-93DF-83A6B35F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0243-67C7-497F-B3D4-0945A4DB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FAB4-B7D8-4D9A-8910-D89AF1CB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1DAC2-F108-4BD3-A884-22448B90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C19A-43BF-4117-9EB1-EA51EA83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C9AAD-4E08-4200-BA61-7616EE9A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DA1E-7506-46C2-9BB7-B4F10388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FE71-2D1B-4136-9257-B679CAF4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4AF-BA9F-4BD2-9111-A626B1D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AB9A-A682-48EC-BF0D-20D0E1A8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78651-E21B-41AC-A0EB-03CC4EE4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DE180-8AE7-4479-AE87-2AE00C95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557A-4574-4A98-945C-A08CA4D8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D2330-1742-4638-A28D-BC79B820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FD08-E0BB-4B28-90FB-B795AAC12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C746-BE98-48CE-B4A3-5897BE34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96AC-DBAB-4DCB-A4D4-6181ABF5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5AA8B-F3CC-4CB6-9CB5-34754F91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3D3E-8C9D-4E88-851A-D55EF6EA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A2B-D590-4D85-AFD1-61FA22C78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A86CD-082A-49ED-8992-E7A1A4DC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357F-396A-49B7-9759-B3D3C01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0496A-23D5-40D3-964E-BD47AC8F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3A8C9-49D1-49BE-9CC3-EBAA698F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E6F5-3B3D-40A5-AD1B-F66D00C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58926-4600-496C-90CF-C39951D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6D4A0-4ABC-4F20-936E-DC094C62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5C712-26F3-4D94-B4AC-4B0A8E05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7500A-DA72-4686-85DE-CCFA3605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A743-E0E1-4E4E-9C73-9DBD9FEE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E7E-FD9F-4AAE-83AC-D83169B5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68C56-78ED-41FA-8F81-90729F4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8F235-761D-499E-99A3-21916C7E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B1742-1F2E-488D-BA6C-4CE5C409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FEDA4-E666-4ED8-8DCE-7BA67868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9C863-1D16-4251-94B0-42CAF3F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C5C1E-1EF3-4381-84CC-310BCDC6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FCA6B-9C37-4288-9FFF-650CFD46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535BB-6F21-4FCD-9836-A9908DA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4ADD-49EC-4185-A851-72E4C64A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0AF43-9D7E-4679-9C8C-E0C7E322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B83-34D7-46D1-8B6E-9B4B985A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ADBA-93C0-4BD3-B269-1DFC6E8A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75AF-6465-4645-B142-55E83568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47C-71B7-4E39-99BF-EB0A0C8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909-18C6-4AB1-8142-E9313F8C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6570-3CE1-416C-821B-042C3B7658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C2B6-D409-4069-9412-4BA7955EAAE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16B2-63E4-467D-8A83-7B56ABCE39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1FC8-6F31-4C44-9E0C-4E07562E8E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D857-5A60-437C-B3FE-BFAEF626AC0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8d3e"/>
                </a:solidFill>
                <a:latin typeface="Verdana"/>
              </a:rPr>
              <a:t>Фольклор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427280" y="4869000"/>
            <a:ext cx="4824360" cy="129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9766f"/>
                </a:solidFill>
                <a:latin typeface="Verdana"/>
              </a:rPr>
              <a:t>презентацию подготовила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9766f"/>
                </a:solidFill>
                <a:latin typeface="Verdana"/>
              </a:rPr>
              <a:t>учитель музыки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МОБУ СОШ пгт Ерофей Павлови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79766f"/>
                </a:solidFill>
                <a:latin typeface="Verdana"/>
              </a:rPr>
              <a:t>Блинникова Алёна Валентиновн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Содержимое 3" descr="Без названия.jpg"/>
          <p:cNvPicPr/>
          <p:nvPr/>
        </p:nvPicPr>
        <p:blipFill>
          <a:blip r:embed="rId1"/>
          <a:stretch/>
        </p:blipFill>
        <p:spPr>
          <a:xfrm>
            <a:off x="0" y="1844640"/>
            <a:ext cx="4761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24000" y="333000"/>
            <a:ext cx="8362800" cy="5762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Рожок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пастушечий инструмент наибольшие распространение имеет в северных областя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Барабан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был употребляем у скоморохов и поводырей медвед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26b02"/>
                </a:solidFill>
                <a:latin typeface="TagirCTT"/>
              </a:rPr>
              <a:t>Лир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струнный инструмент с деревянным корпусом, напоминающий гитару. При вращении рукоятки выступающее наружу колесо соприкасается со струнами и заставляет их звуч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6" descr="urlpreview"/>
          <p:cNvPicPr/>
          <p:nvPr/>
        </p:nvPicPr>
        <p:blipFill>
          <a:blip r:embed="rId1"/>
          <a:stretch/>
        </p:blipFill>
        <p:spPr>
          <a:xfrm>
            <a:off x="5435640" y="3500280"/>
            <a:ext cx="2219400" cy="2946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rogok1"/>
          <p:cNvPicPr/>
          <p:nvPr/>
        </p:nvPicPr>
        <p:blipFill>
          <a:blip r:embed="rId2"/>
          <a:stretch/>
        </p:blipFill>
        <p:spPr>
          <a:xfrm>
            <a:off x="1116000" y="3860640"/>
            <a:ext cx="30099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Праздники на Руси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bat"/>
              </a:rPr>
              <a:t> </a:t>
            </a:r>
            <a:r>
              <a:rPr b="1" lang="ru-RU" sz="4000" spc="-1" strike="noStrike" u="sng">
                <a:solidFill>
                  <a:srgbClr val="6b9f25"/>
                </a:solidFill>
                <a:uFillTx/>
                <a:latin typeface="Arbat"/>
              </a:rPr>
              <a:t>Зимние праздники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Зимние святки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25 декабря по 6 января(все даты  даны по  старому стилю)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Рождество 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– 25 декаб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Святые вечер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25 декабря по 1 янва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Васильев день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1 января.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Страшные вечер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с 1 января по 6 января.       </a:t>
            </a: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Крещение 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– 6 января.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b26b02"/>
                </a:solidFill>
                <a:latin typeface="TagirCTT"/>
              </a:rPr>
              <a:t>Масленица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– восьмая неделя перед  Пасхой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4" descr="MCj04234650000[1]"/>
          <p:cNvPicPr/>
          <p:nvPr/>
        </p:nvPicPr>
        <p:blipFill>
          <a:blip r:embed="rId1"/>
          <a:stretch/>
        </p:blipFill>
        <p:spPr>
          <a:xfrm>
            <a:off x="7927920" y="5029200"/>
            <a:ext cx="1216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0" y="189000"/>
            <a:ext cx="8686800" cy="5906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Весенне-летние праздник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Сороки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9 марта; день весеннего равноденствия.     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Пасх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первое воскресенье после первого весеннего  новолуния(между22 марта и 25 апрел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Егорьев день – 23 апреля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Летние святки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русальская или  семицкая  неделя,  седьмая   неделя после Пасх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Семик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четверг на русальской неделе, седьмой после Пасхи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Троиц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воскресенье на русальской неделе, седьмое после Пасхи.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 </a:t>
            </a: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Аграфена Купальниц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3 июн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Иван Купала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4 июня.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6b02"/>
                </a:solidFill>
                <a:latin typeface="TagirCTT"/>
              </a:rPr>
              <a:t>Петров день –</a:t>
            </a: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 29 ию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j0304933"/>
          <p:cNvPicPr/>
          <p:nvPr/>
        </p:nvPicPr>
        <p:blipFill>
          <a:blip r:embed="rId1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MCj04357990000[1]"/>
          <p:cNvPicPr/>
          <p:nvPr/>
        </p:nvPicPr>
        <p:blipFill>
          <a:blip r:embed="rId2"/>
          <a:stretch/>
        </p:blipFill>
        <p:spPr>
          <a:xfrm>
            <a:off x="7093080" y="4941720"/>
            <a:ext cx="15778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6b02"/>
                </a:solidFill>
                <a:latin typeface="Venski sad One"/>
              </a:rPr>
              <a:t>Цикл календарных песен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9280" y="1052640"/>
            <a:ext cx="8964720" cy="6264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Календарные песни жанрово многообразны, но существуют они в неразрывном единстве представляющем собой своеобразный цикл. Он представляет собой соотношение языческого календаря с церковно-христианским. Путём наложения праздников образовалось двоеверие – слияние язычества и христианств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Обряды и соответствующие им песни призваны были обеспечить хороший урожай, приплод скота, рождение детей, благополучие. Для более яркого претворения обрядовых действий человек пользовался магией п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b26b02"/>
                </a:solidFill>
                <a:uFillTx/>
                <a:latin typeface="TagirCTT"/>
              </a:rPr>
              <a:t>В календаре 4 цикла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летнего солнцеворота (24 июн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зимнего солнцеворо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весеннего (21 мар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- осеннего  (конец жатв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4" descr="MCj02900730000[1]"/>
          <p:cNvPicPr/>
          <p:nvPr/>
        </p:nvPicPr>
        <p:blipFill>
          <a:blip r:embed="rId1"/>
          <a:stretch/>
        </p:blipFill>
        <p:spPr>
          <a:xfrm>
            <a:off x="6443640" y="4869000"/>
            <a:ext cx="1916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9280" y="0"/>
            <a:ext cx="8964720" cy="7174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Песни зимнего календар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коля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одблюд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Масленич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26b02"/>
                </a:solidFill>
                <a:latin typeface="TagirCTT"/>
              </a:rPr>
              <a:t>Коляды –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магические песни. Славяне называли их «колядка», «таусень», «саусень», «щедровки», «виноградье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Изображают светлую желанную сторону жизни. Исполняются коляды ансамблями  или детей, или молодёжи, или пожилых людей. Пели очень громко, считалось, что это воздействует на силы природы. Надевали маски и танцева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b26b02"/>
                </a:solidFill>
                <a:uFillTx/>
                <a:latin typeface="TagirCTT"/>
              </a:rPr>
              <a:t>Подблюдные 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одблюдные песни (гадальные). Название происходит от формы исполнения. Девушки наливали блюдо с водой, бросали туда предметы и гадали. Исполнялось на святки с 7 по 19 января. Святки – «светлые вечера»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b26b02"/>
                </a:solidFill>
                <a:uFillTx/>
                <a:latin typeface="TagirCTT"/>
              </a:rPr>
              <a:t>Масленичные 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girCTT"/>
              </a:rPr>
              <a:t>Масленица- 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праздник проводов зимы. В древности этот праздник был самым великим по масштабам. Смысл праздника – заклинание солнца, которому следовало помочь совершить круг, чтобы приблизить весн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b9f25"/>
                </a:solidFill>
                <a:latin typeface="TagirCTT"/>
              </a:rPr>
              <a:t>Блины –</a:t>
            </a: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 символ солнц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girCTT"/>
              </a:rPr>
              <a:t>Кульминация праздника – «похороны» чучела, которое сжигали под смех и песни в последний день масленичной недел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MCj02376790000[1]"/>
          <p:cNvPicPr/>
          <p:nvPr/>
        </p:nvPicPr>
        <p:blipFill>
          <a:blip r:embed="rId1"/>
          <a:stretch/>
        </p:blipFill>
        <p:spPr>
          <a:xfrm>
            <a:off x="6877080" y="0"/>
            <a:ext cx="165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b26b02"/>
                </a:solidFill>
                <a:latin typeface="Venski sad One"/>
              </a:rPr>
              <a:t>Песни весеннего календаря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заклик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верб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- волочеб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TagirC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Вьюниш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agirCTT"/>
              </a:rPr>
              <a:t>   </a:t>
            </a:r>
            <a:r>
              <a:rPr b="1" lang="ru-RU" sz="2100" spc="-1" strike="noStrike">
                <a:solidFill>
                  <a:srgbClr val="b26b02"/>
                </a:solidFill>
                <a:latin typeface="TagirCTT"/>
              </a:rPr>
              <a:t>Весну встречали</a:t>
            </a:r>
            <a:r>
              <a:rPr b="0" lang="ru-RU" sz="2100" spc="-1" strike="noStrike">
                <a:solidFill>
                  <a:srgbClr val="000000"/>
                </a:solidFill>
                <a:latin typeface="TagirCTT"/>
              </a:rPr>
              <a:t> в разных местах в разное  время.  Крестьяне  считали, что приход весны можно ускорить, выполнив определенные  обрядовые  действия. Выпекали  из  теста  фигурки  птиц  (обычно  жаворонков).  Девушки  и   дети взбирались на  крыши  домов,  сараев,  поленницы,  на  деревья  и  с  высоты закликали весну. В веснянках-закличках просили весенних птиц принести  из-за синего моря ключи с замками, «закрыть зиму  холодную»  и  открыть  «отпереть лето теплое». После исполнения веснянок  головки  «жаворонков»  натыкали  на солому, покрывавшую крышу, а остальное печенье съедали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4" descr="MCj01233130000[1]"/>
          <p:cNvPicPr/>
          <p:nvPr/>
        </p:nvPicPr>
        <p:blipFill>
          <a:blip r:embed="rId1"/>
          <a:stretch/>
        </p:blipFill>
        <p:spPr>
          <a:xfrm>
            <a:off x="6588000" y="0"/>
            <a:ext cx="1656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   </a:t>
            </a: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В  Егорьев  день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 впервые  после  зимы  выгоняли  скот  на  пастбища, подхлестывая животных ветками вербы. Этот  праздник  был  преимущественно мужским. Мужчины обходили поля, закликая Егория   уберечь  скот  от  падежа, болезней, от зверей и сглаза. Подростки ходили от  двора  ко  двору  и  пели перед каждым домом песни-пожела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В этом весеннем  празднике  особенная  роль  отводилась  пастуху.  Он должен был ритуальной игрой на пастушеском рожке и  специальными  заговорами сохранить скот целым и невредимым на все время, пока скот пасется в пол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Picture 4" descr="MCj02874560000[1]"/>
          <p:cNvPicPr/>
          <p:nvPr/>
        </p:nvPicPr>
        <p:blipFill>
          <a:blip r:embed="rId1"/>
          <a:stretch/>
        </p:blipFill>
        <p:spPr>
          <a:xfrm>
            <a:off x="7259760" y="5137200"/>
            <a:ext cx="188424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Конец весны – начало лета (май –  июнь) –  время  новых  празд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Самый многообрядовый среди  них  </a:t>
            </a:r>
            <a:r>
              <a:rPr b="0" lang="ru-RU" sz="2800" spc="-1" strike="noStrike">
                <a:solidFill>
                  <a:srgbClr val="b26b02"/>
                </a:solidFill>
                <a:latin typeface="TagirCTT"/>
              </a:rPr>
              <a:t>–  </a:t>
            </a:r>
            <a:r>
              <a:rPr b="1" lang="ru-RU" sz="2800" spc="-1" strike="noStrike">
                <a:solidFill>
                  <a:srgbClr val="b26b02"/>
                </a:solidFill>
                <a:latin typeface="TagirCTT"/>
              </a:rPr>
              <a:t>летние  святки  или  русальская  неделя</a:t>
            </a:r>
            <a:r>
              <a:rPr b="0" lang="ru-RU" sz="2800" spc="-1" strike="noStrike">
                <a:solidFill>
                  <a:srgbClr val="b26b02"/>
                </a:solidFill>
                <a:latin typeface="TagirCT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Главные действующие лица во время летних святок  –  девушки;  главный  герой исполнявшихся  песен  –  березка,  воплощавшая  для   крестьян   животворную и растительную сил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MPj04069000000[1]"/>
          <p:cNvPicPr/>
          <p:nvPr/>
        </p:nvPicPr>
        <p:blipFill>
          <a:blip r:embed="rId1"/>
          <a:stretch/>
        </p:blipFill>
        <p:spPr>
          <a:xfrm>
            <a:off x="2987640" y="4782960"/>
            <a:ext cx="25923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1552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Жанры</a:t>
            </a:r>
            <a:endParaRPr b="1" lang="en-US" sz="6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268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Календарный цикл. Закон жизни человека (годового земледельческого круг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Семейно-бытовые песни (колыбельные, плач, пени детского календаря, песни позднего времени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Трудовые песн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Народная свадьба (плачи, величание жениха, невест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Танцевальные песни (хороводные плясов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Эпические произведения (былины, рассказы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Городская народная песня (городской романс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Песни демократических движ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Частуш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Воинские (военно-бытовые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girCTT"/>
              </a:rPr>
              <a:t>Инструментальная музы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4" descr="MCj04115660000[1]"/>
          <p:cNvPicPr/>
          <p:nvPr/>
        </p:nvPicPr>
        <p:blipFill>
          <a:blip r:embed="rId1"/>
          <a:stretch/>
        </p:blipFill>
        <p:spPr>
          <a:xfrm>
            <a:off x="6877080" y="4724280"/>
            <a:ext cx="1781280" cy="18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b26b02"/>
                </a:solidFill>
                <a:latin typeface="Venski sad One"/>
              </a:rPr>
              <a:t>Признаки фольклора</a:t>
            </a:r>
            <a:endParaRPr b="1" lang="en-US" sz="6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Устная природа бытова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Народность идейного содерж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Многовариантность фольклорных произведен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Коллективность творческого процесс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10" descr="MCj03357620000[1]"/>
          <p:cNvPicPr/>
          <p:nvPr/>
        </p:nvPicPr>
        <p:blipFill>
          <a:blip r:embed="rId1"/>
          <a:stretch/>
        </p:blipFill>
        <p:spPr>
          <a:xfrm rot="4309800">
            <a:off x="5612400" y="3756600"/>
            <a:ext cx="1924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50920" y="0"/>
            <a:ext cx="864216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4500" spc="-1" strike="noStrike">
                <a:solidFill>
                  <a:srgbClr val="b26b02"/>
                </a:solidFill>
                <a:latin typeface="Nadejda"/>
              </a:rPr>
              <a:t>Фольклор</a:t>
            </a:r>
            <a:r>
              <a:rPr b="0" lang="ru-RU" sz="6000" spc="-1" strike="noStrike">
                <a:solidFill>
                  <a:srgbClr val="e3ded1"/>
                </a:solidFill>
                <a:latin typeface="Nadejd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– устное народное творчество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Художественная коллективная творческая деятельность народа, отражающая его жизнь, воззрения, идеалы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Nadejd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Nadejda"/>
              </a:rPr>
              <a:t>Народное творчество, зародившееся в глубокой древности, — историческая основа всей мировой художественной культуры, источник национальных художественных традиций, выразитель народного самосозн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5" descr="0_252b0_f2c20cc2_XL"/>
          <p:cNvPicPr/>
          <p:nvPr/>
        </p:nvPicPr>
        <p:blipFill>
          <a:blip r:embed="rId1"/>
          <a:stretch/>
        </p:blipFill>
        <p:spPr>
          <a:xfrm>
            <a:off x="5435640" y="4724280"/>
            <a:ext cx="2736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26b02"/>
                </a:solidFill>
                <a:latin typeface="Venski sad One"/>
              </a:rPr>
              <a:t>Народное творчество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23640" y="1125360"/>
            <a:ext cx="8569080" cy="5399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4000" spc="-1" strike="noStrike">
                <a:solidFill>
                  <a:srgbClr val="b26b02"/>
                </a:solidFill>
                <a:latin typeface="Arbat"/>
              </a:rPr>
              <a:t>Трудовые припевки и песн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В устном песенном творчестве русского народа до наших дней сохранились песенные жанры, непосредственно связанные с трудовой деятельностью, с ритмом трудовых процессов. Это трудовые припевки и возгласы – сигналы, сопровождающие некоторые виды наиболее тяжёлых артельных работ. Традиционные возгласы – сигналы: «Взяли, двинули, ух»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26b02"/>
                </a:solidFill>
                <a:latin typeface="Venski sad One"/>
              </a:rPr>
              <a:t>Календарные земледельческие песни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412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В календарный земледельческий цикл входили разнообразные жанры песен: трудовые, величальные, обрядовые, заклички стихийных сил и явлений природы, хороводные, лирические. Среди древнейших земледельческих праздников важное место занимает праздник «Зимнего солнцеворота». Большая часть зимних календарных песен исполнялись на протяжении зимних святок (праздничное время в старину с 25 декабря по 6 января). Почти повсеместно святочными вечерами устраивались общественные сборища, сопровождаемые пением лирических, шуточных, а также игровых песен.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MCj03190060000[1]"/>
          <p:cNvPicPr/>
          <p:nvPr/>
        </p:nvPicPr>
        <p:blipFill>
          <a:blip r:embed="rId1"/>
          <a:stretch/>
        </p:blipFill>
        <p:spPr>
          <a:xfrm>
            <a:off x="7164360" y="5386320"/>
            <a:ext cx="18097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7000"/>
          </a:bodyPr>
          <a:p>
            <a:pPr marL="256680" indent="-25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Исторические песн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Термин «исторической песни» был введён в фольклористику исследователями для обозначения народных песен и сказов о судьбах Русской земли, об исторических событиях и героях. Большинство песен 16-17 веков складывались свидетелями исторических событий.</a:t>
            </a:r>
            <a:r>
              <a:rPr b="0" lang="ru-RU" sz="28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Лирические песн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Содержание протяжных лирических песен составляет в первую очередь область духовного  мира, выражения разнообразных душевных переживаний, чувств и настроений простых русских людей. Лирические песни разнообразны, в них поётся о любви к родному городу – краю, родне, семье, о горькой тяжёлой дол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Городская народная песн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Новые городские народные песни складывались и исполнялись городскими ремеслиниками, рабочими, солдатами и матросами. Одним из ведущих жанров городского фольклора следует считать солдатскую строевую песню.</a:t>
            </a:r>
            <a:r>
              <a:rPr b="0" lang="ru-RU" sz="2500" spc="-1" strike="noStrike">
                <a:solidFill>
                  <a:srgbClr val="000000"/>
                </a:solidFill>
                <a:latin typeface="TagirCTT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26b02"/>
                </a:solidFill>
                <a:latin typeface="Venski sad One"/>
              </a:rPr>
              <a:t>Частушк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Лирические, шуточные, сатирические песни. В них более ярко отражены различные стороны народного быта, многообразные переживания и чувства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agirCTT"/>
              </a:rPr>
              <a:t>Название «частушки» не единственное, наряду с ним в народе встречаются и другие обозначения: «припевки», «коротушки», «прибаски», «прибаутки», «частоговорки», «стишки», «скоморошные». Любовно-лирические частушки более развитого мелодического склада почти повсеместно известны как «страдания»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b26b02"/>
                </a:solidFill>
                <a:latin typeface="Venski sad One"/>
              </a:rPr>
              <a:t> </a:t>
            </a:r>
            <a:r>
              <a:rPr b="1" lang="ru-RU" sz="4100" spc="-1" strike="noStrike">
                <a:solidFill>
                  <a:srgbClr val="b26b02"/>
                </a:solidFill>
                <a:latin typeface="Venski sad One"/>
              </a:rPr>
              <a:t>Русские народные музыкальные инструменты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836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26b02"/>
                </a:solidFill>
                <a:latin typeface="TagirCTT"/>
              </a:rPr>
              <a:t>Инструменты:</a:t>
            </a:r>
            <a:r>
              <a:rPr b="0" lang="ru-RU" sz="2300" spc="-1" strike="noStrike">
                <a:solidFill>
                  <a:srgbClr val="000000"/>
                </a:solidFill>
                <a:latin typeface="TagirCTT"/>
              </a:rPr>
              <a:t> духовые, струнные (щипковые и смычковые). В числе них различные дудки, жалейки, волынки, постушечьи трубы, рожки, гусли, балалайки, скрипки, гудки, лиры, бубны, барабаны, трещотки. В 19 веке появляются семиструнная гитара, гармоника, баяны. К числу инструментов древнейшего происхождения относятся кугиклы. Этот инструмент имеется в наши дни в Курской, Брянской и Калужской областях. Из языковых инструментов наибольшим распространением пользуется жалейка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b26b02"/>
                </a:solidFill>
                <a:latin typeface="TagirCTT"/>
              </a:rPr>
              <a:t>Гудок –</a:t>
            </a:r>
            <a:r>
              <a:rPr b="0" lang="ru-RU" sz="2300" spc="-1" strike="noStrike">
                <a:solidFill>
                  <a:srgbClr val="000000"/>
                </a:solidFill>
                <a:latin typeface="TagirCTT"/>
              </a:rPr>
              <a:t> струнный инструмент овальной формы. Имеет 3 струны, смычок лукообразной формы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9:33:08Z</dcterms:created>
  <dc:creator>Евгений</dc:creator>
  <dc:description/>
  <dc:language>en-US</dc:language>
  <cp:lastModifiedBy>Пользователь Windows</cp:lastModifiedBy>
  <dcterms:modified xsi:type="dcterms:W3CDTF">2023-12-14T08:46:43Z</dcterms:modified>
  <cp:revision>8</cp:revision>
  <dc:subject/>
  <dc:title>Слайд 1</dc:title>
</cp:coreProperties>
</file>