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8132-6DBC-4AC0-8571-FF6941C8E1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7D0E-84CB-4F8D-BB3E-E731FD74E34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0D2-BDD9-4C66-B980-5B827B1E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CEE-0EA1-4E08-968A-C80C8C72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6CA-A7E0-4DD6-A460-AB242766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C6C-05DE-4267-8A7B-6A338AEA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D99E-6914-4856-91BF-72CE8170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A4B7-A048-4D94-BAB1-9D7F2369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855E-341E-46D0-9793-AE2A5D02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D8E8-E869-4565-A4B4-D501D96C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81A7-B057-4339-9D4D-9064C89D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0BBB-8CFD-40E7-AC7C-F95084EE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2BC9-FF9A-40EC-90DE-3E1D238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2BE-FFD1-4538-BFC3-AED6AAA9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030B-6C93-4088-80AE-C49B3359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D448-23CC-475B-AA11-16192009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23AB-9756-42DF-984B-584E8AC1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5673-2CDD-4E3C-95E7-84CBC829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1873-2F5E-423F-A302-8A17445C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E2019-3C97-40F3-BE7C-9C4E8F90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E18F-8FF6-40CF-BC19-DD8D9E6D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C950-8F5C-4585-A2C5-CEE30461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48EF1-3632-42F6-9315-4FDD4B0B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8073-A6A5-4FF1-B77B-552E865F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9CF-815B-4441-B5B9-F18F7C19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30853-33F2-429F-B341-0C070F72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2434-BC7F-400A-867F-7319A01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13E8-2C74-4B66-891B-F2FA8EE8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F3B8-DA79-42EE-B620-C625DE0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B040-F2B3-4EFA-9E51-AC51409A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96BC-667C-4BE9-9E73-721DDAE4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C184-5511-4B77-8913-1A9972FD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61534-DA84-476E-9A46-6B9724B0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C1CA-505A-47BE-9F8D-81F7ED9D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01BC6-753E-4F1F-A7D2-CA1525F5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510-C6A7-4BD9-B137-3E8643F7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2DC74-134E-47B4-80B7-E7132A2C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4987-2FDA-4754-A9E5-A931A32D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A4869-8ADA-4BAB-976C-48CFF073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C5F6C-87D9-4DC7-A7F8-8648CB0A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4F38-08EF-466D-8F23-1C92B29D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0728-D2E3-4EC4-ACA0-3CB68BDC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295AE-3C96-4C87-9F5C-DCE45AC9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FFCB-77F1-47DC-9CD9-4CEE33DE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95C01-E664-43E9-9B4D-6D44BA7F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F44-2489-42C6-8703-9F778CDD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037-EAF5-4E58-8358-1F13C8E6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1B4-6347-4DB3-9CC1-FD775357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54E-6738-4AAE-8F6D-1367A25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86F-D5F7-4190-B905-9F298A57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8D23-5CC9-473B-B86A-BFA02D55FF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63DC-740D-46E5-8A52-1BB6C86C1B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E5C7-B915-4AD0-9DD2-9D69E1CF45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3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3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281F-CEDC-4496-9355-308B3656B8A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10920" y="907560"/>
            <a:ext cx="69296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роек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стема работы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родителями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ОО 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8" descr="DSCN55141"/>
          <p:cNvPicPr/>
          <p:nvPr/>
        </p:nvPicPr>
        <p:blipFill>
          <a:blip r:embed="rId1"/>
          <a:stretch/>
        </p:blipFill>
        <p:spPr>
          <a:xfrm>
            <a:off x="317520" y="1335240"/>
            <a:ext cx="3565440" cy="26762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7"/>
          <p:cNvSpPr/>
          <p:nvPr/>
        </p:nvSpPr>
        <p:spPr>
          <a:xfrm>
            <a:off x="3212280" y="4046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Салганская С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987640" y="5732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ила - Глухова Татьяна Иван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i?id=117b9b34ce945a3d9718996a6d0f22c1&amp;n=13"/>
          <p:cNvPicPr/>
          <p:nvPr/>
        </p:nvPicPr>
        <p:blipFill>
          <a:blip r:embed="rId1"/>
          <a:stretch/>
        </p:blipFill>
        <p:spPr>
          <a:xfrm>
            <a:off x="0" y="2421000"/>
            <a:ext cx="3691080" cy="38606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жидаемый результа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76720" y="206064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 родителей к активному участию в учебно-воспитательном процессе О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партнерские отношения с семьей, создать атмосферу взаимоподдержки и общности интерес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5" descr="walking-upstairs-stock-photo-sielan-3132006-jSxMyG-clipart"/>
          <p:cNvPicPr/>
          <p:nvPr/>
        </p:nvPicPr>
        <p:blipFill>
          <a:blip r:embed="rId1"/>
          <a:stretch/>
        </p:blipFill>
        <p:spPr>
          <a:xfrm>
            <a:off x="1258920" y="270828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Этапы реализации проек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5614920" y="907920"/>
            <a:ext cx="3529080" cy="1430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этап Аналитиче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2024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1979640" y="5229360"/>
            <a:ext cx="3887640" cy="1439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 этап Подготовитель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нтябрь 2023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4572000" y="2349360"/>
            <a:ext cx="3600360" cy="1430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 этап Реализация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прель - май 2024г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76720" y="4149360"/>
            <a:ext cx="3383280" cy="1080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 этап Практиче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тябрь -ноябрь 2023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072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7120" y="1714680"/>
          <a:ext cx="8559720" cy="4993920"/>
        </p:xfrm>
        <a:graphic>
          <a:graphicData uri="http://schemas.openxmlformats.org/drawingml/2006/table">
            <a:tbl>
              <a:tblPr/>
              <a:tblGrid>
                <a:gridCol w="2139840"/>
                <a:gridCol w="2140200"/>
                <a:gridCol w="2139840"/>
                <a:gridCol w="213984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одготовка документации (сентябрь 2023г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актический этап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ктябрь-ноябрь 2023г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еализация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налитически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прель-май 2024г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юнь 2024г.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нормативной базы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и подготовка информации для анализа и оценки условий по оптимизации управления вовлечённостью родительской общественности в партнерские отно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аживание позитивной связи: школа - ребенок - семья. Необходимо, чтобы семейное воспитание находилось в гармонии со школьным воспитанием, чтобы не было педагогического противостояния семьи и школы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достигнутых результатов реализации проек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апросов участников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лана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мероприятий, согласно пл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б итогах проек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195" descr="411546_1"/>
          <p:cNvPicPr/>
          <p:nvPr/>
        </p:nvPicPr>
        <p:blipFill>
          <a:blip r:embed="rId1"/>
          <a:stretch/>
        </p:blipFill>
        <p:spPr>
          <a:xfrm>
            <a:off x="214200" y="142920"/>
            <a:ext cx="21430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512640" y="1214280"/>
          <a:ext cx="8631360" cy="5443560"/>
        </p:xfrm>
        <a:graphic>
          <a:graphicData uri="http://schemas.openxmlformats.org/drawingml/2006/table">
            <a:tbl>
              <a:tblPr/>
              <a:tblGrid>
                <a:gridCol w="2664000"/>
                <a:gridCol w="596736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е смотры знаний, дни науки, предметные декады, дни открытых уроков, праздники знаний и творчества, олимпиады, выпуск предметных газет, дни открытых двер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и озеленение кабинета, выставки творческих рабо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ов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ые праздники, подготовка концертов, соревнования, конкурсы, туристические походы, экскурсионные поезд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ая и туристическ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здоровья, спортивный праздник "Мама, папа, я - спортивная семья", поход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я Совета по профилактики, Родительский патруль, акции, спортивные празд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80"/>
          <p:cNvSpPr/>
          <p:nvPr/>
        </p:nvSpPr>
        <p:spPr>
          <a:xfrm>
            <a:off x="468360" y="115920"/>
            <a:ext cx="83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совместной деятельности  школы и родителей О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Эффективные формы взаимодейств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2916360" y="2060640"/>
            <a:ext cx="3456000" cy="3384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3929040" y="3000240"/>
            <a:ext cx="1441440" cy="1346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903840" y="2435400"/>
            <a:ext cx="102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51280" y="2492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643200" y="43578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AutoShape 13"/>
          <p:cNvSpPr/>
          <p:nvPr/>
        </p:nvSpPr>
        <p:spPr>
          <a:xfrm rot="689400">
            <a:off x="2978280" y="3009600"/>
            <a:ext cx="1069920" cy="412560"/>
          </a:xfrm>
          <a:prstGeom prst="leftRightArrow">
            <a:avLst>
              <a:gd name="adj1" fmla="val 50000"/>
              <a:gd name="adj2" fmla="val 5162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14"/>
          <p:cNvSpPr/>
          <p:nvPr/>
        </p:nvSpPr>
        <p:spPr>
          <a:xfrm rot="2828400">
            <a:off x="3509640" y="3893760"/>
            <a:ext cx="414360" cy="1141560"/>
          </a:xfrm>
          <a:prstGeom prst="upDownArrow">
            <a:avLst>
              <a:gd name="adj1" fmla="val 50000"/>
              <a:gd name="adj2" fmla="val 548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85880" y="257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476360" y="486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17"/>
          <p:cNvSpPr/>
          <p:nvPr/>
        </p:nvSpPr>
        <p:spPr>
          <a:xfrm rot="1776600">
            <a:off x="5138640" y="4114800"/>
            <a:ext cx="1079640" cy="444600"/>
          </a:xfrm>
          <a:prstGeom prst="leftRightArrow">
            <a:avLst>
              <a:gd name="adj1" fmla="val 50000"/>
              <a:gd name="adj2" fmla="val 444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8"/>
          <p:cNvSpPr/>
          <p:nvPr/>
        </p:nvSpPr>
        <p:spPr>
          <a:xfrm rot="21099600">
            <a:off x="5344920" y="3141360"/>
            <a:ext cx="965160" cy="450720"/>
          </a:xfrm>
          <a:prstGeom prst="leftRightArrow">
            <a:avLst>
              <a:gd name="adj1" fmla="val 50000"/>
              <a:gd name="adj2" fmla="val 3674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6156360" y="44528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овая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6300720" y="2870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ая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utoShape 14"/>
          <p:cNvSpPr/>
          <p:nvPr/>
        </p:nvSpPr>
        <p:spPr>
          <a:xfrm rot="1980600">
            <a:off x="5055840" y="2257560"/>
            <a:ext cx="414360" cy="928440"/>
          </a:xfrm>
          <a:prstGeom prst="upDownArrow">
            <a:avLst>
              <a:gd name="adj1" fmla="val 50000"/>
              <a:gd name="adj2" fmla="val 5501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5500800" y="157176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ритерии оценки эффективности реализаци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68280" y="861840"/>
          <a:ext cx="8775720" cy="5272200"/>
        </p:xfrm>
        <a:graphic>
          <a:graphicData uri="http://schemas.openxmlformats.org/drawingml/2006/table">
            <a:tbl>
              <a:tblPr/>
              <a:tblGrid>
                <a:gridCol w="4105440"/>
                <a:gridCol w="467028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во внеурочной деятельности класса и школ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доверия родителей школе (анкета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традиций сотрудничества ОУ с родител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за успеваемостью учащихся со стороны роди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аемость родительских собраний, лекториев, конференций и 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корость реакции родителей на запросы школы, и наоборо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рганизационной системы в работе с родител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ость родителей формами работы с семьей, повышающих активность роди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ные дела родителей, помощь школе и класс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родителей к дальнейшему участию в различных школьных проект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-146160"/>
            <a:ext cx="687672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71680" y="676440"/>
          <a:ext cx="8429400" cy="5735520"/>
        </p:xfrm>
        <a:graphic>
          <a:graphicData uri="http://schemas.openxmlformats.org/drawingml/2006/table">
            <a:tbl>
              <a:tblPr/>
              <a:tblGrid>
                <a:gridCol w="811080"/>
                <a:gridCol w="615960"/>
                <a:gridCol w="573120"/>
                <a:gridCol w="571320"/>
                <a:gridCol w="1609920"/>
                <a:gridCol w="573120"/>
                <a:gridCol w="571320"/>
                <a:gridCol w="1386000"/>
                <a:gridCol w="360360"/>
                <a:gridCol w="714240"/>
                <a:gridCol w="642960"/>
              </a:tblGrid>
              <a:tr h="795240">
                <a:tc rowSpan="2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е оборуд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ые 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5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т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рочные сувени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чные гор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ые пись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281160">
                <a:tc gridSpan="10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2" descr="F:\Anin_gif_park\Деньги\190.gif"/>
          <p:cNvPicPr/>
          <p:nvPr/>
        </p:nvPicPr>
        <p:blipFill>
          <a:blip r:embed="rId2"/>
          <a:stretch/>
        </p:blipFill>
        <p:spPr>
          <a:xfrm>
            <a:off x="7858080" y="0"/>
            <a:ext cx="1071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https://vospitatel.online/storage/app/docs/472/260/000/47226/60fb060e6ac13548481004.jpg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9" descr="Tug-of-War1-iStock"/>
          <p:cNvPicPr/>
          <p:nvPr/>
        </p:nvPicPr>
        <p:blipFill>
          <a:blip r:embed="rId1"/>
          <a:stretch/>
        </p:blipFill>
        <p:spPr>
          <a:xfrm>
            <a:off x="2268360" y="0"/>
            <a:ext cx="4896000" cy="2637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50720" y="213336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Противоречи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116000" y="3141720"/>
            <a:ext cx="3960720" cy="29512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радиционный подх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новную ответствен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бучение и воспита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ет школа, родите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ют помощ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необходимост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5"/>
          <p:cNvSpPr/>
          <p:nvPr/>
        </p:nvSpPr>
        <p:spPr>
          <a:xfrm rot="10800000">
            <a:off x="5076720" y="3141720"/>
            <a:ext cx="3888000" cy="295128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тнерский подх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овместная деятель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учении и воспитани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ополнени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рудничество в деятельност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187280" y="2492280"/>
            <a:ext cx="29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116000" y="23684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Диаграмма 1" descr=""/>
          <p:cNvPicPr/>
          <p:nvPr/>
        </p:nvPicPr>
        <p:blipFill>
          <a:blip r:embed="rId1"/>
          <a:stretch/>
        </p:blipFill>
        <p:spPr>
          <a:xfrm>
            <a:off x="208080" y="1852560"/>
            <a:ext cx="8697960" cy="46944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1071720" y="50004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кетирования родителей обучающихся О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1042152_stock-photo-3d-person-decide-problem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БЛЕ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«Недостаточно-эффективная  работа с родителями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атрицы сравнения факторов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-анали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85840" y="453960"/>
          <a:ext cx="8708760" cy="6046920"/>
        </p:xfrm>
        <a:graphic>
          <a:graphicData uri="http://schemas.openxmlformats.org/drawingml/2006/table">
            <a:tbl>
              <a:tblPr/>
              <a:tblGrid>
                <a:gridCol w="928440"/>
                <a:gridCol w="3643560"/>
                <a:gridCol w="413676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сы (сильные сторо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усы (слабые сторо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сы возмож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1: В+ Вн+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спрос на образовательные услуги со стороны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+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квалифицированный педагогический состав (80% с высшей и первой категори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пециалистов – педагог-психолог, инструктор по физической культ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положение о родительском комит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Высококвалифицированный педагогический состав создаёт высокий спрос на образовательные и воспитательные услуги со стороны О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2: В+ Вн 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ысокий спрос на образовательные и воспитательные услуги со стороны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лабая мотивация педагог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тимулирование классных руководител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ивлечение школьного психолога при работе с родителями и обучающимися, уч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усы (угро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3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- Вн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системы активных форм с педагогическими кадрами по обучению сотрудничества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квалифицированный педагогический состав (80% с высшей и первой категори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: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систему активных форм привлечь к взаимодействию педагогический коллектив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4: В- В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озможность привлечения родителей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ость!!!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 активность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образие форм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систему работы  с родителями, разнообразить фор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4"/>
          <p:cNvSpPr/>
          <p:nvPr/>
        </p:nvSpPr>
        <p:spPr>
          <a:xfrm>
            <a:off x="0" y="587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Нормативно-правовая база проек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2640" y="2071440"/>
            <a:ext cx="82710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Конституция РФ от 12 декабря 1993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Федеральный закон от 29.12.2012г. № 273 – ФЗ «Об образовании в Российской Федерации» Ст. 43,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ФГОС ООО/ Утвержден приказом Министерства образования и науки РФ от 17 декабря 2010г. № 189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Семейный кодекс РФ/ Права и обязанности родителей и детей. Раздел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т.6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. ФЗ /Об основных гарантиях прав ребенка в РФ от 24 июля 1998г. № 124-Ф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90092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ормативно-правовая база проекта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(уровень образовательной организации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спитательная система школ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о Портфолио достижений учащих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о родительском комите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о родительском патрул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о Совете по профилакт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ав шк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5184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3357720"/>
            <a:ext cx="8128080" cy="27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систему работы на партнерской основе для эффективного взаимодействия школы и семь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5" descr="c6a6f89b-2bb1-419b-a1d3-e62823705503"/>
          <p:cNvPicPr/>
          <p:nvPr/>
        </p:nvPicPr>
        <p:blipFill>
          <a:blip r:embed="rId1"/>
          <a:stretch/>
        </p:blipFill>
        <p:spPr>
          <a:xfrm>
            <a:off x="4730760" y="0"/>
            <a:ext cx="4413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bani-pormov-alim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241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Задачи проект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55972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эффективность вовлечения родительской общественности в образовательный процесс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овать активные формы организации психолого-педагогического просвещения родител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рганизовать методическую работу по освоению педагогами школы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ов изучения семь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алоговых и сотруднических форм взаимодействия с родителям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ных современных способов организации совместной деятельности родителей и дет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формировать систему единых взглядов (требований) по обучающимс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вести мониторинг эффективности реализации проек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4T16:00:20Z</dcterms:created>
  <dc:creator>дом</dc:creator>
  <dc:description/>
  <dc:language>en-US</dc:language>
  <cp:lastModifiedBy>Татьяна</cp:lastModifiedBy>
  <dcterms:modified xsi:type="dcterms:W3CDTF">2023-12-12T15:20:50Z</dcterms:modified>
  <cp:revision>50</cp:revision>
  <dc:subject/>
  <dc:title>Проект подготовлен в рамках проектного модуля  дополнительной профессиональной программы  «МЕНЕДЖМЕНТ В ОБРАЗОВАНИИ   «Отсутствие эффективной работы с родителями в контексте с требованиями ФГОС»</dc:title>
</cp:coreProperties>
</file>