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4BA-6150-475E-A258-18C0711B3A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B549-B1D3-4A4D-B168-6F0A5BE0A5D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DB5-020C-4EB9-B15A-E5C6BB01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A6AD-1E51-4049-8780-13C3A542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776-B6D4-434C-A4AC-627BC981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A27-F9E3-4A83-9B64-2BFCFF60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2064-DE8E-4386-91F2-75F07624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E20D-7DA8-4F2F-AFB5-89163C71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9CAD-ABA4-4741-9E5E-F8DA5462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535B-3D67-4293-8D00-F0BB4829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3742-08EF-4AD6-BFC8-4C70753D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CCFB-FBD1-41CA-86AD-1A6A0501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EC43-4553-4022-8F2F-CA93906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523-D8EA-4CCD-9397-2646EFB6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1A2-BBF2-4338-BED5-5B02B1EF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EFA6-9F71-444F-A3D5-08C9A51C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9D33-F40C-415C-A431-491DC01F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458D-D9D6-4F8D-8AED-F170BA59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1294-C1C6-40BE-A89F-1366045DE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3351-BA2B-43F6-9F0E-CB4C3B4C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AB58B-5F61-44C3-A31B-7053C5C8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51567-A963-4A98-AE0E-78FE7EE5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DDB4-9D00-41AB-9A61-D74DA2AA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19F0-EAB7-4454-B304-DD05A9A7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27F-5AE6-4CDA-A508-3425ED99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7CBF-6738-4F1A-8EED-1A5F1244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0A1C-6BDC-45C1-BA2C-179E5495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C5E7-4472-463E-9D9C-FCE0549B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C923-3004-45ED-BC3A-030678D3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8724-F71B-4092-AE20-A7B1D1A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05A48-26E1-4B12-9535-2D98A5D9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0C928-7E46-416B-B381-999EB275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27A6-4469-4444-9EDE-A98F334EB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414E6-7E5A-40DB-BC1C-7AE37664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63B0D-EBEA-4AE9-B828-D06EC562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54D6-7BFE-4C4E-8E82-D8FE0806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5A812-65AF-4032-9949-AE42AA71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31C9-16FA-4F42-BC70-A8D357F4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0C9D9-8E8C-4C97-925E-E99D700F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CB5AD-3BDE-4EDA-BA3F-26FF06F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9EE6E-8FFB-4732-B84A-33869C04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4B7D-8B7E-43C5-89CE-C38217F1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0F152-39BD-4BBF-AF67-29E93244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2D5D5-EE07-4557-9A95-13689221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B0244-20C5-4825-8F63-68F5A78E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700-54F9-496D-B571-4476D64D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F94-FBB4-4329-B0BE-AFFCD9CF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2EF2-5EBB-4096-A99D-992E467F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DF7-A507-4E5C-9648-B5D4A521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CC5-2E73-4AD4-B593-3511A27F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9476-EB9A-4C8F-B683-3F1DD87D39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2E0A-4FC0-4D68-A0AA-0B9CB45AD0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5D84-AD17-41C1-8DFD-F122EAD12D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3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3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46B4-2CC1-47E8-AE13-A90057DB63D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10920" y="907560"/>
            <a:ext cx="692964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проек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стема работы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родителями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 ОО 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8" descr="DSCN55141"/>
          <p:cNvPicPr/>
          <p:nvPr/>
        </p:nvPicPr>
        <p:blipFill>
          <a:blip r:embed="rId1"/>
          <a:stretch/>
        </p:blipFill>
        <p:spPr>
          <a:xfrm>
            <a:off x="317520" y="1335240"/>
            <a:ext cx="3565440" cy="26762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7"/>
          <p:cNvSpPr/>
          <p:nvPr/>
        </p:nvSpPr>
        <p:spPr>
          <a:xfrm>
            <a:off x="3212280" y="404640"/>
            <a:ext cx="26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Салганская СОШ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987640" y="5732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полнила - Глухова Татьяна Ивано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i?id=117b9b34ce945a3d9718996a6d0f22c1&amp;n=13"/>
          <p:cNvPicPr/>
          <p:nvPr/>
        </p:nvPicPr>
        <p:blipFill>
          <a:blip r:embed="rId1"/>
          <a:stretch/>
        </p:blipFill>
        <p:spPr>
          <a:xfrm>
            <a:off x="0" y="2421000"/>
            <a:ext cx="3691080" cy="386064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Ожидаемый результа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76720" y="206064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 родителей к активному участию в учебно-воспитательном процессе О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партнерские отношения с семьей, создать атмосферу взаимоподдержки и общности интерес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15" descr="walking-upstairs-stock-photo-sielan-3132006-jSxMyG-clipart"/>
          <p:cNvPicPr/>
          <p:nvPr/>
        </p:nvPicPr>
        <p:blipFill>
          <a:blip r:embed="rId1"/>
          <a:stretch/>
        </p:blipFill>
        <p:spPr>
          <a:xfrm>
            <a:off x="1258920" y="270828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Этапы реализации проек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5614920" y="907920"/>
            <a:ext cx="3529080" cy="1430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этап Аналитиче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юнь 2024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8"/>
          <p:cNvSpPr/>
          <p:nvPr/>
        </p:nvSpPr>
        <p:spPr>
          <a:xfrm>
            <a:off x="1979640" y="5229360"/>
            <a:ext cx="3887640" cy="1439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 этап Подготовитель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нтябрь 2023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9"/>
          <p:cNvSpPr/>
          <p:nvPr/>
        </p:nvSpPr>
        <p:spPr>
          <a:xfrm>
            <a:off x="4572000" y="2349360"/>
            <a:ext cx="3600360" cy="14306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 этап Реализация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прель - май 2024г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76720" y="4149360"/>
            <a:ext cx="3383280" cy="1080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 этап Практическ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тябрь -ноябрь 2023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072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7120" y="1714680"/>
          <a:ext cx="8559720" cy="4993920"/>
        </p:xfrm>
        <a:graphic>
          <a:graphicData uri="http://schemas.openxmlformats.org/drawingml/2006/table">
            <a:tbl>
              <a:tblPr/>
              <a:tblGrid>
                <a:gridCol w="2139840"/>
                <a:gridCol w="2140200"/>
                <a:gridCol w="2139840"/>
                <a:gridCol w="213984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дготовка документации (сентябрь 2023г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актический этап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октябрь-ноябрь 2023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еализация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Аналитически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прель-май 2024г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юнь 2024г.)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учение нормативной базы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 подготовка информации для анализа и оценки условий по оптимизации управления вовлечённостью родительской общественности в партнерские от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аживание позитивной связи: школа - ребенок - семья. Необходимо, чтобы семейное воспитание находилось в гармонии со школьным воспитанием, чтобы не было педагогического противостояния семьи и школы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достигнутых результатов реализации проек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апросов участников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плана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мероприятий, согласно пл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б итогах проек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95" descr="411546_1"/>
          <p:cNvPicPr/>
          <p:nvPr/>
        </p:nvPicPr>
        <p:blipFill>
          <a:blip r:embed="rId1"/>
          <a:stretch/>
        </p:blipFill>
        <p:spPr>
          <a:xfrm>
            <a:off x="214200" y="142920"/>
            <a:ext cx="214308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512640" y="1214280"/>
          <a:ext cx="8631360" cy="5443560"/>
        </p:xfrm>
        <a:graphic>
          <a:graphicData uri="http://schemas.openxmlformats.org/drawingml/2006/table">
            <a:tbl>
              <a:tblPr/>
              <a:tblGrid>
                <a:gridCol w="2664000"/>
                <a:gridCol w="596736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е смотры знаний, дни науки, предметные декады, дни открытых уроков, праздники знаний и творчества, олимпиады, выпуск предметных газет, дни открытых двер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и озеленение кабинета, выставки творческих рабо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ов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местные праздники, подготовка концертов, соревнования, конкурсы, туристические походы, экскурсионные поездк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ая и туристическ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и здоровья, спортивный праздник "Мама, папа, я - спортивная семья", поход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че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едания Совета по профилактики, Родительский патруль, акции, спортивные празд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Rectangle 80"/>
          <p:cNvSpPr/>
          <p:nvPr/>
        </p:nvSpPr>
        <p:spPr>
          <a:xfrm>
            <a:off x="468360" y="115920"/>
            <a:ext cx="835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совместной деятельности  школы и родителей О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Эффективные формы взаимодейств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2916360" y="2060640"/>
            <a:ext cx="3456000" cy="33843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ебено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3929040" y="3000240"/>
            <a:ext cx="1441440" cy="1346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3903840" y="2435400"/>
            <a:ext cx="102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851280" y="2492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643200" y="43578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AutoShape 13"/>
          <p:cNvSpPr/>
          <p:nvPr/>
        </p:nvSpPr>
        <p:spPr>
          <a:xfrm rot="689400">
            <a:off x="2978280" y="3009600"/>
            <a:ext cx="1069920" cy="412560"/>
          </a:xfrm>
          <a:prstGeom prst="leftRightArrow">
            <a:avLst>
              <a:gd name="adj1" fmla="val 50000"/>
              <a:gd name="adj2" fmla="val 5162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AutoShape 14"/>
          <p:cNvSpPr/>
          <p:nvPr/>
        </p:nvSpPr>
        <p:spPr>
          <a:xfrm rot="2828400">
            <a:off x="3509640" y="3893760"/>
            <a:ext cx="414360" cy="1141560"/>
          </a:xfrm>
          <a:prstGeom prst="upDownArrow">
            <a:avLst>
              <a:gd name="adj1" fmla="val 50000"/>
              <a:gd name="adj2" fmla="val 548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785880" y="25718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1476360" y="486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AutoShape 17"/>
          <p:cNvSpPr/>
          <p:nvPr/>
        </p:nvSpPr>
        <p:spPr>
          <a:xfrm rot="1776600">
            <a:off x="5138640" y="4114800"/>
            <a:ext cx="1079640" cy="444600"/>
          </a:xfrm>
          <a:prstGeom prst="leftRightArrow">
            <a:avLst>
              <a:gd name="adj1" fmla="val 50000"/>
              <a:gd name="adj2" fmla="val 444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8"/>
          <p:cNvSpPr/>
          <p:nvPr/>
        </p:nvSpPr>
        <p:spPr>
          <a:xfrm rot="21099600">
            <a:off x="5344920" y="3141360"/>
            <a:ext cx="965160" cy="450720"/>
          </a:xfrm>
          <a:prstGeom prst="leftRightArrow">
            <a:avLst>
              <a:gd name="adj1" fmla="val 50000"/>
              <a:gd name="adj2" fmla="val 3674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6156360" y="44528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ов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6300720" y="28702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ая 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utoShape 14"/>
          <p:cNvSpPr/>
          <p:nvPr/>
        </p:nvSpPr>
        <p:spPr>
          <a:xfrm rot="1980600">
            <a:off x="5055840" y="2257560"/>
            <a:ext cx="414360" cy="928440"/>
          </a:xfrm>
          <a:prstGeom prst="upDownArrow">
            <a:avLst>
              <a:gd name="adj1" fmla="val 50000"/>
              <a:gd name="adj2" fmla="val 5501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5500800" y="1571760"/>
            <a:ext cx="24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ческа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560" y="213840"/>
            <a:ext cx="8692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ритерии оценки эффективности реализаци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68280" y="861840"/>
          <a:ext cx="8775720" cy="5272200"/>
        </p:xfrm>
        <a:graphic>
          <a:graphicData uri="http://schemas.openxmlformats.org/drawingml/2006/table">
            <a:tbl>
              <a:tblPr/>
              <a:tblGrid>
                <a:gridCol w="4105440"/>
                <a:gridCol w="467028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енн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во внеурочной деятельности класса и школ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ь доверия родителей школе (анкет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традиций сотрудничества ОУ с родит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за успеваемостью учащихся со стороны род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аемость родительских собраний, лекториев, конференций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ая скорость реакции родителей на запросы школы, и наоборо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рганизационной системы в работе с родит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ость родителей формами работы с семьей, повышающих активность род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ретные дела родителей, помощь школе и класс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родителей к дальнейшему участию в различных школьных проекта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Прямоугольник 1" descr=""/>
          <p:cNvPicPr/>
          <p:nvPr/>
        </p:nvPicPr>
        <p:blipFill>
          <a:blip r:embed="rId1"/>
          <a:stretch/>
        </p:blipFill>
        <p:spPr>
          <a:xfrm>
            <a:off x="1133640" y="-146160"/>
            <a:ext cx="687672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571680" y="676440"/>
          <a:ext cx="8429400" cy="5735520"/>
        </p:xfrm>
        <a:graphic>
          <a:graphicData uri="http://schemas.openxmlformats.org/drawingml/2006/table">
            <a:tbl>
              <a:tblPr/>
              <a:tblGrid>
                <a:gridCol w="811080"/>
                <a:gridCol w="615960"/>
                <a:gridCol w="573120"/>
                <a:gridCol w="571320"/>
                <a:gridCol w="1609920"/>
                <a:gridCol w="573120"/>
                <a:gridCol w="571320"/>
                <a:gridCol w="1386000"/>
                <a:gridCol w="360360"/>
                <a:gridCol w="714240"/>
                <a:gridCol w="642960"/>
              </a:tblGrid>
              <a:tr h="795240">
                <a:tc rowSpan="2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прое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ое оборуд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ные матери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тм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п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рочные сувени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чные гор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пло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ственные пись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281160">
                <a:tc gridSpan="10"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6480" marR="64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0" name="Picture 2" descr="F:\Anin_gif_park\Деньги\190.gif"/>
          <p:cNvPicPr/>
          <p:nvPr/>
        </p:nvPicPr>
        <p:blipFill>
          <a:blip r:embed="rId2"/>
          <a:stretch/>
        </p:blipFill>
        <p:spPr>
          <a:xfrm>
            <a:off x="7858080" y="0"/>
            <a:ext cx="10717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https://vospitatel.online/storage/app/docs/472/260/000/47226/60fb060e6ac13548481004.jpg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9" descr="Tug-of-War1-iStock"/>
          <p:cNvPicPr/>
          <p:nvPr/>
        </p:nvPicPr>
        <p:blipFill>
          <a:blip r:embed="rId1"/>
          <a:stretch/>
        </p:blipFill>
        <p:spPr>
          <a:xfrm>
            <a:off x="2268360" y="0"/>
            <a:ext cx="4896000" cy="2637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0720" y="213336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Arial"/>
              </a:rPr>
              <a:t>Противоречия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116000" y="3141720"/>
            <a:ext cx="3960720" cy="2951280"/>
          </a:xfrm>
          <a:custGeom>
            <a:avLst/>
            <a:gdLst>
              <a:gd name="textAreaLeft" fmla="*/ 0 w 3960720"/>
              <a:gd name="textAreaRight" fmla="*/ 3960720 w 396072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адиционный подх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сновную ответствен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бучение и воспитани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ет школа, родите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ют помощ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необходимост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5"/>
          <p:cNvSpPr/>
          <p:nvPr/>
        </p:nvSpPr>
        <p:spPr>
          <a:xfrm rot="10800000">
            <a:off x="5076720" y="3141720"/>
            <a:ext cx="3888000" cy="295128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2951280"/>
              <a:gd name="textAreaBottom" fmla="*/ 2951640 h 29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ртнерский подх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овместная деятельн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учении и воспитании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ополнени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трудничество в деятельност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187280" y="2492280"/>
            <a:ext cx="29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116000" y="23684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Диаграмма 1" descr=""/>
          <p:cNvPicPr/>
          <p:nvPr/>
        </p:nvPicPr>
        <p:blipFill>
          <a:blip r:embed="rId1"/>
          <a:stretch/>
        </p:blipFill>
        <p:spPr>
          <a:xfrm>
            <a:off x="208080" y="1852560"/>
            <a:ext cx="8697960" cy="46944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1071720" y="50004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родителей обучающихся О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5" descr="1042152_stock-photo-3d-person-decide-problem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БЛЕМ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ahoma"/>
              </a:rPr>
              <a:t>«Недостаточно-эффективная  работа с родителями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атрицы сравнения факторов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SWOT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-анали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85840" y="453960"/>
          <a:ext cx="8708760" cy="6046920"/>
        </p:xfrm>
        <a:graphic>
          <a:graphicData uri="http://schemas.openxmlformats.org/drawingml/2006/table">
            <a:tbl>
              <a:tblPr/>
              <a:tblGrid>
                <a:gridCol w="928440"/>
                <a:gridCol w="3643560"/>
                <a:gridCol w="4136760"/>
              </a:tblGrid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ы (сильные сторо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сы (слабые сторон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юсы возмож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1: В+ Вн+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ий спрос на образовательные услуги со стороны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+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квалифицированный педагогический состав (80% с высшей и первой категори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специалистов – педагог-психолог, инструктор по физической культу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положение о родительском комит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Высококвалифицированный педагогический состав создаёт высокий спрос на образовательные и воспитательные услуги со стороны О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2: В+ Вн 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сокий спрос на образовательные и воспитательные услуги со стороны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лабая мотивация педагогов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Стимулирование классных руководител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ивлечение школьного психолога при работе с родителями и обучающимися, уч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усы (угро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3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 Вн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 системы активных форм с педагогическими кадрами по обучению сотрудничества с роди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+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ококвалифицированный педагогический состав (80% с высшей и первой категори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: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систему активных форм привлечь к взаимодействию педагогический коллектив и род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4: В- Вн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озможность привлечения родителей (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ость!!!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зкая активность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образие форм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: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систему работы  с родителями, разнообразить форм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4"/>
          <p:cNvSpPr/>
          <p:nvPr/>
        </p:nvSpPr>
        <p:spPr>
          <a:xfrm>
            <a:off x="0" y="587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Нормативно-правовая база проек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72640" y="2071440"/>
            <a:ext cx="82710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Конституция РФ от 12 декабря 1993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Федеральный закон от 29.12.2012г. № 273 – ФЗ «Об образовании в Российской Федерации» Ст. 43,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ФГОС ООО/ Утвержден приказом Министерства образования и науки РФ от 17 декабря 2010г. № 189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Семейный кодекс РФ/ Права и обязанности родителей и детей. Раздел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т.6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. ФЗ /Об основных гарантиях прав ребенка в РФ от 24 июля 1998г. № 124-Ф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28440" y="-360"/>
            <a:ext cx="7900920" cy="113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 проекта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(уровень образовательной организации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637000"/>
            <a:ext cx="77724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спитательная система школ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о Портфолио достижений учащих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о родительском комите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о родительском патрул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ложение о Совете по профилакт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в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5184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Цель проект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3357720"/>
            <a:ext cx="8128080" cy="27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систему работы на партнерской основе для эффективного взаимодействия школы и семь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5" descr="c6a6f89b-2bb1-419b-a1d3-e62823705503"/>
          <p:cNvPicPr/>
          <p:nvPr/>
        </p:nvPicPr>
        <p:blipFill>
          <a:blip r:embed="rId1"/>
          <a:stretch/>
        </p:blipFill>
        <p:spPr>
          <a:xfrm>
            <a:off x="4730760" y="0"/>
            <a:ext cx="4413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bani-pormov-alim"/>
          <p:cNvPicPr/>
          <p:nvPr/>
        </p:nvPicPr>
        <p:blipFill>
          <a:blip r:embed="rId1"/>
          <a:stretch/>
        </p:blipFill>
        <p:spPr>
          <a:xfrm>
            <a:off x="6156360" y="0"/>
            <a:ext cx="2987640" cy="2241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Задачи проект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559720" cy="21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эффективность вовлечения родительской общественности в образовательный процесс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ть активные формы организации психолого-педагогического просвещения родител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ганизовать методическую работу по освоению педагогами школы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ов изучения семь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алоговых и сотруднических форм взаимодействия с родителями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ктивных современных способов организации совместной деятельности родителей и дете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формировать систему единых взглядов (требований) по обучающимс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вести мониторинг эффективности реализации проек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4T16:00:20Z</dcterms:created>
  <dc:creator>дом</dc:creator>
  <dc:description/>
  <dc:language>en-US</dc:language>
  <cp:lastModifiedBy>Татьяна</cp:lastModifiedBy>
  <dcterms:modified xsi:type="dcterms:W3CDTF">2023-12-12T15:20:50Z</dcterms:modified>
  <cp:revision>50</cp:revision>
  <dc:subject/>
  <dc:title>Проект подготовлен в рамках проектного модуля  дополнительной профессиональной программы  «МЕНЕДЖМЕНТ В ОБРАЗОВАНИИ   «Отсутствие эффективной работы с родителями в контексте с требованиями ФГОС»</dc:title>
</cp:coreProperties>
</file>