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EF47-68B9-44E6-9111-9BF77201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B9B7-BE64-428F-81BE-90C3BDC3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309F-D0B4-4A8B-A769-BDE1844A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4A38-B97F-4328-A9DA-F7836EA43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2A26-88FB-400C-80C6-479D4CF8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385A-1388-4768-BC19-F47DA217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7BEA-1A7E-443E-8C2D-2726D0FB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8F0A-441F-4FC4-8DF2-B20A7436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4922-26A8-4F6A-83C4-1806D10C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602B-F2F2-41AD-A795-5F3F150B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EF37-B61D-4489-9784-555C4305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56F-0D7E-4DDB-BED2-B701F044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83DB-173B-44FC-AB16-3DEB9E35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332-D4B6-472E-A9B9-303F4DA6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7C75-EC67-4FC5-9DCB-C516D8DE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2298-85CF-4901-92BD-46620EAE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9D17-9155-4C2F-A771-548754B5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24F-23BA-437A-8EF9-DD3FF0F2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EAF-25B8-4EF0-BF6B-5E15B72B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93D-2420-430B-A504-595F5F3E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17E-7B45-4CF1-87AD-88C9D3EB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97AA-1E54-4C43-9247-9FF138AC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9CE-AE6B-44E5-AA6B-66FA69D4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B06-AE1C-45BC-A0CE-F10BCC52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F759-3614-443C-925E-03B653BE44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H:\графика\asadal\scool\scool\38 [Converted]111.png"/>
          <p:cNvPicPr/>
          <p:nvPr/>
        </p:nvPicPr>
        <p:blipFill>
          <a:blip r:embed="rId3"/>
          <a:stretch/>
        </p:blipFill>
        <p:spPr>
          <a:xfrm>
            <a:off x="-19080" y="0"/>
            <a:ext cx="9182160" cy="2871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H:\графика\asadal\scool\scool\38 [Converted].png"/>
          <p:cNvPicPr/>
          <p:nvPr/>
        </p:nvPicPr>
        <p:blipFill>
          <a:blip r:embed="rId4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:\графика\asadal\scool\scool\23\10101010.png"/>
          <p:cNvPicPr/>
          <p:nvPr/>
        </p:nvPicPr>
        <p:blipFill>
          <a:blip r:embed="rId5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H:\графика\asadal\scool\scool\38 [Converted].png"/>
          <p:cNvPicPr/>
          <p:nvPr/>
        </p:nvPicPr>
        <p:blipFill>
          <a:blip r:embed="rId6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:\графика\asadal\scool\scool\23\10101010.png"/>
          <p:cNvPicPr/>
          <p:nvPr/>
        </p:nvPicPr>
        <p:blipFill>
          <a:blip r:embed="rId7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32BA-7CB4-4517-A13B-021FA7DF5511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gif"/><Relationship Id="rId3" Type="http://schemas.openxmlformats.org/officeDocument/2006/relationships/slide" Target="slide12.xml"/><Relationship Id="rId4" Type="http://schemas.openxmlformats.org/officeDocument/2006/relationships/image" Target="../media/image10.png"/><Relationship Id="rId5" Type="http://schemas.openxmlformats.org/officeDocument/2006/relationships/slide" Target="slide13.xml"/><Relationship Id="rId6" Type="http://schemas.openxmlformats.org/officeDocument/2006/relationships/image" Target="../media/image11.jpe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144000" cy="3024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0253f"/>
                </a:solidFill>
                <a:latin typeface="Cambria"/>
              </a:rPr>
              <a:t>Трёхсложные размеры стиха</a:t>
            </a:r>
            <a:endParaRPr b="1" lang="en-US" sz="8800" spc="-1" strike="noStrike">
              <a:solidFill>
                <a:srgbClr val="f2f2f2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ambria"/>
              </a:rPr>
              <a:t>Как определить размер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95280" y="15570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. Разделить слова в строке на слоги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. Расставить ударение в строке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3. Составить рисунок стопы  _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_ _ , _  _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_ или _ _ _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́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4. Определить размер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ктиль _</a:t>
            </a:r>
            <a:r>
              <a:rPr b="1" lang="hy-AM" sz="4000" spc="-1" strike="noStrike">
                <a:solidFill>
                  <a:srgbClr val="000000"/>
                </a:solidFill>
                <a:latin typeface="Calibri"/>
                <a:ea typeface="Calibri"/>
              </a:rPr>
              <a:t>՛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_ _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амфибрахий _ _</a:t>
            </a:r>
            <a:r>
              <a:rPr b="1" lang="hy-AM" sz="4000" spc="-1" strike="noStrike">
                <a:solidFill>
                  <a:srgbClr val="000000"/>
                </a:solidFill>
                <a:latin typeface="Calibri"/>
                <a:ea typeface="Calibri"/>
              </a:rPr>
              <a:t>՛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_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анапест  _ _ _</a:t>
            </a:r>
            <a:r>
              <a:rPr b="1" lang="hy-AM" sz="4000" spc="-1" strike="noStrike">
                <a:solidFill>
                  <a:srgbClr val="000000"/>
                </a:solidFill>
                <a:latin typeface="Calibri"/>
                <a:ea typeface="Calibri"/>
              </a:rPr>
              <a:t>՛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7" name="Рисунок 3" descr="Чеширский кот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589720"/>
            <a:ext cx="743040" cy="871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D:\МАРУСЯ\МЗ\весёлый цветочек.gi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82160" y="6021360"/>
            <a:ext cx="861840" cy="836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D:\МАРУСЯ\Кадры из фильмов\Губка Боб квадратные штаны.jpg">
            <a:hlinkClick r:id="rId5" action="ppaction://hlinksldjump"/>
          </p:cNvPr>
          <p:cNvPicPr/>
          <p:nvPr/>
        </p:nvPicPr>
        <p:blipFill>
          <a:blip r:embed="rId6"/>
          <a:srcRect l="0" t="19069" r="17780" b="0"/>
          <a:stretch/>
        </p:blipFill>
        <p:spPr>
          <a:xfrm>
            <a:off x="179280" y="189000"/>
            <a:ext cx="901800" cy="1109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:\МАРУСЯ\МЗ\f5b80bc4df8aae91f100d2fe4c54e4dd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199360" y="189000"/>
            <a:ext cx="94464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773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Афанасий Фет «Вечер»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7933c"/>
                </a:solidFill>
                <a:latin typeface="Garamond"/>
              </a:rPr>
              <a:t>Прозвучало над ясной рекою,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7933c"/>
                </a:solidFill>
                <a:latin typeface="Garamond"/>
              </a:rPr>
              <a:t>Прозвенело в померкшем лугу</a:t>
            </a:r>
            <a:r>
              <a:rPr b="1" i="1" lang="ru-RU" sz="4400" spc="-1" strike="noStrike">
                <a:solidFill>
                  <a:srgbClr val="77933c"/>
                </a:solidFill>
                <a:latin typeface="Georgia"/>
              </a:rPr>
              <a:t>     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64a2"/>
                </a:solidFill>
                <a:latin typeface="Georgia"/>
              </a:rPr>
              <a:t>анапест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2" name="Рисунок 3" descr="Чеширский кот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537372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844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Фёдор Тютчев «Как хорошо ты, о море…»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7933c"/>
                </a:solidFill>
                <a:latin typeface="Garamond"/>
              </a:rPr>
              <a:t>Как хорошо ты, о море ночное,-</a:t>
            </a:r>
            <a:br>
              <a:rPr sz="4000"/>
            </a:br>
            <a:r>
              <a:rPr b="1" i="1" lang="ru-RU" sz="4000" spc="-1" strike="noStrike">
                <a:solidFill>
                  <a:srgbClr val="77933c"/>
                </a:solidFill>
                <a:latin typeface="Garamond"/>
              </a:rPr>
              <a:t>Здесь лучезарно, там сизо-темно…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                                      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                              </a:t>
            </a: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дактиль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Яков Полонский «Зимний путь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7933c"/>
                </a:solidFill>
                <a:latin typeface="Garamond"/>
              </a:rPr>
              <a:t>Ночь холодная мутно глядит</a:t>
            </a:r>
            <a:br>
              <a:rPr sz="4000"/>
            </a:br>
            <a:r>
              <a:rPr b="1" i="1" lang="ru-RU" sz="4000" spc="-1" strike="noStrike">
                <a:solidFill>
                  <a:srgbClr val="77933c"/>
                </a:solidFill>
                <a:latin typeface="Garamond"/>
              </a:rPr>
              <a:t>Под рогожу кибитки моей…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                            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анапест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Александр Блок «К музе»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Garamond"/>
              </a:rPr>
              <a:t>Есть в напевах твоих сокровенных</a:t>
            </a:r>
            <a:br>
              <a:rPr sz="3600"/>
            </a:br>
            <a:r>
              <a:rPr b="1" i="1" lang="ru-RU" sz="3600" spc="-1" strike="noStrike">
                <a:solidFill>
                  <a:srgbClr val="77933c"/>
                </a:solidFill>
                <a:latin typeface="Garamond"/>
              </a:rPr>
              <a:t>Роковая о гибели весть.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                                  </a:t>
            </a: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анапест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Александр Пушкин «Вакхическая песня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Garamond"/>
              </a:rPr>
              <a:t>Что смолкнул веселия глас?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Garamond"/>
              </a:rPr>
              <a:t>Раздайтесь, вакхальны припевы!</a:t>
            </a:r>
            <a:r>
              <a:rPr b="1" i="1" lang="ru-RU" sz="3600" spc="-1" strike="noStrike">
                <a:solidFill>
                  <a:srgbClr val="77933c"/>
                </a:solidFill>
                <a:latin typeface="Georgia"/>
              </a:rPr>
              <a:t>                                                                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7933c"/>
                </a:solidFill>
                <a:latin typeface="Georgia"/>
              </a:rPr>
              <a:t>                                              </a:t>
            </a: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анапест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76092"/>
                </a:solidFill>
                <a:uFillTx/>
                <a:latin typeface="Garamond"/>
              </a:rPr>
              <a:t>Повторение и закрепление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Аполлон Майков «Осень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Кроет уж лист золото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Влажную землю в лесу…</a:t>
            </a:r>
            <a:r>
              <a:rPr b="1" i="1" lang="ru-RU" sz="3600" spc="-1" strike="noStrike">
                <a:solidFill>
                  <a:srgbClr val="4f6228"/>
                </a:solidFill>
                <a:latin typeface="Georgia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дактиль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Николай Некрасов «Мужичок с ноготок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Однажды, в студёную зимнюю пору,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Я из лесу вышел; был сильный мороз.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амфибрахи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4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Александр  Пушкин «Зимнее утро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Буря мглою небо кроет,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Вихри снежные крутя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хоре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Николай Рубцов «Родная деревня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Хотя проклинает проезжи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Дороги моих побережи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амфибрахий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8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293480"/>
            <a:ext cx="9144000" cy="91116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2f2f2"/>
                </a:solidFill>
                <a:latin typeface="Cambria"/>
              </a:rPr>
              <a:t>Стопа –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2204640"/>
            <a:ext cx="8785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очетание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Garamond"/>
              </a:rPr>
              <a:t>ударных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Garamond"/>
              </a:rPr>
              <a:t>безударных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слогов 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1280" indent="-34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в строке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1280" indent="-3412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Georgia"/>
              </a:rPr>
              <a:t>Я тебе ничего не скажу…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7640" y="1699920"/>
            <a:ext cx="87850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Александр Твардовский «Рассказ танкиста»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Был трудный бой. Всё нынче, как спросонку,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6228"/>
                </a:solidFill>
                <a:latin typeface="Garamond"/>
              </a:rPr>
              <a:t>И только не могу себе простить…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Georgia"/>
              </a:rPr>
              <a:t>ямб</a:t>
            </a:r>
            <a:endParaRPr b="1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0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-360" y="1571400"/>
            <a:ext cx="878508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Georgia"/>
              </a:rPr>
              <a:t>Я тебе ничего не скажу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Содержимое 2"/>
          <p:cNvSpPr/>
          <p:nvPr/>
        </p:nvSpPr>
        <p:spPr>
          <a:xfrm>
            <a:off x="179280" y="2276640"/>
            <a:ext cx="8605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Georgia"/>
              </a:rPr>
              <a:t>Я те-бе ни-че-го не ска-ж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179280" y="2997360"/>
            <a:ext cx="8640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Georgia"/>
              </a:rPr>
              <a:t>Я те-бе</a:t>
            </a:r>
            <a:r>
              <a:rPr b="1" i="1" lang="ru-RU" sz="4000" spc="-1" strike="noStrike">
                <a:solidFill>
                  <a:srgbClr val="00b050"/>
                </a:solidFill>
                <a:latin typeface="Georgia"/>
                <a:ea typeface="Calibri"/>
              </a:rPr>
              <a:t>́ни-че-го́не ска-жу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держимое 2"/>
          <p:cNvSpPr/>
          <p:nvPr/>
        </p:nvSpPr>
        <p:spPr>
          <a:xfrm>
            <a:off x="0" y="3573360"/>
            <a:ext cx="8964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_ _ _</a:t>
            </a:r>
            <a:r>
              <a:rPr b="1" i="1" lang="ru-RU" sz="5400" spc="-1" strike="noStrike">
                <a:solidFill>
                  <a:srgbClr val="00b05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 _ _ _</a:t>
            </a:r>
            <a:r>
              <a:rPr b="1" i="1" lang="ru-RU" sz="5400" spc="-1" strike="noStrike">
                <a:solidFill>
                  <a:srgbClr val="00b05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 _ _ _</a:t>
            </a:r>
            <a:r>
              <a:rPr b="1" i="1" lang="ru-RU" sz="5400" spc="-1" strike="noStrike">
                <a:solidFill>
                  <a:srgbClr val="00b050"/>
                </a:solidFill>
                <a:latin typeface="Calibri"/>
              </a:rPr>
              <a:t>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одержимое 2"/>
          <p:cNvSpPr/>
          <p:nvPr/>
        </p:nvSpPr>
        <p:spPr>
          <a:xfrm>
            <a:off x="324000" y="4365720"/>
            <a:ext cx="8208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_ _ _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 _ _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fc00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 _ _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00b0f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0" y="1571760"/>
            <a:ext cx="9144000" cy="20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_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́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 _ _ </a:t>
            </a:r>
            <a:r>
              <a:rPr b="1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6000" spc="-1" strike="noStrike">
                <a:solidFill>
                  <a:srgbClr val="ffc000"/>
                </a:solidFill>
                <a:latin typeface="Georgia"/>
              </a:rPr>
              <a:t>_</a:t>
            </a:r>
            <a:r>
              <a:rPr b="1" i="1" lang="ru-RU" sz="6000" spc="-1" strike="noStrike">
                <a:solidFill>
                  <a:srgbClr val="ffc000"/>
                </a:solidFill>
                <a:latin typeface="Calibri"/>
              </a:rPr>
              <a:t>́</a:t>
            </a:r>
            <a:r>
              <a:rPr b="1" i="1" lang="ru-RU" sz="6000" spc="-1" strike="noStrike">
                <a:solidFill>
                  <a:srgbClr val="ffc000"/>
                </a:solidFill>
                <a:latin typeface="Georgia"/>
              </a:rPr>
              <a:t> _ _ </a:t>
            </a:r>
            <a:r>
              <a:rPr b="1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6000" spc="-1" strike="noStrike">
                <a:solidFill>
                  <a:srgbClr val="00b0f0"/>
                </a:solidFill>
                <a:latin typeface="Georgia"/>
              </a:rPr>
              <a:t>_</a:t>
            </a:r>
            <a:r>
              <a:rPr b="1" i="1" lang="ru-RU" sz="6000" spc="-1" strike="noStrike">
                <a:solidFill>
                  <a:srgbClr val="00b0f0"/>
                </a:solidFill>
                <a:latin typeface="Calibri"/>
              </a:rPr>
              <a:t>́</a:t>
            </a:r>
            <a:r>
              <a:rPr b="1" i="1" lang="ru-RU" sz="6000" spc="-1" strike="noStrike">
                <a:solidFill>
                  <a:srgbClr val="00b0f0"/>
                </a:solidFill>
                <a:latin typeface="Georgia"/>
              </a:rPr>
              <a:t> _ _ </a:t>
            </a:r>
            <a:r>
              <a:rPr b="1" i="1" lang="ru-RU" sz="6000" spc="-1" strike="noStrike">
                <a:solidFill>
                  <a:srgbClr val="7030a0"/>
                </a:solidFill>
                <a:latin typeface="Georgia"/>
              </a:rPr>
              <a:t>  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Правая фигурная скобка 9"/>
          <p:cNvSpPr/>
          <p:nvPr/>
        </p:nvSpPr>
        <p:spPr>
          <a:xfrm rot="5400000">
            <a:off x="1584360" y="1738440"/>
            <a:ext cx="324000" cy="2124000"/>
          </a:xfrm>
          <a:custGeom>
            <a:avLst/>
            <a:gdLst>
              <a:gd name="textAreaLeft" fmla="*/ 0 w 324000"/>
              <a:gd name="textAreaRight" fmla="*/ 117000 w 324000"/>
              <a:gd name="textAreaTop" fmla="*/ 8280 h 2124000"/>
              <a:gd name="textAreaBottom" fmla="*/ 2115720 h 21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7"/>
                  <a:pt x="10800" y="274"/>
                </a:cubicBezTo>
                <a:lnTo>
                  <a:pt x="10800" y="10526"/>
                </a:lnTo>
                <a:cubicBezTo>
                  <a:pt x="10800" y="10663"/>
                  <a:pt x="16200" y="10800"/>
                  <a:pt x="21600" y="10800"/>
                </a:cubicBezTo>
                <a:cubicBezTo>
                  <a:pt x="16200" y="10800"/>
                  <a:pt x="10800" y="10937"/>
                  <a:pt x="10800" y="11074"/>
                </a:cubicBezTo>
                <a:lnTo>
                  <a:pt x="10800" y="21326"/>
                </a:lnTo>
                <a:cubicBezTo>
                  <a:pt x="10800" y="214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10"/>
          <p:cNvSpPr/>
          <p:nvPr/>
        </p:nvSpPr>
        <p:spPr>
          <a:xfrm>
            <a:off x="324000" y="3141720"/>
            <a:ext cx="187164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оп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1"/>
          <p:cNvSpPr/>
          <p:nvPr/>
        </p:nvSpPr>
        <p:spPr>
          <a:xfrm>
            <a:off x="2627280" y="3213000"/>
            <a:ext cx="619272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четание ударного и безударного сл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3"/>
          <p:cNvCxnSpPr>
            <a:stCxn id="100" idx="3"/>
          </p:cNvCxnSpPr>
          <p:nvPr/>
        </p:nvCxnSpPr>
        <p:spPr>
          <a:xfrm>
            <a:off x="2195280" y="3499920"/>
            <a:ext cx="36108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2f2f2"/>
                </a:solidFill>
                <a:latin typeface="Cambria"/>
              </a:rPr>
              <a:t>Размер</a:t>
            </a:r>
            <a:endParaRPr b="1" lang="en-US" sz="7200" spc="-1" strike="noStrike">
              <a:solidFill>
                <a:srgbClr val="f2f2f2"/>
              </a:solidFill>
              <a:latin typeface="Cambria"/>
            </a:endParaRPr>
          </a:p>
        </p:txBody>
      </p:sp>
      <p:pic>
        <p:nvPicPr>
          <p:cNvPr id="104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73200"/>
            <a:ext cx="8229600" cy="4552920"/>
          </a:xfrm>
          <a:prstGeom prst="rect">
            <a:avLst/>
          </a:prstGeom>
          <a:ln w="0">
            <a:noFill/>
          </a:ln>
        </p:spPr>
      </p:pic>
      <p:sp>
        <p:nvSpPr>
          <p:cNvPr id="105" name="Стрелка вниз 5"/>
          <p:cNvSpPr/>
          <p:nvPr/>
        </p:nvSpPr>
        <p:spPr>
          <a:xfrm rot="2365200">
            <a:off x="3322800" y="1459080"/>
            <a:ext cx="502920" cy="100800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6"/>
          <p:cNvSpPr/>
          <p:nvPr/>
        </p:nvSpPr>
        <p:spPr>
          <a:xfrm rot="19095600">
            <a:off x="5275440" y="1523520"/>
            <a:ext cx="504720" cy="100836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907920"/>
            <a:ext cx="8209080" cy="115272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Cambria"/>
              </a:rPr>
              <a:t>Трёхсложные размеры стихотворения</a:t>
            </a:r>
            <a:endParaRPr b="1" lang="en-US" sz="36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8" name="Выгнутая влево стрелка 5"/>
          <p:cNvSpPr/>
          <p:nvPr/>
        </p:nvSpPr>
        <p:spPr>
          <a:xfrm>
            <a:off x="611280" y="2265480"/>
            <a:ext cx="936360" cy="1224000"/>
          </a:xfrm>
          <a:custGeom>
            <a:avLst/>
            <a:gdLst>
              <a:gd name="textAreaLeft" fmla="*/ 125280 w 936360"/>
              <a:gd name="textAreaRight" fmla="*/ 811080 w 936360"/>
              <a:gd name="textAreaTop" fmla="*/ 218160 h 1224000"/>
              <a:gd name="textAreaBottom" fmla="*/ 8888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1" stAng="-5400000" swAng="-5400000"/>
                <a:lnTo>
                  <a:pt x="0" y="11834"/>
                </a:lnTo>
                <a:arcTo wR="21600" hR="7701" stAng="10800000" swAng="-3245161"/>
                <a:lnTo>
                  <a:pt x="16200" y="21355"/>
                </a:lnTo>
                <a:lnTo>
                  <a:pt x="21600" y="17468"/>
                </a:lnTo>
                <a:lnTo>
                  <a:pt x="16200" y="13090"/>
                </a:lnTo>
                <a:lnTo>
                  <a:pt x="16200" y="15156"/>
                </a:lnTo>
                <a:arcTo wR="21600" hR="7701" stAng="7554839" swAng="2904860"/>
                <a:lnTo>
                  <a:pt x="792" y="9767"/>
                </a:lnTo>
                <a:arcTo wR="21600" hR="7701" stAng="-10459699" swAng="5059699"/>
                <a:close/>
              </a:path>
              <a:path fill="darkenLess" w="21600" h="21600">
                <a:moveTo>
                  <a:pt x="21600" y="0"/>
                </a:moveTo>
                <a:arcTo wR="21600" hR="7701" stAng="-5400000" swAng="-5400000"/>
                <a:lnTo>
                  <a:pt x="0" y="7701"/>
                </a:lnTo>
                <a:arcTo wR="21600" hR="7701" stAng="10800000" swAng="-340301"/>
                <a:lnTo>
                  <a:pt x="792" y="9767"/>
                </a:lnTo>
                <a:arcTo wR="21600" hR="7701" stAng="-10459699" swAng="5059699"/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Горизонтальный свиток 7" descr=""/>
          <p:cNvPicPr/>
          <p:nvPr/>
        </p:nvPicPr>
        <p:blipFill>
          <a:blip r:embed="rId1"/>
          <a:stretch/>
        </p:blipFill>
        <p:spPr>
          <a:xfrm>
            <a:off x="2567160" y="2017800"/>
            <a:ext cx="4082760" cy="1633320"/>
          </a:xfrm>
          <a:prstGeom prst="rect">
            <a:avLst/>
          </a:prstGeom>
          <a:ln w="0">
            <a:noFill/>
          </a:ln>
        </p:spPr>
      </p:pic>
      <p:pic>
        <p:nvPicPr>
          <p:cNvPr id="110" name="Горизонтальный свиток 8" descr=""/>
          <p:cNvPicPr/>
          <p:nvPr/>
        </p:nvPicPr>
        <p:blipFill>
          <a:blip r:embed="rId2"/>
          <a:stretch/>
        </p:blipFill>
        <p:spPr>
          <a:xfrm>
            <a:off x="2567160" y="3602160"/>
            <a:ext cx="4082760" cy="1635120"/>
          </a:xfrm>
          <a:prstGeom prst="rect">
            <a:avLst/>
          </a:prstGeom>
          <a:ln w="0">
            <a:noFill/>
          </a:ln>
        </p:spPr>
      </p:pic>
      <p:pic>
        <p:nvPicPr>
          <p:cNvPr id="111" name="Горизонтальный свиток 9" descr=""/>
          <p:cNvPicPr/>
          <p:nvPr/>
        </p:nvPicPr>
        <p:blipFill>
          <a:blip r:embed="rId3"/>
          <a:stretch/>
        </p:blipFill>
        <p:spPr>
          <a:xfrm>
            <a:off x="2567160" y="5157720"/>
            <a:ext cx="408276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134100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Да́ктиль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 (</a:t>
            </a: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от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 </a:t>
            </a:r>
            <a:r>
              <a:rPr b="0" i="1" lang="ru-RU" sz="3200" spc="-1" strike="noStrike">
                <a:solidFill>
                  <a:srgbClr val="ff0000"/>
                </a:solidFill>
                <a:latin typeface="Garamond"/>
              </a:rPr>
              <a:t>др. греч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. δάκτυλος – «палец»)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– трёхсложный стихотворный размер, при котором ударение падает на первый слог в стопе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04a7b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Тучки небесные, вечные странники…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Туч-ки не-бес-ны-е, веч-ны-е стран-ни-ки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604a7b"/>
                </a:solidFill>
                <a:latin typeface="Arial Narrow"/>
              </a:rPr>
              <a:t>Ту́ч–ки не/бе́с–ны–е/ве́ч–ны–е/стра́н-ни–ки! </a:t>
            </a:r>
            <a:endParaRPr b="1" lang="en-US" sz="33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_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 _ _ / _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 _ _ /_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 _ _ /_</a:t>
            </a: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7030a0"/>
                </a:solidFill>
                <a:latin typeface="Georgia"/>
              </a:rPr>
              <a:t> _  _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13920" indent="-31392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Georgia"/>
              </a:rPr>
              <a:t>          </a:t>
            </a:r>
            <a:r>
              <a:rPr b="1" i="1" lang="ru-RU" sz="4800" spc="-1" strike="noStrike">
                <a:solidFill>
                  <a:srgbClr val="7030a0"/>
                </a:solidFill>
                <a:latin typeface="Georgia"/>
              </a:rPr>
              <a:t>1 – 4 – 7 – 10 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9072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Амфибрахий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 – трёхсложный стихотворный размер с ударением на втором слоге в стопе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На севере диком стоит одиноко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На-се-ве-ре-ди-ком-сто-ит-о-ди-но-ко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На-се́-ве/ре-ди-́ком/сто-и́т-о/ди-но-́ко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_ / 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_ /_ _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_ /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_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Georgia"/>
              </a:rPr>
              <a:t>          </a:t>
            </a:r>
            <a:r>
              <a:rPr b="1" i="1" lang="ru-RU" sz="4800" spc="-1" strike="noStrike">
                <a:solidFill>
                  <a:srgbClr val="7030a0"/>
                </a:solidFill>
                <a:latin typeface="Georgia"/>
              </a:rPr>
              <a:t>2 – 5 – 8 – 11 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9072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Garamond"/>
              </a:rPr>
              <a:t>Анапест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– трехсложный стихотворный размер с ударением на третьем слоге в стопе.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О, весна без конца и без краю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О-вес-на-без-кон-ца-и-без-кра-ю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О-вес-на́/без-кон-ца́/и-без-кра</a:t>
            </a:r>
            <a:r>
              <a:rPr b="1" i="1" lang="ru-RU" sz="3200" spc="-1" strike="noStrike">
                <a:solidFill>
                  <a:srgbClr val="604a7b"/>
                </a:solidFill>
                <a:latin typeface="Arial Narrow"/>
                <a:ea typeface="Calibri"/>
              </a:rPr>
              <a:t>՛</a:t>
            </a:r>
            <a:r>
              <a:rPr b="1" i="1" lang="ru-RU" sz="3200" spc="-1" strike="noStrike">
                <a:solidFill>
                  <a:srgbClr val="604a7b"/>
                </a:solidFill>
                <a:latin typeface="Arial Narrow"/>
              </a:rPr>
              <a:t>/ю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_ 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/ _ _ _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/_ _ _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/_ 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Georgia"/>
              </a:rPr>
              <a:t>3 – 6 – 9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8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8:08:14Z</dcterms:created>
  <dc:creator>Димка</dc:creator>
  <dc:description/>
  <cp:keywords/>
  <dc:language>en-US</dc:language>
  <cp:lastModifiedBy>Admin</cp:lastModifiedBy>
  <dcterms:modified xsi:type="dcterms:W3CDTF">2023-12-13T13:13:10Z</dcterms:modified>
  <cp:revision>34</cp:revision>
  <dc:subject/>
  <dc:title>Двусложные размеры стих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7630</vt:lpwstr>
  </property>
</Properties>
</file>