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28D-C086-48FC-9FE4-A0996711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8A4-31CF-4C61-9E7C-5E193C9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0EE-22A8-4DCE-91C1-734A6F99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052-6704-46F6-AD53-596CA503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B14A-2E6F-464E-B977-88492F49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18CD-A39F-4F63-AD10-C1F6C7F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359-D000-4F95-B5F6-0CEE41C5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CDF-487A-48F8-87C2-BC8BCE4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DCA8-6EB2-4D36-98A3-3133C06D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066A-764C-4A61-9DA9-40FBCB16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506E-DF71-4A09-B47A-0717DA0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3DA-16FB-4CFC-A54D-1F71701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C7E-FBED-416E-87B5-1133E8E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E535-A344-4967-8F58-56DCC66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96D2-E9C3-4232-BBF2-AD54452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6388-7DD1-408B-897F-333552B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FFB5-98C4-40B9-A9B8-A8B933AB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866-36A5-4F39-B0EC-F2E583C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F87-F617-40E1-99E3-9F231C2E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DBC-5394-41E5-AED1-A4AC8E0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294-077B-4E18-A936-9968FBBF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CDB-54F9-45D2-B31E-4F305C4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160-75DF-4123-9CC9-A11D0CA8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B04-E0A3-4FB8-82E8-C3A4E81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39EE-BD99-4B5C-8179-7B5403D36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7C1-3D26-4AC6-891D-7EAEF62477DE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gif"/><Relationship Id="rId3" Type="http://schemas.openxmlformats.org/officeDocument/2006/relationships/slide" Target="slide12.xml"/><Relationship Id="rId4" Type="http://schemas.openxmlformats.org/officeDocument/2006/relationships/image" Target="../media/image10.png"/><Relationship Id="rId5" Type="http://schemas.openxmlformats.org/officeDocument/2006/relationships/slide" Target="slide13.xml"/><Relationship Id="rId6" Type="http://schemas.openxmlformats.org/officeDocument/2006/relationships/image" Target="../media/image11.jpe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3024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Cambria"/>
              </a:rPr>
              <a:t>Трёхсложные размеры стиха</a:t>
            </a:r>
            <a:endParaRPr b="1" lang="en-US" sz="8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ак определить размер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5570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. Разделить слова в строке на слог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. Расставить ударение в строке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3. Составить рисунок стопы 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_ _ , _ 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_ или _ _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4. Определить размер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ктиль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_ 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амфибрахий _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анапест  _ _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Рисунок 3" descr="Чеширский кот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589720"/>
            <a:ext cx="743040" cy="87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МАРУСЯ\МЗ\весёлый цветочек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82160" y="6021360"/>
            <a:ext cx="86184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:\МАРУСЯ\Кадры из фильмов\Губка Боб квадратные штаны.jpg">
            <a:hlinkClick r:id="rId5" action="ppaction://hlinksldjump"/>
          </p:cNvPr>
          <p:cNvPicPr/>
          <p:nvPr/>
        </p:nvPicPr>
        <p:blipFill>
          <a:blip r:embed="rId6"/>
          <a:srcRect l="0" t="19069" r="17780" b="0"/>
          <a:stretch/>
        </p:blipFill>
        <p:spPr>
          <a:xfrm>
            <a:off x="179280" y="189000"/>
            <a:ext cx="901800" cy="1109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:\МАРУСЯ\МЗ\f5b80bc4df8aae91f100d2fe4c54e4dd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99360" y="189000"/>
            <a:ext cx="94464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773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фанасий Фет «Вечер»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Garamond"/>
              </a:rPr>
              <a:t>Прозвучало над ясной рекою,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Garamond"/>
              </a:rPr>
              <a:t>Прозвенело в померкшем лугу</a:t>
            </a:r>
            <a:r>
              <a:rPr b="1" i="1" lang="ru-RU" sz="4400" spc="-1" strike="noStrike">
                <a:solidFill>
                  <a:srgbClr val="77933c"/>
                </a:solidFill>
                <a:latin typeface="Georgia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64a2"/>
                </a:solidFill>
                <a:latin typeface="Georgia"/>
              </a:rPr>
              <a:t>анапест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2" name="Рисунок 3" descr="Чеширский кот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844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Фёдор Тютчев «Как хорошо ты, о море…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Как хорошо ты, о море ночное,-</a:t>
            </a:r>
            <a:br>
              <a:rPr sz="4000"/>
            </a:b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Здесь лучезарно, там сизо-темно…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    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дактиль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Яков Полонский «Зимний путь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Ночь холодная мутно глядит</a:t>
            </a:r>
            <a:br>
              <a:rPr sz="4000"/>
            </a:b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Под рогожу кибитки моей…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                           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лександр Блок «К музе»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Есть в напевах твоих сокровенных</a:t>
            </a:r>
            <a:br>
              <a:rPr sz="3600"/>
            </a:b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Роковая о гибели весть.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Пушкин «Вакхическая песня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Что смолкнул веселия глас?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Раздайтесь, вакхальны припевы!</a:t>
            </a:r>
            <a:r>
              <a:rPr b="1" i="1" lang="ru-RU" sz="3600" spc="-1" strike="noStrike">
                <a:solidFill>
                  <a:srgbClr val="77933c"/>
                </a:solidFill>
                <a:latin typeface="Georgia"/>
              </a:rPr>
              <a:t>                                                            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eorgia"/>
              </a:rPr>
              <a:t>                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76092"/>
                </a:solidFill>
                <a:uFillTx/>
                <a:latin typeface="Garamond"/>
              </a:rPr>
              <a:t>Повторение и закрепление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поллон Майков «Осень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Кроет уж лист золото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Влажную землю в лесу…</a:t>
            </a:r>
            <a:r>
              <a:rPr b="1" i="1" lang="ru-RU" sz="3600" spc="-1" strike="noStrike">
                <a:solidFill>
                  <a:srgbClr val="4f6228"/>
                </a:solidFill>
                <a:latin typeface="Georgia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дактиль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Николай Некрасов «Мужичок с ноготок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Однажды, в студёную зимнюю пору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Я из лесу вышел; был сильный мороз.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мфибрах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 Пушкин «Зимнее утро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Буря мглою небо кроет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Вихри снежные крутя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хоре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Николай Рубцов «Родная деревня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Хотя проклинает проезж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Дороги моих побереж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мфибрах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93480"/>
            <a:ext cx="9144000" cy="911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2f2f2"/>
                </a:solidFill>
                <a:latin typeface="Cambria"/>
              </a:rPr>
              <a:t>Стопа –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220464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очетание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Garamond"/>
              </a:rPr>
              <a:t>ударных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Garamond"/>
              </a:rPr>
              <a:t>безударных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слогов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 строке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Georgia"/>
              </a:rPr>
              <a:t>Я тебе ничего не скажу…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7640" y="1699920"/>
            <a:ext cx="87850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Твардовский «Рассказ танкиста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Был трудный бой. Всё нынче, как спросонку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И только не могу себе простить…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ямб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-360" y="1571400"/>
            <a:ext cx="878508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бе ничего не скажу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179280" y="2276640"/>
            <a:ext cx="8605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-бе ни-че-го не ска-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179280" y="2997360"/>
            <a:ext cx="86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-бе</a:t>
            </a:r>
            <a:r>
              <a:rPr b="1" i="1" lang="ru-RU" sz="4000" spc="-1" strike="noStrike">
                <a:solidFill>
                  <a:srgbClr val="00b050"/>
                </a:solidFill>
                <a:latin typeface="Georgia"/>
                <a:ea typeface="Calibri"/>
              </a:rPr>
              <a:t>́ни-че-го́не ска-жу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0" y="3573360"/>
            <a:ext cx="8964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324000" y="4365720"/>
            <a:ext cx="8208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_ _ _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_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_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57176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60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c00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60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00b0f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Правая фигурная скобка 9"/>
          <p:cNvSpPr/>
          <p:nvPr/>
        </p:nvSpPr>
        <p:spPr>
          <a:xfrm rot="5400000">
            <a:off x="1584360" y="1738440"/>
            <a:ext cx="324000" cy="2124000"/>
          </a:xfrm>
          <a:custGeom>
            <a:avLst/>
            <a:gdLst>
              <a:gd name="textAreaLeft" fmla="*/ 0 w 324000"/>
              <a:gd name="textAreaRight" fmla="*/ 117000 w 324000"/>
              <a:gd name="textAreaTop" fmla="*/ 8280 h 2124000"/>
              <a:gd name="textAreaBottom" fmla="*/ 211572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0"/>
          <p:cNvSpPr/>
          <p:nvPr/>
        </p:nvSpPr>
        <p:spPr>
          <a:xfrm>
            <a:off x="324000" y="3141720"/>
            <a:ext cx="187164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о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2627280" y="3213000"/>
            <a:ext cx="619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етание ударного и безударного с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3"/>
          <p:cNvCxnSpPr>
            <a:stCxn id="100" idx="3"/>
          </p:cNvCxnSpPr>
          <p:nvPr/>
        </p:nvCxnSpPr>
        <p:spPr>
          <a:xfrm>
            <a:off x="2195280" y="3499920"/>
            <a:ext cx="361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2f2f2"/>
                </a:solidFill>
                <a:latin typeface="Cambria"/>
              </a:rPr>
              <a:t>Размер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5292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низ 5"/>
          <p:cNvSpPr/>
          <p:nvPr/>
        </p:nvSpPr>
        <p:spPr>
          <a:xfrm rot="2365200">
            <a:off x="3322800" y="1459080"/>
            <a:ext cx="502920" cy="1008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6"/>
          <p:cNvSpPr/>
          <p:nvPr/>
        </p:nvSpPr>
        <p:spPr>
          <a:xfrm rot="19095600">
            <a:off x="5275440" y="1523520"/>
            <a:ext cx="504720" cy="100836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09080" cy="1152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Cambria"/>
              </a:rPr>
              <a:t>Трёхсложные размеры стихотворения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8" name="Выгнутая влево стрелка 5"/>
          <p:cNvSpPr/>
          <p:nvPr/>
        </p:nvSpPr>
        <p:spPr>
          <a:xfrm>
            <a:off x="611280" y="2265480"/>
            <a:ext cx="936360" cy="1224000"/>
          </a:xfrm>
          <a:custGeom>
            <a:avLst/>
            <a:gdLst>
              <a:gd name="textAreaLeft" fmla="*/ 125280 w 936360"/>
              <a:gd name="textAreaRight" fmla="*/ 811080 w 936360"/>
              <a:gd name="textAreaTop" fmla="*/ 218160 h 1224000"/>
              <a:gd name="textAreaBottom" fmla="*/ 8888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1" stAng="-5400000" swAng="-5400000"/>
                <a:lnTo>
                  <a:pt x="0" y="11834"/>
                </a:lnTo>
                <a:arcTo wR="21600" hR="7701" stAng="10800000" swAng="-3245161"/>
                <a:lnTo>
                  <a:pt x="16200" y="21355"/>
                </a:lnTo>
                <a:lnTo>
                  <a:pt x="21600" y="17468"/>
                </a:lnTo>
                <a:lnTo>
                  <a:pt x="16200" y="13090"/>
                </a:lnTo>
                <a:lnTo>
                  <a:pt x="16200" y="15156"/>
                </a:lnTo>
                <a:arcTo wR="21600" hR="7701" stAng="7554839" swAng="2904860"/>
                <a:lnTo>
                  <a:pt x="792" y="9767"/>
                </a:lnTo>
                <a:arcTo wR="21600" hR="7701" stAng="-10459699" swAng="5059699"/>
                <a:close/>
              </a:path>
              <a:path fill="darkenLess" w="21600" h="21600">
                <a:moveTo>
                  <a:pt x="21600" y="0"/>
                </a:moveTo>
                <a:arcTo wR="21600" hR="7701" stAng="-5400000" swAng="-5400000"/>
                <a:lnTo>
                  <a:pt x="0" y="7701"/>
                </a:lnTo>
                <a:arcTo wR="21600" hR="7701" stAng="10800000" swAng="-340301"/>
                <a:lnTo>
                  <a:pt x="792" y="9767"/>
                </a:lnTo>
                <a:arcTo wR="21600" hR="7701" stAng="-10459699" swAng="5059699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Горизонтальный свиток 7" descr=""/>
          <p:cNvPicPr/>
          <p:nvPr/>
        </p:nvPicPr>
        <p:blipFill>
          <a:blip r:embed="rId1"/>
          <a:stretch/>
        </p:blipFill>
        <p:spPr>
          <a:xfrm>
            <a:off x="2567160" y="2017800"/>
            <a:ext cx="4082760" cy="1633320"/>
          </a:xfrm>
          <a:prstGeom prst="rect">
            <a:avLst/>
          </a:prstGeom>
          <a:ln w="0">
            <a:noFill/>
          </a:ln>
        </p:spPr>
      </p:pic>
      <p:pic>
        <p:nvPicPr>
          <p:cNvPr id="110" name="Горизонтальный свиток 8" descr=""/>
          <p:cNvPicPr/>
          <p:nvPr/>
        </p:nvPicPr>
        <p:blipFill>
          <a:blip r:embed="rId2"/>
          <a:stretch/>
        </p:blipFill>
        <p:spPr>
          <a:xfrm>
            <a:off x="2567160" y="3602160"/>
            <a:ext cx="4082760" cy="1635120"/>
          </a:xfrm>
          <a:prstGeom prst="rect">
            <a:avLst/>
          </a:prstGeom>
          <a:ln w="0">
            <a:noFill/>
          </a:ln>
        </p:spPr>
      </p:pic>
      <p:pic>
        <p:nvPicPr>
          <p:cNvPr id="111" name="Горизонтальный свиток 9" descr=""/>
          <p:cNvPicPr/>
          <p:nvPr/>
        </p:nvPicPr>
        <p:blipFill>
          <a:blip r:embed="rId3"/>
          <a:stretch/>
        </p:blipFill>
        <p:spPr>
          <a:xfrm>
            <a:off x="2567160" y="5157720"/>
            <a:ext cx="4082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а́ктиль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 (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от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 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др. греч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. δάκτυλος – «палец»)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трёхсложный стихотворный размер, при котором ударение падает на первый слог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Тучки небесные, вечные странники…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Туч-ки не-бес-ны-е, веч-ны-е стран-ни-к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04a7b"/>
                </a:solidFill>
                <a:latin typeface="Arial Narrow"/>
              </a:rPr>
              <a:t>Ту́ч–ки не/бе́с–ны–е/ве́ч–ны–е/стра́н-ни–ки! </a:t>
            </a:r>
            <a:endParaRPr b="1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 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_  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1 – 4 – 7 – 10 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9072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Амфибрах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 – трёхсложный стихотворный размер с ударением на втором слоге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 севере диком стоит одино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-се-ве-ре-ди-ком-сто-ит-о-ди-но-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-се́-ве/ре-ди-́ком/сто-и́т-о/ди-но-́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/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/_ _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/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2 – 5 – 8 – 11 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9072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Анапест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трехсложный стихотворный размер с ударением на третьем слоге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, весна без конца и без кра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-вес-на-без-кон-ца-и-без-кра-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-вес-на́/без-кон-ца́/и-без-кра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  <a:ea typeface="Calibri"/>
              </a:rPr>
              <a:t>՛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/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 _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_ _ _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_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3 – 6 – 9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8:14Z</dcterms:created>
  <dc:creator>Димка</dc:creator>
  <dc:description/>
  <cp:keywords/>
  <dc:language>en-US</dc:language>
  <cp:lastModifiedBy>Admin</cp:lastModifiedBy>
  <dcterms:modified xsi:type="dcterms:W3CDTF">2023-12-13T13:13:10Z</dcterms:modified>
  <cp:revision>34</cp:revision>
  <dc:subject/>
  <dc:title>Двусложные размеры сти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0</vt:lpwstr>
  </property>
</Properties>
</file>