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1D1-F811-48C8-97AF-A0F9F8F245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44D6-6E41-4062-B8B1-382FC0DAB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7658-DDB1-4664-8B50-FB041FCF76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B5D0-8ACE-4B61-85B8-040E9B30D1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DDA-6E44-4AD1-B68E-B55DE6A5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BEAB-B6BF-413B-ABE6-4A721738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C86-91AA-439B-85FC-B6DCCECD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60E-12AC-4255-A14A-F5A42283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3105-097A-4DD2-A82B-B086917A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9850-93C4-4BE7-9CAE-A800A388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30D-FDA6-4A46-9A3D-29C0BAFC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80734-E528-45B9-B7D3-F1B2980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CAE8-8C9C-49DC-A40A-1258FCC3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FFF4-5805-4E15-A9BF-1248506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E604-DDC3-4890-BA94-FC7848A8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DCB9-1FC3-49E7-9B2A-8B61CC24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13E-3086-49D3-86E7-2821EAE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8964-942C-454D-A225-6A3022C0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F131-29AA-4A5E-BB3F-6D0D4C95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F7BF-8DAB-4782-9DC4-7A454CD6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43C-4765-420A-9D44-33478A07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EF6-10E3-4C81-AD33-F67E629C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C80-C5F7-4825-9D63-1932D8F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9DFA-8E04-4E0E-9E88-8F3BF72F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271-34A2-41E0-ABB0-7DB10D1A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70E-4190-41B9-BC81-D722689C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DCB-8742-471C-AA34-B2EAC13A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4D3-6273-478F-996E-314F803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373-2FF7-4737-A55E-9C94E9D7B32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FD15-27C0-418B-BB91-CCA49712757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user\Рабочий стол\Новая папка\химия\b07ec6200d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566640" y="133200"/>
            <a:ext cx="7785360" cy="7448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000" y="1571400"/>
            <a:ext cx="8280360" cy="2649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 – исследовательская работ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щение воды в походных условиях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643280" y="435780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работу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ласса Колбина Снеж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кина Татьяна Василь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дельный фильтр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4" name="Picture 2" descr="C:\Documents and Settings\user\Рабочий стол\Новая папка\196__3.jpg"/>
          <p:cNvPicPr/>
          <p:nvPr/>
        </p:nvPicPr>
        <p:blipFill>
          <a:blip r:embed="rId1"/>
          <a:stretch/>
        </p:blipFill>
        <p:spPr>
          <a:xfrm>
            <a:off x="684360" y="1700280"/>
            <a:ext cx="3811320" cy="4321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5"/>
          <p:cNvSpPr/>
          <p:nvPr/>
        </p:nvSpPr>
        <p:spPr>
          <a:xfrm>
            <a:off x="5072040" y="185724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076720" y="32130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5003640" y="4581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рованный у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чистки воды в разных уголках нашей Родин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Picture 2" descr="C:\Documents and Settings\user\Рабочий стол\Новая папка\0_21c67_66814955_XL.jpg"/>
          <p:cNvPicPr/>
          <p:nvPr/>
        </p:nvPicPr>
        <p:blipFill>
          <a:blip r:embed="rId1"/>
          <a:stretch/>
        </p:blipFill>
        <p:spPr>
          <a:xfrm>
            <a:off x="468360" y="1557360"/>
            <a:ext cx="387360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user\Рабочий стол\Новая папка\химия\495d5d90f659.jpg"/>
          <p:cNvPicPr/>
          <p:nvPr/>
        </p:nvPicPr>
        <p:blipFill>
          <a:blip r:embed="rId2"/>
          <a:stretch/>
        </p:blipFill>
        <p:spPr>
          <a:xfrm>
            <a:off x="5724360" y="4076640"/>
            <a:ext cx="2211480" cy="19447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6156360" y="602136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2"/>
          <p:cNvSpPr/>
          <p:nvPr/>
        </p:nvSpPr>
        <p:spPr>
          <a:xfrm>
            <a:off x="684360" y="98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F:\Новая папка\1264875692_tuja.jpg"/>
          <p:cNvPicPr/>
          <p:nvPr/>
        </p:nvPicPr>
        <p:blipFill>
          <a:blip r:embed="rId3"/>
          <a:stretch/>
        </p:blipFill>
        <p:spPr>
          <a:xfrm>
            <a:off x="324000" y="4221000"/>
            <a:ext cx="2325600" cy="1729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3" descr="F:\Новая папка\abies_sibirica2.jpg"/>
          <p:cNvPicPr/>
          <p:nvPr/>
        </p:nvPicPr>
        <p:blipFill>
          <a:blip r:embed="rId4"/>
          <a:stretch/>
        </p:blipFill>
        <p:spPr>
          <a:xfrm>
            <a:off x="3059280" y="4221000"/>
            <a:ext cx="2233440" cy="1668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F:\Новая папка\5465.jpg"/>
          <p:cNvPicPr/>
          <p:nvPr/>
        </p:nvPicPr>
        <p:blipFill>
          <a:blip r:embed="rId5"/>
          <a:stretch/>
        </p:blipFill>
        <p:spPr>
          <a:xfrm>
            <a:off x="5651640" y="1557360"/>
            <a:ext cx="2447640" cy="1944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2"/>
          <p:cNvSpPr/>
          <p:nvPr/>
        </p:nvSpPr>
        <p:spPr>
          <a:xfrm>
            <a:off x="6012000" y="33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900000" y="602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356400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й полос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0" name="Picture 5" descr="C:\Documents and Settings\user\Рабочий стол\Новая папка\berezy.jpg"/>
          <p:cNvPicPr/>
          <p:nvPr/>
        </p:nvPicPr>
        <p:blipFill>
          <a:blip r:embed="rId1"/>
          <a:stretch/>
        </p:blipFill>
        <p:spPr>
          <a:xfrm>
            <a:off x="468360" y="1341360"/>
            <a:ext cx="2455920" cy="1654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Documents and Settings\user\Рабочий стол\Новая папка\390485_348368.jpg"/>
          <p:cNvPicPr/>
          <p:nvPr/>
        </p:nvPicPr>
        <p:blipFill>
          <a:blip r:embed="rId2"/>
          <a:stretch/>
        </p:blipFill>
        <p:spPr>
          <a:xfrm>
            <a:off x="3492360" y="1341360"/>
            <a:ext cx="2337120" cy="16542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1"/>
          <p:cNvSpPr/>
          <p:nvPr/>
        </p:nvSpPr>
        <p:spPr>
          <a:xfrm>
            <a:off x="539640" y="306864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4211640" y="3068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F:\hedge_Fagus_sylvatica_020.jpg"/>
          <p:cNvPicPr/>
          <p:nvPr/>
        </p:nvPicPr>
        <p:blipFill>
          <a:blip r:embed="rId3"/>
          <a:stretch/>
        </p:blipFill>
        <p:spPr>
          <a:xfrm>
            <a:off x="539640" y="3645000"/>
            <a:ext cx="3672000" cy="2232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F:\post-49712-1283175974.jpg"/>
          <p:cNvPicPr/>
          <p:nvPr/>
        </p:nvPicPr>
        <p:blipFill>
          <a:blip r:embed="rId4"/>
          <a:stretch/>
        </p:blipFill>
        <p:spPr>
          <a:xfrm>
            <a:off x="6227640" y="1484280"/>
            <a:ext cx="2100240" cy="142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:\iCA000BGM.jpg"/>
          <p:cNvPicPr/>
          <p:nvPr/>
        </p:nvPicPr>
        <p:blipFill>
          <a:blip r:embed="rId5"/>
          <a:stretch/>
        </p:blipFill>
        <p:spPr>
          <a:xfrm>
            <a:off x="5076720" y="3645000"/>
            <a:ext cx="3598920" cy="2232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13"/>
          <p:cNvSpPr/>
          <p:nvPr/>
        </p:nvSpPr>
        <p:spPr>
          <a:xfrm>
            <a:off x="6948360" y="2997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1476360" y="59500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5724360" y="5950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ах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1" name="Picture 6" descr="C:\Documents and Settings\user\Рабочий стол\Новая папка\0_9bf3_f91f97fc_XL.jpg"/>
          <p:cNvPicPr/>
          <p:nvPr/>
        </p:nvPicPr>
        <p:blipFill>
          <a:blip r:embed="rId1"/>
          <a:stretch/>
        </p:blipFill>
        <p:spPr>
          <a:xfrm>
            <a:off x="826920" y="1628640"/>
            <a:ext cx="2881440" cy="2017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C:\Documents and Settings\user\Рабочий стол\Новая папка\46855796_x_93bfa163.jpg"/>
          <p:cNvPicPr/>
          <p:nvPr/>
        </p:nvPicPr>
        <p:blipFill>
          <a:blip r:embed="rId2"/>
          <a:stretch/>
        </p:blipFill>
        <p:spPr>
          <a:xfrm>
            <a:off x="5292720" y="1628640"/>
            <a:ext cx="2879640" cy="20163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900000" y="378936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менный  м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1"/>
          <p:cNvSpPr/>
          <p:nvPr/>
        </p:nvSpPr>
        <p:spPr>
          <a:xfrm>
            <a:off x="5364000" y="3789360"/>
            <a:ext cx="30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ной ор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F:\Новая папка\21_47.jpg"/>
          <p:cNvPicPr/>
          <p:nvPr/>
        </p:nvPicPr>
        <p:blipFill>
          <a:blip r:embed="rId3"/>
          <a:stretch/>
        </p:blipFill>
        <p:spPr>
          <a:xfrm>
            <a:off x="3419640" y="4437000"/>
            <a:ext cx="2304720" cy="17733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8"/>
          <p:cNvSpPr/>
          <p:nvPr/>
        </p:nvSpPr>
        <p:spPr>
          <a:xfrm>
            <a:off x="3492360" y="6093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а т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устын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8" name="Picture 3" descr="C:\Documents and Settings\user\Рабочий стол\Новая папка\Saxaul-baum.jpg"/>
          <p:cNvPicPr/>
          <p:nvPr/>
        </p:nvPicPr>
        <p:blipFill>
          <a:blip r:embed="rId1"/>
          <a:stretch/>
        </p:blipFill>
        <p:spPr>
          <a:xfrm>
            <a:off x="2987640" y="2349360"/>
            <a:ext cx="3241800" cy="29289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17"/>
          <p:cNvSpPr/>
          <p:nvPr/>
        </p:nvSpPr>
        <p:spPr>
          <a:xfrm>
            <a:off x="3708360" y="57326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са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Юг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1" name="Picture 2" descr="C:\Documents and Settings\user\Рабочий стол\Новая папка\tiss.jpg"/>
          <p:cNvPicPr/>
          <p:nvPr/>
        </p:nvPicPr>
        <p:blipFill>
          <a:blip r:embed="rId1"/>
          <a:stretch/>
        </p:blipFill>
        <p:spPr>
          <a:xfrm>
            <a:off x="395280" y="2133720"/>
            <a:ext cx="4032360" cy="25714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3"/>
          <p:cNvSpPr/>
          <p:nvPr/>
        </p:nvSpPr>
        <p:spPr>
          <a:xfrm>
            <a:off x="1187280" y="522936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 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F:\Новая папка\shop_items_catalog_image3965.jpg"/>
          <p:cNvPicPr/>
          <p:nvPr/>
        </p:nvPicPr>
        <p:blipFill>
          <a:blip r:embed="rId2"/>
          <a:stretch/>
        </p:blipFill>
        <p:spPr>
          <a:xfrm>
            <a:off x="4716360" y="2205000"/>
            <a:ext cx="3673440" cy="259236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6156360" y="5229360"/>
            <a:ext cx="13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епи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4" descr="C:\Documents and Settings\user\Рабочий стол\Новая папка\140.jpg"/>
          <p:cNvPicPr/>
          <p:nvPr/>
        </p:nvPicPr>
        <p:blipFill>
          <a:blip r:embed="rId1"/>
          <a:stretch/>
        </p:blipFill>
        <p:spPr>
          <a:xfrm>
            <a:off x="324000" y="2133720"/>
            <a:ext cx="3547800" cy="221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F:\Новая папка\iCAWQGL4C.jpg"/>
          <p:cNvPicPr/>
          <p:nvPr/>
        </p:nvPicPr>
        <p:blipFill>
          <a:blip r:embed="rId2"/>
          <a:stretch/>
        </p:blipFill>
        <p:spPr>
          <a:xfrm>
            <a:off x="4572000" y="2133720"/>
            <a:ext cx="3673440" cy="22320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1042920" y="486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ы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788000" y="479736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елист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получения пресной воды из солёной.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2" descr="C:\Documents and Settings\user\Рабочий стол\Новая папка\s_voda4.jpg"/>
          <p:cNvPicPr/>
          <p:nvPr/>
        </p:nvPicPr>
        <p:blipFill>
          <a:blip r:embed="rId1"/>
          <a:stretch/>
        </p:blipFill>
        <p:spPr>
          <a:xfrm>
            <a:off x="2268360" y="2205000"/>
            <a:ext cx="4797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84360" y="263664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6"/>
          <p:cNvSpPr/>
          <p:nvPr/>
        </p:nvSpPr>
        <p:spPr>
          <a:xfrm>
            <a:off x="500040" y="5716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% воды на Земле - это солёная вода океанов и морей, 3% - пресная. Но пресная вода в природе загрязнена и не пригодна для питья. Возникает  необходимость очистить воду в походных услов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93075"/>
          <p:cNvPicPr/>
          <p:nvPr/>
        </p:nvPicPr>
        <p:blipFill>
          <a:blip r:embed="rId1"/>
          <a:stretch/>
        </p:blipFill>
        <p:spPr>
          <a:xfrm>
            <a:off x="539640" y="4149720"/>
            <a:ext cx="3219480" cy="2152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26074"/>
          <p:cNvPicPr/>
          <p:nvPr/>
        </p:nvPicPr>
        <p:blipFill>
          <a:blip r:embed="rId2"/>
          <a:stretch/>
        </p:blipFill>
        <p:spPr>
          <a:xfrm>
            <a:off x="5148360" y="4221000"/>
            <a:ext cx="320508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62028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боты: изучить методы и способы очистки воды в походных условиях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198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общие методы и способы очистк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учить методы и способы очистки воды в походных услов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овести эксперимент по получению пресной воды из соле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6"/>
          <p:cNvSpPr/>
          <p:nvPr/>
        </p:nvSpPr>
        <p:spPr>
          <a:xfrm>
            <a:off x="3348000" y="1844640"/>
            <a:ext cx="54100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ко-химическ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4067280" y="3068640"/>
            <a:ext cx="417672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иолог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4572000" y="4292640"/>
            <a:ext cx="4176720" cy="38556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Химически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4572000" y="5589720"/>
            <a:ext cx="415116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хан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250920" y="26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характеру протекания процессов методы очистки воды деля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E:\Новая папка\water-drop.jpg"/>
          <p:cNvPicPr/>
          <p:nvPr/>
        </p:nvPicPr>
        <p:blipFill>
          <a:blip r:embed="rId1"/>
          <a:stretch/>
        </p:blipFill>
        <p:spPr>
          <a:xfrm>
            <a:off x="684360" y="3789360"/>
            <a:ext cx="3387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685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цели очистки методы подразделяю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755640" y="1700280"/>
            <a:ext cx="792000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щие органолептические свойства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684360" y="2565360"/>
            <a:ext cx="792000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е ее эпидемиологическую безопас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684360" y="3357720"/>
            <a:ext cx="79912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ющие ее газовый соста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9"/>
          <p:cNvSpPr/>
          <p:nvPr/>
        </p:nvSpPr>
        <p:spPr>
          <a:xfrm>
            <a:off x="684360" y="4149720"/>
            <a:ext cx="806436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ые на извлечение трудноокисляемой орга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E:\Новая папка\main_water (2).jpg"/>
          <p:cNvPicPr/>
          <p:nvPr/>
        </p:nvPicPr>
        <p:blipFill>
          <a:blip r:embed="rId1"/>
          <a:stretch/>
        </p:blipFill>
        <p:spPr>
          <a:xfrm>
            <a:off x="1500120" y="5000760"/>
            <a:ext cx="62150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31"/>
          <p:cNvSpPr/>
          <p:nvPr/>
        </p:nvSpPr>
        <p:spPr>
          <a:xfrm>
            <a:off x="428760" y="357120"/>
            <a:ext cx="8208720" cy="528840"/>
          </a:xfrm>
          <a:prstGeom prst="roundRect">
            <a:avLst>
              <a:gd name="adj" fmla="val 50000"/>
            </a:avLst>
          </a:prstGeom>
          <a:solidFill>
            <a:srgbClr val="009d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способ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4356000" y="1557360"/>
            <a:ext cx="453708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истилляц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4356000" y="5229360"/>
            <a:ext cx="3492720" cy="45720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ипя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4356000" y="2924280"/>
            <a:ext cx="4442040" cy="46188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тстаивание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4356000" y="4149720"/>
            <a:ext cx="4154760" cy="453960"/>
          </a:xfrm>
          <a:prstGeom prst="roundRect">
            <a:avLst>
              <a:gd name="adj" fmla="val 49106"/>
            </a:avLst>
          </a:prstGeom>
          <a:solidFill>
            <a:srgbClr val="20c9f8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ильтров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E:\Новая папка\touching_Birs.jpg"/>
          <p:cNvPicPr/>
          <p:nvPr/>
        </p:nvPicPr>
        <p:blipFill>
          <a:blip r:embed="rId1"/>
          <a:stretch/>
        </p:blipFill>
        <p:spPr>
          <a:xfrm>
            <a:off x="324000" y="2349360"/>
            <a:ext cx="3902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очистки воды с помощью химических препаратов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0" name="Picture 2" descr="C:\Documents and Settings\user\Рабочий стол\Новая папка\ch-01.jpg"/>
          <p:cNvPicPr/>
          <p:nvPr/>
        </p:nvPicPr>
        <p:blipFill>
          <a:blip r:embed="rId1"/>
          <a:stretch/>
        </p:blipFill>
        <p:spPr>
          <a:xfrm>
            <a:off x="571680" y="1357200"/>
            <a:ext cx="2885760" cy="2381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user\Рабочий стол\Новая папка\i7.jpg"/>
          <p:cNvPicPr/>
          <p:nvPr/>
        </p:nvPicPr>
        <p:blipFill>
          <a:blip r:embed="rId2"/>
          <a:stretch/>
        </p:blipFill>
        <p:spPr>
          <a:xfrm>
            <a:off x="642960" y="4429080"/>
            <a:ext cx="3071880" cy="1571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user\Рабочий стол\Новая папка\image50061.jpg"/>
          <p:cNvPicPr/>
          <p:nvPr/>
        </p:nvPicPr>
        <p:blipFill>
          <a:blip r:embed="rId3"/>
          <a:stretch/>
        </p:blipFill>
        <p:spPr>
          <a:xfrm>
            <a:off x="4643280" y="4429080"/>
            <a:ext cx="3500640" cy="1571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nts and Settings\user\Рабочий стол\Новая папка\hidroperit.jpg"/>
          <p:cNvPicPr/>
          <p:nvPr/>
        </p:nvPicPr>
        <p:blipFill>
          <a:blip r:embed="rId4"/>
          <a:stretch/>
        </p:blipFill>
        <p:spPr>
          <a:xfrm>
            <a:off x="6858000" y="1214280"/>
            <a:ext cx="2071800" cy="24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Documents and Settings\user\Рабочий стол\Новая папка\034_large.jpg"/>
          <p:cNvPicPr/>
          <p:nvPr/>
        </p:nvPicPr>
        <p:blipFill>
          <a:blip r:embed="rId5"/>
          <a:stretch/>
        </p:blipFill>
        <p:spPr>
          <a:xfrm>
            <a:off x="4429080" y="1285920"/>
            <a:ext cx="2000160" cy="24289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250920" y="3789360"/>
            <a:ext cx="36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юмокалиевые -квас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932360" y="37162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804000" y="371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пе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1000080" y="614376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ра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4714920" y="607212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манганат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user\Рабочий стол\Новая папка\химия\5b9f3761bb32.jpg"/>
          <p:cNvPicPr/>
          <p:nvPr/>
        </p:nvPicPr>
        <p:blipFill>
          <a:blip r:embed="rId1"/>
          <a:stretch/>
        </p:blipFill>
        <p:spPr>
          <a:xfrm>
            <a:off x="5292720" y="4149720"/>
            <a:ext cx="2255760" cy="1690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user\Рабочий стол\Новая папка\химия\1546-3-f.jpg"/>
          <p:cNvPicPr/>
          <p:nvPr/>
        </p:nvPicPr>
        <p:blipFill>
          <a:blip r:embed="rId2"/>
          <a:stretch/>
        </p:blipFill>
        <p:spPr>
          <a:xfrm>
            <a:off x="1332000" y="1700280"/>
            <a:ext cx="2239920" cy="174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user\Рабочий стол\Новая папка\химия\35866624_41283.jpg"/>
          <p:cNvPicPr/>
          <p:nvPr/>
        </p:nvPicPr>
        <p:blipFill>
          <a:blip r:embed="rId3"/>
          <a:stretch/>
        </p:blipFill>
        <p:spPr>
          <a:xfrm>
            <a:off x="1258920" y="4076640"/>
            <a:ext cx="2028960" cy="192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user\Рабочий стол\Новая папка\химия\39425892_.jpg"/>
          <p:cNvPicPr/>
          <p:nvPr/>
        </p:nvPicPr>
        <p:blipFill>
          <a:blip r:embed="rId4"/>
          <a:stretch/>
        </p:blipFill>
        <p:spPr>
          <a:xfrm>
            <a:off x="5364000" y="1773360"/>
            <a:ext cx="2154240" cy="17240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0" y="620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стка воды с помощью растений – антисеп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403280" y="616572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р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1619280" y="3429000"/>
            <a:ext cx="14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5580000" y="342900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5651640" y="60930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user\Рабочий стол\Новая папка\химия\153346_328.jpg"/>
          <p:cNvPicPr/>
          <p:nvPr/>
        </p:nvPicPr>
        <p:blipFill>
          <a:blip r:embed="rId1"/>
          <a:stretch/>
        </p:blipFill>
        <p:spPr>
          <a:xfrm>
            <a:off x="250920" y="1989000"/>
            <a:ext cx="4083120" cy="31338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150" name="Picture 3" descr="C:\Documents and Settings\user\Рабочий стол\Новая папка\химия\silicium_1.jpg"/>
          <p:cNvPicPr/>
          <p:nvPr/>
        </p:nvPicPr>
        <p:blipFill>
          <a:blip r:embed="rId2"/>
          <a:stretch/>
        </p:blipFill>
        <p:spPr>
          <a:xfrm>
            <a:off x="4788000" y="1989000"/>
            <a:ext cx="3809880" cy="3214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1042920" y="981000"/>
            <a:ext cx="22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4643280" y="105264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ний прозра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4-02-20T14:17:42Z</dcterms:modified>
  <cp:revision>126</cp:revision>
  <dc:subject/>
  <dc:title>Слайд 1</dc:title>
</cp:coreProperties>
</file>