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853-745B-40E9-9AE4-B93A1189EB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A18-0CE1-4334-9902-D3DD5F4EC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AFD-4EB9-4BF1-B1BD-36B7B2C93D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7015-FE87-4927-B372-686AB1296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571-5856-4082-AA47-9B04E0B8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A74-2311-4ED0-ABAE-BCAEDD05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36F-423C-4386-8948-480DC721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3D6-EF09-4FAA-992F-945EA31F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F273-93DF-482F-9067-4546326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AB1F-77F9-45E1-AECA-007A31B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F2A0-ADEE-4C6E-9D67-E487D2C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1C38-0D4E-492B-9F67-EA000216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50B-7EF2-461C-A70C-41235A38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FAB-A072-4595-97D2-3117638D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3751-39BC-4367-8F6E-7F139D2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905-0724-4D3F-955C-E08DFA62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CF1-D5C8-4249-85EF-DFC5944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086C-7801-4075-B34A-CF14349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3BA-2AB4-4523-A257-6017960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100B-79B4-470D-B25A-0CEA98C9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8224-6E89-4790-8A85-5441896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52F-6C0B-49E3-94B5-6FD91DD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44B-0D1D-4EF1-BF70-EEAB9C7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FE5-25DE-4ABA-BD9C-759A972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308-C0D1-40A7-966E-8955662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46D-9A1E-4F1C-BDF4-510053C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A1D-589D-4CF7-AAEC-145638D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C52-9C0B-4799-9524-8301D0B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C7A-FB5F-411E-9E09-BC0349A7976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129-23D5-4323-99D5-2C1940E64CB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user\Рабочий стол\Новая папка\химия\b07ec6200d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566640" y="133200"/>
            <a:ext cx="7785360" cy="74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000" y="1571400"/>
            <a:ext cx="8280360" cy="2649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 – исследовательская рабо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ие воды в походных условиях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643280" y="435780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работу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а Колбина Снеж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кина Татьяна Васи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дельный фильтр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4" name="Picture 2" descr="C:\Documents and Settings\user\Рабочий стол\Новая папка\196__3.jpg"/>
          <p:cNvPicPr/>
          <p:nvPr/>
        </p:nvPicPr>
        <p:blipFill>
          <a:blip r:embed="rId1"/>
          <a:stretch/>
        </p:blipFill>
        <p:spPr>
          <a:xfrm>
            <a:off x="684360" y="1700280"/>
            <a:ext cx="3811320" cy="4321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5072040" y="18572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076720" y="3213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003640" y="4581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ова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чистки воды в разных уголках нашей Родин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Picture 2" descr="C:\Documents and Settings\user\Рабочий стол\Новая папка\0_21c67_66814955_XL.jpg"/>
          <p:cNvPicPr/>
          <p:nvPr/>
        </p:nvPicPr>
        <p:blipFill>
          <a:blip r:embed="rId1"/>
          <a:stretch/>
        </p:blipFill>
        <p:spPr>
          <a:xfrm>
            <a:off x="468360" y="1557360"/>
            <a:ext cx="387360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user\Рабочий стол\Новая папка\химия\495d5d90f659.jpg"/>
          <p:cNvPicPr/>
          <p:nvPr/>
        </p:nvPicPr>
        <p:blipFill>
          <a:blip r:embed="rId2"/>
          <a:stretch/>
        </p:blipFill>
        <p:spPr>
          <a:xfrm>
            <a:off x="5724360" y="4076640"/>
            <a:ext cx="221148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6156360" y="602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684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F:\Новая папка\1264875692_tuja.jpg"/>
          <p:cNvPicPr/>
          <p:nvPr/>
        </p:nvPicPr>
        <p:blipFill>
          <a:blip r:embed="rId3"/>
          <a:stretch/>
        </p:blipFill>
        <p:spPr>
          <a:xfrm>
            <a:off x="324000" y="4221000"/>
            <a:ext cx="23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F:\Новая папка\abies_sibirica2.jpg"/>
          <p:cNvPicPr/>
          <p:nvPr/>
        </p:nvPicPr>
        <p:blipFill>
          <a:blip r:embed="rId4"/>
          <a:stretch/>
        </p:blipFill>
        <p:spPr>
          <a:xfrm>
            <a:off x="3059280" y="4221000"/>
            <a:ext cx="2233440" cy="1668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F:\Новая папка\5465.jpg"/>
          <p:cNvPicPr/>
          <p:nvPr/>
        </p:nvPicPr>
        <p:blipFill>
          <a:blip r:embed="rId5"/>
          <a:stretch/>
        </p:blipFill>
        <p:spPr>
          <a:xfrm>
            <a:off x="5651640" y="1557360"/>
            <a:ext cx="2447640" cy="1944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2"/>
          <p:cNvSpPr/>
          <p:nvPr/>
        </p:nvSpPr>
        <p:spPr>
          <a:xfrm>
            <a:off x="6012000" y="33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900000" y="602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56400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полос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0" name="Picture 5" descr="C:\Documents and Settings\user\Рабочий стол\Новая папка\berezy.jpg"/>
          <p:cNvPicPr/>
          <p:nvPr/>
        </p:nvPicPr>
        <p:blipFill>
          <a:blip r:embed="rId1"/>
          <a:stretch/>
        </p:blipFill>
        <p:spPr>
          <a:xfrm>
            <a:off x="468360" y="1341360"/>
            <a:ext cx="2455920" cy="165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user\Рабочий стол\Новая папка\390485_348368.jpg"/>
          <p:cNvPicPr/>
          <p:nvPr/>
        </p:nvPicPr>
        <p:blipFill>
          <a:blip r:embed="rId2"/>
          <a:stretch/>
        </p:blipFill>
        <p:spPr>
          <a:xfrm>
            <a:off x="3492360" y="1341360"/>
            <a:ext cx="2337120" cy="16542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1"/>
          <p:cNvSpPr/>
          <p:nvPr/>
        </p:nvSpPr>
        <p:spPr>
          <a:xfrm>
            <a:off x="539640" y="30686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211640" y="306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F:\hedge_Fagus_sylvatica_020.jpg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F:\post-49712-1283175974.jpg"/>
          <p:cNvPicPr/>
          <p:nvPr/>
        </p:nvPicPr>
        <p:blipFill>
          <a:blip r:embed="rId4"/>
          <a:stretch/>
        </p:blipFill>
        <p:spPr>
          <a:xfrm>
            <a:off x="6227640" y="1484280"/>
            <a:ext cx="2100240" cy="142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:\iCA000BGM.jpg"/>
          <p:cNvPicPr/>
          <p:nvPr/>
        </p:nvPicPr>
        <p:blipFill>
          <a:blip r:embed="rId5"/>
          <a:stretch/>
        </p:blipFill>
        <p:spPr>
          <a:xfrm>
            <a:off x="5076720" y="3645000"/>
            <a:ext cx="3598920" cy="2232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3"/>
          <p:cNvSpPr/>
          <p:nvPr/>
        </p:nvSpPr>
        <p:spPr>
          <a:xfrm>
            <a:off x="694836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1476360" y="59500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5724360" y="5950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ах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1" name="Picture 6" descr="C:\Documents and Settings\user\Рабочий стол\Новая папка\0_9bf3_f91f97fc_XL.jpg"/>
          <p:cNvPicPr/>
          <p:nvPr/>
        </p:nvPicPr>
        <p:blipFill>
          <a:blip r:embed="rId1"/>
          <a:stretch/>
        </p:blipFill>
        <p:spPr>
          <a:xfrm>
            <a:off x="826920" y="1628640"/>
            <a:ext cx="2881440" cy="201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Documents and Settings\user\Рабочий стол\Новая папка\46855796_x_93bfa163.jpg"/>
          <p:cNvPicPr/>
          <p:nvPr/>
        </p:nvPicPr>
        <p:blipFill>
          <a:blip r:embed="rId2"/>
          <a:stretch/>
        </p:blipFill>
        <p:spPr>
          <a:xfrm>
            <a:off x="5292720" y="1628640"/>
            <a:ext cx="2879640" cy="2016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900000" y="37893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 м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364000" y="3789360"/>
            <a:ext cx="30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ой 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F:\Новая папка\21_47.jpg"/>
          <p:cNvPicPr/>
          <p:nvPr/>
        </p:nvPicPr>
        <p:blipFill>
          <a:blip r:embed="rId3"/>
          <a:stretch/>
        </p:blipFill>
        <p:spPr>
          <a:xfrm>
            <a:off x="3419640" y="4437000"/>
            <a:ext cx="2304720" cy="1773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8"/>
          <p:cNvSpPr/>
          <p:nvPr/>
        </p:nvSpPr>
        <p:spPr>
          <a:xfrm>
            <a:off x="3492360" y="6093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 т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устын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8" name="Picture 3" descr="C:\Documents and Settings\user\Рабочий стол\Новая папка\Saxaul-bau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241800" cy="29289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7"/>
          <p:cNvSpPr/>
          <p:nvPr/>
        </p:nvSpPr>
        <p:spPr>
          <a:xfrm>
            <a:off x="3708360" y="57326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са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1" name="Picture 2" descr="C:\Documents and Settings\user\Рабочий стол\Новая папка\tiss.jpg"/>
          <p:cNvPicPr/>
          <p:nvPr/>
        </p:nvPicPr>
        <p:blipFill>
          <a:blip r:embed="rId1"/>
          <a:stretch/>
        </p:blipFill>
        <p:spPr>
          <a:xfrm>
            <a:off x="395280" y="2133720"/>
            <a:ext cx="4032360" cy="25714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3"/>
          <p:cNvSpPr/>
          <p:nvPr/>
        </p:nvSpPr>
        <p:spPr>
          <a:xfrm>
            <a:off x="1187280" y="522936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 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F:\Новая папка\shop_items_catalog_image3965.jpg"/>
          <p:cNvPicPr/>
          <p:nvPr/>
        </p:nvPicPr>
        <p:blipFill>
          <a:blip r:embed="rId2"/>
          <a:stretch/>
        </p:blipFill>
        <p:spPr>
          <a:xfrm>
            <a:off x="4716360" y="2205000"/>
            <a:ext cx="3673440" cy="25923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6156360" y="52293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еп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4" descr="C:\Documents and Settings\user\Рабочий стол\Новая папка\140.jpg"/>
          <p:cNvPicPr/>
          <p:nvPr/>
        </p:nvPicPr>
        <p:blipFill>
          <a:blip r:embed="rId1"/>
          <a:stretch/>
        </p:blipFill>
        <p:spPr>
          <a:xfrm>
            <a:off x="324000" y="2133720"/>
            <a:ext cx="3547800" cy="221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F:\Новая папка\iCAWQGL4C.jpg"/>
          <p:cNvPicPr/>
          <p:nvPr/>
        </p:nvPicPr>
        <p:blipFill>
          <a:blip r:embed="rId2"/>
          <a:stretch/>
        </p:blipFill>
        <p:spPr>
          <a:xfrm>
            <a:off x="4572000" y="2133720"/>
            <a:ext cx="3673440" cy="2232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1042920" y="486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788000" y="479736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ели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получения пресной воды из солёной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user\Рабочий стол\Новая папка\s_voda4.jpg"/>
          <p:cNvPicPr/>
          <p:nvPr/>
        </p:nvPicPr>
        <p:blipFill>
          <a:blip r:embed="rId1"/>
          <a:stretch/>
        </p:blipFill>
        <p:spPr>
          <a:xfrm>
            <a:off x="2268360" y="2205000"/>
            <a:ext cx="4797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4360" y="263664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500040" y="5716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% воды на Земле - это солёная вода океанов и морей, 3% - пресная. Но пресная вода в природе загрязнена и не пригодна для питья. Возникает  необходимость очистить воду в походных 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93075"/>
          <p:cNvPicPr/>
          <p:nvPr/>
        </p:nvPicPr>
        <p:blipFill>
          <a:blip r:embed="rId1"/>
          <a:stretch/>
        </p:blipFill>
        <p:spPr>
          <a:xfrm>
            <a:off x="539640" y="4149720"/>
            <a:ext cx="3219480" cy="21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26074"/>
          <p:cNvPicPr/>
          <p:nvPr/>
        </p:nvPicPr>
        <p:blipFill>
          <a:blip r:embed="rId2"/>
          <a:stretch/>
        </p:blipFill>
        <p:spPr>
          <a:xfrm>
            <a:off x="5148360" y="4221000"/>
            <a:ext cx="3205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620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ы: изучить методы и способы очистки воды в походных услов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98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общие методы и способы очистк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методы и способы очистки воды в походн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эксперимент по получению пресной воды из соле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6"/>
          <p:cNvSpPr/>
          <p:nvPr/>
        </p:nvSpPr>
        <p:spPr>
          <a:xfrm>
            <a:off x="3348000" y="1844640"/>
            <a:ext cx="54100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ко-химическ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067280" y="3068640"/>
            <a:ext cx="417672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и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572000" y="4292640"/>
            <a:ext cx="4176720" cy="38556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имическ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572000" y="5589720"/>
            <a:ext cx="415116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хан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50920" y="26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ротекания процессов методы очистки воды дел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Новая папка\water-drop.jpg"/>
          <p:cNvPicPr/>
          <p:nvPr/>
        </p:nvPicPr>
        <p:blipFill>
          <a:blip r:embed="rId1"/>
          <a:stretch/>
        </p:blipFill>
        <p:spPr>
          <a:xfrm>
            <a:off x="684360" y="3789360"/>
            <a:ext cx="3387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68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цели очистки методы подразделя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55640" y="1700280"/>
            <a:ext cx="792000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щие органолептические свойства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684360" y="2565360"/>
            <a:ext cx="792000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ее эпидемиологическую безопас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84360" y="3357720"/>
            <a:ext cx="79912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щие ее газовый со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684360" y="4149720"/>
            <a:ext cx="806436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извлечение трудноокисляемой орга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E:\Новая папка\main_water (2).jpg"/>
          <p:cNvPicPr/>
          <p:nvPr/>
        </p:nvPicPr>
        <p:blipFill>
          <a:blip r:embed="rId1"/>
          <a:stretch/>
        </p:blipFill>
        <p:spPr>
          <a:xfrm>
            <a:off x="1500120" y="5000760"/>
            <a:ext cx="62150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1"/>
          <p:cNvSpPr/>
          <p:nvPr/>
        </p:nvSpPr>
        <p:spPr>
          <a:xfrm>
            <a:off x="428760" y="357120"/>
            <a:ext cx="8208720" cy="528840"/>
          </a:xfrm>
          <a:prstGeom prst="roundRect">
            <a:avLst>
              <a:gd name="adj" fmla="val 50000"/>
            </a:avLst>
          </a:prstGeom>
          <a:solidFill>
            <a:srgbClr val="009d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спосо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356000" y="1557360"/>
            <a:ext cx="45370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истилля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356000" y="5229360"/>
            <a:ext cx="349272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ипя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356000" y="2924280"/>
            <a:ext cx="4442040" cy="46188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стаиван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356000" y="4149720"/>
            <a:ext cx="4154760" cy="45396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ильт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E:\Новая папка\touching_Birs.jpg"/>
          <p:cNvPicPr/>
          <p:nvPr/>
        </p:nvPicPr>
        <p:blipFill>
          <a:blip r:embed="rId1"/>
          <a:stretch/>
        </p:blipFill>
        <p:spPr>
          <a:xfrm>
            <a:off x="324000" y="2349360"/>
            <a:ext cx="3902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очистки воды с помощью химических препаратов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" name="Picture 2" descr="C:\Documents and Settings\user\Рабочий стол\Новая папка\ch-01.jpg"/>
          <p:cNvPicPr/>
          <p:nvPr/>
        </p:nvPicPr>
        <p:blipFill>
          <a:blip r:embed="rId1"/>
          <a:stretch/>
        </p:blipFill>
        <p:spPr>
          <a:xfrm>
            <a:off x="571680" y="1357200"/>
            <a:ext cx="2885760" cy="238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user\Рабочий стол\Новая папка\i7.jpg"/>
          <p:cNvPicPr/>
          <p:nvPr/>
        </p:nvPicPr>
        <p:blipFill>
          <a:blip r:embed="rId2"/>
          <a:stretch/>
        </p:blipFill>
        <p:spPr>
          <a:xfrm>
            <a:off x="642960" y="4429080"/>
            <a:ext cx="3071880" cy="15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user\Рабочий стол\Новая папка\image50061.jpg"/>
          <p:cNvPicPr/>
          <p:nvPr/>
        </p:nvPicPr>
        <p:blipFill>
          <a:blip r:embed="rId3"/>
          <a:stretch/>
        </p:blipFill>
        <p:spPr>
          <a:xfrm>
            <a:off x="4643280" y="4429080"/>
            <a:ext cx="350064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nts and Settings\user\Рабочий стол\Новая папка\hidroperit.jpg"/>
          <p:cNvPicPr/>
          <p:nvPr/>
        </p:nvPicPr>
        <p:blipFill>
          <a:blip r:embed="rId4"/>
          <a:stretch/>
        </p:blipFill>
        <p:spPr>
          <a:xfrm>
            <a:off x="6858000" y="1214280"/>
            <a:ext cx="207180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Documents and Settings\user\Рабочий стол\Новая папка\034_large.jpg"/>
          <p:cNvPicPr/>
          <p:nvPr/>
        </p:nvPicPr>
        <p:blipFill>
          <a:blip r:embed="rId5"/>
          <a:stretch/>
        </p:blipFill>
        <p:spPr>
          <a:xfrm>
            <a:off x="4429080" y="1285920"/>
            <a:ext cx="2000160" cy="2428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250920" y="3789360"/>
            <a:ext cx="36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окалиевые -квас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32360" y="37162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804000" y="371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пе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000080" y="6143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714920" y="60721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манган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user\Рабочий стол\Новая папка\химия\5b9f3761bb32.jpg"/>
          <p:cNvPicPr/>
          <p:nvPr/>
        </p:nvPicPr>
        <p:blipFill>
          <a:blip r:embed="rId1"/>
          <a:stretch/>
        </p:blipFill>
        <p:spPr>
          <a:xfrm>
            <a:off x="5292720" y="4149720"/>
            <a:ext cx="2255760" cy="169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user\Рабочий стол\Новая папка\химия\1546-3-f.jpg"/>
          <p:cNvPicPr/>
          <p:nvPr/>
        </p:nvPicPr>
        <p:blipFill>
          <a:blip r:embed="rId2"/>
          <a:stretch/>
        </p:blipFill>
        <p:spPr>
          <a:xfrm>
            <a:off x="1332000" y="1700280"/>
            <a:ext cx="2239920" cy="174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user\Рабочий стол\Новая папка\химия\35866624_41283.jpg"/>
          <p:cNvPicPr/>
          <p:nvPr/>
        </p:nvPicPr>
        <p:blipFill>
          <a:blip r:embed="rId3"/>
          <a:stretch/>
        </p:blipFill>
        <p:spPr>
          <a:xfrm>
            <a:off x="1258920" y="4076640"/>
            <a:ext cx="2028960" cy="19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user\Рабочий стол\Новая папка\химия\39425892_.jpg"/>
          <p:cNvPicPr/>
          <p:nvPr/>
        </p:nvPicPr>
        <p:blipFill>
          <a:blip r:embed="rId4"/>
          <a:stretch/>
        </p:blipFill>
        <p:spPr>
          <a:xfrm>
            <a:off x="5364000" y="1773360"/>
            <a:ext cx="2154240" cy="17240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ка воды с помощью растений – антисеп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03280" y="61657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619280" y="342900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580000" y="34290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5651640" y="6093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user\Рабочий стол\Новая папка\химия\153346_328.jpg"/>
          <p:cNvPicPr/>
          <p:nvPr/>
        </p:nvPicPr>
        <p:blipFill>
          <a:blip r:embed="rId1"/>
          <a:stretch/>
        </p:blipFill>
        <p:spPr>
          <a:xfrm>
            <a:off x="250920" y="1989000"/>
            <a:ext cx="4083120" cy="3133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50" name="Picture 3" descr="C:\Documents and Settings\user\Рабочий стол\Новая папка\химия\silicium_1.jpg"/>
          <p:cNvPicPr/>
          <p:nvPr/>
        </p:nvPicPr>
        <p:blipFill>
          <a:blip r:embed="rId2"/>
          <a:stretch/>
        </p:blipFill>
        <p:spPr>
          <a:xfrm>
            <a:off x="4788000" y="1989000"/>
            <a:ext cx="3809880" cy="321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042920" y="98100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643280" y="10526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й прозра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4-02-20T14:17:42Z</dcterms:modified>
  <cp:revision>126</cp:revision>
  <dc:subject/>
  <dc:title>Слайд 1</dc:title>
</cp:coreProperties>
</file>