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3.wmf" ContentType="image/x-wmf"/>
  <Override PartName="/ppt/media/image5.png" ContentType="image/png"/>
  <Override PartName="/ppt/media/image16.png" ContentType="image/png"/>
  <Override PartName="/ppt/media/image14.png" ContentType="image/png"/>
  <Override PartName="/ppt/media/image9.png" ContentType="image/png"/>
  <Override PartName="/ppt/media/image1.jpeg" ContentType="image/jpeg"/>
  <Override PartName="/ppt/media/image15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10.png" ContentType="image/pn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3DE54-D44E-48F6-B24D-9384A0250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F71B1-519A-4665-9517-169DEBB7F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E128D-0A9C-44DC-924A-E9726B943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714BA-FA56-4636-9AF6-022C97198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AD04F-163D-48CD-A6AF-CE66F3626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F27C8-916C-4709-8970-D6820EF70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05EEC-849C-4A0F-86AC-7EE9010B0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65B9A-9A7F-4CF2-8601-E353E3769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FB4B8-5720-49B5-BD44-AF6513D08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BB402-875D-4E6B-BA4B-59F7C5353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4905B-4547-459D-BB6E-F667ABE1A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E907D-32EF-44A5-AD24-0EF79CC3E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36204-E2C1-4B91-9114-DCF0FBAE7DB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1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5218200" cy="1122480"/>
          </a:xfrm>
          <a:prstGeom prst="rect">
            <a:avLst/>
          </a:prstGeom>
          <a:ln w="0">
            <a:noFill/>
          </a:ln>
        </p:spPr>
      </p:pic>
      <p:sp>
        <p:nvSpPr>
          <p:cNvPr id="42" name="Прямоугольник 2"/>
          <p:cNvSpPr/>
          <p:nvPr/>
        </p:nvSpPr>
        <p:spPr>
          <a:xfrm>
            <a:off x="4716360" y="4221000"/>
            <a:ext cx="45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зентацию составил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подаватель биологии, химии, эколог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дягина Ю.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Прямоугольник 4"/>
          <p:cNvSpPr/>
          <p:nvPr/>
        </p:nvSpPr>
        <p:spPr>
          <a:xfrm>
            <a:off x="3349800" y="6165720"/>
            <a:ext cx="27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омайское 202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5"/>
          <p:cNvSpPr/>
          <p:nvPr/>
        </p:nvSpPr>
        <p:spPr>
          <a:xfrm>
            <a:off x="395280" y="1757520"/>
            <a:ext cx="8785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глеводы, их классификац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юкоза, строение молекулы, химические свойства глюкоз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нение глюкозы на основе свойст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587760" y="404640"/>
            <a:ext cx="2565360" cy="76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Глюкоз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755640" y="177300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организме человека глюкоза содержится в мышцах, в крови (0.1 - 0.12 %) и служит основным источником энергии для клеток и тканей организм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Прямоугольник 1"/>
          <p:cNvSpPr/>
          <p:nvPr/>
        </p:nvSpPr>
        <p:spPr>
          <a:xfrm>
            <a:off x="3708360" y="3429000"/>
            <a:ext cx="5516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вышение концентрации глюкозы в крови приводит к усилению выработки гормона поджелудочной железы — инсулина, уменьшающего содержание этого углевода в кров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419280" y="404640"/>
            <a:ext cx="2282760" cy="69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Глюкоз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895320" y="162864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Химическая энергия питательных веществ, поступающих в организм, заключена в ковалентных связях между атомам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Прямоугольник 1"/>
          <p:cNvSpPr/>
          <p:nvPr/>
        </p:nvSpPr>
        <p:spPr>
          <a:xfrm>
            <a:off x="4140360" y="3284640"/>
            <a:ext cx="4572000" cy="27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глюкозе количество потенциальной энергии составляет 2800 кДж на 1 моль (то есть на 180 грамм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ование глюкозы в природ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7020000" y="1341000"/>
            <a:ext cx="216000" cy="14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10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ОТКРЫТЫЙ УРОК - ГЛЮКОЗА"/>
          <p:cNvPicPr/>
          <p:nvPr/>
        </p:nvPicPr>
        <p:blipFill>
          <a:blip r:embed="rId1"/>
          <a:stretch/>
        </p:blipFill>
        <p:spPr>
          <a:xfrm>
            <a:off x="2195640" y="1700280"/>
            <a:ext cx="7072200" cy="5344920"/>
          </a:xfrm>
          <a:prstGeom prst="rect">
            <a:avLst/>
          </a:prstGeom>
          <a:ln w="0">
            <a:noFill/>
          </a:ln>
        </p:spPr>
      </p:pic>
    </p:spTree>
  </p:cSld>
  <p:transition>
    <p:push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541600" y="404640"/>
            <a:ext cx="451656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Получение глюкоз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3962160" y="2852640"/>
            <a:ext cx="5182920" cy="413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2) Реакция полимериз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 Н – С        → С6Н12 О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3) Гидролиз крахмал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6Н10 О5 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+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H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→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6Н12 О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7"/>
          <p:cNvSpPr/>
          <p:nvPr/>
        </p:nvSpPr>
        <p:spPr>
          <a:xfrm flipV="1">
            <a:off x="2195640" y="3645000"/>
            <a:ext cx="36036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8"/>
          <p:cNvSpPr/>
          <p:nvPr/>
        </p:nvSpPr>
        <p:spPr>
          <a:xfrm flipV="1">
            <a:off x="2340000" y="3789360"/>
            <a:ext cx="36036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11"/>
          <p:cNvSpPr/>
          <p:nvPr/>
        </p:nvSpPr>
        <p:spPr>
          <a:xfrm>
            <a:off x="2340000" y="4365720"/>
            <a:ext cx="360360" cy="358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Рисунок 1" descr=""/>
          <p:cNvPicPr/>
          <p:nvPr/>
        </p:nvPicPr>
        <p:blipFill>
          <a:blip r:embed="rId1"/>
          <a:stretch/>
        </p:blipFill>
        <p:spPr>
          <a:xfrm>
            <a:off x="971640" y="1484280"/>
            <a:ext cx="5267160" cy="107964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ические свойст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3276720" y="1628280"/>
            <a:ext cx="6130800" cy="25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сцветное кристаллическое вещество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рошо растворимо в воде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дкое на вкус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пература плавления 146 с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050560" y="404280"/>
            <a:ext cx="56278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юкоза - альдегидоспир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8" descr="Глюкоза_21"/>
          <p:cNvPicPr/>
          <p:nvPr/>
        </p:nvPicPr>
        <p:blipFill>
          <a:blip r:embed="rId1"/>
          <a:stretch/>
        </p:blipFill>
        <p:spPr>
          <a:xfrm>
            <a:off x="176040" y="3786120"/>
            <a:ext cx="8802720" cy="2730600"/>
          </a:xfrm>
          <a:prstGeom prst="rect">
            <a:avLst/>
          </a:prstGeom>
          <a:ln w="0">
            <a:noFill/>
          </a:ln>
        </p:spPr>
      </p:pic>
      <p:sp>
        <p:nvSpPr>
          <p:cNvPr id="94" name="Прямоугольник 5"/>
          <p:cNvSpPr/>
          <p:nvPr/>
        </p:nvSpPr>
        <p:spPr>
          <a:xfrm>
            <a:off x="2173320" y="1557360"/>
            <a:ext cx="5383080" cy="247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    Н     Н    ОН   Н       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│     │     │     │     │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─ С ─ С ─ С ─ С ─ С ─ 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│     │     │     │     │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\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  ОН  ОН  Н    ОН      Н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47280" y="274680"/>
            <a:ext cx="713916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ение молекулы глюкоз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5" descr="Циклические формы глюкозы"/>
          <p:cNvPicPr/>
          <p:nvPr/>
        </p:nvPicPr>
        <p:blipFill>
          <a:blip r:embed="rId2"/>
          <a:stretch/>
        </p:blipFill>
        <p:spPr>
          <a:xfrm>
            <a:off x="324000" y="1268280"/>
            <a:ext cx="8678880" cy="40006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7" descr="j0213127"/>
          <p:cNvPicPr/>
          <p:nvPr/>
        </p:nvPicPr>
        <p:blipFill>
          <a:blip r:embed="rId3"/>
          <a:stretch/>
        </p:blipFill>
        <p:spPr>
          <a:xfrm>
            <a:off x="7662960" y="5805360"/>
            <a:ext cx="990360" cy="167004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050920" y="188640"/>
            <a:ext cx="483552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Формула глюкоз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6" descr="glukoza"/>
          <p:cNvPicPr/>
          <p:nvPr/>
        </p:nvPicPr>
        <p:blipFill>
          <a:blip r:embed="rId1"/>
          <a:stretch/>
        </p:blipFill>
        <p:spPr>
          <a:xfrm>
            <a:off x="0" y="1125360"/>
            <a:ext cx="9144000" cy="573264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79640" y="404640"/>
            <a:ext cx="555480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имические свойст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26560" y="1413000"/>
            <a:ext cx="576108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4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Реакция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“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серебряного зеркала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Н2ОН – (СНОН)4 – СОН + Ag2O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→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Н2ОН – (СНОН)4 – СООН + 2Ag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Рисунок 1" descr=""/>
          <p:cNvPicPr/>
          <p:nvPr/>
        </p:nvPicPr>
        <p:blipFill>
          <a:blip r:embed="rId1"/>
          <a:stretch/>
        </p:blipFill>
        <p:spPr>
          <a:xfrm>
            <a:off x="3924360" y="3645000"/>
            <a:ext cx="5327640" cy="21603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65440" y="115920"/>
            <a:ext cx="59148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Химические свойст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108000" y="1341000"/>
            <a:ext cx="9036000" cy="20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3) Гидрирование глюкоз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Н2ОН – (СНОН)4 – СОН + Н2 → СН2ОН – (СНОН)4 – СН2 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494000" y="549000"/>
            <a:ext cx="63720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Определение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826920" y="1821960"/>
            <a:ext cx="8229600" cy="218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глеводы- важный источник энергии для организма, участвуют в обмене вещест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ми источниками углеводов являются растительные продукт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Овал 2"/>
          <p:cNvSpPr/>
          <p:nvPr/>
        </p:nvSpPr>
        <p:spPr>
          <a:xfrm>
            <a:off x="4572000" y="3068640"/>
            <a:ext cx="6408720" cy="576108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07640" y="333000"/>
            <a:ext cx="569916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фические  свойст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826560" y="1267920"/>
            <a:ext cx="785988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а) Спиртовое брожение (под действием дрожжей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6Н12 О6 → 2 С2 Н5 ОН + 2СО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тиловый спир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1"/>
          <p:cNvSpPr/>
          <p:nvPr/>
        </p:nvSpPr>
        <p:spPr>
          <a:xfrm>
            <a:off x="4067280" y="3716280"/>
            <a:ext cx="5257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б) Молочнокислое брожение (под действием молочнокислых бактерий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6Н12О6 → 2СН3-СНОН –СО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лочная кисло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08000" y="333000"/>
            <a:ext cx="5832720" cy="83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фические  свойст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142640" y="1628640"/>
            <a:ext cx="7472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в) Маслянокислое брож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6 Н12 О6 → С3 Н7 СООН + 2 Н2↑ +2 СО2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асляная кисло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3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Схема 1" descr=""/>
          <p:cNvPicPr/>
          <p:nvPr/>
        </p:nvPicPr>
        <p:blipFill>
          <a:blip r:embed="rId1"/>
          <a:stretch/>
        </p:blipFill>
        <p:spPr>
          <a:xfrm>
            <a:off x="1328760" y="1152360"/>
            <a:ext cx="9144000" cy="531504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71640" y="401760"/>
            <a:ext cx="7859520" cy="63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Биологическое значение глюкоз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Глюкоз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042920" y="1417680"/>
            <a:ext cx="7920000" cy="35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люкоза – самый важный из всех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оносахарид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Является структурной единицей для построения большинства пищевых ди- и полисахарид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 пищей к нам поступают моно-, ди- и полисахарид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оносахариды всасываются в кишечни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Глюкоз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3"/>
          <p:cNvSpPr/>
          <p:nvPr/>
        </p:nvSpPr>
        <p:spPr>
          <a:xfrm>
            <a:off x="1187280" y="1452600"/>
            <a:ext cx="8229600" cy="284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лисахариды в процессе движения по ЖКТ расщепляются на отдельные молекулы моносахарид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сасываются в кровь в тонком кишечник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ступают в печен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бщий кровоток транспортируется в другие ткани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Глюкоз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26560" y="1557360"/>
            <a:ext cx="813780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нцентрация глюкозы в крови в норм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,33-5,55 мкмоль/л, что соответствуе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80-100мг в 100 мл кров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ранспорт глюкозы в клетки регулируется гормоном поджелудочной железы – инсулино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Прямоугольник 1"/>
          <p:cNvSpPr/>
          <p:nvPr/>
        </p:nvSpPr>
        <p:spPr>
          <a:xfrm>
            <a:off x="4211640" y="3357720"/>
            <a:ext cx="4572000" cy="31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ез присутствия инсулина глюкоза не поступает в клетку и не будет использована в качестве топлив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люкоза окисляется до углекислого газа и вод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ыделяется энергия, используемая организмом для обеспечения жизнедеятель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Применение глюкоз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39640" y="1267920"/>
            <a:ext cx="8229600" cy="25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пищевой промышленности, как заменитель сахарозы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кондитерской промышленности при изготовлении мягких конфет, десертных сортов шоколада, тортов и различных диетических изделий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хлебопечении глюкоза улучшает условия брожения, придает пористость и хороший вкус изделиям, замедляет очерствение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Прямоугольник 2"/>
          <p:cNvSpPr/>
          <p:nvPr/>
        </p:nvSpPr>
        <p:spPr>
          <a:xfrm>
            <a:off x="4197240" y="3500280"/>
            <a:ext cx="4572000" cy="280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производстве мороженого она занижает точку замерзания, увеличивает его твердость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и производстве фруктовых консервов, соков, ликеров, вин, безалкогольных напитков, так как глюкоза не маскирует аромата и вкуса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Применение глюкоз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600200"/>
            <a:ext cx="8229600" cy="19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молочной промышленности при изготовлении молочных продуктов и продуктов детского питания рекомендуется использовать глюкозу в определенной пропорции с сахарозой для придания этим продуктам более высокой питательной ценности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Прямоугольник 1"/>
          <p:cNvSpPr/>
          <p:nvPr/>
        </p:nvSpPr>
        <p:spPr>
          <a:xfrm>
            <a:off x="4284720" y="3683160"/>
            <a:ext cx="4572000" cy="156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ветеринарии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птицеводстве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фармацевтической промышлен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02920" y="404640"/>
            <a:ext cx="663588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Применение глюкоз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599840"/>
            <a:ext cx="8229600" cy="13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ристаллическую глюкозу используют для питания больных, травмированных, выздоравливающих, а также людей, работающих с большими перегрузкам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Прямоугольник 1"/>
          <p:cNvSpPr/>
          <p:nvPr/>
        </p:nvSpPr>
        <p:spPr>
          <a:xfrm>
            <a:off x="4127400" y="3213000"/>
            <a:ext cx="457200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едицинскую глюкозу применяют в антибиотиках и других лекарственных препаратах, в том числе для внутривенных вливаний, и для получения витамина С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692360" y="404640"/>
            <a:ext cx="613080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Применение глюкоз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850920" y="1483920"/>
            <a:ext cx="5195880" cy="334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ехническая глюкоза находит применение в качеств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осстановителя в кожевенном производстве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текстильном - при производстве вискозы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качестве питательной среды при выращивании различных видов микроорганизмов в медицинской и микробиологической промышлен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54000" y="28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глеводы.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орическая справк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826560" y="1628640"/>
            <a:ext cx="741708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глеводы используются с глубокой древности – самым первым углеводом (точнее смесью углеводов), с которым познакомился человек, был ме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Овал 1"/>
          <p:cNvSpPr/>
          <p:nvPr/>
        </p:nvSpPr>
        <p:spPr>
          <a:xfrm>
            <a:off x="4356000" y="3068640"/>
            <a:ext cx="5977080" cy="518472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98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898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38400" y="1093680"/>
            <a:ext cx="5694120" cy="59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a94ff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Классификация углевод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Схема 1" descr=""/>
          <p:cNvPicPr/>
          <p:nvPr/>
        </p:nvPicPr>
        <p:blipFill>
          <a:blip r:embed="rId1"/>
          <a:stretch/>
        </p:blipFill>
        <p:spPr>
          <a:xfrm>
            <a:off x="2676600" y="907920"/>
            <a:ext cx="6912000" cy="5370480"/>
          </a:xfrm>
          <a:prstGeom prst="rect">
            <a:avLst/>
          </a:prstGeom>
          <a:ln w="0">
            <a:noFill/>
          </a:ln>
        </p:spPr>
      </p:pic>
      <p:sp>
        <p:nvSpPr>
          <p:cNvPr id="54" name="TextBox 11"/>
          <p:cNvSpPr/>
          <p:nvPr/>
        </p:nvSpPr>
        <p:spPr>
          <a:xfrm>
            <a:off x="5715000" y="2786040"/>
            <a:ext cx="26431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0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55640" y="18900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Классификация углевод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723960" y="4005360"/>
            <a:ext cx="8229600" cy="171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1"/>
          <p:cNvSpPr/>
          <p:nvPr/>
        </p:nvSpPr>
        <p:spPr>
          <a:xfrm>
            <a:off x="758880" y="1052640"/>
            <a:ext cx="7908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Моносахариды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—углеводы, которые не гидролизуются. В зависимости от числа атомов углерода подразделяются на триозы, тетрозы, пентозы, гексоз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2"/>
          <p:cNvSpPr/>
          <p:nvPr/>
        </p:nvSpPr>
        <p:spPr>
          <a:xfrm>
            <a:off x="2411280" y="2563920"/>
            <a:ext cx="732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Дисахариды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углеводы, которые гидролизуются с образованием двух молекул моносахарид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оугольник 3"/>
          <p:cNvSpPr/>
          <p:nvPr/>
        </p:nvSpPr>
        <p:spPr>
          <a:xfrm>
            <a:off x="3851280" y="4151160"/>
            <a:ext cx="5527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олисахариды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— высокомолекулярные соединения — углеводы, которые гидролизуются с образованием множества молекул моносахарид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0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22360" y="18900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Углевод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3708000" y="1196640"/>
            <a:ext cx="554364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зывают сахаристыми веществами или сахарам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огут быть безвкусными, сладкими и горьким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Если сладость раствора сахарозы приня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 100 %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о сладость фруктозы – 173 %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люкозы – 81 %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альтозы и галактозы – 32 %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лактозы – 16 %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1"/>
          <p:cNvSpPr/>
          <p:nvPr/>
        </p:nvSpPr>
        <p:spPr>
          <a:xfrm>
            <a:off x="250920" y="333360"/>
            <a:ext cx="3348000" cy="324000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55640" y="168120"/>
            <a:ext cx="3855960" cy="6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(Н2О)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684360" y="1628640"/>
            <a:ext cx="8229600" cy="168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Углеводы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– органические соединения, состоящие из углерода, водорода и кислорода, причем водород и кислород входят  в соотношении (2:1) как в воде, отсюда и назва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оугольник 1"/>
          <p:cNvSpPr/>
          <p:nvPr/>
        </p:nvSpPr>
        <p:spPr>
          <a:xfrm>
            <a:off x="4140360" y="3716280"/>
            <a:ext cx="5111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основе этой аналогии русский химик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К.Шмидт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1844 г.  предложил термин углевода  (углерод и вода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общая формула углевод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n(Н2О)m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684360" y="141300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особом виде глюкоза содержится почти во всех органах зеленых растени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собенно ее много в виноградном соке, поэтому глюкозу иногда называют виноградным сахаро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ед в основном состоит из смеси глюкозы с фруктоз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WordArt 3"/>
          <p:cNvSpPr txBox="1"/>
          <p:nvPr/>
        </p:nvSpPr>
        <p:spPr>
          <a:xfrm>
            <a:off x="6011280" y="-2261520"/>
            <a:ext cx="2376360" cy="129708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68" name="TextBox 1"/>
          <p:cNvSpPr/>
          <p:nvPr/>
        </p:nvSpPr>
        <p:spPr>
          <a:xfrm>
            <a:off x="2340000" y="361800"/>
            <a:ext cx="55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хождение в природ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Овал 2"/>
          <p:cNvSpPr/>
          <p:nvPr/>
        </p:nvSpPr>
        <p:spPr>
          <a:xfrm>
            <a:off x="5508720" y="3716280"/>
            <a:ext cx="4424400" cy="424980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916360" y="404280"/>
            <a:ext cx="3921120" cy="55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Глюкоза</a:t>
            </a:r>
            <a:r>
              <a:rPr b="1" lang="ru-RU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140000" y="3560400"/>
            <a:ext cx="50749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организме человека глюкоза содержится в мышцах, в крови и в небольших количествах во всех клетк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оугольник 2"/>
          <p:cNvSpPr/>
          <p:nvPr/>
        </p:nvSpPr>
        <p:spPr>
          <a:xfrm>
            <a:off x="826920" y="1441440"/>
            <a:ext cx="849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ин из ключевых продуктов обмена веществ, обеспечивающих живые клетки энергией (в процессах дыхания, брожения, гликолиза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оугольник 3"/>
          <p:cNvSpPr/>
          <p:nvPr/>
        </p:nvSpPr>
        <p:spPr>
          <a:xfrm>
            <a:off x="1116000" y="2803680"/>
            <a:ext cx="84247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лужит исходным продуктом биосинтеза многих веществ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оугольник 4"/>
          <p:cNvSpPr/>
          <p:nvPr/>
        </p:nvSpPr>
        <p:spPr>
          <a:xfrm>
            <a:off x="4284720" y="5084640"/>
            <a:ext cx="504036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 человека и животных постоянный уровень глюкоза в крови поддерживается путем синтеза и распада гликоген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4T20:40:08Z</dcterms:created>
  <dc:creator>Igor</dc:creator>
  <dc:description/>
  <dc:language>en-US</dc:language>
  <cp:lastModifiedBy>Пк</cp:lastModifiedBy>
  <dcterms:modified xsi:type="dcterms:W3CDTF">2023-04-10T20:08:00Z</dcterms:modified>
  <cp:revision>82</cp:revision>
  <dc:subject/>
  <dc:title>Углеводы –</dc:title>
</cp:coreProperties>
</file>