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wmf" ContentType="image/x-wmf"/>
  <Override PartName="/ppt/media/image5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C1D4-7698-41C2-8F17-7E6C71E0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651-B051-4640-9621-61E81BC8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1D0E-D923-451B-B931-42087A10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9C1-ACD0-4ABE-821A-9D41DF1E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DB3-58A2-41F8-9F0A-0553948A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56E-647C-4F88-980E-3682AA0A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477-4423-4242-8447-63AD68CD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5B42-9CF4-4F5C-A504-3F38F60B1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51A-6538-4D84-95B2-7F81CA38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4CD-1D9B-491A-80D1-462125FC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C68B-C22A-47B9-8C9B-1529664D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BE58-2E86-4AFF-8114-AB2AE154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DBAA-E395-47A5-A8AA-2A11195F26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5218200" cy="112248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2"/>
          <p:cNvSpPr/>
          <p:nvPr/>
        </p:nvSpPr>
        <p:spPr>
          <a:xfrm>
            <a:off x="4716360" y="4221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соста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биологии, химии, эколо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ягина Ю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3349800" y="6165720"/>
            <a:ext cx="27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майское 2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395280" y="175752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воды, их классифик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, строение молекулы, химические свойства глюкоз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глюкозы на основе свой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87760" y="404640"/>
            <a:ext cx="256536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юко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5640" y="1773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рганизме человека глюкоза содержится в мышцах, в крови (0.1 - 0.12 %) и служит основным источником энергии для клеток и тканей организ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"/>
          <p:cNvSpPr/>
          <p:nvPr/>
        </p:nvSpPr>
        <p:spPr>
          <a:xfrm>
            <a:off x="3708360" y="3429000"/>
            <a:ext cx="551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ышение концентрации глюкозы в крови приводит к усилению выработки гормона поджелудочной железы — инсулина, уменьшающего содержание этого углевода в кр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19280" y="404640"/>
            <a:ext cx="2282760" cy="69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юкоз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95320" y="1628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имическая энергия питательных веществ, поступающих в организм, заключена в ковалентных связях между атом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1"/>
          <p:cNvSpPr/>
          <p:nvPr/>
        </p:nvSpPr>
        <p:spPr>
          <a:xfrm>
            <a:off x="4140360" y="3284640"/>
            <a:ext cx="457200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глюкозе количество потенциальной энергии составляет 2800 кДж на 1 моль (то есть на 180 грам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глюкозы в прир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020000" y="1341000"/>
            <a:ext cx="21600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ОТКРЫТЫЙ УРОК - ГЛЮКОЗА"/>
          <p:cNvPicPr/>
          <p:nvPr/>
        </p:nvPicPr>
        <p:blipFill>
          <a:blip r:embed="rId1"/>
          <a:stretch/>
        </p:blipFill>
        <p:spPr>
          <a:xfrm>
            <a:off x="2195640" y="1700280"/>
            <a:ext cx="7072200" cy="53449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41600" y="404640"/>
            <a:ext cx="45165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лучение глюк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62160" y="2852640"/>
            <a:ext cx="518292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) Реакция полимер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Н – С        → С6Н12 О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) Гидролиз крахм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6Н10 О5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6Н12 О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2195640" y="364500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2340000" y="3789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2340000" y="4365720"/>
            <a:ext cx="36036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5267160" cy="1079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76720" y="1628280"/>
            <a:ext cx="61308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цветное кристаллическое вещество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растворимо в вод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дкое на вку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плавления 146 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560" y="404280"/>
            <a:ext cx="5627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юкоза - альдегидоспи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Глюкоза_21"/>
          <p:cNvPicPr/>
          <p:nvPr/>
        </p:nvPicPr>
        <p:blipFill>
          <a:blip r:embed="rId1"/>
          <a:stretch/>
        </p:blipFill>
        <p:spPr>
          <a:xfrm>
            <a:off x="176040" y="3786120"/>
            <a:ext cx="8802720" cy="27306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2173320" y="1557360"/>
            <a:ext cx="53830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   Н     Н    ОН   Н       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│     │     │     │     │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─ С ─ С ─ С ─ С ─ С ─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│     │     │     │     │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 ОН  ОН  Н    ОН      Н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7280" y="274680"/>
            <a:ext cx="7139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ение молекулы глюк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Циклические формы глюкозы"/>
          <p:cNvPicPr/>
          <p:nvPr/>
        </p:nvPicPr>
        <p:blipFill>
          <a:blip r:embed="rId2"/>
          <a:stretch/>
        </p:blipFill>
        <p:spPr>
          <a:xfrm>
            <a:off x="324000" y="1268280"/>
            <a:ext cx="8678880" cy="4000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j0213127"/>
          <p:cNvPicPr/>
          <p:nvPr/>
        </p:nvPicPr>
        <p:blipFill>
          <a:blip r:embed="rId3"/>
          <a:stretch/>
        </p:blipFill>
        <p:spPr>
          <a:xfrm>
            <a:off x="7662960" y="5805360"/>
            <a:ext cx="990360" cy="16700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0920" y="188640"/>
            <a:ext cx="483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ормула глюк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glukoza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640" y="404640"/>
            <a:ext cx="5554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мические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26560" y="1413000"/>
            <a:ext cx="5761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акц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еребряного зеркал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2ОН – (СНОН)4 – СОН + Ag2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2ОН – (СНОН)4 – СООН + 2Ag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3924360" y="3645000"/>
            <a:ext cx="5327640" cy="216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65440" y="115920"/>
            <a:ext cx="5914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имические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8000" y="1341000"/>
            <a:ext cx="9036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3) Гидрирование глюк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2ОН – (СНОН)4 – СОН + Н2 → СН2ОН – (СНОН)4 – СН2 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94000" y="549000"/>
            <a:ext cx="6372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920" y="182196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воды- важный источник энергии для организма, участвуют в обмене веще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 источниками углеводов являются растительные продук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2"/>
          <p:cNvSpPr/>
          <p:nvPr/>
        </p:nvSpPr>
        <p:spPr>
          <a:xfrm>
            <a:off x="4572000" y="3068640"/>
            <a:ext cx="6408720" cy="57610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7640" y="333000"/>
            <a:ext cx="5699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26560" y="1267920"/>
            <a:ext cx="785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) Спиртовое брожение (под действием дрожж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6Н12 О6 → 2 С2 Н5 ОН + 2СО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иловый спи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"/>
          <p:cNvSpPr/>
          <p:nvPr/>
        </p:nvSpPr>
        <p:spPr>
          <a:xfrm>
            <a:off x="4067280" y="37162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б) Молочнокислое брожение (под действием молочнокислых бактер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6Н12О6 → 2СН3-СНОН –СО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ч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832720" cy="83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 свой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42640" y="162864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) Маслянокислое бр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6 Н12 О6 → С3 Н7 СООН + 2 Н2↑ +2 СО2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ля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хема 1" descr=""/>
          <p:cNvPicPr/>
          <p:nvPr/>
        </p:nvPicPr>
        <p:blipFill>
          <a:blip r:embed="rId1"/>
          <a:stretch/>
        </p:blipFill>
        <p:spPr>
          <a:xfrm>
            <a:off x="1328760" y="1152360"/>
            <a:ext cx="9144000" cy="53150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401760"/>
            <a:ext cx="785952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иологическое значение глюк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юк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42920" y="1417680"/>
            <a:ext cx="7920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юкоза – самый важный из все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сахари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вляется структурной единицей для построения большинства пищевых ди- и полисахари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ищей к нам поступают моно-, ди- и полисахар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сахариды всасываются в кишечн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юк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187280" y="1452600"/>
            <a:ext cx="8229600" cy="28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исахариды в процессе движения по ЖКТ расщепляются на отдельные молекулы моносахари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асываются в кровь в тонком кишечни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упают в пече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ий кровоток транспортируется в другие ткан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юк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26560" y="1557360"/>
            <a:ext cx="8137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центрация глюкозы в крови в нор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,33-5,55 мкмоль/л, что соответству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0-100мг в 100 мл кров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анспорт глюкозы в клетки регулируется гормоном поджелудочной железы – инсулин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"/>
          <p:cNvSpPr/>
          <p:nvPr/>
        </p:nvSpPr>
        <p:spPr>
          <a:xfrm>
            <a:off x="4211640" y="3357720"/>
            <a:ext cx="4572000" cy="31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 присутствия инсулина глюкоза не поступает в клетку и не будет использована в качестве топли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юкоза окисляется до углекислого газа и в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деляется энергия, используемая организмом для обеспечения жизне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менение глюк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9640" y="1267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ищевой промышленности, как заменитель сахароз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ондитерской промышленности при изготовлении мягких конфет, десертных сортов шоколада, тортов и различных диетических издел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хлебопечении глюкоза улучшает условия брожения, придает пористость и хороший вкус изделиям, замедляет очерствени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4197240" y="3500280"/>
            <a:ext cx="4572000" cy="28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роизводстве мороженого она занижает точку замерзания, увеличивает его твердос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роизводстве фруктовых консервов, соков, ликеров, вин, безалкогольных напитков, так как глюкоза не маскирует аромата и вкус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менение глюк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молочной промышленности при изготовлении молочных продуктов и продуктов детского питания рекомендуется использовать глюкозу в определенной пропорции с сахарозой для придания этим продуктам более высокой питательной цен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"/>
          <p:cNvSpPr/>
          <p:nvPr/>
        </p:nvSpPr>
        <p:spPr>
          <a:xfrm>
            <a:off x="4284720" y="3683160"/>
            <a:ext cx="457200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етеринар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тицеводст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фармацевтической промыш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02920" y="404640"/>
            <a:ext cx="6635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менение глюк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сталлическую глюкозу используют для питания больных, травмированных, выздоравливающих, а также людей, работающих с большими перегруз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"/>
          <p:cNvSpPr/>
          <p:nvPr/>
        </p:nvSpPr>
        <p:spPr>
          <a:xfrm>
            <a:off x="4127400" y="3213000"/>
            <a:ext cx="4572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ицинскую глюкозу применяют в антибиотиках и других лекарственных препаратах, в том числе для внутривенных вливаний, и для получения витамина 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2360" y="404640"/>
            <a:ext cx="61308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менение глюкоз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50920" y="1483920"/>
            <a:ext cx="519588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ая глюкоза находит применение в качест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становителя в кожевенном производств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текстильном - при производстве вискоз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качестве питательной среды при выращивании различных видов микроорганизмов в медицинской и микробиологической промыш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4000" y="2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еводы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ая справ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26560" y="1628640"/>
            <a:ext cx="74170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еводы используются с глубокой древности – самым первым углеводом (точнее смесью углеводов), с которым познакомился человек, был м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"/>
          <p:cNvSpPr/>
          <p:nvPr/>
        </p:nvSpPr>
        <p:spPr>
          <a:xfrm>
            <a:off x="4356000" y="3068640"/>
            <a:ext cx="5977080" cy="5184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38400" y="1093680"/>
            <a:ext cx="569412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94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лассификация углев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хема 1" descr=""/>
          <p:cNvPicPr/>
          <p:nvPr/>
        </p:nvPicPr>
        <p:blipFill>
          <a:blip r:embed="rId1"/>
          <a:stretch/>
        </p:blipFill>
        <p:spPr>
          <a:xfrm>
            <a:off x="2676600" y="907920"/>
            <a:ext cx="6912000" cy="53704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1"/>
          <p:cNvSpPr/>
          <p:nvPr/>
        </p:nvSpPr>
        <p:spPr>
          <a:xfrm>
            <a:off x="5715000" y="2786040"/>
            <a:ext cx="2643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лассификация углев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23960" y="400536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758880" y="1052640"/>
            <a:ext cx="790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носахарид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углеводы, которые не гидролизуются. В зависимости от числа атомов углерода подразделяются на триозы, тетрозы, пентозы, гексоз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2411280" y="2563920"/>
            <a:ext cx="732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ахарид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глеводы, которые гидролизуются с образованием двух молекул моносахари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3851280" y="4151160"/>
            <a:ext cx="552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исахарид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высокомолекулярные соединения — углеводы, которые гидролизуются с образованием множества молекул моносахари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2360" y="189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гле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08000" y="1196640"/>
            <a:ext cx="55436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ют сахаристыми веществами или сахара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ут быть безвкусными, сладкими и горьки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сладость раствора сахарозы прин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100 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сладость фруктозы – 173 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юкозы – 81 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ьтозы и галактозы – 32 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ктозы – 16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1"/>
          <p:cNvSpPr/>
          <p:nvPr/>
        </p:nvSpPr>
        <p:spPr>
          <a:xfrm>
            <a:off x="250920" y="333360"/>
            <a:ext cx="3348000" cy="3240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55640" y="168120"/>
            <a:ext cx="385596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Н2О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4360" y="162864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глевод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органические соединения, состоящие из углерода, водорода и кислорода, причем водород и кислород входят  в соотношении (2:1) как в воде, отсюда и наз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4140360" y="3716280"/>
            <a:ext cx="51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этой аналогии русский химик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.Шмид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1844 г.  предложил термин углевода  (углерод и вода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бщая формула углево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n(Н2О)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4360" y="1413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собом виде глюкоза содержится почти во всех органах зеленых раст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енно ее много в виноградном соке, поэтому глюкозу иногда называют виноградным саха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д в основном состоит из смеси глюкозы с фруктоз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3"/>
          <p:cNvSpPr txBox="1"/>
          <p:nvPr/>
        </p:nvSpPr>
        <p:spPr>
          <a:xfrm>
            <a:off x="6011280" y="-2261520"/>
            <a:ext cx="2376360" cy="1297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2340000" y="36180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ждение в прир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2"/>
          <p:cNvSpPr/>
          <p:nvPr/>
        </p:nvSpPr>
        <p:spPr>
          <a:xfrm>
            <a:off x="5508720" y="3716280"/>
            <a:ext cx="4424400" cy="4249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16360" y="404280"/>
            <a:ext cx="392112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юкоза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140000" y="3560400"/>
            <a:ext cx="5074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рганизме человека глюкоза содержится в мышцах, в крови и в небольших количествах во всех клет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826920" y="1441440"/>
            <a:ext cx="849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ключевых продуктов обмена веществ, обеспечивающих живые клетки энергией (в процессах дыхания, брожения, гликолиза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1116000" y="2803680"/>
            <a:ext cx="8424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ужит исходным продуктом биосинтеза многих вещест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4284720" y="5084640"/>
            <a:ext cx="50403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человека и животных постоянный уровень глюкоза в крови поддерживается путем синтеза и распада гликоге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20:40:08Z</dcterms:created>
  <dc:creator>Igor</dc:creator>
  <dc:description/>
  <dc:language>en-US</dc:language>
  <cp:lastModifiedBy>Пк</cp:lastModifiedBy>
  <dcterms:modified xsi:type="dcterms:W3CDTF">2023-04-10T20:08:00Z</dcterms:modified>
  <cp:revision>82</cp:revision>
  <dc:subject/>
  <dc:title>Углеводы –</dc:title>
</cp:coreProperties>
</file>