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12415-4718-479F-867D-C8162F2FA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F1E60-8023-4690-A01B-A34ABA5A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DE8DC-5FAD-461C-B2E4-C59CDB1C8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09E38-E14F-4D34-95C7-C1C06F83A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3C62-B6DE-44B9-A03E-197EC4C61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5EC84-A9A7-4747-AFC3-118A3AF3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2586-DE75-4652-A20E-5BD34F4C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9650-E55B-46E9-AA2D-40289506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D41E-31CA-4C2E-8A08-6917C046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C56AA-69E9-4B29-9FA3-68768A12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8873-CE39-4EF8-A53C-4BB2559E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2FE67-D658-45C4-9033-BF51D7F2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85E0F-8BB5-4B86-86B4-791B9DA1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42C5D-33FB-4271-8780-75738845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7C107-4C78-4FD0-B67C-D91E0165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1F9D-BC3E-468D-8511-6F5F97C69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22C8-A5C2-44A6-849B-532EB2ACB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2BF14-389C-4C7C-AB26-77120FA6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A1590-ABD2-4C3B-B57B-8C07D9C8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C18B4-3B8D-4D2B-8A33-DE21744C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1001E-E8D2-46A4-B057-9D6C914B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40A5B-CF5A-44B8-A1D5-E7EE5920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F20D3-4AA8-47F0-A367-223E3811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B0D5C-FC13-4A1D-866E-27F2A7BA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1D09-7069-450F-A419-1AE2915AB8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c427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c427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93c66"/>
                  </a:gs>
                  <a:gs pos="100000">
                    <a:srgbClr val="1f49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1f4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b406e"/>
                  </a:gs>
                  <a:gs pos="100000">
                    <a:srgbClr val="1f497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1a3e6a"/>
                </a:gs>
                <a:gs pos="100000">
                  <a:srgbClr val="1f49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1f497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eece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c427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c427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93c66"/>
                  </a:gs>
                  <a:gs pos="100000">
                    <a:srgbClr val="1f49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1f4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b406e"/>
                  </a:gs>
                  <a:gs pos="100000">
                    <a:srgbClr val="1f497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1a3e6a"/>
                </a:gs>
                <a:gs pos="100000">
                  <a:srgbClr val="1f49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1f497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eece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D706-D77D-42C5-8773-36367910605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23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42976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1" lang="en-US" sz="60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428560" y="4214520"/>
            <a:ext cx="607212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Рисунок 6" descr="0402dvlcsnap2010020318h57m29s79.pn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Svoya_igra - Opening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6640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642960" y="1500120"/>
            <a:ext cx="78580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3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е ждут, сидя у мор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погода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428760" y="17859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5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а часть предмета бывает золот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9cde5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середина</a:t>
            </a:r>
            <a:r>
              <a:rPr b="0" lang="ru-RU" sz="2800" spc="-1" strike="noStrike">
                <a:solidFill>
                  <a:srgbClr val="b9cde5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785880" y="1714680"/>
            <a:ext cx="7572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7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ую еду иногда просит обувь у ее незадачливого владельца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каш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3. </a:t>
            </a:r>
            <a:br>
              <a:rPr sz="3200"/>
            </a:br>
            <a:endParaRPr b="1" lang="en-US" sz="32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642960" y="150012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Удача» мужского ро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успе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3. </a:t>
            </a:r>
            <a:br>
              <a:rPr sz="3200"/>
            </a:br>
            <a:endParaRPr b="1" lang="en-US" sz="32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642960" y="765000"/>
            <a:ext cx="75722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 баллов.</a:t>
            </a:r>
            <a:r>
              <a:rPr b="0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Картина» мужского ро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рисун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3. </a:t>
            </a:r>
            <a:br>
              <a:rPr sz="3200"/>
            </a:br>
            <a:endParaRPr b="1" lang="en-US" sz="32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45" name="TextBox 2"/>
          <p:cNvSpPr/>
          <p:nvPr/>
        </p:nvSpPr>
        <p:spPr>
          <a:xfrm>
            <a:off x="571680" y="1357200"/>
            <a:ext cx="800100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3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Окно» мужского ро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иллюминатор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3. </a:t>
            </a:r>
            <a:br>
              <a:rPr sz="3200"/>
            </a:br>
            <a:endParaRPr b="1" lang="en-US" sz="32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48" name="TextBox 2"/>
          <p:cNvSpPr/>
          <p:nvPr/>
        </p:nvSpPr>
        <p:spPr>
          <a:xfrm>
            <a:off x="826920" y="1225440"/>
            <a:ext cx="764388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5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Кредит» женского ро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ссуда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Управляющая кнопка: назад 3"/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3. </a:t>
            </a:r>
            <a:br>
              <a:rPr sz="3200"/>
            </a:br>
            <a:endParaRPr b="1" lang="en-US" sz="32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785880" y="1428840"/>
            <a:ext cx="750096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7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Кокетство» мужского ро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флир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Управляющая кнопка: назад 3"/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179280" y="1197000"/>
            <a:ext cx="8785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0 балл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будет по-французски слово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«гриб».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им словом мы называем самые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"магазинные"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риб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шампиньон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Управляющая кнопка: назад 3"/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998640" y="1052640"/>
            <a:ext cx="742932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 балл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по-французски звучит 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«круг»,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для нас это 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этап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го-либо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соревнования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ли этап в выбор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 ту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Управляющая кнопка: назад 3"/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0000"/>
              </a:solidFill>
              <a:latin typeface="Garamond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14240" y="1397160"/>
          <a:ext cx="7429680" cy="3422520"/>
        </p:xfrm>
        <a:graphic>
          <a:graphicData uri="http://schemas.openxmlformats.org/drawingml/2006/table">
            <a:tbl>
              <a:tblPr/>
              <a:tblGrid>
                <a:gridCol w="3279960"/>
                <a:gridCol w="869760"/>
                <a:gridCol w="871560"/>
                <a:gridCol w="782640"/>
                <a:gridCol w="784440"/>
                <a:gridCol w="841320"/>
              </a:tblGrid>
              <a:tr h="654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е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5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опрос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3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. И это все о чём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" action="ppaction://hlinksldjump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2" action="ppaction://hlinksldjump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3" action="ppaction://hlinksldjump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4" action="ppaction://hlinksldjump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5" action="ppaction://hlinksldjump"/>
                        </a:rPr>
                        <a:t>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. Постижение народной мудр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6" action="ppaction://hlinksldjump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7" action="ppaction://hlinksldjump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8" action="ppaction://hlinksldjump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9" action="ppaction://hlinksldjump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0" action="ppaction://hlinksldjump"/>
                        </a:rPr>
                        <a:t>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Разнородные синони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1" action="ppaction://hlinksldjump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2" action="ppaction://hlinksldjump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3" action="ppaction://hlinksldjump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4" action="ppaction://hlinksldjump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5" action="ppaction://hlinksldjump"/>
                        </a:rPr>
                        <a:t>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Говорим по французс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6" action="ppaction://hlinksldjump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7" action="ppaction://hlinksldjump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8" action="ppaction://hlinksldjump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9" action="ppaction://hlinksldjump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20" action="ppaction://hlinksldjump"/>
                        </a:rPr>
                        <a:t>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06" name="Управляющая кнопка: далее 3">
            <a:hlinkClick r:id="rId21" action="ppaction://hlinksldjump"/>
          </p:cNvPr>
          <p:cNvSpPr/>
          <p:nvPr/>
        </p:nvSpPr>
        <p:spPr>
          <a:xfrm>
            <a:off x="642960" y="6286680"/>
            <a:ext cx="357120" cy="28548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7014" h="21600">
                <a:moveTo>
                  <a:pt x="0" y="0"/>
                </a:moveTo>
                <a:lnTo>
                  <a:pt x="27014" y="0"/>
                </a:lnTo>
                <a:lnTo>
                  <a:pt x="27014" y="21600"/>
                </a:lnTo>
                <a:lnTo>
                  <a:pt x="0" y="21600"/>
                </a:lnTo>
                <a:close/>
              </a:path>
              <a:path fill="lightenLess" w="27014" h="21600">
                <a:moveTo>
                  <a:pt x="0" y="0"/>
                </a:moveTo>
                <a:lnTo>
                  <a:pt x="27014" y="0"/>
                </a:lnTo>
                <a:lnTo>
                  <a:pt x="25614" y="1400"/>
                </a:lnTo>
                <a:lnTo>
                  <a:pt x="1400" y="1400"/>
                </a:lnTo>
                <a:close/>
              </a:path>
              <a:path fill="darken" w="27014" h="21600">
                <a:moveTo>
                  <a:pt x="27014" y="0"/>
                </a:moveTo>
                <a:lnTo>
                  <a:pt x="27014" y="21600"/>
                </a:lnTo>
                <a:lnTo>
                  <a:pt x="25614" y="20200"/>
                </a:lnTo>
                <a:lnTo>
                  <a:pt x="25614" y="1400"/>
                </a:lnTo>
                <a:close/>
              </a:path>
              <a:path fill="darkenLess" w="27014" h="21600">
                <a:moveTo>
                  <a:pt x="27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14" y="20200"/>
                </a:lnTo>
                <a:close/>
              </a:path>
              <a:path fill="lighten" w="27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14" h="21600">
                <a:moveTo>
                  <a:pt x="6500" y="3794"/>
                </a:moveTo>
                <a:lnTo>
                  <a:pt x="20513" y="10800"/>
                </a:lnTo>
                <a:lnTo>
                  <a:pt x="650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Begin Round.mp3" descr=""/>
          <p:cNvPicPr/>
          <p:nvPr/>
        </p:nvPicPr>
        <p:blipFill>
          <a:blip r:embed="rId22"/>
          <a:stretch/>
        </p:blipFill>
        <p:spPr>
          <a:xfrm>
            <a:off x="900000" y="544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6179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395280" y="1052640"/>
            <a:ext cx="8353440" cy="35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3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ажите по-французски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«никто»,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это слово стало именем знаменитого капитана из романа Жюля Верн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5b3d7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нем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Управляющая кнопка: назад 3"/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63" name="TextBox 2"/>
          <p:cNvSpPr/>
          <p:nvPr/>
        </p:nvSpPr>
        <p:spPr>
          <a:xfrm>
            <a:off x="468360" y="1125360"/>
            <a:ext cx="849636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5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ажите по-французски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«столичный»,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для нас это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одземны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ид транспорта в больших город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метрополитен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Управляющая кнопка: назад 3"/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66" name="TextBox 2"/>
          <p:cNvSpPr/>
          <p:nvPr/>
        </p:nvSpPr>
        <p:spPr>
          <a:xfrm>
            <a:off x="457200" y="1000080"/>
            <a:ext cx="832788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7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ажите по-французски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«место уединения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если для нас это знаменитый художественный и культурно-исторический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музей в Санкт-Петербург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Эрмитаж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Управляющая кнопка: назад 3"/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69" name="TextBox 2"/>
          <p:cNvSpPr/>
          <p:nvPr/>
        </p:nvSpPr>
        <p:spPr>
          <a:xfrm>
            <a:off x="857160" y="1143000"/>
            <a:ext cx="764388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йдите ошибку, назовите  и исправьте её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оляр сделал тумбочку из сосны с четырьмя ножкам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нарушение порядка сл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Прямоугольник 3"/>
          <p:cNvSpPr/>
          <p:nvPr/>
        </p:nvSpPr>
        <p:spPr>
          <a:xfrm>
            <a:off x="755640" y="333360"/>
            <a:ext cx="8064360" cy="79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ПЕР ИГ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Управляющая кнопка: назад 4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928800" y="1785960"/>
            <a:ext cx="778644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2d050"/>
                </a:solidFill>
                <a:latin typeface="Times New Roman"/>
              </a:rPr>
              <a:t>10 балл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Личное дело» ученика для служебного пользования его родителе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</a:rPr>
              <a:t>Ответ: дневни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Управляющая кнопка: назад 4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42960" y="1500120"/>
            <a:ext cx="807228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2d050"/>
                </a:solidFill>
                <a:latin typeface="Times New Roman"/>
              </a:rPr>
              <a:t>20 балл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такое ручкохранилище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 пена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Управляющая кнопка: назад 4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893880" y="1557360"/>
            <a:ext cx="7215120" cy="40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2d050"/>
                </a:solidFill>
                <a:latin typeface="Times New Roman"/>
              </a:rPr>
              <a:t>30 балл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го долгожданный звук является божественной музыкой для не выучившего урок школьник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звонок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Управляющая кнопка: назад 5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571680" y="2000160"/>
            <a:ext cx="8215200" cy="40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2d050"/>
                </a:solidFill>
                <a:latin typeface="Times New Roman"/>
              </a:rPr>
              <a:t>50 балл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мет, опровергающий поговорку: «Что написано пером, не вырубишь топором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</a:rPr>
              <a:t>Ответ: ласти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Управляющая кнопка: назад 4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714240" y="1785960"/>
            <a:ext cx="7500960" cy="40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2d050"/>
                </a:solidFill>
                <a:latin typeface="Times New Roman"/>
              </a:rPr>
              <a:t>70 балл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менно этим «инструментом», являющимся частью речи, А.С.Пушкин призвал «жечь сердца людей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глаго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Управляющая кнопка: назад 4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928800" y="1285920"/>
            <a:ext cx="757224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н здоровый в здоровом тел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здоровый ду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861840" y="1197000"/>
            <a:ext cx="782028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асть одежды, которую рекомендуют держать шир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карман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5:20:22Z</dcterms:created>
  <dc:creator>Римма</dc:creator>
  <dc:description/>
  <dc:language>en-US</dc:language>
  <cp:lastModifiedBy>Компьютер 12</cp:lastModifiedBy>
  <dcterms:modified xsi:type="dcterms:W3CDTF">2022-01-19T12:33:00Z</dcterms:modified>
  <cp:revision>279</cp:revision>
  <dc:subject/>
  <dc:title>Правовой калейдоско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a2c0000000000010250300207f7000400038000</vt:lpwstr>
  </property>
</Properties>
</file>