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80B2-BF6B-486E-A7DA-448FB7F6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4D9DA-9DCF-4193-AB2E-2CE2660D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CC3F-820E-4A3B-9570-3491D68B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FFD7-BB52-479B-B48E-DC72A4C4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20DA-8BB2-4BC7-84A8-F5E11AE2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2ACD-A88B-49B1-A21A-242D3251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8F3F-F884-463F-97CC-3507EA68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3BD9-5644-4624-A397-83A8199E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B867-2D86-4449-A3E0-1C953D7D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D672-E55E-44A7-80FC-3A5EF732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D3BC-BD08-4ADF-A761-64C2159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6A823-7459-4A0E-B388-9A2444ED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BCE1-10D5-4739-B52A-5EC10F3A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0EE3-305C-4506-879C-D434BE78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CBD5-102C-4E28-87C0-ACEF62D0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CFC8-0FE0-4E4A-9336-8A654B64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582E-6B93-425F-989C-4B03AC93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6AA7E-8A23-46B1-879F-AB34E190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6509-9F6C-438A-A853-C5D2A3D8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7B00A-1449-46CE-925E-8DF04A46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893C-9300-4CE1-9305-46A3B37A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C4F9-D3B8-4B82-9FB1-F337AE21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ADE13-B0FC-4077-AD32-3D50E4FB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BAD0-54C6-4F19-B1E6-ECB81762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A097-D29E-4A3B-8CE6-7F688894E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f497d"/>
                  </a:gs>
                  <a:gs pos="100000">
                    <a:srgbClr val="1c427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c66"/>
                  </a:gs>
                  <a:gs pos="100000">
                    <a:srgbClr val="1f49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1f4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b406e"/>
                  </a:gs>
                  <a:gs pos="100000">
                    <a:srgbClr val="1f497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1a3e6a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eece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0504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15F6-4F2A-4E3A-90D2-8039958EA5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4297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1" lang="en-US" sz="60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28560" y="4214520"/>
            <a:ext cx="607212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Рисунок 6" descr="0402dvlcsnap2010020318h57m29s79.pn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Svoya_igra - Opening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64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642960" y="1500120"/>
            <a:ext cx="7858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е ждут, сидя у мор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погод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428760" y="17859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а часть предмета бывает золот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середина</a:t>
            </a:r>
            <a:r>
              <a:rPr b="0" lang="ru-RU" sz="2800" spc="-1" strike="noStrike">
                <a:solidFill>
                  <a:srgbClr val="b9cde5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85880" y="1714680"/>
            <a:ext cx="75722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ую еду иногда просит обувь у ее незадачливого владельц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ш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642960" y="150012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Удача» муж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успе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642960" y="765000"/>
            <a:ext cx="75722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</a:t>
            </a:r>
            <a:r>
              <a:rPr b="0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артина» муж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рисуно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571680" y="1357200"/>
            <a:ext cx="800100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кно» муж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иллюминато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826920" y="1225440"/>
            <a:ext cx="764388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редит» жен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ссуд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3. </a:t>
            </a:r>
            <a:br>
              <a:rPr sz="3200"/>
            </a:br>
            <a:endParaRPr b="1" lang="en-US" sz="32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785880" y="1428840"/>
            <a:ext cx="75009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Кокетство» мужского 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флир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79280" y="1197000"/>
            <a:ext cx="8785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будет по-французски слов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гриб»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им словом мы называем самые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"магазинные"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иб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шампиньо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98640" y="1052640"/>
            <a:ext cx="742932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по-французски звучит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круг»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для нас это 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этап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го-либ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оревнован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ли этап в выбор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 т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0000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4240" y="1397160"/>
          <a:ext cx="7429680" cy="3422520"/>
        </p:xfrm>
        <a:graphic>
          <a:graphicData uri="http://schemas.openxmlformats.org/drawingml/2006/table">
            <a:tbl>
              <a:tblPr/>
              <a:tblGrid>
                <a:gridCol w="3279960"/>
                <a:gridCol w="869760"/>
                <a:gridCol w="871560"/>
                <a:gridCol w="782640"/>
                <a:gridCol w="784440"/>
                <a:gridCol w="841320"/>
              </a:tblGrid>
              <a:tr h="654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. И это все о чём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. Постижение народной мудр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. Разнородные синоним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1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2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3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4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5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Говорим по французс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6" action="ppaction://hlinksldjump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7" action="ppaction://hlinksldjump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8" action="ppaction://hlinksldjump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19" action="ppaction://hlinksldjump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ff"/>
                          </a:solidFill>
                          <a:uFillTx/>
                          <a:latin typeface="Garamond"/>
                          <a:hlinkClick r:id="rId20" action="ppaction://hlinksldjump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Управляющая кнопка: далее 3">
            <a:hlinkClick r:id="rId21" action="ppaction://hlinksldjump"/>
          </p:cNvPr>
          <p:cNvSpPr/>
          <p:nvPr/>
        </p:nvSpPr>
        <p:spPr>
          <a:xfrm>
            <a:off x="642960" y="628668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3794"/>
                </a:moveTo>
                <a:lnTo>
                  <a:pt x="20513" y="10800"/>
                </a:lnTo>
                <a:lnTo>
                  <a:pt x="650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Begin Round.mp3" descr=""/>
          <p:cNvPicPr/>
          <p:nvPr/>
        </p:nvPicPr>
        <p:blipFill>
          <a:blip r:embed="rId22"/>
          <a:stretch/>
        </p:blipFill>
        <p:spPr>
          <a:xfrm>
            <a:off x="900000" y="544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17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395280" y="1052640"/>
            <a:ext cx="8353440" cy="35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3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жите по-французск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никто»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это слово стало именем знаменитого капитана из романа Жюля Верн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5b3d7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нем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3" name="TextBox 2"/>
          <p:cNvSpPr/>
          <p:nvPr/>
        </p:nvSpPr>
        <p:spPr>
          <a:xfrm>
            <a:off x="468360" y="1125360"/>
            <a:ext cx="849636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5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жите по-французск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столичный»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для нас э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дземный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ид транспорта в больших город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метрополитен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4.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457200" y="1000080"/>
            <a:ext cx="832788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70 бал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жите по-французски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«место уединения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если для нас это знаменитый художественный и культурно-исторический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узей в Санкт-Петербург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Эрмита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Управляющая кнопка: назад 3"/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857160" y="1143000"/>
            <a:ext cx="764388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йдите ошибку, назовите  и исправьте её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оляр сделал тумбочку из сосны с четырьмя ножк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нарушение порядка сл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755640" y="333360"/>
            <a:ext cx="8064360" cy="79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 ИГ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Управляющая кнопка: назад 4"/>
          <p:cNvSpPr/>
          <p:nvPr/>
        </p:nvSpPr>
        <p:spPr>
          <a:xfrm>
            <a:off x="42876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928800" y="1785960"/>
            <a:ext cx="778644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1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Личное дело» ученика для служебного пользования его ро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 днев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42960" y="1500120"/>
            <a:ext cx="807228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2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такое ручкохранилище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 пена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893880" y="1557360"/>
            <a:ext cx="721512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3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го долгожданный звук является божественной музыкой для не выучившего урок школьник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звонок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Управляющая кнопка: назад 5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71680" y="2000160"/>
            <a:ext cx="82152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5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мет, опровергающий поговорку: «Что написано пером, не вырубишь топором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</a:rPr>
              <a:t>Ответ: ласти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1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714240" y="1785960"/>
            <a:ext cx="750096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2d050"/>
                </a:solidFill>
                <a:latin typeface="Times New Roman"/>
              </a:rPr>
              <a:t>70 балл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нно этим «инструментом», являющимся частью речи, А.С.Пушкин призвал «жечь сердца людей»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глаго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Управляющая кнопка: назад 4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928800" y="1285920"/>
            <a:ext cx="75722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1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 здоровый в здоровом т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здоровый ду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2. </a:t>
            </a:r>
            <a:br>
              <a:rPr sz="3600"/>
            </a:br>
            <a:endParaRPr b="1" lang="en-US" sz="3600" spc="-1" strike="noStrike">
              <a:solidFill>
                <a:srgbClr val="eeece1"/>
              </a:solidFill>
              <a:latin typeface="Garamond"/>
            </a:endParaRPr>
          </a:p>
        </p:txBody>
      </p:sp>
      <p:sp>
        <p:nvSpPr>
          <p:cNvPr id="127" name="TextBox 2"/>
          <p:cNvSpPr/>
          <p:nvPr/>
        </p:nvSpPr>
        <p:spPr>
          <a:xfrm>
            <a:off x="861840" y="1197000"/>
            <a:ext cx="78202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20 балл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асть одежды, которую рекомендуют держать шир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вет: карман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Управляющая кнопка: назад 3">
            <a:hlinkClick r:id="rId1" action="ppaction://hlinksldjump"/>
          </p:cNvPr>
          <p:cNvSpPr/>
          <p:nvPr/>
        </p:nvSpPr>
        <p:spPr>
          <a:xfrm>
            <a:off x="642960" y="635796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20:22Z</dcterms:created>
  <dc:creator>Римма</dc:creator>
  <dc:description/>
  <dc:language>en-US</dc:language>
  <cp:lastModifiedBy>Компьютер 12</cp:lastModifiedBy>
  <dcterms:modified xsi:type="dcterms:W3CDTF">2022-01-19T12:33:00Z</dcterms:modified>
  <cp:revision>279</cp:revision>
  <dc:subject/>
  <dc:title>Правовой калейдоско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2c0000000000010250300207f7000400038000</vt:lpwstr>
  </property>
</Properties>
</file>