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28D-C7D3-47D0-B487-430AB69E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998-DFB6-464A-896B-9D17142E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40D-AC77-46AE-A62B-5BB30D39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EA9-B5D0-48E6-AC7E-08B01E7C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22A-9FD4-4337-824E-6E00E55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D57-9F41-4BF7-B220-07A5DA0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B6E-6E3A-4A8E-9E56-65063342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953-7CE7-4E48-A536-F35D4BD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BAA-26E1-409A-9E7C-BF64031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9B8-B11C-4955-915B-42FE594A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50E-DA06-435E-A569-1BB53A5C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CC-5C2D-4F24-A203-4CDD366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9109-91B4-4C07-AE5C-588C0AB3F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6;&#1077;&#1092;&#1077;&#1088;&#1077;&#1085;&#1076;&#1091;&#1084;_&#1086;_&#1089;&#1090;&#1072;&#1090;&#1091;&#1089;&#1077;_&#1050;&#1088;&#1099;&#1084;&#1072;_%282014%29" TargetMode="External"/><Relationship Id="rId3" Type="http://schemas.openxmlformats.org/officeDocument/2006/relationships/hyperlink" Target="http://ru.wikipedia.org/wiki/&#1056;&#1086;&#1089;&#1089;&#1080;&#1081;&#1089;&#1082;&#1072;&#1103;_&#1060;&#1077;&#1076;&#1077;&#1088;&#1072;&#1094;&#1080;&#1103;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2013_&#1075;&#1086;&#1076;" TargetMode="External"/><Relationship Id="rId3" Type="http://schemas.openxmlformats.org/officeDocument/2006/relationships/hyperlink" Target="http://ru.wikipedia.org/wiki/&#1059;&#1082;&#1088;&#1072;&#1080;&#1085;&#1072;" TargetMode="External"/><Relationship Id="rId4" Type="http://schemas.openxmlformats.org/officeDocument/2006/relationships/hyperlink" Target="http://ru.wikipedia.org/wiki/&#1042;&#1090;&#1086;&#1088;&#1086;&#1077;_&#1087;&#1088;&#1072;&#1074;&#1080;&#1090;&#1077;&#1083;&#1100;&#1089;&#1090;&#1074;&#1086;_&#1053;&#1080;&#1082;&#1086;&#1083;&#1072;&#1103;_&#1040;&#1079;&#1072;&#1088;&#1086;&#1074;&#1072;" TargetMode="External"/><Relationship Id="rId5" Type="http://schemas.openxmlformats.org/officeDocument/2006/relationships/hyperlink" Target="http://ru.wikipedia.org/wiki/&#1057;&#1086;&#1075;&#1083;&#1072;&#1096;&#1077;&#1085;&#1080;&#1077;_&#1086;&#1073;_&#1072;&#1089;&#1089;&#1086;&#1094;&#1080;&#1072;&#1094;&#1080;&#1080;_&#1059;&#1082;&#1088;&#1072;&#1080;&#1085;&#1099;_&#1080;_&#1045;&#1074;&#1088;&#1086;&#1087;&#1077;&#1081;&#1089;&#1082;&#1086;&#1075;&#1086;_&#1089;&#1086;&#1102;&#1079;&#1072;" TargetMode="External"/><Relationship Id="rId6" Type="http://schemas.openxmlformats.org/officeDocument/2006/relationships/hyperlink" Target="http://ru.wikipedia.org/wiki/&#1050;&#1080;&#1077;&#1074;" TargetMode="External"/><Relationship Id="rId7" Type="http://schemas.openxmlformats.org/officeDocument/2006/relationships/hyperlink" Target="http://ru.wikipedia.org/wiki/&#1045;&#1074;&#1088;&#1086;&#1084;&#1072;&#1081;&#1076;&#1072;&#1085;" TargetMode="External"/><Relationship Id="rId8" Type="http://schemas.openxmlformats.org/officeDocument/2006/relationships/hyperlink" Target="http://ru.wikipedia.org/wiki/&#1054;&#1088;&#1072;&#1085;&#1078;&#1077;&#1074;&#1072;&#1103;_&#1088;&#1077;&#1074;&#1086;&#1083;&#1102;&#1094;&#1080;&#1103;" TargetMode="External"/><Relationship Id="rId9" Type="http://schemas.openxmlformats.org/officeDocument/2006/relationships/hyperlink" Target="http://ru.wikipedia.org/wiki/&#1045;&#1074;&#1088;&#1086;&#1084;&#1072;&#1081;&#1076;&#1072;&#1085;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9;&#1082;&#1088;&#1072;&#1080;&#1085;&#1072;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ru.wikipedia.org/wiki/&#1059;&#1082;&#1088;&#1072;&#1080;&#1085;&#1072;" TargetMode="External"/><Relationship Id="rId5" Type="http://schemas.openxmlformats.org/officeDocument/2006/relationships/image" Target="../media/image8.png"/><Relationship Id="rId6" Type="http://schemas.openxmlformats.org/officeDocument/2006/relationships/hyperlink" Target="http://ru.wikipedia.org/wiki/&#1059;&#1082;&#1088;&#1072;&#1080;&#1085;&#1072;" TargetMode="External"/><Relationship Id="rId7" Type="http://schemas.openxmlformats.org/officeDocument/2006/relationships/image" Target="../media/image8.png"/><Relationship Id="rId8" Type="http://schemas.openxmlformats.org/officeDocument/2006/relationships/hyperlink" Target="http://ru.wikipedia.org/wiki/&#1059;&#1082;&#1088;&#1072;&#1080;&#1085;&#1072;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ru.wikipedia.org/wiki/&#1040;&#1074;&#1090;&#1086;&#1085;&#1086;&#1084;&#1085;&#1072;&#1103;_&#1056;&#1077;&#1089;&#1087;&#1091;&#1073;&#1083;&#1080;&#1082;&#1072;_&#1050;&#1088;&#1099;&#1084;" TargetMode="External"/><Relationship Id="rId11" Type="http://schemas.openxmlformats.org/officeDocument/2006/relationships/hyperlink" Target="http://ru.wikipedia.org/wiki/&#1058;&#1077;&#1088;&#1088;&#1080;&#1090;&#1086;&#1088;&#1080;&#1103;,_&#1087;&#1086;&#1076;&#1095;&#1080;&#1085;&#1105;&#1085;&#1085;&#1072;&#1103;_&#1057;&#1077;&#1074;&#1072;&#1089;&#1090;&#1086;&#1087;&#1086;&#1083;&#1100;&#1089;&#1082;&#1086;&#1084;&#1091;_&#1075;&#1086;&#1088;&#1086;&#1076;&#1089;&#1082;&#1086;&#1084;&#1091;_&#1089;&#1086;&#1074;&#1077;&#1090;&#1091;" TargetMode="External"/><Relationship Id="rId12" Type="http://schemas.openxmlformats.org/officeDocument/2006/relationships/hyperlink" Target="http://ru.wikipedia.org/wiki/&#1059;&#1082;&#1088;&#1072;&#1080;&#1085;&#1072;" TargetMode="External"/><Relationship Id="rId13" Type="http://schemas.openxmlformats.org/officeDocument/2006/relationships/hyperlink" Target="http://ru.wikipedia.org/wiki/&#1054;&#1073;&#1086;&#1089;&#1090;&#1088;&#1077;&#1085;&#1080;&#1077;_&#1087;&#1088;&#1086;&#1090;&#1080;&#1074;&#1086;&#1089;&#1090;&#1086;&#1103;&#1085;&#1080;&#1103;_&#1085;&#1072;_&#1059;&#1082;&#1088;&#1072;&#1080;&#1085;&#1077;_%28&#1092;&#1077;&#1074;&#1088;&#1072;&#1083;&#1100;_2014_&#1075;&#1086;&#1076;&#1072;%29" TargetMode="External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533520"/>
            <a:ext cx="716292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Мы вместе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Россия и Кры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3"/>
          <p:cNvSpPr/>
          <p:nvPr/>
        </p:nvSpPr>
        <p:spPr>
          <a:xfrm>
            <a:off x="838080" y="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ждение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й Федерации новых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14200" y="1143000"/>
            <a:ext cx="839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6 марта 2014 го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ферендум о статусе Кры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 возможном его выходе из состава Украины и вхождении в соста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ser16\Desktop\gj.jpg"/>
          <p:cNvPicPr/>
          <p:nvPr/>
        </p:nvPicPr>
        <p:blipFill>
          <a:blip r:embed="rId4"/>
          <a:stretch/>
        </p:blipFill>
        <p:spPr>
          <a:xfrm>
            <a:off x="228600" y="2133720"/>
            <a:ext cx="460548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User16\Desktop\khoh.JPG"/>
          <p:cNvPicPr/>
          <p:nvPr/>
        </p:nvPicPr>
        <p:blipFill>
          <a:blip r:embed="rId5"/>
          <a:stretch/>
        </p:blipFill>
        <p:spPr>
          <a:xfrm>
            <a:off x="4038480" y="388620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3"/>
          <p:cNvSpPr/>
          <p:nvPr/>
        </p:nvSpPr>
        <p:spPr>
          <a:xfrm>
            <a:off x="838080" y="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ждение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й Федерации новых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83808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 марта 2014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екларации о независимости в одностороннем порядке была провозглашена суверенная Республика Крым, в состав которой вошёл Севастополь в качестве города с особым стату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Documents and Settings\Учитель\Мои документы\Загрузки\FF8F70BF-A07A-40A7-9199-E10FBCB5E954_mw1024_n_s.jpg"/>
          <p:cNvPicPr/>
          <p:nvPr/>
        </p:nvPicPr>
        <p:blipFill>
          <a:blip r:embed="rId2"/>
          <a:stretch/>
        </p:blipFill>
        <p:spPr>
          <a:xfrm>
            <a:off x="228600" y="3657600"/>
            <a:ext cx="419256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4"/>
          <p:cNvSpPr/>
          <p:nvPr/>
        </p:nvSpPr>
        <p:spPr>
          <a:xfrm>
            <a:off x="4800600" y="3657600"/>
            <a:ext cx="4191120" cy="283824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Крыма и мэр города Севастополя подписали договор о вхождении республики Крым и Севастополя в соста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был подписан в Кремле Владимиром Путиным и представителями органов власти Кры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80880" y="19810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марта 2014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одписан договор между Российской Федерацией и Республикой Крым о принятии Республики Крым в состав России, в соответствии с которым в составе Российской Федерации образуются новые субъекты — Республика Крым и город федерального значения Севаст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Кры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16\Desktop\mnllkl.JPG"/>
          <p:cNvPicPr/>
          <p:nvPr/>
        </p:nvPicPr>
        <p:blipFill>
          <a:blip r:embed="rId1"/>
          <a:stretch/>
        </p:blipFill>
        <p:spPr>
          <a:xfrm>
            <a:off x="304920" y="1219320"/>
            <a:ext cx="407196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16\Desktop\kjk.jpg"/>
          <p:cNvPicPr/>
          <p:nvPr/>
        </p:nvPicPr>
        <p:blipFill>
          <a:blip r:embed="rId2"/>
          <a:stretch/>
        </p:blipFill>
        <p:spPr>
          <a:xfrm>
            <a:off x="2590920" y="3809880"/>
            <a:ext cx="375120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ser16\Desktop\lkl.jpg"/>
          <p:cNvPicPr/>
          <p:nvPr/>
        </p:nvPicPr>
        <p:blipFill>
          <a:blip r:embed="rId3"/>
          <a:stretch/>
        </p:blipFill>
        <p:spPr>
          <a:xfrm>
            <a:off x="5334120" y="1828800"/>
            <a:ext cx="3590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80880" y="152388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User16\Desktop\karta_ukrainy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057400" y="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Карта 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знаем о Кры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52520" y="1599840"/>
            <a:ext cx="3962520" cy="480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рисоединения Екатериной II Крыма к России (в апреле 1783 г.) он стал не только большим портом для международной торговли, но и основным местом отдыха высшей русской знати. На полуострове началось строительство новых городов – Симферополя и Севастополя. В Крым приезжали на отдых и проживали здесь высшие чины и титулы государства Российского: Потемкин, Воронцов, Юсупов, Александр III и многие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d114b1afb64e0a9d6ab42dee5511e5f"/>
          <p:cNvPicPr/>
          <p:nvPr/>
        </p:nvPicPr>
        <p:blipFill>
          <a:blip r:embed="rId1"/>
          <a:stretch/>
        </p:blipFill>
        <p:spPr>
          <a:xfrm>
            <a:off x="304920" y="1295280"/>
            <a:ext cx="4248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на Севастополя и битва за Кр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1941 -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68988773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74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февраля 1954г. Крым был передан из состава РСФСР в состав УССР в честь празднования 300-летия Переяславской Рады (воссоединение России и Украины в 1654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ruschev-645"/>
          <p:cNvPicPr/>
          <p:nvPr/>
        </p:nvPicPr>
        <p:blipFill>
          <a:blip r:embed="rId1"/>
          <a:stretch/>
        </p:blipFill>
        <p:spPr>
          <a:xfrm>
            <a:off x="3657600" y="4037040"/>
            <a:ext cx="3705120" cy="282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1 год – распад СССР и отделение братских республик – таким образом Крым ушел из состава России вместе с Укра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ssr-destruct"/>
          <p:cNvPicPr/>
          <p:nvPr/>
        </p:nvPicPr>
        <p:blipFill>
          <a:blip r:embed="rId1"/>
          <a:stretch/>
        </p:blipFill>
        <p:spPr>
          <a:xfrm>
            <a:off x="3886200" y="3048120"/>
            <a:ext cx="4572000" cy="341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220560" y="142920"/>
            <a:ext cx="1799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67200" y="1214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неш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014880" y="12142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8"/>
          <p:cNvCxnSpPr/>
          <p:nvPr/>
        </p:nvCxnSpPr>
        <p:spPr>
          <a:xfrm flipH="1">
            <a:off x="1785600" y="714240"/>
            <a:ext cx="1572480" cy="5724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1" name="Прямая со стрелкой 10"/>
          <p:cNvCxnSpPr/>
          <p:nvPr/>
        </p:nvCxnSpPr>
        <p:spPr>
          <a:xfrm>
            <a:off x="4929120" y="642960"/>
            <a:ext cx="1572480" cy="6433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2" name="Прямоугольник 13"/>
          <p:cNvSpPr/>
          <p:nvPr/>
        </p:nvSpPr>
        <p:spPr>
          <a:xfrm>
            <a:off x="2786040" y="1643040"/>
            <a:ext cx="442908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криз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214200" y="2500200"/>
            <a:ext cx="842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тический кризис на Украине (2013—2014) — политический кризис, вызванный в нояб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013 го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шение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краин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авитель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остановить процесс подписа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оглашения об ассоциации с Евросоюз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Это решение привело к массовой акции протеста в цент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ие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в других городах Украины, получившей в социальных сетях и СМИ название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Евромайд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по аналогии 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обытиями 2004 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571840" y="5072040"/>
            <a:ext cx="5786280" cy="1556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вромайд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протестное движение на Украине (2013—2014 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4/45/Arrow_Blue_Right_001.svg/10px-Arrow_Blue_Right_001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241080" y="-20016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ttp://upload.wikimedia.org/wikipedia/commons/thumb/4/45/Arrow_Blue_Right_001.svg/10px-Arrow_Blue_Right_001.svg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813000" y="53496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upload.wikimedia.org/wikipedia/commons/thumb/4/45/Arrow_Blue_Right_001.svg/10px-Arrow_Blue_Right_001.svg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78680" y="62712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upload.wikimedia.org/wikipedia/commons/thumb/4/45/Arrow_Blue_Right_001.svg/10px-Arrow_Blue_Right_001.sv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92760" y="0"/>
            <a:ext cx="95400" cy="954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7"/>
          <p:cNvSpPr/>
          <p:nvPr/>
        </p:nvSpPr>
        <p:spPr>
          <a:xfrm>
            <a:off x="380880" y="2438280"/>
            <a:ext cx="82296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228600" y="228600"/>
            <a:ext cx="8305920" cy="375300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́мский кри́зи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асштабные общественно-политические изменения, произошедшие на территори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Автономной Республики Кр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Севастопо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феврале-марте 2014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этим изменениям положили протесты местного (в основной своей массе русскоязычного) населения против действий бывшей оппозиции, пришедшей к власти н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Украи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зультат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событий февраля 2014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лне общественного подъёма была осуществлена смена исполнительных органов власти Севастополя и Автономной Республики Крым, а те, в свою очередь, обратились за содействием и помощью к руководству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D:\Documents and Settings\Учитель\Мои документы\Загрузки\images.jpeg"/>
          <p:cNvPicPr/>
          <p:nvPr/>
        </p:nvPicPr>
        <p:blipFill>
          <a:blip r:embed="rId14"/>
          <a:stretch/>
        </p:blipFill>
        <p:spPr>
          <a:xfrm>
            <a:off x="5334120" y="4572000"/>
            <a:ext cx="33969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D:\Documents and Settings\Учитель\Мои документы\Загрузки\3527253_3_e29f_la-foule-des-protestataires-rassembles-sur-la_6a3423c309f250cfd08b99297b3f01b6.jpg"/>
          <p:cNvPicPr/>
          <p:nvPr/>
        </p:nvPicPr>
        <p:blipFill>
          <a:blip r:embed="rId15"/>
          <a:stretch/>
        </p:blipFill>
        <p:spPr>
          <a:xfrm>
            <a:off x="380880" y="3886200"/>
            <a:ext cx="4564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15T08:52:5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