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дабаева Гулсара Мукимовна           МАУДО "Дом детского и юношеского туризма и экскурсий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007E-01F7-4462-BC83-ED9F072E64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4984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4397-4EEF-480C-86F9-D3EA63AEF5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Дата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ижний колонтитул 5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дабаева Гулсара Мукимовна           МАУДО "Дом детского и юношеского туризма и экскурсий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Верхний колонтитул 6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2705-C35A-4820-BAEB-28AB71C9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5427-C3DD-4A9E-B973-261673ED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9AA-A7E7-44CC-814C-22E19928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1E9-D09B-4B94-B6E1-493D4455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2B0A-3CF1-4A84-A595-5194A973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8AE5-239F-4D1C-AB17-C5FCB949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C3E4-608C-45A1-9964-57DB6D60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620-D2B8-4216-940E-190BD5D5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547E-DCC1-4F92-9E41-AB64E535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A12A-197F-45E6-9610-B2DADB54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1AAD-3A7B-4515-8860-232D7005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9B80-F398-4BCB-ABF1-43260D51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C0D4-4099-416A-B938-BCC56061F14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file:///MOV01A.avi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484200" y="334800"/>
            <a:ext cx="8061480" cy="6046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9960" y="105264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дел: Технико – тактическая подготовка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: Технические приемы в скалолаз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27040" y="4365360"/>
            <a:ext cx="8026560" cy="26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 дополнительного образо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хаматханова Гулсара Муким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rcRect l="-2820" t="-3712" r="-2820" b="21083"/>
          <a:stretch/>
        </p:blipFill>
        <p:spPr>
          <a:xfrm>
            <a:off x="971640" y="-243000"/>
            <a:ext cx="6978600" cy="67881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Главные технические принцип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26560" y="1674720"/>
            <a:ext cx="70059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лавный технический принцип лазания на трудность – за счет эффективной работы ног, баланса, работы корпуса «беречь» руки, чтобы их «хватило» до конца трасс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Лучший «тренажер» для  правильной работы ног – ска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441360" y="476280"/>
            <a:ext cx="8264520" cy="6197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ипичные ошибки лаз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41360" y="1773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Неправильная постановка ног на зацеп ( на середину стопы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«Зажатие рук», нет динамики («гипнотизируют зацепку»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Неправильная работа ног, плохо стоят, недостаточно нагружены весом тел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Излишняя статичность при перехватах, там, где можно легко сделать динамический перехват, делают его из «статик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Вместо выпрямления на ноге тянутся рукой к следующей зацепк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Неправильное расположение ЦТ (либо слишком далеко, либо слишком близко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Calibri"/>
                <a:ea typeface="바탕"/>
              </a:rPr>
              <a:t>Скорост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WordArt 7"/>
          <p:cNvSpPr txBox="1"/>
          <p:nvPr/>
        </p:nvSpPr>
        <p:spPr>
          <a:xfrm>
            <a:off x="395280" y="1557360"/>
            <a:ext cx="8137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+mn-lt"/>
              </a:rPr>
              <a:t>Главный технический принцип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+mn-lt"/>
              </a:rPr>
              <a:t>лазания на скорость - все действия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+mn-lt"/>
              </a:rPr>
              <a:t>направлены на развитие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+mn-lt"/>
              </a:rPr>
              <a:t>максимальной скорости на трассе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  <a:ea typeface="바탕"/>
              </a:rPr>
              <a:t>Техника скоростного лаз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000" y="981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  <a:ea typeface="바탕"/>
              </a:rPr>
              <a:t>Основной критерий техничности – скорость (1,5-2,0 м/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  <a:ea typeface="바탕"/>
              </a:rPr>
              <a:t>Критерии техничности, как ряд прави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Линейность передвижения- одна нога над ругой ног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Постоянность и непрерывность движ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Постановка ноги в один при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Слитность движ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Отсутствие «подседаний» и «прилипаний», применение рукохода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ndara"/>
                <a:ea typeface="바탕"/>
                <a:hlinkClick r:id="rId2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на потол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Оптимальный тем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Хороший «расклад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Точнос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Оптимальная амплитуда движ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Наличие трех тактико-технических качеств: быстрое переключение между видами работы, стабильность и находчив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Эффективность и экономичность движ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Согласованная работа рук и но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Правильная структура основных движ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Мощный старт и ускоренный фини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cf600">
              <a:alpha val="87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바탕"/>
              </a:rPr>
              <a:t>Факторы влияющие на технику скоростного лазания и параметры технично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08000" y="1557360"/>
            <a:ext cx="1657440" cy="2303280"/>
          </a:xfrm>
          <a:prstGeom prst="rect">
            <a:avLst/>
          </a:prstGeom>
          <a:solidFill>
            <a:srgbClr val="c6d9f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바탕"/>
                <a:ea typeface="바탕"/>
              </a:rPr>
              <a:t>Временн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바탕"/>
                <a:ea typeface="바탕"/>
              </a:rPr>
              <a:t>темп, скорость отдельных движений, реакция на заце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 flipV="1">
            <a:off x="1547640" y="1125360"/>
            <a:ext cx="2519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798560" y="1557360"/>
            <a:ext cx="2665440" cy="2482920"/>
          </a:xfrm>
          <a:prstGeom prst="rect">
            <a:avLst/>
          </a:prstGeom>
          <a:solidFill>
            <a:srgbClr val="c6d9f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바탕"/>
                <a:ea typeface="바탕"/>
              </a:rPr>
              <a:t>Пространственн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바탕"/>
                <a:ea typeface="바탕"/>
              </a:rPr>
              <a:t>близость траектории центра тела к идеалу, амплитуда, точность попадания на заце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527720" y="1557360"/>
            <a:ext cx="2376360" cy="1871640"/>
          </a:xfrm>
          <a:prstGeom prst="rect">
            <a:avLst/>
          </a:prstGeom>
          <a:solidFill>
            <a:srgbClr val="c6d9f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바탕"/>
                <a:ea typeface="바탕"/>
              </a:rPr>
              <a:t>Энергетическ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바탕"/>
                <a:ea typeface="바탕"/>
              </a:rPr>
              <a:t>экономичность, рациональность, слитность, незакрепащен-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7020000" y="1557360"/>
            <a:ext cx="2124000" cy="2303280"/>
          </a:xfrm>
          <a:prstGeom prst="rect">
            <a:avLst/>
          </a:prstGeom>
          <a:solidFill>
            <a:srgbClr val="c6d9f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바탕"/>
                <a:ea typeface="바탕"/>
              </a:rPr>
              <a:t>Тактическ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바탕"/>
                <a:ea typeface="바탕"/>
              </a:rPr>
              <a:t>оптимальный выбор зацепов, расклад, перестройка, стаби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 flipH="1">
            <a:off x="4140360" y="112536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5219640" y="112536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5867280" y="1125360"/>
            <a:ext cx="1513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108000" y="4076640"/>
            <a:ext cx="1295280" cy="792360"/>
          </a:xfrm>
          <a:prstGeom prst="rect">
            <a:avLst/>
          </a:prstGeom>
          <a:solidFill>
            <a:srgbClr val="d99694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바탕"/>
                <a:ea typeface="바탕"/>
              </a:rPr>
              <a:t>Техника ста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7524720" y="4149720"/>
            <a:ext cx="1368360" cy="719280"/>
          </a:xfrm>
          <a:prstGeom prst="rect">
            <a:avLst/>
          </a:prstGeom>
          <a:solidFill>
            <a:srgbClr val="d99694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바탕"/>
                <a:ea typeface="바탕"/>
              </a:rPr>
              <a:t>Техника фини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6"/>
          <p:cNvSpPr/>
          <p:nvPr/>
        </p:nvSpPr>
        <p:spPr>
          <a:xfrm>
            <a:off x="189000" y="5208480"/>
            <a:ext cx="8675640" cy="122580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Хороший 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2158920" y="4221000"/>
            <a:ext cx="4537080" cy="503280"/>
          </a:xfrm>
          <a:prstGeom prst="rect">
            <a:avLst/>
          </a:prstGeom>
          <a:solidFill>
            <a:srgbClr val="d99694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바탕"/>
                <a:ea typeface="바탕"/>
              </a:rPr>
              <a:t>Скорость на тр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1258920" y="386064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3276720" y="386064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 flipH="1">
            <a:off x="5181120" y="3429000"/>
            <a:ext cx="903240" cy="79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1"/>
          <p:cNvSpPr/>
          <p:nvPr/>
        </p:nvSpPr>
        <p:spPr>
          <a:xfrm flipH="1">
            <a:off x="6588000" y="386064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2"/>
          <p:cNvSpPr/>
          <p:nvPr/>
        </p:nvSpPr>
        <p:spPr>
          <a:xfrm flipH="1">
            <a:off x="6732720" y="4365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1403280" y="4365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4427640" y="472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 flipH="1">
            <a:off x="7236000" y="4724280"/>
            <a:ext cx="28872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Техника в скалолазании(виды дистанций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32000" y="5589720"/>
            <a:ext cx="64008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Элементы «базовой» техники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трудность, боулдеринг, скор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908000" y="1147680"/>
            <a:ext cx="5688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바탕"/>
                <a:ea typeface="바탕"/>
              </a:rPr>
              <a:t>Постановка ног на заце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25600" y="3428640"/>
            <a:ext cx="33256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Хват носк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Хват пят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Носок – пя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«Велосипед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4211640" y="3645000"/>
            <a:ext cx="3795840" cy="28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4788000" y="105264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3"/>
          <a:stretch/>
        </p:blipFill>
        <p:spPr>
          <a:xfrm>
            <a:off x="755640" y="1187280"/>
            <a:ext cx="27367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912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바탕"/>
                <a:ea typeface="바탕"/>
              </a:rPr>
              <a:t>Постановка рук на заце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3068640"/>
            <a:ext cx="52560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Виды хватов р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Открытый хва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Раскрытый хват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Закрытый хва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Щипковыйхва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33920" y="1341360"/>
            <a:ext cx="397044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39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Работа ног – главное условие техничного лаз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11280" y="1700280"/>
            <a:ext cx="4752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바탕"/>
                <a:ea typeface="바탕"/>
              </a:rPr>
              <a:t>Прямое вставание на зацеп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바탕"/>
                <a:ea typeface="바탕"/>
              </a:rPr>
              <a:t>Скрестные шаг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바탕"/>
                <a:ea typeface="바탕"/>
              </a:rPr>
              <a:t>Приставные шаг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바탕"/>
                <a:ea typeface="바탕"/>
              </a:rPr>
              <a:t>Смена ног на зацепе подвигание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바탕"/>
                <a:ea typeface="바탕"/>
              </a:rPr>
              <a:t>Смена ног на зацепе прыжк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바탕"/>
                <a:ea typeface="바탕"/>
              </a:rPr>
              <a:t>Выпрямление ноги бедром наружу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바탕"/>
                <a:ea typeface="바탕"/>
              </a:rPr>
              <a:t>Выпрямление ноги бедром внутрь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바탕"/>
                <a:ea typeface="바탕"/>
              </a:rPr>
              <a:t>«Лягушка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바탕"/>
                <a:ea typeface="바탕"/>
              </a:rPr>
              <a:t>Заброс ноги на карниз носком, пятко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바탕"/>
                <a:ea typeface="바탕"/>
              </a:rPr>
              <a:t>Зажим носками зацепов на потолке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바탕"/>
                <a:ea typeface="바탕"/>
              </a:rPr>
              <a:t>«Джампинг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바탕"/>
                <a:ea typeface="바탕"/>
              </a:rPr>
              <a:t>Обхват ногами «сосулек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691240" y="1549440"/>
            <a:ext cx="259560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Работа ру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9280" y="1196640"/>
            <a:ext cx="561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Скрест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Со сменой рук на зацеп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Различные хваты (прямой, боковой, подхва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Двумя руками одновремен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Длинные перехваты (давление нижней рукой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Работа рук в упо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5842080" y="1484280"/>
            <a:ext cx="263844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42920" y="495360"/>
            <a:ext cx="8893080" cy="5913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Работа корпу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начение баланса, расположения ЦТ для успешного прохождения трас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Чем ближе к плоскости тренажера, тем больше вес распределяется на ноги, тем меньше «забиваются» ру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амое экономичное энергетически продвижение по трассе, если ЦТ – над опор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омпромисс между «удобством» и надежностью хвата и расположением Ц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778960" cy="65977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Перехват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4360" y="4652640"/>
            <a:ext cx="7416720" cy="16556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Динамические («3 в 1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Статические (одна рука в блоке во время перехвата друго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820360" cy="6340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바탕"/>
                <a:ea typeface="바탕"/>
              </a:rPr>
              <a:t>Специальные приемы</a:t>
            </a: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4000" y="981000"/>
            <a:ext cx="7200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바탕"/>
                <a:ea typeface="바탕"/>
              </a:rPr>
              <a:t>Скрутки (на навесах, потолка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바탕"/>
                <a:ea typeface="바탕"/>
              </a:rPr>
              <a:t>Накаты (на носок, на пятк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바탕"/>
                <a:ea typeface="바탕"/>
              </a:rPr>
              <a:t>Расп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바탕"/>
                <a:ea typeface="바탕"/>
              </a:rPr>
              <a:t>Откид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바탕"/>
                <a:ea typeface="바탕"/>
              </a:rPr>
              <a:t>Доставание зацепа за счет ка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바탕"/>
                <a:ea typeface="바탕"/>
              </a:rPr>
              <a:t>Сидение на пятке на зацепе для отдых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바탕"/>
                <a:ea typeface="바탕"/>
              </a:rPr>
              <a:t>Запрыгивание на полку из виса в уп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바탕"/>
                <a:ea typeface="바탕"/>
              </a:rPr>
              <a:t>«Эффект двери», на навесе на потолках работы разноименных конечнос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바탕"/>
                <a:ea typeface="바탕"/>
              </a:rPr>
              <a:t>«Четвер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바탕"/>
                <a:ea typeface="바탕"/>
              </a:rPr>
              <a:t>Перехваты за счет инерции т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9:53:18Z</dcterms:created>
  <dc:creator>Виталий</dc:creator>
  <dc:description/>
  <dc:language>en-US</dc:language>
  <cp:lastModifiedBy>User</cp:lastModifiedBy>
  <cp:lastPrinted>2016-02-04T07:29:16Z</cp:lastPrinted>
  <dcterms:modified xsi:type="dcterms:W3CDTF">2023-07-03T11:58:34Z</dcterms:modified>
  <cp:revision>44</cp:revision>
  <dc:subject/>
  <dc:title>Техника в скалолазании</dc:title>
</cp:coreProperties>
</file>