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780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дабаева Гулсара Мукимовна           МАУДО "Дом детского и юношеского туризма и экскурсий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24F6-CE6E-4407-ADFE-B5709AE118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79320" y="471780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4984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DC3B-953F-4394-8FF6-61D816828F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Дата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ижний колонтитул 5"/>
          <p:cNvSpPr/>
          <p:nvPr/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дабаева Гулсара Мукимовна           МАУДО "Дом детского и юношеского туризма и экскурсий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Верхний колонтитул 6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94F7-A0CC-4966-835E-1423F9A44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6BAF-C6A3-4CF7-8590-C60A8769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9B3B-48A3-4622-8C36-E5D085C8F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A50D-C8D4-4306-A4B7-A53E6B153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A85A-AD0D-4366-B425-78C5EE81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2EF2-99F1-4FB4-A793-B4570483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F3D1-2875-43AF-83E7-0EC28083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E56D-C557-4986-BED2-AF3AC0F8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A78A-B52C-4FCC-BC91-CC52B59E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A7F9-33B6-4932-B939-06DF36A7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A971-491D-4867-85FE-160B5B1A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6CAE-A757-485A-9E65-254AEE00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E596-C29F-4C53-9149-FA2D2CBE38C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file:///MOV01A.avi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"/>
          <p:cNvPicPr/>
          <p:nvPr/>
        </p:nvPicPr>
        <p:blipFill>
          <a:blip r:embed="rId1"/>
          <a:stretch/>
        </p:blipFill>
        <p:spPr>
          <a:xfrm>
            <a:off x="484200" y="334800"/>
            <a:ext cx="8061480" cy="6046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9960" y="105264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дел: Технико – тактическая подготовка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ма: Технические приемы в скалолаза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27040" y="4365360"/>
            <a:ext cx="8026560" cy="26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втор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дагог дополнительного образова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ухаматханова Гулсара Муким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rcRect l="-2820" t="-3712" r="-2820" b="21083"/>
          <a:stretch/>
        </p:blipFill>
        <p:spPr>
          <a:xfrm>
            <a:off x="971640" y="-243000"/>
            <a:ext cx="6978600" cy="67881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Главные технические принцип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826560" y="1674720"/>
            <a:ext cx="70059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Главный технический принцип лазания на трудность – за счет эффективной работы ног, баланса, работы корпуса «беречь» руки, чтобы их «хватило» до конца трасс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Лучший «тренажер» для  правильной работы ног – скал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441360" y="476280"/>
            <a:ext cx="8264520" cy="61974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Типичные ошибки лаз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41360" y="1773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Неправильная постановка ног на зацеп ( на середину стопы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«Зажатие рук», нет динамики («гипнотизируют зацепку»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Неправильная работа ног, плохо стоят, недостаточно нагружены весом тел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Излишняя статичность при перехватах, там, где можно легко сделать динамический перехват, делают его из «статики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Вместо выпрямления на ноге тянутся рукой к следующей зацепк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Неправильное расположение ЦТ (либо слишком далеко, либо слишком близко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00"/>
                </a:solidFill>
                <a:latin typeface="Calibri"/>
                <a:ea typeface="바탕"/>
              </a:rPr>
              <a:t>Скорость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WordArt 7"/>
          <p:cNvSpPr txBox="1"/>
          <p:nvPr/>
        </p:nvSpPr>
        <p:spPr>
          <a:xfrm>
            <a:off x="395280" y="1557360"/>
            <a:ext cx="813744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+mn-lt"/>
              </a:rPr>
              <a:t>Главный технический принцип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+mn-lt"/>
              </a:rPr>
              <a:t>лазания на скорость - все действия 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+mn-lt"/>
              </a:rPr>
              <a:t>направлены на развитие 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+mn-lt"/>
              </a:rPr>
              <a:t>максимальной скорости на трассе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latin typeface="+mn-lt"/>
              <a:ea typeface="+mn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ndara"/>
                <a:ea typeface="바탕"/>
              </a:rPr>
              <a:t>Техника скоростного лаз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000" y="981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  <a:ea typeface="바탕"/>
              </a:rPr>
              <a:t>Основной критерий техничности – скорость (1,5-2,0 м/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ndara"/>
                <a:ea typeface="바탕"/>
              </a:rPr>
              <a:t>Критерии техничности, как ряд правил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  <a:ea typeface="바탕"/>
              </a:rPr>
              <a:t>Линейность передвижения- одна нога над ругой ног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  <a:ea typeface="바탕"/>
              </a:rPr>
              <a:t>Постоянность и непрерывность движ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  <a:ea typeface="바탕"/>
              </a:rPr>
              <a:t>Постановка ноги в один при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  <a:ea typeface="바탕"/>
              </a:rPr>
              <a:t>Слитность движ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  <a:ea typeface="바탕"/>
              </a:rPr>
              <a:t>Отсутствие «подседаний» и «прилипаний», применение рукохода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ndara"/>
                <a:ea typeface="바탕"/>
                <a:hlinkClick r:id="rId2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ndara"/>
                <a:ea typeface="바탕"/>
              </a:rPr>
              <a:t>на потолк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  <a:ea typeface="바탕"/>
              </a:rPr>
              <a:t>Оптимальный тем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  <a:ea typeface="바탕"/>
              </a:rPr>
              <a:t>Хороший «расклад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  <a:ea typeface="바탕"/>
              </a:rPr>
              <a:t>Точност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  <a:ea typeface="바탕"/>
              </a:rPr>
              <a:t>Оптимальная амплитуда движ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  <a:ea typeface="바탕"/>
              </a:rPr>
              <a:t>Наличие трех тактико-технических качеств: быстрое переключение между видами работы, стабильность и находчив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  <a:ea typeface="바탕"/>
              </a:rPr>
              <a:t>Эффективность и экономичность движ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  <a:ea typeface="바탕"/>
              </a:rPr>
              <a:t>Согласованная работа рук и но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  <a:ea typeface="바탕"/>
              </a:rPr>
              <a:t>Правильная структура основных движ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48280" indent="-548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  <a:ea typeface="바탕"/>
              </a:rPr>
              <a:t>Мощный старт и ускоренный фини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fcf600">
              <a:alpha val="87000"/>
            </a:srgbClr>
          </a:solidFill>
          <a:ln w="284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바탕"/>
              </a:rPr>
              <a:t>Факторы влияющие на технику скоростного лазания и параметры техничност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108000" y="1557360"/>
            <a:ext cx="1657440" cy="2303280"/>
          </a:xfrm>
          <a:prstGeom prst="rect">
            <a:avLst/>
          </a:prstGeom>
          <a:solidFill>
            <a:srgbClr val="c6d9f1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바탕"/>
                <a:ea typeface="바탕"/>
              </a:rPr>
              <a:t>Временны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바탕"/>
                <a:ea typeface="바탕"/>
              </a:rPr>
              <a:t>темп, скорость отдельных движений, реакция на заце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 flipV="1">
            <a:off x="1547640" y="1125360"/>
            <a:ext cx="25196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1798560" y="1557360"/>
            <a:ext cx="2665440" cy="2482920"/>
          </a:xfrm>
          <a:prstGeom prst="rect">
            <a:avLst/>
          </a:prstGeom>
          <a:solidFill>
            <a:srgbClr val="c6d9f1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바탕"/>
                <a:ea typeface="바탕"/>
              </a:rPr>
              <a:t>Пространственны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바탕"/>
                <a:ea typeface="바탕"/>
              </a:rPr>
              <a:t>близость траектории центра тела к идеалу, амплитуда, точность попадания на заце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4527720" y="1557360"/>
            <a:ext cx="2376360" cy="1871640"/>
          </a:xfrm>
          <a:prstGeom prst="rect">
            <a:avLst/>
          </a:prstGeom>
          <a:solidFill>
            <a:srgbClr val="c6d9f1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바탕"/>
                <a:ea typeface="바탕"/>
              </a:rPr>
              <a:t>Энергетически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바탕"/>
                <a:ea typeface="바탕"/>
              </a:rPr>
              <a:t>экономичность, рациональность, слитность, незакрепащен-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7020000" y="1557360"/>
            <a:ext cx="2124000" cy="2303280"/>
          </a:xfrm>
          <a:prstGeom prst="rect">
            <a:avLst/>
          </a:prstGeom>
          <a:solidFill>
            <a:srgbClr val="c6d9f1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바탕"/>
                <a:ea typeface="바탕"/>
              </a:rPr>
              <a:t>Тактически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바탕"/>
                <a:ea typeface="바탕"/>
              </a:rPr>
              <a:t>оптимальный выбор зацепов, расклад, перестройка, стаби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1"/>
          <p:cNvSpPr/>
          <p:nvPr/>
        </p:nvSpPr>
        <p:spPr>
          <a:xfrm flipH="1">
            <a:off x="4140360" y="1125360"/>
            <a:ext cx="57600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"/>
          <p:cNvSpPr/>
          <p:nvPr/>
        </p:nvSpPr>
        <p:spPr>
          <a:xfrm>
            <a:off x="5219640" y="1125360"/>
            <a:ext cx="5763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3"/>
          <p:cNvSpPr/>
          <p:nvPr/>
        </p:nvSpPr>
        <p:spPr>
          <a:xfrm>
            <a:off x="5867280" y="1125360"/>
            <a:ext cx="15130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108000" y="4076640"/>
            <a:ext cx="1295280" cy="792360"/>
          </a:xfrm>
          <a:prstGeom prst="rect">
            <a:avLst/>
          </a:prstGeom>
          <a:solidFill>
            <a:srgbClr val="d99694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바탕"/>
                <a:ea typeface="바탕"/>
              </a:rPr>
              <a:t>Техника ста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5"/>
          <p:cNvSpPr/>
          <p:nvPr/>
        </p:nvSpPr>
        <p:spPr>
          <a:xfrm>
            <a:off x="7524720" y="4149720"/>
            <a:ext cx="1368360" cy="719280"/>
          </a:xfrm>
          <a:prstGeom prst="rect">
            <a:avLst/>
          </a:prstGeom>
          <a:solidFill>
            <a:srgbClr val="d99694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바탕"/>
                <a:ea typeface="바탕"/>
              </a:rPr>
              <a:t>Техника фини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6"/>
          <p:cNvSpPr/>
          <p:nvPr/>
        </p:nvSpPr>
        <p:spPr>
          <a:xfrm>
            <a:off x="189000" y="5208480"/>
            <a:ext cx="8675640" cy="1225800"/>
          </a:xfrm>
          <a:prstGeom prst="rect">
            <a:avLst/>
          </a:prstGeom>
          <a:solidFill>
            <a:srgbClr val="ffff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Хороший результ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7"/>
          <p:cNvSpPr/>
          <p:nvPr/>
        </p:nvSpPr>
        <p:spPr>
          <a:xfrm>
            <a:off x="2158920" y="4221000"/>
            <a:ext cx="4537080" cy="503280"/>
          </a:xfrm>
          <a:prstGeom prst="rect">
            <a:avLst/>
          </a:prstGeom>
          <a:solidFill>
            <a:srgbClr val="d99694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바탕"/>
                <a:ea typeface="바탕"/>
              </a:rPr>
              <a:t>Скорость на трас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8"/>
          <p:cNvSpPr/>
          <p:nvPr/>
        </p:nvSpPr>
        <p:spPr>
          <a:xfrm>
            <a:off x="1258920" y="3860640"/>
            <a:ext cx="1152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9"/>
          <p:cNvSpPr/>
          <p:nvPr/>
        </p:nvSpPr>
        <p:spPr>
          <a:xfrm>
            <a:off x="3276720" y="3860640"/>
            <a:ext cx="3585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0"/>
          <p:cNvSpPr/>
          <p:nvPr/>
        </p:nvSpPr>
        <p:spPr>
          <a:xfrm flipH="1">
            <a:off x="5181120" y="3429000"/>
            <a:ext cx="903240" cy="79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1"/>
          <p:cNvSpPr/>
          <p:nvPr/>
        </p:nvSpPr>
        <p:spPr>
          <a:xfrm flipH="1">
            <a:off x="6588000" y="386064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2"/>
          <p:cNvSpPr/>
          <p:nvPr/>
        </p:nvSpPr>
        <p:spPr>
          <a:xfrm flipH="1">
            <a:off x="6732720" y="4365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3"/>
          <p:cNvSpPr/>
          <p:nvPr/>
        </p:nvSpPr>
        <p:spPr>
          <a:xfrm>
            <a:off x="1403280" y="4365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4"/>
          <p:cNvSpPr/>
          <p:nvPr/>
        </p:nvSpPr>
        <p:spPr>
          <a:xfrm>
            <a:off x="4427640" y="472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5"/>
          <p:cNvSpPr/>
          <p:nvPr/>
        </p:nvSpPr>
        <p:spPr>
          <a:xfrm flipH="1">
            <a:off x="7236000" y="4724280"/>
            <a:ext cx="288720" cy="48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Техника в скалолазании(виды дистанций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32000" y="5589720"/>
            <a:ext cx="64008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Элементы «базовой» техники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трудность, боулдеринг, скор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908000" y="1147680"/>
            <a:ext cx="56883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바탕"/>
                <a:ea typeface="바탕"/>
              </a:rPr>
              <a:t>Постановка ног на заце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25600" y="3428640"/>
            <a:ext cx="33256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바탕"/>
                <a:ea typeface="바탕"/>
              </a:rPr>
              <a:t>Хват носко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바탕"/>
                <a:ea typeface="바탕"/>
              </a:rPr>
              <a:t>Хват пятк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바탕"/>
                <a:ea typeface="바탕"/>
              </a:rPr>
              <a:t>Носок – пят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바탕"/>
                <a:ea typeface="바탕"/>
              </a:rPr>
              <a:t>«Велосипед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8" descr=""/>
          <p:cNvPicPr/>
          <p:nvPr/>
        </p:nvPicPr>
        <p:blipFill>
          <a:blip r:embed="rId1"/>
          <a:stretch/>
        </p:blipFill>
        <p:spPr>
          <a:xfrm>
            <a:off x="4211640" y="3645000"/>
            <a:ext cx="3795840" cy="2846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"/>
          <p:cNvPicPr/>
          <p:nvPr/>
        </p:nvPicPr>
        <p:blipFill>
          <a:blip r:embed="rId2"/>
          <a:stretch/>
        </p:blipFill>
        <p:spPr>
          <a:xfrm>
            <a:off x="4788000" y="1052640"/>
            <a:ext cx="3097080" cy="2322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"/>
          <p:cNvPicPr/>
          <p:nvPr/>
        </p:nvPicPr>
        <p:blipFill>
          <a:blip r:embed="rId3"/>
          <a:stretch/>
        </p:blipFill>
        <p:spPr>
          <a:xfrm>
            <a:off x="755640" y="1187280"/>
            <a:ext cx="273672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912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바탕"/>
                <a:ea typeface="바탕"/>
              </a:rPr>
              <a:t>Постановка рук на заце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3068640"/>
            <a:ext cx="525600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바탕"/>
                <a:ea typeface="바탕"/>
              </a:rPr>
              <a:t>Виды хватов ру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바탕"/>
                <a:ea typeface="바탕"/>
              </a:rPr>
              <a:t>Открытый хват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바탕"/>
                <a:ea typeface="바탕"/>
              </a:rPr>
              <a:t>Раскрытый хват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바탕"/>
                <a:ea typeface="바탕"/>
              </a:rPr>
              <a:t>Закрытый хват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바탕"/>
                <a:ea typeface="바탕"/>
              </a:rPr>
              <a:t>Щипковыйхва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633920" y="1341360"/>
            <a:ext cx="397044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398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바탕"/>
                <a:ea typeface="바탕"/>
              </a:rPr>
              <a:t>Работа ног – главное условие техничного лаз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11280" y="1700280"/>
            <a:ext cx="475272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바탕"/>
                <a:ea typeface="바탕"/>
              </a:rPr>
              <a:t>Прямое вставание на зацепе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바탕"/>
                <a:ea typeface="바탕"/>
              </a:rPr>
              <a:t>Скрестные шаг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바탕"/>
                <a:ea typeface="바탕"/>
              </a:rPr>
              <a:t>Приставные шаг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바탕"/>
                <a:ea typeface="바탕"/>
              </a:rPr>
              <a:t>Смена ног на зацепе подвиганием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바탕"/>
                <a:ea typeface="바탕"/>
              </a:rPr>
              <a:t>Смена ног на зацепе прыжком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바탕"/>
                <a:ea typeface="바탕"/>
              </a:rPr>
              <a:t>Выпрямление ноги бедром наружу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바탕"/>
                <a:ea typeface="바탕"/>
              </a:rPr>
              <a:t>Выпрямление ноги бедром внутрь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바탕"/>
                <a:ea typeface="바탕"/>
              </a:rPr>
              <a:t>«Лягушка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바탕"/>
                <a:ea typeface="바탕"/>
              </a:rPr>
              <a:t>Заброс ноги на карниз носком, пяткой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바탕"/>
                <a:ea typeface="바탕"/>
              </a:rPr>
              <a:t>Зажим носками зацепов на потолке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바탕"/>
                <a:ea typeface="바탕"/>
              </a:rPr>
              <a:t>«Джампинг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바탕"/>
                <a:ea typeface="바탕"/>
              </a:rPr>
              <a:t>Обхват ногами «сосулек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5691240" y="1549440"/>
            <a:ext cx="2595600" cy="46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바탕"/>
                <a:ea typeface="바탕"/>
              </a:rPr>
              <a:t>Работа ру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79280" y="1196640"/>
            <a:ext cx="5616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바탕"/>
                <a:ea typeface="바탕"/>
              </a:rPr>
              <a:t>Скрест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바탕"/>
                <a:ea typeface="바탕"/>
              </a:rPr>
              <a:t>Со сменой рук на зацеп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바탕"/>
                <a:ea typeface="바탕"/>
              </a:rPr>
              <a:t>Различные хваты (прямой, боковой, подхва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바탕"/>
                <a:ea typeface="바탕"/>
              </a:rPr>
              <a:t>Двумя руками одновремен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바탕"/>
                <a:ea typeface="바탕"/>
              </a:rPr>
              <a:t>Длинные перехваты (давление нижней рукой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바탕"/>
                <a:ea typeface="바탕"/>
              </a:rPr>
              <a:t>Работа рук в упо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5842080" y="1484280"/>
            <a:ext cx="263844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42920" y="495360"/>
            <a:ext cx="8893080" cy="59133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Работа корпу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Значение баланса, расположения ЦТ для успешного прохождения трас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Чем ближе к плоскости тренажера, тем больше вес распределяется на ноги, тем меньше «забиваются» ру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амое экономичное энергетически продвижение по трассе, если ЦТ – над опор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Компромисс между «удобством» и надежностью хвата и расположением Ц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25360" y="115920"/>
            <a:ext cx="8778960" cy="65977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바탕"/>
                <a:ea typeface="바탕"/>
              </a:rPr>
              <a:t>Перехват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4360" y="4652640"/>
            <a:ext cx="7416720" cy="165564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바탕"/>
                <a:ea typeface="바탕"/>
              </a:rPr>
              <a:t>Динамические («3 в 1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바탕"/>
                <a:ea typeface="바탕"/>
              </a:rPr>
              <a:t>Статические (одна рука в блоке во время перехвата другой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820360" cy="63403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바탕"/>
                <a:ea typeface="바탕"/>
              </a:rPr>
              <a:t>Специальные приемы</a:t>
            </a:r>
            <a:br>
              <a:rPr sz="29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24000" y="981000"/>
            <a:ext cx="7200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바탕"/>
                <a:ea typeface="바탕"/>
              </a:rPr>
              <a:t>Скрутки (на навесах, потолках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바탕"/>
                <a:ea typeface="바탕"/>
              </a:rPr>
              <a:t>Накаты (на носок, на пятк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바탕"/>
                <a:ea typeface="바탕"/>
              </a:rPr>
              <a:t>Расп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바탕"/>
                <a:ea typeface="바탕"/>
              </a:rPr>
              <a:t>Откидк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바탕"/>
                <a:ea typeface="바탕"/>
              </a:rPr>
              <a:t>Доставание зацепа за счет кач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바탕"/>
                <a:ea typeface="바탕"/>
              </a:rPr>
              <a:t>Сидение на пятке на зацепе для отдых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바탕"/>
                <a:ea typeface="바탕"/>
              </a:rPr>
              <a:t>Запрыгивание на полку из виса в уп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바탕"/>
                <a:ea typeface="바탕"/>
              </a:rPr>
              <a:t>«Эффект двери», на навесе на потолках работы разноименных конечност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바탕"/>
                <a:ea typeface="바탕"/>
              </a:rPr>
              <a:t>«Четверк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바탕"/>
                <a:ea typeface="바탕"/>
              </a:rPr>
              <a:t>Перехваты за счет инерции те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9:53:18Z</dcterms:created>
  <dc:creator>Виталий</dc:creator>
  <dc:description/>
  <dc:language>en-US</dc:language>
  <cp:lastModifiedBy>User</cp:lastModifiedBy>
  <cp:lastPrinted>2016-02-04T07:29:16Z</cp:lastPrinted>
  <dcterms:modified xsi:type="dcterms:W3CDTF">2023-07-03T11:58:34Z</dcterms:modified>
  <cp:revision>44</cp:revision>
  <dc:subject/>
  <dc:title>Техника в скалолазании</dc:title>
</cp:coreProperties>
</file>