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A61-5391-4787-AA7C-97C29B81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3B17-0231-4552-A8E6-5BCF854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417-F7EC-4B8C-A06A-00C7E08B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826-1C70-46CE-A833-83BA5F8D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B15D-DFEA-4518-A740-F6DAB87D0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96A3B-10F7-4A10-96DA-DB6D985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1F3-F69D-41E4-BC9D-168989B4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1E19-64B5-4066-88BE-A0D4D6E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47EB-BF84-46B9-ADCE-66245CD6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4A5-AE38-4C4A-B790-0C61748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7A7B-B76D-4008-8D8C-394442DD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9F5A-AE80-4215-9252-CD57CEDF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8BD2-4702-4D6D-A389-551C8300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A5EB-9F5E-4CD1-8332-E902F240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5617-6C39-43E7-9262-F4F9953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1588-5B9E-4B51-B50F-75CE4ADB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760D-87B6-45F6-83BB-4B33C0CC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D386E-CA86-4BC8-8CE8-FAAC2978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E9021-FF8B-4B03-86C6-AAA457C8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0D59-250B-491C-9CCA-A392B6F2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439E-A005-4ACC-9A16-5DBF114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3C639-2214-46D0-8610-0CDCF373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E91-52EF-46B9-A4A0-6859FB3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0DF49-1ECA-4FE7-80D7-CF145748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84A7-C409-4D1A-998A-9806B4A3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48BCA-1126-4EA7-83E2-1777525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3FB9-0ABC-45C8-A4C1-C178209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D019-5817-4556-8C3B-5DBF1CF8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F2CC-FFA9-4E23-8DF5-B5499508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AC0B-7214-4FA1-B01C-2E57B51D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336EE-93A6-48AC-9DC3-57547982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EB9B6-0652-48A0-BA5C-B3177986C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6E246-1806-4244-A1D8-FFBC3340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469-F54F-45A1-8D24-DCC60EE6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243B5-923C-488E-95A6-207715EA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F679-DA59-45B4-9929-3F1363C3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89A7-37F1-4EF3-A721-EE0CA91C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5100-5999-48EF-A8EE-BBC944A5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A1E99-183F-44B6-925C-52FFCFE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9646A-D0C8-4C88-A999-2231C50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2D783-4F77-4C6A-B747-04AF6C6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5774B-93BE-4D92-A09F-CDBDBCE0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D3CA4-0616-446C-A106-BE600308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47E81-CB36-467C-9DD8-54AA051D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75C-D5DE-4895-9CB8-223B5628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16D98-59A8-4319-B287-96B867BC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33872-06AD-473B-B565-F4A3BF7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607CD-2C1E-446C-8231-CF537971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E23F-08A5-465B-BBDF-2314BAF9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18BE3-8C59-4856-95D5-A7BDEF17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764B2-9645-4F7A-91AE-E41D4076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BBE9-D84E-4135-96FD-559D8FCC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49955-0E4A-4A81-806F-5050865C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0EB23-2DA4-41D4-954E-4B6F9337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7BD09-4566-405C-8DD9-5037871D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94F-263C-4CDC-965C-34A4AFE1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2C8A-ED06-4604-A750-6733951E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53E-A9B5-4B63-8BA7-B41CD210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75A-065E-46A1-8B4A-CFC31879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B2C-4F1E-48B4-945B-C934B91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D5F4-DC97-44A8-B3FF-508BF0F9BC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8DEE-8F47-430F-B35E-01FDFDB88B5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3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4288-B9EF-499B-9830-261DAAE087E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EC08-6D6C-4F9E-876B-646F6A3A60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4AF2-B127-4602-A174-B75D9EAA1DC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&#1042;&#1080;&#1076;&#1077;&#1086;&#1091;&#1088;&#1086;&#1082;_&#1048;&#1079;&#1084;&#1077;&#1088;&#1077;&#1085;&#1080;&#1103;.mp4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8" descr="https://xn--118-5cd3cgu2f.xn--p1ai/images/logo.png"/>
          <p:cNvPicPr/>
          <p:nvPr/>
        </p:nvPicPr>
        <p:blipFill>
          <a:blip r:embed="rId1"/>
          <a:stretch/>
        </p:blipFill>
        <p:spPr>
          <a:xfrm>
            <a:off x="6480" y="403200"/>
            <a:ext cx="3476520" cy="14191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0000" y="213336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ИЗМЕРЕНИЕ.</a:t>
            </a:r>
            <a:endParaRPr b="0" lang="en-US" sz="4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2124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Учитель биологии</a:t>
            </a:r>
            <a:endParaRPr b="0" lang="en-US" sz="26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alibri"/>
                <a:ea typeface="Arial"/>
              </a:rPr>
              <a:t>МАОУ «ШКОЛА № 118 с углубленным изучением отдельных предметов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  <a:ea typeface="Arial"/>
              </a:rPr>
              <a:t>»</a:t>
            </a: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  <a:ea typeface="Arial"/>
              </a:rPr>
              <a:t>Трегубенко Юлия Владимировна</a:t>
            </a:r>
            <a:endParaRPr b="0" lang="en-US" sz="33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5837040" y="5000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 урок 5 класс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3" descr=""/>
          <p:cNvPicPr/>
          <p:nvPr/>
        </p:nvPicPr>
        <p:blipFill>
          <a:blip r:embed="rId1"/>
          <a:srcRect l="3255" t="10813" r="7007" b="9170"/>
          <a:stretch/>
        </p:blipFill>
        <p:spPr>
          <a:xfrm>
            <a:off x="47520" y="476280"/>
            <a:ext cx="2987640" cy="2665440"/>
          </a:xfrm>
          <a:prstGeom prst="rect">
            <a:avLst/>
          </a:prstGeom>
          <a:ln w="0">
            <a:noFill/>
          </a:ln>
        </p:spPr>
      </p:pic>
      <p:sp>
        <p:nvSpPr>
          <p:cNvPr id="249" name="Заголовок 1"/>
          <p:cNvSpPr/>
          <p:nvPr/>
        </p:nvSpPr>
        <p:spPr>
          <a:xfrm>
            <a:off x="1332000" y="2438280"/>
            <a:ext cx="343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ТЕРМОМЕТР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0" name="Рисунок 5" descr=""/>
          <p:cNvPicPr/>
          <p:nvPr/>
        </p:nvPicPr>
        <p:blipFill>
          <a:blip r:embed="rId2"/>
          <a:stretch/>
        </p:blipFill>
        <p:spPr>
          <a:xfrm>
            <a:off x="5229360" y="1090440"/>
            <a:ext cx="3186000" cy="318636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1"/>
          <p:cNvSpPr/>
          <p:nvPr/>
        </p:nvSpPr>
        <p:spPr>
          <a:xfrm>
            <a:off x="4591080" y="5122800"/>
            <a:ext cx="3816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ЛИНЕЙКИ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РУЛЕТКА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3"/>
          <a:stretch/>
        </p:blipFill>
        <p:spPr>
          <a:xfrm>
            <a:off x="301680" y="3429000"/>
            <a:ext cx="4575240" cy="3051000"/>
          </a:xfrm>
          <a:prstGeom prst="rect">
            <a:avLst/>
          </a:prstGeom>
          <a:ln w="0">
            <a:noFill/>
          </a:ln>
        </p:spPr>
      </p:pic>
      <p:sp>
        <p:nvSpPr>
          <p:cNvPr id="253" name="Заголовок 1"/>
          <p:cNvSpPr/>
          <p:nvPr/>
        </p:nvSpPr>
        <p:spPr>
          <a:xfrm>
            <a:off x="4950000" y="378000"/>
            <a:ext cx="3816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СЕКУНДОМЕР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3"/>
          <p:cNvSpPr/>
          <p:nvPr/>
        </p:nvSpPr>
        <p:spPr>
          <a:xfrm>
            <a:off x="1287360" y="0"/>
            <a:ext cx="638172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ПРЕДЕЛ ИЗМЕРЕНИЯ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108000" y="836640"/>
            <a:ext cx="39592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это наибольшая величина, которая может быть измерена с помощью данного измерительного прибора. 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rcRect l="0" t="0" r="0" b="10262"/>
          <a:stretch/>
        </p:blipFill>
        <p:spPr>
          <a:xfrm>
            <a:off x="4572000" y="1292400"/>
            <a:ext cx="4071960" cy="46814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5601960" y="9237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ЕРХНИЙ ПРЕДЕ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8" name="TextBox 8"/>
          <p:cNvSpPr/>
          <p:nvPr/>
        </p:nvSpPr>
        <p:spPr>
          <a:xfrm>
            <a:off x="5497920" y="583884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ИЖНИЙ ПРЕДЕЛ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cxnSp>
        <p:nvCxnSpPr>
          <p:cNvPr id="259" name="Прямая со стрелкой 10"/>
          <p:cNvCxnSpPr/>
          <p:nvPr/>
        </p:nvCxnSpPr>
        <p:spPr>
          <a:xfrm flipH="1">
            <a:off x="4865040" y="1217520"/>
            <a:ext cx="1507320" cy="5961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0" name="Прямая со стрелкой 12"/>
          <p:cNvCxnSpPr/>
          <p:nvPr/>
        </p:nvCxnSpPr>
        <p:spPr>
          <a:xfrm>
            <a:off x="6708600" y="1238040"/>
            <a:ext cx="1464480" cy="6087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1" name="Прямая со стрелкой 18"/>
          <p:cNvCxnSpPr/>
          <p:nvPr/>
        </p:nvCxnSpPr>
        <p:spPr>
          <a:xfrm flipH="1" flipV="1">
            <a:off x="4982400" y="5218200"/>
            <a:ext cx="1245240" cy="62100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  <p:cxnSp>
        <p:nvCxnSpPr>
          <p:cNvPr id="262" name="Прямая со стрелкой 21"/>
          <p:cNvCxnSpPr/>
          <p:nvPr/>
        </p:nvCxnSpPr>
        <p:spPr>
          <a:xfrm flipV="1">
            <a:off x="6762600" y="5217840"/>
            <a:ext cx="1410480" cy="635760"/>
          </a:xfrm>
          <a:prstGeom prst="straightConnector1">
            <a:avLst/>
          </a:prstGeom>
          <a:ln w="50760">
            <a:solidFill>
              <a:srgbClr val="00427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4"/>
          <p:cNvSpPr/>
          <p:nvPr/>
        </p:nvSpPr>
        <p:spPr>
          <a:xfrm>
            <a:off x="0" y="765000"/>
            <a:ext cx="91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еличина, соответствующая расстоянию между двумя соседними штрихами шкалы измерительного прибора.</a:t>
            </a:r>
            <a:endParaRPr b="0" lang="en-US" sz="4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2168280" y="0"/>
            <a:ext cx="4807440" cy="9169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ЦЕНА ДЕЛЕНИЯ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65" name="Рисунок 7" descr=""/>
          <p:cNvPicPr/>
          <p:nvPr/>
        </p:nvPicPr>
        <p:blipFill>
          <a:blip r:embed="rId1"/>
          <a:srcRect l="4209" t="19764" r="4209" b="7026"/>
          <a:stretch/>
        </p:blipFill>
        <p:spPr>
          <a:xfrm>
            <a:off x="1062000" y="3429000"/>
            <a:ext cx="7056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адпись 4"/>
          <p:cNvSpPr/>
          <p:nvPr/>
        </p:nvSpPr>
        <p:spPr>
          <a:xfrm>
            <a:off x="179280" y="58680"/>
            <a:ext cx="8785440" cy="674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alibri"/>
                <a:ea typeface="Calibri"/>
              </a:rPr>
              <a:t>Порядок проведения измерений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Calibri"/>
                <a:ea typeface="Calibri"/>
              </a:rPr>
              <a:t> 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1. Поставьте цель проведения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2. Определите количественные признаки (параметры) объекта для проведения измерения и инструменты, необходимые для этих целей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3. Выберите единицы измерения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4. Определите предел измерения и цену деления доступных измерительных приборов и выберите из них наиболее подходящие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5. Проведите измерение с использованием соответствующих приборов. Для получения объективных результатов измерение каждого параметра следует провести три раза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libri"/>
                <a:ea typeface="Calibri"/>
              </a:rPr>
              <a:t>6. Вычислите среднее значение измеренных величин.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0" y="-360"/>
            <a:ext cx="9144000" cy="1484280"/>
          </a:xfrm>
          <a:prstGeom prst="rect">
            <a:avLst/>
          </a:prstGeom>
          <a:solidFill>
            <a:srgbClr val="b3bbc6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  <a:ea typeface="Calibri"/>
              </a:rPr>
              <a:t>ПОЛЬЗУЯСЬ ПАМЯТКОЙ, ИЗМЕРЬТЕ ДЛИНУ И ШИРИНУ НЕСКОЛЬКИХ ЛИСТЬЕВ РАСТЕНИй. ЗАНЕСИТЕ ДАННЫЕ В ТАБЛИЦУ.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-36360" y="3141720"/>
          <a:ext cx="9001080" cy="2590920"/>
        </p:xfrm>
        <a:graphic>
          <a:graphicData uri="http://schemas.openxmlformats.org/drawingml/2006/table">
            <a:tbl>
              <a:tblPr/>
              <a:tblGrid>
                <a:gridCol w="1520640"/>
                <a:gridCol w="951120"/>
                <a:gridCol w="919080"/>
                <a:gridCol w="1077840"/>
                <a:gridCol w="1077840"/>
                <a:gridCol w="1141560"/>
                <a:gridCol w="868320"/>
                <a:gridCol w="774720"/>
                <a:gridCol w="669960"/>
              </a:tblGrid>
              <a:tr h="6825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ВИД РАСТЕНИЯ. РИСУНОК ЛИСТА</a:t>
                      </a:r>
                      <a:r>
                        <a:rPr b="1" lang="ru-RU" sz="1600" spc="-1" strike="noStrike">
                          <a:solidFill>
                            <a:srgbClr val="292934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Результаты измерений ШИРИНЫ, мм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a13"/>
                          </a:solidFill>
                          <a:latin typeface="Calibri"/>
                          <a:ea typeface="Calibri"/>
                        </a:rPr>
                        <a:t>Результаты измерений ДЛИНЫ, мм</a:t>
                      </a:r>
                      <a:endParaRPr b="0" lang="en-US" sz="20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реднее значение</a:t>
                      </a:r>
                      <a:endParaRPr b="0" lang="en-US" sz="14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92934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dd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1"/>
          <p:cNvSpPr/>
          <p:nvPr/>
        </p:nvSpPr>
        <p:spPr>
          <a:xfrm>
            <a:off x="1010160" y="1865520"/>
            <a:ext cx="732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1. ИЗМЕРЕНИЕ ЛИСТЬЕВ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Заголовок 1"/>
          <p:cNvSpPr/>
          <p:nvPr/>
        </p:nvSpPr>
        <p:spPr>
          <a:xfrm>
            <a:off x="2357280" y="476280"/>
            <a:ext cx="4429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  <a:ea typeface="Arial"/>
              </a:rPr>
              <a:t>2. РЕШИМ ЗАДАНИЯ</a:t>
            </a:r>
            <a:endParaRPr b="0" lang="en-US" sz="3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250920" y="146700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РЕДЕЛИТЕ ЦЕНУ ДЕЛЕНИЯ ПРИБОРА И ОБЪЕМ ЖИДКОСТИ В МЕНЗУРКЕ</a:t>
            </a:r>
            <a:endParaRPr b="0" lang="en-US" sz="2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2" name="Рисунок 3" descr=""/>
          <p:cNvPicPr/>
          <p:nvPr/>
        </p:nvPicPr>
        <p:blipFill>
          <a:blip r:embed="rId1"/>
          <a:stretch/>
        </p:blipFill>
        <p:spPr>
          <a:xfrm>
            <a:off x="250920" y="2600280"/>
            <a:ext cx="8361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0" y="1430280"/>
            <a:ext cx="6416640" cy="4805280"/>
          </a:xfrm>
          <a:prstGeom prst="rect">
            <a:avLst/>
          </a:prstGeom>
          <a:ln w="0">
            <a:noFill/>
          </a:ln>
        </p:spPr>
      </p:pic>
      <p:sp>
        <p:nvSpPr>
          <p:cNvPr id="274" name="TextBox 5"/>
          <p:cNvSpPr/>
          <p:nvPr/>
        </p:nvSpPr>
        <p:spPr>
          <a:xfrm>
            <a:off x="468360" y="476280"/>
            <a:ext cx="88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3. ОПРЕДЕЛИТЕ ОБЪЕМ ТЕЛА С ПОМОЩЬЮ МЕНЗУРКИ</a:t>
            </a:r>
            <a:endParaRPr b="0" lang="en-US" sz="3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6241320" y="2205000"/>
            <a:ext cx="301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ЦЕНА ДЕЛЕНИЯ 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МЕНЗУРКИ =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34"/>
                </a:solidFill>
                <a:latin typeface="Calibri"/>
              </a:rPr>
              <a:t>ОБЪЁМ ТЕЛА =</a:t>
            </a:r>
            <a:endParaRPr b="0" lang="en-US" sz="3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4"/>
          <p:cNvSpPr/>
          <p:nvPr/>
        </p:nvSpPr>
        <p:spPr>
          <a:xfrm>
            <a:off x="307800" y="1255680"/>
            <a:ext cx="8209080" cy="2745360"/>
          </a:xfrm>
          <a:prstGeom prst="rect">
            <a:avLst/>
          </a:prstGeom>
          <a:solidFill>
            <a:srgbClr val="ffffff"/>
          </a:solidFill>
          <a:ln w="26280">
            <a:solidFill>
              <a:srgbClr val="7946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92934"/>
                </a:solidFill>
                <a:latin typeface="Arial"/>
              </a:rPr>
              <a:t>   </a:t>
            </a:r>
            <a:r>
              <a:rPr b="0" lang="ru-RU" sz="5400" spc="-1" strike="noStrike">
                <a:solidFill>
                  <a:srgbClr val="292934"/>
                </a:solidFill>
                <a:latin typeface="Arial"/>
              </a:rPr>
              <a:t>5 прочитать. </a:t>
            </a:r>
            <a:r>
              <a:rPr b="1" lang="ru-RU" sz="4000" spc="-1" strike="noStrike">
                <a:solidFill>
                  <a:srgbClr val="a53926"/>
                </a:solidFill>
                <a:latin typeface="Calibri"/>
              </a:rPr>
              <a:t>Доделать измерения и задания урока в тетради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468360" y="1355760"/>
            <a:ext cx="485640" cy="763560"/>
          </a:xfrm>
          <a:prstGeom prst="rect">
            <a:avLst/>
          </a:prstGeom>
          <a:ln w="0">
            <a:noFill/>
          </a:ln>
        </p:spPr>
      </p:pic>
      <p:sp>
        <p:nvSpPr>
          <p:cNvPr id="278" name="Заголовок 1"/>
          <p:cNvSpPr/>
          <p:nvPr/>
        </p:nvSpPr>
        <p:spPr>
          <a:xfrm>
            <a:off x="755640" y="404640"/>
            <a:ext cx="7488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9" name="AutoShape 2"/>
          <p:cNvSpPr/>
          <p:nvPr/>
        </p:nvSpPr>
        <p:spPr>
          <a:xfrm>
            <a:off x="155520" y="-966960"/>
            <a:ext cx="12952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07800" y="-814320"/>
            <a:ext cx="129564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281" name="TextBox 5"/>
          <p:cNvGrpSpPr/>
          <p:nvPr/>
        </p:nvGrpSpPr>
        <p:grpSpPr>
          <a:xfrm>
            <a:off x="92160" y="4870440"/>
            <a:ext cx="8820000" cy="1463760"/>
            <a:chOff x="92160" y="4870440"/>
            <a:chExt cx="8820000" cy="1463760"/>
          </a:xfrm>
        </p:grpSpPr>
        <p:pic>
          <p:nvPicPr>
            <p:cNvPr id="282" name="TextBox 5" descr=""/>
            <p:cNvPicPr/>
            <p:nvPr/>
          </p:nvPicPr>
          <p:blipFill>
            <a:blip r:embed="rId2"/>
            <a:stretch/>
          </p:blipFill>
          <p:spPr>
            <a:xfrm>
              <a:off x="92160" y="4870440"/>
              <a:ext cx="882000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95400" y="4878360"/>
              <a:ext cx="8808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ЗАДАНИЕ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№ </a:t>
              </a:r>
              <a:r>
                <a:rPr b="1" lang="ru-RU" sz="4400" spc="-1" strike="noStrike">
                  <a:solidFill>
                    <a:srgbClr val="3a1953"/>
                  </a:solidFill>
                  <a:latin typeface="Calibri"/>
                </a:rPr>
                <a:t>2 И 3 стр.37 письменно. </a:t>
              </a:r>
              <a:endParaRPr b="0" lang="en-US" sz="4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548480" y="0"/>
            <a:ext cx="159552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277720" y="404640"/>
            <a:ext cx="43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ВСПОМНИ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5" name="Прямоугольник 4"/>
          <p:cNvSpPr/>
          <p:nvPr/>
        </p:nvSpPr>
        <p:spPr>
          <a:xfrm>
            <a:off x="108000" y="148428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4274"/>
                </a:solidFill>
                <a:latin typeface="Calibri"/>
                <a:ea typeface="Arial"/>
              </a:rPr>
              <a:t>Какие методы исследования вы знаете?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2277720" y="404640"/>
            <a:ext cx="43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ВСПОМНИМ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5" descr=""/>
          <p:cNvPicPr/>
          <p:nvPr/>
        </p:nvPicPr>
        <p:blipFill>
          <a:blip r:embed="rId1"/>
          <a:stretch/>
        </p:blipFill>
        <p:spPr>
          <a:xfrm>
            <a:off x="-7920" y="1111320"/>
            <a:ext cx="9159840" cy="43657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6"/>
          <p:cNvSpPr/>
          <p:nvPr/>
        </p:nvSpPr>
        <p:spPr>
          <a:xfrm>
            <a:off x="164520" y="201600"/>
            <a:ext cx="878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УСТАНОВИТЕ СООТВЕТСТВИ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29" name="Рисунок 7" descr=""/>
          <p:cNvPicPr/>
          <p:nvPr/>
        </p:nvPicPr>
        <p:blipFill>
          <a:blip r:embed="rId2"/>
          <a:stretch/>
        </p:blipFill>
        <p:spPr>
          <a:xfrm>
            <a:off x="19080" y="4221000"/>
            <a:ext cx="9132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4"/>
          <p:cNvSpPr/>
          <p:nvPr/>
        </p:nvSpPr>
        <p:spPr>
          <a:xfrm>
            <a:off x="299880" y="227664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92934"/>
                </a:solidFill>
                <a:latin typeface="Calibri"/>
              </a:rPr>
              <a:t>Что нужно делать, если для исследований нужны точные данные, которые не определишь на глаз?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2292120" y="404640"/>
            <a:ext cx="45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70c0"/>
                </a:solidFill>
                <a:uFillTx/>
                <a:latin typeface="Arial"/>
              </a:rPr>
              <a:t>ПОДУМАЙТЕ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7236000" y="530280"/>
            <a:ext cx="159516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920" y="2465280"/>
            <a:ext cx="7848720" cy="19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2533c"/>
                </a:solidFill>
                <a:latin typeface="Arial"/>
              </a:rPr>
              <a:t>МЕТОДЫ ИЗУЧЕНИЯ ЖИВОЙ ПРИРОДЫ. ИЗМЕРЕНИЕ.</a:t>
            </a:r>
            <a:endParaRPr b="0" lang="en-US" sz="6000" spc="-1" strike="noStrike">
              <a:solidFill>
                <a:srgbClr val="d253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Google Shape;4883;p49"/>
          <p:cNvSpPr/>
          <p:nvPr/>
        </p:nvSpPr>
        <p:spPr>
          <a:xfrm>
            <a:off x="0" y="268200"/>
            <a:ext cx="932508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6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  <a:ea typeface="Arial"/>
              </a:rPr>
              <a:t>Цель: </a:t>
            </a: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познакомиться с методом измерение и научиться применять измерительные приборы в исследованиях.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5" name="Рисунок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876560"/>
          </a:xfrm>
          <a:prstGeom prst="rect">
            <a:avLst/>
          </a:prstGeom>
          <a:ln w="0">
            <a:noFill/>
          </a:ln>
        </p:spPr>
      </p:pic>
      <p:sp>
        <p:nvSpPr>
          <p:cNvPr id="236" name="Google Shape;4884;p49"/>
          <p:cNvSpPr/>
          <p:nvPr/>
        </p:nvSpPr>
        <p:spPr>
          <a:xfrm>
            <a:off x="324000" y="2924280"/>
            <a:ext cx="86407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rmAutofit fontScale="58000"/>
          </a:bodyPr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Сущность метода измерения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Измерительные приборы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Понятие «предел измерения»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Понятие «цена деления»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  <a:p>
            <a:pPr marL="198720" indent="-198720">
              <a:lnSpc>
                <a:spcPct val="100000"/>
              </a:lnSpc>
              <a:buClr>
                <a:srgbClr val="0c2e3a"/>
              </a:buClr>
              <a:buSzPct val="29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alibri"/>
                <a:ea typeface="Calibri"/>
              </a:rPr>
              <a:t>Выбор единицы измерения</a:t>
            </a:r>
            <a:endParaRPr b="0" lang="en-US" sz="4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3"/>
          <p:cNvSpPr/>
          <p:nvPr/>
        </p:nvSpPr>
        <p:spPr>
          <a:xfrm>
            <a:off x="1275840" y="189000"/>
            <a:ext cx="688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МЕТОД ИЗМЕРЕНИЯ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38" name="Рисунок 6" descr=""/>
          <p:cNvPicPr/>
          <p:nvPr/>
        </p:nvPicPr>
        <p:blipFill>
          <a:blip r:embed="rId1"/>
          <a:stretch/>
        </p:blipFill>
        <p:spPr>
          <a:xfrm>
            <a:off x="0" y="3219480"/>
            <a:ext cx="9144000" cy="4190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8"/>
          <p:cNvSpPr/>
          <p:nvPr/>
        </p:nvSpPr>
        <p:spPr>
          <a:xfrm>
            <a:off x="395280" y="1284120"/>
            <a:ext cx="88567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2060"/>
                </a:solidFill>
                <a:uFillTx/>
                <a:latin typeface="Calibri"/>
              </a:rPr>
              <a:t>Измерение</a:t>
            </a: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 — определение числового значения определённой величины объекта или явления.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108000" y="404640"/>
            <a:ext cx="1596960" cy="15973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773640" y="4221000"/>
            <a:ext cx="487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ПОСМОТРИМ 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ВИДЕО</a:t>
            </a:r>
            <a:endParaRPr b="0" lang="en-US" sz="60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2" name="Рисунок 5" descr=""/>
          <p:cNvPicPr/>
          <p:nvPr/>
        </p:nvPicPr>
        <p:blipFill>
          <a:blip r:embed="rId3"/>
          <a:stretch/>
        </p:blipFill>
        <p:spPr>
          <a:xfrm>
            <a:off x="3059280" y="549360"/>
            <a:ext cx="574668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5" descr=""/>
          <p:cNvPicPr/>
          <p:nvPr/>
        </p:nvPicPr>
        <p:blipFill>
          <a:blip r:embed="rId1"/>
          <a:stretch/>
        </p:blipFill>
        <p:spPr>
          <a:xfrm>
            <a:off x="4356000" y="89676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240840" y="434880"/>
            <a:ext cx="86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ИЗМЕРИТЕЛЬНЫЕ ПРИБОРЫ</a:t>
            </a:r>
            <a:endParaRPr b="0" lang="en-US" sz="54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245" name="Рисунок 4" descr=""/>
          <p:cNvPicPr/>
          <p:nvPr/>
        </p:nvPicPr>
        <p:blipFill>
          <a:blip r:embed="rId2"/>
          <a:stretch/>
        </p:blipFill>
        <p:spPr>
          <a:xfrm>
            <a:off x="-3240" y="1359000"/>
            <a:ext cx="3983040" cy="348588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1"/>
          <p:cNvSpPr/>
          <p:nvPr/>
        </p:nvSpPr>
        <p:spPr>
          <a:xfrm>
            <a:off x="0" y="4367160"/>
            <a:ext cx="2879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ВЕСЫ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47" name="Заголовок 1"/>
          <p:cNvSpPr/>
          <p:nvPr/>
        </p:nvSpPr>
        <p:spPr>
          <a:xfrm>
            <a:off x="2556000" y="5357880"/>
            <a:ext cx="63878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МЕРНЫЕ ЦИЛИНДРЫ (МЕНЗУРКИ)</a:t>
            </a:r>
            <a:endParaRPr b="0" lang="en-US" sz="40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27T08:53:46Z</dcterms:created>
  <dc:creator>Алексей</dc:creator>
  <dc:description/>
  <dc:language>en-US</dc:language>
  <cp:lastModifiedBy>Алексей</cp:lastModifiedBy>
  <dcterms:modified xsi:type="dcterms:W3CDTF">2023-10-18T08:21:52Z</dcterms:modified>
  <cp:revision>82</cp:revision>
  <dc:subject/>
  <dc:title>Биология - система наук о живой природе</dc:title>
</cp:coreProperties>
</file>