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4725-35C8-4EFF-ADFC-BC78A0E8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E668-F3C8-44FC-BABE-68204F03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8F1F-1683-43F7-A7A1-D7B82736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B770-662E-4C69-9E81-B82409CA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CE98-F52E-4D28-A438-B91CD725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097A-2D53-4CC6-938C-10B1B2CE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95D6-1A25-4888-AEC8-045088D5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DA25-46BE-41A6-8544-108DB716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D542-61D6-4CD2-97FB-CF28A79A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A61B-D7CD-4F84-A3E4-0949C005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D35A-0F1B-4345-A30D-FD797B6B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8F3F-F261-41A9-AA16-851420FC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AFDD-8239-4A1E-8BFC-5C800A18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2768-F7B6-41B6-AB0C-102AA2F1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3A03-F1BA-423C-8D46-975F8DDE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DF8C-4862-477F-9CBA-B096EBF1B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F0F9-F8F0-43A8-B7DE-D903C185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92798-D57F-47C2-84F8-9A0260E5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B78CC-82B4-4DE1-BD13-C253A919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09BA8-A540-49FF-9BB9-6DE37DD7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3749D-8E77-42B2-BC3D-403F825E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DFDB4-D59B-436B-8873-B4FB8DE7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CA4A-4E42-448D-99D8-6553C689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860DB-9416-42E0-A394-9E6C7B76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E9821-DE21-45AB-AF8B-20722C65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800EA-C323-422A-866C-B39B2DB5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BAF23-E90E-4BCC-9E16-4C322939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DF195-44A3-4D1F-8B64-3916E191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ACD48-FF18-4801-B6BF-93E5B13A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4DD1E-2EB2-47B2-9114-5B4EE6483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76498-DF24-41A7-AE39-BD5E9735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A72A8-591E-4504-9BCD-1811BD45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8037F-925B-40FD-94CD-79885666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0A69-CF81-464B-9D8A-68B6330C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D00AB-9A3B-4540-81BA-C2968DAE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DCFF5-9467-418F-A253-AA98CBDD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329B0-14A7-42B5-9A03-742D9632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EC1D9-D3E0-4D84-B2E0-A10427F9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E76C1-04E5-4646-9297-38C3A7BC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283DC-770E-4D0A-8EC3-D6125856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1202D-5B4B-4A41-996E-C4B8A332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EE54D-1571-43AC-ABFD-B51027F5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12921-3C68-463E-A282-E0FBC330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78A8F-52A8-45F4-BB7D-E6F9C070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E84-94FA-40D9-85E4-AE10E140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02CE7-0984-481A-BCAB-43E40241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18B25-5383-4467-9B4A-CC1BE9CF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4D796-0D0F-4B9E-B1D3-0FD8B1F0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9BF04-0470-4EBE-8E04-7DFD4420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3834C-2533-42B3-B56D-5C2BCF2F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D78CE-F61C-446B-ABE0-22C76B1A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2DECF-F942-4D93-ACF1-756E90D3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7F625-8C2F-45FE-84F7-124B1619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AB6D6-4D82-47F8-AA11-5848025D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0D4FF-5FC5-4BF7-BA41-DDAE8B6B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678F-0B37-4945-92BD-EFBDBF2A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261E3-6191-499F-8360-EC267784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45E9-C0E7-415D-AFD3-480ACB0D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7C6F-A115-4FDA-8105-754B7568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8072-9E83-48F9-8653-C24A506E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7AA6-49E0-4133-B76F-18C1B58D805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3701-6E97-4EA5-A193-EBB18D5532A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DC33-7D84-49E5-8FEC-B786276F05E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2048-1A1A-4527-86B9-8C1367DEADE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F82F-519F-45DD-A184-B8107C68FE0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&#1042;&#1080;&#1076;&#1077;&#1086;&#1091;&#1088;&#1086;&#1082;_&#1048;&#1079;&#1084;&#1077;&#1088;&#1077;&#1085;&#1080;&#1103;.mp4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8" descr="https://xn--118-5cd3cgu2f.xn--p1ai/images/logo.png"/>
          <p:cNvPicPr/>
          <p:nvPr/>
        </p:nvPicPr>
        <p:blipFill>
          <a:blip r:embed="rId1"/>
          <a:stretch/>
        </p:blipFill>
        <p:spPr>
          <a:xfrm>
            <a:off x="6480" y="403200"/>
            <a:ext cx="3476520" cy="14191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0000" y="213336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2533c"/>
                </a:solidFill>
                <a:latin typeface="Arial"/>
              </a:rPr>
              <a:t>МЕТОДЫ ИЗУЧЕНИЯ ЖИВОЙ ПРИРОДЫ. ИЗМЕРЕНИЕ.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1" name="Подзаголовок 2"/>
          <p:cNvSpPr/>
          <p:nvPr/>
        </p:nvSpPr>
        <p:spPr>
          <a:xfrm>
            <a:off x="21240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  <a:ea typeface="Arial"/>
              </a:rPr>
              <a:t>Учитель биологии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  <a:ea typeface="Arial"/>
              </a:rPr>
              <a:t>МАОУ «ШКОЛА № 118 с углубленным изучением отдельных предметов</a:t>
            </a:r>
            <a:r>
              <a:rPr b="1" lang="ru-RU" sz="3000" spc="-1" strike="noStrike">
                <a:solidFill>
                  <a:srgbClr val="002060"/>
                </a:solidFill>
                <a:latin typeface="Calibri"/>
                <a:ea typeface="Arial"/>
              </a:rPr>
              <a:t>»</a:t>
            </a:r>
            <a:r>
              <a:rPr b="1" lang="ru-RU" sz="33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endParaRPr b="0" lang="en-US" sz="3300" spc="-1" strike="noStrike">
              <a:solidFill>
                <a:srgbClr val="292934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  <a:ea typeface="Arial"/>
              </a:rPr>
              <a:t>Трегубенко Юлия Владимировна</a:t>
            </a:r>
            <a:endParaRPr b="0" lang="en-US" sz="33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5837040" y="50004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5 урок 5 класс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3" descr=""/>
          <p:cNvPicPr/>
          <p:nvPr/>
        </p:nvPicPr>
        <p:blipFill>
          <a:blip r:embed="rId1"/>
          <a:srcRect l="3255" t="10813" r="7007" b="9170"/>
          <a:stretch/>
        </p:blipFill>
        <p:spPr>
          <a:xfrm>
            <a:off x="47520" y="476280"/>
            <a:ext cx="2987640" cy="2665440"/>
          </a:xfrm>
          <a:prstGeom prst="rect">
            <a:avLst/>
          </a:prstGeom>
          <a:ln w="0">
            <a:noFill/>
          </a:ln>
        </p:spPr>
      </p:pic>
      <p:sp>
        <p:nvSpPr>
          <p:cNvPr id="249" name="Заголовок 1"/>
          <p:cNvSpPr/>
          <p:nvPr/>
        </p:nvSpPr>
        <p:spPr>
          <a:xfrm>
            <a:off x="1332000" y="2438280"/>
            <a:ext cx="3436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ТЕРМОМЕТР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0" name="Рисунок 5" descr=""/>
          <p:cNvPicPr/>
          <p:nvPr/>
        </p:nvPicPr>
        <p:blipFill>
          <a:blip r:embed="rId2"/>
          <a:stretch/>
        </p:blipFill>
        <p:spPr>
          <a:xfrm>
            <a:off x="5229360" y="1090440"/>
            <a:ext cx="3186000" cy="3186360"/>
          </a:xfrm>
          <a:prstGeom prst="rect">
            <a:avLst/>
          </a:prstGeom>
          <a:ln w="0">
            <a:noFill/>
          </a:ln>
        </p:spPr>
      </p:pic>
      <p:sp>
        <p:nvSpPr>
          <p:cNvPr id="251" name="Заголовок 1"/>
          <p:cNvSpPr/>
          <p:nvPr/>
        </p:nvSpPr>
        <p:spPr>
          <a:xfrm>
            <a:off x="4591080" y="5122800"/>
            <a:ext cx="3816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ЛИНЕЙКИ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РУЛЕТКА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3"/>
          <a:stretch/>
        </p:blipFill>
        <p:spPr>
          <a:xfrm>
            <a:off x="301680" y="3429000"/>
            <a:ext cx="4575240" cy="3051000"/>
          </a:xfrm>
          <a:prstGeom prst="rect">
            <a:avLst/>
          </a:prstGeom>
          <a:ln w="0">
            <a:noFill/>
          </a:ln>
        </p:spPr>
      </p:pic>
      <p:sp>
        <p:nvSpPr>
          <p:cNvPr id="253" name="Заголовок 1"/>
          <p:cNvSpPr/>
          <p:nvPr/>
        </p:nvSpPr>
        <p:spPr>
          <a:xfrm>
            <a:off x="4950000" y="378000"/>
            <a:ext cx="3816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СЕКУНДОМЕР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3"/>
          <p:cNvSpPr/>
          <p:nvPr/>
        </p:nvSpPr>
        <p:spPr>
          <a:xfrm>
            <a:off x="1287360" y="0"/>
            <a:ext cx="6381720" cy="9169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ПРЕДЕЛ ИЗМЕРЕНИЯ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108000" y="836640"/>
            <a:ext cx="3959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это наибольшая величина, которая может быть измерена с помощью данного измерительного прибора. 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rcRect l="0" t="0" r="0" b="10262"/>
          <a:stretch/>
        </p:blipFill>
        <p:spPr>
          <a:xfrm>
            <a:off x="4572000" y="1292400"/>
            <a:ext cx="4071960" cy="46814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7"/>
          <p:cNvSpPr/>
          <p:nvPr/>
        </p:nvSpPr>
        <p:spPr>
          <a:xfrm>
            <a:off x="5601960" y="9237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ЕРХНИЙ ПРЕДЕЛ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8" name="TextBox 8"/>
          <p:cNvSpPr/>
          <p:nvPr/>
        </p:nvSpPr>
        <p:spPr>
          <a:xfrm>
            <a:off x="5497920" y="583884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НИЖНИЙ ПРЕДЕЛ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cxnSp>
        <p:nvCxnSpPr>
          <p:cNvPr id="259" name="Прямая со стрелкой 10"/>
          <p:cNvCxnSpPr/>
          <p:nvPr/>
        </p:nvCxnSpPr>
        <p:spPr>
          <a:xfrm flipH="1">
            <a:off x="4865040" y="1217520"/>
            <a:ext cx="1507320" cy="596160"/>
          </a:xfrm>
          <a:prstGeom prst="straightConnector1">
            <a:avLst/>
          </a:prstGeom>
          <a:ln w="50760">
            <a:solidFill>
              <a:srgbClr val="004274"/>
            </a:solidFill>
            <a:miter/>
            <a:tailEnd len="med" type="triangle" w="med"/>
          </a:ln>
        </p:spPr>
      </p:cxnSp>
      <p:cxnSp>
        <p:nvCxnSpPr>
          <p:cNvPr id="260" name="Прямая со стрелкой 12"/>
          <p:cNvCxnSpPr/>
          <p:nvPr/>
        </p:nvCxnSpPr>
        <p:spPr>
          <a:xfrm>
            <a:off x="6708600" y="1238040"/>
            <a:ext cx="1464480" cy="608760"/>
          </a:xfrm>
          <a:prstGeom prst="straightConnector1">
            <a:avLst/>
          </a:prstGeom>
          <a:ln w="50760">
            <a:solidFill>
              <a:srgbClr val="004274"/>
            </a:solidFill>
            <a:miter/>
            <a:tailEnd len="med" type="triangle" w="med"/>
          </a:ln>
        </p:spPr>
      </p:cxnSp>
      <p:cxnSp>
        <p:nvCxnSpPr>
          <p:cNvPr id="261" name="Прямая со стрелкой 18"/>
          <p:cNvCxnSpPr/>
          <p:nvPr/>
        </p:nvCxnSpPr>
        <p:spPr>
          <a:xfrm flipH="1" flipV="1">
            <a:off x="4982400" y="5218200"/>
            <a:ext cx="1245240" cy="621000"/>
          </a:xfrm>
          <a:prstGeom prst="straightConnector1">
            <a:avLst/>
          </a:prstGeom>
          <a:ln w="50760">
            <a:solidFill>
              <a:srgbClr val="004274"/>
            </a:solidFill>
            <a:miter/>
            <a:tailEnd len="med" type="triangle" w="med"/>
          </a:ln>
        </p:spPr>
      </p:cxnSp>
      <p:cxnSp>
        <p:nvCxnSpPr>
          <p:cNvPr id="262" name="Прямая со стрелкой 21"/>
          <p:cNvCxnSpPr/>
          <p:nvPr/>
        </p:nvCxnSpPr>
        <p:spPr>
          <a:xfrm flipV="1">
            <a:off x="6762600" y="5217840"/>
            <a:ext cx="1410480" cy="635760"/>
          </a:xfrm>
          <a:prstGeom prst="straightConnector1">
            <a:avLst/>
          </a:prstGeom>
          <a:ln w="50760">
            <a:solidFill>
              <a:srgbClr val="004274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4"/>
          <p:cNvSpPr/>
          <p:nvPr/>
        </p:nvSpPr>
        <p:spPr>
          <a:xfrm>
            <a:off x="0" y="765000"/>
            <a:ext cx="91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величина, соответствующая расстоянию между двумя соседними штрихами шкалы измерительного прибора.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2168280" y="0"/>
            <a:ext cx="4807440" cy="9169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ЦЕНА ДЕЛЕНИЯ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65" name="Рисунок 7" descr=""/>
          <p:cNvPicPr/>
          <p:nvPr/>
        </p:nvPicPr>
        <p:blipFill>
          <a:blip r:embed="rId1"/>
          <a:srcRect l="4209" t="19764" r="4209" b="7026"/>
          <a:stretch/>
        </p:blipFill>
        <p:spPr>
          <a:xfrm>
            <a:off x="1062000" y="3429000"/>
            <a:ext cx="705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адпись 4"/>
          <p:cNvSpPr/>
          <p:nvPr/>
        </p:nvSpPr>
        <p:spPr>
          <a:xfrm>
            <a:off x="179280" y="58680"/>
            <a:ext cx="8785440" cy="6740640"/>
          </a:xfrm>
          <a:prstGeom prst="rect">
            <a:avLst/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26"/>
                </a:solidFill>
                <a:latin typeface="Calibri"/>
                <a:ea typeface="Calibri"/>
              </a:rPr>
              <a:t>Порядок проведения измерений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Calibri"/>
                <a:ea typeface="Calibri"/>
              </a:rPr>
              <a:t> 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  <a:ea typeface="Calibri"/>
              </a:rPr>
              <a:t>1. Поставьте цель проведения измерения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  <a:ea typeface="Calibri"/>
              </a:rPr>
              <a:t>2. Определите количественные признаки (параметры) объекта для проведения измерения и инструменты, необходимые для этих целей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  <a:ea typeface="Calibri"/>
              </a:rPr>
              <a:t>3. Выберите единицы измерения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  <a:ea typeface="Calibri"/>
              </a:rPr>
              <a:t>4. Определите предел измерения и цену деления доступных измерительных приборов и выберите из них наиболее подходящие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  <a:ea typeface="Calibri"/>
              </a:rPr>
              <a:t>5. Проведите измерение с использованием соответствующих приборов. Для получения объективных результатов измерение каждого параметра следует провести три раза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  <a:ea typeface="Calibri"/>
              </a:rPr>
              <a:t>6. Вычислите среднее значение измеренных величин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0" y="-360"/>
            <a:ext cx="9144000" cy="1484280"/>
          </a:xfrm>
          <a:prstGeom prst="rect">
            <a:avLst/>
          </a:prstGeom>
          <a:solidFill>
            <a:srgbClr val="b3bbc6"/>
          </a:solidFill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ПОЛЬЗУЯСЬ ПАМЯТКОЙ, ИЗМЕРЬТЕ ДЛИНУ И ШИРИНУ НЕСКОЛЬКИХ ЛИСТЬЕВ РАСТЕНИй. ЗАНЕСИТЕ ДАННЫЕ В ТАБЛИЦУ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-36360" y="3141720"/>
          <a:ext cx="9001080" cy="2590920"/>
        </p:xfrm>
        <a:graphic>
          <a:graphicData uri="http://schemas.openxmlformats.org/drawingml/2006/table">
            <a:tbl>
              <a:tblPr/>
              <a:tblGrid>
                <a:gridCol w="1520640"/>
                <a:gridCol w="951120"/>
                <a:gridCol w="919080"/>
                <a:gridCol w="1077840"/>
                <a:gridCol w="1077840"/>
                <a:gridCol w="1141560"/>
                <a:gridCol w="868320"/>
                <a:gridCol w="774720"/>
                <a:gridCol w="669960"/>
              </a:tblGrid>
              <a:tr h="6825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a13"/>
                          </a:solidFill>
                          <a:latin typeface="Calibri"/>
                          <a:ea typeface="Calibri"/>
                        </a:rPr>
                        <a:t>ВИД РАСТЕНИЯ. РИСУНОК ЛИСТА</a:t>
                      </a:r>
                      <a:r>
                        <a:rPr b="1" lang="ru-RU" sz="16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a13"/>
                          </a:solidFill>
                          <a:latin typeface="Calibri"/>
                          <a:ea typeface="Calibri"/>
                        </a:rPr>
                        <a:t>Результаты измерений ШИРИНЫ, мм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a13"/>
                          </a:solidFill>
                          <a:latin typeface="Calibri"/>
                          <a:ea typeface="Calibri"/>
                        </a:rPr>
                        <a:t>Среднее значение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a13"/>
                          </a:solidFill>
                          <a:latin typeface="Calibri"/>
                          <a:ea typeface="Calibri"/>
                        </a:rPr>
                        <a:t>Результаты измерений ДЛИНЫ, мм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реднее значение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97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d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d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dd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d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d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dd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4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Rectangle 1"/>
          <p:cNvSpPr/>
          <p:nvPr/>
        </p:nvSpPr>
        <p:spPr>
          <a:xfrm>
            <a:off x="1010160" y="1865520"/>
            <a:ext cx="732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1. ИЗМЕРЕНИЕ ЛИСТЬЕВ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Заголовок 1"/>
          <p:cNvSpPr/>
          <p:nvPr/>
        </p:nvSpPr>
        <p:spPr>
          <a:xfrm>
            <a:off x="2357280" y="476280"/>
            <a:ext cx="4429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Arial"/>
                <a:ea typeface="Arial"/>
              </a:rPr>
              <a:t>2. РЕШИМ ЗАДАНИЯ</a:t>
            </a:r>
            <a:endParaRPr b="0" lang="en-US" sz="3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1" name="TextBox 1"/>
          <p:cNvSpPr/>
          <p:nvPr/>
        </p:nvSpPr>
        <p:spPr>
          <a:xfrm>
            <a:off x="250920" y="146700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ПРЕДЕЛИТЕ ЦЕНУ ДЕЛЕНИЯ ПРИБОРА И ОБЪЕМ ЖИДКОСТИ В МЕНЗУРКЕ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72" name="Рисунок 3" descr=""/>
          <p:cNvPicPr/>
          <p:nvPr/>
        </p:nvPicPr>
        <p:blipFill>
          <a:blip r:embed="rId1"/>
          <a:stretch/>
        </p:blipFill>
        <p:spPr>
          <a:xfrm>
            <a:off x="250920" y="2600280"/>
            <a:ext cx="8361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0" y="1430280"/>
            <a:ext cx="6416640" cy="4805280"/>
          </a:xfrm>
          <a:prstGeom prst="rect">
            <a:avLst/>
          </a:prstGeom>
          <a:ln w="0">
            <a:noFill/>
          </a:ln>
        </p:spPr>
      </p:pic>
      <p:sp>
        <p:nvSpPr>
          <p:cNvPr id="274" name="TextBox 5"/>
          <p:cNvSpPr/>
          <p:nvPr/>
        </p:nvSpPr>
        <p:spPr>
          <a:xfrm>
            <a:off x="468360" y="476280"/>
            <a:ext cx="88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3. ОПРЕДЕЛИТЕ ОБЪЕМ ТЕЛА С ПОМОЩЬЮ МЕНЗУРКИ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6241320" y="2205000"/>
            <a:ext cx="301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34"/>
                </a:solidFill>
                <a:latin typeface="Calibri"/>
              </a:rPr>
              <a:t>ЦЕНА ДЕЛЕНИЯ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34"/>
                </a:solidFill>
                <a:latin typeface="Calibri"/>
              </a:rPr>
              <a:t>МЕНЗУРКИ =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34"/>
                </a:solidFill>
                <a:latin typeface="Calibri"/>
              </a:rPr>
              <a:t>ОБЪЁМ ТЕЛА =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4"/>
          <p:cNvSpPr/>
          <p:nvPr/>
        </p:nvSpPr>
        <p:spPr>
          <a:xfrm>
            <a:off x="307800" y="1255680"/>
            <a:ext cx="8209080" cy="2745360"/>
          </a:xfrm>
          <a:prstGeom prst="rect">
            <a:avLst/>
          </a:prstGeom>
          <a:solidFill>
            <a:srgbClr val="ffffff"/>
          </a:solidFill>
          <a:ln w="26280">
            <a:solidFill>
              <a:srgbClr val="7946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92934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292934"/>
                </a:solidFill>
                <a:latin typeface="Arial"/>
              </a:rPr>
              <a:t>5 прочитать. </a:t>
            </a:r>
            <a:r>
              <a:rPr b="1" lang="ru-RU" sz="4000" spc="-1" strike="noStrike">
                <a:solidFill>
                  <a:srgbClr val="a53926"/>
                </a:solidFill>
                <a:latin typeface="Calibri"/>
              </a:rPr>
              <a:t>Доделать измерения и задания урока в тетради.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468360" y="1355760"/>
            <a:ext cx="485640" cy="763560"/>
          </a:xfrm>
          <a:prstGeom prst="rect">
            <a:avLst/>
          </a:prstGeom>
          <a:ln w="0">
            <a:noFill/>
          </a:ln>
        </p:spPr>
      </p:pic>
      <p:sp>
        <p:nvSpPr>
          <p:cNvPr id="278" name="Заголовок 1"/>
          <p:cNvSpPr/>
          <p:nvPr/>
        </p:nvSpPr>
        <p:spPr>
          <a:xfrm>
            <a:off x="755640" y="404640"/>
            <a:ext cx="7488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9" name="AutoShape 2"/>
          <p:cNvSpPr/>
          <p:nvPr/>
        </p:nvSpPr>
        <p:spPr>
          <a:xfrm>
            <a:off x="155520" y="-966960"/>
            <a:ext cx="129528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307800" y="-814320"/>
            <a:ext cx="129564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281" name="TextBox 5"/>
          <p:cNvGrpSpPr/>
          <p:nvPr/>
        </p:nvGrpSpPr>
        <p:grpSpPr>
          <a:xfrm>
            <a:off x="92160" y="4870440"/>
            <a:ext cx="8820000" cy="1463760"/>
            <a:chOff x="92160" y="4870440"/>
            <a:chExt cx="8820000" cy="1463760"/>
          </a:xfrm>
        </p:grpSpPr>
        <p:pic>
          <p:nvPicPr>
            <p:cNvPr id="282" name="TextBox 5" descr=""/>
            <p:cNvPicPr/>
            <p:nvPr/>
          </p:nvPicPr>
          <p:blipFill>
            <a:blip r:embed="rId2"/>
            <a:stretch/>
          </p:blipFill>
          <p:spPr>
            <a:xfrm>
              <a:off x="92160" y="4870440"/>
              <a:ext cx="882000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95400" y="4878360"/>
              <a:ext cx="8808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3a1953"/>
                  </a:solidFill>
                  <a:latin typeface="Calibri"/>
                </a:rPr>
                <a:t>ЗАДАНИЕ</a:t>
              </a:r>
              <a:endParaRPr b="0" lang="en-US" sz="4400" spc="-1" strike="noStrike">
                <a:solidFill>
                  <a:srgbClr val="29293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3a1953"/>
                  </a:solidFill>
                  <a:latin typeface="Calibri"/>
                </a:rPr>
                <a:t>№ </a:t>
              </a:r>
              <a:r>
                <a:rPr b="1" lang="ru-RU" sz="4400" spc="-1" strike="noStrike">
                  <a:solidFill>
                    <a:srgbClr val="3a1953"/>
                  </a:solidFill>
                  <a:latin typeface="Calibri"/>
                </a:rPr>
                <a:t>2 И 3 стр.37 письменно. </a:t>
              </a:r>
              <a:endParaRPr b="0" lang="en-US" sz="4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7548480" y="0"/>
            <a:ext cx="1595520" cy="15955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5"/>
          <p:cNvSpPr/>
          <p:nvPr/>
        </p:nvSpPr>
        <p:spPr>
          <a:xfrm>
            <a:off x="2277720" y="404640"/>
            <a:ext cx="432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70c0"/>
                </a:solidFill>
                <a:uFillTx/>
                <a:latin typeface="Arial"/>
              </a:rPr>
              <a:t>ВСПОМНИМ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5" name="Прямоугольник 4"/>
          <p:cNvSpPr/>
          <p:nvPr/>
        </p:nvSpPr>
        <p:spPr>
          <a:xfrm>
            <a:off x="108000" y="1484280"/>
            <a:ext cx="885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4274"/>
                </a:solidFill>
                <a:latin typeface="Calibri"/>
                <a:ea typeface="Arial"/>
              </a:rPr>
              <a:t>Какие методы исследования вы знаете?</a:t>
            </a:r>
            <a:endParaRPr b="0" lang="en-US" sz="60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2277720" y="404640"/>
            <a:ext cx="432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70c0"/>
                </a:solidFill>
                <a:uFillTx/>
                <a:latin typeface="Arial"/>
              </a:rPr>
              <a:t>ВСПОМНИМ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5" descr=""/>
          <p:cNvPicPr/>
          <p:nvPr/>
        </p:nvPicPr>
        <p:blipFill>
          <a:blip r:embed="rId1"/>
          <a:stretch/>
        </p:blipFill>
        <p:spPr>
          <a:xfrm>
            <a:off x="-7920" y="1111320"/>
            <a:ext cx="9159840" cy="4365720"/>
          </a:xfrm>
          <a:prstGeom prst="rect">
            <a:avLst/>
          </a:prstGeom>
          <a:ln w="0">
            <a:noFill/>
          </a:ln>
        </p:spPr>
      </p:pic>
      <p:sp>
        <p:nvSpPr>
          <p:cNvPr id="228" name="TextBox 6"/>
          <p:cNvSpPr/>
          <p:nvPr/>
        </p:nvSpPr>
        <p:spPr>
          <a:xfrm>
            <a:off x="164520" y="201600"/>
            <a:ext cx="878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УСТАНОВИТЕ СООТВЕТСТВИЕ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9" name="Рисунок 7" descr=""/>
          <p:cNvPicPr/>
          <p:nvPr/>
        </p:nvPicPr>
        <p:blipFill>
          <a:blip r:embed="rId2"/>
          <a:stretch/>
        </p:blipFill>
        <p:spPr>
          <a:xfrm>
            <a:off x="19080" y="4221000"/>
            <a:ext cx="91328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4"/>
          <p:cNvSpPr/>
          <p:nvPr/>
        </p:nvSpPr>
        <p:spPr>
          <a:xfrm>
            <a:off x="299880" y="2276640"/>
            <a:ext cx="878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92934"/>
                </a:solidFill>
                <a:latin typeface="Calibri"/>
              </a:rPr>
              <a:t>Что нужно делать, если для исследований нужны точные данные, которые не определишь на глаз?</a:t>
            </a:r>
            <a:endParaRPr b="0" lang="en-US" sz="6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1" name="TextBox 7"/>
          <p:cNvSpPr/>
          <p:nvPr/>
        </p:nvSpPr>
        <p:spPr>
          <a:xfrm>
            <a:off x="2292120" y="404640"/>
            <a:ext cx="45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70c0"/>
                </a:solidFill>
                <a:uFillTx/>
                <a:latin typeface="Arial"/>
              </a:rPr>
              <a:t>ПОДУМАЙТЕ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7236000" y="530280"/>
            <a:ext cx="159516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6920" y="2465280"/>
            <a:ext cx="7848720" cy="192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2533c"/>
                </a:solidFill>
                <a:latin typeface="Arial"/>
              </a:rPr>
              <a:t>МЕТОДЫ ИЗУЧЕНИЯ ЖИВОЙ ПРИРОДЫ. ИЗМЕРЕНИЕ.</a:t>
            </a:r>
            <a:endParaRPr b="0" lang="en-US" sz="60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Google Shape;4883;p49"/>
          <p:cNvSpPr/>
          <p:nvPr/>
        </p:nvSpPr>
        <p:spPr>
          <a:xfrm>
            <a:off x="0" y="268200"/>
            <a:ext cx="932508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rmAutofit fontScale="6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Цель: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познакомиться с методом измерение и научиться применять измерительные приборы в исследованиях.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5" name="Рисунок 4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4876560"/>
          </a:xfrm>
          <a:prstGeom prst="rect">
            <a:avLst/>
          </a:prstGeom>
          <a:ln w="0">
            <a:noFill/>
          </a:ln>
        </p:spPr>
      </p:pic>
      <p:sp>
        <p:nvSpPr>
          <p:cNvPr id="236" name="Google Shape;4884;p49"/>
          <p:cNvSpPr/>
          <p:nvPr/>
        </p:nvSpPr>
        <p:spPr>
          <a:xfrm>
            <a:off x="324000" y="2924280"/>
            <a:ext cx="8640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rmAutofit fontScale="58000"/>
          </a:bodyPr>
          <a:p>
            <a:pPr marL="198720" indent="-198720">
              <a:lnSpc>
                <a:spcPct val="100000"/>
              </a:lnSpc>
              <a:buClr>
                <a:srgbClr val="0c2e3a"/>
              </a:buClr>
              <a:buSzPct val="29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  <a:ea typeface="Calibri"/>
              </a:rPr>
              <a:t>Сущность метода измерения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  <a:p>
            <a:pPr marL="198720" indent="-198720">
              <a:lnSpc>
                <a:spcPct val="100000"/>
              </a:lnSpc>
              <a:buClr>
                <a:srgbClr val="0c2e3a"/>
              </a:buClr>
              <a:buSzPct val="29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  <a:ea typeface="Calibri"/>
              </a:rPr>
              <a:t>Измерительные приборы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  <a:p>
            <a:pPr marL="198720" indent="-198720">
              <a:lnSpc>
                <a:spcPct val="100000"/>
              </a:lnSpc>
              <a:buClr>
                <a:srgbClr val="0c2e3a"/>
              </a:buClr>
              <a:buSzPct val="29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  <a:ea typeface="Calibri"/>
              </a:rPr>
              <a:t>Понятие «предел измерения»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  <a:p>
            <a:pPr marL="198720" indent="-198720">
              <a:lnSpc>
                <a:spcPct val="100000"/>
              </a:lnSpc>
              <a:buClr>
                <a:srgbClr val="0c2e3a"/>
              </a:buClr>
              <a:buSzPct val="29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  <a:ea typeface="Calibri"/>
              </a:rPr>
              <a:t>Понятие «цена деления»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  <a:p>
            <a:pPr marL="198720" indent="-198720">
              <a:lnSpc>
                <a:spcPct val="100000"/>
              </a:lnSpc>
              <a:buClr>
                <a:srgbClr val="0c2e3a"/>
              </a:buClr>
              <a:buSzPct val="29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  <a:ea typeface="Calibri"/>
              </a:rPr>
              <a:t>Выбор единицы измерения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3"/>
          <p:cNvSpPr/>
          <p:nvPr/>
        </p:nvSpPr>
        <p:spPr>
          <a:xfrm>
            <a:off x="1275840" y="189000"/>
            <a:ext cx="688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МЕТОД ИЗМЕРЕНИЯ</a:t>
            </a:r>
            <a:endParaRPr b="0" lang="en-US" sz="6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8" name="Рисунок 6" descr=""/>
          <p:cNvPicPr/>
          <p:nvPr/>
        </p:nvPicPr>
        <p:blipFill>
          <a:blip r:embed="rId1"/>
          <a:stretch/>
        </p:blipFill>
        <p:spPr>
          <a:xfrm>
            <a:off x="0" y="321948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239" name="TextBox 8"/>
          <p:cNvSpPr/>
          <p:nvPr/>
        </p:nvSpPr>
        <p:spPr>
          <a:xfrm>
            <a:off x="395280" y="1284120"/>
            <a:ext cx="8856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2060"/>
                </a:solidFill>
                <a:uFillTx/>
                <a:latin typeface="Calibri"/>
              </a:rPr>
              <a:t>Измерение</a:t>
            </a: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 — определение числового значения определённой величины объекта или явления.</a:t>
            </a:r>
            <a:endParaRPr b="0" lang="en-US" sz="6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1596960" cy="1597320"/>
          </a:xfrm>
          <a:prstGeom prst="rect">
            <a:avLst/>
          </a:prstGeom>
          <a:ln w="0">
            <a:noFill/>
          </a:ln>
        </p:spPr>
      </p:pic>
      <p:sp>
        <p:nvSpPr>
          <p:cNvPr id="241" name="TextBox 2"/>
          <p:cNvSpPr/>
          <p:nvPr/>
        </p:nvSpPr>
        <p:spPr>
          <a:xfrm>
            <a:off x="773640" y="4221000"/>
            <a:ext cx="487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ПОСМОТРИМ </a:t>
            </a:r>
            <a:endParaRPr b="0" lang="en-US" sz="60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ВИДЕО</a:t>
            </a:r>
            <a:endParaRPr b="0" lang="en-US" sz="6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2" name="Рисунок 5" descr=""/>
          <p:cNvPicPr/>
          <p:nvPr/>
        </p:nvPicPr>
        <p:blipFill>
          <a:blip r:embed="rId3"/>
          <a:stretch/>
        </p:blipFill>
        <p:spPr>
          <a:xfrm>
            <a:off x="3059280" y="549360"/>
            <a:ext cx="574668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5" descr=""/>
          <p:cNvPicPr/>
          <p:nvPr/>
        </p:nvPicPr>
        <p:blipFill>
          <a:blip r:embed="rId1"/>
          <a:stretch/>
        </p:blipFill>
        <p:spPr>
          <a:xfrm>
            <a:off x="4356000" y="896760"/>
            <a:ext cx="4392720" cy="4392720"/>
          </a:xfrm>
          <a:prstGeom prst="rect">
            <a:avLst/>
          </a:prstGeom>
          <a:ln w="0">
            <a:noFill/>
          </a:ln>
        </p:spPr>
      </p:pic>
      <p:sp>
        <p:nvSpPr>
          <p:cNvPr id="244" name="TextBox 3"/>
          <p:cNvSpPr/>
          <p:nvPr/>
        </p:nvSpPr>
        <p:spPr>
          <a:xfrm>
            <a:off x="240840" y="434880"/>
            <a:ext cx="86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ИЗМЕРИТЕЛЬНЫЕ ПРИБОРЫ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5" name="Рисунок 4" descr=""/>
          <p:cNvPicPr/>
          <p:nvPr/>
        </p:nvPicPr>
        <p:blipFill>
          <a:blip r:embed="rId2"/>
          <a:stretch/>
        </p:blipFill>
        <p:spPr>
          <a:xfrm>
            <a:off x="-3240" y="1359000"/>
            <a:ext cx="3983040" cy="3485880"/>
          </a:xfrm>
          <a:prstGeom prst="rect">
            <a:avLst/>
          </a:prstGeom>
          <a:ln w="0">
            <a:noFill/>
          </a:ln>
        </p:spPr>
      </p:pic>
      <p:sp>
        <p:nvSpPr>
          <p:cNvPr id="246" name="Заголовок 1"/>
          <p:cNvSpPr/>
          <p:nvPr/>
        </p:nvSpPr>
        <p:spPr>
          <a:xfrm>
            <a:off x="0" y="4367160"/>
            <a:ext cx="2879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ВЕСЫ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7" name="Заголовок 1"/>
          <p:cNvSpPr/>
          <p:nvPr/>
        </p:nvSpPr>
        <p:spPr>
          <a:xfrm>
            <a:off x="2556000" y="5357880"/>
            <a:ext cx="63878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МЕРНЫЕ ЦИЛИНДРЫ (МЕНЗУРКИ)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8-27T08:53:46Z</dcterms:created>
  <dc:creator>Алексей</dc:creator>
  <dc:description/>
  <dc:language>en-US</dc:language>
  <cp:lastModifiedBy>Алексей</cp:lastModifiedBy>
  <dcterms:modified xsi:type="dcterms:W3CDTF">2023-10-18T08:21:52Z</dcterms:modified>
  <cp:revision>82</cp:revision>
  <dc:subject/>
  <dc:title>Биология - система наук о живой природе</dc:title>
</cp:coreProperties>
</file>