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575C-5008-48E9-9E30-53796023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06AB-B69F-4005-98DF-0B2A6027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B944-BF3C-42DE-A137-0CF26054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1B4-A33B-4963-A1FF-65F2F89F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35F9-F7D3-42EC-93EC-B62A112E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E99D-5D03-4B1A-B1F7-6385B4ED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E9EB-AC45-4A14-BC09-5F40BB4D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A016-0D9F-463C-8CB7-44288703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F152-A588-4C28-821D-C56A2269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8D7F-3102-4C29-AE06-66B94949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C06E-0D0D-498E-BA67-D041F138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49C0-E9E9-4443-8EE5-F44D8A61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6604-F382-447C-B823-EFC8B41C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EA02-2761-4963-AFF9-AE5FBAD6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6DCF-D934-4010-B420-A6BD1B0C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35B4-6284-467B-A747-16F63520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A25C-A848-4DC7-AB10-95F272D6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4CEC4-9450-4ED5-BA2B-970760ED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F3F2A-AEA9-44C6-969E-8D2B3FB6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25CEF-1627-4845-B5D7-5031225B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71BE2-52F5-473A-AB4A-DF1D0E7B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77D7F-D18E-4436-AA4B-6E5C4574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83C6-BEF8-49A5-8E50-53540B9F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6AAEF-4661-476F-8A78-B75BF32D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944AB-2DDC-4C70-A318-C46651E5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EA7FC-93AC-4542-8C90-F4E958B2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72D70-EE94-4F03-A00E-35FD4515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9D66A-5AD1-4531-944D-4ED01EC7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E6DDB-AF4C-4392-B357-B2CB6C08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892E6-7D16-4434-8930-F00DF300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33CA0-12B9-46AF-BBF7-62CF8DD5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BAC9A-D599-46D0-BDB6-04C93D9A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D3F3E-C373-443A-8117-E7C25239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7B87-C45F-4721-BE19-7F21A610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CDE3D-B619-4C59-835F-CC5C0359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CE5A9-F7CB-432E-A6DF-EECED5A3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455A5-C5CE-4A49-B0FD-A187F632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C4670-CD2B-467B-90EE-D1F4B281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0C52B-85EB-4A8D-B882-741BF2B6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0A313-921C-4E6D-873B-750D6A6E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5450D-F412-4C47-9AFD-502005AC0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263E2-4D8D-4833-9294-F6ED3B01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5DAB5-2C28-418C-9C58-43801C0D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34B4F-00A8-4D32-A45B-C2ACBBD3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A3C8-6359-451D-BF30-147E565C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A90C5-D28E-4BED-AE90-32C831B6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5409F-1B99-48F5-ACE6-68193380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2A48D-9909-41C6-96CE-F605E88C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44865-72C2-4BC7-9540-C641FC80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91E4E-2DEA-463B-9CE0-78C5E012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8E5A1-FA02-481B-8271-78E97A0C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87A8C-911C-4F9B-8607-84FEC8AC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A88DD-3EB8-423E-8DE8-EED486B4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91716-C9CE-4A4D-AC72-C7D6F162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92F44-0DB2-4E4F-ABA2-91D884756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7EDD-F4B3-449E-B2E1-F1A5E0DF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3B0F1-52E4-4536-BA0C-966D60D3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3299-3C23-4928-A19A-CE06389A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1B7C-6DBA-46A8-B21A-6754BB94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C5C-D695-4DAF-AFAF-A9B310F8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FEDF-5C7B-4A47-B4C3-245C1E3CD17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AE56-6A30-401D-9256-CCBCB0B1B71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992D-0479-448C-B618-C675765D109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634F-CAD6-4C29-80AF-2E4D781C20E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368A-14A9-466E-8CFD-209CD50E797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8" descr="https://xn--118-5cd3cgu2f.xn--p1ai/images/logo.png"/>
          <p:cNvPicPr/>
          <p:nvPr/>
        </p:nvPicPr>
        <p:blipFill>
          <a:blip r:embed="rId1"/>
          <a:stretch/>
        </p:blipFill>
        <p:spPr>
          <a:xfrm>
            <a:off x="6480" y="403200"/>
            <a:ext cx="3476520" cy="14191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0000" y="213336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2533c"/>
                </a:solidFill>
                <a:latin typeface="Arial"/>
              </a:rPr>
              <a:t>МЕТОДЫ ИЗУЧЕНИЯ ЖИВОЙ ПРИРОДЫ. ЭКСПЕРИМЕНТ.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1" name="Подзаголовок 2"/>
          <p:cNvSpPr/>
          <p:nvPr/>
        </p:nvSpPr>
        <p:spPr>
          <a:xfrm>
            <a:off x="21240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Arial"/>
              </a:rPr>
              <a:t>Учитель биологии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Arial"/>
              </a:rPr>
              <a:t>МАОУ «ШКОЛА № 118 с углубленным изучением отдельных предметов</a:t>
            </a:r>
            <a:r>
              <a:rPr b="1" lang="ru-RU" sz="3000" spc="-1" strike="noStrike">
                <a:solidFill>
                  <a:srgbClr val="002060"/>
                </a:solidFill>
                <a:latin typeface="Calibri"/>
                <a:ea typeface="Arial"/>
              </a:rPr>
              <a:t>»</a:t>
            </a:r>
            <a:r>
              <a:rPr b="1" lang="ru-RU" sz="33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endParaRPr b="0" lang="en-US" sz="3300" spc="-1" strike="noStrike">
              <a:solidFill>
                <a:srgbClr val="292934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  <a:ea typeface="Arial"/>
              </a:rPr>
              <a:t>Трегубенко Юлия Владимировна</a:t>
            </a:r>
            <a:endParaRPr b="0" lang="en-US" sz="33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5837040" y="50004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6 урок 5 класс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65200" y="836640"/>
            <a:ext cx="857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Этапы научного исследования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(Влияние освещения на рост и развитие лука)</a:t>
            </a:r>
            <a:br>
              <a:rPr sz="3600"/>
            </a:br>
            <a:endParaRPr b="0" lang="en-US" sz="36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6" name="Picture 4" descr="10 трав, цветов и овощей, которые легко вырастить в стакане воды| ТЦ РАДУГА"/>
          <p:cNvPicPr/>
          <p:nvPr/>
        </p:nvPicPr>
        <p:blipFill>
          <a:blip r:embed="rId1"/>
          <a:srcRect l="5944" t="34347" r="25460" b="1613"/>
          <a:stretch/>
        </p:blipFill>
        <p:spPr>
          <a:xfrm>
            <a:off x="4270320" y="1484280"/>
            <a:ext cx="3638520" cy="50878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4"/>
          <p:cNvSpPr/>
          <p:nvPr/>
        </p:nvSpPr>
        <p:spPr>
          <a:xfrm>
            <a:off x="92520" y="2205000"/>
            <a:ext cx="372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buClr>
                <a:srgbClr val="203e2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3e22"/>
                </a:solidFill>
                <a:latin typeface="Arial"/>
              </a:rPr>
              <a:t>Наблюдение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3e22"/>
                </a:solidFill>
                <a:latin typeface="Arial"/>
              </a:rPr>
              <a:t>за объектом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8" name="Прямоугольник 5"/>
          <p:cNvSpPr/>
          <p:nvPr/>
        </p:nvSpPr>
        <p:spPr>
          <a:xfrm>
            <a:off x="34920" y="4008600"/>
            <a:ext cx="396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аблюдение за ростом баночек с луком на окнах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оугольник 3"/>
          <p:cNvSpPr/>
          <p:nvPr/>
        </p:nvSpPr>
        <p:spPr>
          <a:xfrm>
            <a:off x="136080" y="404640"/>
            <a:ext cx="709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03e22"/>
                </a:solidFill>
                <a:latin typeface="Arial"/>
              </a:rPr>
              <a:t>2. Обобщение полученных 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03e22"/>
                </a:solidFill>
                <a:latin typeface="Arial"/>
              </a:rPr>
              <a:t>результатов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0" name="Прямоугольник 4"/>
          <p:cNvSpPr/>
          <p:nvPr/>
        </p:nvSpPr>
        <p:spPr>
          <a:xfrm>
            <a:off x="4067280" y="12841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Лук на разных окнах вырос неодинаковым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1" name="Прямоугольник 5"/>
          <p:cNvSpPr/>
          <p:nvPr/>
        </p:nvSpPr>
        <p:spPr>
          <a:xfrm>
            <a:off x="43200" y="3038400"/>
            <a:ext cx="649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03e22"/>
                </a:solidFill>
                <a:latin typeface="Arial"/>
              </a:rPr>
              <a:t>3. Постановка проблемы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2" name="Прямоугольник 6"/>
          <p:cNvSpPr/>
          <p:nvPr/>
        </p:nvSpPr>
        <p:spPr>
          <a:xfrm>
            <a:off x="3059280" y="3933720"/>
            <a:ext cx="583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Какие условия необходимы для выращивания лука с крупными зелёными листьями?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3"/>
          <p:cNvSpPr/>
          <p:nvPr/>
        </p:nvSpPr>
        <p:spPr>
          <a:xfrm>
            <a:off x="25920" y="411120"/>
            <a:ext cx="653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03e22"/>
                </a:solidFill>
                <a:latin typeface="Arial"/>
              </a:rPr>
              <a:t>4. Выдвижение гипотезы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4" name="Прямоугольник 4"/>
          <p:cNvSpPr/>
          <p:nvPr/>
        </p:nvSpPr>
        <p:spPr>
          <a:xfrm>
            <a:off x="2843280" y="1197000"/>
            <a:ext cx="61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На рост лука влияет  разное освещение на разных окнах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5" name="Прямоугольник 5"/>
          <p:cNvSpPr/>
          <p:nvPr/>
        </p:nvSpPr>
        <p:spPr>
          <a:xfrm>
            <a:off x="208800" y="3076560"/>
            <a:ext cx="73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03e22"/>
                </a:solidFill>
                <a:latin typeface="Arial"/>
              </a:rPr>
              <a:t>5. Разработка и проведение 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03e22"/>
                </a:solidFill>
                <a:latin typeface="Arial"/>
              </a:rPr>
              <a:t>эксперимента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6" name="Прямоугольник 6"/>
          <p:cNvSpPr/>
          <p:nvPr/>
        </p:nvSpPr>
        <p:spPr>
          <a:xfrm>
            <a:off x="1889280" y="4365720"/>
            <a:ext cx="705636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оставляем план. Разрабатываем методику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Что нам понадобится, где будем выращивать лук, когда и чем будем проводить измерения, как фиксировать результаты. Какой контрольный опыт, независимая и зависимая переменная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3"/>
          <p:cNvSpPr/>
          <p:nvPr/>
        </p:nvSpPr>
        <p:spPr>
          <a:xfrm>
            <a:off x="0" y="404640"/>
            <a:ext cx="87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03e22"/>
                </a:solidFill>
                <a:latin typeface="Arial"/>
              </a:rPr>
              <a:t>6. Анализ и сравнение результатов эксперимента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8" name="Прямоугольник 4"/>
          <p:cNvSpPr/>
          <p:nvPr/>
        </p:nvSpPr>
        <p:spPr>
          <a:xfrm>
            <a:off x="900000" y="1728720"/>
            <a:ext cx="80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Лук на южном окне крупный и зелёный, на северном, вытянутый, листья бледные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rcRect l="23846" t="0" r="5216" b="0"/>
          <a:stretch/>
        </p:blipFill>
        <p:spPr>
          <a:xfrm>
            <a:off x="458640" y="3448080"/>
            <a:ext cx="3735360" cy="32418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"/>
          <p:cNvPicPr/>
          <p:nvPr/>
        </p:nvPicPr>
        <p:blipFill>
          <a:blip r:embed="rId2"/>
          <a:srcRect l="23627" t="0" r="0" b="0"/>
          <a:stretch/>
        </p:blipFill>
        <p:spPr>
          <a:xfrm>
            <a:off x="4643280" y="3448080"/>
            <a:ext cx="316260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3"/>
          <p:cNvSpPr/>
          <p:nvPr/>
        </p:nvSpPr>
        <p:spPr>
          <a:xfrm>
            <a:off x="199440" y="404640"/>
            <a:ext cx="388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03e22"/>
                </a:solidFill>
                <a:latin typeface="Arial"/>
              </a:rPr>
              <a:t>7. Выводы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2" name="Прямоугольник 4"/>
          <p:cNvSpPr/>
          <p:nvPr/>
        </p:nvSpPr>
        <p:spPr>
          <a:xfrm>
            <a:off x="179280" y="1413000"/>
            <a:ext cx="612144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Для нормального роста и развития, луку необходимо яркое освещение. 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Лук – светолюбивое растение.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63" name="Picture 2" descr="Картинка зеленый лук для детей - 47 фото"/>
          <p:cNvPicPr/>
          <p:nvPr/>
        </p:nvPicPr>
        <p:blipFill>
          <a:blip r:embed="rId1"/>
          <a:stretch/>
        </p:blipFill>
        <p:spPr>
          <a:xfrm>
            <a:off x="4932360" y="198900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ЗАДАНИЕ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65" name="Рисунок 4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785440" cy="22320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266" name="Рисунок 5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6091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4"/>
          <p:cNvSpPr/>
          <p:nvPr/>
        </p:nvSpPr>
        <p:spPr>
          <a:xfrm>
            <a:off x="1440" y="20520"/>
            <a:ext cx="9036360" cy="679824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03e22"/>
                </a:solidFill>
                <a:latin typeface="Calibri"/>
              </a:rPr>
              <a:t>Эксперимент и наблюдение – 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03e22"/>
                </a:solidFill>
                <a:latin typeface="Calibri"/>
              </a:rPr>
              <a:t>ведущие методы изучения живой природы. 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Главное отличие эксперимента от наблюдение заключается в том, что это метод не пассивной регистрации данных. 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Эксперимент предполагает активное воздействие на изучаемый объект. Позволяет подтвердить или опровергнуть гипотезу.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4"/>
          <p:cNvSpPr/>
          <p:nvPr/>
        </p:nvSpPr>
        <p:spPr>
          <a:xfrm>
            <a:off x="395280" y="857160"/>
            <a:ext cx="8209080" cy="1068840"/>
          </a:xfrm>
          <a:prstGeom prst="rect">
            <a:avLst/>
          </a:prstGeom>
          <a:solidFill>
            <a:srgbClr val="ffffff"/>
          </a:solidFill>
          <a:ln w="26280">
            <a:solidFill>
              <a:srgbClr val="7946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6 ЧИТАТЬ, ПОНИМАТЬ, ВЫУЧИТЬ ЗАПИСИ В ТЕТРАДИ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539640" y="892080"/>
            <a:ext cx="271440" cy="426960"/>
          </a:xfrm>
          <a:prstGeom prst="rect">
            <a:avLst/>
          </a:prstGeom>
          <a:ln w="0">
            <a:noFill/>
          </a:ln>
        </p:spPr>
      </p:pic>
      <p:sp>
        <p:nvSpPr>
          <p:cNvPr id="270" name="Заголовок 1"/>
          <p:cNvSpPr/>
          <p:nvPr/>
        </p:nvSpPr>
        <p:spPr>
          <a:xfrm>
            <a:off x="755640" y="192240"/>
            <a:ext cx="7488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55520" y="-966960"/>
            <a:ext cx="129528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07800" y="-814320"/>
            <a:ext cx="129564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273" name="TextBox 5"/>
          <p:cNvGrpSpPr/>
          <p:nvPr/>
        </p:nvGrpSpPr>
        <p:grpSpPr>
          <a:xfrm>
            <a:off x="92160" y="2054160"/>
            <a:ext cx="3913200" cy="4108680"/>
            <a:chOff x="92160" y="2054160"/>
            <a:chExt cx="3913200" cy="4108680"/>
          </a:xfrm>
        </p:grpSpPr>
        <p:pic>
          <p:nvPicPr>
            <p:cNvPr id="274" name="TextBox 5" descr=""/>
            <p:cNvPicPr/>
            <p:nvPr/>
          </p:nvPicPr>
          <p:blipFill>
            <a:blip r:embed="rId2"/>
            <a:stretch/>
          </p:blipFill>
          <p:spPr>
            <a:xfrm>
              <a:off x="92160" y="2054160"/>
              <a:ext cx="3913200" cy="41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95400" y="2060640"/>
              <a:ext cx="3900240" cy="38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3a1953"/>
                  </a:solidFill>
                  <a:latin typeface="Calibri"/>
                </a:rPr>
                <a:t>ЗАДАНИЕ (доп.оценка)</a:t>
              </a:r>
              <a:endParaRPr b="0" lang="en-US" sz="4400" spc="-1" strike="noStrike">
                <a:solidFill>
                  <a:srgbClr val="29293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a1953"/>
                  </a:solidFill>
                  <a:latin typeface="Calibri"/>
                </a:rPr>
                <a:t>Описать эксперимент по проращиванию семян по плану</a:t>
              </a:r>
              <a:endParaRPr b="0" lang="en-US" sz="3200" spc="-1" strike="noStrike">
                <a:solidFill>
                  <a:srgbClr val="29293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pic>
        <p:nvPicPr>
          <p:cNvPr id="276" name="Picture 12" descr="https://ykl-res.azureedge.net/f90bbe78-ca89-498c-84f6-f9b71828728a/42.png"/>
          <p:cNvPicPr/>
          <p:nvPr/>
        </p:nvPicPr>
        <p:blipFill>
          <a:blip r:embed="rId3"/>
          <a:stretch/>
        </p:blipFill>
        <p:spPr>
          <a:xfrm>
            <a:off x="4255920" y="2049480"/>
            <a:ext cx="4337280" cy="3933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"/>
          <p:cNvPicPr/>
          <p:nvPr/>
        </p:nvPicPr>
        <p:blipFill>
          <a:blip r:embed="rId4"/>
          <a:stretch/>
        </p:blipFill>
        <p:spPr>
          <a:xfrm>
            <a:off x="95400" y="6046920"/>
            <a:ext cx="899784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7953480" y="-31680"/>
            <a:ext cx="1190520" cy="119052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4"/>
          <p:cNvSpPr/>
          <p:nvPr/>
        </p:nvSpPr>
        <p:spPr>
          <a:xfrm>
            <a:off x="206280" y="1158840"/>
            <a:ext cx="8856720" cy="58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34"/>
                </a:solidFill>
                <a:latin typeface="Calibri"/>
                <a:ea typeface="Arial"/>
              </a:rPr>
              <a:t>Во время проведения наблюдений и опытов, чтобы получить необходимую нам, точную информацию, часто используют метод определение числового значения определённой величины объекта или явления, метод ________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Наибольшая величина, которая может быть измерена с помощью данного измерительного прибора – это _________ измерения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______ деления - это промежуток между двумя соседними отметками шкалы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34"/>
                </a:solidFill>
                <a:latin typeface="Calibri"/>
                <a:ea typeface="Arial"/>
              </a:rPr>
              <a:t>Чем _________цена деления, тем выше точность измерительного прибора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34"/>
                </a:solidFill>
                <a:latin typeface="Calibri"/>
                <a:ea typeface="Arial"/>
              </a:rPr>
              <a:t>Для измерения длины используют _______, единицы измерения длины ____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TextBox 1"/>
          <p:cNvSpPr/>
          <p:nvPr/>
        </p:nvSpPr>
        <p:spPr>
          <a:xfrm>
            <a:off x="2227320" y="-57240"/>
            <a:ext cx="353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ЗАДАНИЕ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861480" y="333360"/>
            <a:ext cx="747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Зачем зебрам полоски? 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7" name="Picture 2" descr="Зебра На Белом Фоне — стоковые фотографии и другие картинки Зебра - Зебра,  Белый фон, Изолированный предмет - iStock"/>
          <p:cNvPicPr/>
          <p:nvPr/>
        </p:nvPicPr>
        <p:blipFill>
          <a:blip r:embed="rId1"/>
          <a:srcRect l="8429" t="0" r="7747" b="0"/>
          <a:stretch/>
        </p:blipFill>
        <p:spPr>
          <a:xfrm>
            <a:off x="192240" y="1125360"/>
            <a:ext cx="5128920" cy="563904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7"/>
          <p:cNvSpPr/>
          <p:nvPr/>
        </p:nvSpPr>
        <p:spPr>
          <a:xfrm>
            <a:off x="5059440" y="1341360"/>
            <a:ext cx="411948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лоски маскируют их от хищников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 полоскам узнают сородичей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пособ терморегуляции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Чем жарче климат, тем больше полосок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Их меньше кусают мухи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3"/>
          <p:cNvSpPr/>
          <p:nvPr/>
        </p:nvSpPr>
        <p:spPr>
          <a:xfrm>
            <a:off x="250920" y="549360"/>
            <a:ext cx="8893080" cy="60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274"/>
                </a:solidFill>
                <a:latin typeface="Calibri"/>
              </a:rPr>
              <a:t>Как учёные искали ответ на этот вопрос?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274"/>
                </a:solidFill>
                <a:latin typeface="Calibri"/>
              </a:rPr>
              <a:t>Какая гипотеза подтвердилась?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274"/>
                </a:solidFill>
                <a:latin typeface="Calibri"/>
              </a:rPr>
              <a:t>Как вы думаете, какие методы –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ведущие</a:t>
            </a:r>
            <a:r>
              <a:rPr b="1" lang="ru-RU" sz="4400" spc="-1" strike="noStrike">
                <a:solidFill>
                  <a:srgbClr val="004274"/>
                </a:solidFill>
                <a:latin typeface="Calibri"/>
              </a:rPr>
              <a:t> методы изучения живой природы? 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3"/>
          <p:cNvSpPr/>
          <p:nvPr/>
        </p:nvSpPr>
        <p:spPr>
          <a:xfrm>
            <a:off x="324000" y="487440"/>
            <a:ext cx="8351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Работа с учебником</a:t>
            </a:r>
            <a:br>
              <a:rPr sz="4000"/>
            </a:br>
            <a:r>
              <a:rPr b="1" lang="ru-RU" sz="4000" spc="-1" strike="noStrike">
                <a:solidFill>
                  <a:srgbClr val="004274"/>
                </a:solidFill>
                <a:latin typeface="Calibri"/>
              </a:rPr>
              <a:t>1. Прочитайте текст задания, постарайтесь предположить верные ответы.</a:t>
            </a:r>
            <a:br>
              <a:rPr sz="4000"/>
            </a:br>
            <a:r>
              <a:rPr b="1" lang="ru-RU" sz="4000" spc="-1" strike="noStrike">
                <a:solidFill>
                  <a:srgbClr val="004274"/>
                </a:solidFill>
                <a:latin typeface="Calibri"/>
              </a:rPr>
              <a:t>2. Откройте §6 в учебнике и найдите в тексте недостающие термины и понятия. </a:t>
            </a:r>
            <a:br>
              <a:rPr sz="4000"/>
            </a:b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Объект 2"/>
          <p:cNvSpPr/>
          <p:nvPr/>
        </p:nvSpPr>
        <p:spPr>
          <a:xfrm>
            <a:off x="108000" y="333360"/>
            <a:ext cx="9036000" cy="652464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Эксперимент (опыт)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это метод, который в специально созданных и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контролируемых условиях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позволяет установить, как эти условия влияют на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объект или явление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Эксперимент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 позволяет учёным собрать факты, чтобы подтвердить или опровергнуть свои научные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предположения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292934"/>
                </a:solidFill>
                <a:latin typeface="Calibri"/>
                <a:ea typeface="Arial"/>
              </a:rPr>
              <a:t>–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гипотезы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Эксперимент обязательно должен проходит с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контрольным опытом</a:t>
            </a:r>
            <a:r>
              <a:rPr b="0" lang="ru-RU" sz="2800" spc="-1" strike="noStrike">
                <a:solidFill>
                  <a:srgbClr val="292934"/>
                </a:solidFill>
                <a:latin typeface="Calibri"/>
                <a:ea typeface="Arial"/>
              </a:rPr>
              <a:t>,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который будет отличаться от условий эксперимента только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одним</a:t>
            </a:r>
            <a:r>
              <a:rPr b="1" lang="ru-RU" sz="28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фактором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Анализ</a:t>
            </a:r>
            <a:r>
              <a:rPr b="0" lang="ru-RU" sz="2800" spc="-1" strike="noStrike">
                <a:solidFill>
                  <a:srgbClr val="292934"/>
                </a:solidFill>
                <a:latin typeface="Calibri"/>
                <a:ea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эксперимента позволяет решить,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какая из гипотез верна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Если гипотеза оказалась верна, её можно назвать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теорией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 или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  <a:ea typeface="Arial"/>
              </a:rPr>
              <a:t>законом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2" name="Прямоугольник 5"/>
          <p:cNvSpPr/>
          <p:nvPr/>
        </p:nvSpPr>
        <p:spPr>
          <a:xfrm>
            <a:off x="611280" y="333360"/>
            <a:ext cx="3240000" cy="431640"/>
          </a:xfrm>
          <a:prstGeom prst="rect">
            <a:avLst/>
          </a:pr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3" name="Прямоугольник 6"/>
          <p:cNvSpPr/>
          <p:nvPr/>
        </p:nvSpPr>
        <p:spPr>
          <a:xfrm>
            <a:off x="3492360" y="3068640"/>
            <a:ext cx="1800360" cy="431640"/>
          </a:xfrm>
          <a:prstGeom prst="rect">
            <a:avLst/>
          </a:pr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4" name="Прямоугольник 7"/>
          <p:cNvSpPr/>
          <p:nvPr/>
        </p:nvSpPr>
        <p:spPr>
          <a:xfrm>
            <a:off x="642960" y="4041720"/>
            <a:ext cx="3527280" cy="432000"/>
          </a:xfrm>
          <a:prstGeom prst="rect">
            <a:avLst/>
          </a:pr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5" name="Прямоугольник 8"/>
          <p:cNvSpPr/>
          <p:nvPr/>
        </p:nvSpPr>
        <p:spPr>
          <a:xfrm>
            <a:off x="5435640" y="4432320"/>
            <a:ext cx="1089000" cy="431640"/>
          </a:xfrm>
          <a:prstGeom prst="rect">
            <a:avLst/>
          </a:pr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6" name="Прямоугольник 9"/>
          <p:cNvSpPr/>
          <p:nvPr/>
        </p:nvSpPr>
        <p:spPr>
          <a:xfrm>
            <a:off x="682560" y="4889520"/>
            <a:ext cx="1224000" cy="431640"/>
          </a:xfrm>
          <a:prstGeom prst="rect">
            <a:avLst/>
          </a:pr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7" name="Прямоугольник 10"/>
          <p:cNvSpPr/>
          <p:nvPr/>
        </p:nvSpPr>
        <p:spPr>
          <a:xfrm>
            <a:off x="682560" y="6308640"/>
            <a:ext cx="1354320" cy="433440"/>
          </a:xfrm>
          <a:prstGeom prst="rect">
            <a:avLst/>
          </a:pr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8" name="Прямоугольник 11"/>
          <p:cNvSpPr/>
          <p:nvPr/>
        </p:nvSpPr>
        <p:spPr>
          <a:xfrm>
            <a:off x="2700360" y="6259680"/>
            <a:ext cx="1393920" cy="433080"/>
          </a:xfrm>
          <a:prstGeom prst="rect">
            <a:avLst/>
          </a:prstGeom>
          <a:solidFill>
            <a:srgbClr val="93a299"/>
          </a:solidFill>
          <a:ln w="26280">
            <a:solidFill>
              <a:srgbClr val="6b76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424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Экспериментальная и контрольная группа. Зависимая и независимая переменная.</a:t>
            </a:r>
            <a:br>
              <a:rPr sz="4400"/>
            </a:b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0" name="Объект 3" descr=""/>
          <p:cNvPicPr/>
          <p:nvPr/>
        </p:nvPicPr>
        <p:blipFill>
          <a:blip r:embed="rId1"/>
          <a:stretch/>
        </p:blipFill>
        <p:spPr>
          <a:xfrm>
            <a:off x="27000" y="2349360"/>
            <a:ext cx="5761080" cy="439272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"/>
          <p:cNvPicPr/>
          <p:nvPr/>
        </p:nvPicPr>
        <p:blipFill>
          <a:blip r:embed="rId2"/>
          <a:srcRect l="50007" t="0" r="0" b="8085"/>
          <a:stretch/>
        </p:blipFill>
        <p:spPr>
          <a:xfrm>
            <a:off x="5830920" y="2349360"/>
            <a:ext cx="3313080" cy="42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324000" y="468360"/>
            <a:ext cx="8270640" cy="496980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онтрольный опыт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– опыт, который отличается от условий эксперимента только одним фактором.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Независимая переменная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– то, что ученый меняет сам.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Зависимая переменная 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– то, что учёный измеряет.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903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4274"/>
                </a:solidFill>
                <a:latin typeface="Arial"/>
              </a:rPr>
              <a:t>Достоверность эксперимента</a:t>
            </a:r>
            <a:endParaRPr b="0" lang="en-US" sz="4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250920" y="1341360"/>
            <a:ext cx="8785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92934"/>
                </a:solidFill>
                <a:latin typeface="Calibri"/>
              </a:rPr>
              <a:t>В научном эксперименте всегда берётся не один объект (растение), а как можно 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больше объектов </a:t>
            </a:r>
            <a:r>
              <a:rPr b="1" lang="ru-RU" sz="4800" spc="-1" strike="noStrike">
                <a:solidFill>
                  <a:srgbClr val="292934"/>
                </a:solidFill>
                <a:latin typeface="Calibri"/>
              </a:rPr>
              <a:t>(растений).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92934"/>
                </a:solidFill>
                <a:latin typeface="Calibri"/>
              </a:rPr>
              <a:t>Достоверность результатов проверяется 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проведением повторных экспериментов</a:t>
            </a:r>
            <a:r>
              <a:rPr b="1" lang="ru-RU" sz="4800" spc="-1" strike="noStrike">
                <a:solidFill>
                  <a:srgbClr val="292934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8-27T08:53:46Z</dcterms:created>
  <dc:creator>Алексей</dc:creator>
  <dc:description/>
  <dc:language>en-US</dc:language>
  <cp:lastModifiedBy>Алексей</cp:lastModifiedBy>
  <dcterms:modified xsi:type="dcterms:W3CDTF">2023-10-18T23:11:56Z</dcterms:modified>
  <cp:revision>90</cp:revision>
  <dc:subject/>
  <dc:title>Биология - система наук о живой природе</dc:title>
</cp:coreProperties>
</file>