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43B-77A8-48F2-88C0-5FE6AFF5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BC5-E91A-4BD5-B2E2-F53EBC4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D23-DDDB-4AD8-9CBC-A2C2E7B0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334-B176-4850-AA2C-0E20D06B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569-2375-4A72-A30C-16E586E1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478C-E834-4E58-9DE0-C8DC6B00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D423-5C60-437B-900B-919E6D8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0FD-B131-4D52-9E84-F911E66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C405-234B-4A0A-B851-C4A280A9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1D2A-EB05-407F-A82E-5906B0AC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150-2CB4-48BC-A519-E7E28D8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6E7-FAAD-4736-8AB2-388A72B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263-2494-4EED-B8F3-C377563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3DF-8395-4B3B-8E91-CEE4F0A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6EAC-CAA3-424C-8679-21C309B3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C5C-72D8-4E6A-9C8C-C88BA015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5FF2-635A-4DB7-A01E-A8386DA0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C5D8-0E8B-413A-BDF5-3917E665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C7E6-8699-46E5-BF55-23A4FD2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731F-4270-4253-A710-0ED8212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A5AC-2BE7-4389-9DF7-9DD320B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2C36-39DC-462B-B08A-BABB77A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169-4CDC-45CF-8033-CF2959B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3AE1-7BED-460B-85BA-EDCC6752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9937-5A07-427D-AC56-240B897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AD25-2028-4F19-ACA1-0E5CC0A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44C2-F1A9-4B3F-A992-9F81BB5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B3D3-1063-4C08-A7D4-906C6641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EC29-510C-4DF9-B19B-3D56D52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4B45-2ED4-4CC7-8E49-4AE39622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D750-BBC0-47F9-B3DC-5BBE2883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2803-61DF-4168-8604-1A287AB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59BC-3ACA-4A4C-9A6A-72965F3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A24-20CE-47D1-A947-711FF56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C295-1D82-4230-B192-ED41EDC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13B6-5D0C-473E-99BF-BFCEEAD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05E6-776F-4FB7-B256-F96D0BFA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2CEB-E6B7-4537-8400-3BEAE3A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920A-6BD2-4628-8AA2-4D6CDF4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07A3-E2F9-4ACB-8E10-CDC6DC7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BF36-7AFF-44AD-8AF9-8A5F90AF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8496-DD56-4594-8FDC-A665253B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97FA-06E4-4EE7-A070-09BBBA40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15EA-4E55-4F27-B909-45D7AE52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5EE-F741-4A5C-AF45-82941B9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3B99-E0EB-4645-AE3F-B5254C1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9E827-9F1F-4DC1-A096-00B184C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247F-A4D8-4D76-8B0A-D5F51536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6D5F-044C-483D-9979-D957CB2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5D39F-CFBC-455D-8C37-23C17B7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2CD7-A331-425C-AEFD-85DE5E8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BD38-1EBA-49A4-A1C7-5752B1E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ECCA-0FBE-4C07-91D5-1FE9400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2FAE-E4CD-4596-A2AE-1A5045B2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18E2-0FA1-434E-B44B-2D9A60B1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A49-E645-4EF7-A6D7-A38D6842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761A-F5C2-44F8-B437-0AC6AD78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05F-5DE3-465A-A0AF-08CD4A9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96E-D89B-4B60-A760-C19C36A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37D-5EF3-492C-85DE-9DF7094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4F6-ADA4-4B8F-A958-7D4477AA58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301-456D-4330-A07B-6753A73801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7EEC-F96A-4FBB-A3A9-04E4FE810B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C39-358A-4952-8718-B05ADA88DE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C9C-FBF9-43FC-A1EB-8EF876EDE9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ЭКСПЕРИМЕНТ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65200" y="836640"/>
            <a:ext cx="85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Этапы научного исследован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Влияние освещения на рост и развитие лука)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6" name="Picture 4" descr="10 трав, цветов и овощей, которые легко вырастить в стакане воды| ТЦ РАДУГА"/>
          <p:cNvPicPr/>
          <p:nvPr/>
        </p:nvPicPr>
        <p:blipFill>
          <a:blip r:embed="rId1"/>
          <a:srcRect l="5944" t="34347" r="25460" b="1613"/>
          <a:stretch/>
        </p:blipFill>
        <p:spPr>
          <a:xfrm>
            <a:off x="4270320" y="1484280"/>
            <a:ext cx="3638520" cy="50878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92520" y="2205000"/>
            <a:ext cx="37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203e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3e22"/>
                </a:solidFill>
                <a:latin typeface="Arial"/>
              </a:rPr>
              <a:t>Наблюдение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3e22"/>
                </a:solidFill>
                <a:latin typeface="Arial"/>
              </a:rPr>
              <a:t>за объектом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4920" y="400860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блюдение за ростом баночек с луком на окнах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136080" y="404640"/>
            <a:ext cx="709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2. Обобщение полученных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результатов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4067280" y="1284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ук на разных окнах вырос неодинаковы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43200" y="3038400"/>
            <a:ext cx="649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3. Постановка проблем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Прямоугольник 6"/>
          <p:cNvSpPr/>
          <p:nvPr/>
        </p:nvSpPr>
        <p:spPr>
          <a:xfrm>
            <a:off x="3059280" y="3933720"/>
            <a:ext cx="58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акие условия необходимы для выращивания лука с крупными зелёными листьями?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25920" y="41112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4. Выдвижение гипотез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2843280" y="119700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рост лука влияет  разное освещение на разных окнах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208800" y="3076560"/>
            <a:ext cx="73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5. Разработка и проведение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эксперимент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1889280" y="4365720"/>
            <a:ext cx="70563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тавляем план. Разрабатываем методик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 нам понадобится, где будем выращивать лук, когда и чем будем проводить измерения, как фиксировать результаты. Какой контрольный опыт, независимая и зависимая переменн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0" y="4046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6. Анализ и сравнение результатов эксперимент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900000" y="172872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ук на южном окне крупный и зелёный, на северном, вытянутый, листья бледные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rcRect l="23846" t="0" r="5216" b="0"/>
          <a:stretch/>
        </p:blipFill>
        <p:spPr>
          <a:xfrm>
            <a:off x="458640" y="3448080"/>
            <a:ext cx="3735360" cy="3241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rcRect l="23627" t="0" r="0" b="0"/>
          <a:stretch/>
        </p:blipFill>
        <p:spPr>
          <a:xfrm>
            <a:off x="4643280" y="3448080"/>
            <a:ext cx="3162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3"/>
          <p:cNvSpPr/>
          <p:nvPr/>
        </p:nvSpPr>
        <p:spPr>
          <a:xfrm>
            <a:off x="199440" y="40464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03e22"/>
                </a:solidFill>
                <a:latin typeface="Arial"/>
              </a:rPr>
              <a:t>7. Выводы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179280" y="1413000"/>
            <a:ext cx="612144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я нормального роста и развития, луку необходимо яркое освещение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ук – светолюбивое растение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3" name="Picture 2" descr="Картинка зеленый лук для детей - 47 фото"/>
          <p:cNvPicPr/>
          <p:nvPr/>
        </p:nvPicPr>
        <p:blipFill>
          <a:blip r:embed="rId1"/>
          <a:stretch/>
        </p:blipFill>
        <p:spPr>
          <a:xfrm>
            <a:off x="4932360" y="198900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5" name="Рисунок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2232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66" name="Рисунок 5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091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4"/>
          <p:cNvSpPr/>
          <p:nvPr/>
        </p:nvSpPr>
        <p:spPr>
          <a:xfrm>
            <a:off x="1440" y="20520"/>
            <a:ext cx="9036360" cy="67982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Calibri"/>
              </a:rPr>
              <a:t>Эксперимент и наблюдение –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Calibri"/>
              </a:rPr>
              <a:t>ведущие методы изучения живой природы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лавное отличие эксперимента от наблюдение заключается в том, что это метод не пассивной регистрации данных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ксперимент предполагает активное воздействие на изучаемый объект. Позволяет подтвердить или опровергнуть гипотезу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"/>
          <p:cNvSpPr/>
          <p:nvPr/>
        </p:nvSpPr>
        <p:spPr>
          <a:xfrm>
            <a:off x="395280" y="857160"/>
            <a:ext cx="8209080" cy="106884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6 ЧИТАТЬ, ПОНИМАТЬ, ВЫУЧИТЬ ЗАПИСИ В ТЕТРАДИ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39640" y="892080"/>
            <a:ext cx="271440" cy="426960"/>
          </a:xfrm>
          <a:prstGeom prst="rect">
            <a:avLst/>
          </a:prstGeom>
          <a:ln w="0">
            <a:noFill/>
          </a:ln>
        </p:spPr>
      </p:pic>
      <p:sp>
        <p:nvSpPr>
          <p:cNvPr id="270" name="Заголовок 1"/>
          <p:cNvSpPr/>
          <p:nvPr/>
        </p:nvSpPr>
        <p:spPr>
          <a:xfrm>
            <a:off x="755640" y="192240"/>
            <a:ext cx="748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73" name="TextBox 5"/>
          <p:cNvGrpSpPr/>
          <p:nvPr/>
        </p:nvGrpSpPr>
        <p:grpSpPr>
          <a:xfrm>
            <a:off x="92160" y="2054160"/>
            <a:ext cx="3913200" cy="4108680"/>
            <a:chOff x="92160" y="2054160"/>
            <a:chExt cx="3913200" cy="4108680"/>
          </a:xfrm>
        </p:grpSpPr>
        <p:pic>
          <p:nvPicPr>
            <p:cNvPr id="274" name="TextBox 5" descr=""/>
            <p:cNvPicPr/>
            <p:nvPr/>
          </p:nvPicPr>
          <p:blipFill>
            <a:blip r:embed="rId2"/>
            <a:stretch/>
          </p:blipFill>
          <p:spPr>
            <a:xfrm>
              <a:off x="92160" y="2054160"/>
              <a:ext cx="391320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95400" y="2060640"/>
              <a:ext cx="3900240" cy="38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 (доп.оценка)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a1953"/>
                  </a:solidFill>
                  <a:latin typeface="Calibri"/>
                </a:rPr>
                <a:t>Описать эксперимент по проращиванию семян по плану</a:t>
              </a:r>
              <a:endParaRPr b="0" lang="en-US" sz="32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pic>
        <p:nvPicPr>
          <p:cNvPr id="276" name="Picture 12" descr="https://ykl-res.azureedge.net/f90bbe78-ca89-498c-84f6-f9b71828728a/42.png"/>
          <p:cNvPicPr/>
          <p:nvPr/>
        </p:nvPicPr>
        <p:blipFill>
          <a:blip r:embed="rId3"/>
          <a:stretch/>
        </p:blipFill>
        <p:spPr>
          <a:xfrm>
            <a:off x="4255920" y="2049480"/>
            <a:ext cx="4337280" cy="3933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4"/>
          <a:stretch/>
        </p:blipFill>
        <p:spPr>
          <a:xfrm>
            <a:off x="95400" y="6046920"/>
            <a:ext cx="899784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953480" y="-316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206280" y="1158840"/>
            <a:ext cx="885672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Во время проведения наблюдений и опытов, чтобы получить необходимую нам, точную информацию, часто используют метод определение числового значения определённой величины объекта или явления, метод ________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ибольшая величина, которая может быть измерена с помощью данного измерительного прибора – это _________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______ деления - это промежуток между двумя соседними отметками шкалы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Чем _________цена деления, тем выше точность измерительного прибор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Для измерения длины используют _______, единицы измерения длины ____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227320" y="-5724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861480" y="333360"/>
            <a:ext cx="747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чем зебрам полоски? 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Зебра На Белом Фоне — стоковые фотографии и другие картинки Зебра - Зебра,  Белый фон, Изолированный предмет - iStock"/>
          <p:cNvPicPr/>
          <p:nvPr/>
        </p:nvPicPr>
        <p:blipFill>
          <a:blip r:embed="rId1"/>
          <a:srcRect l="8429" t="0" r="7747" b="0"/>
          <a:stretch/>
        </p:blipFill>
        <p:spPr>
          <a:xfrm>
            <a:off x="192240" y="1125360"/>
            <a:ext cx="5128920" cy="5639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5059440" y="1341360"/>
            <a:ext cx="411948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лоски маскируют их от хищников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 полоскам узнают сородиче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особ терморегуляц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м жарче климат, тем больше полосо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х меньше кусают мух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250920" y="549360"/>
            <a:ext cx="889308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 учёные искали ответ на этот вопрос?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ая гипотеза подтвердилась?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 вы думаете, какие методы –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дущие</a:t>
            </a: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 методы изучения живой природы?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324000" y="48744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абота с учебником</a:t>
            </a:r>
            <a:br>
              <a:rPr sz="4000"/>
            </a:b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1. Прочитайте текст задания, постарайтесь предположить верные ответы.</a:t>
            </a:r>
            <a:br>
              <a:rPr sz="4000"/>
            </a:b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2. Откройте §6 в учебнике и найдите в тексте недостающие термины и понятия. </a:t>
            </a:r>
            <a:br>
              <a:rPr sz="4000"/>
            </a:b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ъект 2"/>
          <p:cNvSpPr/>
          <p:nvPr/>
        </p:nvSpPr>
        <p:spPr>
          <a:xfrm>
            <a:off x="108000" y="333360"/>
            <a:ext cx="9036000" cy="6524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Эксперимент (опыт)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то метод, который в специально созданных и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тролируемых условиях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зволяет установить, как эти условия влияют на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бъект или явление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позволяет учёным собрать факты, чтобы подтвердить или опровергнуть свои научные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едположения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ипотезы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 обязательно должен проходит 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контрольным опытом</a:t>
            </a: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торый будет отличаться от условий эксперимента тольк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одним</a:t>
            </a:r>
            <a:r>
              <a:rPr b="1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факторо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Анализ</a:t>
            </a: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а позволяет решить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акая из гипотез верн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Если гипотеза оказалась верна, её можно назвать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еорией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и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законом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611280" y="333360"/>
            <a:ext cx="3240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492360" y="3068640"/>
            <a:ext cx="180036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642960" y="4041720"/>
            <a:ext cx="3527280" cy="43200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5435640" y="4432320"/>
            <a:ext cx="1089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682560" y="4889520"/>
            <a:ext cx="1224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682560" y="6308640"/>
            <a:ext cx="1354320" cy="4334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2700360" y="6259680"/>
            <a:ext cx="1393920" cy="43308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кспериментальная и контрольная группа. Зависимая и независимая переменная.</a:t>
            </a:r>
            <a:br>
              <a:rPr sz="4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0" name="Объект 3" descr=""/>
          <p:cNvPicPr/>
          <p:nvPr/>
        </p:nvPicPr>
        <p:blipFill>
          <a:blip r:embed="rId1"/>
          <a:stretch/>
        </p:blipFill>
        <p:spPr>
          <a:xfrm>
            <a:off x="27000" y="2349360"/>
            <a:ext cx="5761080" cy="4392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rcRect l="50007" t="0" r="0" b="8085"/>
          <a:stretch/>
        </p:blipFill>
        <p:spPr>
          <a:xfrm>
            <a:off x="5830920" y="2349360"/>
            <a:ext cx="331308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24000" y="468360"/>
            <a:ext cx="8270640" cy="4969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нтрольный опыт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опыт, который отличается от условий эксперимента только одним фактором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езависимая переменная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то, что ученый меняет сам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Зависимая переменная 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то, что учёный измеряет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74"/>
                </a:solidFill>
                <a:latin typeface="Arial"/>
              </a:rPr>
              <a:t>Достоверность эксперимента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50920" y="1341360"/>
            <a:ext cx="878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В научном эксперименте всегда берётся не один объект (растение), а как можно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ольше объектов </a:t>
            </a: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(растений).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Достоверность результатов проверяется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роведением повторных экспериментов</a:t>
            </a: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0-18T23:11:56Z</dcterms:modified>
  <cp:revision>90</cp:revision>
  <dc:subject/>
  <dc:title>Биология - система наук о живой природе</dc:title>
</cp:coreProperties>
</file>