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821-201D-4690-BF42-50366FC1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848-E380-4A91-A60E-473D0DC6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E4F-E275-4A33-8D99-C84753C8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152-B8F7-4B4F-A190-08B4CD0FE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BF5A-8225-4E52-86C2-30714573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A607-856E-49BB-A731-FE917D5D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E413-A31F-46BC-A0BD-F6728E84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167-3BD2-470C-8B49-64348960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F015-9DBF-42EE-8277-F78FB15F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A33C-7A39-49AF-88F4-021062B3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DE0-A6C5-418B-A569-D93B893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A56-503F-48EF-8062-44542AE9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A08D-BCF5-4B95-8965-E01C7809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3942-DD8F-4DAD-95CC-E55F5FB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0977-C061-4960-8735-C1E3A7F0E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459-8A56-475B-BBB6-CF6011EB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4EF9-2445-4603-A591-86A6CE5F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E700-606A-48B1-9FE4-B7FFEA56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1BE4-425C-4BC2-B952-E37850DE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F2A67-B176-4AF3-A8A6-B16311A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C5FD7-D0B1-4F85-B730-37282C47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A5DC-0178-4EED-B670-F6C3F366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663-C750-42C9-8940-96DDA53D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12408-A30E-4FAF-BEB0-C41F38B6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9B81A-49EC-42AB-8537-F883404A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0199D-44AD-471A-BA20-189DD34B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7C6FF-068F-4E17-9438-2FA6E5FD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B292F-EB33-4DB7-A019-02216D23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13B04-9581-4509-AA2A-BC128D29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5D3AE-AF47-4E9E-9F5F-FCEC9162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3317-1A13-4187-B6BF-530F5F81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8C54-C935-4C7E-84B5-6A69579B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DB857-B485-4118-BD49-EE5453A4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6D3-31E9-446D-A454-E3F0A779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CAC8E-7C6C-4CB6-8F7C-47EC600C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7CDA-2E5B-466B-8CFD-0A423B7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0236A-8B68-4DAF-8A25-6418FEA7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B585E-79BE-4F33-BB83-C24C956F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F72B5-5B65-4AB9-B0EA-85AA40F0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45001-AB45-441E-B840-D7850873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A122-65BF-48AE-8690-8CB2FA21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4AD33-B3D5-420C-8034-A516499E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C349E-D49A-4192-9EDD-628B39C0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48C2-3742-4BC3-97CA-888C15C99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FE9-80D2-4BDC-B188-CD924AB6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8E0B6-D1DE-4B04-A2D6-3F6E2D77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C813-8EF0-4C2B-B06E-171C35FA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3C9ED-DB95-4FE4-A272-5CEDE2BC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7B804-3B59-4BC1-9C8B-BEEB6C09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DB2F7-4CB2-4A4C-B209-B4FCD5E4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14CE6-1C8A-499B-BEC6-3518A9F2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B412C-0A53-4CCC-9638-FE2FBE5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6B51-ED47-44C0-AD5A-EE4D938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3F84-70FF-4AD0-941E-1D6E4220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AED5-76C1-46A6-AE2B-BD56FE4C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4D1-9021-4EF1-8DC0-281BC1E4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680DC-499D-4FD9-83FF-EE032AB7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360-AA50-4996-B2B9-BB017010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02E-51AC-4670-AC5C-470EF2FF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483-77D7-4C3B-9F8D-CE60E4E2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8A94-F449-4FD6-BCF7-C606CD44744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5639-1DBD-4D2F-BF36-B152045B92A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48E9-13AC-4866-9A62-901ED8839AF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8118-C330-451A-B5BD-58ADB8A500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C1E2-4A56-4C05-8A4E-527A7834C7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https://xn--118-5cd3cgu2f.xn--p1ai/images/logo.png"/>
          <p:cNvPicPr/>
          <p:nvPr/>
        </p:nvPicPr>
        <p:blipFill>
          <a:blip r:embed="rId1"/>
          <a:stretch/>
        </p:blipFill>
        <p:spPr>
          <a:xfrm>
            <a:off x="6480" y="403200"/>
            <a:ext cx="3476520" cy="1419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ОПИСАНИЕ.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2124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биологии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МАОУ «ШКОЛА № 118 с углубленным изучением отдельных предметов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  <a:ea typeface="Arial"/>
              </a:rPr>
              <a:t>»</a:t>
            </a: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Трегубенко Юлия Владимировна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837040" y="5000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7 урок 5 класс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5"/>
          <p:cNvSpPr/>
          <p:nvPr/>
        </p:nvSpPr>
        <p:spPr>
          <a:xfrm>
            <a:off x="566640" y="260280"/>
            <a:ext cx="801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e22"/>
                </a:solidFill>
                <a:latin typeface="Arial"/>
              </a:rPr>
              <a:t>Схематическое описание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168120" y="981000"/>
            <a:ext cx="885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аблица </a:t>
            </a: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– представление различных данных в форме строк и столбцов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5" name="Picture 7" descr="Методы цитологии. Световое микроскопирование - презентация онлайн"/>
          <p:cNvPicPr/>
          <p:nvPr/>
        </p:nvPicPr>
        <p:blipFill>
          <a:blip r:embed="rId1"/>
          <a:srcRect l="0" t="0" r="0" b="17385"/>
          <a:stretch/>
        </p:blipFill>
        <p:spPr>
          <a:xfrm>
            <a:off x="785880" y="2470320"/>
            <a:ext cx="7816680" cy="40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3"/>
          <p:cNvSpPr/>
          <p:nvPr/>
        </p:nvSpPr>
        <p:spPr>
          <a:xfrm>
            <a:off x="0" y="542880"/>
            <a:ext cx="8772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а и Владимир собрали и подготовили для  гербария образцы растений. Для каждого растения им  необходимо составить «паспорт», соответствующий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ожению этого растения в общей классификации  организмов.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могите ребятам записать в таблицу  слова из предложенного списка в такой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ледовательности, чтобы получился «паспорт» растения, изображённого на фотографии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исок слов: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Покрытосеменные (цветковые)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) Ромашка аптечная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) Ромашки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) Растения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108000" y="5805360"/>
            <a:ext cx="8867880" cy="1035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046520" y="6149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1" name="Прямоугольник 8"/>
          <p:cNvSpPr/>
          <p:nvPr/>
        </p:nvSpPr>
        <p:spPr>
          <a:xfrm>
            <a:off x="3351600" y="6180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2" name="Прямоугольник 9"/>
          <p:cNvSpPr/>
          <p:nvPr/>
        </p:nvSpPr>
        <p:spPr>
          <a:xfrm>
            <a:off x="5583600" y="6180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3" name="Прямоугольник 10"/>
          <p:cNvSpPr/>
          <p:nvPr/>
        </p:nvSpPr>
        <p:spPr>
          <a:xfrm>
            <a:off x="7574400" y="61340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3"/>
          <p:cNvSpPr/>
          <p:nvPr/>
        </p:nvSpPr>
        <p:spPr>
          <a:xfrm>
            <a:off x="0" y="189000"/>
            <a:ext cx="9144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Схема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ней могут использоваться различные фигуры с надписями, соединённые стрелками или линиями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332000" y="3271680"/>
            <a:ext cx="71056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108000" y="692280"/>
            <a:ext cx="885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полните пустые ячейки на схеме, выбрав необходимые слова из приведённого списка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ерблюд, тайга, саксаул, песец, ель, тундра, дуб, глухарь, степь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108000" y="2809800"/>
            <a:ext cx="9028080" cy="26956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3860640" y="306864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тайг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Прямоугольник 8"/>
          <p:cNvSpPr/>
          <p:nvPr/>
        </p:nvSpPr>
        <p:spPr>
          <a:xfrm>
            <a:off x="829080" y="4549680"/>
            <a:ext cx="11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ель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6977520" y="4672080"/>
            <a:ext cx="187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лухарь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3"/>
          <p:cNvSpPr/>
          <p:nvPr/>
        </p:nvSpPr>
        <p:spPr>
          <a:xfrm>
            <a:off x="27000" y="404640"/>
            <a:ext cx="9009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Диаграмма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– графическое представление данных, позволяющее оценить соотношение нескольких величин. Диаграммы бывают столбчатые и круговые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4" name="Picture 2" descr="Методическая разработка урока математики в 6 классе &quot;Столбчатые диаграммы&quot;"/>
          <p:cNvPicPr/>
          <p:nvPr/>
        </p:nvPicPr>
        <p:blipFill>
          <a:blip r:embed="rId1"/>
          <a:stretch/>
        </p:blipFill>
        <p:spPr>
          <a:xfrm>
            <a:off x="27000" y="259704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4"/>
          <p:cNvSpPr/>
          <p:nvPr/>
        </p:nvSpPr>
        <p:spPr>
          <a:xfrm>
            <a:off x="5724360" y="2133720"/>
            <a:ext cx="360072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рафик</a:t>
            </a: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 – это чертёж, на котором в виде линии показаны какие-либо числовые данные, описывающие процессы или явления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3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7" name="TextBox 4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108000" y="66024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графике показан рост древесного растения умеренного климата в течение нескольких лет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5641920" cy="381636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9"/>
          <p:cNvSpPr/>
          <p:nvPr/>
        </p:nvSpPr>
        <p:spPr>
          <a:xfrm>
            <a:off x="237960" y="5529240"/>
            <a:ext cx="87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пределите максимальную высоту растения на третий год жизни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1" name="Прямоугольник 10"/>
          <p:cNvSpPr/>
          <p:nvPr/>
        </p:nvSpPr>
        <p:spPr>
          <a:xfrm>
            <a:off x="6135840" y="220500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2,5 метра 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08000" y="393840"/>
            <a:ext cx="882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нализ </a:t>
            </a:r>
            <a:r>
              <a:rPr b="1" lang="ru-RU" sz="4000" spc="-1" strike="noStrike">
                <a:solidFill>
                  <a:srgbClr val="292934"/>
                </a:solidFill>
                <a:latin typeface="Calibri"/>
              </a:rPr>
              <a:t>– </a:t>
            </a:r>
            <a:r>
              <a:rPr b="1" lang="ru-RU" sz="3600" spc="-1" strike="noStrike">
                <a:solidFill>
                  <a:srgbClr val="292934"/>
                </a:solidFill>
                <a:latin typeface="Calibri"/>
              </a:rPr>
              <a:t>разделение целого на составные части, выделение отдельных сторон и свойств объекта или явле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0" y="3284640"/>
            <a:ext cx="87073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рямоугольник 3"/>
          <p:cNvSpPr/>
          <p:nvPr/>
        </p:nvSpPr>
        <p:spPr>
          <a:xfrm>
            <a:off x="539640" y="836640"/>
            <a:ext cx="835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Вы думаете, какое правило устанавливается изображённым на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исунке знаком?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формулируйте это правило и укажите место, где можно встретить такой знак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-49680" y="-12600"/>
            <a:ext cx="429408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РАБОТА В ПАРАХ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6704640" y="0"/>
            <a:ext cx="241956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95280" y="3360600"/>
            <a:ext cx="3168720" cy="332748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6"/>
          <p:cNvSpPr/>
          <p:nvPr/>
        </p:nvSpPr>
        <p:spPr>
          <a:xfrm>
            <a:off x="3978360" y="3716280"/>
            <a:ext cx="491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равило: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десь запрещается ловить бабочек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Указание места: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заповеднике / ботаническом саду / национальном парке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рямоугольник 3"/>
          <p:cNvSpPr/>
          <p:nvPr/>
        </p:nvSpPr>
        <p:spPr>
          <a:xfrm>
            <a:off x="103320" y="765000"/>
            <a:ext cx="881676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берите из списка только ту информацию, которая получена путем измерений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Птицы строят гнезда весной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ахар лучше растворяется в горячей воде, чем в холодной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Рога лося достигают полутора метров в размахе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Дождевые черви питаются перегноем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Длина тела соболя достигает 56 см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При отсутствии полива комнатные растения погибают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)Гепард может бежать со скоростью 110 км/ч.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)У зверей, живущих в холодном климате, развит густой подшерсток. 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2223360" y="27000"/>
            <a:ext cx="4444920" cy="64260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ДОПОЛНИТЕЛЬНО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1" name="Овал 5"/>
          <p:cNvSpPr/>
          <p:nvPr/>
        </p:nvSpPr>
        <p:spPr>
          <a:xfrm>
            <a:off x="103320" y="3573360"/>
            <a:ext cx="50328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2" name="Овал 6"/>
          <p:cNvSpPr/>
          <p:nvPr/>
        </p:nvSpPr>
        <p:spPr>
          <a:xfrm>
            <a:off x="92160" y="4365720"/>
            <a:ext cx="50328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93" name="Овал 7"/>
          <p:cNvSpPr/>
          <p:nvPr/>
        </p:nvSpPr>
        <p:spPr>
          <a:xfrm>
            <a:off x="79200" y="5229360"/>
            <a:ext cx="50508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0" y="2349360"/>
          <a:ext cx="8940960" cy="4267440"/>
        </p:xfrm>
        <a:graphic>
          <a:graphicData uri="http://schemas.openxmlformats.org/drawingml/2006/table">
            <a:tbl>
              <a:tblPr/>
              <a:tblGrid>
                <a:gridCol w="4265640"/>
                <a:gridCol w="4675320"/>
              </a:tblGrid>
              <a:tr h="8535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Методы изучения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Сведения о живых организмах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3413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А) наблюдение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Б) эксперимент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В) измерение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1) масса тела амурского тигра достигает 270 кг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2) птицы собираются в стаи и готовятся к отлету в теплые края с приходом осени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92934"/>
                          </a:solidFill>
                          <a:latin typeface="Calibri"/>
                        </a:rPr>
                        <a:t>3) рост растений происходит интенсивнее при внесении в почву удобрений</a:t>
                      </a:r>
                      <a:endParaRPr b="0" lang="en-US" sz="2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0" y="554400"/>
            <a:ext cx="9021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SimSun"/>
              </a:rPr>
              <a:t>Сопоставьте методы изучения живой природы со сведениями о живых  организмах, которые могут быть получены при их применении. 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96" name="Скругленная соединительная линия 8"/>
          <p:cNvCxnSpPr/>
          <p:nvPr/>
        </p:nvCxnSpPr>
        <p:spPr>
          <a:xfrm>
            <a:off x="2410920" y="3860280"/>
            <a:ext cx="1801080" cy="172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00206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Скругленная соединительная линия 10"/>
          <p:cNvCxnSpPr/>
          <p:nvPr/>
        </p:nvCxnSpPr>
        <p:spPr>
          <a:xfrm>
            <a:off x="2339640" y="3428640"/>
            <a:ext cx="1872360" cy="86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Скругленная соединительная линия 12"/>
          <p:cNvCxnSpPr/>
          <p:nvPr/>
        </p:nvCxnSpPr>
        <p:spPr>
          <a:xfrm flipV="1">
            <a:off x="2123640" y="3428280"/>
            <a:ext cx="2088360" cy="864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428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953480" y="-31680"/>
            <a:ext cx="1190520" cy="11905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4"/>
          <p:cNvSpPr/>
          <p:nvPr/>
        </p:nvSpPr>
        <p:spPr>
          <a:xfrm>
            <a:off x="206280" y="1158840"/>
            <a:ext cx="88567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299320" y="0"/>
            <a:ext cx="353520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ЗАДАНИ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179280" y="73332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Выстроим этапы научного исследования в правильном порядке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-82440" y="1763640"/>
            <a:ext cx="9110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Выдвижение гипотезы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Наблюдение за объектом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Обобщение полученных результатов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Постановка проблемы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Анализ и сравнение результатов эксперимента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Выводы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203e22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03e22"/>
                </a:solidFill>
                <a:latin typeface="Calibri"/>
                <a:ea typeface="Arial"/>
              </a:rPr>
              <a:t>Разработка и проведение эксперимента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4426920" y="4653000"/>
            <a:ext cx="28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2341756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4"/>
          <p:cNvSpPr/>
          <p:nvPr/>
        </p:nvSpPr>
        <p:spPr>
          <a:xfrm>
            <a:off x="307800" y="1413000"/>
            <a:ext cx="8209080" cy="2531160"/>
          </a:xfrm>
          <a:prstGeom prst="rect">
            <a:avLst/>
          </a:prstGeom>
          <a:solidFill>
            <a:srgbClr val="ffffff"/>
          </a:solidFill>
          <a:ln w="26280">
            <a:solidFill>
              <a:srgbClr val="794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§ 7 ЧИТАТЬ, ПОНИМАТЬ, ВЫУЧИТЬ ЗАПИСИ В ТЕТРАДИ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овторить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§ 4-6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товиться к тесту по теме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«Методы исследования в биологии»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779400" y="557280"/>
            <a:ext cx="748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1" name="AutoShape 2"/>
          <p:cNvSpPr/>
          <p:nvPr/>
        </p:nvSpPr>
        <p:spPr>
          <a:xfrm>
            <a:off x="155520" y="-966960"/>
            <a:ext cx="1295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307800" y="-814320"/>
            <a:ext cx="1295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303" name="TextBox 5"/>
          <p:cNvGrpSpPr/>
          <p:nvPr/>
        </p:nvGrpSpPr>
        <p:grpSpPr>
          <a:xfrm>
            <a:off x="128520" y="4572000"/>
            <a:ext cx="8807400" cy="2139840"/>
            <a:chOff x="128520" y="4572000"/>
            <a:chExt cx="8807400" cy="2139840"/>
          </a:xfrm>
        </p:grpSpPr>
        <p:pic>
          <p:nvPicPr>
            <p:cNvPr id="304" name="TextBox 5" descr=""/>
            <p:cNvPicPr/>
            <p:nvPr/>
          </p:nvPicPr>
          <p:blipFill>
            <a:blip r:embed="rId1"/>
            <a:stretch/>
          </p:blipFill>
          <p:spPr>
            <a:xfrm>
              <a:off x="128520" y="4572000"/>
              <a:ext cx="8807400" cy="21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136440" y="4581360"/>
              <a:ext cx="87966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ЗАДАНИЕ в тетради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Стр. 50-51 № 2-4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Прямоугольник 3"/>
          <p:cNvSpPr/>
          <p:nvPr/>
        </p:nvSpPr>
        <p:spPr>
          <a:xfrm>
            <a:off x="88920" y="1052640"/>
            <a:ext cx="8966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Алёша пришёл с мамой в зоопарк и 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течении часа наблюдал за поведением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елого медведя.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Мальчик хотел понять, чем поведение медведя отличается от поведения других животных, а также понять язык его жестов.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Как ему точно изложить всю информацию,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чтобы ничего не упустить,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не перепутать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20f"/>
                </a:solidFill>
                <a:latin typeface="Calibri"/>
              </a:rPr>
              <a:t>Каким методом  воспользоваться? 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итуационная задача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771280" y="1557360"/>
            <a:ext cx="3240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Тема урока  </a:t>
            </a:r>
            <a:br>
              <a:rPr sz="3600"/>
            </a:br>
            <a:endParaRPr b="0" lang="en-US" sz="48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32" name="Заголовок 1"/>
          <p:cNvSpPr/>
          <p:nvPr/>
        </p:nvSpPr>
        <p:spPr>
          <a:xfrm>
            <a:off x="900000" y="2133720"/>
            <a:ext cx="7848720" cy="19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a13"/>
                </a:solidFill>
                <a:latin typeface="Arial"/>
                <a:ea typeface="Arial"/>
              </a:rPr>
              <a:t>Методы изучения живой природы: Описание.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480" y="920520"/>
            <a:ext cx="9144000" cy="10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рочитайте пункт 1 параграфа 7 на стр. 46 и подготовьте устный ответ на вопросы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мя и название книги древнегреческого философа впервые применившего метод описания?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акие существуют виды описания? Приведите примеры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аким может быть описание объекта?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3a29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Работа с учебником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РИСТОТЕЛЬ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6" name="Picture 2" descr="Аристотель про типы государственных устройств | Пикабу"/>
          <p:cNvPicPr/>
          <p:nvPr/>
        </p:nvPicPr>
        <p:blipFill>
          <a:blip r:embed="rId1"/>
          <a:stretch/>
        </p:blipFill>
        <p:spPr>
          <a:xfrm>
            <a:off x="433440" y="1628640"/>
            <a:ext cx="3700440" cy="4486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5032440" y="1427040"/>
            <a:ext cx="3456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4"/>
          <p:cNvSpPr/>
          <p:nvPr/>
        </p:nvSpPr>
        <p:spPr>
          <a:xfrm>
            <a:off x="1908000" y="2957400"/>
            <a:ext cx="45705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9" name="Лента лицом вверх 5"/>
          <p:cNvSpPr/>
          <p:nvPr/>
        </p:nvSpPr>
        <p:spPr>
          <a:xfrm>
            <a:off x="108000" y="333360"/>
            <a:ext cx="9036000" cy="900000"/>
          </a:xfrm>
          <a:custGeom>
            <a:avLst/>
            <a:gdLst>
              <a:gd name="textAreaLeft" fmla="*/ 2259000 w 9036000"/>
              <a:gd name="textAreaRight" fmla="*/ 6777000 w 9036000"/>
              <a:gd name="textAreaTop" fmla="*/ 0 h 900000"/>
              <a:gd name="textAreaBottom" fmla="*/ 750240 h 90000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9fffca"/>
          </a:solidFill>
          <a:ln w="507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Описания бывают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40" name="Прямая со стрелкой 6"/>
          <p:cNvCxnSpPr/>
          <p:nvPr/>
        </p:nvCxnSpPr>
        <p:spPr>
          <a:xfrm flipH="1">
            <a:off x="2050200" y="1233360"/>
            <a:ext cx="1513800" cy="82800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241" name="Прямая со стрелкой 8"/>
          <p:cNvCxnSpPr/>
          <p:nvPr/>
        </p:nvCxnSpPr>
        <p:spPr>
          <a:xfrm>
            <a:off x="5508720" y="1142640"/>
            <a:ext cx="1512000" cy="918360"/>
          </a:xfrm>
          <a:prstGeom prst="straightConnector1">
            <a:avLst/>
          </a:prstGeom>
          <a:ln w="572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42" name="Шестиугольник 11"/>
          <p:cNvSpPr/>
          <p:nvPr/>
        </p:nvSpPr>
        <p:spPr>
          <a:xfrm>
            <a:off x="0" y="2193840"/>
            <a:ext cx="4297320" cy="1322640"/>
          </a:xfrm>
          <a:prstGeom prst="hexagon">
            <a:avLst>
              <a:gd name="adj" fmla="val 24985"/>
              <a:gd name="vf" fmla="val 115470"/>
            </a:avLst>
          </a:prstGeom>
          <a:solidFill>
            <a:srgbClr val="f3f2dc"/>
          </a:solidFill>
          <a:ln w="26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КАЧЕСТВЕННЫЕ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3" name="Шестиугольник 12"/>
          <p:cNvSpPr/>
          <p:nvPr/>
        </p:nvSpPr>
        <p:spPr>
          <a:xfrm>
            <a:off x="4297320" y="2193840"/>
            <a:ext cx="4846680" cy="1322640"/>
          </a:xfrm>
          <a:prstGeom prst="hexagon">
            <a:avLst>
              <a:gd name="adj" fmla="val 25006"/>
              <a:gd name="vf" fmla="val 115470"/>
            </a:avLst>
          </a:prstGeom>
          <a:solidFill>
            <a:srgbClr val="f3f2dc"/>
          </a:solidFill>
          <a:ln w="262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КОЛИЧЕСТВЕННЫЕ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4" name="Прямоугольник 13"/>
          <p:cNvSpPr/>
          <p:nvPr/>
        </p:nvSpPr>
        <p:spPr>
          <a:xfrm>
            <a:off x="54000" y="362412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злагается последовательность этапов наблюде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5" name="Прямоугольник 14"/>
          <p:cNvSpPr/>
          <p:nvPr/>
        </p:nvSpPr>
        <p:spPr>
          <a:xfrm>
            <a:off x="4734000" y="3789360"/>
            <a:ext cx="441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формируются в результате измерения.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3"/>
          <p:cNvSpPr/>
          <p:nvPr/>
        </p:nvSpPr>
        <p:spPr>
          <a:xfrm>
            <a:off x="1189440" y="358920"/>
            <a:ext cx="672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e22"/>
                </a:solidFill>
                <a:latin typeface="Arial"/>
              </a:rPr>
              <a:t>Словесное описание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87480" y="1122480"/>
            <a:ext cx="888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Монстера (лат. Monstera) - </a:t>
            </a: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вечнозеленое растение (кустарник и лиана). Стебли толстые, лазящие. Часто имеют воздушные корни. Листья больших размеров на длинном черешке, на ощупь – кожистые, имеют отверстия и прорези разных размеров и формы; темно-зеленой окраски. Толстый, цилиндрической формы початок является соцветием. Цветки сверху обоеполые, а у основания – стерильные.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"/>
          <p:cNvPicPr/>
          <p:nvPr/>
        </p:nvPicPr>
        <p:blipFill>
          <a:blip r:embed="rId1"/>
          <a:srcRect l="23974" t="6841" r="20735" b="7200"/>
          <a:stretch/>
        </p:blipFill>
        <p:spPr>
          <a:xfrm>
            <a:off x="112680" y="612720"/>
            <a:ext cx="3511440" cy="54579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3"/>
          <p:cNvSpPr/>
          <p:nvPr/>
        </p:nvSpPr>
        <p:spPr>
          <a:xfrm>
            <a:off x="1193400" y="358920"/>
            <a:ext cx="663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03e22"/>
                </a:solidFill>
                <a:latin typeface="Arial"/>
              </a:rPr>
              <a:t>Наглядное описание 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Picture 5" descr="монстера PNG рисунок, картинки и пнг прозрачный для бесплатной загрузки |  Pngtree"/>
          <p:cNvPicPr/>
          <p:nvPr/>
        </p:nvPicPr>
        <p:blipFill>
          <a:blip r:embed="rId2"/>
          <a:srcRect l="18532" t="4844" r="18980" b="0"/>
          <a:stretch/>
        </p:blipFill>
        <p:spPr>
          <a:xfrm>
            <a:off x="5921280" y="1020600"/>
            <a:ext cx="3222720" cy="49071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4"/>
          <p:cNvSpPr/>
          <p:nvPr/>
        </p:nvSpPr>
        <p:spPr>
          <a:xfrm>
            <a:off x="3608280" y="1819440"/>
            <a:ext cx="2473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34"/>
                </a:solidFill>
                <a:latin typeface="Calibri"/>
              </a:rPr>
              <a:t>Рисунок должен в мельчайших подробностях передавать мельчайшие детали наблюдаемого объекта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2" name="Прямоугольник 5"/>
          <p:cNvSpPr/>
          <p:nvPr/>
        </p:nvSpPr>
        <p:spPr>
          <a:xfrm>
            <a:off x="1211400" y="5573880"/>
            <a:ext cx="54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274"/>
                </a:solidFill>
                <a:latin typeface="Calibri"/>
              </a:rPr>
              <a:t>Биологический рисунок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08:53:46Z</dcterms:created>
  <dc:creator>Алексей</dc:creator>
  <dc:description/>
  <dc:language>en-US</dc:language>
  <cp:lastModifiedBy>Алексей</cp:lastModifiedBy>
  <dcterms:modified xsi:type="dcterms:W3CDTF">2023-11-03T15:45:29Z</dcterms:modified>
  <cp:revision>105</cp:revision>
  <dc:subject/>
  <dc:title>Биология - система наук о живой природе</dc:title>
</cp:coreProperties>
</file>