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EC6-430C-4BDA-9DEE-1F925A9E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4AE-9E2A-4457-8FB9-C7BC4320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A0A-D414-45CD-A3ED-091276A1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15A-B6A1-4C1B-8B20-B1C4448C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B313-1423-4F6C-9D13-7940B152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9BF7-A827-44C0-9CF2-56089B3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1CCC-4FEA-4DA4-AD7F-88BE462F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7EC1-A2D6-41E8-AD74-5FC67F67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60DA-0F6B-414B-8718-B9A79271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BB37-A1F4-48BD-9FB4-3E087088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0D4F-3920-4C89-8C74-F56F3F5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084-4F30-4E6A-A052-2C06D8F3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1F6C-8758-4A30-B397-A3292F5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E579-8F36-4C90-8BD6-A7B8620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4A9F-5463-4180-ABA7-D1126E2C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1C97-9280-4CCF-AF3E-5AB9E2F2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BFF0-F12D-4BFA-89B2-BC0DD35B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7470-424B-442C-9D39-796166E0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7F31-2916-4821-AA26-38163B96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D92CA-0E90-4B9E-9D89-B1702D3F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FC25-C5E0-476B-A82F-C7D5F18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7F94-15D2-4BEA-AC29-18486281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F6C-1E4B-42EE-A1C3-FB5BE4E9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542B-118A-4232-BC55-1AA5053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19D6-BCC4-4615-9B9A-66C89F5A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7C96-B820-411B-9859-3691785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F933-161E-4770-8C7E-C92C54DF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897F-B7EA-4644-934A-F065E8DA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5EBE-D894-4CB9-83BA-068E0F51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CFAE-057B-4CDC-9288-D4E14893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8002-4087-4D66-82A3-F3D2A611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FE8C-216E-4A16-8E87-C3110A1E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9A73-B24C-4136-86DB-C00F2836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FE1-E014-4F2E-B84B-F3601220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1A14-1DA5-4D5F-8AF0-6891C85E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5190-A432-48A7-B347-55AC58D2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5270-0CA8-46ED-81EF-E5D2E7B4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5D3B-7084-4337-8D45-C8FAC30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40336-05BC-492C-8B61-C9023BB8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1604-0447-4A71-B161-A6A830B7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B2A3-EBBA-459C-8DE8-1448EE61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5DC5-DA31-4492-AD4E-1F597320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B8F75-0092-4842-BA58-8D19CB4F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655B2-29CD-4CA2-8639-4A58771A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CAE-B54E-48A4-B5E3-5FA377F6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65F4-1776-475E-AAF5-452480DB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E3F8-5682-4E0B-9DA2-B2BD948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626BD-3D95-4CF6-AAA1-537C401D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35440-06C9-4BBC-96FC-96ACA874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93419-B75A-4100-A3EB-7F983187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5517-D465-4FA1-B43F-BB9877D6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623E7-7294-4CEB-BBE9-1AF0790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9351-D5BC-4544-883E-A01BBFF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159E-53D3-4E91-9C49-96809043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CC76D-C103-4E11-AF53-9D7ABF03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01D-497B-4427-A1A2-5E246B5E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2F03F-B41E-4F5B-B403-1980A1FC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1A7-4914-419F-BF7B-3D0DB5AF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7DA-3881-4D45-89AF-338E6E7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BD6-0089-4ABF-9B3E-2797CAC1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5FCF-55C2-4E95-AC96-D4940DAE60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9627-1030-45DB-99A8-0F38659EE0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0C2-9845-445B-928D-013DFD195F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D341-9F2F-46B9-A296-16CD41AB10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B9D2-7C7C-4566-989E-4D4A1E9BFB1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https://xn--118-5cd3cgu2f.xn--p1ai/images/logo.png"/>
          <p:cNvPicPr/>
          <p:nvPr/>
        </p:nvPicPr>
        <p:blipFill>
          <a:blip r:embed="rId1"/>
          <a:stretch/>
        </p:blipFill>
        <p:spPr>
          <a:xfrm>
            <a:off x="6480" y="403200"/>
            <a:ext cx="3476520" cy="14191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533c"/>
                </a:solidFill>
                <a:latin typeface="Arial"/>
              </a:rPr>
              <a:t>МЕТОДЫ ИЗУЧЕНИЯ ЖИВОЙ ПРИРОДЫ. ОПИСАНИЕ.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2124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Учитель биологии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МАОУ «ШКОЛА № 118 с углубленным изучением отдельных предметов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  <a:ea typeface="Arial"/>
              </a:rPr>
              <a:t>»</a:t>
            </a: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Трегубенко Юлия Владимировна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5837040" y="5000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 урок 5 класс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5"/>
          <p:cNvSpPr/>
          <p:nvPr/>
        </p:nvSpPr>
        <p:spPr>
          <a:xfrm>
            <a:off x="566640" y="260280"/>
            <a:ext cx="801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3e22"/>
                </a:solidFill>
                <a:latin typeface="Arial"/>
              </a:rPr>
              <a:t>Схематическое описание 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168120" y="98100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Таблица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представление различных данных в форме строк и столбцов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Picture 7" descr="Методы цитологии. Световое микроскопирование - презентация онлайн"/>
          <p:cNvPicPr/>
          <p:nvPr/>
        </p:nvPicPr>
        <p:blipFill>
          <a:blip r:embed="rId1"/>
          <a:srcRect l="0" t="0" r="0" b="17385"/>
          <a:stretch/>
        </p:blipFill>
        <p:spPr>
          <a:xfrm>
            <a:off x="785880" y="2470320"/>
            <a:ext cx="7816680" cy="40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3"/>
          <p:cNvSpPr/>
          <p:nvPr/>
        </p:nvSpPr>
        <p:spPr>
          <a:xfrm>
            <a:off x="0" y="542880"/>
            <a:ext cx="8772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на и Владимир собрали и подготовили для  гербария образцы растений. Для каждого растения им  необходимо составить «паспорт», соответствующий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ожению этого растения в общей классификации  организмов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могите ребятам записать в таблицу  слова из предложенного списка в такой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довательности, чтобы получился «паспорт» растения, изображённого на фотографии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ок слов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Покрытосеменные (цветковые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Ромашка аптечная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 Ромашк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) Растения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6704640" y="0"/>
            <a:ext cx="241956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108000" y="5805360"/>
            <a:ext cx="8867880" cy="1035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-49680" y="-12600"/>
            <a:ext cx="429408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АБОТА В ПАРАХ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1046520" y="6149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3351600" y="6180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Прямоугольник 9"/>
          <p:cNvSpPr/>
          <p:nvPr/>
        </p:nvSpPr>
        <p:spPr>
          <a:xfrm>
            <a:off x="5583600" y="6180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Прямоугольник 10"/>
          <p:cNvSpPr/>
          <p:nvPr/>
        </p:nvSpPr>
        <p:spPr>
          <a:xfrm>
            <a:off x="7574400" y="6134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3"/>
          <p:cNvSpPr/>
          <p:nvPr/>
        </p:nvSpPr>
        <p:spPr>
          <a:xfrm>
            <a:off x="0" y="18900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хема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ней могут использоваться различные фигуры с надписями, соединённые стрелками или линиями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332000" y="3271680"/>
            <a:ext cx="7105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108000" y="69228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лните пустые ячейки на схеме, выбрав необходимые слова из приведённого списка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ерблюд, тайга, саксаул, песец, ель, тундра, дуб, глухарь, степь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6704640" y="0"/>
            <a:ext cx="241956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-49680" y="-12600"/>
            <a:ext cx="429408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АБОТА В ПАРАХ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08000" y="2809800"/>
            <a:ext cx="9028080" cy="26956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3860640" y="3068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тайг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Прямоугольник 8"/>
          <p:cNvSpPr/>
          <p:nvPr/>
        </p:nvSpPr>
        <p:spPr>
          <a:xfrm>
            <a:off x="829080" y="454968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ель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Прямоугольник 9"/>
          <p:cNvSpPr/>
          <p:nvPr/>
        </p:nvSpPr>
        <p:spPr>
          <a:xfrm>
            <a:off x="6977520" y="467208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лухарь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3"/>
          <p:cNvSpPr/>
          <p:nvPr/>
        </p:nvSpPr>
        <p:spPr>
          <a:xfrm>
            <a:off x="27000" y="404640"/>
            <a:ext cx="9009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иаграмм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графическое представление данных, позволяющее оценить соотношение нескольких величин. Диаграммы бывают столбчатые и круговые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4" name="Picture 2" descr="Методическая разработка урока математики в 6 классе &quot;Столбчатые диаграммы&quot;"/>
          <p:cNvPicPr/>
          <p:nvPr/>
        </p:nvPicPr>
        <p:blipFill>
          <a:blip r:embed="rId1"/>
          <a:stretch/>
        </p:blipFill>
        <p:spPr>
          <a:xfrm>
            <a:off x="27000" y="259704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5724360" y="2133720"/>
            <a:ext cx="36007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рафик</a:t>
            </a: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 – это чертёж, на котором в виде линии показаны какие-либо числовые данные, описывающие процессы или явления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-49680" y="-12600"/>
            <a:ext cx="429408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АБОТА В ПАРАХ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6704640" y="0"/>
            <a:ext cx="241956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Прямоугольник 8"/>
          <p:cNvSpPr/>
          <p:nvPr/>
        </p:nvSpPr>
        <p:spPr>
          <a:xfrm>
            <a:off x="108000" y="66024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графике показан рост древесного растения умеренного климата в течение нескольких лет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5641920" cy="381636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9"/>
          <p:cNvSpPr/>
          <p:nvPr/>
        </p:nvSpPr>
        <p:spPr>
          <a:xfrm>
            <a:off x="237960" y="5529240"/>
            <a:ext cx="87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ределите максимальную высоту растения на третий год жизни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Прямоугольник 10"/>
          <p:cNvSpPr/>
          <p:nvPr/>
        </p:nvSpPr>
        <p:spPr>
          <a:xfrm>
            <a:off x="6135840" y="220500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2,5 метра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08000" y="393840"/>
            <a:ext cx="882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нализ </a:t>
            </a:r>
            <a:r>
              <a:rPr b="1" lang="ru-RU" sz="4000" spc="-1" strike="noStrike">
                <a:solidFill>
                  <a:srgbClr val="292934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292934"/>
                </a:solidFill>
                <a:latin typeface="Calibri"/>
              </a:rPr>
              <a:t>разделение целого на составные части, выделение отдельных сторон и свойств объекта или явления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3284640"/>
            <a:ext cx="87073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3"/>
          <p:cNvSpPr/>
          <p:nvPr/>
        </p:nvSpPr>
        <p:spPr>
          <a:xfrm>
            <a:off x="539640" y="83664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Вы думаете, какое правило устанавливается изображённым на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исунке знаком?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формулируйте это правило и укажите место, где можно встретить такой знак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-49680" y="-12600"/>
            <a:ext cx="429408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АБОТА В ПАРАХ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6704640" y="0"/>
            <a:ext cx="241956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395280" y="3360600"/>
            <a:ext cx="3168720" cy="332748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6"/>
          <p:cNvSpPr/>
          <p:nvPr/>
        </p:nvSpPr>
        <p:spPr>
          <a:xfrm>
            <a:off x="3978360" y="3716280"/>
            <a:ext cx="491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авило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десь запрещается ловить бабочек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казание места: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заповеднике / ботаническом саду / национальном парке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3"/>
          <p:cNvSpPr/>
          <p:nvPr/>
        </p:nvSpPr>
        <p:spPr>
          <a:xfrm>
            <a:off x="103320" y="765000"/>
            <a:ext cx="88167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ерите из списка только ту информацию, которая получена путем измерений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Птицы строят гнезда весной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Сахар лучше растворяется в горячей воде, чем в холодной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Рога лося достигают полутора метров в размахе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Дождевые черви питаются перегноем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Длина тела соболя достигает 56 см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При отсутствии полива комнатные растения погибают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Гепард может бежать со скоростью 110 км/ч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У зверей, живущих в холодном климате, развит густой подшерсток. 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2223360" y="27000"/>
            <a:ext cx="444492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ДОПОЛНИТЕЛЬНО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Овал 5"/>
          <p:cNvSpPr/>
          <p:nvPr/>
        </p:nvSpPr>
        <p:spPr>
          <a:xfrm>
            <a:off x="103320" y="3573360"/>
            <a:ext cx="50328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Овал 6"/>
          <p:cNvSpPr/>
          <p:nvPr/>
        </p:nvSpPr>
        <p:spPr>
          <a:xfrm>
            <a:off x="92160" y="4365720"/>
            <a:ext cx="50328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Овал 7"/>
          <p:cNvSpPr/>
          <p:nvPr/>
        </p:nvSpPr>
        <p:spPr>
          <a:xfrm>
            <a:off x="79200" y="5229360"/>
            <a:ext cx="50508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0" y="2349360"/>
          <a:ext cx="8940960" cy="4267440"/>
        </p:xfrm>
        <a:graphic>
          <a:graphicData uri="http://schemas.openxmlformats.org/drawingml/2006/table">
            <a:tbl>
              <a:tblPr/>
              <a:tblGrid>
                <a:gridCol w="4265640"/>
                <a:gridCol w="4675320"/>
              </a:tblGrid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Методы изучения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Сведения о живых организмах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41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А) наблюдение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Б) эксперимент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В) измерение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) масса тела амурского тигра достигает 270 кг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2) птицы собираются в стаи и готовятся к отлету в теплые края с приходом осени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) рост растений происходит интенсивнее при внесении в почву удобрений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"/>
          <p:cNvSpPr/>
          <p:nvPr/>
        </p:nvSpPr>
        <p:spPr>
          <a:xfrm>
            <a:off x="0" y="554400"/>
            <a:ext cx="90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SimSun"/>
              </a:rPr>
              <a:t>Сопоставьте методы изучения живой природы со сведениями о живых  организмах, которые могут быть получены при их применении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296" name="Скругленная соединительная линия 8"/>
          <p:cNvCxnSpPr/>
          <p:nvPr/>
        </p:nvCxnSpPr>
        <p:spPr>
          <a:xfrm>
            <a:off x="2410920" y="3860280"/>
            <a:ext cx="1801080" cy="172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4280">
            <a:solidFill>
              <a:srgbClr val="00206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Скругленная соединительная линия 10"/>
          <p:cNvCxnSpPr/>
          <p:nvPr/>
        </p:nvCxnSpPr>
        <p:spPr>
          <a:xfrm>
            <a:off x="2339640" y="3428640"/>
            <a:ext cx="1872360" cy="864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428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Скругленная соединительная линия 12"/>
          <p:cNvCxnSpPr/>
          <p:nvPr/>
        </p:nvCxnSpPr>
        <p:spPr>
          <a:xfrm flipV="1">
            <a:off x="2123640" y="3428280"/>
            <a:ext cx="2088360" cy="864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42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953480" y="-316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206280" y="1158840"/>
            <a:ext cx="885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2299320" y="0"/>
            <a:ext cx="353520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179280" y="73332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строим этапы научного исследования в правильном порядке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-82440" y="1763640"/>
            <a:ext cx="911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Выдвижение гипотезы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Наблюдение за объектом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Обобщение полученных результатов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Постановка проблемы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Анализ и сравнение результатов эксперимента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Выводы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Разработка и проведение эксперимента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4426920" y="465300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2341756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4"/>
          <p:cNvSpPr/>
          <p:nvPr/>
        </p:nvSpPr>
        <p:spPr>
          <a:xfrm>
            <a:off x="307800" y="1413000"/>
            <a:ext cx="8209080" cy="2531160"/>
          </a:xfrm>
          <a:prstGeom prst="rect">
            <a:avLst/>
          </a:prstGeom>
          <a:solidFill>
            <a:srgbClr val="ffffff"/>
          </a:solidFill>
          <a:ln w="26280">
            <a:solidFill>
              <a:srgbClr val="794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§ 7 ЧИТАТЬ, ПОНИМАТЬ, ВЫУЧИТЬ ЗАПИСИ В ТЕТРАДИ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вторить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§ 4-6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отовиться к тесту по теме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Методы исследования в биологии»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779400" y="557280"/>
            <a:ext cx="748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AutoShape 2"/>
          <p:cNvSpPr/>
          <p:nvPr/>
        </p:nvSpPr>
        <p:spPr>
          <a:xfrm>
            <a:off x="155520" y="-966960"/>
            <a:ext cx="12952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307800" y="-814320"/>
            <a:ext cx="12956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03" name="TextBox 5"/>
          <p:cNvGrpSpPr/>
          <p:nvPr/>
        </p:nvGrpSpPr>
        <p:grpSpPr>
          <a:xfrm>
            <a:off x="128520" y="4572000"/>
            <a:ext cx="8807400" cy="2139840"/>
            <a:chOff x="128520" y="4572000"/>
            <a:chExt cx="8807400" cy="2139840"/>
          </a:xfrm>
        </p:grpSpPr>
        <p:pic>
          <p:nvPicPr>
            <p:cNvPr id="304" name="TextBox 5" descr=""/>
            <p:cNvPicPr/>
            <p:nvPr/>
          </p:nvPicPr>
          <p:blipFill>
            <a:blip r:embed="rId1"/>
            <a:stretch/>
          </p:blipFill>
          <p:spPr>
            <a:xfrm>
              <a:off x="128520" y="4572000"/>
              <a:ext cx="880740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36440" y="4581360"/>
              <a:ext cx="87966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ЗАДАНИЕ в тетради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Стр. 50-51 № 2-4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88920" y="1052640"/>
            <a:ext cx="896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Алёша пришёл с мамой в зоопарк и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течении часа наблюдал за поведением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елого медведя.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Мальчик хотел понять, чем поведение медведя отличается от поведения других животных, а также понять язык его жестов.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f"/>
                </a:solidFill>
                <a:latin typeface="Calibri"/>
              </a:rPr>
              <a:t>Как ему точно изложить всю информацию,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f"/>
                </a:solidFill>
                <a:latin typeface="Calibri"/>
              </a:rPr>
              <a:t>чтобы ничего не упустить,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f"/>
                </a:solidFill>
                <a:latin typeface="Calibri"/>
              </a:rPr>
              <a:t>не перепутать?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f"/>
                </a:solidFill>
                <a:latin typeface="Calibri"/>
              </a:rPr>
              <a:t>Каким методом  воспользоваться?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Ситуационная задача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71280" y="1557360"/>
            <a:ext cx="3240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Тема урока  </a:t>
            </a:r>
            <a:br>
              <a:rPr sz="3600"/>
            </a:b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900000" y="2133720"/>
            <a:ext cx="784872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a13"/>
                </a:solidFill>
                <a:latin typeface="Arial"/>
                <a:ea typeface="Arial"/>
              </a:rPr>
              <a:t>Методы изучения живой природы: Описание.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480" y="920520"/>
            <a:ext cx="91440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читайте пункт 1 параграфа 7 на стр. 46 и подготовьте устный ответ на вопросы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мя и название книги древнегреческого философа впервые применившего метод описания?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акие существуют виды описания? Приведите примеры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аким может быть описание объекта?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Работа с учебником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РИСТОТЕЛЬ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6" name="Picture 2" descr="Аристотель про типы государственных устройств | Пикабу"/>
          <p:cNvPicPr/>
          <p:nvPr/>
        </p:nvPicPr>
        <p:blipFill>
          <a:blip r:embed="rId1"/>
          <a:stretch/>
        </p:blipFill>
        <p:spPr>
          <a:xfrm>
            <a:off x="433440" y="1628640"/>
            <a:ext cx="3700440" cy="4486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5032440" y="1427040"/>
            <a:ext cx="3456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4"/>
          <p:cNvSpPr/>
          <p:nvPr/>
        </p:nvSpPr>
        <p:spPr>
          <a:xfrm>
            <a:off x="1908000" y="2957400"/>
            <a:ext cx="4570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9" name="Лента лицом вверх 5"/>
          <p:cNvSpPr/>
          <p:nvPr/>
        </p:nvSpPr>
        <p:spPr>
          <a:xfrm>
            <a:off x="108000" y="333360"/>
            <a:ext cx="9036000" cy="900000"/>
          </a:xfrm>
          <a:custGeom>
            <a:avLst/>
            <a:gdLst>
              <a:gd name="textAreaLeft" fmla="*/ 2259000 w 9036000"/>
              <a:gd name="textAreaRight" fmla="*/ 6777000 w 9036000"/>
              <a:gd name="textAreaTop" fmla="*/ 0 h 900000"/>
              <a:gd name="textAreaBottom" fmla="*/ 750240 h 9000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fffca"/>
          </a:solidFill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писания бывают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240" name="Прямая со стрелкой 6"/>
          <p:cNvCxnSpPr/>
          <p:nvPr/>
        </p:nvCxnSpPr>
        <p:spPr>
          <a:xfrm flipH="1">
            <a:off x="2050200" y="1233360"/>
            <a:ext cx="1513800" cy="82800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41" name="Прямая со стрелкой 8"/>
          <p:cNvCxnSpPr/>
          <p:nvPr/>
        </p:nvCxnSpPr>
        <p:spPr>
          <a:xfrm>
            <a:off x="5508720" y="1142640"/>
            <a:ext cx="1512000" cy="91836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42" name="Шестиугольник 11"/>
          <p:cNvSpPr/>
          <p:nvPr/>
        </p:nvSpPr>
        <p:spPr>
          <a:xfrm>
            <a:off x="0" y="2193840"/>
            <a:ext cx="4297320" cy="1322640"/>
          </a:xfrm>
          <a:prstGeom prst="hexagon">
            <a:avLst>
              <a:gd name="adj" fmla="val 24985"/>
              <a:gd name="vf" fmla="val 115470"/>
            </a:avLst>
          </a:prstGeom>
          <a:solidFill>
            <a:srgbClr val="f3f2dc"/>
          </a:solidFill>
          <a:ln w="262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АЧЕСТВЕННЫ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Шестиугольник 12"/>
          <p:cNvSpPr/>
          <p:nvPr/>
        </p:nvSpPr>
        <p:spPr>
          <a:xfrm>
            <a:off x="4297320" y="2193840"/>
            <a:ext cx="4846680" cy="132264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f3f2dc"/>
          </a:solidFill>
          <a:ln w="262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КОЛИЧЕСТВЕННЫЕ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54000" y="3624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лагается последовательность этапов наблюдения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4734000" y="3789360"/>
            <a:ext cx="441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ормируются в результате измерения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3"/>
          <p:cNvSpPr/>
          <p:nvPr/>
        </p:nvSpPr>
        <p:spPr>
          <a:xfrm>
            <a:off x="1189440" y="358920"/>
            <a:ext cx="672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3e22"/>
                </a:solidFill>
                <a:latin typeface="Arial"/>
              </a:rPr>
              <a:t>Словесное описание 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87480" y="1122480"/>
            <a:ext cx="888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Монстера (лат. Monstera) - </a:t>
            </a: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вечнозеленое растение (кустарник и лиана). Стебли толстые, лазящие. Часто имеют воздушные корни. Листья больших размеров на длинном черешке, на ощупь – кожистые, имеют отверстия и прорези разных размеров и формы; темно-зеленой окраски. Толстый, цилиндрической формы початок является соцветием. Цветки сверху обоеполые, а у основания – стерильные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rcRect l="23974" t="6841" r="20735" b="7200"/>
          <a:stretch/>
        </p:blipFill>
        <p:spPr>
          <a:xfrm>
            <a:off x="112680" y="612720"/>
            <a:ext cx="3511440" cy="54579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1193400" y="358920"/>
            <a:ext cx="663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3e22"/>
                </a:solidFill>
                <a:latin typeface="Arial"/>
              </a:rPr>
              <a:t>Наглядное описание 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0" name="Picture 5" descr="монстера PNG рисунок, картинки и пнг прозрачный для бесплатной загрузки |  Pngtree"/>
          <p:cNvPicPr/>
          <p:nvPr/>
        </p:nvPicPr>
        <p:blipFill>
          <a:blip r:embed="rId2"/>
          <a:srcRect l="18532" t="4844" r="18980" b="0"/>
          <a:stretch/>
        </p:blipFill>
        <p:spPr>
          <a:xfrm>
            <a:off x="5921280" y="1020600"/>
            <a:ext cx="3222720" cy="49071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3608280" y="1819440"/>
            <a:ext cx="2473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Calibri"/>
              </a:rPr>
              <a:t>Рисунок должен в мельчайших подробностях передавать мельчайшие детали наблюдаемого объект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1211400" y="55738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274"/>
                </a:solidFill>
                <a:latin typeface="Calibri"/>
              </a:rPr>
              <a:t>Биологический рисунок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08:53:46Z</dcterms:created>
  <dc:creator>Алексей</dc:creator>
  <dc:description/>
  <dc:language>en-US</dc:language>
  <cp:lastModifiedBy>Алексей</cp:lastModifiedBy>
  <dcterms:modified xsi:type="dcterms:W3CDTF">2023-11-03T15:45:29Z</dcterms:modified>
  <cp:revision>105</cp:revision>
  <dc:subject/>
  <dc:title>Биология - система наук о живой природе</dc:title>
</cp:coreProperties>
</file>