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621-4A72-4C1D-900A-158FB611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9AC-1D21-487E-8DAE-27D1828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D98-C3EC-4D18-A4BE-639F7A1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00B-81E6-47E1-9434-73AE5546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4A6-1CD9-4206-AE43-AF52774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F54-88D2-4D97-AC53-4619FCFA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1C6-A7BA-4DC9-AD18-55C4D25E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583-D799-48FF-9B39-B476107A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6A7-C7D4-4F42-90A2-C15E89EB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BC0-30CE-4237-A64C-B444222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E9C-BFE2-4ED9-90EF-B34F8DC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91F-AF63-424E-BBBE-B014E37E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7EDF-7DC5-49F0-80CF-934F112D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циальное взаимодей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2004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Это действие, направленное на другого человека (не на физический объект ) и вызывающее обратную реакци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собы решения конфли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ре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бит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ледствия конфли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зинтегратив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усиливают ожесточение, разрушают отношения, отвлекают от других насущных пробл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гратив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могают решить проблемы, найти выход из положения, усилить сплоченность, позволяют четко понять свои интере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бальные или слов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енное действие (выражается только во внутренней реч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 Внешние и внутренние действия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c3e6b8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ы социального взаимодействия по ви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ческое (передача книги, пощечина, поцелу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бальное (благодарность, приветствие, оскорбл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стовое (рукопожатие, улыбка, грим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ы социального взаимодействия по сфе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еская (собственники, работники, домохозяйки, безрабо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ессиональная (юристы, учителя, строители и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ейно-родственная (родители, дети, бабуш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лигиозная (верующие разных религий, атеис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тическая (представители партий, субъекты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ографическая (взаимодействие между представителями различных наций, полов, возрастов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основные формы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опер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трудничество нескольких индивидов (групп) ради решения обще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ет там и тогда, когда становится очевидным преимущество объединенных усилий над индивиду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урен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уальная или групповая борьба за обладание дефицитными ценностями, благами: деньги, собственность, власть, престиж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ные потому, что не могут быть поделены поровну на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 осознает, что в одиночку достигнет боль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е взаимодействие потому что люди оговаривают правила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ытое или открытое столкновение конкурирующих стор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возникнуть и в кооперации, и в конку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авные соперники соревнуются мирным путем- 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оруженный конфликт-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ъекты- участники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 конфликта- вопрос или благо из-за которого разгорается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од конфликта -незначительное событие,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штаб конфликта –число участников и серьезность послед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0:49:05Z</dcterms:created>
  <dc:creator>Конферен зал</dc:creator>
  <dc:description/>
  <dc:language>en-US</dc:language>
  <cp:lastModifiedBy>Конферен зал</cp:lastModifiedBy>
  <dcterms:modified xsi:type="dcterms:W3CDTF">2013-05-24T00:52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