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252EC-DF0E-4645-95D5-F04132A58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52F90-AB45-402D-902B-DC9306BF0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AAC20-802A-41BC-99AA-FF56F042B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7AC95-E04D-43B9-9625-4EE8E21D6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B7E35-839B-4175-B370-82BEB674C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BE2A7-87B9-43B2-A3BA-9CE00D69A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7E4AE-F580-4B6B-B019-24B437A27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65A34-4625-47C7-BADD-5BF66EF37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6594E-650C-4394-9496-0A29E6438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2C152-0F12-4731-9F43-B8624C4C7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F93AE-1F53-4CFB-947A-1163DD308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C8199-3508-4C72-BD82-ADCC95086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30859-2BE9-458C-AC16-99288882A7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469880"/>
          </a:xfrm>
          <a:prstGeom prst="rect">
            <a:avLst/>
          </a:prstGeom>
          <a:solidFill>
            <a:srgbClr val="c3e6b8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оциальное взаимодейств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80880" y="3200400"/>
            <a:ext cx="830592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!! Это действие, направленное на другого человека (не на физический объект ) и вызывающее обратную реакцию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c3e6b8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Способы решения конфликтов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омпроми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ерегово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средничест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именение сил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рбитра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c3e6b8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оследствия конфликтов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Дезинтегративны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усиливают ожесточение, разрушают отношения, отвлекают от других насущных проблем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Интегративны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помогают решить проблемы, найти выход из положения, усилить сплоченность, позволяют четко понять свои интересы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c3e6b8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Действ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Физическ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ербальные или словес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Жес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ысленное действие (выражается только во внутренней речи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? Внешние и внутренние действия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solidFill>
            <a:srgbClr val="c3e6b8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Типы социального взаимодействия по вида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Физическое (передача книги, пощечина, поцелуй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ербальное (благодарность, приветствие, оскорбление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Жестовое (рукопожатие, улыбка, гримас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c3e6b8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Типы социального взаимодействия по сфера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Экономическая (собственники, работники, домохозяйки, безработны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офессиональная (юристы, учителя, строители ит.д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емейно-родственная (родители, дети, бабушки и т.д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елигиозная (верующие разных религий, атеисты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литическая (представители партий, субъекты власт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емографическая (взаимодействие между представителями различных наций, полов, возрастов и т.д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011320"/>
          </a:xfrm>
          <a:prstGeom prst="rect">
            <a:avLst/>
          </a:prstGeom>
          <a:solidFill>
            <a:srgbClr val="c3e6b8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 основные формы взаимодейств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30477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оопера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онкурен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онфлик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c3e6b8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Кооперация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отрудничество нескольких индивидов (групп) ради решения общей задач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озникает там и тогда, когда становится очевидным преимущество объединенных усилий над индивидуальны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имер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c3e6b8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Конкуренция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ндивидуальная или групповая борьба за обладание дефицитными ценностями, благами: деньги, собственность, власть, престиж и т.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ефицитные потому, что не могут быть поделены поровну на все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ндивид осознает, что в одиночку достигнет больше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оциальное взаимодействие потому что люди оговаривают правила иг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имер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c3e6b8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Конфлик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крытое или открытое столкновение конкурирующих сторон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ожет возникнуть и в кооперации, и в конкурен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Если равные соперники соревнуются мирным путем- конкурен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ооруженный конфликт- война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c3e6b8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Конфлик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убъекты- участники конфлик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едмет конфликта- вопрос или благо из-за которого разгорается конфлик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вод конфликта -незначительное событие, действ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асштаб конфликта –число участников и серьезность последств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имер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0T00:49:05Z</dcterms:created>
  <dc:creator>Конферен зал</dc:creator>
  <dc:description/>
  <dc:language>en-US</dc:language>
  <cp:lastModifiedBy>Конферен зал</cp:lastModifiedBy>
  <dcterms:modified xsi:type="dcterms:W3CDTF">2013-05-24T00:52:3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