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CF9-032D-4FAB-92F6-374741AF20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5A9A-F736-4D5B-958A-242B8136B7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D2D-5253-4B24-96D8-E85DA498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E13-E887-4B8E-BD4A-D4EE166F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CC3-3C77-4875-B4EE-C5B22A5B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5C9-ED5F-4A86-A6FD-016B99D9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0180-C613-4442-B7C0-BF2E4D98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BB0C-5741-4032-83A9-2D60DD14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3F3C-9F80-48AC-A48E-2B20C8A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E891-8DEF-4DF8-8B35-44BC1F7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609-DCD7-4828-AC25-AC0BEA7A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FE7-1B23-4045-8128-36321302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DC35-AC63-4F81-8C08-5C24BBA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AD0-7A53-4ADF-B9C3-51476B5F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1DC9-4449-4964-A5A7-5A41BCC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F15-E3D4-4D82-B602-866BD43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D03F-CD30-4A66-9340-BC38F1F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8828-4854-4377-B2FA-2CAB3EA2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EC97-5957-4447-B964-298DAA9E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68E3-4658-4D72-A3CC-FB04CF34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B135-5429-43A0-BFF0-CAFC8331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97BC-9BE0-4DFA-A790-E51412E1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634E-AED4-406D-BCB4-3DEE6997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2DEC-914D-4647-B333-93E76C4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39F-7262-455F-9C93-BC669E8A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0AC2-318E-46BE-A20B-353FBB54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6D63-6AB8-4383-A6FF-0EBAB66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273F-C7FF-47B2-B759-00CB9E2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9219-519A-4E78-A30B-67DA9405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BD32-C5F2-4188-8BF4-A3F39D1B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D5CE-B753-4308-8914-E6802C90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8294-ED83-48AC-A099-17D58D9F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8A3E-0A78-4149-8BC9-1317182B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4A62-ABDC-4DC1-823A-C0E6F6FF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9E95-F742-455A-88B8-36FF7539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50A-BE44-4C5B-BF4D-952C5DB3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1105-5261-43B9-8707-980B799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1040-665A-4E48-84CB-22A5ECCB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3B51-AF78-493C-8D10-F300CEF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BE18-1735-45B1-BBBF-16F318A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A567-A32C-4B46-BB51-4FAE68C7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BA18-C630-40B2-AB3C-E3931AB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7EC0-0577-48A5-86DE-FE5D1805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6F4A-518C-4F27-A3C6-70FEBF2B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F8C4-28DB-4DD5-8A28-751AB696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096-F233-42CD-B2C9-FC166E0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810-9109-4C1A-8AF9-8D49F8F2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E4C-99CD-4135-AAF9-A8A2E673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CCA-2D4B-4B6E-A515-2A24565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1F3-C00C-46D7-B2F8-BD97960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102E-5423-42E9-841D-A4260489410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51A-17C7-45C4-B8FB-BB0A33DDFF2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39D1-BA1D-4AA3-AC18-BF47FD96838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0FE4-0D8E-4352-A1ED-A3AF42F429A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18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3.jpeg"/><Relationship Id="rId9" Type="http://schemas.openxmlformats.org/officeDocument/2006/relationships/image" Target="../media/image2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Задачи по теме «Цилиндр», встречающиеся на ЕГЭ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42600" y="3886200"/>
            <a:ext cx="8001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Боброва Татьяна Евгенье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Радиус основания цилиндра равен 2, высота равна 3. Найдите площадь боковой поверхности цилиндра, деленную на</a:t>
            </a:r>
            <a:r>
              <a:rPr b="0" lang="en-US" sz="18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. 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Дополнительное задание . Найти  объем</a:t>
            </a:r>
            <a:br>
              <a:rPr sz="32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Содержимое 4" descr="MA.E10.B9.10/innerimg0.jpg"/>
          <p:cNvPicPr/>
          <p:nvPr/>
        </p:nvPicPr>
        <p:blipFill>
          <a:blip r:embed="rId1"/>
          <a:stretch/>
        </p:blipFill>
        <p:spPr>
          <a:xfrm>
            <a:off x="262080" y="901800"/>
            <a:ext cx="1616040" cy="1633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" descr="\pi "/>
          <p:cNvPicPr/>
          <p:nvPr/>
        </p:nvPicPr>
        <p:blipFill>
          <a:blip r:embed="rId2"/>
          <a:stretch/>
        </p:blipFill>
        <p:spPr>
          <a:xfrm>
            <a:off x="7500960" y="428760"/>
            <a:ext cx="357120" cy="1429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714760" y="1571760"/>
            <a:ext cx="364320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2  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6" descr="\pi "/>
          <p:cNvPicPr/>
          <p:nvPr/>
        </p:nvPicPr>
        <p:blipFill>
          <a:blip r:embed="rId3"/>
          <a:stretch/>
        </p:blipFill>
        <p:spPr>
          <a:xfrm>
            <a:off x="3143160" y="200016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3319920"/>
            <a:ext cx="8001000" cy="85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лина окружности основания цилиндра равна 3, высота равна 2. Найдите площадь боковой поверхности цилин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928800" y="4286160"/>
            <a:ext cx="34290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 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 rot="16200000">
            <a:off x="6810480" y="2982240"/>
            <a:ext cx="3954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ощадь боковой поверхности  цилиндра( уст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1785960" y="15001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1143000" y="1571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642960" y="5429160"/>
            <a:ext cx="771516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осевого сечения цилиндра равна 4. Найдите площадь боковой поверхности цилиндра, деленную н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0"/>
          <p:cNvSpPr/>
          <p:nvPr/>
        </p:nvSpPr>
        <p:spPr>
          <a:xfrm>
            <a:off x="357120" y="1214280"/>
            <a:ext cx="1428840" cy="785880"/>
          </a:xfrm>
          <a:prstGeom prst="rect">
            <a:avLst/>
          </a:prstGeom>
          <a:noFill/>
          <a:ln cap="rnd" w="15840">
            <a:solidFill>
              <a:srgbClr val="688e19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2"/>
          <p:cNvSpPr/>
          <p:nvPr/>
        </p:nvSpPr>
        <p:spPr>
          <a:xfrm>
            <a:off x="357120" y="1214280"/>
            <a:ext cx="1357560" cy="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4"/>
          <p:cNvSpPr/>
          <p:nvPr/>
        </p:nvSpPr>
        <p:spPr>
          <a:xfrm>
            <a:off x="357120" y="1214280"/>
            <a:ext cx="1357560" cy="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1" descr="\pi "/>
          <p:cNvPicPr/>
          <p:nvPr/>
        </p:nvPicPr>
        <p:blipFill>
          <a:blip r:embed="rId7"/>
          <a:stretch/>
        </p:blipFill>
        <p:spPr>
          <a:xfrm>
            <a:off x="6286680" y="5857920"/>
            <a:ext cx="28548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2600" y="285840"/>
            <a:ext cx="7929720" cy="119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лощадь боковой поверхности цилиндра равна 2    , а диаметр основания — 1. Найдите высоту цилинд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11" descr="\pi "/>
          <p:cNvPicPr/>
          <p:nvPr/>
        </p:nvPicPr>
        <p:blipFill>
          <a:blip r:embed="rId2"/>
          <a:stretch/>
        </p:blipFill>
        <p:spPr>
          <a:xfrm>
            <a:off x="6072120" y="85716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357120" y="4000680"/>
            <a:ext cx="8143920" cy="916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а окружности основания цилиндра равна 3. Площадь боковой поверхности равна 6. Найдите высоту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одержимое 4" descr="MA.E10.B9.10/innerimg0.jpg"/>
          <p:cNvPicPr/>
          <p:nvPr/>
        </p:nvPicPr>
        <p:blipFill>
          <a:blip r:embed="rId3"/>
          <a:stretch/>
        </p:blipFill>
        <p:spPr>
          <a:xfrm>
            <a:off x="262080" y="1401840"/>
            <a:ext cx="16160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2857680" y="214200"/>
            <a:ext cx="26431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м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500040" y="71424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объем V части цилиндра, изображенной на рисунке. В ответе укажите V/       .(уст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\pi "/>
          <p:cNvPicPr/>
          <p:nvPr/>
        </p:nvPicPr>
        <p:blipFill>
          <a:blip r:embed="rId2"/>
          <a:stretch/>
        </p:blipFill>
        <p:spPr>
          <a:xfrm>
            <a:off x="5214960" y="114300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214200" y="38577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цилиндрическая кружка вдвое выше второй, зато вторая в полтора раза шире. Найдите отношение объема второй кружки к объему пер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3"/>
          <a:stretch/>
        </p:blipFill>
        <p:spPr>
          <a:xfrm>
            <a:off x="285840" y="4500720"/>
            <a:ext cx="2000160" cy="1643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8585" t="0" r="14125" b="0"/>
          <a:stretch/>
        </p:blipFill>
        <p:spPr>
          <a:xfrm>
            <a:off x="214200" y="1357200"/>
            <a:ext cx="2756160" cy="2071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5"/>
          <a:stretch/>
        </p:blipFill>
        <p:spPr>
          <a:xfrm>
            <a:off x="2928960" y="1357200"/>
            <a:ext cx="1692360" cy="1785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6"/>
          <a:stretch/>
        </p:blipFill>
        <p:spPr>
          <a:xfrm>
            <a:off x="4357800" y="1357200"/>
            <a:ext cx="2192400" cy="1928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7"/>
          <a:stretch/>
        </p:blipFill>
        <p:spPr>
          <a:xfrm>
            <a:off x="6429240" y="1500120"/>
            <a:ext cx="251172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1"/>
          <p:cNvSpPr/>
          <p:nvPr/>
        </p:nvSpPr>
        <p:spPr>
          <a:xfrm>
            <a:off x="928800" y="507204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2214720" y="55008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642960" y="44290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6"/>
          <p:cNvSpPr/>
          <p:nvPr/>
        </p:nvSpPr>
        <p:spPr>
          <a:xfrm flipV="1">
            <a:off x="642960" y="4642920"/>
            <a:ext cx="285840" cy="7164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9"/>
          <p:cNvSpPr/>
          <p:nvPr/>
        </p:nvSpPr>
        <p:spPr>
          <a:xfrm>
            <a:off x="1785960" y="5357880"/>
            <a:ext cx="428760" cy="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"/>
          <p:cNvSpPr/>
          <p:nvPr/>
        </p:nvSpPr>
        <p:spPr>
          <a:xfrm>
            <a:off x="1785960" y="4929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8" name="TextBox 25"/>
          <p:cNvSpPr/>
          <p:nvPr/>
        </p:nvSpPr>
        <p:spPr>
          <a:xfrm>
            <a:off x="3571920" y="50007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hr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6" descr="\pi "/>
          <p:cNvPicPr/>
          <p:nvPr/>
        </p:nvPicPr>
        <p:blipFill>
          <a:blip r:embed="rId8"/>
          <a:stretch/>
        </p:blipFill>
        <p:spPr>
          <a:xfrm>
            <a:off x="4357800" y="5143680"/>
            <a:ext cx="285480" cy="142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7"/>
          <p:cNvSpPr/>
          <p:nvPr/>
        </p:nvSpPr>
        <p:spPr>
          <a:xfrm>
            <a:off x="3643200" y="5429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,5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8" descr="\pi "/>
          <p:cNvPicPr/>
          <p:nvPr/>
        </p:nvPicPr>
        <p:blipFill>
          <a:blip r:embed="rId9"/>
          <a:stretch/>
        </p:blipFill>
        <p:spPr>
          <a:xfrm>
            <a:off x="4714920" y="557208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9"/>
          <p:cNvSpPr/>
          <p:nvPr/>
        </p:nvSpPr>
        <p:spPr>
          <a:xfrm>
            <a:off x="3429000" y="4572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642960" y="714240"/>
            <a:ext cx="4572000" cy="1465560"/>
          </a:xfrm>
          <a:prstGeom prst="rect">
            <a:avLst/>
          </a:prstGeom>
          <a:gradFill rotWithShape="0">
            <a:gsLst>
              <a:gs pos="0">
                <a:srgbClr val="c1ea8f"/>
              </a:gs>
              <a:gs pos="100000">
                <a:srgbClr val="ebf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цилиндрический сосуд, в котором находится 6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воды, опущена деталь. При этом уровень жидкости в сосуде поднялся в 1,5 раза. Чему равен объем детал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1648080" cy="2314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2004840" y="20718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Решение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142920" y="24289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 как уровень жидкости в сосуде поднялся в 1,5 раза, то поскольку основание цилиндра не изменилось, объем увеличился в 1,5 раза, т.е. стал равен 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Следовательно, объем детали равен 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7215120" y="571680"/>
            <a:ext cx="1679760" cy="21700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7"/>
          <p:cNvSpPr/>
          <p:nvPr/>
        </p:nvSpPr>
        <p:spPr>
          <a:xfrm>
            <a:off x="0" y="3786120"/>
            <a:ext cx="5000760" cy="1739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линдрическом сосуде уровень жидкости достигает 16 см. На какой высоте будет находиться уровень жидкости, если ее перелить во второй цилиндрический сосуд, диаметр которого в 2 раза больше диаметра первого? Ответ выразите в сант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8"/>
          <p:cNvSpPr/>
          <p:nvPr/>
        </p:nvSpPr>
        <p:spPr>
          <a:xfrm>
            <a:off x="4572000" y="3714840"/>
            <a:ext cx="4572000" cy="1739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линдрический сосуд налили  воды. Уровень жидкости оказался равным 12 см. В воду полностью погрузили деталь. При этом уровень жидкости в сосуде поднялся на 9 см. Чему равен объем детали? Ответ выразите в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4"/>
          <p:cNvGrpSpPr/>
          <p:nvPr/>
        </p:nvGrpSpPr>
        <p:grpSpPr>
          <a:xfrm>
            <a:off x="4857840" y="285840"/>
            <a:ext cx="4510080" cy="5797080"/>
            <a:chOff x="4857840" y="285840"/>
            <a:chExt cx="4510080" cy="5797080"/>
          </a:xfrm>
        </p:grpSpPr>
        <p:sp>
          <p:nvSpPr>
            <p:cNvPr id="271" name="Text Box 3"/>
            <p:cNvSpPr/>
            <p:nvPr/>
          </p:nvSpPr>
          <p:spPr>
            <a:xfrm>
              <a:off x="7277040" y="5714640"/>
              <a:ext cx="131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твет: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4857840" y="285840"/>
              <a:ext cx="4510080" cy="1252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000"/>
                  </a:solidFill>
                  <a:latin typeface="Calibri"/>
                </a:rPr>
                <a:t>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Ре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ебра параллелепипеда равны 4, 4, 2 и, следовательно, его объем равен 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3" descr=""/>
            <p:cNvPicPr/>
            <p:nvPr/>
          </p:nvPicPr>
          <p:blipFill>
            <a:blip r:embed="rId2"/>
            <a:stretch/>
          </p:blipFill>
          <p:spPr>
            <a:xfrm>
              <a:off x="5440680" y="1881000"/>
              <a:ext cx="3365640" cy="24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Прямоугольник 6"/>
          <p:cNvSpPr/>
          <p:nvPr/>
        </p:nvSpPr>
        <p:spPr>
          <a:xfrm>
            <a:off x="142920" y="785880"/>
            <a:ext cx="4572000" cy="1465560"/>
          </a:xfrm>
          <a:prstGeom prst="rect">
            <a:avLst/>
          </a:prstGeom>
          <a:gradFill rotWithShape="0">
            <a:gsLst>
              <a:gs pos="0">
                <a:srgbClr val="c1ea8f"/>
              </a:gs>
              <a:gs pos="100000">
                <a:srgbClr val="ebf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ямоугольный параллелепипед описан около цилиндра, радиус основания и высота которого равны 2. Найдите объем параллелеп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0" y="0"/>
            <a:ext cx="4714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линдры, вписанные в 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214200" y="2357280"/>
            <a:ext cx="45720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 описан около цилиндра, радиус основания и высота которого равны 1. Найдите объем параллелеп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0" y="4000680"/>
            <a:ext cx="4714920" cy="1739880"/>
          </a:xfrm>
          <a:prstGeom prst="rect">
            <a:avLst/>
          </a:prstGeom>
          <a:gradFill rotWithShape="0">
            <a:gsLst>
              <a:gs pos="0">
                <a:srgbClr val="c1ea8f"/>
              </a:gs>
              <a:gs pos="100000">
                <a:srgbClr val="ebf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ямоугольный параллелепипед описан около цилиндра, радиус основания которого равен 4. Объем параллелепипеда равен 16. Найдите высоту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6000840" y="5000760"/>
            <a:ext cx="914400" cy="914400"/>
          </a:xfrm>
          <a:prstGeom prst="rect">
            <a:avLst/>
          </a:prstGeom>
          <a:noFill/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1"/>
          <p:cNvSpPr/>
          <p:nvPr/>
        </p:nvSpPr>
        <p:spPr>
          <a:xfrm>
            <a:off x="6000840" y="5000760"/>
            <a:ext cx="928440" cy="9284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3"/>
          <p:cNvSpPr/>
          <p:nvPr/>
        </p:nvSpPr>
        <p:spPr>
          <a:xfrm>
            <a:off x="6500880" y="5429160"/>
            <a:ext cx="428400" cy="3672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15"/>
          <p:cNvSpPr/>
          <p:nvPr/>
        </p:nvSpPr>
        <p:spPr>
          <a:xfrm flipV="1">
            <a:off x="6500880" y="5465520"/>
            <a:ext cx="428400" cy="3492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6858000" y="40006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a=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23"/>
          <p:cNvSpPr/>
          <p:nvPr/>
        </p:nvSpPr>
        <p:spPr>
          <a:xfrm>
            <a:off x="7143840" y="2286000"/>
            <a:ext cx="1357200" cy="71280"/>
          </a:xfrm>
          <a:prstGeom prst="line">
            <a:avLst/>
          </a:prstGeom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7429680" y="20001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я со стрелкой 17"/>
          <p:cNvCxnSpPr/>
          <p:nvPr/>
        </p:nvCxnSpPr>
        <p:spPr>
          <a:xfrm flipV="1">
            <a:off x="4143240" y="356400"/>
            <a:ext cx="1501200" cy="50076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357120" y="785880"/>
            <a:ext cx="45720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площадь боковой поверхности правильной треугольной призмы, описанной около цилиндра, радиус основания которого рав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а высота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3000240" y="1714680"/>
            <a:ext cx="276480" cy="180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5143680" y="571680"/>
            <a:ext cx="3271680" cy="15332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428760" y="3000240"/>
            <a:ext cx="3143160" cy="1739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площадь боковой поверхности правильной шестиугольной призмы, описанной около цилиндра, радиус основания которого равен     , а высота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5"/>
          <a:stretch/>
        </p:blipFill>
        <p:spPr>
          <a:xfrm>
            <a:off x="4786200" y="2571840"/>
            <a:ext cx="3048120" cy="1895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6"/>
          <a:stretch/>
        </p:blipFill>
        <p:spPr>
          <a:xfrm>
            <a:off x="1071720" y="4429080"/>
            <a:ext cx="276120" cy="181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857160" y="142920"/>
            <a:ext cx="335772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писанные цилин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1000080" y="214200"/>
            <a:ext cx="5000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ные цилин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142920" y="857160"/>
            <a:ext cx="671508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ании прямой призмы лежит прямоугольный треугольник с катетами 6 и 8. Боковые ребра равны    .  Найдите объем цилиндра, описанного около этой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857160" y="1428840"/>
            <a:ext cx="152640" cy="352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4"/>
          <a:stretch/>
        </p:blipFill>
        <p:spPr>
          <a:xfrm>
            <a:off x="6215040" y="142920"/>
            <a:ext cx="2428920" cy="24177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5"/>
          <a:srcRect l="3547" t="3465" r="0" b="2783"/>
          <a:stretch/>
        </p:blipFill>
        <p:spPr>
          <a:xfrm>
            <a:off x="6572160" y="2643120"/>
            <a:ext cx="1938600" cy="1928880"/>
          </a:xfrm>
          <a:prstGeom prst="rect">
            <a:avLst/>
          </a:prstGeom>
          <a:ln w="0">
            <a:noFill/>
          </a:ln>
        </p:spPr>
      </p:pic>
      <p:sp>
        <p:nvSpPr>
          <p:cNvPr id="298" name="TextBox 7"/>
          <p:cNvSpPr/>
          <p:nvPr/>
        </p:nvSpPr>
        <p:spPr>
          <a:xfrm>
            <a:off x="142920" y="2928960"/>
            <a:ext cx="414324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ании прямой призмы лежит квадрат со стороной 2. Боковые ребра равны   . Найдите объем цилиндра, описанного около этой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7"/>
          <a:stretch/>
        </p:blipFill>
        <p:spPr>
          <a:xfrm>
            <a:off x="2357280" y="3571920"/>
            <a:ext cx="152640" cy="352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8"/>
          <p:cNvSpPr/>
          <p:nvPr/>
        </p:nvSpPr>
        <p:spPr>
          <a:xfrm>
            <a:off x="785880" y="2357280"/>
            <a:ext cx="55008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=c/2,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6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с=10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=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, 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=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7858080" y="785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1"/>
          <p:cNvSpPr/>
          <p:nvPr/>
        </p:nvSpPr>
        <p:spPr>
          <a:xfrm>
            <a:off x="7500960" y="785880"/>
            <a:ext cx="928800" cy="0"/>
          </a:xfrm>
          <a:prstGeom prst="line">
            <a:avLst/>
          </a:prstGeom>
          <a:ln cap="rnd" w="414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3"/>
          <p:cNvSpPr/>
          <p:nvPr/>
        </p:nvSpPr>
        <p:spPr>
          <a:xfrm>
            <a:off x="6572160" y="1928880"/>
            <a:ext cx="1928880" cy="71280"/>
          </a:xfrm>
          <a:prstGeom prst="line">
            <a:avLst/>
          </a:prstGeom>
          <a:ln cap="rnd" w="284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4"/>
          <p:cNvSpPr/>
          <p:nvPr/>
        </p:nvSpPr>
        <p:spPr>
          <a:xfrm>
            <a:off x="7000920" y="1857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27" descr="\pi "/>
          <p:cNvPicPr/>
          <p:nvPr/>
        </p:nvPicPr>
        <p:blipFill>
          <a:blip r:embed="rId9"/>
          <a:stretch/>
        </p:blipFill>
        <p:spPr>
          <a:xfrm>
            <a:off x="5500800" y="2500200"/>
            <a:ext cx="285480" cy="142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9"/>
          <p:cNvSpPr/>
          <p:nvPr/>
        </p:nvSpPr>
        <p:spPr>
          <a:xfrm>
            <a:off x="7143840" y="4429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31"/>
          <p:cNvSpPr/>
          <p:nvPr/>
        </p:nvSpPr>
        <p:spPr>
          <a:xfrm flipH="1">
            <a:off x="6786720" y="2857680"/>
            <a:ext cx="714240" cy="142560"/>
          </a:xfrm>
          <a:prstGeom prst="line">
            <a:avLst/>
          </a:prstGeom>
          <a:ln cap="rnd" w="255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7000920" y="26431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5"/>
          <p:cNvSpPr/>
          <p:nvPr/>
        </p:nvSpPr>
        <p:spPr>
          <a:xfrm>
            <a:off x="0" y="4786200"/>
            <a:ext cx="3929040" cy="1465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площадь боковой поверхности правильной треугольной призмы, вписанной в цилиндр, радиус основания которого равен , а высота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1"/>
          <a:stretch/>
        </p:blipFill>
        <p:spPr>
          <a:xfrm>
            <a:off x="3929040" y="4572000"/>
            <a:ext cx="3438720" cy="2114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1"/>
          <p:cNvSpPr/>
          <p:nvPr/>
        </p:nvSpPr>
        <p:spPr>
          <a:xfrm>
            <a:off x="7072200" y="5286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2"/>
          <a:stretch/>
        </p:blipFill>
        <p:spPr>
          <a:xfrm>
            <a:off x="7786800" y="5357880"/>
            <a:ext cx="276120" cy="1810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3"/>
          <p:cNvSpPr/>
          <p:nvPr/>
        </p:nvSpPr>
        <p:spPr>
          <a:xfrm>
            <a:off x="5857920" y="4500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45"/>
          <p:cNvSpPr/>
          <p:nvPr/>
        </p:nvSpPr>
        <p:spPr>
          <a:xfrm flipH="1">
            <a:off x="4786200" y="4857120"/>
            <a:ext cx="857520" cy="214200"/>
          </a:xfrm>
          <a:prstGeom prst="line">
            <a:avLst/>
          </a:prstGeom>
          <a:ln cap="rnd" w="255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6"/>
          <p:cNvSpPr/>
          <p:nvPr/>
        </p:nvSpPr>
        <p:spPr>
          <a:xfrm>
            <a:off x="507204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a Noskova</dc:creator>
  <dc:description/>
  <dc:language>en-US</dc:language>
  <cp:lastModifiedBy>Илья Бобров</cp:lastModifiedBy>
  <dcterms:modified xsi:type="dcterms:W3CDTF">2023-12-13T20:09:04Z</dcterms:modified>
  <cp:revision>34</cp:revision>
  <dc:subject/>
  <dc:title>Задачи по теме «Цилиндр», встречающиеся на ЕГЭ</dc:title>
</cp:coreProperties>
</file>