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gif" ContentType="image/gif"/>
  <Override PartName="/ppt/media/image25.png" ContentType="image/png"/>
  <Override PartName="/ppt/media/image24.png" ContentType="image/png"/>
  <Override PartName="/ppt/media/image18.jpeg" ContentType="image/jpeg"/>
  <Override PartName="/ppt/media/image21.png" ContentType="image/png"/>
  <Override PartName="/ppt/media/image19.png" ContentType="image/png"/>
  <Override PartName="/ppt/media/image22.png" ContentType="image/png"/>
  <Override PartName="/ppt/media/image17.gif" ContentType="image/gif"/>
  <Override PartName="/ppt/media/image15.gif" ContentType="image/gif"/>
  <Override PartName="/ppt/media/image20.png" ContentType="image/png"/>
  <Override PartName="/ppt/media/image2.jpeg" ContentType="image/jpeg"/>
  <Override PartName="/ppt/media/image16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5A50-02E6-4D3D-9104-42FC68C1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8421-E581-434F-AFD7-B80FB467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749F-1A8B-4431-B475-CD21A292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7510-3081-4818-A2A2-210E4F07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E6C7-1118-411D-9747-4D96B3AC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F012-BD21-4BC5-AC7D-E88D35FD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9D9E-CE4A-4C04-99C8-6A598FAE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99AA-7CC1-475D-BAA9-C08B15C8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B704-47A1-4F93-A135-A4816777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5229-0DB9-4EB7-90E2-33306444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322E-F4C7-450E-8059-A576D4A2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D190-9F68-4566-BA7F-98E98E49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FA2F-E10A-48BD-A87B-BEEC9761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099E-04BE-4CDC-B81D-7FEFC0F4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45F1-E149-4117-AC3D-81B910D9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A621-4AF1-48E5-A016-CC55A34D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A1B3-B385-4448-8C1E-BF209319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E2DF-13C3-47BD-A28C-211C1D2B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293C-9F35-40ED-8ADC-39D92815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57D9-5D46-4686-AA33-87251499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AF0E-99C4-4BAC-89CB-DCD60193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B87E-32F4-49A6-A7DF-05EAE7AE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91D6-00D0-46FB-BA32-E2BC233E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66C2-5720-4CF3-810F-FE67C883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6A42-5EB7-49D4-9FB7-1F4D7BCCB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255E-2725-4AEF-AC87-FB52E9530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0520" y="992160"/>
            <a:ext cx="5005440" cy="29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12 декабря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 –</a:t>
            </a:r>
            <a:br>
              <a:rPr sz="3600"/>
            </a:br>
            <a:r>
              <a:rPr b="1" lang="ru-RU" sz="4800" spc="-1" strike="noStrike">
                <a:solidFill>
                  <a:srgbClr val="a50021"/>
                </a:solidFill>
                <a:latin typeface="Arial"/>
              </a:rPr>
              <a:t>День </a:t>
            </a:r>
            <a:br>
              <a:rPr sz="4800"/>
            </a:br>
            <a:r>
              <a:rPr b="1" lang="ru-RU" sz="4800" spc="-1" strike="noStrike">
                <a:solidFill>
                  <a:srgbClr val="a50021"/>
                </a:solidFill>
                <a:latin typeface="Arial"/>
              </a:rPr>
              <a:t>Конституции Р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rcRect l="0" t="0" r="0" b="4222"/>
          <a:stretch/>
        </p:blipFill>
        <p:spPr>
          <a:xfrm>
            <a:off x="5356080" y="304920"/>
            <a:ext cx="3421080" cy="4643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3646440" y="5398920"/>
            <a:ext cx="531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Конституция – основной закон стр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47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2 декабря 1993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Всенародны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голосованием была принята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онституция Российской Федерации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С 2005 года 12 декабря не является в России выходным днём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День Конститу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причислен к памятным датам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5435640" y="4221000"/>
            <a:ext cx="2925720" cy="2291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2680" y="347400"/>
            <a:ext cx="60102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К 15-летию Конституции</a:t>
            </a:r>
            <a:r>
              <a:rPr b="1" lang="ru-RU" sz="2600" spc="-1" strike="noStrike">
                <a:solidFill>
                  <a:srgbClr val="202a51"/>
                </a:solidFill>
                <a:latin typeface="Arial"/>
              </a:rPr>
              <a:t> в 2008 году Президент России </a:t>
            </a:r>
            <a:r>
              <a:rPr b="1" lang="ru-RU" sz="2600" spc="-1" strike="noStrike">
                <a:solidFill>
                  <a:srgbClr val="cc0000"/>
                </a:solidFill>
                <a:latin typeface="Arial"/>
              </a:rPr>
              <a:t>Дмитрий Медведев</a:t>
            </a:r>
            <a:r>
              <a:rPr b="1" lang="ru-RU" sz="2600" spc="-1" strike="noStrike">
                <a:solidFill>
                  <a:srgbClr val="202a51"/>
                </a:solidFill>
                <a:latin typeface="Arial"/>
              </a:rPr>
              <a:t> сказал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82640" y="2507760"/>
            <a:ext cx="5435640" cy="41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02a51"/>
                </a:solidFill>
                <a:latin typeface="Arial"/>
              </a:rPr>
              <a:t>«12 декабря 1993 года в нашей стране впервые за её историю был принят принципиально новый Основной закон – такой Закон, который признал высшей ценностью человека, его права и свободы, который установил основы демократического порядка России и обязавший государство на деле соблюдать и защищать эти новые базовые ценности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280px-Dmitry_Medvedev_official_large_photo_-5"/>
          <p:cNvPicPr/>
          <p:nvPr/>
        </p:nvPicPr>
        <p:blipFill>
          <a:blip r:embed="rId1"/>
          <a:srcRect l="0" t="4140" r="0" b="13051"/>
          <a:stretch/>
        </p:blipFill>
        <p:spPr>
          <a:xfrm>
            <a:off x="6827760" y="333360"/>
            <a:ext cx="1685880" cy="1954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388800" y="2027160"/>
            <a:ext cx="2073240" cy="3206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cc0000"/>
                </a:solidFill>
                <a:latin typeface="Times New Roman"/>
              </a:rPr>
              <a:t>Конституция Российской Федерации</a:t>
            </a: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 - это </a:t>
            </a:r>
            <a:r>
              <a:rPr b="1" i="1" lang="ru-RU" sz="2600" spc="-1" strike="noStrike">
                <a:solidFill>
                  <a:srgbClr val="cc0000"/>
                </a:solidFill>
                <a:latin typeface="Times New Roman"/>
              </a:rPr>
              <a:t>основной закон</a:t>
            </a: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нашего государства, который имеет высшую юридическую силу, прямое действие и применяется на всей территории РФ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cc0000"/>
                </a:solidFill>
                <a:latin typeface="Times New Roman"/>
              </a:rPr>
              <a:t>Конституция</a:t>
            </a:r>
            <a:r>
              <a:rPr b="1" lang="ru-RU" sz="2600" spc="-1" strike="noStrike">
                <a:solidFill>
                  <a:srgbClr val="202a51"/>
                </a:solidFill>
                <a:latin typeface="Times New Roman"/>
              </a:rPr>
              <a:t> - это основной закон государства, к которому должны быть подлажены все остальные законы. Если какой-то закон все же противоречит Конституции, то поступать следует так, как указывает о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390600"/>
            <a:ext cx="9074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онституция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398597733"/>
          <p:cNvPicPr/>
          <p:nvPr/>
        </p:nvPicPr>
        <p:blipFill>
          <a:blip r:embed="rId1"/>
          <a:stretch/>
        </p:blipFill>
        <p:spPr>
          <a:xfrm>
            <a:off x="6351480" y="5267160"/>
            <a:ext cx="1533600" cy="1047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920" y="31392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Структура Конститу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35992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еамб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Раздел перв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1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Основы конституционного строя (ст.1-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2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ава и свободы человека и гражданина (ст.17-6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3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федеральное устройство (ст.65-7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4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езидент Российской Федерации (ст.80-9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5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Федеральное собрание (ст.94-1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6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Правительство Российской Федерации (ст.110-1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7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Судебная власть (ст.118-1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8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Местное самоуправление (ст.130-13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02a51"/>
                </a:solidFill>
                <a:latin typeface="Arial"/>
              </a:rPr>
              <a:t>Глава 9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онные поправки и пересмо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                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и (ст.134-1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Раздел второй. Заключительные и переходные по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96760" y="1936800"/>
            <a:ext cx="662472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Конституция РФ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закрепляет</a:t>
            </a: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 основы конституционного строя России, права и свободы человека и гражданина, федеративное устройство, организацию высших органов государственной в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34920" y="523800"/>
            <a:ext cx="676584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онституция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russia_symbols"/>
          <p:cNvPicPr/>
          <p:nvPr/>
        </p:nvPicPr>
        <p:blipFill>
          <a:blip r:embed="rId1"/>
          <a:srcRect l="66644" t="0" r="0" b="0"/>
          <a:stretch/>
        </p:blipFill>
        <p:spPr>
          <a:xfrm>
            <a:off x="7050240" y="195120"/>
            <a:ext cx="191268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920" y="523800"/>
            <a:ext cx="907416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ши пр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По Конституции нашей страны мы имеем право на жизнь, имеем право выбирать профессию, имеем право на отдых, жилье и медицинскую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Все люди равны перед законом, и каждого из нас защищает государство, через полицию и су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794300152"/>
          <p:cNvPicPr/>
          <p:nvPr/>
        </p:nvPicPr>
        <p:blipFill>
          <a:blip r:embed="rId1"/>
          <a:stretch/>
        </p:blipFill>
        <p:spPr>
          <a:xfrm>
            <a:off x="6073920" y="4818240"/>
            <a:ext cx="1814400" cy="1333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920" y="29340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ши своб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56944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Наши свободы – свобода слова, вероисповедания и сов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По этому закону все права и свободы, данные нам государством, не должны нарушать или ущемлять права и свободы других гражд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Например, свобода слова – мы имеем право искать, собирать и распространять информацию, но не имеем права вмешиваться в личную жизнь других людей, разглашать государственную тай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94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для школь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5121360" cy="28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Каждый ученик может подробнее узнать о Конституции РФ, прочитав сам закон, или специальный справочник для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5613480" y="1538280"/>
            <a:ext cx="2909880" cy="4657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546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01720" y="1606680"/>
          <a:ext cx="8229600" cy="4470120"/>
        </p:xfrm>
        <a:graphic>
          <a:graphicData uri="http://schemas.openxmlformats.org/drawingml/2006/table">
            <a:tbl>
              <a:tblPr/>
              <a:tblGrid>
                <a:gridCol w="747720"/>
                <a:gridCol w="747720"/>
                <a:gridCol w="747720"/>
                <a:gridCol w="749160"/>
                <a:gridCol w="747720"/>
                <a:gridCol w="749520"/>
                <a:gridCol w="747720"/>
                <a:gridCol w="749160"/>
                <a:gridCol w="747720"/>
                <a:gridCol w="747720"/>
                <a:gridCol w="74772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2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6396120" y="262080"/>
            <a:ext cx="2112840" cy="2120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2"/>
          <a:stretch/>
        </p:blipFill>
        <p:spPr>
          <a:xfrm>
            <a:off x="6326280" y="4665600"/>
            <a:ext cx="2530440" cy="15811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63"/>
          <p:cNvSpPr/>
          <p:nvPr/>
        </p:nvSpPr>
        <p:spPr>
          <a:xfrm>
            <a:off x="1706400" y="1684440"/>
            <a:ext cx="26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   Е    Р   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64"/>
          <p:cNvSpPr/>
          <p:nvPr/>
        </p:nvSpPr>
        <p:spPr>
          <a:xfrm>
            <a:off x="3135240" y="2452680"/>
            <a:ext cx="623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65"/>
          <p:cNvSpPr/>
          <p:nvPr/>
        </p:nvSpPr>
        <p:spPr>
          <a:xfrm>
            <a:off x="746280" y="3211560"/>
            <a:ext cx="82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   О     Н          Т      И    Т    У    Ц     И   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67"/>
          <p:cNvSpPr/>
          <p:nvPr/>
        </p:nvSpPr>
        <p:spPr>
          <a:xfrm>
            <a:off x="2297160" y="4683240"/>
            <a:ext cx="29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            М    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157320" y="301680"/>
            <a:ext cx="9144000" cy="17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С праздником,</a:t>
            </a:r>
            <a:br>
              <a:rPr sz="5400"/>
            </a:b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 Днём Конституци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740040" y="2570040"/>
            <a:ext cx="511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Поздравляю вас с Дн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Конституци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 желаю, чтоб нашу стран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Обошли стороной револю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Чтоб она не познала войн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Пусть живет, процветает Велик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Наша Родина, гордость и че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Неприятели пусть многоли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Позабудут коварство и л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321080" y="4497480"/>
            <a:ext cx="4484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rcRect l="0" t="0" r="4179" b="2942"/>
          <a:stretch/>
        </p:blipFill>
        <p:spPr>
          <a:xfrm>
            <a:off x="506520" y="2158920"/>
            <a:ext cx="2120760" cy="2692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9"/>
          <p:cNvSpPr/>
          <p:nvPr/>
        </p:nvSpPr>
        <p:spPr>
          <a:xfrm>
            <a:off x="306360" y="4921200"/>
            <a:ext cx="25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экземпля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1720" y="855720"/>
            <a:ext cx="821376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Любая конституция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 – это докумен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который закрепляет основы конституционного строя государства, права и свободы человека и гражданина, основы общественного строя, форму правления и территориального устройства, организацию высших органов государственной власти, столицу государства и государственную символику.</a:t>
            </a:r>
            <a:r>
              <a:rPr b="0" lang="ru-RU" sz="2800" spc="-1" strike="noStrike">
                <a:solidFill>
                  <a:srgbClr val="202a5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8440" y="274320"/>
            <a:ext cx="839628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С праздником,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Днём Конституци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4510080" y="1339920"/>
            <a:ext cx="2286000" cy="2571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"/>
          <p:cNvPicPr/>
          <p:nvPr/>
        </p:nvPicPr>
        <p:blipFill>
          <a:blip r:embed="rId2"/>
          <a:stretch/>
        </p:blipFill>
        <p:spPr>
          <a:xfrm>
            <a:off x="6772320" y="1344600"/>
            <a:ext cx="2214360" cy="2571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3"/>
          <a:stretch/>
        </p:blipFill>
        <p:spPr>
          <a:xfrm>
            <a:off x="4481640" y="3921120"/>
            <a:ext cx="2214360" cy="2571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"/>
          <p:cNvPicPr/>
          <p:nvPr/>
        </p:nvPicPr>
        <p:blipFill>
          <a:blip r:embed="rId4"/>
          <a:stretch/>
        </p:blipFill>
        <p:spPr>
          <a:xfrm>
            <a:off x="6713640" y="3903840"/>
            <a:ext cx="2286000" cy="25844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155520" y="1382760"/>
            <a:ext cx="5108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 день Конституции Россий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                                        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Я от души хочу вам пожел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Лишь счастья, независимо от на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И чаще толерантность проявл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 России нашей множе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                                   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народност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Так пусть же между нами будет ми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Освободиться нужно от условност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Чтоб всех нас флаг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                                        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объедини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9" descr="532138653"/>
          <p:cNvPicPr/>
          <p:nvPr/>
        </p:nvPicPr>
        <p:blipFill>
          <a:blip r:embed="rId5"/>
          <a:stretch/>
        </p:blipFill>
        <p:spPr>
          <a:xfrm>
            <a:off x="993600" y="4334040"/>
            <a:ext cx="1165320" cy="874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4600" y="274320"/>
            <a:ext cx="85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4800" y="1665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4197240" y="1587600"/>
            <a:ext cx="4600800" cy="420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Спасибо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з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внимание!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99284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91960" y="612360"/>
            <a:ext cx="423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ГИМН РОСС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48240" y="628560"/>
            <a:ext cx="459576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Россия - священная наша держав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Россия - любимая наша стран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Могучая воля, великая слава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Твоё достоянье на все време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imes New Roman"/>
              </a:rPr>
              <a:t>Припев:</a:t>
            </a: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Славься, Отечество наше свободное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Братских народов союз веко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Предками данная мудрость народ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Славься, страна! Мы гордимся тобой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От южных морей до полярного кр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Раскинулись наши леса и п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Одна ты на свете! Одна ты такая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Хранимая Богом родная зем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imes New Roman"/>
              </a:rPr>
              <a:t>Припев</a:t>
            </a: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Славься, Отечество наше свободное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Братских народов союз веков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Предками данная мудрость народ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Славься, страна! Мы гордимся тобой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         </a:t>
            </a: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Широкий простор для мечты и для жизн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Грядущие нам открывают г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Нам силу даёт наша верность Отчиз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Так было, так есть и так будет всегда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imes New Roman"/>
              </a:rPr>
              <a:t>Припев.</a:t>
            </a:r>
            <a:r>
              <a:rPr b="0" lang="ru-RU" sz="16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55560" y="2416320"/>
            <a:ext cx="3268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Слова: Михалков С.В. советский пис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(д.р. 1913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Музыка: Александров А.В. композитор и дирижё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(1883 – 1946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83040" y="518760"/>
            <a:ext cx="340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ЛАГ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5691240" y="2279520"/>
            <a:ext cx="1905120" cy="1266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1082520" y="2171880"/>
            <a:ext cx="1857600" cy="2189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523800" y="379440"/>
            <a:ext cx="31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ГЕРБ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253120" y="4037040"/>
            <a:ext cx="30988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евнерусское понимание мира в символике цве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ый – цвет мира Божестве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ий цвет – небе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ый – цвет мира физического (природного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23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История Конституции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2920" y="1628280"/>
            <a:ext cx="661212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18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РСФ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24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36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77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2a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1993</a:t>
            </a:r>
            <a:r>
              <a:rPr b="1" lang="en-US" sz="32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02a51"/>
                </a:solidFill>
                <a:latin typeface="Arial"/>
              </a:rPr>
              <a:t>г.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6920" y="256680"/>
            <a:ext cx="7961400" cy="126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РСФСР 1918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г.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9440" y="1444320"/>
            <a:ext cx="52959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я содержала 6 разделов, 17 глав и 90 статей. Конституция 1918 г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закрепила диктатуру пролетари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Лица, жившие на нетрудовые доходы или использовавшие наемный труд были лишены политических пра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Данная Конституция была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самой идеологизированной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из всех советских конституций. Она утратила силу в связи с принятием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и 1924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220px-Обложка_Конституции_РСФСР_1918_года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40520" y="1571760"/>
            <a:ext cx="2697120" cy="3935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8960" y="460440"/>
            <a:ext cx="5353200" cy="12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924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87680" y="2018880"/>
            <a:ext cx="515160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В 1922 года I съез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Советов СССР утверд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Договор об образовании СССР. Договор подписали четыре республики: Россия, Украина, Белоруссия и Закавказье (в состав которой входили Грузия, Армения, Азербайджан). Каждая из республик уже имела свою конституцию. Съезд принял решение о разработке общесоюзной конститу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1924 года Конституция была единогласно принята II съездом Со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ussr"/>
          <p:cNvPicPr/>
          <p:nvPr/>
        </p:nvPicPr>
        <p:blipFill>
          <a:blip r:embed="rId1"/>
          <a:stretch/>
        </p:blipFill>
        <p:spPr>
          <a:xfrm>
            <a:off x="6488280" y="146160"/>
            <a:ext cx="2261880" cy="2317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595440" y="1960560"/>
            <a:ext cx="2012760" cy="3127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5480" y="379080"/>
            <a:ext cx="52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936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69448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Неофициальное название: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«Сталинская конституция»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 Несмотря на свое название, основным автором конституции был впоследствии репрессированный Николай Бухарин. В работе над текстом конституции непосредственно принимал участие И.В. Стали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0_1c0d6_199e7891_XL"/>
          <p:cNvPicPr/>
          <p:nvPr/>
        </p:nvPicPr>
        <p:blipFill>
          <a:blip r:embed="rId1"/>
          <a:srcRect l="3045" t="1386" r="2149" b="1890"/>
          <a:stretch/>
        </p:blipFill>
        <p:spPr>
          <a:xfrm>
            <a:off x="6000840" y="438120"/>
            <a:ext cx="2766960" cy="40114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3564000" y="4724280"/>
            <a:ext cx="560376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я 1936 года по замыслу авторов должна была отразить важный этап в истории Советского государства – построение социализма. В ее обсуждении впервые участвовало 75 млн.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3080" y="374400"/>
            <a:ext cx="606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1977 г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24120" y="3016080"/>
            <a:ext cx="52610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Эта конституция закрепляла однопартийную политическую систему (КПСС). Несмотря на распад СССР действовала на территории России до 1993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Вошла в историю как конституция развитого социализма» или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«Брежневская конституция»</a:t>
            </a:r>
            <a:r>
              <a:rPr b="1" lang="ru-RU" sz="2400" spc="-1" strike="noStrike">
                <a:solidFill>
                  <a:srgbClr val="202a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brezh"/>
          <p:cNvPicPr/>
          <p:nvPr/>
        </p:nvPicPr>
        <p:blipFill>
          <a:blip r:embed="rId1">
            <a:lum bright="-6000"/>
          </a:blip>
          <a:srcRect l="0" t="1087" r="0" b="0"/>
          <a:stretch/>
        </p:blipFill>
        <p:spPr>
          <a:xfrm>
            <a:off x="6324480" y="166680"/>
            <a:ext cx="1933560" cy="2644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493560" y="1882800"/>
            <a:ext cx="2252880" cy="3014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0:35:24Z</dcterms:created>
  <dc:creator>1</dc:creator>
  <dc:description/>
  <dc:language>en-US</dc:language>
  <cp:lastModifiedBy>1</cp:lastModifiedBy>
  <dcterms:modified xsi:type="dcterms:W3CDTF">2015-11-30T09:55:48Z</dcterms:modified>
  <cp:revision>64</cp:revision>
  <dc:subject/>
  <dc:title>Слайд 1</dc:title>
</cp:coreProperties>
</file>