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A46B-AB4E-427A-B9B5-542D3B20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1030-77C4-45B1-A89D-312DFF02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63B-AEC2-43E0-99A7-4011E335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439-566E-4767-96F3-886DF867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2D06-E872-4EC0-A02C-533D8E88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2AC-FCEA-4757-BD92-DB7C019A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ED7-A492-4A5F-9744-E4A125CF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4F2-51A5-4470-A1BB-9AF28EB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BB98-524B-4F30-B20B-EC6F13DC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E5C-4B2A-4588-82C0-5045F83D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6697-D7B6-4544-9596-C130D6E8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80E-1A4C-4FB1-922F-2B07400A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0745-4121-45A4-AEEE-D0DAEE665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.И. Фонвизин и его врем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радиционные элементы классицизма и новаторство в комедии «Недоросл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ала МБОУ СОШ с. Тербуны в с. Берез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евкина Р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учителя митрофана"/>
          <p:cNvPicPr/>
          <p:nvPr/>
        </p:nvPicPr>
        <p:blipFill>
          <a:blip r:embed="rId1"/>
          <a:stretch/>
        </p:blipFill>
        <p:spPr>
          <a:xfrm>
            <a:off x="1908000" y="0"/>
            <a:ext cx="554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экзамен митр"/>
          <p:cNvPicPr/>
          <p:nvPr/>
        </p:nvPicPr>
        <p:blipFill>
          <a:blip r:embed="rId1"/>
          <a:stretch/>
        </p:blipFill>
        <p:spPr>
          <a:xfrm>
            <a:off x="1908000" y="189000"/>
            <a:ext cx="5094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Милон, Софья, Стародум, Прост"/>
          <p:cNvPicPr/>
          <p:nvPr/>
        </p:nvPicPr>
        <p:blipFill>
          <a:blip r:embed="rId1"/>
          <a:stretch/>
        </p:blipFill>
        <p:spPr>
          <a:xfrm>
            <a:off x="2050920" y="189000"/>
            <a:ext cx="48974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95280" y="907920"/>
            <a:ext cx="84978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Русская комедия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начиналас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олго ещё до Фонвизина, но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началась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олько с Фонвизина. Его «Недоросль» и «Бригадир» наделали страшного шума при своем появлении и навсегда останутся в истории русской литературы, если не искусства, как одно из примечательнейших явлений. В самом деле. Эти комедии суть произведения ума сильного. Человека даровитого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.Г. Белинский «Горе от ум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2040"/>
                            </p:stCondLst>
                            <p:childTnLst>
                              <p:par>
                                <p:cTn id="4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Портрет Фонвизина"/>
          <p:cNvPicPr/>
          <p:nvPr/>
        </p:nvPicPr>
        <p:blipFill>
          <a:blip r:embed="rId1"/>
          <a:stretch/>
        </p:blipFill>
        <p:spPr>
          <a:xfrm>
            <a:off x="324000" y="907920"/>
            <a:ext cx="4248000" cy="55454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219640" y="1052640"/>
            <a:ext cx="33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292720" y="981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95280" y="189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Engravers MT"/>
              </a:rPr>
              <a:t>Денис Иванович Фонвиз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148360" y="1052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572000" y="206064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Волшебный край! Там в стары го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тиры смелый властел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Блистал Фонвизин, друг свобод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С. Пушкин. «Евгений Онег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076720" y="98100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219640" y="83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1745 -17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4572000" y="4508640"/>
            <a:ext cx="41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643280" y="4292640"/>
            <a:ext cx="48974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Сатирик превосхо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Невежество казнил в комедии нар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С. Пушкин. «Послание к цензор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портрет"/>
          <p:cNvPicPr/>
          <p:nvPr/>
        </p:nvPicPr>
        <p:blipFill>
          <a:blip r:embed="rId1"/>
          <a:stretch/>
        </p:blipFill>
        <p:spPr>
          <a:xfrm>
            <a:off x="4859280" y="620640"/>
            <a:ext cx="3960720" cy="5113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68360" y="1413000"/>
            <a:ext cx="4248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33ff"/>
                </a:solidFill>
                <a:latin typeface="Arial"/>
              </a:rPr>
              <a:t>Д.И. Фонвизин – представитель русского классицизма, автор комедии «Недоросл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611280" y="260280"/>
            <a:ext cx="813744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Литературные на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611280" y="6308640"/>
            <a:ext cx="67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2268360" y="1052640"/>
            <a:ext cx="46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763640" y="1484280"/>
            <a:ext cx="561672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иц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1763640" y="2421000"/>
            <a:ext cx="561816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ман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1835280" y="3429000"/>
            <a:ext cx="561636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нтимент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1763640" y="4541760"/>
            <a:ext cx="561672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1692360" y="5661000"/>
            <a:ext cx="5761080" cy="52056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р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79280" y="476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собенности драмы как рода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79280" y="1197000"/>
            <a:ext cx="896472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основа драмы –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речь героя – главное средство создания об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отсутствие развёрнутого повествовательно-описательного изоб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важная роль декораций и художественных деталей (интерьера, костюма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cc"/>
                </a:solidFill>
                <a:latin typeface="Times New Roman"/>
              </a:rPr>
              <a:t>авторскую позицию помогает уяснить ремарка (указание автора на поступки героев, их жесты, мимику, интонацию, паузы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539640" y="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Основные правила классической комедии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50920" y="1557360"/>
            <a:ext cx="8893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зображение повседневной жизни, людских по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ерои – люди низкого сословия, с низменными интересами, достойными осмеяния; каждый из них – носитель одной черты, одного порока; чёткое деление на положительных и отрицательных геро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ворящие фам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дна 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динство действия ( в основе комедии должен лежать один конфли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Единство места и времени (действие проходит в одном месте в течение суто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допускается героическое и трагическое ( комедия должна смехом казнить поро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тановка на разговорны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частливый 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79280" y="98100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ие из правил и приёмов классической комедии </a:t>
            </a:r>
            <a:r>
              <a:rPr b="1" i="1" lang="ru-RU" sz="3200" spc="-1" strike="noStrike" u="sng">
                <a:solidFill>
                  <a:srgbClr val="009900"/>
                </a:solidFill>
                <a:uFillTx/>
                <a:latin typeface="Times New Roman"/>
              </a:rPr>
              <a:t>сохранил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Д.И. Фонвизин, а какие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наруши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26920" y="26028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оду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64000" y="2852640"/>
            <a:ext cx="378000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ступление от единства действия ( в комедии «Недоросль» две сюжетные лин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рицательные герои интересны и неоднознач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и создании характеров героев используется речевая характерис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счастливый 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2492280"/>
            <a:ext cx="55800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единство места (деревня Простаков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единство времени (одни сут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одна идея ( воспитание достойного граждан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деление героев на отрицательных и полож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9900"/>
                </a:solidFill>
                <a:latin typeface="Arial"/>
              </a:rPr>
              <a:t>«говорящие» фамилии, подчеркивающие доминантную черту характера, носителем которой является персона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9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84360" y="189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родолжите афоризмы Старод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0" y="126828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чинаются чины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916360" y="126828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стаёт искр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0" y="1989000"/>
            <a:ext cx="50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мей сердце, имей душ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564000" y="19890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 будешь человек на всякое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0" y="2708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вежда без души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43280" y="270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ве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0" y="3500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лупому сыну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2411280" y="3500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в помощь богат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0" y="42829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 большом свете вод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851280" y="4292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мелкие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0" y="508464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личные деньг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843280" y="5084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наличные достои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илл"/>
          <p:cNvPicPr/>
          <p:nvPr/>
        </p:nvPicPr>
        <p:blipFill>
          <a:blip r:embed="rId1"/>
          <a:stretch/>
        </p:blipFill>
        <p:spPr>
          <a:xfrm>
            <a:off x="4896000" y="189000"/>
            <a:ext cx="4248000" cy="6146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2276640"/>
            <a:ext cx="50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берите цитаты из текста комедии Фонвизина «Недоросль» к иллюстрациям Т.Костер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4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3:32:28Z</dcterms:created>
  <dc:creator>Genya</dc:creator>
  <dc:description/>
  <dc:language>en-US</dc:language>
  <cp:lastModifiedBy>Николай Веревкин</cp:lastModifiedBy>
  <dcterms:modified xsi:type="dcterms:W3CDTF">2023-12-13T14:50:14Z</dcterms:modified>
  <cp:revision>65</cp:revision>
  <dc:subject/>
  <dc:title>Слайд 1</dc:title>
</cp:coreProperties>
</file>