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68D-4695-4167-A817-A1BC95A9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452-AB25-420A-A917-A649F2F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9CC-98C0-4752-BE65-AA376CB4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0C7-A299-4A30-BA24-3D830C0F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DA6-B03F-49F7-8B9D-94C9F6DF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23C-3B38-4BEF-BE30-66795CDF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EDA-A08F-470E-A650-D7D13A62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D99-FA34-47D1-BADA-5DEFCAF6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BD9-539D-4851-8473-476891D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26E-0E93-4BD8-93E9-4FF51CF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7BF-4CE8-4C35-BDEF-50DD1FF3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E15-32F5-44E1-80AA-9F08A75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1E1D-BF4E-4BBD-BA93-35BAF9533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И. Фонвизин и его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диционные элементы классицизма и новаторство в комедии «Недорос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ала МБОУ СОШ с. Тербуны в с. Берез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евкина Р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учителя митрофана"/>
          <p:cNvPicPr/>
          <p:nvPr/>
        </p:nvPicPr>
        <p:blipFill>
          <a:blip r:embed="rId1"/>
          <a:stretch/>
        </p:blipFill>
        <p:spPr>
          <a:xfrm>
            <a:off x="190800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экзамен митр"/>
          <p:cNvPicPr/>
          <p:nvPr/>
        </p:nvPicPr>
        <p:blipFill>
          <a:blip r:embed="rId1"/>
          <a:stretch/>
        </p:blipFill>
        <p:spPr>
          <a:xfrm>
            <a:off x="1908000" y="189000"/>
            <a:ext cx="509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Милон, Софья, Стародум, Прост"/>
          <p:cNvPicPr/>
          <p:nvPr/>
        </p:nvPicPr>
        <p:blipFill>
          <a:blip r:embed="rId1"/>
          <a:stretch/>
        </p:blipFill>
        <p:spPr>
          <a:xfrm>
            <a:off x="2050920" y="189000"/>
            <a:ext cx="4897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95280" y="907920"/>
            <a:ext cx="8497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Русская комеди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начиналас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олго ещё до Фонвизина, но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началась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ько с Фонвизина. Его «Недоросль» и «Бригадир» наделали страшного шума при своем появлении и навсегда останутся в истории русской литературы, если не искусства, как одно из примечательнейших явлений. В самом деле. Эти комедии суть произведения ума сильного. Человека даровито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.Г. Белинский «Горе от у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2040"/>
                            </p:stCondLst>
                            <p:childTnLst>
                              <p:par>
                                <p:cTn id="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ортрет Фонвизина"/>
          <p:cNvPicPr/>
          <p:nvPr/>
        </p:nvPicPr>
        <p:blipFill>
          <a:blip r:embed="rId1"/>
          <a:stretch/>
        </p:blipFill>
        <p:spPr>
          <a:xfrm>
            <a:off x="324000" y="907920"/>
            <a:ext cx="4248000" cy="5545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219640" y="105264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292720" y="981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Engravers MT"/>
              </a:rPr>
              <a:t>Денис Иванович Фонвиз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148360" y="1052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0" y="206064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олшебный край! Там в стары г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тиры смелый властел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листал Фонвизин, друг свобод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. Пушкин. «Евгений Онег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076720" y="981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219640" y="83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745 -17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4572000" y="450864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643280" y="4292640"/>
            <a:ext cx="4897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тирик превосх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евежество казнил в комедии на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. Пушкин. «Послание к цензо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портрет"/>
          <p:cNvPicPr/>
          <p:nvPr/>
        </p:nvPicPr>
        <p:blipFill>
          <a:blip r:embed="rId1"/>
          <a:stretch/>
        </p:blipFill>
        <p:spPr>
          <a:xfrm>
            <a:off x="4859280" y="620640"/>
            <a:ext cx="3960720" cy="5113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8360" y="1413000"/>
            <a:ext cx="424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ff"/>
                </a:solidFill>
                <a:latin typeface="Arial"/>
              </a:rPr>
              <a:t>Д.И. Фонвизин – представитель русского классицизма, автор комедии «Недорос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611280" y="260280"/>
            <a:ext cx="813744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Литературные на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11280" y="6308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68360" y="105264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763640" y="1484280"/>
            <a:ext cx="561672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ц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763640" y="2421000"/>
            <a:ext cx="561816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835280" y="3429000"/>
            <a:ext cx="561636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нтимент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763640" y="4541760"/>
            <a:ext cx="561672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2360" y="5661000"/>
            <a:ext cx="57610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р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79280" y="476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обенности драмы как рода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79280" y="1197000"/>
            <a:ext cx="896472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основа драмы –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речь героя – главное средство создания об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отсутствие развёрнутого повествовательно-описательного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важная роль декораций и художественных деталей (интерьера, костюма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авторскую позицию помогает уяснить ремарка (указание автора на поступки героев, их жесты, мимику, интонацию, паузы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39640" y="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сновные правила классической комедии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1557360"/>
            <a:ext cx="8893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ображение повседневной жизни, людских по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рои – люди низкого сословия, с низменными интересами, достойными осмеяния; каждый из них – носитель одной черты, одного порока; чёткое деление на положительных и отрицательных 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ворящие фам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дна 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динство действия ( в основе комедии должен лежать один конфли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динство места и времени (действие проходит в одном месте в течение сут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допускается героическое и трагическое ( комедия должна смехом казнить по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тановка на разговор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й 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79280" y="9810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ие из правил и приёмов классической комедии </a:t>
            </a:r>
            <a:r>
              <a:rPr b="1" i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сохранил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Д.И. Фонвизин, а какие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наруш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26920" y="260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64000" y="2852640"/>
            <a:ext cx="3780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тупление от единства действия ( в комедии «Недоросль» две сюжетные лин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ицательные герои интересны и неоднозна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создании характеров героев используется речевая характерис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частливый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2492280"/>
            <a:ext cx="5580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единство места (деревня Простаков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единство времени (одни сут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одна идея ( воспитание достойного граждан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деление героев на отрицательных и полож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«говорящие» фамилии, подчеркивающие доминантную черту характера, носителем которой является персон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1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родолжите афоризмы Старод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126828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чинаются чины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916360" y="12682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стаёт иск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198900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мей сердце, имей душ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564000" y="1989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будешь человек на всяк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0" y="2708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вежда без души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43280" y="270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0" y="3500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лупому сыну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411280" y="3500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в помощь богат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0" y="42829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большом свете вод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851280" y="4292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мелкие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0" y="508464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личные деньг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843280" y="508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наличные досто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илл"/>
          <p:cNvPicPr/>
          <p:nvPr/>
        </p:nvPicPr>
        <p:blipFill>
          <a:blip r:embed="rId1"/>
          <a:stretch/>
        </p:blipFill>
        <p:spPr>
          <a:xfrm>
            <a:off x="4896000" y="189000"/>
            <a:ext cx="4248000" cy="6146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227664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берите цитаты из текста комедии Фонвизина «Недоросль» к иллюстрациям Т.Костер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3:32:28Z</dcterms:created>
  <dc:creator>Genya</dc:creator>
  <dc:description/>
  <dc:language>en-US</dc:language>
  <cp:lastModifiedBy>Николай Веревкин</cp:lastModifiedBy>
  <dcterms:modified xsi:type="dcterms:W3CDTF">2023-12-13T14:50:14Z</dcterms:modified>
  <cp:revision>65</cp:revision>
  <dc:subject/>
  <dc:title>Слайд 1</dc:title>
</cp:coreProperties>
</file>