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4.png" ContentType="image/png"/>
  <Override PartName="/ppt/media/image11.jpeg" ContentType="image/jpeg"/>
  <Override PartName="/ppt/media/image6.png" ContentType="image/png"/>
  <Override PartName="/ppt/media/image7.png" ContentType="image/png"/>
  <Override PartName="/ppt/media/image34.jpeg" ContentType="image/jpeg"/>
  <Override PartName="/ppt/media/image18.jpeg" ContentType="image/jpeg"/>
  <Override PartName="/ppt/media/image8.gif" ContentType="image/gif"/>
  <Override PartName="/ppt/media/image30.jpeg" ContentType="image/jpeg"/>
  <Override PartName="/ppt/media/image31.jpeg" ContentType="image/jpeg"/>
  <Override PartName="/ppt/media/image2.png" ContentType="image/png"/>
  <Override PartName="/ppt/media/image32.jpeg" ContentType="image/jpeg"/>
  <Override PartName="/ppt/media/image36.jpeg" ContentType="image/jpeg"/>
  <Override PartName="/ppt/media/image37.jpeg" ContentType="image/jpeg"/>
  <Override PartName="/ppt/media/image22.jpeg" ContentType="image/jpeg"/>
  <Override PartName="/ppt/media/image9.png" ContentType="image/png"/>
  <Override PartName="/ppt/media/image39.jpeg" ContentType="image/jpeg"/>
  <Override PartName="/ppt/media/image5.png" ContentType="image/png"/>
  <Override PartName="/ppt/media/image38.jpeg" ContentType="image/jpeg"/>
  <Override PartName="/ppt/media/image28.png" ContentType="image/png"/>
  <Override PartName="/ppt/media/image35.jpeg" ContentType="image/jpeg"/>
  <Override PartName="/ppt/media/image10.png" ContentType="image/pn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9071C-3508-4226-8DE9-C85F0D74EB3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42ED3-3F0A-4475-A8F8-3EB8D5EAE7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BD07B-1F01-4F06-B61B-0FFBBB3397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8F411-30A2-451F-AB87-6B8179F9E4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C0549-3F2D-4B27-A630-EBF6DCF0DC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CD24-55F6-46F3-B587-09B0666C8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75A9-09E1-48A1-8BE8-98F4BAF04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1449-9F1F-4367-B328-9B3078D4E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7DA7-42A3-4A37-9D15-CEC861CD8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71D66-71D6-4E7D-A099-66CE581BC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A3A8F-83E3-4797-9097-82CB5CC32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00E5D-349C-4985-901D-BB850A06D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00C65-29E0-45A7-BF7E-FEB9F4F38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B26B9-2018-40A6-89FA-8FD5BABD3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B89D7-A183-468D-A379-82C29A073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799EF-C1A3-4F01-AB16-F7E20A92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5CD9-0C84-4C24-A999-D830D08EE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D5646-1F6F-4C8D-AC97-B5A316AA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819DE-A0F9-4415-8FEF-0845DA9D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5F637-B118-45FA-B277-32635DAC6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52181-D55A-442A-8C53-E33AEC7F8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FBC82-CE25-46FF-BFBD-6A5639A56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F9EC-2137-4E29-A9B6-15E289810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E044-C2F6-4A7F-BC56-FF4C277A6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BD8D-1276-4CAF-8BF8-544CA22AC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2A61-CA85-4604-B363-D04EFCF6C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B131-426E-4C82-87CC-93DAF1CA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F633-76EB-493D-85EB-9F264B0B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C5B1-9155-4337-B920-1D59CF28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gi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7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35DAD-1361-4A9F-B84F-DEBE7161F25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 rot="10800000">
            <a:off x="0" y="6629040"/>
            <a:ext cx="9144000" cy="2286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8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46"/>
          <p:cNvGrpSpPr/>
          <p:nvPr/>
        </p:nvGrpSpPr>
        <p:grpSpPr>
          <a:xfrm>
            <a:off x="0" y="3657600"/>
            <a:ext cx="9144000" cy="3200400"/>
            <a:chOff x="0" y="3657600"/>
            <a:chExt cx="9144000" cy="3200400"/>
          </a:xfrm>
        </p:grpSpPr>
        <p:pic>
          <p:nvPicPr>
            <p:cNvPr id="48" name="Picture 47" descr="7"/>
            <p:cNvPicPr/>
            <p:nvPr/>
          </p:nvPicPr>
          <p:blipFill>
            <a:blip r:embed="rId2"/>
            <a:stretch/>
          </p:blipFill>
          <p:spPr>
            <a:xfrm rot="10800000">
              <a:off x="0" y="3657240"/>
              <a:ext cx="914400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48" descr="04"/>
            <p:cNvPicPr/>
            <p:nvPr/>
          </p:nvPicPr>
          <p:blipFill>
            <a:blip r:embed="rId3"/>
            <a:stretch/>
          </p:blipFill>
          <p:spPr>
            <a:xfrm rot="10800000">
              <a:off x="2448000" y="5694480"/>
              <a:ext cx="1361880" cy="116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10" descr="123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1" name="Picture 34" descr="water_2"/>
          <p:cNvPicPr/>
          <p:nvPr/>
        </p:nvPicPr>
        <p:blipFill>
          <a:blip r:embed="rId5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fire14"/>
          <p:cNvPicPr/>
          <p:nvPr/>
        </p:nvPicPr>
        <p:blipFill>
          <a:blip r:embed="rId6"/>
          <a:stretch/>
        </p:blipFill>
        <p:spPr>
          <a:xfrm>
            <a:off x="1295280" y="7621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1" descr="B_Fly26"/>
          <p:cNvPicPr/>
          <p:nvPr/>
        </p:nvPicPr>
        <p:blipFill>
          <a:blip r:embed="rId7"/>
          <a:stretch/>
        </p:blipFill>
        <p:spPr>
          <a:xfrm>
            <a:off x="609480" y="449280"/>
            <a:ext cx="990720" cy="892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2" descr="B_Fly26"/>
          <p:cNvPicPr/>
          <p:nvPr/>
        </p:nvPicPr>
        <p:blipFill>
          <a:blip r:embed="rId8"/>
          <a:stretch/>
        </p:blipFill>
        <p:spPr>
          <a:xfrm>
            <a:off x="609480" y="380880"/>
            <a:ext cx="990720" cy="89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3" descr="bupestrid beetle 5"/>
          <p:cNvPicPr/>
          <p:nvPr/>
        </p:nvPicPr>
        <p:blipFill>
          <a:blip r:embed="rId9"/>
          <a:stretch/>
        </p:blipFill>
        <p:spPr>
          <a:xfrm>
            <a:off x="7467480" y="6259680"/>
            <a:ext cx="838440" cy="322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6" name="Picture 55" descr="WB01292_"/>
          <p:cNvPicPr/>
          <p:nvPr/>
        </p:nvPicPr>
        <p:blipFill>
          <a:blip r:embed="rId10"/>
          <a:stretch/>
        </p:blipFill>
        <p:spPr>
          <a:xfrm>
            <a:off x="228600" y="5105520"/>
            <a:ext cx="399960" cy="3999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0353A-A88D-4940-A2F2-1FFD817D71B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  <a:ea typeface="Aharoni"/>
              </a:rPr>
              <a:t>Писатели о природ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человек любит и знает природу, он никогда не навредит ей, а преумножит её богат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водчики с бессловесного» - так он называл себя и своих собратьев по перу, писателей, которые тоже писали о животных. Человек буквально влюблённый в природу, как никто другой знающий её, Виталий Бианки большую часть жизни посвятил описанию мира загадочного и неповторимого, таинственного и удивительно разнообразного – мира русского леса и его обитателе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5153e"/>
                </a:solidFill>
                <a:latin typeface="Arial"/>
              </a:rPr>
              <a:t>Виталий Бианки о себе</a:t>
            </a:r>
            <a:br>
              <a:rPr sz="4000"/>
            </a:br>
            <a:r>
              <a:rPr b="0" lang="ru-RU" sz="4000" spc="-1" strike="noStrike">
                <a:solidFill>
                  <a:srgbClr val="75153e"/>
                </a:solidFill>
                <a:latin typeface="Arial"/>
              </a:rPr>
              <a:t>Сколько часов терпеливых провёл я</a:t>
            </a:r>
            <a:br>
              <a:rPr sz="4000"/>
            </a:br>
            <a:r>
              <a:rPr b="0" lang="ru-RU" sz="4000" spc="-1" strike="noStrike">
                <a:solidFill>
                  <a:srgbClr val="75153e"/>
                </a:solidFill>
                <a:latin typeface="Arial"/>
              </a:rPr>
              <a:t>В лёгких шалашиках из корабельных корзин,</a:t>
            </a:r>
            <a:br>
              <a:rPr sz="4000"/>
            </a:br>
            <a:r>
              <a:rPr b="0" lang="ru-RU" sz="4000" spc="-1" strike="noStrike">
                <a:solidFill>
                  <a:srgbClr val="75153e"/>
                </a:solidFill>
                <a:latin typeface="Arial"/>
              </a:rPr>
              <a:t>Высохшей тины и веток, – птиц наблюдая,</a:t>
            </a:r>
            <a:br>
              <a:rPr sz="4000"/>
            </a:br>
            <a:r>
              <a:rPr b="0" lang="ru-RU" sz="4000" spc="-1" strike="noStrike">
                <a:solidFill>
                  <a:srgbClr val="75153e"/>
                </a:solidFill>
                <a:latin typeface="Arial"/>
              </a:rPr>
              <a:t>Птицам невидимый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5153e"/>
                </a:solidFill>
                <a:latin typeface="Arial"/>
              </a:rPr>
              <a:t>Детские и взрослые сказки семьи Бианк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Рисунок 8" descr="Валентин Львович Бианки"/>
          <p:cNvPicPr/>
          <p:nvPr/>
        </p:nvPicPr>
        <p:blipFill>
          <a:blip r:embed="rId1"/>
          <a:stretch/>
        </p:blipFill>
        <p:spPr>
          <a:xfrm>
            <a:off x="5942160" y="1219320"/>
            <a:ext cx="2566800" cy="42544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5"/>
          <p:cNvSpPr/>
          <p:nvPr/>
        </p:nvSpPr>
        <p:spPr>
          <a:xfrm>
            <a:off x="228600" y="1095120"/>
            <a:ext cx="56386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5153e"/>
                </a:solidFill>
                <a:latin typeface="Arial"/>
              </a:rPr>
              <a:t>Бианки – это семья, – династия, в которой из поколения в поколение передается не просто знание биологии как ремесло, не просто романтическая любовь к природе, но прямая физическая невозможность жить в отрыве от природ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5153e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75153e"/>
                </a:solidFill>
                <a:latin typeface="Arial"/>
              </a:rPr>
              <a:t>Отец – ученый-орнитол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5153e"/>
                </a:solidFill>
                <a:latin typeface="Arial"/>
              </a:rPr>
              <a:t>Виталий Бианки о своем детств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515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5153e"/>
                </a:solidFill>
                <a:latin typeface="Arial"/>
              </a:rPr>
              <a:t>«Всё в детстве было для меня телесно и душевно. Всё – от человека до камня – обладало своим ароматом, цветом, голосом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515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5153e"/>
                </a:solidFill>
                <a:latin typeface="Arial"/>
              </a:rPr>
              <a:t>«Отец рано начал брать меня с собой в лес. Он каждую травку, каждую птицу и зверюшку называл мне по имени, отечеству и фамилии. Учил меня узнавать птиц по виду, по голосу, по полёту, разыскивать самые скрытые гнёзда. Учил по тысячам примет находить тайно от человека живущих звер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5153e"/>
                </a:solidFill>
                <a:latin typeface="Arial"/>
              </a:rPr>
              <a:t>  </a:t>
            </a:r>
            <a:r>
              <a:rPr b="0" lang="ru-RU" sz="2400" spc="-1" strike="noStrike">
                <a:solidFill>
                  <a:srgbClr val="75153e"/>
                </a:solidFill>
                <a:latin typeface="Arial"/>
              </a:rPr>
              <a:t>Виталий Бианки. Отчего я пишу про ле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 пытался понять, о чём разговаривают птицы, почему так не похожи лапы у крота и ноги у цапли, зачем одному природа подарила длиннющий нос, а другому достался махонький носишко, отчего одни животные строят домишки на деревьях, другие – в чистом поле, а третьи – под водой. Все эти непростые вопросы не давали Бианки поко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о всём, что увидел и узнал, Виталий Валентинович решил рассказать девчонкам и мальчишкам. И начал писать детские книжки, помогая ребятам тоже проникнуть в чудесные тайны природы, которая и стала главной героиней его замечательных произве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хнатых и пернатых, обитающих на страницах книжек Бианки, невозможно не полюбить, Виталий Валентинович рассказывает об их повадках, о ловкости, хитрости, умении спасаться и прятаться так, что от книжки оторваться невозможно. В самом обыкновенном он умеет показать новое, не замеченное нами.С волнением следим мы за приключениями маленького путешественника — мышонка Пика, переживаем из-за бедного муравьишки, попавшего в беду, размышляем о том, чей нос лучше, удивлённо узнаём, кто чем поё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 rot="21386400">
            <a:off x="480600" y="274320"/>
            <a:ext cx="8229600" cy="19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5153e"/>
                </a:solidFill>
                <a:latin typeface="Arial"/>
              </a:rPr>
              <a:t>Книжка для детей про пти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Рисунок 5" descr="Рис. М.Митурича к рассказу В.Бианки «Первая охота»"/>
          <p:cNvPicPr/>
          <p:nvPr/>
        </p:nvPicPr>
        <p:blipFill>
          <a:blip r:embed="rId1"/>
          <a:stretch/>
        </p:blipFill>
        <p:spPr>
          <a:xfrm>
            <a:off x="6058080" y="1371600"/>
            <a:ext cx="2143080" cy="285768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7" descr="Рис. В.Алексеевой к сказке В.Бианки «Лесные домишки»"/>
          <p:cNvPicPr/>
          <p:nvPr/>
        </p:nvPicPr>
        <p:blipFill>
          <a:blip r:embed="rId2"/>
          <a:stretch/>
        </p:blipFill>
        <p:spPr>
          <a:xfrm>
            <a:off x="4038480" y="3429000"/>
            <a:ext cx="1967040" cy="27050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838080" y="201780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1812960" y="2170080"/>
            <a:ext cx="3292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533520" y="2133720"/>
            <a:ext cx="655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5153e"/>
                </a:solidFill>
                <a:latin typeface="Arial"/>
              </a:rPr>
              <a:t>«Чей нос лучше?» - маленькая энциклопедия знаний о птиц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5153e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75153e"/>
                </a:solidFill>
                <a:latin typeface="Arial"/>
              </a:rPr>
              <a:t>вышла в 1923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5153e"/>
                </a:solidFill>
                <a:latin typeface="Arial"/>
              </a:rPr>
              <a:t>Лесные сказки и рассказ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Рисунок 3" descr="Рис. Н.Тырсы к «Снежной книге» В.Бианки"/>
          <p:cNvPicPr/>
          <p:nvPr/>
        </p:nvPicPr>
        <p:blipFill>
          <a:blip r:embed="rId1"/>
          <a:stretch/>
        </p:blipFill>
        <p:spPr>
          <a:xfrm>
            <a:off x="6943680" y="1143000"/>
            <a:ext cx="2200320" cy="251460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6" descr="Рис. А.Якобсон к рассказу В.Бианки «Латка»"/>
          <p:cNvPicPr/>
          <p:nvPr/>
        </p:nvPicPr>
        <p:blipFill>
          <a:blip r:embed="rId2"/>
          <a:stretch/>
        </p:blipFill>
        <p:spPr>
          <a:xfrm>
            <a:off x="4038480" y="3733920"/>
            <a:ext cx="2781360" cy="24573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6"/>
          <p:cNvSpPr/>
          <p:nvPr/>
        </p:nvSpPr>
        <p:spPr>
          <a:xfrm>
            <a:off x="1355760" y="1865160"/>
            <a:ext cx="359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0" y="2133720"/>
            <a:ext cx="7086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5153e"/>
                </a:solidFill>
                <a:latin typeface="Arial"/>
              </a:rPr>
              <a:t>«Лесные домишки», «Лесные происшествия», «Как муравьишка домой спешил», «Кто чем поет», «Лесная газета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сная газ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 самой знаменитой книгой Бианки стала «Лесная газета». Другой подобной просто не было. Газета представляет собой детский настольный календарь природы, разделенный на 12 частей, соответствующих 12 месяцам в году. Все самое любопытное, самое необычное и самое обычное, что происходило в природе каждый месяц и день, попало на страницы «Лесной газеты». Это большая настоящая газета со своей передовицей, объявлениями, телеграммами – обо всём, что происходит в лесу. Здесь можно было найти объявление скворцов «Ищем квартиры» или сообщение о первом «ку-ку», прозвучавшем в парке, или отзыв о спектакле, который давали на тихом лесном озере птицы-чомги. Была даже уголовная хроника: беда в лесу не редкость. Бианки работал над ней с 1924 года до конца жизни, постоянно внося какие-то изменения. С 1928 года она несколько раз переиздавалась, становилась толще, ее переводили на разные языки мира. Рассказы из «Лесной газеты» звучали по радио, печатались, наряду с другими произведениями Бианки, на страниц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4L+"/>
          <p:cNvPicPr/>
          <p:nvPr/>
        </p:nvPicPr>
        <p:blipFill>
          <a:blip r:embed="rId1"/>
          <a:stretch/>
        </p:blipFill>
        <p:spPr>
          <a:xfrm>
            <a:off x="4876920" y="3629160"/>
            <a:ext cx="4267080" cy="280008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5153e"/>
                </a:solidFill>
                <a:latin typeface="Arial"/>
              </a:rPr>
              <a:t>«Лесная газета на каждый год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5153e"/>
                </a:solidFill>
                <a:latin typeface="Arial"/>
              </a:rPr>
              <a:t>«Лесная газета» - книга о непрерывном круговороте явлений в живой природе, это энциклопедия русской прир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30BelyiGr-"/>
          <p:cNvPicPr/>
          <p:nvPr/>
        </p:nvPicPr>
        <p:blipFill>
          <a:blip r:embed="rId2"/>
          <a:stretch/>
        </p:blipFill>
        <p:spPr>
          <a:xfrm>
            <a:off x="2971800" y="3276720"/>
            <a:ext cx="2182680" cy="3352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ZimaKholoda"/>
          <p:cNvPicPr/>
          <p:nvPr/>
        </p:nvPicPr>
        <p:blipFill>
          <a:blip r:embed="rId3"/>
          <a:stretch/>
        </p:blipFill>
        <p:spPr>
          <a:xfrm>
            <a:off x="380880" y="3124080"/>
            <a:ext cx="24894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3657600" cy="345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ьфред Брем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829-188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1a996663cc48d0d4277b8f195cfc9dcd"/>
          <p:cNvPicPr/>
          <p:nvPr/>
        </p:nvPicPr>
        <p:blipFill>
          <a:blip r:embed="rId1"/>
          <a:stretch/>
        </p:blipFill>
        <p:spPr>
          <a:xfrm>
            <a:off x="4419720" y="990720"/>
            <a:ext cx="4365360" cy="49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5153e"/>
                </a:solidFill>
                <a:latin typeface="Arial"/>
              </a:rPr>
              <a:t>Ягоды из-под сне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Klyukva="/>
          <p:cNvPicPr/>
          <p:nvPr/>
        </p:nvPicPr>
        <p:blipFill>
          <a:blip r:embed="rId1"/>
          <a:stretch/>
        </p:blipFill>
        <p:spPr>
          <a:xfrm>
            <a:off x="762120" y="1289160"/>
            <a:ext cx="7543800" cy="52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Май - месяц песен и пляс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39Les-"/>
          <p:cNvPicPr/>
          <p:nvPr/>
        </p:nvPicPr>
        <p:blipFill>
          <a:blip r:embed="rId1"/>
          <a:stretch/>
        </p:blipFill>
        <p:spPr>
          <a:xfrm>
            <a:off x="4267080" y="2666880"/>
            <a:ext cx="5562720" cy="39355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Cherem"/>
          <p:cNvPicPr/>
          <p:nvPr/>
        </p:nvPicPr>
        <p:blipFill>
          <a:blip r:embed="rId2"/>
          <a:stretch/>
        </p:blipFill>
        <p:spPr>
          <a:xfrm>
            <a:off x="228600" y="1143000"/>
            <a:ext cx="5029200" cy="32511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DnPavlGlaz"/>
          <p:cNvPicPr/>
          <p:nvPr/>
        </p:nvPicPr>
        <p:blipFill>
          <a:blip r:embed="rId3"/>
          <a:stretch/>
        </p:blipFill>
        <p:spPr>
          <a:xfrm>
            <a:off x="609480" y="4267080"/>
            <a:ext cx="37339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идцать пять лет писал Бианки о лесе. Это слово часто звучало в названиях его книг: «Лесные домишки», «Лесные разведчики». Повести, рассказы, сказки Бианки своеобразно соединили в себе поэзию и точное знание. Последние он даже называл по-особенному: сказки-несказки. Он написал более 300 сказок, рассказов о природе, в числе которых такие, как Первая охота (1923), Кто чем поет (1923), Как Муравьишка домой спешил (1935), Сказки зверолова (1937) и др. По некоторым из них (Оранжевое горлышко (1937, и др.) сняты мультфиль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-609480" y="0"/>
            <a:ext cx="9502560" cy="24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ихаил Михайлович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шв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( 1873-195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3733920" y="1557360"/>
            <a:ext cx="5230800" cy="47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 Если бы природа могла чувствовать благодарность к человеку за то, что он проник в её жизнь и воспел её, то прежде всего эта благодарность выпала бы на долю Михаила Пришвина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Константин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аустов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prishvin"/>
          <p:cNvPicPr/>
          <p:nvPr/>
        </p:nvPicPr>
        <p:blipFill>
          <a:blip r:embed="rId1"/>
          <a:stretch/>
        </p:blipFill>
        <p:spPr>
          <a:xfrm>
            <a:off x="250920" y="2133720"/>
            <a:ext cx="3303360" cy="4267080"/>
          </a:xfrm>
          <a:prstGeom prst="rect">
            <a:avLst/>
          </a:prstGeom>
          <a:ln w="101520">
            <a:solidFill>
              <a:srgbClr val="0000ff"/>
            </a:solidFill>
            <a:miter/>
          </a:ln>
          <a:effectLst>
            <a:outerShdw dist="134955" dir="2472880" blurRad="0" rotWithShape="0">
              <a:srgbClr val="ff9933"/>
            </a:outerShdw>
          </a:effectLst>
        </p:spPr>
      </p:pic>
      <p:sp>
        <p:nvSpPr>
          <p:cNvPr id="174" name="Скругленный прямоугольник 6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[LI6RK_16-01]_[IL_02]-k"/>
          <p:cNvPicPr/>
          <p:nvPr/>
        </p:nvPicPr>
        <p:blipFill>
          <a:blip r:embed="rId1"/>
          <a:stretch/>
        </p:blipFill>
        <p:spPr>
          <a:xfrm>
            <a:off x="468360" y="1052640"/>
            <a:ext cx="3768840" cy="4968720"/>
          </a:xfrm>
          <a:prstGeom prst="rect">
            <a:avLst/>
          </a:prstGeom>
          <a:ln w="76320">
            <a:solidFill>
              <a:srgbClr val="0033cc"/>
            </a:solidFill>
            <a:miter/>
          </a:ln>
        </p:spPr>
      </p:pic>
      <p:sp>
        <p:nvSpPr>
          <p:cNvPr id="176" name="Rectangle 5"/>
          <p:cNvSpPr/>
          <p:nvPr/>
        </p:nvSpPr>
        <p:spPr>
          <a:xfrm>
            <a:off x="4572000" y="1341360"/>
            <a:ext cx="457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дился Михаил в селе Хрущево-Лёвшино Орловской губернии в купеческой семье. Его отцу досталось богатое наследство, которое он истрати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вое образование в биографии Михаила Пришвина было получено в деревенской школе. Затем же он стал обучаться в Елецкой гимназ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39640" y="69192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швин много ходи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лесам,  путешествовал, собирал фольклор. В 1906 году в биографии Михаила Пришвина впервые был опубликован его рассказ – «Сашок». Затем вышли его книги с очерками: «В краю непуганых птиц» (1907), «За волшебным колобком» (1908), «У стен града невидимого» (1908). С 1912 по 1914 год вышло первое собрание сочинений писателя. Следующими книгами Пришвина были: «Календарь природы» (1935), «Кащеева цепь», «Дорогие звери», повесть «Жень-шень» и многие другие. Также высоко ценятся его днев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1pr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04920" y="457200"/>
            <a:ext cx="3592440" cy="5562720"/>
          </a:xfrm>
          <a:prstGeom prst="rect">
            <a:avLst/>
          </a:prstGeom>
          <a:ln w="88920">
            <a:solidFill>
              <a:srgbClr val="0000ff"/>
            </a:solidFill>
            <a:miter/>
          </a:ln>
          <a:effectLst>
            <a:outerShdw dist="17819" dir="2700000" blurRad="0" rotWithShape="0">
              <a:srgbClr val="ff9933"/>
            </a:outerShdw>
          </a:effectLst>
        </p:spPr>
      </p:pic>
      <p:pic>
        <p:nvPicPr>
          <p:cNvPr id="179" name="Picture 3" descr="2pr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4211640" y="1413000"/>
            <a:ext cx="4681440" cy="3773520"/>
          </a:xfrm>
          <a:prstGeom prst="rect">
            <a:avLst/>
          </a:prstGeom>
          <a:ln w="88920">
            <a:solidFill>
              <a:srgbClr val="0000ff"/>
            </a:solidFill>
            <a:miter/>
          </a:ln>
          <a:effectLst>
            <a:outerShdw dist="17819" dir="2700000" blurRad="0" rotWithShape="0">
              <a:srgbClr val="ff9933"/>
            </a:outerShdw>
          </a:effectLst>
        </p:spPr>
      </p:pic>
      <p:sp>
        <p:nvSpPr>
          <p:cNvPr id="180" name="Text Box 4"/>
          <p:cNvSpPr/>
          <p:nvPr/>
        </p:nvSpPr>
        <p:spPr>
          <a:xfrm>
            <a:off x="3780000" y="260280"/>
            <a:ext cx="554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ниги Пришвина для дет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3" descr="_910218274[1]"/>
          <p:cNvPicPr/>
          <p:nvPr/>
        </p:nvPicPr>
        <p:blipFill>
          <a:blip r:embed="rId1"/>
          <a:stretch/>
        </p:blipFill>
        <p:spPr>
          <a:xfrm>
            <a:off x="304920" y="1295280"/>
            <a:ext cx="2295360" cy="3657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83" name="Picture 4" descr="300324241[1]"/>
          <p:cNvPicPr/>
          <p:nvPr/>
        </p:nvPicPr>
        <p:blipFill>
          <a:blip r:embed="rId2"/>
          <a:stretch/>
        </p:blipFill>
        <p:spPr>
          <a:xfrm>
            <a:off x="2895480" y="1371600"/>
            <a:ext cx="3194280" cy="4495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84" name="Picture 6" descr="1000615369[1]"/>
          <p:cNvPicPr/>
          <p:nvPr/>
        </p:nvPicPr>
        <p:blipFill>
          <a:blip r:embed="rId3"/>
          <a:stretch/>
        </p:blipFill>
        <p:spPr>
          <a:xfrm>
            <a:off x="6248520" y="1447920"/>
            <a:ext cx="2576520" cy="3886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5" descr="1000384538[1]"/>
          <p:cNvPicPr/>
          <p:nvPr/>
        </p:nvPicPr>
        <p:blipFill>
          <a:blip r:embed="rId1"/>
          <a:stretch/>
        </p:blipFill>
        <p:spPr>
          <a:xfrm>
            <a:off x="609480" y="990720"/>
            <a:ext cx="3122640" cy="44956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1000461260[1]"/>
          <p:cNvPicPr/>
          <p:nvPr/>
        </p:nvPicPr>
        <p:blipFill>
          <a:blip r:embed="rId2"/>
          <a:stretch/>
        </p:blipFill>
        <p:spPr>
          <a:xfrm>
            <a:off x="5029200" y="914400"/>
            <a:ext cx="3149640" cy="4495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3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showpic"/>
          <p:cNvPicPr/>
          <p:nvPr/>
        </p:nvPicPr>
        <p:blipFill>
          <a:blip r:embed="rId1"/>
          <a:stretch/>
        </p:blipFill>
        <p:spPr>
          <a:xfrm>
            <a:off x="228600" y="1295280"/>
            <a:ext cx="2649600" cy="3151440"/>
          </a:xfrm>
          <a:prstGeom prst="rect">
            <a:avLst/>
          </a:prstGeom>
          <a:ln w="101520">
            <a:solidFill>
              <a:srgbClr val="0000ff"/>
            </a:solidFill>
            <a:miter/>
          </a:ln>
          <a:effectLst>
            <a:outerShdw dist="17819" dir="2700000" blurRad="0" rotWithShape="0">
              <a:srgbClr val="ff9933"/>
            </a:outerShdw>
          </a:effectLst>
        </p:spPr>
      </p:pic>
      <p:sp>
        <p:nvSpPr>
          <p:cNvPr id="188" name="Rectangle 3"/>
          <p:cNvSpPr/>
          <p:nvPr/>
        </p:nvSpPr>
        <p:spPr>
          <a:xfrm>
            <a:off x="2806560" y="-31680"/>
            <a:ext cx="633744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тарик»</a:t>
            </a:r>
            <a:r>
              <a:rPr b="1" i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ю жизнь бродил он по лес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ьев знал язы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иц различал по голос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ый мне стар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да он ведал напер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ь сосен и дубр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слаще ягода раст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где полно гри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то не мог так пере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ы полей и ре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ом о лесе рассказ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этот человек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Цура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диной Брэма было небольшое герцогство германской империи - Саксен-Веймар; отец его Христиан-Людвиг был пастором небольшой деревни Унтеррентендорф. Здесь, 2 февраля 1829 года, и родился будущий натуралис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юбить природу – значить любить Родин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ктор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С какого дня по календарю считается начало весн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Какой снег быстрее тает: чистый или грязны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Какой в России самый маленький звер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Какая у нас самая маленькая птиц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Сколько ног у пау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У кого уши на ногах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Весной или летом цветет сирен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Какая рыба заботиться о своих детях, пока они не вырасту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Почему стрижи и ласточки в хорошую погоду летают высоко, а в сырую над самой землё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 Как узнать о приближении дождя, наблюдая муравейник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 Какой страшный хищный зверь падок до малин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. Что за трава, которую слепые знаю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. Как готовятся к зиме муравь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. Куда исчезают на зиму лягушк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. Где раки зимую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. Что птицам страшнее - холод или голод зим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. Одинаковы ли глаза у кошки днём и ночью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. Растёт ли дерево зимо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. Какие птицы ночуют, зарывшись в снег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. Почему зимой многие птицы и звери покидают лес и жмутся 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ческому жилью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1. Куда на зиму исчезают летучие мыш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847 года началось путешествие Брема в Африку. Судно шло медленно вдоль берега,  Брем имел возможность проводить много времени на берегу, наблюдая природу мало известной им страны. 5 лет длилось путешествие и изучение природы черного континента. В 1852 г. Брем возвращается в Европу  с записями и  большой зверинец: тут были и птицы, и обезьяны, крокодилы, львица. Все эти дикие животные в умелых руках Брэма превратились в мирных друзей дома.  У Брема были удивительные способности приручать звере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36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Гамбурге Брэм становится директором Зоологического сада. А в 1866 году организует Берлинский аквариум, однин из наиболее популярных ныне учреждений германской столицы. И здесь Брэм употребил все свои силы, применил все свои знания, чтобы сделать аквариум образцовым.  Другим видом деятельности является обработка материала и выпуск книг о природе. в 1876 году, ему преставилась возможность совершить путешествие по Сибири на средства, доставленные бременскими купцами и отчасти известным сибирским деятелем Сибиряковым. Брэм объехал тогда часть Туркестана до Алатау, затем значительную часть Сибири, до Карского моря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800240" y="1523880"/>
            <a:ext cx="38862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029200" y="456840"/>
            <a:ext cx="3657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уд Альфреда Брема - это и занимательное чтение, и универсальный справочник, в 24 тома охватывающий всех значимых представителей мировой фауны, и отличный путеводитель по морям, пустыням, саваннам и джунгл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Жизнь животных"/>
          <p:cNvPicPr/>
          <p:nvPr/>
        </p:nvPicPr>
        <p:blipFill>
          <a:blip r:embed="rId1"/>
          <a:stretch/>
        </p:blipFill>
        <p:spPr>
          <a:xfrm>
            <a:off x="533520" y="668160"/>
            <a:ext cx="4267080" cy="53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 «Путешествие по Нилу»"/>
          <p:cNvPicPr/>
          <p:nvPr/>
        </p:nvPicPr>
        <p:blipFill>
          <a:blip r:embed="rId1"/>
          <a:stretch/>
        </p:blipFill>
        <p:spPr>
          <a:xfrm>
            <a:off x="533520" y="380880"/>
            <a:ext cx="3946320" cy="5562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Жизнь животных. Млекопитающие"/>
          <p:cNvPicPr/>
          <p:nvPr/>
        </p:nvPicPr>
        <p:blipFill>
          <a:blip r:embed="rId2"/>
          <a:stretch/>
        </p:blipFill>
        <p:spPr>
          <a:xfrm>
            <a:off x="6245280" y="0"/>
            <a:ext cx="2898720" cy="2898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Жизнь животных. Самая важная и интересная информация, дополненная современными данными"/>
          <p:cNvPicPr/>
          <p:nvPr/>
        </p:nvPicPr>
        <p:blipFill>
          <a:blip r:embed="rId3"/>
          <a:stretch/>
        </p:blipFill>
        <p:spPr>
          <a:xfrm>
            <a:off x="6095880" y="3733920"/>
            <a:ext cx="2667240" cy="26668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24" name="Picture 5" descr="Жизнь животных (комплект из 3 книг)"/>
          <p:cNvPicPr/>
          <p:nvPr/>
        </p:nvPicPr>
        <p:blipFill>
          <a:blip r:embed="rId4"/>
          <a:stretch/>
        </p:blipFill>
        <p:spPr>
          <a:xfrm>
            <a:off x="4419720" y="2666880"/>
            <a:ext cx="205740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 страницам книг А.Бр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езьяны, бесспорно, одни из самых живых и подвижных млекопитающих. Выйдя на добычу, они ни на минуту не остаются в покое, а вечно что‑нибудь рассматривают, хватают, срывают, обнюхивают и откусывают, чтобы затем съесть это или бросить. Едят они, можно сказать, все съедобное, но главное их пищу составляют: плоды, луковицы, клубни, корни, семена, орехи, листья и сочные стебли; едят они и насекомых, и яйца, а также птенцов птиц. Их ловкость, обнаруживаемая в искусстве лазанья, превосходит всякое вероятие. Это – настоящие акробаты. Им ни по чем прыжки в 3–4 саж. С высоты дерева они прыгают на ветку, лежащую на 5 саж. ниже.. Упав с дерева, обезьяна всегда сумеет схватиться за первую попавшуюся ей ветку и снова полезет вверх; впрочем, ей и упасть на землю ничего не знач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овкость и проворство обезьян заметны только при лазаний; на земле же большинство их кажутся очень неуклюжими. Опытный вожак, избираемый  при помощи своих же зубов и кулаков, которыми он смиряет всех непокорных, постоянно заботится о безопасности своих подданных: он всюду озирается, ничему не доверяет и оттого всегда успеет вовремя заметить грозящую опасность. В случае же последней, вожак немедленно издает предупреждающий крик, состоящий из ряда отрывистых, дрожащих, негармоничных звуков, – и вся стая обращается в поспешное бегство; матери сзывают детенышей, которые мгновенно прицепляются к ним, и спешат со своими драгоценными ношами к ближайшему дереву или скале. Только когда успокаивается вожак, стая вновь собирается и возвращается обратн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же из этого крика вожака видно, что обезьяны могут издавать звуки для выражения своих чувств. Некоторые же наблюдатели идут дальше, доказывая, что обезьяны владеют настоящим языком, как и люди, но, конечно, гораздо менее развиты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971440" y="304560"/>
            <a:ext cx="57150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5153e"/>
                </a:solidFill>
                <a:latin typeface="Arial"/>
              </a:rPr>
              <a:t>Бианки Виталий </a:t>
            </a:r>
            <a:br>
              <a:rPr sz="4000"/>
            </a:br>
            <a:r>
              <a:rPr b="0" lang="ru-RU" sz="4000" spc="-1" strike="noStrike">
                <a:solidFill>
                  <a:srgbClr val="75153e"/>
                </a:solidFill>
                <a:latin typeface="Arial"/>
              </a:rPr>
              <a:t>Валентинович</a:t>
            </a:r>
            <a:br>
              <a:rPr sz="4000"/>
            </a:br>
            <a:r>
              <a:rPr b="0" lang="ru-RU" sz="4000" spc="-1" strike="noStrike">
                <a:solidFill>
                  <a:srgbClr val="75153e"/>
                </a:solidFill>
                <a:latin typeface="Arial"/>
              </a:rPr>
              <a:t>1894 - 195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Рисунок 2" descr="Виталий Валентинович Бианки. Фотография "/>
          <p:cNvPicPr/>
          <p:nvPr/>
        </p:nvPicPr>
        <p:blipFill>
          <a:blip r:embed="rId1"/>
          <a:stretch/>
        </p:blipFill>
        <p:spPr>
          <a:xfrm>
            <a:off x="304920" y="1371600"/>
            <a:ext cx="3429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я</cp:lastModifiedBy>
  <dcterms:modified xsi:type="dcterms:W3CDTF">2014-08-16T14:04:12Z</dcterms:modified>
  <cp:revision>24</cp:revision>
  <dc:subject>биология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