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6.png" ContentType="image/png"/>
  <Override PartName="/ppt/media/image7.png" ContentType="image/png"/>
  <Override PartName="/ppt/media/image34.jpeg" ContentType="image/jpeg"/>
  <Override PartName="/ppt/media/image18.jpeg" ContentType="image/jpeg"/>
  <Override PartName="/ppt/media/image8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36.jpeg" ContentType="image/jpeg"/>
  <Override PartName="/ppt/media/image37.jpeg" ContentType="image/jpeg"/>
  <Override PartName="/ppt/media/image22.jpeg" ContentType="image/jpeg"/>
  <Override PartName="/ppt/media/image9.png" ContentType="image/png"/>
  <Override PartName="/ppt/media/image39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35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7719-AE49-49BA-8A89-27710CE547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88A6-D258-489F-B1CB-45F81C1A07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2330-68AC-437C-99D8-E30C35C649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D86A-DCCB-4086-928E-250F67AF05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3DA9-5D13-4E34-BB4B-06791A06B4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602-7F81-4ED0-B801-DD416CEF7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B58-2FD2-4AC5-9B15-B37A2F4A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682-9A68-4B99-A901-8AF05A3E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0CE-2857-4D81-8E75-813C4795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65AB-7F36-4D0E-91E7-4034AF4C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BED9-04A3-4027-B03C-1D9AFBFB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92DD-8012-44B0-A4A2-B0C70FC8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3C71-22B7-440A-AEC4-ED587DBB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E24B-A4D1-433B-9D94-43E0833A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C066-0401-43DB-864F-DA0AD832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CD9C-872C-4E8B-B5E8-47F93A26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821-86E1-4C8F-ACE2-422BA662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588B-5263-4C43-8E42-F9DA60FF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A275-448F-4858-B079-F72D217C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DD41-4E0A-45E9-BDBB-A4D6C671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9CE2-8AEA-4431-AA9C-0AD65205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7C54-9DA2-4308-9C2E-A664D758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92D-6E69-4B1B-A2A4-D010CFA1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0F4-E91E-493C-A058-6DE9E1FF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582-01CD-4388-870F-8B3DEFAD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09B-9998-4B6B-B841-A6033EFB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077-BA64-4B60-AEF4-362298DE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60E-A13A-4B4B-93F3-61C53273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3C4-53AC-4B0B-A904-9D1A495E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148A-90D6-4E52-B252-A0DB1455E2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48B4-70C4-45B2-95B6-1F2A768561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haroni"/>
              </a:rPr>
              <a:t>Писатели о природ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человек любит и знает природу, он никогда не навредит ей, а преумножит её богат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водчики с бессловесного» - так он называл себя и своих собратьев по перу, писателей, которые тоже писали о животных. Человек буквально влюблённый в природу, как никто другой знающий её, Виталий Бианки большую часть жизни посвятил описанию мира загадочного и неповторимого, таинственного и удивительно разнообразного – мира русского леса и его обитате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153e"/>
                </a:solidFill>
                <a:latin typeface="Arial"/>
              </a:rPr>
              <a:t>Виталий Бианки о себе</a:t>
            </a:r>
            <a:br>
              <a:rPr sz="4000"/>
            </a:b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Сколько часов терпеливых провёл я</a:t>
            </a:r>
            <a:br>
              <a:rPr sz="4000"/>
            </a:b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В лёгких шалашиках из корабельных корзин,</a:t>
            </a:r>
            <a:br>
              <a:rPr sz="4000"/>
            </a:b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Высохшей тины и веток, – птиц наблюдая,</a:t>
            </a:r>
            <a:br>
              <a:rPr sz="4000"/>
            </a:b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Птицам невидимы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153e"/>
                </a:solidFill>
                <a:latin typeface="Arial"/>
              </a:rPr>
              <a:t>Детские и взрослые сказки семьи Биан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8" descr="Валентин Львович Бианки"/>
          <p:cNvPicPr/>
          <p:nvPr/>
        </p:nvPicPr>
        <p:blipFill>
          <a:blip r:embed="rId1"/>
          <a:stretch/>
        </p:blipFill>
        <p:spPr>
          <a:xfrm>
            <a:off x="5942160" y="1219320"/>
            <a:ext cx="2566800" cy="42544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28600" y="1095120"/>
            <a:ext cx="5638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Бианки – это семья, – династия, в которой из поколения в поколение передается не просто знание биологии как ремесло, не просто романтическая любовь к природе, но прямая физическая невозможность жить в отрыве от прир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Отец – ученый-орнито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Виталий Бианки о своем детств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515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«Всё в детстве было для меня телесно и душевно. Всё – от человека до камня – обладало своим ароматом, цветом, голосо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5153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«Отец рано начал брать меня с собой в лес. Он каждую травку, каждую птицу и зверюшку называл мне по имени, отечеству и фамилии. Учил меня узнавать птиц по виду, по голосу, по полёту, разыскивать самые скрытые гнёзда. Учил по тысячам примет находить тайно от человека живущих зве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75153e"/>
                </a:solidFill>
                <a:latin typeface="Arial"/>
              </a:rPr>
              <a:t>Виталий Бианки. Отчего я пишу про л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ытался понять, о чём разговаривают птицы, почему так не похожи лапы у крота и ноги у цапли, зачем одному природа подарила длиннющий нос, а другому достался махонький носишко, отчего одни животные строят домишки на деревьях, другие – в чистом поле, а третьи – под водой. Все эти непростые вопросы не давали Бианки поко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 всём, что увидел и узнал, Виталий Валентинович решил рассказать девчонкам и мальчишкам. И начал писать детские книжки, помогая ребятам тоже проникнуть в чудесные тайны природы, которая и стала главной героиней его замечательных произ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хнатых и пернатых, обитающих на страницах книжек Бианки, невозможно не полюбить, Виталий Валентинович рассказывает об их повадках, о ловкости, хитрости, умении спасаться и прятаться так, что от книжки оторваться невозможно. В самом обыкновенном он умеет показать новое, не замеченное нами.С волнением следим мы за приключениями маленького путешественника — мышонка Пика, переживаем из-за бедного муравьишки, попавшего в беду, размышляем о том, чей нос лучше, удивлённо узнаём, кто чем по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 rot="21386400">
            <a:off x="480600" y="274320"/>
            <a:ext cx="8229600" cy="193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5153e"/>
                </a:solidFill>
                <a:latin typeface="Arial"/>
              </a:rPr>
              <a:t>Книжка для детей про пт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5" descr="Рис. М.Митурича к рассказу В.Бианки «Первая охота»"/>
          <p:cNvPicPr/>
          <p:nvPr/>
        </p:nvPicPr>
        <p:blipFill>
          <a:blip r:embed="rId1"/>
          <a:stretch/>
        </p:blipFill>
        <p:spPr>
          <a:xfrm>
            <a:off x="6058080" y="13716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Рис. В.Алексеевой к сказке В.Бианки «Лесные домишки»"/>
          <p:cNvPicPr/>
          <p:nvPr/>
        </p:nvPicPr>
        <p:blipFill>
          <a:blip r:embed="rId2"/>
          <a:stretch/>
        </p:blipFill>
        <p:spPr>
          <a:xfrm>
            <a:off x="4038480" y="3429000"/>
            <a:ext cx="1967040" cy="2705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838080" y="201780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812960" y="2170080"/>
            <a:ext cx="329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33520" y="213372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«Чей нос лучше?» - маленькая энциклопедия знаний о пти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вышла в 1923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5153e"/>
                </a:solidFill>
                <a:latin typeface="Arial"/>
              </a:rPr>
              <a:t>Лесные сказки и расска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3" descr="Рис. Н.Тырсы к «Снежной книге» В.Бианки"/>
          <p:cNvPicPr/>
          <p:nvPr/>
        </p:nvPicPr>
        <p:blipFill>
          <a:blip r:embed="rId1"/>
          <a:stretch/>
        </p:blipFill>
        <p:spPr>
          <a:xfrm>
            <a:off x="6943680" y="1143000"/>
            <a:ext cx="220032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6" descr="Рис. А.Якобсон к рассказу В.Бианки «Латка»"/>
          <p:cNvPicPr/>
          <p:nvPr/>
        </p:nvPicPr>
        <p:blipFill>
          <a:blip r:embed="rId2"/>
          <a:stretch/>
        </p:blipFill>
        <p:spPr>
          <a:xfrm>
            <a:off x="4038480" y="3733920"/>
            <a:ext cx="2781360" cy="2457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1355760" y="1865160"/>
            <a:ext cx="3597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0" y="213372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5153e"/>
                </a:solidFill>
                <a:latin typeface="Arial"/>
              </a:rPr>
              <a:t>«Лесные домишки», «Лесные происшествия», «Как муравьишка домой спешил», «Кто чем поет», «Лесная газет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сная газ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самой знаменитой книгой Бианки стала «Лесная газета». Другой подобной просто не было. Газета представляет собой детский настольный календарь природы, разделенный на 12 частей, соответствующих 12 месяцам в году. Все самое любопытное, самое необычное и самое обычное, что происходило в природе каждый месяц и день, попало на страницы «Лесной газеты». Это большая настоящая газета со своей передовицей, объявлениями, телеграммами – обо всём, что происходит в лесу. Здесь можно было найти объявление скворцов «Ищем квартиры» или сообщение о первом «ку-ку», прозвучавшем в парке, или отзыв о спектакле, который давали на тихом лесном озере птицы-чомги. Была даже уголовная хроника: беда в лесу не редкость. Бианки работал над ней с 1924 года до конца жизни, постоянно внося какие-то изменения. С 1928 года она несколько раз переиздавалась, становилась толще, ее переводили на разные языки мира. Рассказы из «Лесной газеты» звучали по радио, печатались, наряду с другими произведениями Бианки, на страниц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4L+"/>
          <p:cNvPicPr/>
          <p:nvPr/>
        </p:nvPicPr>
        <p:blipFill>
          <a:blip r:embed="rId1"/>
          <a:stretch/>
        </p:blipFill>
        <p:spPr>
          <a:xfrm>
            <a:off x="4876920" y="3629160"/>
            <a:ext cx="4267080" cy="28000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«Лесная газета на каждый год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153e"/>
                </a:solidFill>
                <a:latin typeface="Arial"/>
              </a:rPr>
              <a:t>«Лесная газета» - книга о непрерывном круговороте явлений в живой природе, это энциклопедия русской прир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30BelyiGr-"/>
          <p:cNvPicPr/>
          <p:nvPr/>
        </p:nvPicPr>
        <p:blipFill>
          <a:blip r:embed="rId2"/>
          <a:stretch/>
        </p:blipFill>
        <p:spPr>
          <a:xfrm>
            <a:off x="2971800" y="3276720"/>
            <a:ext cx="2182680" cy="3352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ZimaKholoda"/>
          <p:cNvPicPr/>
          <p:nvPr/>
        </p:nvPicPr>
        <p:blipFill>
          <a:blip r:embed="rId3"/>
          <a:stretch/>
        </p:blipFill>
        <p:spPr>
          <a:xfrm>
            <a:off x="380880" y="312408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3657600" cy="34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ьфред Бре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829-18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1a996663cc48d0d4277b8f195cfc9dcd"/>
          <p:cNvPicPr/>
          <p:nvPr/>
        </p:nvPicPr>
        <p:blipFill>
          <a:blip r:embed="rId1"/>
          <a:stretch/>
        </p:blipFill>
        <p:spPr>
          <a:xfrm>
            <a:off x="4419720" y="990720"/>
            <a:ext cx="436536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5153e"/>
                </a:solidFill>
                <a:latin typeface="Arial"/>
              </a:rPr>
              <a:t>Ягоды из-под сне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Klyukva="/>
          <p:cNvPicPr/>
          <p:nvPr/>
        </p:nvPicPr>
        <p:blipFill>
          <a:blip r:embed="rId1"/>
          <a:stretch/>
        </p:blipFill>
        <p:spPr>
          <a:xfrm>
            <a:off x="762120" y="1289160"/>
            <a:ext cx="754380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Май - месяц песен и пляс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39Les-"/>
          <p:cNvPicPr/>
          <p:nvPr/>
        </p:nvPicPr>
        <p:blipFill>
          <a:blip r:embed="rId1"/>
          <a:stretch/>
        </p:blipFill>
        <p:spPr>
          <a:xfrm>
            <a:off x="4267080" y="2666880"/>
            <a:ext cx="5562720" cy="3935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herem"/>
          <p:cNvPicPr/>
          <p:nvPr/>
        </p:nvPicPr>
        <p:blipFill>
          <a:blip r:embed="rId2"/>
          <a:stretch/>
        </p:blipFill>
        <p:spPr>
          <a:xfrm>
            <a:off x="228600" y="1143000"/>
            <a:ext cx="5029200" cy="3251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DnPavlGlaz"/>
          <p:cNvPicPr/>
          <p:nvPr/>
        </p:nvPicPr>
        <p:blipFill>
          <a:blip r:embed="rId3"/>
          <a:stretch/>
        </p:blipFill>
        <p:spPr>
          <a:xfrm>
            <a:off x="609480" y="4267080"/>
            <a:ext cx="3733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дцать пять лет писал Бианки о лесе. Это слово часто звучало в названиях его книг: «Лесные домишки», «Лесные разведчики». Повести, рассказы, сказки Бианки своеобразно соединили в себе поэзию и точное знание. Последние он даже называл по-особенному: сказки-несказки. Он написал более 300 сказок, рассказов о природе, в числе которых такие, как Первая охота (1923), Кто чем поет (1923), Как Муравьишка домой спешил (1935), Сказки зверолова (1937) и др. По некоторым из них (Оранжевое горлышко (1937, и др.) сняты мультфиль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-609480" y="0"/>
            <a:ext cx="950256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ихаил Михайлович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ш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 1873-195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733920" y="1557360"/>
            <a:ext cx="523080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 Если бы природа могла чувствовать благодарность к человеку за то, что он проник в её жизнь и воспел её, то прежде всего эта благодарность выпала бы на долю Михаила Пришвин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нстантин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ауст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rishvin"/>
          <p:cNvPicPr/>
          <p:nvPr/>
        </p:nvPicPr>
        <p:blipFill>
          <a:blip r:embed="rId1"/>
          <a:stretch/>
        </p:blipFill>
        <p:spPr>
          <a:xfrm>
            <a:off x="250920" y="2133720"/>
            <a:ext cx="3303360" cy="426708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134955" dir="2472880" blurRad="0" rotWithShape="0">
              <a:srgbClr val="ff9933"/>
            </a:outerShdw>
          </a:effectLst>
        </p:spPr>
      </p:pic>
      <p:sp>
        <p:nvSpPr>
          <p:cNvPr id="17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[LI6RK_16-01]_[IL_02]-k"/>
          <p:cNvPicPr/>
          <p:nvPr/>
        </p:nvPicPr>
        <p:blipFill>
          <a:blip r:embed="rId1"/>
          <a:stretch/>
        </p:blipFill>
        <p:spPr>
          <a:xfrm>
            <a:off x="468360" y="1052640"/>
            <a:ext cx="3768840" cy="496872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sp>
        <p:nvSpPr>
          <p:cNvPr id="176" name="Rectangle 5"/>
          <p:cNvSpPr/>
          <p:nvPr/>
        </p:nvSpPr>
        <p:spPr>
          <a:xfrm>
            <a:off x="4572000" y="134136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ился Михаил в селе Хрущево-Лёвшино Орловской губернии в купеческой семье. Его отцу досталось богатое наследство, которое он истрати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вое образование в биографии Михаила Пришвина было получено в деревенской школе. Затем же он стал обучаться в Елецкой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швин много хо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лесам,  путешествовал, собирал фольклор. В 1906 году в биографии Михаила Пришвина впервые был опубликован его рассказ – «Сашок». Затем вышли его книги с очерками: «В краю непуганых птиц» (1907), «За волшебным колобком» (1908), «У стен града невидимого» (1908). С 1912 по 1914 год вышло первое собрание сочинений писателя. Следующими книгами Пришвина были: «Календарь природы» (1935), «Кащеева цепь», «Дорогие звери», повесть «Жень-шень» и многие другие. Также высоко ценятся его днев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1pr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04920" y="457200"/>
            <a:ext cx="3592440" cy="5562720"/>
          </a:xfrm>
          <a:prstGeom prst="rect">
            <a:avLst/>
          </a:prstGeom>
          <a:ln w="88920">
            <a:solidFill>
              <a:srgbClr val="0000ff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</p:pic>
      <p:pic>
        <p:nvPicPr>
          <p:cNvPr id="179" name="Picture 3" descr="2pr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4211640" y="1413000"/>
            <a:ext cx="4681440" cy="3773520"/>
          </a:xfrm>
          <a:prstGeom prst="rect">
            <a:avLst/>
          </a:prstGeom>
          <a:ln w="88920">
            <a:solidFill>
              <a:srgbClr val="0000ff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</p:pic>
      <p:sp>
        <p:nvSpPr>
          <p:cNvPr id="180" name="Text Box 4"/>
          <p:cNvSpPr/>
          <p:nvPr/>
        </p:nvSpPr>
        <p:spPr>
          <a:xfrm>
            <a:off x="3780000" y="260280"/>
            <a:ext cx="554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иги Пришвина для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_910218274[1]"/>
          <p:cNvPicPr/>
          <p:nvPr/>
        </p:nvPicPr>
        <p:blipFill>
          <a:blip r:embed="rId1"/>
          <a:stretch/>
        </p:blipFill>
        <p:spPr>
          <a:xfrm>
            <a:off x="304920" y="1295280"/>
            <a:ext cx="2295360" cy="3657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3" name="Picture 4" descr="300324241[1]"/>
          <p:cNvPicPr/>
          <p:nvPr/>
        </p:nvPicPr>
        <p:blipFill>
          <a:blip r:embed="rId2"/>
          <a:stretch/>
        </p:blipFill>
        <p:spPr>
          <a:xfrm>
            <a:off x="2895480" y="1371600"/>
            <a:ext cx="3194280" cy="4495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4" name="Picture 6" descr="1000615369[1]"/>
          <p:cNvPicPr/>
          <p:nvPr/>
        </p:nvPicPr>
        <p:blipFill>
          <a:blip r:embed="rId3"/>
          <a:stretch/>
        </p:blipFill>
        <p:spPr>
          <a:xfrm>
            <a:off x="6248520" y="1447920"/>
            <a:ext cx="2576520" cy="3886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1000384538[1]"/>
          <p:cNvPicPr/>
          <p:nvPr/>
        </p:nvPicPr>
        <p:blipFill>
          <a:blip r:embed="rId1"/>
          <a:stretch/>
        </p:blipFill>
        <p:spPr>
          <a:xfrm>
            <a:off x="609480" y="990720"/>
            <a:ext cx="3122640" cy="4495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1000461260[1]"/>
          <p:cNvPicPr/>
          <p:nvPr/>
        </p:nvPicPr>
        <p:blipFill>
          <a:blip r:embed="rId2"/>
          <a:stretch/>
        </p:blipFill>
        <p:spPr>
          <a:xfrm>
            <a:off x="5029200" y="914400"/>
            <a:ext cx="3149640" cy="4495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showpic"/>
          <p:cNvPicPr/>
          <p:nvPr/>
        </p:nvPicPr>
        <p:blipFill>
          <a:blip r:embed="rId1"/>
          <a:stretch/>
        </p:blipFill>
        <p:spPr>
          <a:xfrm>
            <a:off x="228600" y="1295280"/>
            <a:ext cx="2649600" cy="3151440"/>
          </a:xfrm>
          <a:prstGeom prst="rect">
            <a:avLst/>
          </a:prstGeom>
          <a:ln w="101520">
            <a:solidFill>
              <a:srgbClr val="0000ff"/>
            </a:solidFill>
            <a:miter/>
          </a:ln>
          <a:effectLst>
            <a:outerShdw dist="17819" dir="2700000" blurRad="0" rotWithShape="0">
              <a:srgbClr val="ff9933"/>
            </a:outerShdw>
          </a:effectLst>
        </p:spPr>
      </p:pic>
      <p:sp>
        <p:nvSpPr>
          <p:cNvPr id="188" name="Rectangle 3"/>
          <p:cNvSpPr/>
          <p:nvPr/>
        </p:nvSpPr>
        <p:spPr>
          <a:xfrm>
            <a:off x="2806560" y="-31680"/>
            <a:ext cx="633744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арик»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ю жизнь бродил он по ле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ев знал язы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 различал по голос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ый мне стар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он ведал напер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ь сосен и дубра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слаще ягода рас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де полно гри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то не мог так пере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ы полей и р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ом о лесе расска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этот человек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Цур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ной Брэма было небольшое герцогство германской империи - Саксен-Веймар; отец его Христиан-Людвиг был пастором небольшой деревни Унтеррентендорф. Здесь, 2 февраля 1829 года, и родился будущий натуралис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юбить природу – значить любить Роди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 какого дня по календарю считается начало вес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ой снег быстрее тает: чистый или грязны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акой в России самый маленький звер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Какая у нас самая маленькая птиц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колько ног у пау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У кого уши на ног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есной или летом цветет сирен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Какая рыба заботиться о своих детях, пока они не вырасту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Почему стрижи и ласточки в хорошую погоду летают высоко, а в сырую над самой землё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Как узнать о приближении дождя, наблюдая муравейни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Какой страшный хищный зверь падок до мали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Что за трава, которую слепые зна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Как готовятся к зиме муравь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Куда исчезают на зиму лягуш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Где раки зиму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Что птицам страшнее - холод или голод зим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Одинаковы ли глаза у кошки днём и ночь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Растёт ли дерево зим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. Какие птицы ночуют, зарывшись в с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 Почему зимой многие птицы и звери покидают лес и жмутся 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ческому жиль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. Куда на зиму исчезают летучие мыш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47 года началось путешествие Брема в Африку. Судно шло медленно вдоль берега,  Брем имел возможность проводить много времени на берегу, наблюдая природу мало известной им страны. 5 лет длилось путешествие и изучение природы черного континента. В 1852 г. Брем возвращается в Европу  с записями и  большой зверинец: тут были и птицы, и обезьяны, крокодилы, львица. Все эти дикие животные в умелых руках Брэма превратились в мирных друзей дома.  У Брема были удивительные способности приручать звер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364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Гамбурге Брэм становится директором Зоологического сада. А в 1866 году организует Берлинский аквариум, однин из наиболее популярных ныне учреждений германской столицы. И здесь Брэм употребил все свои силы, применил все свои знания, чтобы сделать аквариум образцовым.  Другим видом деятельности является обработка материала и выпуск книг о природе. в 1876 году, ему преставилась возможность совершить путешествие по Сибири на средства, доставленные бременскими купцами и отчасти известным сибирским деятелем Сибиряковым. Брэм объехал тогда часть Туркестана до Алатау, затем значительную часть Сибири, до Карского мор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00240" y="1523880"/>
            <a:ext cx="38862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29200" y="456840"/>
            <a:ext cx="3657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 Альфреда Брема - это и занимательное чтение, и универсальный справочник, в 24 тома охватывающий всех значимых представителей мировой фауны, и отличный путеводитель по морям, пустыням, саваннам и джунгл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Жизнь животных"/>
          <p:cNvPicPr/>
          <p:nvPr/>
        </p:nvPicPr>
        <p:blipFill>
          <a:blip r:embed="rId1"/>
          <a:stretch/>
        </p:blipFill>
        <p:spPr>
          <a:xfrm>
            <a:off x="533520" y="668160"/>
            <a:ext cx="426708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 «Путешествие по Нилу»"/>
          <p:cNvPicPr/>
          <p:nvPr/>
        </p:nvPicPr>
        <p:blipFill>
          <a:blip r:embed="rId1"/>
          <a:stretch/>
        </p:blipFill>
        <p:spPr>
          <a:xfrm>
            <a:off x="533520" y="380880"/>
            <a:ext cx="3946320" cy="556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Жизнь животных. Млекопитающие"/>
          <p:cNvPicPr/>
          <p:nvPr/>
        </p:nvPicPr>
        <p:blipFill>
          <a:blip r:embed="rId2"/>
          <a:stretch/>
        </p:blipFill>
        <p:spPr>
          <a:xfrm>
            <a:off x="6245280" y="0"/>
            <a:ext cx="2898720" cy="2898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Жизнь животных. Самая важная и интересная информация, дополненная современными данными"/>
          <p:cNvPicPr/>
          <p:nvPr/>
        </p:nvPicPr>
        <p:blipFill>
          <a:blip r:embed="rId3"/>
          <a:stretch/>
        </p:blipFill>
        <p:spPr>
          <a:xfrm>
            <a:off x="6095880" y="3733920"/>
            <a:ext cx="2667240" cy="2666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4" name="Picture 5" descr="Жизнь животных (комплект из 3 книг)"/>
          <p:cNvPicPr/>
          <p:nvPr/>
        </p:nvPicPr>
        <p:blipFill>
          <a:blip r:embed="rId4"/>
          <a:stretch/>
        </p:blipFill>
        <p:spPr>
          <a:xfrm>
            <a:off x="4419720" y="2666880"/>
            <a:ext cx="205740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 страницам книг А.Бр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езьяны, бесспорно, одни из самых живых и подвижных млекопитающих. Выйдя на добычу, они ни на минуту не остаются в покое, а вечно что‑нибудь рассматривают, хватают, срывают, обнюхивают и откусывают, чтобы затем съесть это или бросить. Едят они, можно сказать, все съедобное, но главное их пищу составляют: плоды, луковицы, клубни, корни, семена, орехи, листья и сочные стебли; едят они и насекомых, и яйца, а также птенцов птиц. Их ловкость, обнаруживаемая в искусстве лазанья, превосходит всякое вероятие. Это – настоящие акробаты. Им ни по чем прыжки в 3–4 саж. С высоты дерева они прыгают на ветку, лежащую на 5 саж. ниже.. Упав с дерева, обезьяна всегда сумеет схватиться за первую попавшуюся ей ветку и снова полезет вверх; впрочем, ей и упасть на землю ничего не знач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вкость и проворство обезьян заметны только при лазаний; на земле же большинство их кажутся очень неуклюжими. Опытный вожак, избираемый  при помощи своих же зубов и кулаков, которыми он смиряет всех непокорных, постоянно заботится о безопасности своих подданных: он всюду озирается, ничему не доверяет и оттого всегда успеет вовремя заметить грозящую опасность. В случае же последней, вожак немедленно издает предупреждающий крик, состоящий из ряда отрывистых, дрожащих, негармоничных звуков, – и вся стая обращается в поспешное бегство; матери сзывают детенышей, которые мгновенно прицепляются к ним, и спешат со своими драгоценными ношами к ближайшему дереву или скале. Только когда успокаивается вожак, стая вновь собирается и возвращается обратн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же из этого крика вожака видно, что обезьяны могут издавать звуки для выражения своих чувств. Некоторые же наблюдатели идут дальше, доказывая, что обезьяны владеют настоящим языком, как и люди, но, конечно, гораздо менее развит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57150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Бианки Виталий </a:t>
            </a:r>
            <a:br>
              <a:rPr sz="4000"/>
            </a:b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Валентинович</a:t>
            </a:r>
            <a:br>
              <a:rPr sz="4000"/>
            </a:br>
            <a:r>
              <a:rPr b="0" lang="ru-RU" sz="4000" spc="-1" strike="noStrike">
                <a:solidFill>
                  <a:srgbClr val="75153e"/>
                </a:solidFill>
                <a:latin typeface="Arial"/>
              </a:rPr>
              <a:t>1894 - 195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Виталий Валентинович Бианки. Фотография "/>
          <p:cNvPicPr/>
          <p:nvPr/>
        </p:nvPicPr>
        <p:blipFill>
          <a:blip r:embed="rId1"/>
          <a:stretch/>
        </p:blipFill>
        <p:spPr>
          <a:xfrm>
            <a:off x="304920" y="1371600"/>
            <a:ext cx="3429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я</cp:lastModifiedBy>
  <dcterms:modified xsi:type="dcterms:W3CDTF">2014-08-16T14:04:12Z</dcterms:modified>
  <cp:revision>24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