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C782-87C3-4BA9-9D61-00CC6DE48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B759-3F55-4E24-BE62-B2441874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F0D2-E574-4B61-A2AB-541AAA6C8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6D7D-6EEB-4029-B3A9-0ED269A5B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85C2-F700-4128-8711-52CA89651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9434-C63F-4F30-97DC-1574827A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7A02-C3A6-46ED-9E53-B8F1222C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CACC-D5FD-4645-94D4-6163EECF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237E-A2A6-4609-9B27-AB244AF3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76AC-AE9C-49EC-961C-608CBBA4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63BB-1F1F-477E-8C2A-777B6162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0BC8-DDE1-4E66-B20E-1F2D020D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F832-9FFE-4543-978C-0F6D1CD9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D329-6B87-4372-A8D5-0EEACF78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A7C5-BA44-4675-AF24-5D39DFA1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4C7E-3447-4457-BD9D-77920FF00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9116-6590-4CE1-91C3-A168A2BE5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06FE4E-D247-4F6F-96F8-3703939F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B82109-4050-4D42-B682-03032533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D768FA-8624-4DC1-9933-D3A0A276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2C5615-26C4-4B17-B21C-ECDA61A8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3DF4C7-B717-40CA-81D5-0104D49D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9352-962C-4AAC-BDEA-1AD0E8B0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29A57F-6D81-4335-A6DA-E8F8B40E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7C0E9A-859A-48C4-B7F7-E05CBE00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9DB270-FFB8-4C58-8067-9F7DED11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91800C-9B79-4FE4-A48F-ED158153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7EF443-5D84-4482-BF00-71B97870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2DC48F-597B-48E0-A759-97E469489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13D955-1F10-4A28-BDBD-36B2686E7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1D377-407A-4EC8-B64A-E0B82E22A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EAB7E-0D4D-4E26-ADB6-0A34F2DB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43169-53EC-48CC-A23E-33D4DF10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1D02-C1A9-450B-84E6-198424F1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36471-92DF-456B-B73D-ED22F7C4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78559-6D9A-4646-B907-FD906715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AC38B-0263-4AAA-BF91-1AFE0787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C6D37-3BB9-441F-9F8A-A8A19973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6402A-4A61-44F8-A4B7-F8727AB7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78C36-4D3E-46DE-8BE4-BFEE96FB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94488-9768-4EB9-B71A-A83829C1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D5D95-7362-416C-ABC9-AF5B73F13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A51F9-72D3-496A-97FD-0EEF0537C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9D6B82-137F-42E9-804C-EDB44704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674D-7CAD-4918-B848-2194E2B1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7181F3-9EDB-4B23-81C2-522A5B1B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874ECC-5951-4BFF-9223-CFBBDEBF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010C41-405E-4EAB-BA31-5418E12A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DF827C-8D4C-4135-AF59-8C91F813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F53EA8-14BD-4CCC-8DC9-730D9040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DF0E06-D85C-4563-8FA0-4D66A5DD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122F47-BD66-4616-B05B-7209920C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B6CBDC-6C40-4DE5-A8B6-5E1867C3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B0E298-0276-4994-9643-E1271555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53330C-14C9-4368-8FE4-48C59AE01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461F-3A74-4653-A18B-0224AC16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9D2F8E-19F3-4BA2-A951-610EC0FE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9D9A71-25BE-42B3-AE61-C1B2995FE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37D47D-E181-42F9-866D-6ED3CA28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8E5E7E-73B2-4B25-8E59-C4947AF0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0EB5CA-7DC3-4C10-B6F2-B09F15B2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67405D-E962-4F6B-A351-2D52C407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1FEF96-A3FA-47B6-987B-32543B22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070A2E-0001-4762-938A-BAE6D52B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36FD89-7306-4DFB-BBFE-109F7EEE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9F1F21-DFE6-42B0-91C3-1A48110F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9414-1022-4869-9DFC-65902647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9F952B-C22C-4DD6-9AF8-73E1DE2B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708110-9A39-40A1-B8AD-A6B8D1E03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073A70-F85C-48F0-88EC-B12FAD073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A8C078-4EB9-491E-BB17-81C79B67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0E2598-E2AF-4290-B5D1-75451EBF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8DAD95-73E6-4B57-B930-F0BDABCD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CF83FC-C550-4DFC-BA9E-FEA6EE76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C3EDD7-7AD9-4416-87B5-D6CB3113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1EBB66-E802-48DC-8C9C-9A89421F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C0112D-1757-4D9F-A08D-B46E7793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E114-5593-4EE7-A06B-00BB7481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9BDE38-44E5-4BBD-B5D0-8CADCBE6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EC3AB4-DD3B-48E8-A8C7-913471B2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0F8180-F5EA-49F9-B063-3061F251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FF82D0-523A-4EA9-8280-EAADC1079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210A38-D573-416F-8B5B-9BB236F84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FA90-72E5-49F0-A999-2090552E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8d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592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66b24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599c3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b8d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8d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66b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8d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66b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66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7775-BFD5-45A0-A873-033363EC2B7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8d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3e4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3e4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af2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8d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af2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8d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8d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8d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8d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8d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66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66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66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66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66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592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66b24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599c3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b8d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18E7-1EF8-46CB-B8F2-A0CF4BA6380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8d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8d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66b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8d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66b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66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592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66b24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599c3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b8d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51B5-7CBB-476B-A8F6-332EE382F94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59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8d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3e4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3e4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af2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8d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af2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8d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8d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8d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8d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66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66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66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66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66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8d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66b24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599c3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b8d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BF7D-492F-4E42-A3DD-F6BA3B3D4C0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8d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8d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66b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8d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66b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66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592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66b24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599c3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b8d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E795-7B07-42D4-B72E-EAA5EB31116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8d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8d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66b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66b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8d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66b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66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592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66b24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599c3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b8d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0DAA-87AD-432B-916B-C77314765A8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8d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66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8d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66b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8d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66b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592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66b24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599c3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b8d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22BA-FF46-45D5-99C4-4740ADB6E17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25920"/>
                </a:solidFill>
                <a:latin typeface="Arial"/>
              </a:rPr>
              <a:t>ФЕРМЕНТЫ – БИОЛОГИЧЕСКИЕ КАТАЛИЗАТОРЫ</a:t>
            </a:r>
            <a:endParaRPr b="0" lang="en-US" sz="6000" spc="-1" strike="noStrike">
              <a:solidFill>
                <a:srgbClr val="3259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40435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25920"/>
                </a:solidFill>
                <a:latin typeface="Arial"/>
              </a:rPr>
              <a:t>СТРОЕНИЕ ФЕРМЕНТА</a:t>
            </a:r>
            <a:endParaRPr b="0" lang="en-US" sz="27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2920" y="428760"/>
            <a:ext cx="55720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е ферменты – глобулярные белки с третичной или четвертичной структур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720" indent="-26172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ерменты могут быть </a:t>
            </a:r>
            <a:r>
              <a:rPr b="1" lang="ru-RU" sz="2400" spc="-1" strike="noStrike" u="sng">
                <a:solidFill>
                  <a:srgbClr val="335920"/>
                </a:solidFill>
                <a:uFillTx/>
                <a:latin typeface="Times New Roman"/>
              </a:rPr>
              <a:t>простыми</a:t>
            </a:r>
            <a:r>
              <a:rPr b="1" lang="ru-RU" sz="2400" spc="-1" strike="noStrike">
                <a:solidFill>
                  <a:srgbClr val="335920"/>
                </a:solidFill>
                <a:latin typeface="Times New Roman"/>
              </a:rPr>
              <a:t>, состоящими только из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елка, и сложны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5920"/>
                </a:solidFill>
                <a:uFillTx/>
                <a:latin typeface="Times New Roman"/>
              </a:rPr>
              <a:t>Сложные фермент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стоят из белковой и небелковой части (белковая часть – апофермент, а добавочная небелковая – кофермент). В качестве кофермента могут выступать витамины – E, K, B груп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720" indent="-26172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ермент взаимодействует с субстратом, не всей молекулой, а отдельной её частью – активным центр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5357880" y="0"/>
            <a:ext cx="364320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25920"/>
                </a:solidFill>
                <a:latin typeface="Arial"/>
              </a:rPr>
              <a:t>МЕХАНИЗМ ДЕЙСТВИЯ ФЕРМЕНТОВ</a:t>
            </a: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642600"/>
            <a:ext cx="9001080" cy="58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ермент, соединяясь с субстратом, образует </a:t>
            </a:r>
            <a:r>
              <a:rPr b="1" lang="ru-RU" sz="2400" spc="-1" strike="noStrike" u="sng">
                <a:solidFill>
                  <a:srgbClr val="335920"/>
                </a:solidFill>
                <a:uFillTx/>
                <a:latin typeface="Times New Roman"/>
              </a:rPr>
              <a:t>фермент -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335920"/>
                </a:solidFill>
                <a:uFillTx/>
                <a:latin typeface="Times New Roman"/>
              </a:rPr>
              <a:t>субстратный комплекс</a:t>
            </a:r>
            <a:r>
              <a:rPr b="1" lang="ru-RU" sz="2400" spc="-1" strike="noStrike">
                <a:solidFill>
                  <a:srgbClr val="335920"/>
                </a:solidFill>
                <a:latin typeface="Times New Roman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таком комплексе шансы на то, что реакция произойдёт, значительно возрастают. По завершению реакции фермент (субстратный комплекс) </a:t>
            </a:r>
            <a:r>
              <a:rPr b="1" lang="ru-RU" sz="2400" spc="-1" strike="noStrike" u="sng">
                <a:solidFill>
                  <a:srgbClr val="335920"/>
                </a:solidFill>
                <a:uFillTx/>
                <a:latin typeface="Times New Roman"/>
              </a:rPr>
              <a:t>распадается на продукты и фермент</a:t>
            </a:r>
            <a:r>
              <a:rPr b="1" lang="ru-RU" sz="2400" spc="-1" strike="noStrike">
                <a:solidFill>
                  <a:srgbClr val="33592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5920"/>
                </a:solidFill>
                <a:uFillTx/>
                <a:latin typeface="Times New Roman"/>
              </a:rPr>
              <a:t>Активным центром фермента</a:t>
            </a:r>
            <a:r>
              <a:rPr b="1" lang="ru-RU" sz="2400" spc="-1" strike="noStrike">
                <a:solidFill>
                  <a:srgbClr val="33592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зывают небольшую часть молекулы фермента (от 3 до 12 аминокислотных остатков), которая находится в контакте с субстрато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ль остальных аминокислотных остатков состоит в том, чтобы обеспечить молекуле фермента правильную глобулярную форму, чтобы активный центр мог работать наиболее актив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0" y="4071960"/>
            <a:ext cx="4572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5920"/>
                </a:solidFill>
                <a:latin typeface="Arial"/>
              </a:rPr>
              <a:t>РОЛЬ ФЕРМЕНТОВ В ОРГАНИЗМЕ</a:t>
            </a:r>
            <a:endParaRPr b="0" lang="en-US" sz="28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2560" y="642960"/>
            <a:ext cx="86439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ерменты участвуют в осуществлении </a:t>
            </a:r>
            <a:r>
              <a:rPr b="1" lang="ru-RU" sz="2400" spc="-1" strike="noStrike">
                <a:solidFill>
                  <a:srgbClr val="335920"/>
                </a:solidFill>
                <a:latin typeface="Times New Roman"/>
              </a:rPr>
              <a:t>всех процессов обмена веществ, в реализации генетической информац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5920"/>
                </a:solidFill>
                <a:latin typeface="Times New Roman"/>
              </a:rPr>
              <a:t>Любое проявление функций живого организма —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ыхание, мышечное сокращение, нервно-психическая деятельность, размножение и др. — обеспечивается действием фермен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клетке часть ферментов находится в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цитоплазм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но в основном ферменты связаны с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пределенными клеточными структурами, где и проявляют свое дейст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5920"/>
                </a:solidFill>
                <a:latin typeface="Times New Roman"/>
              </a:rPr>
              <a:t>В ядр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например, находятся ферменты, ответственные за </a:t>
            </a:r>
            <a:r>
              <a:rPr b="1" lang="ru-RU" sz="2400" spc="-1" strike="noStrike">
                <a:solidFill>
                  <a:srgbClr val="335920"/>
                </a:solidFill>
                <a:latin typeface="Times New Roman"/>
              </a:rPr>
              <a:t>репликацию —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нтез ДНК  (ДНК-полимеразы) , за ее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5920"/>
                </a:solidFill>
                <a:latin typeface="Times New Roman"/>
              </a:rPr>
              <a:t>транскрипцию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— образование РНК (РНК-полимеразы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5920"/>
                </a:solidFill>
                <a:latin typeface="Times New Roman"/>
              </a:rPr>
              <a:t>В митохондриях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сутствуют ферменты, ответственные </a:t>
            </a:r>
            <a:r>
              <a:rPr b="1" lang="ru-RU" sz="2400" spc="-1" strike="noStrike">
                <a:solidFill>
                  <a:srgbClr val="335920"/>
                </a:solidFill>
                <a:latin typeface="Times New Roman"/>
              </a:rPr>
              <a:t>за накопление энергии, </a:t>
            </a:r>
            <a:r>
              <a:rPr b="1" i="1" lang="ru-RU" sz="2400" spc="-1" strike="noStrike">
                <a:solidFill>
                  <a:srgbClr val="335920"/>
                </a:solidFill>
                <a:latin typeface="Times New Roman"/>
              </a:rPr>
              <a:t>в лизосомах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— большинство гидролитических ферментов, </a:t>
            </a:r>
            <a:r>
              <a:rPr b="1" lang="ru-RU" sz="2400" spc="-1" strike="noStrike">
                <a:solidFill>
                  <a:srgbClr val="335920"/>
                </a:solidFill>
                <a:latin typeface="Times New Roman"/>
              </a:rPr>
              <a:t>участвующих в распаде нуклеиновых кислот и бел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25920"/>
                </a:solidFill>
                <a:latin typeface="Arial"/>
              </a:rPr>
              <a:t>КЛАССИФИКАЦИЯ ФЕРМЕНТОВ</a:t>
            </a: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714240"/>
            <a:ext cx="87152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1961 году была предложена систематическая </a:t>
            </a:r>
            <a:r>
              <a:rPr b="1" lang="ru-RU" sz="2400" spc="-1" strike="noStrike">
                <a:solidFill>
                  <a:srgbClr val="335920"/>
                </a:solidFill>
                <a:latin typeface="Times New Roman"/>
              </a:rPr>
              <a:t>классификация ферментов на 6 групп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 названия ферментов оказались очень длинными и трудными в произношении, поэтому ферменты принято сейчас именовать с помощью рабочих названий. Рабочее название состоит из </a:t>
            </a:r>
            <a:r>
              <a:rPr b="1" i="1" lang="ru-RU" sz="2400" spc="-1" strike="noStrike" u="sng">
                <a:solidFill>
                  <a:srgbClr val="335920"/>
                </a:solidFill>
                <a:uFillTx/>
                <a:latin typeface="Times New Roman"/>
              </a:rPr>
              <a:t>названия субстрат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на который действует фермент, и </a:t>
            </a:r>
            <a:r>
              <a:rPr b="1" i="1" lang="ru-RU" sz="2400" spc="-1" strike="noStrike" u="sng">
                <a:solidFill>
                  <a:srgbClr val="335920"/>
                </a:solidFill>
                <a:uFillTx/>
                <a:latin typeface="Times New Roman"/>
              </a:rPr>
              <a:t>окончания «аза»</a:t>
            </a:r>
            <a:r>
              <a:rPr b="1" lang="ru-RU" sz="2400" spc="-1" strike="noStrike">
                <a:solidFill>
                  <a:srgbClr val="33592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пример, если вещество — </a:t>
            </a:r>
            <a:r>
              <a:rPr b="1" i="1" lang="ru-RU" sz="2400" spc="-1" strike="noStrike">
                <a:solidFill>
                  <a:srgbClr val="335920"/>
                </a:solidFill>
                <a:latin typeface="Times New Roman"/>
              </a:rPr>
              <a:t>лактоза</a:t>
            </a:r>
            <a:r>
              <a:rPr b="1" lang="ru-RU" sz="2400" spc="-1" strike="noStrike">
                <a:solidFill>
                  <a:srgbClr val="335920"/>
                </a:solidFill>
                <a:latin typeface="Times New Roman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то есть молочный сахар, то </a:t>
            </a:r>
            <a:r>
              <a:rPr b="1" i="1" lang="ru-RU" sz="2400" spc="-1" strike="noStrike" u="sng">
                <a:solidFill>
                  <a:srgbClr val="335920"/>
                </a:solidFill>
                <a:uFillTx/>
                <a:latin typeface="Times New Roman"/>
              </a:rPr>
              <a:t>лактаз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это фермент который его преобразует. Если </a:t>
            </a:r>
            <a:r>
              <a:rPr b="1" i="1" lang="ru-RU" sz="2400" spc="-1" strike="noStrike">
                <a:solidFill>
                  <a:srgbClr val="335920"/>
                </a:solidFill>
                <a:latin typeface="Times New Roman"/>
              </a:rPr>
              <a:t>сахароза</a:t>
            </a:r>
            <a:r>
              <a:rPr b="1" lang="ru-RU" sz="2400" spc="-1" strike="noStrike">
                <a:solidFill>
                  <a:srgbClr val="33592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обыкновенный сахар), то фермент, который его расщепляет, – </a:t>
            </a:r>
            <a:r>
              <a:rPr b="1" i="1" lang="ru-RU" sz="2400" spc="-1" strike="noStrike" u="sng">
                <a:solidFill>
                  <a:srgbClr val="335920"/>
                </a:solidFill>
                <a:uFillTx/>
                <a:latin typeface="Times New Roman"/>
              </a:rPr>
              <a:t>сахараза</a:t>
            </a:r>
            <a:r>
              <a:rPr b="1" lang="ru-RU" sz="2400" spc="-1" strike="noStrike">
                <a:solidFill>
                  <a:srgbClr val="335920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оответственно, ферменты, которые расщепляют </a:t>
            </a:r>
            <a:r>
              <a:rPr b="1" i="1" lang="ru-RU" sz="2400" spc="-1" strike="noStrike">
                <a:solidFill>
                  <a:srgbClr val="335920"/>
                </a:solidFill>
                <a:latin typeface="Times New Roman"/>
              </a:rPr>
              <a:t>протеин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носят название </a:t>
            </a:r>
            <a:r>
              <a:rPr b="1" i="1" lang="ru-RU" sz="2400" spc="-1" strike="noStrike" u="sng">
                <a:solidFill>
                  <a:srgbClr val="335920"/>
                </a:solidFill>
                <a:uFillTx/>
                <a:latin typeface="Times New Roman"/>
              </a:rPr>
              <a:t>протеиназы</a:t>
            </a:r>
            <a:r>
              <a:rPr b="1" lang="ru-RU" sz="2400" spc="-1" strike="noStrike">
                <a:solidFill>
                  <a:srgbClr val="33592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5920"/>
                </a:solidFill>
                <a:latin typeface="Arial"/>
              </a:rPr>
              <a:t>СВОЙСТВА ФЕРМЕНТОВ</a:t>
            </a:r>
            <a:endParaRPr b="0" lang="en-US" sz="27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2920" y="500040"/>
            <a:ext cx="857232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ля ферментов характерны следующие свойств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600" indent="-264600">
              <a:spcBef>
                <a:spcPts val="601"/>
              </a:spcBef>
              <a:buClr>
                <a:srgbClr val="66b24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5920"/>
                </a:solidFill>
                <a:latin typeface="Times New Roman"/>
              </a:rPr>
              <a:t>Избирательность (специфичность)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особность ферментов ускорять только одну или группу однотипных реакц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600" indent="-264600">
              <a:spcBef>
                <a:spcPts val="601"/>
              </a:spcBef>
              <a:buClr>
                <a:srgbClr val="66b24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5920"/>
                </a:solidFill>
                <a:latin typeface="Times New Roman"/>
              </a:rPr>
              <a:t>Эффективност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ферменты ускоряют химические реакции в тысячи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600" indent="-264600">
              <a:spcBef>
                <a:spcPts val="601"/>
              </a:spcBef>
              <a:buClr>
                <a:srgbClr val="66b24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5920"/>
                </a:solidFill>
                <a:latin typeface="Times New Roman"/>
              </a:rPr>
              <a:t>Зависимость от температур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− оптимальная температура живого организма для работы ферментов находится в пределах +37,0 − +39,0 °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600" indent="-264600">
              <a:spcBef>
                <a:spcPts val="601"/>
              </a:spcBef>
              <a:buClr>
                <a:srgbClr val="66b24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5920"/>
                </a:solidFill>
                <a:latin typeface="Times New Roman"/>
              </a:rPr>
              <a:t>Зависимость от РН сред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для активности каждого фермента необходимы свои определенные значения ph сре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600" indent="-264600">
              <a:spcBef>
                <a:spcPts val="601"/>
              </a:spcBef>
              <a:buClr>
                <a:srgbClr val="66b24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ктивность ферментов зависит от условий в клетке или организме — </a:t>
            </a:r>
            <a:r>
              <a:rPr b="1" lang="ru-RU" sz="2400" spc="-1" strike="noStrike">
                <a:solidFill>
                  <a:srgbClr val="335920"/>
                </a:solidFill>
                <a:latin typeface="Times New Roman"/>
              </a:rPr>
              <a:t>давления, кислотности среды, температуры, концентрации растворённых солей (ионной силы раствора)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296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5920"/>
                </a:solidFill>
                <a:latin typeface="Arial"/>
              </a:rPr>
              <a:t>ХИМИЧЕСКИЕ СВОЙСТВА ФЕРМЕНТОВ</a:t>
            </a: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42560" y="785880"/>
            <a:ext cx="86439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5920"/>
                </a:solidFill>
                <a:latin typeface="Times New Roman"/>
              </a:rPr>
              <a:t>Окисление и восстановл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ерменты, участвующие в этих реакциях, называютс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ксидоредуктазам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Пример: алкогольдегидрогеназы преобразуют первичные спирты в альдеги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-25920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5920"/>
                </a:solidFill>
                <a:latin typeface="Times New Roman"/>
              </a:rPr>
              <a:t>Гидролиз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идролаз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участвующие в реакции, умеют разрывать одинарные связи, добавляя элементы во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-25920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-25920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5920"/>
                </a:solidFill>
                <a:latin typeface="Times New Roman"/>
              </a:rPr>
              <a:t>Создание или удаление двойной связи</a:t>
            </a:r>
            <a:r>
              <a:rPr b="1" lang="ru-RU" sz="2400" spc="-1" strike="noStrike">
                <a:solidFill>
                  <a:srgbClr val="33592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от вид реакций негидролитическим путем происходит при участи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лиаз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-25920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-25920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5920"/>
                </a:solidFill>
                <a:latin typeface="Times New Roman"/>
              </a:rPr>
              <a:t>одинарной связи с устранением элемента вод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идролаз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разрушают связь, добавляя в молекулу элементы воды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Лиаз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осуществляют обратную реакцию, удаляя водную часть из функциональных групп. Таким образом, создают простую свя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ь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-25920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5920"/>
                </a:solidFill>
                <a:latin typeface="Arial"/>
              </a:rPr>
              <a:t>ЗНАЧЕНИЕ ФЕРМЕНТОВ</a:t>
            </a:r>
            <a:endParaRPr b="0" lang="en-US" sz="27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500040"/>
            <a:ext cx="825804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601"/>
              </a:spcBef>
              <a:buClr>
                <a:srgbClr val="66b2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ерменты применяются практически во всех областях человеческой деятельности, и такое широкое применение, в первую очередь, связано с тем, что они сохраняют свои уникальные свойства вне живых клето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0" y="3940200"/>
            <a:ext cx="2917800" cy="29178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"/>
          <p:cNvPicPr/>
          <p:nvPr/>
        </p:nvPicPr>
        <p:blipFill>
          <a:blip r:embed="rId2"/>
          <a:stretch/>
        </p:blipFill>
        <p:spPr>
          <a:xfrm>
            <a:off x="2928960" y="3786120"/>
            <a:ext cx="2917800" cy="29178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"/>
          <p:cNvPicPr/>
          <p:nvPr/>
        </p:nvPicPr>
        <p:blipFill>
          <a:blip r:embed="rId3"/>
          <a:stretch/>
        </p:blipFill>
        <p:spPr>
          <a:xfrm>
            <a:off x="5929200" y="2928960"/>
            <a:ext cx="26434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9680" y="1000080"/>
            <a:ext cx="746748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25920"/>
                </a:solidFill>
                <a:latin typeface="Arial"/>
              </a:rPr>
              <a:t>ВЫБЕРИТЕ ТРИ ВЕРНЫХ ОТВЕТА ИЗ ШЕСТИ И </a:t>
            </a:r>
            <a:br>
              <a:rPr sz="2800"/>
            </a:br>
            <a:r>
              <a:rPr b="1" lang="ru-RU" sz="2800" spc="-1" strike="noStrike">
                <a:solidFill>
                  <a:srgbClr val="325920"/>
                </a:solidFill>
                <a:latin typeface="Arial"/>
              </a:rPr>
              <a:t>ЦИФРЫ, ПОД КОТОРЫМИ ОНИ УКАЗАНЫ. ФЕРМЕНТАТИВНАЯ ФУНКЦИЯ БЕЛКОВ</a:t>
            </a:r>
            <a:r>
              <a:rPr b="0" lang="ru-RU" sz="2800" spc="-1" strike="noStrike">
                <a:solidFill>
                  <a:srgbClr val="325920"/>
                </a:solidFill>
                <a:latin typeface="Arial"/>
              </a:rPr>
              <a:t>:</a:t>
            </a:r>
            <a:br>
              <a:rPr sz="2800"/>
            </a:br>
            <a:r>
              <a:rPr b="0" lang="ru-RU" sz="2800" spc="-1" strike="noStrike">
                <a:solidFill>
                  <a:srgbClr val="325920"/>
                </a:solidFill>
                <a:latin typeface="Arial"/>
              </a:rPr>
              <a:t>1) ПРОЯВЛЯЕТСЯ В УСКОРЕНИИ БИОХИМИЧЕСКИХ РЕАКЦИЙ</a:t>
            </a:r>
            <a:br>
              <a:rPr sz="2800"/>
            </a:br>
            <a:r>
              <a:rPr b="0" lang="ru-RU" sz="2800" spc="-1" strike="noStrike">
                <a:solidFill>
                  <a:srgbClr val="325920"/>
                </a:solidFill>
                <a:latin typeface="Arial"/>
              </a:rPr>
              <a:t>2) ОПРЕДЕЛЯЕТСЯ СПОСОБНОСТЬЮ БЕЛКОВ БЫТЬ ГОРМОНАМИ</a:t>
            </a:r>
            <a:br>
              <a:rPr sz="2800"/>
            </a:br>
            <a:r>
              <a:rPr b="0" lang="ru-RU" sz="2800" spc="-1" strike="noStrike">
                <a:solidFill>
                  <a:srgbClr val="325920"/>
                </a:solidFill>
                <a:latin typeface="Arial"/>
              </a:rPr>
              <a:t>3) СВЯЗАНА С КАТАЛИТИЧЕСКИМИ СВОЙСТВАМИ БЕЛКОВ</a:t>
            </a:r>
            <a:br>
              <a:rPr sz="2800"/>
            </a:br>
            <a:r>
              <a:rPr b="0" lang="ru-RU" sz="2800" spc="-1" strike="noStrike">
                <a:solidFill>
                  <a:srgbClr val="325920"/>
                </a:solidFill>
                <a:latin typeface="Arial"/>
              </a:rPr>
              <a:t>4) ХАРАКТЕРНА ДЛЯ ГЕМОГЛОБИНА</a:t>
            </a:r>
            <a:br>
              <a:rPr sz="2800"/>
            </a:br>
            <a:r>
              <a:rPr b="0" lang="ru-RU" sz="2800" spc="-1" strike="noStrike">
                <a:solidFill>
                  <a:srgbClr val="325920"/>
                </a:solidFill>
                <a:latin typeface="Arial"/>
              </a:rPr>
              <a:t>5) СВЯЗАНА С ОБРАЗОВАНИЕМ АНТИТЕЛ (ИММУНОГЛОБУЛИНОВ)</a:t>
            </a:r>
            <a:br>
              <a:rPr sz="2800"/>
            </a:br>
            <a:r>
              <a:rPr b="0" lang="ru-RU" sz="2800" spc="-1" strike="noStrike">
                <a:solidFill>
                  <a:srgbClr val="325920"/>
                </a:solidFill>
                <a:latin typeface="Arial"/>
              </a:rPr>
              <a:t>6) УТРАЧИВАЕТСЯ ПРИ ДЕНАТУРАЦИИ БЕЛКА</a:t>
            </a:r>
            <a:br>
              <a:rPr sz="2800"/>
            </a:br>
            <a:endParaRPr b="0" lang="en-US" sz="28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82" name="Заголовок 1"/>
          <p:cNvSpPr/>
          <p:nvPr/>
        </p:nvSpPr>
        <p:spPr>
          <a:xfrm>
            <a:off x="214200" y="0"/>
            <a:ext cx="8643960" cy="642960"/>
          </a:xfrm>
          <a:prstGeom prst="rect">
            <a:avLst/>
          </a:prstGeom>
          <a:solidFill>
            <a:srgbClr val="4d86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ВЗАИМОПРОВЕР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25920"/>
                </a:solidFill>
                <a:latin typeface="Arial"/>
              </a:rPr>
              <a:t>РЕШЕНИЕ:</a:t>
            </a:r>
            <a:br>
              <a:rPr sz="2900"/>
            </a:br>
            <a:r>
              <a:rPr b="0" lang="ru-RU" sz="2900" spc="-1" strike="noStrike">
                <a:solidFill>
                  <a:srgbClr val="325920"/>
                </a:solidFill>
                <a:latin typeface="Arial"/>
              </a:rPr>
              <a:t>НЕ ПОДХОДЯТ ОТВЕТЫ:</a:t>
            </a:r>
            <a:br>
              <a:rPr sz="2900"/>
            </a:br>
            <a:r>
              <a:rPr b="0" lang="ru-RU" sz="2900" spc="-1" strike="noStrike">
                <a:solidFill>
                  <a:srgbClr val="325920"/>
                </a:solidFill>
                <a:latin typeface="Arial"/>
              </a:rPr>
              <a:t>2) ОПРЕДЕЛЯЕТСЯ СПОСОБНОСТЬЮ БЕЛКОВ БЫТЬ ГОРМОНАМИ - РЕГУЛЯТОРНАЯ;</a:t>
            </a:r>
            <a:br>
              <a:rPr sz="2900"/>
            </a:br>
            <a:r>
              <a:rPr b="0" lang="ru-RU" sz="2900" spc="-1" strike="noStrike">
                <a:solidFill>
                  <a:srgbClr val="325920"/>
                </a:solidFill>
                <a:latin typeface="Arial"/>
              </a:rPr>
              <a:t>4) ХАРАКТЕРНА ДЛЯ ГЕМОГЛОБИНА - ТРАНСПОРТНАЯ;</a:t>
            </a:r>
            <a:br>
              <a:rPr sz="2900"/>
            </a:br>
            <a:r>
              <a:rPr b="0" lang="ru-RU" sz="2900" spc="-1" strike="noStrike">
                <a:solidFill>
                  <a:srgbClr val="325920"/>
                </a:solidFill>
                <a:latin typeface="Arial"/>
              </a:rPr>
              <a:t>5) СВЯЗАНА С ОБРАЗОВАНИЕМ АНТИТЕЛ (ИММУНОГЛОБУЛИНОВ) - ЗАЩИТНАЯ.</a:t>
            </a:r>
            <a:br>
              <a:rPr sz="2900"/>
            </a:br>
            <a:r>
              <a:rPr b="1" lang="ru-RU" sz="2900" spc="-1" strike="noStrike">
                <a:solidFill>
                  <a:srgbClr val="325920"/>
                </a:solidFill>
                <a:latin typeface="Arial"/>
              </a:rPr>
              <a:t>ОТВЕТ:</a:t>
            </a:r>
            <a:r>
              <a:rPr b="0" lang="ru-RU" sz="2900" spc="-1" strike="noStrike">
                <a:solidFill>
                  <a:srgbClr val="325920"/>
                </a:solidFill>
                <a:latin typeface="Arial"/>
              </a:rPr>
              <a:t> 136</a:t>
            </a:r>
            <a:br>
              <a:rPr sz="2900"/>
            </a:br>
            <a:endParaRPr b="0" lang="en-US" sz="2900" spc="-1" strike="noStrike">
              <a:solidFill>
                <a:srgbClr val="3259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214200"/>
            <a:ext cx="8329680" cy="625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вестно, что фермент каталаза разрушает пероксид водорода. Экспериментатор в первую пробирку поместил кусочек сырого картофеля, а во вторую — кусочек сырого мяса. В каждую из пробирок он налил одинаковое количество пероксида водорода. Как при этом изменилось количество пероксида в первой и во второй пробирках? Влияние света на активность пероксида водорода не учитывать. Для каждой величины определите соответствующий характер её измен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 увеличилас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уменьшилас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) не изменилас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64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5920"/>
                </a:solidFill>
                <a:latin typeface="Arial"/>
              </a:rPr>
              <a:t>1. МОНОМЕРАМИ МОЛЕКУЛ КАКИХ ОРГАНИЧЕСКИХ ВЕЩЕСТВ ЯВЛЯЮТСЯ АМИНОКИСЛОТЫ</a:t>
            </a:r>
            <a:br>
              <a:rPr sz="2800"/>
            </a:br>
            <a:r>
              <a:rPr b="0" lang="ru-RU" sz="2800" spc="-1" strike="noStrike">
                <a:solidFill>
                  <a:srgbClr val="325920"/>
                </a:solidFill>
                <a:latin typeface="Arial"/>
              </a:rPr>
              <a:t>А) БЕЛКОВ </a:t>
            </a:r>
            <a:br>
              <a:rPr sz="2800"/>
            </a:br>
            <a:r>
              <a:rPr b="0" lang="ru-RU" sz="2800" spc="-1" strike="noStrike">
                <a:solidFill>
                  <a:srgbClr val="325920"/>
                </a:solidFill>
                <a:latin typeface="Arial"/>
              </a:rPr>
              <a:t>Б) УГЛЕВОДОВ</a:t>
            </a:r>
            <a:br>
              <a:rPr sz="2800"/>
            </a:br>
            <a:r>
              <a:rPr b="0" lang="ru-RU" sz="2800" spc="-1" strike="noStrike">
                <a:solidFill>
                  <a:srgbClr val="325920"/>
                </a:solidFill>
                <a:latin typeface="Arial"/>
              </a:rPr>
              <a:t>В) ДНК </a:t>
            </a:r>
            <a:br>
              <a:rPr sz="2800"/>
            </a:br>
            <a:r>
              <a:rPr b="0" lang="ru-RU" sz="2800" spc="-1" strike="noStrike">
                <a:solidFill>
                  <a:srgbClr val="325920"/>
                </a:solidFill>
                <a:latin typeface="Arial"/>
              </a:rPr>
              <a:t>Г) ЛИПИДОВ</a:t>
            </a:r>
            <a:br>
              <a:rPr sz="2800"/>
            </a:br>
            <a:r>
              <a:rPr b="1" lang="ru-RU" sz="2800" spc="-1" strike="noStrike">
                <a:solidFill>
                  <a:srgbClr val="325920"/>
                </a:solidFill>
                <a:latin typeface="Arial"/>
              </a:rPr>
              <a:t>2. ВТОРИЧНАЯ СТРУКТУРА БЕЛКА, ИМЕЮЩАЯ ФОРМУ СПИРАЛИ, УДЕРЖИВАЕТСЯ СВЯЗЯМИ</a:t>
            </a:r>
            <a:br>
              <a:rPr sz="2800"/>
            </a:br>
            <a:r>
              <a:rPr b="0" lang="ru-RU" sz="2800" spc="-1" strike="noStrike">
                <a:solidFill>
                  <a:srgbClr val="325920"/>
                </a:solidFill>
                <a:latin typeface="Arial"/>
              </a:rPr>
              <a:t>А) ПЕПТИДНЫМИ </a:t>
            </a:r>
            <a:br>
              <a:rPr sz="2800"/>
            </a:br>
            <a:r>
              <a:rPr b="0" lang="ru-RU" sz="2800" spc="-1" strike="noStrike">
                <a:solidFill>
                  <a:srgbClr val="325920"/>
                </a:solidFill>
                <a:latin typeface="Arial"/>
              </a:rPr>
              <a:t>Б) ИОННЫМИ</a:t>
            </a:r>
            <a:br>
              <a:rPr sz="2800"/>
            </a:br>
            <a:r>
              <a:rPr b="0" lang="ru-RU" sz="2800" spc="-1" strike="noStrike">
                <a:solidFill>
                  <a:srgbClr val="325920"/>
                </a:solidFill>
                <a:latin typeface="Arial"/>
              </a:rPr>
              <a:t>В) ВОДОРОДНЫМИ </a:t>
            </a:r>
            <a:br>
              <a:rPr sz="2800"/>
            </a:br>
            <a:r>
              <a:rPr b="0" lang="ru-RU" sz="2800" spc="-1" strike="noStrike">
                <a:solidFill>
                  <a:srgbClr val="325920"/>
                </a:solidFill>
                <a:latin typeface="Arial"/>
              </a:rPr>
              <a:t>Г) КОВАЛЕНТНЫ</a:t>
            </a:r>
            <a:r>
              <a:rPr b="0" lang="ru-RU" sz="2700" spc="-1" strike="noStrike">
                <a:solidFill>
                  <a:srgbClr val="325920"/>
                </a:solidFill>
                <a:latin typeface="Arial"/>
              </a:rPr>
              <a:t>МИ</a:t>
            </a:r>
            <a:br>
              <a:rPr sz="2700"/>
            </a:br>
            <a:endParaRPr b="0" lang="en-US" sz="2700" spc="-1" strike="noStrike">
              <a:solidFill>
                <a:srgbClr val="3259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ru-RU" sz="2700" spc="-1" strike="noStrike">
                <a:solidFill>
                  <a:srgbClr val="325920"/>
                </a:solidFill>
                <a:latin typeface="Arial"/>
              </a:rPr>
              <a:t> </a:t>
            </a: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28400" y="1071720"/>
            <a:ext cx="825804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живых клетках (сырого картофеля/сырого мяса) содержится фермент каталаза, способный расщеплять перекись водорода на кислород и воду. Поэтому в обеих пробирках количество пероксида водорода уменьшится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твет: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571480"/>
            <a:ext cx="746748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25920"/>
                </a:solidFill>
                <a:latin typeface="Arial"/>
              </a:rPr>
              <a:t>ЭКСПЕРИМЕНТАТОР ПОМЕСТИЛ СВЕЖЕЕ КУРИНОЕ ЯЙЦО В КИПЯЩУЮ ВОДУ. КАК ПРИ ЭТОМ ИЗМЕНИТСЯ АКТИВНОСТЬ ФЕРМЕНТОВ И СКОРОСТЬ ФЕРМЕНТАТИВНЫХ РЕАКЦИЙ? ДЛЯ КАЖДОЙ ВЕЛИЧИНЫ ОПРЕДЕЛИТЕ СООТВЕТСТВУЮЩИЙ ХАРАКТЕР ЕЁ ИЗМЕНЕНИЯ:</a:t>
            </a:r>
            <a:br>
              <a:rPr sz="3600"/>
            </a:br>
            <a:r>
              <a:rPr b="0" lang="ru-RU" sz="3600" spc="-1" strike="noStrike">
                <a:solidFill>
                  <a:srgbClr val="325920"/>
                </a:solidFill>
                <a:latin typeface="Arial"/>
              </a:rPr>
              <a:t>1) УВЕЛИЧИТСЯ</a:t>
            </a:r>
            <a:br>
              <a:rPr sz="3600"/>
            </a:br>
            <a:r>
              <a:rPr b="0" lang="ru-RU" sz="3600" spc="-1" strike="noStrike">
                <a:solidFill>
                  <a:srgbClr val="325920"/>
                </a:solidFill>
                <a:latin typeface="Arial"/>
              </a:rPr>
              <a:t>2) УМЕНЬШИТСЯ</a:t>
            </a:r>
            <a:br>
              <a:rPr sz="3600"/>
            </a:br>
            <a:r>
              <a:rPr b="0" lang="ru-RU" sz="3600" spc="-1" strike="noStrike">
                <a:solidFill>
                  <a:srgbClr val="325920"/>
                </a:solidFill>
                <a:latin typeface="Arial"/>
              </a:rPr>
              <a:t>3) НЕ ИЗМЕНИТСЯ</a:t>
            </a:r>
            <a:endParaRPr b="0" lang="en-US" sz="3600" spc="-1" strike="noStrike">
              <a:solidFill>
                <a:srgbClr val="3259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857160" y="85716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ак как ферменты имеют белковую природу, при помещении в кипящую воду они денатурируют и не могут выполнять свои функции. Активность ферментов стремительно снижается, поэтому скорость реакций так же пада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вет: 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99680" y="3571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зрушение структуры молекулы белка - эт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денатураци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 трансляци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) редупликаци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) ренатур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960" indent="-22896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ледовательность и число аминокислот в полипептидной цепи – эт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первичная структура ДНК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 первичная структура белк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) вторичная структура ДНК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) вторичная структура бел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960" indent="-22896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57200" y="142920"/>
            <a:ext cx="8400960" cy="63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им номером на рисунке обозначен уровень структуры белка, который может быть представлен β-складчатым слоем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Рисунок 3" descr="https://hb.bizmrg.com/eg-private/3v0aFIt5JH13OFspNp5Zf0kcgLnWZiXgYlUp3gO8.png"/>
          <p:cNvPicPr/>
          <p:nvPr/>
        </p:nvPicPr>
        <p:blipFill>
          <a:blip r:embed="rId1"/>
          <a:stretch/>
        </p:blipFill>
        <p:spPr>
          <a:xfrm>
            <a:off x="214200" y="2357280"/>
            <a:ext cx="81439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Рисунок 4" descr="https://sun9-65.userapi.com/impg/IX_mZhWgEJngj4eenc3cCMu_XZO6WCwhwGL_9Q/RXyDfVxwWYQ.jpg?size=817x357&amp;quality=96&amp;sign=73faa78e156a4c0494224c8141dc5724&amp;type=album"/>
          <p:cNvPicPr/>
          <p:nvPr/>
        </p:nvPicPr>
        <p:blipFill>
          <a:blip r:embed="rId1"/>
          <a:stretch/>
        </p:blipFill>
        <p:spPr>
          <a:xfrm>
            <a:off x="285840" y="214200"/>
            <a:ext cx="83581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71524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25920"/>
                </a:solidFill>
                <a:latin typeface="Arial"/>
              </a:rPr>
              <a:t>ПРОБЛЕМНАЯ СИТУАЦИЯ.</a:t>
            </a:r>
            <a:br>
              <a:rPr sz="4000"/>
            </a:br>
            <a:br>
              <a:rPr sz="2700"/>
            </a:br>
            <a:r>
              <a:rPr b="0" lang="ru-RU" sz="2700" spc="-1" strike="noStrike">
                <a:solidFill>
                  <a:srgbClr val="325920"/>
                </a:solidFill>
                <a:latin typeface="Arial"/>
              </a:rPr>
              <a:t> </a:t>
            </a:r>
            <a:r>
              <a:rPr b="1" lang="ru-RU" sz="2700" spc="-1" strike="noStrike">
                <a:solidFill>
                  <a:srgbClr val="325920"/>
                </a:solidFill>
                <a:latin typeface="Arial"/>
              </a:rPr>
              <a:t>В КАЖДОЙ ЖИВОЙ КЛЕТКЕ НЕПРЕРЫВНО ПРОИСХОДЯТ СОТНИ БИОХИМИЧЕСКИХ РЕАКЦИЙ. ОТ ЧЕГО ЗАВИСИТ СКОРОСТЬ ХИМИЧЕСКИХ РЕАКЦИЙ? ХИМИЧЕСКАЯ АКТИВНОСТЬ ВЕЩЕСТВ В КЛЕТКЕ НЕБОЛЬШАЯ, КОНЦЕНТРАЦИИ НЕЗНАЧИТЕЛЬНЫ, ТЕМПЕРАТУРА КЛЕТОЧНОЙ СРЕДЫ НЕВЫСОКАЯ, Т.Е. РЕАКЦИИ В КЛЕТКЕ ДОЛЖНЫ ПРОТЕКАТЬ МЕДЛЕННО. НО ЭТО НЕ ТАК. ПОЧЕМУ? </a:t>
            </a:r>
            <a:br>
              <a:rPr sz="2700"/>
            </a:br>
            <a:r>
              <a:rPr b="1" lang="ru-RU" sz="2700" spc="-1" strike="noStrike">
                <a:solidFill>
                  <a:srgbClr val="325920"/>
                </a:solidFill>
                <a:latin typeface="Arial"/>
              </a:rPr>
              <a:t>      ПОДОБНЫЕ РЕЗУЛЬТАТЫ ДОСТИГАЮТСЯ БЛАГОДАРЯ НАЛИЧИЮ КАТАЛИЗАТОРОВ. КЛЕТОЧНЫЕ КАТАЛИЗАТОРЫ НАЗЫВАЮТСЯ ФЕРМЕНТАМИ. ОНИ УСКОРЯЮТ РЕАКЦИИ В МИЛЛИОНЫ РАЗ. ПО ХИМИЧЕСКОЙ ПРИРОДЕ ПОЧТИ ВСЕ ФЕРМЕНТЫ – БЕЛКИ.</a:t>
            </a:r>
            <a:endParaRPr b="0" lang="en-US" sz="2700" spc="-1" strike="noStrike">
              <a:solidFill>
                <a:srgbClr val="3259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25920"/>
                </a:solidFill>
                <a:latin typeface="Arial"/>
              </a:rPr>
              <a:t>ФЕРМЕНТЫ – БИОЛОГИЧЕСКИЕ КАТАЛИЗАТОРЫ</a:t>
            </a:r>
            <a:endParaRPr b="0" lang="en-US" sz="6000" spc="-1" strike="noStrike">
              <a:solidFill>
                <a:srgbClr val="3259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42640" y="1642680"/>
            <a:ext cx="74674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25920"/>
                </a:solidFill>
                <a:latin typeface="Arial"/>
              </a:rPr>
              <a:t>ЦЕЛЬ УРОКА</a:t>
            </a:r>
            <a:r>
              <a:rPr b="0" lang="ru-RU" sz="3600" spc="-1" strike="noStrike">
                <a:solidFill>
                  <a:srgbClr val="325920"/>
                </a:solidFill>
                <a:latin typeface="Arial"/>
              </a:rPr>
              <a:t>: </a:t>
            </a:r>
            <a:r>
              <a:rPr b="1" lang="ru-RU" sz="3600" spc="-1" strike="noStrike">
                <a:solidFill>
                  <a:srgbClr val="325920"/>
                </a:solidFill>
                <a:latin typeface="Arial"/>
              </a:rPr>
              <a:t>НА ОСНОВЕ ПРИОБРЕТЕННЫХ ЗНАНИЙ ПО БИОЛОГИИ И ХИМИИ И РЕЗУЛЬТАТОВ, ПОЛУЧЕННЫХ В ХОДЕ ИССЛЕДОВАТЕЛЬСКОЙ РАБОТЫ, СДЕЛАТЬ ВЫВОД О РОЛИ ФЕРМЕНТОВ ДЛЯ КЛЕТКИ И ЖИЗНИ ОРГАНИЗМА В ЦЕЛОМ.</a:t>
            </a:r>
            <a:br>
              <a:rPr sz="3600"/>
            </a:br>
            <a:endParaRPr b="0" lang="en-US" sz="3600" spc="-1" strike="noStrike">
              <a:solidFill>
                <a:srgbClr val="3259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5920"/>
                </a:solidFill>
                <a:latin typeface="Arial"/>
              </a:rPr>
              <a:t>ЧТО ТАКОЕ ФЕРМЕНТЫ?</a:t>
            </a:r>
            <a:endParaRPr b="0" lang="en-US" sz="32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2920" y="928440"/>
            <a:ext cx="85723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35920"/>
                </a:solidFill>
                <a:uFillTx/>
                <a:latin typeface="Times New Roman"/>
              </a:rPr>
              <a:t>Ферменты</a:t>
            </a:r>
            <a:r>
              <a:rPr b="0" lang="ru-RU" sz="2800" spc="-1" strike="noStrike">
                <a:solidFill>
                  <a:srgbClr val="33592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о белковые молекулы, которые синтезируются живыми клетками. В каждой клетке насчитывается более сотни различных ферментов. Роль ферментов в клетке колоссальна. С их помощью химические реакции идут с высокой скоростью, при температуре, подходящей для данного организм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35920"/>
                </a:solidFill>
                <a:uFillTx/>
                <a:latin typeface="Times New Roman"/>
              </a:rPr>
              <a:t>Ферменты</a:t>
            </a:r>
            <a:r>
              <a:rPr b="1" lang="ru-RU" sz="2800" spc="-1" strike="noStrike">
                <a:solidFill>
                  <a:srgbClr val="335920"/>
                </a:solidFill>
                <a:latin typeface="Times New Roman"/>
              </a:rPr>
              <a:t> –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это биологические катализато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35920"/>
                </a:solidFill>
                <a:uFillTx/>
                <a:latin typeface="Times New Roman"/>
              </a:rPr>
              <a:t>Ферменты-биокатализаторы</a:t>
            </a:r>
            <a:r>
              <a:rPr b="1" lang="ru-RU" sz="2800" spc="-1" strike="noStrike">
                <a:solidFill>
                  <a:srgbClr val="33592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 вещества, увеличивающие скорость химических реакц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16:38:39Z</dcterms:created>
  <dc:creator>Admin</dc:creator>
  <dc:description/>
  <dc:language>en-US</dc:language>
  <cp:lastModifiedBy>uswer</cp:lastModifiedBy>
  <dcterms:modified xsi:type="dcterms:W3CDTF">2023-12-13T15:25:43Z</dcterms:modified>
  <cp:revision>67</cp:revision>
  <dc:subject/>
  <dc:title>Органы цветковых растений.</dc:title>
</cp:coreProperties>
</file>