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9316-8468-4851-BB49-D8AD0011A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8F00-CC17-4B2D-AEF9-3F95A6FD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0C1A-901C-4119-A3F6-0C3FE722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7363-0E3D-401A-801C-3D49960C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B5B37-C22A-47D8-B2F4-B604D046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933E-DAB3-48B7-AF82-564CD27E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98BE-5EC8-4645-81B0-C9C6FCCB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143C-6B28-466E-9FD6-AC6D384D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4D97-41D1-473C-A186-E695A94D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B21-1DE6-4CC4-A18C-6AB257FC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781-CDF2-480A-B7A6-0BD0CB3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32F-E999-4FD5-9774-BAF51862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C421-3E8F-492F-8244-D51F9510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503A-6D6E-4A88-8A5A-6423CEC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71A1-2104-48C9-ADB2-38BF2055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5CED-C9C0-47B7-9BA4-99523696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E1E0-9C53-408B-9837-88B9E32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7D6AD-84AC-432A-90D7-68787AD9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58DF4-A8FA-4AF4-9046-76FC696C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55078-B8D9-43F8-AA04-A575CAF7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7F972-B282-4573-B4C9-2BE71C8A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C59AC-FFF8-41EB-AADE-3A111BF1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FEF3-32F5-4343-A753-6084F29D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781E7-EC86-48CC-85D9-7576CFA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7C24B-96B0-49F4-B71B-9907C4BB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90DBB6-2F78-4FE0-A8FC-4550AEE4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42F66-EDC4-4A2C-81AC-03085E17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E5539-5D3C-409C-B91B-F41F8F44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A9D997-3283-4576-B057-D9755346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0C87E-4F20-4E16-8210-5535C270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414D9-DF02-4426-85EC-8FF3B266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DEF56-C34C-46E8-BBED-3B7E861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84C14-8AD9-49FB-B4C5-A85013CB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CD64-3E3B-4D75-9E08-92DE84A9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043FF-B9F3-496A-9FF7-4390B4CD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E40E-DE9E-4F20-93E4-B71A62D1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32035-F40A-4869-BB0E-0D8D23D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685B-C2C8-46A3-AC77-DAA55AC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5089-C17B-4FFD-ABEF-D88F7D7C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AAFB9-1BA4-4EBD-A69C-650BB4D4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D36B-7F1A-42DA-A4A3-025FA798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3632-5EE3-4226-ACF8-9A1DBDFE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BAE0D-E0D2-45F1-9C4C-20F20C14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65DEC-0DAC-4972-8BCE-AB66D493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795-6B05-4A50-8AB8-696C516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E66F3-1F1B-479A-ABE1-25C6FDAF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5B3050-D6B1-49C0-8339-4C939B3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F588A-AF02-4BAA-9F94-1A6CE8D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A2604-B159-48B5-A9FB-E95CFC3E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AF459-CDC8-4842-810E-9AE42DAF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A72336-9539-4B19-9546-03987F95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AAC34C-6EA9-4DEB-8617-57D77A0D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92CDE-B7D8-442D-972D-00FCDD2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50BBA-AA36-4C6C-A4EF-4CBA82F4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790405-496A-4F17-A52D-6877C47E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A30C-B9DE-4FEB-8EBB-4B723256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94B2F-5F9A-4523-87B4-EB993C7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B0C9EA-F9D7-4552-AE22-1556F04B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BC1AF-40BD-4FB6-8919-D32366A2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173CFD-1983-4F34-864D-0098FD44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954C9-625E-4DF1-80D5-861C89A0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2707D-E02A-485D-B4EE-0B0C64A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0798EE-5CDB-40E6-BD4D-2F112E79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9F165C-FDD7-428A-BF60-12F25C4F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26AA9-FE43-422B-A966-69A7C47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DB7D1-A1B8-4E54-B2AB-B4BE073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2432-C08B-4732-8CE5-8D835AC8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88410-49CA-4503-AE15-FB43EEB1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D6DCA-D407-492B-95DF-6D84D11F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436EE-0843-4C28-BEE6-9871E8D5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DD8FA-B8F9-43E9-B8E0-51A5799F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47DE0-1C3B-45C5-95BF-6B6099D7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F00A0-A1A1-4910-8031-F02E51EA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2CF936-BADD-429B-A7FC-84695F20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6E99D-D808-4089-A9A3-8640B0D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1ACD9F-FFA5-40A8-A8CB-6E6B490F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382264-BD8B-4153-A551-9A8202AE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89E-1ED3-4EBE-8111-03F089C8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C64407-039D-4FCE-B9CE-837C98C6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91FA04-9859-4548-B4BE-1F70512A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2D4DA-A64F-4434-B5BC-6D8903A6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7DB2C6-A9B9-47F4-9DD6-D68B8904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AB915-2F2C-455F-AE10-E92E0E20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09B-05C2-4FAD-AD5F-A07A659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E9D4-929D-490C-A3EE-192A05FE65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8d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3e4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3e4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f2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8d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f2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8d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8d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8E4-B9C1-47BD-97B5-60F43BE1F2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2BA-036A-41FC-9853-27889760C3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59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8d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3e4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3e4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af2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8d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af2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8d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8d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4804-B8D4-4A33-9B87-03DD211474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5B26-D0A3-4018-83F1-8F04F2A4D05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BE02-A8C7-455C-90FB-D826DB7AB62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66b2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8d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8d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66b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592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66b24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599c3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b8d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2098-FEC7-4802-8F2D-7C05FE334FA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5920"/>
                </a:solidFill>
                <a:latin typeface="Arial"/>
              </a:rPr>
              <a:t>ФЕРМЕНТЫ – БИОЛОГИЧЕСКИЕ КАТАЛИЗАТОРЫ</a:t>
            </a:r>
            <a:endParaRPr b="0" lang="en-US" sz="60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43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СТРОЕНИЕ ФЕРМЕНТА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2920" y="428760"/>
            <a:ext cx="55720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 ферменты – глобулярные белки с третичной или четвертичной структу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 могут быть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простыми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, состоящими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лка, и слож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ложные фермен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оят из белковой и небелковой части (белковая часть – апофермент, а добавочная небелковая – кофермент). В качестве кофермента могут выступать витамины – E, K, B груп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 взаимодействует с субстратом, не всей молекулой, а отдельной её частью – активным цент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57880" y="0"/>
            <a:ext cx="36432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5920"/>
                </a:solidFill>
                <a:latin typeface="Arial"/>
              </a:rPr>
              <a:t>МЕХАНИЗМ ДЕЙСТВИЯ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642600"/>
            <a:ext cx="900108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, соединяясь с субстратом, образует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 -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убстратный комплекс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таком комплексе шансы на то, что реакция произойдёт, значительно возрастают. По завершению реакции фермент (субстратный комплекс) </a:t>
            </a: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распадается на продукты и фермент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Активным центром фермент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ывают небольшую часть молекулы фермента (от 3 до 12 аминокислотных остатков), которая находится в контакте с субстрато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остальных аминокислотных остатков состоит в том, чтобы обеспечить молекуле фермента правильную глобулярную форму, чтобы активный центр мог работать наиболее актив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0" y="4071960"/>
            <a:ext cx="4572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5920"/>
                </a:solidFill>
                <a:latin typeface="Arial"/>
              </a:rPr>
              <a:t>РОЛЬ ФЕРМЕНТОВ В ОРГАНИЗМЕ</a:t>
            </a:r>
            <a:endParaRPr b="0" lang="en-US" sz="28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2560" y="642960"/>
            <a:ext cx="86439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 участвуют в осуществлении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всех процессов обмена веществ, в реализации генетической информ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Любое проявление функций живого организма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ыхание, мышечное сокращение, нервно-психическая деятельность, размножение и др. — обеспечивается действием фермент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летке часть ферментов находится в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итоплазм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о в основном ферменты связаны с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ными клеточными структурами, где и проявляют св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ядр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пример, находятся ферменты, ответственные за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репликацию —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з ДНК  (ДНК-полимеразы) , за ее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транскрипц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образование РНК (РНК-полимеразы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митохондрия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сутствуют ферменты, ответственные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 накопление энергии,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в лизосома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— большинство гидролитических ферментов,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участвующих в распаде нуклеиновых кислот и бел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25920"/>
                </a:solidFill>
                <a:latin typeface="Arial"/>
              </a:rPr>
              <a:t>КЛАССИФИКАЦИЯ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714240"/>
            <a:ext cx="8715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1961 году была предложена систематическая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классификация ферментов на 6 груп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названия ферментов оказались очень длинными и трудными в произношении, поэтому ферменты принято сейчас именовать с помощью рабочих названий. Рабочее название состоит из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названия субстра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а который действует фермент, и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окончания «аза»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ример, если вещество —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лакто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о есть молочный сахар, то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лактаз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это фермент который его преобразует. Если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сахаро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обыкновенный сахар), то фермент, который его расщепляет, –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сахараза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Соответственно, ферменты, которые расщепляют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протеи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носят название </a:t>
            </a:r>
            <a:r>
              <a:rPr b="1" i="1" lang="ru-RU" sz="2400" spc="-1" strike="noStrike" u="sng">
                <a:solidFill>
                  <a:srgbClr val="335920"/>
                </a:solidFill>
                <a:uFillTx/>
                <a:latin typeface="Times New Roman"/>
              </a:rPr>
              <a:t>протеиназы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5920"/>
                </a:solidFill>
                <a:latin typeface="Arial"/>
              </a:rPr>
              <a:t>СВОЙСТВА ФЕРМЕНТОВ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2920" y="500040"/>
            <a:ext cx="857232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ля ферментов характерны следующие свойств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Избирательность (специфичность)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ность ферментов ускорять только одну или группу однотипных реак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Эффе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ферменты ускоряют химические реакции в тысячи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висимость от температур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− оптимальная температура живого организма для работы ферментов находится в пределах +37,0 − +39,0 °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Зависимость от РН сре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для активности каждого фермента необходимы свои определенные значения ph сре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4600" indent="-264600">
              <a:spcBef>
                <a:spcPts val="601"/>
              </a:spcBef>
              <a:buClr>
                <a:srgbClr val="66b24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ктивность ферментов зависит от условий в клетке или организме — 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давления, кислотности среды, температуры, концентрации растворённых солей (ионной силы раствора)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5920"/>
                </a:solidFill>
                <a:latin typeface="Arial"/>
              </a:rPr>
              <a:t>ХИМИЧЕСКИЕ СВОЙСТВА ФЕРМЕНТОВ</a:t>
            </a:r>
            <a:endParaRPr b="0" lang="en-US" sz="30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560" y="785880"/>
            <a:ext cx="86439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Окисление и восстанов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ерменты, участвующие в этих реакциях, 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ксидоредуктазам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Пример: алкогольдегидрогеназы преобразуют первичные спирты в альдегид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Гидролиз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ол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участвующие в реакции, умеют разрывать одинарные связи, добавляя элементы в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Создание или удаление двойной связи</a:t>
            </a:r>
            <a:r>
              <a:rPr b="1" lang="ru-RU" sz="2400" spc="-1" strike="noStrike">
                <a:solidFill>
                  <a:srgbClr val="33592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вид реакций негидролитическим путем происходит при участи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5920"/>
                </a:solidFill>
                <a:latin typeface="Times New Roman"/>
              </a:rPr>
              <a:t>одинарной связи с устранением элемента в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идрол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разрушают связь, добавляя в молекулу элементы воды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аз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осуществляют обратную реакцию, удаляя водную часть из функциональных групп. Таким образом, создают простую свя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ь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5920"/>
                </a:solidFill>
                <a:latin typeface="Arial"/>
              </a:rPr>
              <a:t>ЗНАЧЕНИЕ ФЕРМЕНТОВ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500040"/>
            <a:ext cx="8258040" cy="22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601"/>
              </a:spcBef>
              <a:buClr>
                <a:srgbClr val="66b24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рменты применяются практически во всех областях человеческой деятельности, и такое широкое применение, в первую очередь, связано с тем, что они сохраняют свои уникальные свойства вне живых клето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0" y="3940200"/>
            <a:ext cx="2917800" cy="29178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" descr=""/>
          <p:cNvPicPr/>
          <p:nvPr/>
        </p:nvPicPr>
        <p:blipFill>
          <a:blip r:embed="rId2"/>
          <a:stretch/>
        </p:blipFill>
        <p:spPr>
          <a:xfrm>
            <a:off x="2928960" y="3786120"/>
            <a:ext cx="2917800" cy="29178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3"/>
          <a:stretch/>
        </p:blipFill>
        <p:spPr>
          <a:xfrm>
            <a:off x="5929200" y="2928960"/>
            <a:ext cx="2643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9680" y="1000080"/>
            <a:ext cx="746748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ВЫБЕРИТЕ ТРИ ВЕРНЫХ ОТВЕТА ИЗ ШЕСТИ И </a:t>
            </a: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ЦИФРЫ, ПОД КОТОРЫМИ ОНИ УКАЗАНЫ. ФЕРМЕНТАТИВНАЯ ФУНКЦИЯ БЕЛКОВ</a:t>
            </a: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: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1) ПРОЯВЛЯЕТСЯ В УСКОРЕНИИ БИОХИМИЧЕСКИХ РЕАКЦИЙ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2) ОПРЕДЕЛЯЕТСЯ СПОСОБНОСТЬЮ БЕЛКОВ БЫТЬ ГОРМОНА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3) СВЯЗАНА С КАТАЛИТИЧЕСКИМИ СВОЙСТВАМИ БЕЛКОВ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4) ХАРАКТЕРНА ДЛЯ ГЕМОГЛОБИНА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5) СВЯЗАНА С ОБРАЗОВАНИЕМ АНТИТЕЛ (ИММУНОГЛОБУЛИНОВ)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6) УТРАЧИВАЕТСЯ ПРИ ДЕНАТУРАЦИИ БЕЛКА</a:t>
            </a:r>
            <a:br>
              <a:rPr sz="2800"/>
            </a:br>
            <a:endParaRPr b="0" lang="en-US" sz="28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82" name="Заголовок 1"/>
          <p:cNvSpPr/>
          <p:nvPr/>
        </p:nvSpPr>
        <p:spPr>
          <a:xfrm>
            <a:off x="214200" y="0"/>
            <a:ext cx="8643960" cy="642960"/>
          </a:xfrm>
          <a:prstGeom prst="rect">
            <a:avLst/>
          </a:prstGeom>
          <a:solidFill>
            <a:srgbClr val="4d86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eorgia"/>
              </a:rPr>
              <a:t>ВЗАИМО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25920"/>
                </a:solidFill>
                <a:latin typeface="Arial"/>
              </a:rPr>
              <a:t>РЕШЕНИЕ: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НЕ ПОДХОДЯТ ОТВЕТЫ: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2) ОПРЕДЕЛЯЕТСЯ СПОСОБНОСТЬЮ БЕЛКОВ БЫТЬ ГОРМОНАМИ - РЕГУЛЯТОРНАЯ;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4) ХАРАКТЕРНА ДЛЯ ГЕМОГЛОБИНА - ТРАНСПОРТНАЯ;</a:t>
            </a:r>
            <a:br>
              <a:rPr sz="2900"/>
            </a:b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5) СВЯЗАНА С ОБРАЗОВАНИЕМ АНТИТЕЛ (ИММУНОГЛОБУЛИНОВ) - ЗАЩИТНАЯ.</a:t>
            </a:r>
            <a:br>
              <a:rPr sz="2900"/>
            </a:br>
            <a:r>
              <a:rPr b="1" lang="ru-RU" sz="2900" spc="-1" strike="noStrike">
                <a:solidFill>
                  <a:srgbClr val="325920"/>
                </a:solidFill>
                <a:latin typeface="Arial"/>
              </a:rPr>
              <a:t>ОТВЕТ:</a:t>
            </a:r>
            <a:r>
              <a:rPr b="0" lang="ru-RU" sz="2900" spc="-1" strike="noStrike">
                <a:solidFill>
                  <a:srgbClr val="325920"/>
                </a:solidFill>
                <a:latin typeface="Arial"/>
              </a:rPr>
              <a:t> 136</a:t>
            </a:r>
            <a:br>
              <a:rPr sz="2900"/>
            </a:br>
            <a:endParaRPr b="0" lang="en-US" sz="29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214200"/>
            <a:ext cx="83296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вестно, что фермент каталаза разрушает пероксид водорода. Экспериментатор в первую пробирку поместил кусочек сырого картофеля, а во вторую — кусочек сырого мяса. В каждую из пробирок он налил одинаковое количество пероксида водорода. Как при этом изменилось количество пероксида в первой и во второй пробирках? Влияние света на активность пероксида водорода не учитывать. Для каждой величины определите соответствующий характер её измен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увеличила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уменьшилас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не изменилас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64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1. МОНОМЕРАМИ МОЛЕКУЛ КАКИХ ОРГАНИЧЕСКИХ ВЕЩЕСТВ ЯВЛЯЮТСЯ АМИНОКИСЛОТЫ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А) БЕЛКОВ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Б) УГЛЕВОДОВ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В) ДНК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Г) ЛИПИДОВ</a:t>
            </a:r>
            <a:br>
              <a:rPr sz="2800"/>
            </a:br>
            <a:r>
              <a:rPr b="1" lang="ru-RU" sz="2800" spc="-1" strike="noStrike">
                <a:solidFill>
                  <a:srgbClr val="325920"/>
                </a:solidFill>
                <a:latin typeface="Arial"/>
              </a:rPr>
              <a:t>2. ВТОРИЧНАЯ СТРУКТУРА БЕЛКА, ИМЕЮЩАЯ ФОРМУ СПИРАЛИ, УДЕРЖИВАЕТСЯ СВЯЗЯ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А) ПЕПТИДНЫМИ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Б) ИОННЫМИ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В) ВОДОРОДНЫМИ </a:t>
            </a:r>
            <a:br>
              <a:rPr sz="2800"/>
            </a:br>
            <a:r>
              <a:rPr b="0" lang="ru-RU" sz="2800" spc="-1" strike="noStrike">
                <a:solidFill>
                  <a:srgbClr val="325920"/>
                </a:solidFill>
                <a:latin typeface="Arial"/>
              </a:rPr>
              <a:t>Г) КОВАЛЕНТНЫ</a:t>
            </a: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МИ</a:t>
            </a:r>
            <a:br>
              <a:rPr sz="2700"/>
            </a:b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 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28400" y="1071720"/>
            <a:ext cx="82580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живых клетках (сырого картофеля/сырого мяса) содержится фермент каталаза, способный расщеплять перекись водорода на кислород и воду. Поэтому в обеих пробирках количество пероксида водорода уменьшится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571480"/>
            <a:ext cx="74674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ЭКСПЕРИМЕНТАТОР ПОМЕСТИЛ СВЕЖЕЕ КУРИНОЕ ЯЙЦО В КИПЯЩУЮ ВОДУ. КАК ПРИ ЭТОМ ИЗМЕНИТСЯ АКТИВНОСТЬ ФЕРМЕНТОВ И СКОРОСТЬ ФЕРМЕНТАТИВНЫХ РЕАКЦИЙ? ДЛЯ КАЖДОЙ ВЕЛИЧИНЫ ОПРЕДЕЛИТЕ СООТВЕТСТВУЮЩИЙ ХАРАКТЕР ЕЁ ИЗМЕНЕНИЯ: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1) УВЕЛИЧИТСЯ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2) УМЕНЬШИТСЯ</a:t>
            </a:r>
            <a:br>
              <a:rPr sz="3600"/>
            </a:b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3) НЕ ИЗМЕНИТСЯ</a:t>
            </a:r>
            <a:endParaRPr b="0" lang="en-US" sz="36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857160" y="85716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 как ферменты имеют белковую природу, при помещении в кипящую воду они денатурируют и не могут выполнять свои функции. Активность ферментов стремительно снижается, поэтому скорость реакций так же пада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 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99680" y="3571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рушение структуры молекулы белка -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денатур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трансля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редуплик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ренатур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овательность и число аминокислот в полипептидной цепи – э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первичная структура ДН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первичная структура бел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вторичная структура ДН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вторичная структура бе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960" indent="-22896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42920"/>
            <a:ext cx="84009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м номером на рисунке обозначен уровень структуры белка, который может быть представлен β-складчатым слое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Рисунок 3" descr="https://hb.bizmrg.com/eg-private/3v0aFIt5JH13OFspNp5Zf0kcgLnWZiXgYlUp3gO8.png"/>
          <p:cNvPicPr/>
          <p:nvPr/>
        </p:nvPicPr>
        <p:blipFill>
          <a:blip r:embed="rId1"/>
          <a:stretch/>
        </p:blipFill>
        <p:spPr>
          <a:xfrm>
            <a:off x="214200" y="2357280"/>
            <a:ext cx="8143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4" descr="https://sun9-65.userapi.com/impg/IX_mZhWgEJngj4eenc3cCMu_XZO6WCwhwGL_9Q/RXyDfVxwWYQ.jpg?size=817x357&amp;quality=96&amp;sign=73faa78e156a4c0494224c8141dc5724&amp;type=album"/>
          <p:cNvPicPr/>
          <p:nvPr/>
        </p:nvPicPr>
        <p:blipFill>
          <a:blip r:embed="rId1"/>
          <a:stretch/>
        </p:blipFill>
        <p:spPr>
          <a:xfrm>
            <a:off x="285840" y="214200"/>
            <a:ext cx="835812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71524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25920"/>
                </a:solidFill>
                <a:latin typeface="Arial"/>
              </a:rPr>
              <a:t>ПРОБЛЕМНАЯ СИТУАЦИЯ.</a:t>
            </a:r>
            <a:br>
              <a:rPr sz="4000"/>
            </a:br>
            <a:br>
              <a:rPr sz="2700"/>
            </a:br>
            <a:r>
              <a:rPr b="0" lang="ru-RU" sz="2700" spc="-1" strike="noStrike">
                <a:solidFill>
                  <a:srgbClr val="325920"/>
                </a:solidFill>
                <a:latin typeface="Arial"/>
              </a:rPr>
              <a:t> </a:t>
            </a: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В КАЖДОЙ ЖИВОЙ КЛЕТКЕ НЕПРЕРЫВНО ПРОИСХОДЯТ СОТНИ БИОХИМИЧЕСКИХ РЕАКЦИЙ. ОТ ЧЕГО ЗАВИСИТ СКОРОСТЬ ХИМИЧЕСКИХ РЕАКЦИЙ? ХИМИЧЕСКАЯ АКТИВНОСТЬ ВЕЩЕСТВ В КЛЕТКЕ НЕБОЛЬШАЯ, КОНЦЕНТРАЦИИ НЕЗНАЧИТЕЛЬНЫ, ТЕМПЕРАТУРА КЛЕТОЧНОЙ СРЕДЫ НЕВЫСОКАЯ, Т.Е. РЕАКЦИИ В КЛЕТКЕ ДОЛЖНЫ ПРОТЕКАТЬ МЕДЛЕННО. НО ЭТО НЕ ТАК. ПОЧЕМУ? </a:t>
            </a:r>
            <a:br>
              <a:rPr sz="2700"/>
            </a:br>
            <a:r>
              <a:rPr b="1" lang="ru-RU" sz="2700" spc="-1" strike="noStrike">
                <a:solidFill>
                  <a:srgbClr val="325920"/>
                </a:solidFill>
                <a:latin typeface="Arial"/>
              </a:rPr>
              <a:t>      ПОДОБНЫЕ РЕЗУЛЬТАТЫ ДОСТИГАЮТСЯ БЛАГОДАРЯ НАЛИЧИЮ КАТАЛИЗАТОРОВ. КЛЕТОЧНЫЕ КАТАЛИЗАТОРЫ НАЗЫВАЮТСЯ ФЕРМЕНТАМИ. ОНИ УСКОРЯЮТ РЕАКЦИИ В МИЛЛИОНЫ РАЗ. ПО ХИМИЧЕСКОЙ ПРИРОДЕ ПОЧТИ ВСЕ ФЕРМЕНТЫ – БЕЛКИ.</a:t>
            </a:r>
            <a:endParaRPr b="0" lang="en-US" sz="27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25920"/>
                </a:solidFill>
                <a:latin typeface="Arial"/>
              </a:rPr>
              <a:t>ФЕРМЕНТЫ – БИОЛОГИЧЕСКИЕ КАТАЛИЗАТОРЫ</a:t>
            </a:r>
            <a:endParaRPr b="0" lang="en-US" sz="60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1642680"/>
            <a:ext cx="746748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ЦЕЛЬ УРОКА</a:t>
            </a:r>
            <a:r>
              <a:rPr b="0" lang="ru-RU" sz="3600" spc="-1" strike="noStrike">
                <a:solidFill>
                  <a:srgbClr val="325920"/>
                </a:solidFill>
                <a:latin typeface="Arial"/>
              </a:rPr>
              <a:t>: </a:t>
            </a:r>
            <a:r>
              <a:rPr b="1" lang="ru-RU" sz="3600" spc="-1" strike="noStrike">
                <a:solidFill>
                  <a:srgbClr val="325920"/>
                </a:solidFill>
                <a:latin typeface="Arial"/>
              </a:rPr>
              <a:t>НА ОСНОВЕ ПРИОБРЕТЕННЫХ ЗНАНИЙ ПО БИОЛОГИИ И ХИМИИ И РЕЗУЛЬТАТОВ, ПОЛУЧЕННЫХ В ХОДЕ ИССЛЕДОВАТЕЛЬСКОЙ РАБОТЫ, СДЕЛАТЬ ВЫВОД О РОЛИ ФЕРМЕНТОВ ДЛЯ КЛЕТКИ И ЖИЗНИ ОРГАНИЗМА В ЦЕЛОМ.</a:t>
            </a:r>
            <a:br>
              <a:rPr sz="3600"/>
            </a:br>
            <a:endParaRPr b="0" lang="en-US" sz="3600" spc="-1" strike="noStrike">
              <a:solidFill>
                <a:srgbClr val="3259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43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5920"/>
                </a:solidFill>
                <a:latin typeface="Arial"/>
              </a:rPr>
              <a:t>ЧТО ТАКОЕ ФЕРМЕНТЫ?</a:t>
            </a:r>
            <a:endParaRPr b="0" lang="en-US" sz="3200" spc="-1" strike="noStrike">
              <a:solidFill>
                <a:srgbClr val="32592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42920" y="928440"/>
            <a:ext cx="8572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</a:t>
            </a:r>
            <a:r>
              <a:rPr b="0" lang="ru-RU" sz="28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белковые молекулы, которые синтезируются живыми клетками. В каждой клетке насчитывается более сотни различных ферментов. Роль ферментов в клетке колоссальна. С их помощью химические реакции идут с высокой скоростью, при температуре, подходящей для данного организм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</a:t>
            </a:r>
            <a:r>
              <a:rPr b="1" lang="ru-RU" sz="2800" spc="-1" strike="noStrike">
                <a:solidFill>
                  <a:srgbClr val="33592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это биологические катализато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35920"/>
                </a:solidFill>
                <a:uFillTx/>
                <a:latin typeface="Times New Roman"/>
              </a:rPr>
              <a:t>Ферменты-биокатализаторы</a:t>
            </a:r>
            <a:r>
              <a:rPr b="1" lang="ru-RU" sz="2800" spc="-1" strike="noStrike">
                <a:solidFill>
                  <a:srgbClr val="33592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вещества, увеличивающие скорость химических реакц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66b24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6:38:39Z</dcterms:created>
  <dc:creator>Admin</dc:creator>
  <dc:description/>
  <dc:language>en-US</dc:language>
  <cp:lastModifiedBy>uswer</cp:lastModifiedBy>
  <dcterms:modified xsi:type="dcterms:W3CDTF">2023-12-13T15:25:43Z</dcterms:modified>
  <cp:revision>67</cp:revision>
  <dc:subject/>
  <dc:title>Органы цветковых растений.</dc:title>
</cp:coreProperties>
</file>