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C8BC-8AF0-4921-ADDA-C6B5AB67C3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D921-6876-4ED9-8C89-41B74B7A8A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EC27-8007-406F-9721-AA7D64FBFB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1042-96DA-4A89-9BE4-3DFF8C456A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8BB3-336B-4746-AB65-5B7A6DE0ED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AF6A-75B6-43D1-9F58-13F45260D6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31AD-EDE2-4274-91DB-B3C0BBF66F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10E9-980C-41ED-94C9-F410B1BFDB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60B5-1DE0-4875-AFB2-6D13730F86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8921-EC3A-48EB-B45C-933F2748A4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ED64-EF66-4EC2-B303-B54B6CD1FC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0606-9C94-4CDE-8DDE-05851E3BFE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3125-E5C8-4E2A-850C-09BBDDAD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41E-D41F-49E0-A3A6-60D74BCF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086E-630B-43B4-9BD0-60FD9F94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E45-104D-41BF-9AD8-DF113FBF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BB95-FD09-457C-87CB-408EE1CA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4EFC-1D1B-4E06-9A81-0B7E55A4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A77E-B3A9-429B-A872-1D002E66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2BB6-00EB-4D3C-A27E-BE1A124E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E48F-DDDA-42DE-B3E1-D64666FA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5026-4356-4B02-85D1-75D4E694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299F-F5A5-4791-AADF-AD866E5A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E0A7-F4FD-4D05-A677-E40FC27C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6D06-5FC0-4577-861A-EB704BD1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570F-DA38-487B-8314-FF41BDF2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7DAF-CD92-4CE5-9C71-7D8884D2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CDFA-A750-4D25-AE3F-64424B2B4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494D-34D7-4DA4-8111-87FBE583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FE9-5F53-4E87-A294-A4185C92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CA84-237F-406A-8800-7EA6172C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7EF8-91A8-4D83-9275-EEC003C6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193E-F3FE-4F21-ABEB-7BB3C058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5F6-C30E-4B29-A2C5-3DC7CE11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0497-2938-4AE7-BEFF-1653C114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3A0F-7D0E-4918-9007-1796D44A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B74C-B51F-410C-9E2F-EDB2DB4C09E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B2AC-DE23-44D3-BA04-20AE2D6CB2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ма: «Классификация технологий» 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 в 8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4643280" y="5300640"/>
            <a:ext cx="410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готовила учитель технологии Подкорытова Елена Леонидовна МОУ «Останинская СОШ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хнология 8-9 класс В.М.Казакеви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На единичном производстве практически полностью отсутствует автоматизация и роботизация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43400" y="1600200"/>
            <a:ext cx="2695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ом буду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ицинские технолог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гности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чение, восстановлени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C:\Users\User\Desktop\f_obj_366b98eb-9823-4368-a5ad-672ea3ccb17c.jpg"/>
          <p:cNvPicPr/>
          <p:nvPr/>
        </p:nvPicPr>
        <p:blipFill>
          <a:blip r:embed="rId1"/>
          <a:stretch/>
        </p:blipFill>
        <p:spPr>
          <a:xfrm>
            <a:off x="2357280" y="1571760"/>
            <a:ext cx="3314880" cy="43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0200" y="49968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c0039"/>
                </a:solidFill>
                <a:latin typeface="Arial"/>
              </a:rPr>
              <a:t>Технологии соответствующие сирийному производству, используются пр</a:t>
            </a:r>
            <a:r>
              <a:rPr b="0" i="1" lang="ru-RU" sz="2800" spc="-1" strike="noStrike">
                <a:solidFill>
                  <a:srgbClr val="8c0039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438280" y="1571400"/>
            <a:ext cx="64008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Изготовление большого количества однотипных предметов тру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Используется конвейерный способ изгото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льзуются почти все потребительские това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549360"/>
            <a:ext cx="64008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Непрерывное производство – это круглосуточная работа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.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зводятся большие объемы одинаковых по параметрам продуктов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рганизации непрерывноего производства используют автоматизированное и роботизированное  оборудо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 пищевые произво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Отраслевые технологии 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шиностро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имическое произво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игра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нковского и страхового 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ые техноло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Технологии по подклассам отраслей производства: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ая отрасль делится на подклас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: машиностроение – технологии пластического формования, резания,термической и химической обработки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4000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Целью любого производства является создание в необходимом количестве востребованного потребителями продукта труда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правильного выбора технологии зависит эффективность всего производ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о продукта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м выпускаемой проду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 легче произвести если воспользоваться классификаци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Технология по уровню технического оснащения классифицируется: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чной 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ханизиро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матизирован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ботизирова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сли процесс обработки предмета труда состоит только из ручных операций с простыми инструментами – это технология </a:t>
            </a:r>
            <a:r>
              <a:rPr b="1" lang="ru-RU" sz="3600" spc="-1" strike="noStrike">
                <a:solidFill>
                  <a:srgbClr val="5b1fd3"/>
                </a:solidFill>
                <a:latin typeface="Arial"/>
              </a:rPr>
              <a:t>ручного тру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1fd3"/>
                </a:solidFill>
                <a:latin typeface="Arial"/>
              </a:rPr>
              <a:t>Объем обычно большой. Качество производства высок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28920" y="213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Если процесс труда строится на основе использования механизмов и машин: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340000" y="162828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это механизированные технологии производ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556000" y="1600200"/>
            <a:ext cx="658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оизводстве многие функции обработки и преобразования предметов труда осуществляется  без участия людей -  это автоматизированная технолог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ная технология все больше применяется во всех предприятьях нашей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c0039"/>
                </a:solidFill>
                <a:latin typeface="Arial"/>
              </a:rPr>
              <a:t>Автоматизированные линии, в работе которых используются –роботы, можно назвать роботизированными линиями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бот – это автоматизированное устройство, предназначенное для замены челове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для монотонных рабо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пасных раб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340000" y="214200"/>
            <a:ext cx="6400800" cy="314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Простейшим роботом может быть:</a:t>
            </a:r>
            <a:br>
              <a:rPr sz="2800"/>
            </a:br>
            <a:r>
              <a:rPr b="1" lang="ru-RU" sz="2800" spc="-1" strike="noStrike">
                <a:solidFill>
                  <a:srgbClr val="8c0039"/>
                </a:solidFill>
                <a:latin typeface="Arial"/>
              </a:rPr>
              <a:t>«Манипулятор (механическая рука) — механизм, выполняющий под управлением оператора действия (манипуляции), аналогичные действиям руки человека.»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11280" y="3357720"/>
            <a:ext cx="6400800" cy="27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енно необходимо там где производство считается массовым, может быть опасным для жизни, утомительным для психики, и вредным для здоровь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Технологии производства классифицируются: 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2920" y="1600200"/>
            <a:ext cx="4195800" cy="28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ич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сов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ерывные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20:12:23Z</dcterms:created>
  <dc:creator>1</dc:creator>
  <dc:description/>
  <dc:language>en-US</dc:language>
  <cp:lastModifiedBy>123</cp:lastModifiedBy>
  <dcterms:modified xsi:type="dcterms:W3CDTF">2023-12-13T15:48:10Z</dcterms:modified>
  <cp:revision>37</cp:revision>
  <dc:subject/>
  <dc:title>Тема: «Технология изготовления швейного изделия» (фартука)</dc:title>
</cp:coreProperties>
</file>