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E403-C445-4520-99A4-55BD2C957F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355-F5EA-42F2-8F43-34485E32E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92CF-5373-4530-896C-D46296741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1427-0911-420C-A32D-6557E30FF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2F81-8C13-4806-AAC5-C8D71E75B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B651-7940-4EF0-8E2F-B52A75320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6342-65CF-4BF4-A95A-51CFF1AEF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37AC-3A79-492A-ABBA-580C9A75D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9BBA-1465-4D0A-A4A3-7A25FC129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B95-B30A-4596-9B7F-0143EE2B9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94BB-BC3B-4130-9285-17F093CFE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EC30-967F-4B4B-8CC2-2A1F9DA9A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14B-9632-41A2-896E-4F5BA123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B06-E379-443C-BBC6-BEC0321A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989-733D-4697-A866-E7C5ACD5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C2E-15C8-40B9-8612-224A4B54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B677-2BAE-4350-B05D-066BD83C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202C-E885-4754-9981-EE288244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6172-1847-4017-A7D4-26666D51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A6D2-C2CD-4227-93B4-9F249F40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BDD9-81EA-40BA-918D-264E4C72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0695-457A-49BF-948B-B1802B29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B936-5244-419A-98BE-57E7BAFF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601-B4A6-4FF0-B062-35B24344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34DF-5C12-43A0-96B8-66E53E45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B99B-E394-4568-ABF1-5DA166DD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4E4B-3257-41F8-B350-E6126D92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9D6D-DD26-425B-B2BF-38174FB2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4175-5A9F-4B60-8E7C-153420F6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A8B-27B5-41C8-A099-38406BF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524-9345-487B-BBC2-248AA877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510-A000-4191-87A1-9F77A431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368-98AF-4C4D-9B08-44D0E619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A2F-C93F-4237-A702-38373B9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14C-634C-4E97-888B-267F750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369-1249-489D-852E-517CE586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A5FF-0627-400C-B3FB-5908A9FD70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85A-D690-49A3-AD58-96517042E4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 «Классификация технологий» 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в 8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643280" y="530064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технологии Подкорытова Елена Леонидовна МОУ «Останинская СОШ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8-9 класс В.М.Казакеви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На единичном производстве практически полностью отсутствует автоматизация и роботизац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43400" y="1600200"/>
            <a:ext cx="269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ом буд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е техноло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ност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ение, восстановлени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Users\User\Desktop\f_obj_366b98eb-9823-4368-a5ad-672ea3ccb17c.jpg"/>
          <p:cNvPicPr/>
          <p:nvPr/>
        </p:nvPicPr>
        <p:blipFill>
          <a:blip r:embed="rId1"/>
          <a:stretch/>
        </p:blipFill>
        <p:spPr>
          <a:xfrm>
            <a:off x="2357280" y="1571760"/>
            <a:ext cx="331488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0200" y="4996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c0039"/>
                </a:solidFill>
                <a:latin typeface="Arial"/>
              </a:rPr>
              <a:t>Технологии соответствующие сирийному производству, используются пр</a:t>
            </a:r>
            <a:r>
              <a:rPr b="0" i="1" lang="ru-RU" sz="2800" spc="-1" strike="noStrike">
                <a:solidFill>
                  <a:srgbClr val="8c0039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438280" y="1571400"/>
            <a:ext cx="64008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зготовление большого количества однотипных предметов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спользуется конвейерный способ изгот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льзуются почти все потребительские това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549360"/>
            <a:ext cx="6400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Непрерывное производство – это круглосуточная работ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ятся большие объемы одинаковых по параметрам продуктов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рганизации непрерывноего производства используют автоматизированное и роботизированное  оборуд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 пищевые произ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раслевые технологии 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ое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ого и страхового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е 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ехнологии по подклассам отраслей производства: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отрасль делится на подклас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: машиностроение – технологии пластического формования, резания,термической и химической обработк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Целью любого производства является создание в необходимом количестве востребованного потребителями продукта труда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правильного выбора технологии зависит эффективность всего производ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продукта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м выпускаемой прод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легче произвести если воспользоваться классификац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Технология по уровню технического оснащения классифицируется: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чно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матиз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ботизирова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процесс обработки предмета труда состоит только из ручных операций с простыми инструментами – это технология </a:t>
            </a:r>
            <a:r>
              <a:rPr b="1" lang="ru-RU" sz="3600" spc="-1" strike="noStrike">
                <a:solidFill>
                  <a:srgbClr val="5b1fd3"/>
                </a:solidFill>
                <a:latin typeface="Arial"/>
              </a:rPr>
              <a:t>ручного т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1fd3"/>
                </a:solidFill>
                <a:latin typeface="Arial"/>
              </a:rPr>
              <a:t>Объем обычно большой. Качество производства высо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28920" y="213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Если процесс труда строится на основе использования механизмов и машин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механизированные технологии произво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56000" y="1600200"/>
            <a:ext cx="658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изводстве многие функции обработки и преобразования предметов труда осуществляется  без участия людей -  это автоматизированная техн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ая технология все больше применяется во всех предприятьях наше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Автоматизированные линии, в работе которых используются –роботы, можно назвать роботизированными линиями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бот – это автоматизированное устройство, предназначенное для замены челове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для монотонных раб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пас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214200"/>
            <a:ext cx="64008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Простейшим роботом может быть:</a:t>
            </a:r>
            <a:br>
              <a:rPr sz="2800"/>
            </a:b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«Манипулятор (механическая рука) — механизм, выполняющий под управлением оператора действия (манипуляции), аналогичные действиям руки человека.»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11280" y="3357720"/>
            <a:ext cx="64008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 необходимо там где производство считается массовым, может быть опасным для жизни, утомительным для психики, и вредным для здоровь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Технологии производства классифицируются: 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2920" y="1600200"/>
            <a:ext cx="4195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ч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сов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ерывны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20:12:23Z</dcterms:created>
  <dc:creator>1</dc:creator>
  <dc:description/>
  <dc:language>en-US</dc:language>
  <cp:lastModifiedBy>123</cp:lastModifiedBy>
  <dcterms:modified xsi:type="dcterms:W3CDTF">2023-12-13T15:48:10Z</dcterms:modified>
  <cp:revision>37</cp:revision>
  <dc:subject/>
  <dc:title>Тема: «Технология изготовления швейного изделия» (фартука)</dc:title>
</cp:coreProperties>
</file>